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11F-8B56-4240-A830-9F5E20C8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3799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613-09A7-49F3-AAC4-00B0B1B1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611B-46DB-4751-8907-E0F7A95F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4400" y="13716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4600" y="13716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3799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4400" y="3799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4600" y="3799800"/>
            <a:ext cx="2723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C41F-37EA-4C15-BC20-98E086CF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40F-642F-42D2-92D3-A0551F34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D2A-A25E-4602-B230-34276D16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9CE-57ED-4E0C-B8BC-6AC1E5C5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5D2-4217-441E-BBFE-EDA86283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560" y="228600"/>
            <a:ext cx="8458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240-0FBB-408B-A906-E2EA476A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71E-6FD6-4DFB-9271-348720C3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37998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1081-8FE2-4D96-A49E-52A50F97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371600"/>
            <a:ext cx="4127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3799800"/>
            <a:ext cx="8458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46A0-DCAE-49DB-8010-9828479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2436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CES PI Meeting     Feb 20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3640" y="640044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n Diego, Febr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ACE1-6EB1-4152-BD40-BC690803B4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48520"/>
            <a:ext cx="845820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143000"/>
            <a:ext cx="8458200" cy="0"/>
          </a:xfrm>
          <a:prstGeom prst="line">
            <a:avLst/>
          </a:prstGeom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afe Explicitly Staged Program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Pfe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t work with Peter Lee, Rowan Davies, Aleksandar Nanevski, and Philip Wick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73E-77D3-461F-A833-69D44CD6EF2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Just-in-Time Compil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76240" y="1752120"/>
            <a:ext cx="3044160" cy="3641040"/>
            <a:chOff x="876240" y="1752120"/>
            <a:chExt cx="3044160" cy="3641040"/>
          </a:xfrm>
        </p:grpSpPr>
        <p:sp>
          <p:nvSpPr>
            <p:cNvPr id="77" name=""/>
            <p:cNvSpPr/>
            <p:nvPr/>
          </p:nvSpPr>
          <p:spPr>
            <a:xfrm>
              <a:off x="876240" y="1752120"/>
              <a:ext cx="1271520" cy="90504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yte cod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71880" y="1838160"/>
              <a:ext cx="848520" cy="733680"/>
            </a:xfrm>
            <a:prstGeom prst="flowChartMulti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89280" y="3506400"/>
              <a:ext cx="1203120" cy="489960"/>
            </a:xfrm>
            <a:prstGeom prst="flowChartProcess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JVM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70280" y="4783680"/>
              <a:ext cx="1042200" cy="60948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>
              <a:stCxn id="77" idx="2"/>
              <a:endCxn id="79" idx="0"/>
            </p:cNvCxnSpPr>
            <p:nvPr/>
          </p:nvCxnSpPr>
          <p:spPr>
            <a:xfrm>
              <a:off x="1512360" y="2596680"/>
              <a:ext cx="978840" cy="910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78" idx="2"/>
              <a:endCxn id="79" idx="0"/>
            </p:cNvCxnSpPr>
            <p:nvPr/>
          </p:nvCxnSpPr>
          <p:spPr>
            <a:xfrm flipH="1">
              <a:off x="2490120" y="2495160"/>
              <a:ext cx="1005480" cy="1011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79" idx="2"/>
              <a:endCxn id="80" idx="0"/>
            </p:cNvCxnSpPr>
            <p:nvPr/>
          </p:nvCxnSpPr>
          <p:spPr>
            <a:xfrm>
              <a:off x="2490840" y="3995640"/>
              <a:ext cx="2160" cy="7992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84" name=""/>
          <p:cNvGrpSpPr/>
          <p:nvPr/>
        </p:nvGrpSpPr>
        <p:grpSpPr>
          <a:xfrm>
            <a:off x="4869000" y="1691640"/>
            <a:ext cx="3472560" cy="4258800"/>
            <a:chOff x="4869000" y="1691640"/>
            <a:chExt cx="3472560" cy="4258800"/>
          </a:xfrm>
        </p:grpSpPr>
        <p:sp>
          <p:nvSpPr>
            <p:cNvPr id="85" name=""/>
            <p:cNvSpPr/>
            <p:nvPr/>
          </p:nvSpPr>
          <p:spPr>
            <a:xfrm>
              <a:off x="4869000" y="1691640"/>
              <a:ext cx="1271520" cy="90504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yte code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3040" y="4092480"/>
              <a:ext cx="848520" cy="733680"/>
            </a:xfrm>
            <a:prstGeom prst="flowChartMulti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78720" y="5340960"/>
              <a:ext cx="1042200" cy="609480"/>
            </a:xfrm>
            <a:prstGeom prst="flowChartDocumen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5" idx="2"/>
              <a:endCxn id="89" idx="0"/>
            </p:cNvCxnSpPr>
            <p:nvPr/>
          </p:nvCxnSpPr>
          <p:spPr>
            <a:xfrm>
              <a:off x="5505480" y="2536920"/>
              <a:ext cx="799200" cy="4118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6" idx="1"/>
              <a:endCxn id="91" idx="3"/>
            </p:cNvCxnSpPr>
            <p:nvPr/>
          </p:nvCxnSpPr>
          <p:spPr>
            <a:xfrm flipH="1">
              <a:off x="6811200" y="4458960"/>
              <a:ext cx="694440" cy="5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91" idx="2"/>
              <a:endCxn id="87" idx="0"/>
            </p:cNvCxnSpPr>
            <p:nvPr/>
          </p:nvCxnSpPr>
          <p:spPr>
            <a:xfrm>
              <a:off x="6294240" y="4770360"/>
              <a:ext cx="6840" cy="58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5565600" y="2948040"/>
              <a:ext cx="1474920" cy="727560"/>
            </a:xfrm>
            <a:prstGeom prst="flowChartProcess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JIT compil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80160" y="4053600"/>
              <a:ext cx="1027080" cy="821160"/>
            </a:xfrm>
            <a:prstGeom prst="flowChartPunchedTap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inary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89" idx="2"/>
              <a:endCxn id="91" idx="0"/>
            </p:cNvCxnSpPr>
            <p:nvPr/>
          </p:nvCxnSpPr>
          <p:spPr>
            <a:xfrm flipH="1">
              <a:off x="6294240" y="3675240"/>
              <a:ext cx="10080" cy="48312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33C2-C656-48B8-9AD8-B197A77F7AA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al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ding-time analysis: static (early) and dynamic (late)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-time global program speci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ous implementations [e.g. Tempo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ll-developed the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ding-time analysis aut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unpredictable for programm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maintain under program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B0F-08F8-4722-A51B-F0F7460B9F2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generation of code based on values only available at run-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ious implementations [e.g. `C, Cyclone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ly applicable, including systems programming and middle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ormance hard to pred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s (very) difficult to wr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E8A2-6C20-400F-8136-6A2B007753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57560" y="1580760"/>
            <a:ext cx="1271520" cy="90504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81240" y="3994560"/>
            <a:ext cx="848520" cy="733680"/>
          </a:xfrm>
          <a:prstGeom prst="flowChartMulti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70520" y="5229720"/>
            <a:ext cx="1042200" cy="60948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99" idx="2"/>
            <a:endCxn id="103" idx="0"/>
          </p:cNvCxnSpPr>
          <p:nvPr/>
        </p:nvCxnSpPr>
        <p:spPr>
          <a:xfrm>
            <a:off x="3794040" y="2425680"/>
            <a:ext cx="799200" cy="411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0" idx="1"/>
            <a:endCxn id="105" idx="3"/>
          </p:cNvCxnSpPr>
          <p:nvPr/>
        </p:nvCxnSpPr>
        <p:spPr>
          <a:xfrm flipH="1" flipV="1">
            <a:off x="5109840" y="4352040"/>
            <a:ext cx="684720" cy="9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5" idx="2"/>
            <a:endCxn id="101" idx="0"/>
          </p:cNvCxnSpPr>
          <p:nvPr/>
        </p:nvCxnSpPr>
        <p:spPr>
          <a:xfrm>
            <a:off x="4592160" y="4659120"/>
            <a:ext cx="1080" cy="581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3854520" y="2836800"/>
            <a:ext cx="1474560" cy="72756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IT compile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78080" y="3942360"/>
            <a:ext cx="1027080" cy="82116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3" idx="2"/>
            <a:endCxn id="105" idx="0"/>
          </p:cNvCxnSpPr>
          <p:nvPr/>
        </p:nvCxnSpPr>
        <p:spPr>
          <a:xfrm>
            <a:off x="4592160" y="3564000"/>
            <a:ext cx="1080" cy="483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CED-590E-4A9D-B8DC-31E9915B58F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: 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57560" y="1580760"/>
            <a:ext cx="1271520" cy="90504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te co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81240" y="3994560"/>
            <a:ext cx="848520" cy="733680"/>
          </a:xfrm>
          <a:prstGeom prst="flowChartMulti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70520" y="5229720"/>
            <a:ext cx="1042200" cy="609480"/>
          </a:xfrm>
          <a:prstGeom prst="flowChartDocumen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9" idx="2"/>
            <a:endCxn id="113" idx="0"/>
          </p:cNvCxnSpPr>
          <p:nvPr/>
        </p:nvCxnSpPr>
        <p:spPr>
          <a:xfrm>
            <a:off x="3794040" y="2425320"/>
            <a:ext cx="799200" cy="570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0" idx="1"/>
            <a:endCxn id="115" idx="3"/>
          </p:cNvCxnSpPr>
          <p:nvPr/>
        </p:nvCxnSpPr>
        <p:spPr>
          <a:xfrm flipH="1" flipV="1">
            <a:off x="5109840" y="4352040"/>
            <a:ext cx="684720" cy="9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2"/>
            <a:endCxn id="111" idx="0"/>
          </p:cNvCxnSpPr>
          <p:nvPr/>
        </p:nvCxnSpPr>
        <p:spPr>
          <a:xfrm>
            <a:off x="4592160" y="4659120"/>
            <a:ext cx="1080" cy="581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854520" y="2995200"/>
            <a:ext cx="1474560" cy="410760"/>
          </a:xfrm>
          <a:prstGeom prst="flowChartProcess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TC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8080" y="3942360"/>
            <a:ext cx="1027080" cy="821160"/>
          </a:xfrm>
          <a:prstGeom prst="flowChartPunchedTap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3" idx="2"/>
            <a:endCxn id="115" idx="0"/>
          </p:cNvCxnSpPr>
          <p:nvPr/>
        </p:nvCxnSpPr>
        <p:spPr>
          <a:xfrm>
            <a:off x="4592160" y="3404880"/>
            <a:ext cx="1080" cy="641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5" idx="1"/>
            <a:endCxn id="113" idx="1"/>
          </p:cNvCxnSpPr>
          <p:nvPr/>
        </p:nvCxnSpPr>
        <p:spPr>
          <a:xfrm rot="10800000">
            <a:off x="3853800" y="3199680"/>
            <a:ext cx="219600" cy="1152720"/>
          </a:xfrm>
          <a:prstGeom prst="bentConnector3">
            <a:avLst>
              <a:gd name="adj1" fmla="val 204269"/>
            </a:avLst>
          </a:prstGeom>
          <a:ln w="25560">
            <a:solidFill>
              <a:srgbClr val="ff99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94F-4566-42DE-B4AE-368D2F871C6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is Staged Programming Difficul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arture from simple operational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ing about program-generating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omation leading to unpredic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ability under program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4A3-0B45-4476-992A-245450C077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ur The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inherent tensions between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modulari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fficienc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an be relieved through programming with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plici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ransparent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, and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statically verifiab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nstructs for st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 particularly in complex systems where modularity and data abstraction ar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657-175A-47FE-AC68-0FB32D2423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icit Stag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taging behavior should be explicit in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s readability and maintain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reliable reasoning about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liorates unpredictability of optim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unduly burdens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3E8-27B0-450F-BA72-CF9BB3E0C7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anspar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meaning of staging constructs should be clearly and unambiguously spec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ability across platforms and comp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olution from an art to a sc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independence from language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of efficient implementation rem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BBA-CF69-4DF0-8C04-2D821B26E20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tic Verifi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rect staging should be statically enfor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ch mistakes ea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ose notoriously difficult staging err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safe program re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vent inconsistencies at module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D48-576A-48CA-A7B3-A1069FDE73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ox Project at Carnegie Mell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Advanced Programming Languages for Systems Soft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l Cr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ert Harp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er L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k Pfe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34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former and current student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144-95D4-4235-98F0-01B4CDAF89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AA1-9AF4-4E9E-BA2F-C227D303CD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s to Guide Language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gance and uniform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erif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thogonality to other constr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extension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stency across module bound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measure of  language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ing about pr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927-9D79-4E53-A5FB-515228E05F2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nsional 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type of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intensional expression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is a good model for many forms of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ional Expression = Sourc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m = Compiled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erce to programs by evaluation (abstractl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and transform structur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contrast, programs (terms) can only be execu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A213-CCAF-455B-931B-5D0B63B19EB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ipulating 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 — expression, u — expression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x E — term, x — term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box u = M in N —                                   substitute expression denoted by M for u in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ed(x) = let box u = x in box (...u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(x) = let box u = x in 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ify(x) = case x of box (0*u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x (0) |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FFD-3562-41BE-94D8-392F72A90B2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ensional Typ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ing judg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M 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xpression variab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: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e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value variab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 i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is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4175-A5B6-4294-BA50-AFA5D87C3D1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ion Typ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A — terms denoting expressions of typ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rule (construc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• |- E :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box E : 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 depends only on expression variabl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20880" y="3079800"/>
            <a:ext cx="3427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05000" y="3130560"/>
            <a:ext cx="3735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4C90-0F27-4616-A8E5-5F1504A35FB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ression Types Continu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tion rule (destruct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M : A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u::A 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N :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|- (let box u = M in N) :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emantics captures sta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x E    [E/u] 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x 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x E        let box u = M in 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249200" y="2558520"/>
            <a:ext cx="65311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720" y="4343400"/>
            <a:ext cx="2795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7280" y="4341960"/>
            <a:ext cx="4578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18F-3312-4F40-93FF-FA4083FB04E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Simple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 : 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 (x) = let box u = x in 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ote : 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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ote (x) = let box u = x in box (box 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 : (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 (f) (x)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box g = f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box u = x in box (g 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8C0-DEF1-4A50-9438-9EA94F582EA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me Other Examp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ch : regexp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string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o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_poly : pol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floa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rod : i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vect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(vect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at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et_filter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ruction arra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(i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 array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E942-5C3B-45A1-93F7-980FCDFAC54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ample from Foxn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 connection = (msg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it)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uni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air of functions to send and ab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: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 ((connectio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 (indat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it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83A-7CF0-4F00-92D1-0B4C995C537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eads of Resear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d Intermediate and Low-Level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arl Crary, Robert Har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 with Corn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of-Carrying Code and Logical Frame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ter Lee, Frank Pfe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aborations: Berkeley, Princeton, Yale, Stanf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rcial Java tech transfer to Cedilla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Times New Roman"/>
              </a:rPr>
              <a:t>Peter Lee, Frank Pfen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6971-8997-4BCD-883B-7BBBBEE1C6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Logical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satisfy precisely the laws of the modal logic S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world semantics as computation s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ts several concrete real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1681-B063-4E9E-9724-BBF9A88D9A7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quirements Revisit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via “box” and “let box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parency via simple spec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erification via modal type-che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9E4-5573-4B9E-85D3-99C3AA9C2E5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-Time Code Gene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A — generator for code of typ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al restrictions guarantee that source expression will be available at run-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vies &amp; Pfenning ‘96, ‘00, ‘01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via lightweight generating ex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Leone &amp; Lee ‘96]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Wickline, Lee, Pfenning, Davies ‘98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0D3-B5AA-4743-8453-E5AE68E9EDB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flective Program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by pattern matching against expressions [Nanevski &amp; Pfenning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ional interpretation guarantees sound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efficient to implement but more expres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a-ML [Taha et al. ‘99,’00] incorporates modal and temporal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F6B0-1730-4067-A178-343CBCBDCC5E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rtial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different type system based on temporal log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 — A at the next stage of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es traditional binding-time analysis precisely and log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Davies ‘96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902-B4EE-4B4D-BA5B-90C246EE42B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C08-BB75-427B-B988-97E112F25EE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gram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ing errors caugh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not too intru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over host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e expressive power of primi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?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dictable programmer efficiency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675-C689-433A-B8F7-FE7F42B1C19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dular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ypes guarantee module consist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express some inter-module optim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as appropriate for some automatic improvements (e.g. in-li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82B-1E7D-426D-9582-D7E787BEF3E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mplemen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ML implementation of light-weight run-time code generation in prog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with predecessor Fabius encouraging [Leone &amp; Lee ‘96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implementation quite diffic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experiment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B1BE-C0EF-43AB-B9DA-B44607CE5C9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trix Multiplication in Fabi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04920" y="1371600"/>
          <a:ext cx="84564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4564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80B-C4A4-4136-91E1-FF4457F73CCB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fying Them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motivated by the practice of software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 and type theory as indispensible tools for their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ory and system building go hand-in-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870-0DDA-4C89-8DD9-BEF28397C7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asoning about Staged Program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ed type theory for reasoning about staged programs [Pfenning’01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abled by clean and minimal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d formalization of “dead cod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9AF-6FCE-422C-9F9C-24E293958445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0E2-F480-4CD1-BA81-235CA6FF6AA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gical and type-theoretic foundation for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as run-time code generation or reflective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 in complex systems where tensions between modularity, safety, and efficiency are grea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4A0-4170-4B74-B2B0-BB63E170C6C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ture Wor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implementation, including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tim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er to other langu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s, including program composition for complex systems (e.g. build your own “OS”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2DC-80E5-4372-8BC4-EC35F20EB4D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an explicit, transparent, and statically verifiable language for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rvative over existing language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ls of logic and type theory are criti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FE4-0BFE-4FA8-993E-E049234E6EA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lk Outl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 Staging and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y and Future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7D1-B3B0-4533-9139-86FE3E0774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dularity vs. Efficien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: building systems that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y mod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sy to ada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 to constru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can we achieve this and attain efficienc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ur approac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ypes and explicitly staged comp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68B-278A-47F9-B4BC-54A2DBA5E1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figuration in the Foxn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075040"/>
            <a:ext cx="99072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p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25146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9718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CM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4290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3886200"/>
            <a:ext cx="982800" cy="439560"/>
          </a:xfrm>
          <a:prstGeom prst="rect">
            <a:avLst/>
          </a:prstGeom>
          <a:solidFill>
            <a:srgbClr val="ffff99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666880" y="2473200"/>
            <a:ext cx="3129120" cy="3457440"/>
            <a:chOff x="2666880" y="2473200"/>
            <a:chExt cx="3129120" cy="3457440"/>
          </a:xfrm>
        </p:grpSpPr>
        <p:sp>
          <p:nvSpPr>
            <p:cNvPr id="62" name=""/>
            <p:cNvSpPr/>
            <p:nvPr/>
          </p:nvSpPr>
          <p:spPr>
            <a:xfrm>
              <a:off x="3962520" y="2473200"/>
              <a:ext cx="990360" cy="43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62520" y="2913120"/>
              <a:ext cx="982440" cy="439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TC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62520" y="3352680"/>
              <a:ext cx="982440" cy="43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Eth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29000" y="4648680"/>
              <a:ext cx="23670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plug &amp; play for specialized configurations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6880" y="2895480"/>
              <a:ext cx="762120" cy="533520"/>
            </a:xfrm>
            <a:custGeom>
              <a:avLst/>
              <a:gdLst>
                <a:gd name="textAreaLeft" fmla="*/ 118800 w 762120"/>
                <a:gd name="textAreaRight" fmla="*/ 667080 w 7621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486400" y="2743200"/>
            <a:ext cx="3352680" cy="3187440"/>
            <a:chOff x="5486400" y="2743200"/>
            <a:chExt cx="3352680" cy="3187440"/>
          </a:xfrm>
        </p:grpSpPr>
        <p:sp>
          <p:nvSpPr>
            <p:cNvPr id="68" name=""/>
            <p:cNvSpPr/>
            <p:nvPr/>
          </p:nvSpPr>
          <p:spPr>
            <a:xfrm>
              <a:off x="6705720" y="2743200"/>
              <a:ext cx="990360" cy="838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comm.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pp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24480" y="4648680"/>
              <a:ext cx="251460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lang="en-US" sz="2600" spc="-1" strike="noStrike">
                  <a:solidFill>
                    <a:srgbClr val="ffffff"/>
                  </a:solidFill>
                  <a:latin typeface="Times New Roman"/>
                </a:rPr>
                <a:t>fused” stack via staging and code specialization?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6400" y="2895480"/>
              <a:ext cx="762120" cy="533520"/>
            </a:xfrm>
            <a:custGeom>
              <a:avLst/>
              <a:gdLst>
                <a:gd name="textAreaLeft" fmla="*/ 118800 w 762120"/>
                <a:gd name="textAreaRight" fmla="*/ 667080 w 76212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869-FE32-4A87-B8AF-35859A18109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taged Computat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icit or implicit division of a computation into static or dynamic ph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-time code gen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ial eval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-l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cro proces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D01A-3FE1-4623-9F14-9277A185668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ging in Algorithm Desig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 informal pract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Sparse matrix multi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JIT compilation [e.g. packet filter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ly applic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SzPct val="8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autom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to maintain during program ev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9C0-DA3C-4592-A654-BF01010432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ISCEX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6:43:14Z</dcterms:created>
  <dc:creator>Stephanie Weirich</dc:creator>
  <dc:description/>
  <dc:language>en-US</dc:language>
  <cp:lastModifiedBy>Frank Pfenning</cp:lastModifiedBy>
  <dcterms:modified xsi:type="dcterms:W3CDTF">2001-02-10T15:48:04Z</dcterms:modified>
  <cp:revision>109</cp:revision>
  <dc:subject/>
  <dc:title>Resource Bound Certification</dc:title>
</cp:coreProperties>
</file>