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064-E459-4ABA-BEAC-918038AC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DC4-2AB5-47CD-934D-FDE334A4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EAF-A217-4161-A02B-8754D587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4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6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4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6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53A-EBC0-4277-B7AA-99558671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3C3-4FE5-43A7-9AEE-CB95C3E6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37A-3A57-4677-9DF8-B7B87E2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7FB-A30D-4971-9692-1F2601E5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FCD-03D8-43FB-B949-D5C5C466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F11-DADA-4791-8561-F6029C4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759-8F84-43DF-9F6B-81272AC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4DB-809E-4AD0-9A5F-CAA5397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496-B746-4DB9-901E-88614B15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6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CES PI Meeting     Feb 2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364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n Diego,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1A6F-4AC2-49CA-9D14-50D9E20BB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fe Explicitly Staged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work with Peter Lee, Rowan Davies, Aleksandar Nanevski, and Philip Wick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925-C310-4CC0-9817-15175A071DB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Just-in-Time Compi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76240" y="1752120"/>
            <a:ext cx="3044160" cy="3641040"/>
            <a:chOff x="876240" y="1752120"/>
            <a:chExt cx="3044160" cy="3641040"/>
          </a:xfrm>
        </p:grpSpPr>
        <p:sp>
          <p:nvSpPr>
            <p:cNvPr id="77" name=""/>
            <p:cNvSpPr/>
            <p:nvPr/>
          </p:nvSpPr>
          <p:spPr>
            <a:xfrm>
              <a:off x="876240" y="175212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71880" y="183816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9280" y="3506400"/>
              <a:ext cx="1203120" cy="4899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70280" y="478368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77" idx="2"/>
              <a:endCxn id="79" idx="0"/>
            </p:cNvCxnSpPr>
            <p:nvPr/>
          </p:nvCxnSpPr>
          <p:spPr>
            <a:xfrm>
              <a:off x="1512360" y="2596680"/>
              <a:ext cx="978840" cy="910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78" idx="2"/>
              <a:endCxn id="79" idx="0"/>
            </p:cNvCxnSpPr>
            <p:nvPr/>
          </p:nvCxnSpPr>
          <p:spPr>
            <a:xfrm flipH="1">
              <a:off x="2490120" y="2495160"/>
              <a:ext cx="1005480" cy="1011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79" idx="2"/>
              <a:endCxn id="80" idx="0"/>
            </p:cNvCxnSpPr>
            <p:nvPr/>
          </p:nvCxnSpPr>
          <p:spPr>
            <a:xfrm>
              <a:off x="2490840" y="3995640"/>
              <a:ext cx="2160" cy="799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4869000" y="1691640"/>
            <a:ext cx="3472560" cy="4258800"/>
            <a:chOff x="4869000" y="1691640"/>
            <a:chExt cx="3472560" cy="4258800"/>
          </a:xfrm>
        </p:grpSpPr>
        <p:sp>
          <p:nvSpPr>
            <p:cNvPr id="85" name=""/>
            <p:cNvSpPr/>
            <p:nvPr/>
          </p:nvSpPr>
          <p:spPr>
            <a:xfrm>
              <a:off x="4869000" y="169164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409248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78720" y="534096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5" idx="2"/>
              <a:endCxn id="89" idx="0"/>
            </p:cNvCxnSpPr>
            <p:nvPr/>
          </p:nvCxnSpPr>
          <p:spPr>
            <a:xfrm>
              <a:off x="5505480" y="2536920"/>
              <a:ext cx="799200" cy="41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6" idx="1"/>
              <a:endCxn id="91" idx="3"/>
            </p:cNvCxnSpPr>
            <p:nvPr/>
          </p:nvCxnSpPr>
          <p:spPr>
            <a:xfrm flipH="1">
              <a:off x="6811200" y="4458960"/>
              <a:ext cx="69444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1" idx="2"/>
              <a:endCxn id="87" idx="0"/>
            </p:cNvCxnSpPr>
            <p:nvPr/>
          </p:nvCxnSpPr>
          <p:spPr>
            <a:xfrm>
              <a:off x="6294240" y="4770360"/>
              <a:ext cx="6840" cy="58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5565600" y="2948040"/>
              <a:ext cx="1474920" cy="7275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IT compil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80160" y="4053600"/>
              <a:ext cx="1027080" cy="821160"/>
            </a:xfrm>
            <a:prstGeom prst="flowChartPunchedTap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ina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9" idx="2"/>
              <a:endCxn id="91" idx="0"/>
            </p:cNvCxnSpPr>
            <p:nvPr/>
          </p:nvCxnSpPr>
          <p:spPr>
            <a:xfrm flipH="1">
              <a:off x="6294240" y="3675240"/>
              <a:ext cx="10080" cy="483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EBE-700D-455D-9AC5-0D6DA5EE17F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: static (early) and dynamic (late)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time global program spe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Temp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veloped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 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npredictable for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maintain under program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F1C-1B31-481B-819C-886333AFC7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generation of code based on values only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`C, Cyclon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, including systems programming and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hard to pred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(very) difficult to 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797-9E15-4718-8716-839A230F5A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2"/>
            <a:endCxn id="103" idx="0"/>
          </p:cNvCxnSpPr>
          <p:nvPr/>
        </p:nvCxnSpPr>
        <p:spPr>
          <a:xfrm>
            <a:off x="3794040" y="2425680"/>
            <a:ext cx="799200" cy="411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1"/>
            <a:endCxn id="10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2"/>
            <a:endCxn id="10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854520" y="2836800"/>
            <a:ext cx="1474560" cy="72756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IT compil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3" idx="2"/>
            <a:endCxn id="105" idx="0"/>
          </p:cNvCxnSpPr>
          <p:nvPr/>
        </p:nvCxnSpPr>
        <p:spPr>
          <a:xfrm>
            <a:off x="4592160" y="3564000"/>
            <a:ext cx="1080" cy="483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CD9-B9F1-4B6E-B465-6D03CC50622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3" idx="0"/>
          </p:cNvCxnSpPr>
          <p:nvPr/>
        </p:nvCxnSpPr>
        <p:spPr>
          <a:xfrm>
            <a:off x="3794040" y="2425320"/>
            <a:ext cx="799200" cy="57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0" idx="1"/>
            <a:endCxn id="11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2"/>
            <a:endCxn id="11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854520" y="2995200"/>
            <a:ext cx="1474560" cy="410760"/>
          </a:xfrm>
          <a:prstGeom prst="flowChartProcess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TC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3" idx="2"/>
            <a:endCxn id="115" idx="0"/>
          </p:cNvCxnSpPr>
          <p:nvPr/>
        </p:nvCxnSpPr>
        <p:spPr>
          <a:xfrm>
            <a:off x="4592160" y="3404880"/>
            <a:ext cx="1080" cy="64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1"/>
            <a:endCxn id="113" idx="1"/>
          </p:cNvCxnSpPr>
          <p:nvPr/>
        </p:nvCxnSpPr>
        <p:spPr>
          <a:xfrm rot="10800000">
            <a:off x="3853800" y="3199680"/>
            <a:ext cx="219600" cy="1152720"/>
          </a:xfrm>
          <a:prstGeom prst="bentConnector3">
            <a:avLst>
              <a:gd name="adj1" fmla="val 204269"/>
            </a:avLst>
          </a:prstGeom>
          <a:ln w="2556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A50-5F76-4DA5-93A2-199B1844CC8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Staged Programming Difficul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ure from simple operation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-generating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on leading to unpredic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bility under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22C-0798-4AD4-9A76-EC546F49A9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r The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herent tensions betwee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an be relieved through programming with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plici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tically verifiab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nstructs for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particularly in complex systems where modularity and data abstraction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BB1-1BD8-49D5-89F0-A770AF1B9D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icit Stag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ging behavior should be explicit in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readability and maintain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reliable reasoning abou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liorates unpredictability of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unduly burden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BFB-2C91-44A7-ADBC-C506C8B71C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eaning of staging constructs should be clearly and unambiguously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bility across platforms and comp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 from an art to a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independence from language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of efficient implementation re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246-86F6-471E-A5B3-155604A048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ic Verif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rect staging should be statically enfor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 mistakes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e notoriously difficult staging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afe program re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inconsistencies at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37E-6D56-44EE-B8B5-1DC56AFA14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x Project at Carnegie Mell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dvanced Programming Languages for Systems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l C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Har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former and current student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248-8908-4D1E-816A-FB67AEDB20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F5A-DC31-48A3-8570-6A72410621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s to Guide Language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ce and uniform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thogonality to other con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extension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across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easure of  language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881-56A5-489D-B3D9-7F7AD3224A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ype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ntensional expression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a good model for many forms of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Expression = Sourc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= Compiled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erce to programs by evaluation (abstract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and transform structu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ontrast, programs (terms) can only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232-5092-4E29-84C2-DA4235B863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ipulating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— expression, u — expression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— term, x — term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M in N —                                   substitute expression denoted by M for u in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ed(x) = let box u = x in box (...u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(x) = let box u = x i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(x) = case x of box (0*u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(0) |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E17-E319-44EA-85C4-ACBDE884F5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Ty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ng jud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ression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: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2D3-834D-400E-BF67-8B26B0B37A9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terms denoting expressions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rule (con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• |- E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box E : 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depends only on expression variabl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20880" y="3079800"/>
            <a:ext cx="342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5000" y="3130560"/>
            <a:ext cx="373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9FA-E4DA-4060-89B7-702F32F892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 Continu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tion rule (de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A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u::A 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N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(let box u = M in N)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emantics captures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[E/u]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    let box u = M in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49200" y="2558520"/>
            <a:ext cx="6531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720" y="4343400"/>
            <a:ext cx="2795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7280" y="4341960"/>
            <a:ext cx="457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B86-A2AF-4665-964D-F3A01EA62F8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Simple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(x) = let box u = x in 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(x) = let box u = x in box (box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: (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(f) (x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g = f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x in box (g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580-833D-4B53-9E2A-2D9FD8BF2B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Other Exam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: regexp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strin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_poly : po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flo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rod :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_filt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(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A3D-2ED5-45CB-9E8A-7CDFE83A68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from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connection = (ms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ni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ir of functions to send and ab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: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 ((conn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 (indat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A93-C11A-4408-AC68-6694A8423C5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ads of Re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d Intermediate and Low-Leve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l Crary, Robert Har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with Corn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-Carrying Code and Logical Frame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s: Berkeley, Princeton, Yale, Stanf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Java tech transfer to Cedilla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970-C06A-43F2-8327-B678ED7DF7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gical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satisfy precisely the laws of the modal logic S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world semantics as computation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ts several concrete re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111-BB6C-45DC-AC19-48B19C9C676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quirements Revisi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via “box” and “let bo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arency via simpl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cation via modal type-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50A-A5C9-41D8-9B3E-BDD9D1A324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generator for code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al restrictions guarantee that source expression will be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&amp; Pfenning ‘96, ‘00, ‘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via lightweight generating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eone &amp; Lee ‘96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Wickline, Lee, Pfenning, Davies ‘98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78FE-8B4E-40C1-93EE-96B27D2E765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flective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by pattern matching against expressions [Nanevski &amp; Pfennin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interpretation guarantees soun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fficient to implement but more exp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-ML [Taha et al. ‘99,’00] incorporates modal and temporal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6096-B7D1-4114-939C-9D21D2F8CE3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different type system based on temporal 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 — A at the next stage of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s traditional binding-time analysis precisely and log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C22-6333-4F94-9B52-D7651048404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5CB-E7D5-4FF3-9D08-67A89FC02CB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ing errors caugh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not too intr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hos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expressive power of primi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able programmer effici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D85-491C-47DB-86F7-D990E52CA27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guarantee module consis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xpress some inter-module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s appropriate for some automatic improvements (e.g. in-l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FAD-CC98-48F1-BE26-45865E6099E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L implementation of light-weight run-time code generation in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with predecessor Fabius encouraging [Leone &amp; Lee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implementation quite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xperiment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F22-C04F-43CD-8EB2-96B0A81705A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rix Multiplication in Fabi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1371600"/>
          <a:ext cx="8456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6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09E-9430-4A75-ADD8-D43CC3EB109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fying The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motivated by the practice of softwar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 and type theory as indispensible tools for their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ory and system building go hand-in-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ED7-84D6-4A7A-A7DB-749D3D6179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ing about Staged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type theory for reasoning about staged programs [Pfenning’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d by clean and minimal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d formalization of “dead cod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0AE-2FF0-42B1-862C-56434F7242A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40F-26F5-4C66-845C-131C5E24838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and type-theoretic foundation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as run-time code generation or reflectiv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in complex systems where tensions between modularity, safety, and efficiency are grea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313-0A9B-499C-96E5-DF94D2BE051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mplementation, including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 to other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, including program composition for complex systems (e.g. build your own “O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D57-C788-4DA7-A42D-C618507125B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an explicit, transparent, and statically verifiable language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existing languag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of logic and type theory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115-52D0-4B8E-AE9E-265387EE1D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9E6-C027-4910-A178-A2DD02E5D9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 vs. Ef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building systems that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mod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a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to constr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achieve this and attain efficienc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r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and explicitly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C1C-EA1D-4DE5-B544-07ABF1A818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figuration in the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075040"/>
            <a:ext cx="99072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5146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9718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4290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862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2473200"/>
            <a:ext cx="3129120" cy="3457440"/>
            <a:chOff x="2666880" y="2473200"/>
            <a:chExt cx="3129120" cy="3457440"/>
          </a:xfrm>
        </p:grpSpPr>
        <p:sp>
          <p:nvSpPr>
            <p:cNvPr id="62" name=""/>
            <p:cNvSpPr/>
            <p:nvPr/>
          </p:nvSpPr>
          <p:spPr>
            <a:xfrm>
              <a:off x="3962520" y="2473200"/>
              <a:ext cx="99036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2520" y="2913120"/>
              <a:ext cx="982440" cy="439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62520" y="3352680"/>
              <a:ext cx="98244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9000" y="4648680"/>
              <a:ext cx="2367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plug &amp; play for specialized configuration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486400" y="2743200"/>
            <a:ext cx="3352680" cy="3187440"/>
            <a:chOff x="5486400" y="2743200"/>
            <a:chExt cx="3352680" cy="3187440"/>
          </a:xfrm>
        </p:grpSpPr>
        <p:sp>
          <p:nvSpPr>
            <p:cNvPr id="68" name=""/>
            <p:cNvSpPr/>
            <p:nvPr/>
          </p:nvSpPr>
          <p:spPr>
            <a:xfrm>
              <a:off x="6705720" y="2743200"/>
              <a:ext cx="9903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omm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4480" y="4648680"/>
              <a:ext cx="25146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fused” stack via staging and code specialization?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470-EDFA-45E3-B586-99EE268F210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aged Comput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icit or implicit division of a computation into static or dynamic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l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47F-A550-42EA-BE56-EDAAAFD401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ging in Algorithm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inform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parse matrix multi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JIT compilation [e.g. packet filt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auto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maintain during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963-8E96-40C3-867B-F207E74A6F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6:43:14Z</dcterms:created>
  <dc:creator>Stephanie Weirich</dc:creator>
  <dc:description/>
  <dc:language>en-US</dc:language>
  <cp:lastModifiedBy>Frank Pfenning</cp:lastModifiedBy>
  <dcterms:modified xsi:type="dcterms:W3CDTF">2001-02-10T15:48:04Z</dcterms:modified>
  <cp:revision>109</cp:revision>
  <dc:subject/>
  <dc:title>Resource Bound Certification</dc:title>
</cp:coreProperties>
</file>