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EE1-1BC7-4A91-89D1-2D46B504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3799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F9C-0C06-443F-B2F2-BB1C0305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3716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799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3799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6D4A-7040-4CC1-9518-6A84A57C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4400" y="13716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4600" y="13716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3799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4400" y="3799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4600" y="3799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6DC-7A93-4147-BB83-45B24493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153-980B-4A63-B856-29970DFD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E1B-6553-41FE-8AC8-02802B72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3716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F2A-F15D-4883-86AA-E818305D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AAF-7D31-49D3-9488-378C359A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458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CA0-AD16-4303-8195-9FE5BDA1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3716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3799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09F-1F8B-4B9E-9503-7EAFF944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3716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3799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6EA-184F-4540-AF4E-CA648EB2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3716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3799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C7F0-8EE4-4D43-8789-D0FED78C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00440"/>
            <a:ext cx="2436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CES PI Meeting     Feb 200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3640" y="640044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n Diego, Februar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DADE-257F-4F13-85EA-AC25E0B623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248520"/>
            <a:ext cx="8458200" cy="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afe Explicitly Staged Program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k Pfe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negie Mellon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int work with Peter Lee, Rowan Davies, Aleksandar Nanevski, and Philip Wick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C7B1-2CF6-426E-86D4-32E2E5BC731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: Just-in-Time Compil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76240" y="1752120"/>
            <a:ext cx="3044160" cy="3641040"/>
            <a:chOff x="876240" y="1752120"/>
            <a:chExt cx="3044160" cy="3641040"/>
          </a:xfrm>
        </p:grpSpPr>
        <p:sp>
          <p:nvSpPr>
            <p:cNvPr id="77" name=""/>
            <p:cNvSpPr/>
            <p:nvPr/>
          </p:nvSpPr>
          <p:spPr>
            <a:xfrm>
              <a:off x="876240" y="1752120"/>
              <a:ext cx="1271520" cy="905040"/>
            </a:xfrm>
            <a:prstGeom prst="flowChartDocumen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byte code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71880" y="1838160"/>
              <a:ext cx="848520" cy="733680"/>
            </a:xfrm>
            <a:prstGeom prst="flowChartMultidocumen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89280" y="3506400"/>
              <a:ext cx="1203120" cy="489960"/>
            </a:xfrm>
            <a:prstGeom prst="flowChartProcess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JVM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70280" y="4783680"/>
              <a:ext cx="1042200" cy="609480"/>
            </a:xfrm>
            <a:prstGeom prst="flowChartDocumen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>
              <a:stCxn id="77" idx="2"/>
              <a:endCxn id="79" idx="0"/>
            </p:cNvCxnSpPr>
            <p:nvPr/>
          </p:nvCxnSpPr>
          <p:spPr>
            <a:xfrm>
              <a:off x="1512360" y="2596680"/>
              <a:ext cx="978840" cy="910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78" idx="2"/>
              <a:endCxn id="79" idx="0"/>
            </p:cNvCxnSpPr>
            <p:nvPr/>
          </p:nvCxnSpPr>
          <p:spPr>
            <a:xfrm flipH="1">
              <a:off x="2490120" y="2495160"/>
              <a:ext cx="1005480" cy="1011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79" idx="2"/>
              <a:endCxn id="80" idx="0"/>
            </p:cNvCxnSpPr>
            <p:nvPr/>
          </p:nvCxnSpPr>
          <p:spPr>
            <a:xfrm>
              <a:off x="2490840" y="3995640"/>
              <a:ext cx="2160" cy="7992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84" name=""/>
          <p:cNvGrpSpPr/>
          <p:nvPr/>
        </p:nvGrpSpPr>
        <p:grpSpPr>
          <a:xfrm>
            <a:off x="4869000" y="1691640"/>
            <a:ext cx="3472560" cy="4258800"/>
            <a:chOff x="4869000" y="1691640"/>
            <a:chExt cx="3472560" cy="4258800"/>
          </a:xfrm>
        </p:grpSpPr>
        <p:sp>
          <p:nvSpPr>
            <p:cNvPr id="85" name=""/>
            <p:cNvSpPr/>
            <p:nvPr/>
          </p:nvSpPr>
          <p:spPr>
            <a:xfrm>
              <a:off x="4869000" y="1691640"/>
              <a:ext cx="1271520" cy="905040"/>
            </a:xfrm>
            <a:prstGeom prst="flowChartDocumen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byte code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93040" y="4092480"/>
              <a:ext cx="848520" cy="733680"/>
            </a:xfrm>
            <a:prstGeom prst="flowChartMultidocumen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78720" y="5340960"/>
              <a:ext cx="1042200" cy="609480"/>
            </a:xfrm>
            <a:prstGeom prst="flowChartDocumen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5" idx="2"/>
              <a:endCxn id="89" idx="0"/>
            </p:cNvCxnSpPr>
            <p:nvPr/>
          </p:nvCxnSpPr>
          <p:spPr>
            <a:xfrm>
              <a:off x="5505480" y="2536920"/>
              <a:ext cx="799200" cy="4118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6" idx="1"/>
              <a:endCxn id="91" idx="3"/>
            </p:cNvCxnSpPr>
            <p:nvPr/>
          </p:nvCxnSpPr>
          <p:spPr>
            <a:xfrm flipH="1">
              <a:off x="6811200" y="4458960"/>
              <a:ext cx="694440" cy="5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2" name=""/>
            <p:cNvCxnSpPr>
              <a:stCxn id="91" idx="2"/>
              <a:endCxn id="87" idx="0"/>
            </p:cNvCxnSpPr>
            <p:nvPr/>
          </p:nvCxnSpPr>
          <p:spPr>
            <a:xfrm>
              <a:off x="6294240" y="4770360"/>
              <a:ext cx="6840" cy="58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5565600" y="2948040"/>
              <a:ext cx="1474920" cy="727560"/>
            </a:xfrm>
            <a:prstGeom prst="flowChartProcess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JIT compiler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80160" y="4053600"/>
              <a:ext cx="1027080" cy="821160"/>
            </a:xfrm>
            <a:prstGeom prst="flowChartPunchedTap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binary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89" idx="2"/>
              <a:endCxn id="91" idx="0"/>
            </p:cNvCxnSpPr>
            <p:nvPr/>
          </p:nvCxnSpPr>
          <p:spPr>
            <a:xfrm flipH="1">
              <a:off x="6294240" y="3675240"/>
              <a:ext cx="10080" cy="4831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B5A4-8B9E-4A21-9ABA-047C1B6DF5CD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ial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nding-time analysis: static (early) and dynamic (late)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-time global program speci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ious implementations [e.g. Temp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l-developed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nding-time analysis autom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unpredictable for program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maintain under program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FFC-8113-43CF-A421-557AC7AD017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-Time Code Gene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generation of code based on values only available at run-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ious implementations [e.g. `C, Cyclon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ly applicable, including systems programming and middle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hard to pred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s (very) difficult to wr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F9F-CD9F-4D47-AAB3-37757266FED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: Run-Time Code Gene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57560" y="1580760"/>
            <a:ext cx="1271520" cy="905040"/>
          </a:xfrm>
          <a:prstGeom prst="flowChartDocumen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te cod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81240" y="3994560"/>
            <a:ext cx="848520" cy="733680"/>
          </a:xfrm>
          <a:prstGeom prst="flowChartMultidocumen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70520" y="5229720"/>
            <a:ext cx="1042200" cy="609480"/>
          </a:xfrm>
          <a:prstGeom prst="flowChartDocumen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9" idx="2"/>
            <a:endCxn id="103" idx="0"/>
          </p:cNvCxnSpPr>
          <p:nvPr/>
        </p:nvCxnSpPr>
        <p:spPr>
          <a:xfrm>
            <a:off x="3794040" y="2425680"/>
            <a:ext cx="799200" cy="411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0" idx="1"/>
            <a:endCxn id="105" idx="3"/>
          </p:cNvCxnSpPr>
          <p:nvPr/>
        </p:nvCxnSpPr>
        <p:spPr>
          <a:xfrm flipH="1" flipV="1">
            <a:off x="5109840" y="4352040"/>
            <a:ext cx="684720" cy="9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105" idx="2"/>
            <a:endCxn id="101" idx="0"/>
          </p:cNvCxnSpPr>
          <p:nvPr/>
        </p:nvCxnSpPr>
        <p:spPr>
          <a:xfrm>
            <a:off x="4592160" y="4659120"/>
            <a:ext cx="1080" cy="581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854520" y="2836800"/>
            <a:ext cx="1474560" cy="727560"/>
          </a:xfrm>
          <a:prstGeom prst="flowChartProcess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IT compil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78080" y="3942360"/>
            <a:ext cx="1027080" cy="821160"/>
          </a:xfrm>
          <a:prstGeom prst="flowChartPunched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3" idx="2"/>
            <a:endCxn id="105" idx="0"/>
          </p:cNvCxnSpPr>
          <p:nvPr/>
        </p:nvCxnSpPr>
        <p:spPr>
          <a:xfrm>
            <a:off x="4592160" y="3564000"/>
            <a:ext cx="1080" cy="483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02E-DDE0-4E49-9680-439E78D7DA1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: Run-Time Code Gene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57560" y="1580760"/>
            <a:ext cx="1271520" cy="905040"/>
          </a:xfrm>
          <a:prstGeom prst="flowChartDocumen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te cod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81240" y="3994560"/>
            <a:ext cx="848520" cy="733680"/>
          </a:xfrm>
          <a:prstGeom prst="flowChartMultidocumen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70520" y="5229720"/>
            <a:ext cx="1042200" cy="609480"/>
          </a:xfrm>
          <a:prstGeom prst="flowChartDocumen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9" idx="2"/>
            <a:endCxn id="113" idx="0"/>
          </p:cNvCxnSpPr>
          <p:nvPr/>
        </p:nvCxnSpPr>
        <p:spPr>
          <a:xfrm>
            <a:off x="3794040" y="2425320"/>
            <a:ext cx="799200" cy="570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10" idx="1"/>
            <a:endCxn id="115" idx="3"/>
          </p:cNvCxnSpPr>
          <p:nvPr/>
        </p:nvCxnSpPr>
        <p:spPr>
          <a:xfrm flipH="1" flipV="1">
            <a:off x="5109840" y="4352040"/>
            <a:ext cx="684720" cy="9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5" idx="2"/>
            <a:endCxn id="111" idx="0"/>
          </p:cNvCxnSpPr>
          <p:nvPr/>
        </p:nvCxnSpPr>
        <p:spPr>
          <a:xfrm>
            <a:off x="4592160" y="4659120"/>
            <a:ext cx="1080" cy="581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854520" y="2995200"/>
            <a:ext cx="1474560" cy="410760"/>
          </a:xfrm>
          <a:prstGeom prst="flowChartProcess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TC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78080" y="3942360"/>
            <a:ext cx="1027080" cy="821160"/>
          </a:xfrm>
          <a:prstGeom prst="flowChartPunched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3" idx="2"/>
            <a:endCxn id="115" idx="0"/>
          </p:cNvCxnSpPr>
          <p:nvPr/>
        </p:nvCxnSpPr>
        <p:spPr>
          <a:xfrm>
            <a:off x="4592160" y="3404880"/>
            <a:ext cx="1080" cy="641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5" idx="1"/>
            <a:endCxn id="113" idx="1"/>
          </p:cNvCxnSpPr>
          <p:nvPr/>
        </p:nvCxnSpPr>
        <p:spPr>
          <a:xfrm rot="10800000">
            <a:off x="3853800" y="3199680"/>
            <a:ext cx="219600" cy="1152720"/>
          </a:xfrm>
          <a:prstGeom prst="bentConnector3">
            <a:avLst>
              <a:gd name="adj1" fmla="val 204269"/>
            </a:avLst>
          </a:prstGeom>
          <a:ln w="25560">
            <a:solidFill>
              <a:srgbClr val="ff99cc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F509-36F9-437B-9509-8645D4A4CF0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is Staged Programming Difficul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arture from simple operational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ing about program-generating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mation leading to unpredic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ability under program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753-48EC-45A1-97FA-39589B03549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ur The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inherent tensions betwee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modularit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afet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fficienc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an be relieved through programming with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plici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ransparen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tatically verifiabl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nstructs for sta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s particularly in complex systems where modularity and data abstraction are cri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E68B-DE78-4DC0-8D2A-A02D1285665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licit Stag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aging behavior should be explicit in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es readability and maintain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reliable reasoning about behav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liorates unpredictability of optim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unduly burdens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AF9-8B89-4906-95EC-14F1E287894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nsparen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meaning of staging constructs should be clearly and unambiguously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tability across platforms and compi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olution from an art to a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independence from language paradig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sues of efficient implementation rem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ECA-60CD-46C9-B318-53AD1A51B34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ic Verific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rrect staging should be statically enfor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ch mistakes ea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gnose notoriously difficult staging err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safe program re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 inconsistencies at module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1FA-65DF-4828-A29F-08AC8205194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x Project at Carnegie Mell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Advanced Programming Languages for Systems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rl Cr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bert Har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ter L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k Pfe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former and current student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B61F-EE3F-450D-915E-ECC995DDE5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lk Outl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Explicit Staging and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 and Future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8CA-1911-469C-BEF4-B1093501049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s to Guide Language Desig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gance and uniform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verif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thogonality to other constr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rvative extension 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ency across module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measure of  language indepen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ing about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99F-7BF7-45E4-ACA3-5D18A4AD0AD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nsional Expres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type of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ntensional expression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s a good model for many forms of staged comp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nsional Expression = Sourc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= Compiled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erce to programs by evaluation (abstractl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ze and transform structur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contrast, programs (terms) can only be execu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914B-93EB-44EF-BFC4-7768324DAEA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ipulating Expres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 — expression, u — expression var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x E — term, x — term var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box u = M in N —                                   substitute expression denoted by M for u in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bed(x) = let box u = x in box (...u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(x) = let box u = x in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ify(x) = case x of box (0*u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ox (0) |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790B-CD86-4DF0-9E86-C6FA0A5438C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nsional Typ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ng judg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|- M :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lare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xpression variabl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::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lare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alue variabl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 :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 is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is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0F44-FA25-4593-AC61-38C871A700D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ression Typ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A — terms denoting expressions of type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rule (construct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• |- E :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|- box E : 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 depends only on expression variabl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20880" y="3079800"/>
            <a:ext cx="3427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5000" y="3130560"/>
            <a:ext cx="3735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7BB-77FB-4C7C-BBF8-BC2A9D8F8AF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ression Types Continu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mination rule (destruct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|- M : A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u::A 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|- N :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|- (let box u = M in N) :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al semantics captures sta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ox E    [E/u] 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x 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ox E        let box u = M in 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249200" y="2558520"/>
            <a:ext cx="6531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720" y="4343400"/>
            <a:ext cx="2795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7280" y="4341960"/>
            <a:ext cx="4578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C77-9811-4078-9EDD-63682F06683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me Simple Pro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 : 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 (x) = let box u = x in 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ote : 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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ote (x) = let box u = x in box (box 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 : (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 (f) (x)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box g = f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box u = x in box (g 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081-AE29-41D4-9AB2-595CB0541C8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me Other Examp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ch : regexp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(string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oo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_poly : pol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(floa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rod : in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(vecto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(vecto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loat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et_filter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ion arra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(in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t arra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678-F45E-4BE9-89BF-68D80A22D37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 from Foxn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connection = (msg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nit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uni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n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air of functions to send and ab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: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 ((connectio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 (indat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nit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D541-C2D4-4A9E-A845-125B459D215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reads of Resear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d Intermediate and Low-Level Langu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rl Crary, Robert Har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aboration with Corn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of-Carrying Code and Logical Frame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ter Lee, Frank Pfe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aborations: Berkeley, Princeton, Yale, Stanf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Java tech transfer to Cedilla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taged Comp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imes New Roman"/>
              </a:rPr>
              <a:t>Peter Lee, Frank Pfe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FC2-DCD4-4A49-A574-ECFDF4B9969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ogical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s satisfy precisely the laws of the modal logic S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e world semantics as computation s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ts several concrete real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088B-51A9-4A78-8D1F-100D59C2C02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quirements Revisi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icit staging via “box” and “let box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arency via simpl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verification via modal type-che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5BF-AB5F-495C-A3A4-3A8A3D40DAB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-Time Code Gene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A — generator for code of type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al restrictions guarantee that source expression will be available at run-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vies &amp; Pfenning ‘96, ‘00, ‘01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via lightweight generating ext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eone &amp; Lee ‘96]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Wickline, Lee, Pfenning, Davies ‘98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C7F-081A-498A-A2E2-819EF904367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flective Program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by pattern matching against expressions [Nanevski &amp; Pfennin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nsional interpretation guarantees sound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 efficient to implement but more expres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-ML [Taha et al. ‘99,’00] incorporates modal and temporal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DE1-8870-40B5-81FE-EC924FFEE5E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ial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different type system based on temporal log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A — A at the next stage of comp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tures traditional binding-time analysis precisely and log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vies ‘96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DEF-9DA4-456C-BF4F-77EAA1D7F61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lk Outl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icit Staging and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 and Future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390-F9A2-452D-8C35-83F98CD0291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ram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ging errors caught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icit staging not too intru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rvative over host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e expressive power of primi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dictable programmer efficiency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44E-7BCE-413B-ACA0-097481083C9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dular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s guarantee module consist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express some inter-module optim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s appropriate for some automatic improvements (e.g. in-lin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953-DC9A-4ED6-95B9-CC1B7E249B3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L implementation of light-weight run-time code generation in prog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with predecessor Fabius encouraging [Leone &amp; Lee ‘96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implementation quite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experiment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FF57-677F-4309-9149-A4B3A1E8DFD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rix Multiplication in Fabi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04920" y="1371600"/>
          <a:ext cx="84564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4564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FFF4-FB75-4334-980D-5D23BACC6D17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fying Them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s motivated by the practice of software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 and type theory as indispensible tools for their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ory and system building go hand-in-h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AA5D-D7C6-4153-9ED9-392051A0BA4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asoning about Staged Pro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type theory for reasoning about staged programs [Pfenning’01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abled by clean and minimal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d formalization of “dead cod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59AC-CDDF-4116-A693-4B84183C0D93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lk Outl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icit Staging and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ummary and Future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24E-97B4-4F33-A911-80808E4050AF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and type-theoretic foundation for staged comp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as run-time code generation or reflective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s in complex systems where tensions between modularity, safety, and efficiency are grea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C801-A3F1-4BD8-92EA-61F61A552AEB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uture W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implementation, including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m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er to other langu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s, including program composition for complex systems (e.g. build your own “OS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E981-2D3A-4F73-B811-106A1EB2B11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an explicit, transparent, and statically verifiable language for staged comp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rvative over existing language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s of logic and type theory are cri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CA7-7F47-4905-A497-D93B3E122AE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lk Outl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icit Staging and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 and Future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671-974D-42C4-8A1D-AF655C09E76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dularity vs. Efficien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: building systems that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y mod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y to ada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t to constr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an we achieve this and attain efficienc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ur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es and explicitly staged comp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75A-50E4-4BA3-9517-FB874217DF1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figuration in the Foxn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2075040"/>
            <a:ext cx="990720" cy="43956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p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2514600"/>
            <a:ext cx="982800" cy="43956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971800"/>
            <a:ext cx="982800" cy="43956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CM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3429000"/>
            <a:ext cx="982800" cy="43956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886200"/>
            <a:ext cx="982800" cy="43956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t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666880" y="2473200"/>
            <a:ext cx="3129120" cy="3457440"/>
            <a:chOff x="2666880" y="2473200"/>
            <a:chExt cx="3129120" cy="3457440"/>
          </a:xfrm>
        </p:grpSpPr>
        <p:sp>
          <p:nvSpPr>
            <p:cNvPr id="62" name=""/>
            <p:cNvSpPr/>
            <p:nvPr/>
          </p:nvSpPr>
          <p:spPr>
            <a:xfrm>
              <a:off x="3962520" y="2473200"/>
              <a:ext cx="990360" cy="439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62520" y="2913120"/>
              <a:ext cx="982440" cy="439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62520" y="3352680"/>
              <a:ext cx="982440" cy="439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Eth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29000" y="4648680"/>
              <a:ext cx="23670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imes New Roman"/>
                </a:rPr>
                <a:t>plug &amp; play for specialized configurations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6880" y="2895480"/>
              <a:ext cx="762120" cy="533520"/>
            </a:xfrm>
            <a:custGeom>
              <a:avLst/>
              <a:gdLst>
                <a:gd name="textAreaLeft" fmla="*/ 118800 w 762120"/>
                <a:gd name="textAreaRight" fmla="*/ 667080 w 76212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486400" y="2743200"/>
            <a:ext cx="3352680" cy="3187440"/>
            <a:chOff x="5486400" y="2743200"/>
            <a:chExt cx="3352680" cy="3187440"/>
          </a:xfrm>
        </p:grpSpPr>
        <p:sp>
          <p:nvSpPr>
            <p:cNvPr id="68" name=""/>
            <p:cNvSpPr/>
            <p:nvPr/>
          </p:nvSpPr>
          <p:spPr>
            <a:xfrm>
              <a:off x="6705720" y="2743200"/>
              <a:ext cx="990360" cy="838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comm.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24480" y="4648680"/>
              <a:ext cx="25146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0" lang="en-US" sz="2600" spc="-1" strike="noStrike">
                  <a:solidFill>
                    <a:srgbClr val="ffffff"/>
                  </a:solidFill>
                  <a:latin typeface="Times New Roman"/>
                </a:rPr>
                <a:t>fused” stack via staging and code specialization?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6400" y="2895480"/>
              <a:ext cx="762120" cy="533520"/>
            </a:xfrm>
            <a:custGeom>
              <a:avLst/>
              <a:gdLst>
                <a:gd name="textAreaLeft" fmla="*/ 118800 w 762120"/>
                <a:gd name="textAreaRight" fmla="*/ 667080 w 76212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3B01-6ABA-4884-AB52-FD17EAF428A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taged Computati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icit or implicit division of a computation into static or dynamic ph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-time code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al 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-l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cro proce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D31-FB57-422E-9CBE-D9D65943897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ging in Algorithm Desig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 informal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Sparse matrix multi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JIT compilation [e.g. packet filt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ly applic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auto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to maintain during program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7BF5-6AAD-470F-AC6D-51A239549A1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6:43:14Z</dcterms:created>
  <dc:creator>Stephanie Weirich</dc:creator>
  <dc:description/>
  <dc:language>en-US</dc:language>
  <cp:lastModifiedBy>Frank Pfenning</cp:lastModifiedBy>
  <dcterms:modified xsi:type="dcterms:W3CDTF">2001-02-10T15:48:04Z</dcterms:modified>
  <cp:revision>109</cp:revision>
  <dc:subject/>
  <dc:title>Resource Bound Certification</dc:title>
</cp:coreProperties>
</file>