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878-809B-4CCB-9046-9A8215BD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BC9-4DB1-4DA8-9AD2-2D9E760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2D3-79B5-45FE-9720-F0CA247F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DD4-C832-4215-8867-F59A824F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3DA-B9E1-43A9-B388-54179683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3389-9249-474A-9A09-0AC996DF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1871-0F8F-432B-9157-880ED38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6530-799A-4E5A-8180-42FF8449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D4ED-20D4-4FCE-8D63-9D4747ED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BB55-5D28-434C-A20F-1516033A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80B3-DBF2-4F7B-A9D3-641D8E6C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4A1-52A5-429C-B2BE-DBB04F84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358A-8334-44BE-B81A-4E3296D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F488-1A21-41CE-BB12-649F75B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16A2-E576-4E9E-972E-39B4D1DB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47E5-1904-46BC-B078-8BAF0A8F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455C-2CCA-4C79-9890-06AD3FEE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131-527D-4C3A-9D84-2C474D2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31E-1AA7-419C-94BC-D3B4C4A7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FD8-57E8-4115-AD5D-6CE72432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3E8-A915-4FBB-A45F-506BA982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8FA-E528-48F3-A79F-ABBCF2AB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BED-ECFF-4F78-8E7E-835BE02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B07-CB08-463A-B314-FD78A3FA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6C92-35D5-42E4-82EA-CD87C45917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2D1D-B3DB-484D-A984-9963E4CF2B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9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42656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: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 due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BD2-1EDE-4360-9540-5F0084807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34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34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35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35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36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36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36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37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37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38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38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38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39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39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39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40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40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40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41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41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42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42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43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43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44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44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44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45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46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46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CA2-40A0-414A-9DB1-E64BAD0548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0C0-275E-4224-8AAC-F60C4AADA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"/>
          <p:cNvSpPr/>
          <p:nvPr/>
        </p:nvSpPr>
        <p:spPr>
          <a:xfrm>
            <a:off x="276624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3212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81A-31DE-4615-A6FD-D7E4AA4C7A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BDD-3C54-4FDB-8FC2-FB04150EAB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urther mater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B4B-4496-485D-8041-0AACF3013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virtual memory (V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es linking and lo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C49-3AF6-42B3-9BDF-0BE9485259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101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2240" y="299088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67720" y="1314360"/>
            <a:ext cx="1804680" cy="3353040"/>
            <a:chOff x="5967720" y="1314360"/>
            <a:chExt cx="1804680" cy="3353040"/>
          </a:xfrm>
        </p:grpSpPr>
        <p:sp>
          <p:nvSpPr>
            <p:cNvPr id="105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212880" y="13906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2880" y="16192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7720" y="4133880"/>
              <a:ext cx="730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350760" y="933480"/>
            <a:ext cx="100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128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93360" y="21528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3360" y="23814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41720" y="39816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01760" y="1663560"/>
            <a:ext cx="155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148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151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154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4843800" y="48960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43400" y="192420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38880" y="200016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548640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: page is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fault: page is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751-DD40-47D8-AEDE-789DA21E0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Virtual and physical address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0680" y="175248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7524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94400" y="1724040"/>
            <a:ext cx="22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7880" y="396252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396252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36160" y="3962520"/>
            <a:ext cx="23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2560" y="21938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5120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8336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83860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8888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088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9240" y="14479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828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6760" y="14191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256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1640" y="2133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1640" y="326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952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77C-78BC-4458-B1B7-738962D62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Page Table translates VPN to PP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ge table per ea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N is the index into the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FA7-C29C-42C9-AEE0-C7E725607B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nslation Lookaside Buffer (TLB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 is in memory or even on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low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7242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352680"/>
            <a:ext cx="175248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29000" y="59691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16400" y="419076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4284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97480" y="41655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7480" y="41720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808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16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3526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3243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434340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495680" y="4317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9720" y="4343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2840" y="601992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352680"/>
            <a:ext cx="10792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92D-E10F-4909-B30C-86A86E5692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LB and the L1-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8160" y="1254240"/>
            <a:ext cx="15508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248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2656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296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360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84680" y="2171880"/>
            <a:ext cx="626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37240" y="2171880"/>
            <a:ext cx="22266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31960" y="21718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97520" y="4584600"/>
            <a:ext cx="635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89360" y="4584600"/>
            <a:ext cx="42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64600" y="4584600"/>
            <a:ext cx="5288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5897520"/>
            <a:ext cx="65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920" y="5943600"/>
            <a:ext cx="14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417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7640" y="41734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8520" y="347976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90560" y="2257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98760" y="472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-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433-8F10-4D5F-97A9-8520877BD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orst case? 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70000" y="22860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6320" y="1981080"/>
            <a:ext cx="2870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R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64760" y="502920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04800" y="3200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56000" y="289548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8824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5912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03D-F30A-4E68-AA70-178FF8DC43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B64-EA5E-405A-8920-41B296EDB0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dcterms:modified xsi:type="dcterms:W3CDTF">2006-03-27T06:01:36Z</dcterms:modified>
  <cp:revision>507</cp:revision>
  <dc:subject/>
  <dc:title>Recitation 5</dc:title>
</cp:coreProperties>
</file>