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4AF-3633-48A9-9ADE-86705F15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366-5285-4729-90C4-8517C5B5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B61-23D0-48CD-AA50-C8BFCEE8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83E-2685-4512-8368-D5AAEDC8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6AE7-5811-4850-81C8-2312E32D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2E37-FF41-477F-B2FE-7E5A9650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3756-D9CE-4B66-9FDC-C12A453C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47B9-C81B-46FC-8E9D-868159F3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6F16-18FD-49A2-A895-21D2D9AD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3B76-5F59-40EC-B3E2-01D46B0E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6BDF-2FCC-42C2-9698-6C860834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D75-A9E2-406A-8F82-3CAEDA36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DFC1-929A-4AEE-9C81-688D8B7C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2CE5-4E6C-451B-9920-49CFE8A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7CE4-2782-4430-B740-0F0E036E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926D-73E8-42E3-BE69-5C490CB7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A7F2-1A0A-479C-BD00-A408307A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E98-816B-40C5-B1C7-B07F2F95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895-15F0-434A-8199-D53C7A34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B01-B25F-4A14-A8E4-D6CC5D31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4FA-5CBC-46A3-B2B5-5A00C101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B1C-504A-48F4-9F7E-DE21250B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DB4-70F6-48CB-8C18-CA165945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9E4-B85F-448F-ADB8-E99E4595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951A-593A-4BA3-B185-ABA966F1F9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387A-3FFA-46EE-A163-DBF08D76CD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itation #9, Section F, 15-213, Sp 06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42656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 today: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Lab due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368000"/>
            <a:ext cx="426708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Jernej Bar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fro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un Gao’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glong Shao’s recitation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2005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CFD-72BA-4C50-8035-3137A95D44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Virtu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Physic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71480" y="2209680"/>
            <a:ext cx="7734240" cy="609480"/>
            <a:chOff x="771480" y="2209680"/>
            <a:chExt cx="7734240" cy="609480"/>
          </a:xfrm>
        </p:grpSpPr>
        <p:grpSp>
          <p:nvGrpSpPr>
            <p:cNvPr id="348" name=""/>
            <p:cNvGrpSpPr/>
            <p:nvPr/>
          </p:nvGrpSpPr>
          <p:grpSpPr>
            <a:xfrm>
              <a:off x="1933560" y="2209680"/>
              <a:ext cx="387360" cy="609480"/>
              <a:chOff x="1933560" y="2209680"/>
              <a:chExt cx="387360" cy="609480"/>
            </a:xfrm>
          </p:grpSpPr>
          <p:sp>
            <p:nvSpPr>
              <p:cNvPr id="349" name=""/>
              <p:cNvSpPr/>
              <p:nvPr/>
            </p:nvSpPr>
            <p:spPr>
              <a:xfrm>
                <a:off x="1933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33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320920" y="2209680"/>
              <a:ext cx="385920" cy="609480"/>
              <a:chOff x="2320920" y="2209680"/>
              <a:chExt cx="385920" cy="609480"/>
            </a:xfrm>
          </p:grpSpPr>
          <p:sp>
            <p:nvSpPr>
              <p:cNvPr id="352" name=""/>
              <p:cNvSpPr/>
              <p:nvPr/>
            </p:nvSpPr>
            <p:spPr>
              <a:xfrm>
                <a:off x="2320920" y="25142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0920" y="22096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706840" y="2209680"/>
              <a:ext cx="387360" cy="609480"/>
              <a:chOff x="2706840" y="2209680"/>
              <a:chExt cx="387360" cy="609480"/>
            </a:xfrm>
          </p:grpSpPr>
          <p:sp>
            <p:nvSpPr>
              <p:cNvPr id="355" name=""/>
              <p:cNvSpPr/>
              <p:nvPr/>
            </p:nvSpPr>
            <p:spPr>
              <a:xfrm>
                <a:off x="2706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06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094200" y="2209680"/>
              <a:ext cx="387360" cy="609480"/>
              <a:chOff x="3094200" y="2209680"/>
              <a:chExt cx="387360" cy="609480"/>
            </a:xfrm>
          </p:grpSpPr>
          <p:sp>
            <p:nvSpPr>
              <p:cNvPr id="358" name=""/>
              <p:cNvSpPr/>
              <p:nvPr/>
            </p:nvSpPr>
            <p:spPr>
              <a:xfrm>
                <a:off x="3094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094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481560" y="2209680"/>
              <a:ext cx="387000" cy="609480"/>
              <a:chOff x="3481560" y="2209680"/>
              <a:chExt cx="387000" cy="609480"/>
            </a:xfrm>
          </p:grpSpPr>
          <p:sp>
            <p:nvSpPr>
              <p:cNvPr id="361" name=""/>
              <p:cNvSpPr/>
              <p:nvPr/>
            </p:nvSpPr>
            <p:spPr>
              <a:xfrm>
                <a:off x="3481560" y="2514240"/>
                <a:ext cx="3870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481560" y="2209680"/>
                <a:ext cx="387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868560" y="2209680"/>
              <a:ext cx="387360" cy="609480"/>
              <a:chOff x="3868560" y="2209680"/>
              <a:chExt cx="387360" cy="609480"/>
            </a:xfrm>
          </p:grpSpPr>
          <p:sp>
            <p:nvSpPr>
              <p:cNvPr id="364" name=""/>
              <p:cNvSpPr/>
              <p:nvPr/>
            </p:nvSpPr>
            <p:spPr>
              <a:xfrm>
                <a:off x="3868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68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255920" y="2209680"/>
              <a:ext cx="385920" cy="609480"/>
              <a:chOff x="4255920" y="2209680"/>
              <a:chExt cx="385920" cy="609480"/>
            </a:xfrm>
          </p:grpSpPr>
          <p:sp>
            <p:nvSpPr>
              <p:cNvPr id="367" name=""/>
              <p:cNvSpPr/>
              <p:nvPr/>
            </p:nvSpPr>
            <p:spPr>
              <a:xfrm>
                <a:off x="4255920" y="25142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255920" y="22096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641840" y="2209680"/>
              <a:ext cx="387360" cy="609480"/>
              <a:chOff x="4641840" y="2209680"/>
              <a:chExt cx="387360" cy="609480"/>
            </a:xfrm>
          </p:grpSpPr>
          <p:sp>
            <p:nvSpPr>
              <p:cNvPr id="370" name=""/>
              <p:cNvSpPr/>
              <p:nvPr/>
            </p:nvSpPr>
            <p:spPr>
              <a:xfrm>
                <a:off x="4641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641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5029200" y="2209680"/>
              <a:ext cx="387360" cy="609480"/>
              <a:chOff x="5029200" y="2209680"/>
              <a:chExt cx="387360" cy="609480"/>
            </a:xfrm>
          </p:grpSpPr>
          <p:sp>
            <p:nvSpPr>
              <p:cNvPr id="373" name=""/>
              <p:cNvSpPr/>
              <p:nvPr/>
            </p:nvSpPr>
            <p:spPr>
              <a:xfrm>
                <a:off x="5029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29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5416560" y="2209680"/>
              <a:ext cx="387360" cy="609480"/>
              <a:chOff x="5416560" y="2209680"/>
              <a:chExt cx="387360" cy="609480"/>
            </a:xfrm>
          </p:grpSpPr>
          <p:sp>
            <p:nvSpPr>
              <p:cNvPr id="376" name=""/>
              <p:cNvSpPr/>
              <p:nvPr/>
            </p:nvSpPr>
            <p:spPr>
              <a:xfrm>
                <a:off x="5416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416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803920" y="2209680"/>
              <a:ext cx="387360" cy="609480"/>
              <a:chOff x="5803920" y="2209680"/>
              <a:chExt cx="387360" cy="609480"/>
            </a:xfrm>
          </p:grpSpPr>
          <p:sp>
            <p:nvSpPr>
              <p:cNvPr id="379" name=""/>
              <p:cNvSpPr/>
              <p:nvPr/>
            </p:nvSpPr>
            <p:spPr>
              <a:xfrm>
                <a:off x="580392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0392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191280" y="2209680"/>
              <a:ext cx="385560" cy="609480"/>
              <a:chOff x="6191280" y="2209680"/>
              <a:chExt cx="385560" cy="609480"/>
            </a:xfrm>
          </p:grpSpPr>
          <p:sp>
            <p:nvSpPr>
              <p:cNvPr id="382" name=""/>
              <p:cNvSpPr/>
              <p:nvPr/>
            </p:nvSpPr>
            <p:spPr>
              <a:xfrm>
                <a:off x="6191280" y="2514240"/>
                <a:ext cx="385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91280" y="2209680"/>
                <a:ext cx="385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576840" y="2209680"/>
              <a:ext cx="387360" cy="609480"/>
              <a:chOff x="6576840" y="2209680"/>
              <a:chExt cx="387360" cy="609480"/>
            </a:xfrm>
          </p:grpSpPr>
          <p:sp>
            <p:nvSpPr>
              <p:cNvPr id="385" name=""/>
              <p:cNvSpPr/>
              <p:nvPr/>
            </p:nvSpPr>
            <p:spPr>
              <a:xfrm>
                <a:off x="6576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76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964200" y="2209680"/>
              <a:ext cx="387360" cy="609480"/>
              <a:chOff x="6964200" y="2209680"/>
              <a:chExt cx="387360" cy="609480"/>
            </a:xfrm>
          </p:grpSpPr>
          <p:sp>
            <p:nvSpPr>
              <p:cNvPr id="388" name=""/>
              <p:cNvSpPr/>
              <p:nvPr/>
            </p:nvSpPr>
            <p:spPr>
              <a:xfrm>
                <a:off x="6964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64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549440" y="2209680"/>
              <a:ext cx="387360" cy="609480"/>
              <a:chOff x="1549440" y="2209680"/>
              <a:chExt cx="387360" cy="609480"/>
            </a:xfrm>
          </p:grpSpPr>
          <p:sp>
            <p:nvSpPr>
              <p:cNvPr id="391" name=""/>
              <p:cNvSpPr/>
              <p:nvPr/>
            </p:nvSpPr>
            <p:spPr>
              <a:xfrm>
                <a:off x="15494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494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155600" y="2209680"/>
              <a:ext cx="387360" cy="609480"/>
              <a:chOff x="1155600" y="2209680"/>
              <a:chExt cx="387360" cy="609480"/>
            </a:xfrm>
          </p:grpSpPr>
          <p:sp>
            <p:nvSpPr>
              <p:cNvPr id="394" name=""/>
              <p:cNvSpPr/>
              <p:nvPr/>
            </p:nvSpPr>
            <p:spPr>
              <a:xfrm>
                <a:off x="11556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56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348680" y="2209680"/>
              <a:ext cx="387360" cy="609480"/>
              <a:chOff x="7348680" y="2209680"/>
              <a:chExt cx="387360" cy="609480"/>
            </a:xfrm>
          </p:grpSpPr>
          <p:sp>
            <p:nvSpPr>
              <p:cNvPr id="397" name=""/>
              <p:cNvSpPr/>
              <p:nvPr/>
            </p:nvSpPr>
            <p:spPr>
              <a:xfrm>
                <a:off x="734868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4868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7732800" y="2209680"/>
              <a:ext cx="387360" cy="609480"/>
              <a:chOff x="7732800" y="2209680"/>
              <a:chExt cx="387360" cy="609480"/>
            </a:xfrm>
          </p:grpSpPr>
          <p:sp>
            <p:nvSpPr>
              <p:cNvPr id="400" name=""/>
              <p:cNvSpPr/>
              <p:nvPr/>
            </p:nvSpPr>
            <p:spPr>
              <a:xfrm>
                <a:off x="77328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7328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8118360" y="2209680"/>
              <a:ext cx="387360" cy="609480"/>
              <a:chOff x="8118360" y="2209680"/>
              <a:chExt cx="387360" cy="609480"/>
            </a:xfrm>
          </p:grpSpPr>
          <p:sp>
            <p:nvSpPr>
              <p:cNvPr id="403" name=""/>
              <p:cNvSpPr/>
              <p:nvPr/>
            </p:nvSpPr>
            <p:spPr>
              <a:xfrm>
                <a:off x="81183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1183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771480" y="2209680"/>
              <a:ext cx="387360" cy="609480"/>
              <a:chOff x="771480" y="2209680"/>
              <a:chExt cx="387360" cy="609480"/>
            </a:xfrm>
          </p:grpSpPr>
          <p:sp>
            <p:nvSpPr>
              <p:cNvPr id="406" name=""/>
              <p:cNvSpPr/>
              <p:nvPr/>
            </p:nvSpPr>
            <p:spPr>
              <a:xfrm>
                <a:off x="77148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7148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 rot="5400000">
            <a:off x="6438600" y="110448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2590560" y="1066320"/>
            <a:ext cx="228600" cy="3886200"/>
          </a:xfrm>
          <a:custGeom>
            <a:avLst/>
            <a:gdLst>
              <a:gd name="textAreaLeft" fmla="*/ 0 w 228600"/>
              <a:gd name="textAreaRight" fmla="*/ 82440 w 22860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424240" y="313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281640" y="31431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1981080" y="704520"/>
            <a:ext cx="228600" cy="266688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3924360" y="14284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53920" y="1600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78120" y="1600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539720" y="4724280"/>
            <a:ext cx="6956640" cy="609480"/>
            <a:chOff x="1539720" y="4724280"/>
            <a:chExt cx="6956640" cy="609480"/>
          </a:xfrm>
        </p:grpSpPr>
        <p:grpSp>
          <p:nvGrpSpPr>
            <p:cNvPr id="417" name=""/>
            <p:cNvGrpSpPr/>
            <p:nvPr/>
          </p:nvGrpSpPr>
          <p:grpSpPr>
            <a:xfrm>
              <a:off x="1924200" y="4724280"/>
              <a:ext cx="387360" cy="609480"/>
              <a:chOff x="1924200" y="4724280"/>
              <a:chExt cx="387360" cy="609480"/>
            </a:xfrm>
          </p:grpSpPr>
          <p:sp>
            <p:nvSpPr>
              <p:cNvPr id="418" name=""/>
              <p:cNvSpPr/>
              <p:nvPr/>
            </p:nvSpPr>
            <p:spPr>
              <a:xfrm>
                <a:off x="1924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24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311560" y="4724280"/>
              <a:ext cx="385560" cy="609480"/>
              <a:chOff x="2311560" y="4724280"/>
              <a:chExt cx="385560" cy="609480"/>
            </a:xfrm>
          </p:grpSpPr>
          <p:sp>
            <p:nvSpPr>
              <p:cNvPr id="421" name=""/>
              <p:cNvSpPr/>
              <p:nvPr/>
            </p:nvSpPr>
            <p:spPr>
              <a:xfrm>
                <a:off x="2311560" y="5028840"/>
                <a:ext cx="385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11560" y="4724280"/>
                <a:ext cx="385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697120" y="4724280"/>
              <a:ext cx="387360" cy="609480"/>
              <a:chOff x="2697120" y="4724280"/>
              <a:chExt cx="387360" cy="609480"/>
            </a:xfrm>
          </p:grpSpPr>
          <p:sp>
            <p:nvSpPr>
              <p:cNvPr id="424" name=""/>
              <p:cNvSpPr/>
              <p:nvPr/>
            </p:nvSpPr>
            <p:spPr>
              <a:xfrm>
                <a:off x="269712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9712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3084480" y="4724280"/>
              <a:ext cx="387360" cy="609480"/>
              <a:chOff x="3084480" y="4724280"/>
              <a:chExt cx="387360" cy="609480"/>
            </a:xfrm>
          </p:grpSpPr>
          <p:sp>
            <p:nvSpPr>
              <p:cNvPr id="427" name=""/>
              <p:cNvSpPr/>
              <p:nvPr/>
            </p:nvSpPr>
            <p:spPr>
              <a:xfrm>
                <a:off x="3084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084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3471840" y="4724280"/>
              <a:ext cx="387360" cy="609480"/>
              <a:chOff x="3471840" y="4724280"/>
              <a:chExt cx="387360" cy="609480"/>
            </a:xfrm>
          </p:grpSpPr>
          <p:sp>
            <p:nvSpPr>
              <p:cNvPr id="430" name=""/>
              <p:cNvSpPr/>
              <p:nvPr/>
            </p:nvSpPr>
            <p:spPr>
              <a:xfrm>
                <a:off x="3471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71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3859200" y="4724280"/>
              <a:ext cx="387360" cy="609480"/>
              <a:chOff x="3859200" y="4724280"/>
              <a:chExt cx="387360" cy="609480"/>
            </a:xfrm>
          </p:grpSpPr>
          <p:sp>
            <p:nvSpPr>
              <p:cNvPr id="433" name=""/>
              <p:cNvSpPr/>
              <p:nvPr/>
            </p:nvSpPr>
            <p:spPr>
              <a:xfrm>
                <a:off x="3859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59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4246560" y="4724280"/>
              <a:ext cx="385920" cy="609480"/>
              <a:chOff x="4246560" y="4724280"/>
              <a:chExt cx="385920" cy="609480"/>
            </a:xfrm>
          </p:grpSpPr>
          <p:sp>
            <p:nvSpPr>
              <p:cNvPr id="436" name=""/>
              <p:cNvSpPr/>
              <p:nvPr/>
            </p:nvSpPr>
            <p:spPr>
              <a:xfrm>
                <a:off x="4246560" y="50288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246560" y="47242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4632480" y="4724280"/>
              <a:ext cx="387360" cy="609480"/>
              <a:chOff x="4632480" y="4724280"/>
              <a:chExt cx="387360" cy="609480"/>
            </a:xfrm>
          </p:grpSpPr>
          <p:sp>
            <p:nvSpPr>
              <p:cNvPr id="439" name=""/>
              <p:cNvSpPr/>
              <p:nvPr/>
            </p:nvSpPr>
            <p:spPr>
              <a:xfrm>
                <a:off x="4632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632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019840" y="4724280"/>
              <a:ext cx="387360" cy="609480"/>
              <a:chOff x="5019840" y="4724280"/>
              <a:chExt cx="387360" cy="609480"/>
            </a:xfrm>
          </p:grpSpPr>
          <p:sp>
            <p:nvSpPr>
              <p:cNvPr id="442" name=""/>
              <p:cNvSpPr/>
              <p:nvPr/>
            </p:nvSpPr>
            <p:spPr>
              <a:xfrm>
                <a:off x="5019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19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407200" y="4724280"/>
              <a:ext cx="387000" cy="609480"/>
              <a:chOff x="5407200" y="4724280"/>
              <a:chExt cx="387000" cy="609480"/>
            </a:xfrm>
          </p:grpSpPr>
          <p:sp>
            <p:nvSpPr>
              <p:cNvPr id="445" name=""/>
              <p:cNvSpPr/>
              <p:nvPr/>
            </p:nvSpPr>
            <p:spPr>
              <a:xfrm>
                <a:off x="5407200" y="5028840"/>
                <a:ext cx="3870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07200" y="4724280"/>
                <a:ext cx="387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794200" y="4724280"/>
              <a:ext cx="387360" cy="609480"/>
              <a:chOff x="5794200" y="4724280"/>
              <a:chExt cx="387360" cy="609480"/>
            </a:xfrm>
          </p:grpSpPr>
          <p:sp>
            <p:nvSpPr>
              <p:cNvPr id="448" name=""/>
              <p:cNvSpPr/>
              <p:nvPr/>
            </p:nvSpPr>
            <p:spPr>
              <a:xfrm>
                <a:off x="5794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94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181560" y="4724280"/>
              <a:ext cx="385920" cy="609480"/>
              <a:chOff x="6181560" y="4724280"/>
              <a:chExt cx="385920" cy="609480"/>
            </a:xfrm>
          </p:grpSpPr>
          <p:sp>
            <p:nvSpPr>
              <p:cNvPr id="451" name=""/>
              <p:cNvSpPr/>
              <p:nvPr/>
            </p:nvSpPr>
            <p:spPr>
              <a:xfrm>
                <a:off x="6181560" y="50288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181560" y="47242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567480" y="4724280"/>
              <a:ext cx="387360" cy="609480"/>
              <a:chOff x="6567480" y="4724280"/>
              <a:chExt cx="387360" cy="6094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67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67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954840" y="4724280"/>
              <a:ext cx="387360" cy="609480"/>
              <a:chOff x="6954840" y="4724280"/>
              <a:chExt cx="387360" cy="609480"/>
            </a:xfrm>
          </p:grpSpPr>
          <p:sp>
            <p:nvSpPr>
              <p:cNvPr id="457" name=""/>
              <p:cNvSpPr/>
              <p:nvPr/>
            </p:nvSpPr>
            <p:spPr>
              <a:xfrm>
                <a:off x="6954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954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1539720" y="4724280"/>
              <a:ext cx="387360" cy="609480"/>
              <a:chOff x="1539720" y="4724280"/>
              <a:chExt cx="387360" cy="609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53972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3972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7338960" y="4724280"/>
              <a:ext cx="387360" cy="609480"/>
              <a:chOff x="7338960" y="4724280"/>
              <a:chExt cx="387360" cy="609480"/>
            </a:xfrm>
          </p:grpSpPr>
          <p:sp>
            <p:nvSpPr>
              <p:cNvPr id="463" name=""/>
              <p:cNvSpPr/>
              <p:nvPr/>
            </p:nvSpPr>
            <p:spPr>
              <a:xfrm>
                <a:off x="733896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3896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7723080" y="4724280"/>
              <a:ext cx="387360" cy="609480"/>
              <a:chOff x="7723080" y="4724280"/>
              <a:chExt cx="387360" cy="609480"/>
            </a:xfrm>
          </p:grpSpPr>
          <p:sp>
            <p:nvSpPr>
              <p:cNvPr id="466" name=""/>
              <p:cNvSpPr/>
              <p:nvPr/>
            </p:nvSpPr>
            <p:spPr>
              <a:xfrm>
                <a:off x="77230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7230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8109000" y="4724280"/>
              <a:ext cx="387360" cy="609480"/>
              <a:chOff x="8109000" y="4724280"/>
              <a:chExt cx="387360" cy="60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81090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090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 rot="5400000">
            <a:off x="6438600" y="361476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5400000">
            <a:off x="2971440" y="3957480"/>
            <a:ext cx="228600" cy="3124440"/>
          </a:xfrm>
          <a:custGeom>
            <a:avLst/>
            <a:gdLst>
              <a:gd name="textAreaLeft" fmla="*/ 0 w 228600"/>
              <a:gd name="textAreaRight" fmla="*/ 8244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76680" y="5648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81640" y="5653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564-C17F-454C-9ED3-B270F19915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: TLB and page tab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200240" y="1019160"/>
            <a:ext cx="7029360" cy="51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0DB-5CC4-4D23-9AB3-9D82311DF4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 0x78E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078E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dress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066680" y="2444760"/>
          <a:ext cx="7315200" cy="1822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h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faul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0" name=""/>
          <p:cNvSpPr/>
          <p:nvPr/>
        </p:nvSpPr>
        <p:spPr>
          <a:xfrm>
            <a:off x="2766240" y="143208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0000 0111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 1110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032120" y="495936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 0101 1100 1110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7DF-C56A-4A5E-9510-F88416FF49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 0x04AA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04AA4 =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0000 0100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1010 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dress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 1010 0010 1010 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066680" y="2444760"/>
          <a:ext cx="7315200" cy="1822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h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faul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F1F-60F1-48DF-8327-C47AE48C74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urther materi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.6.4: a concret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carefully and solve practice problem 1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32C-64EF-48DE-A989-FB84CE73F2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irtual memor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important concepts in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of virtual memory (V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AM as a cache for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emory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ies linking and lo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pro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 memory effici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669-ED4C-4C03-899B-58ADD4DBCC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irtual memor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2685960"/>
            <a:ext cx="1218960" cy="1143000"/>
            <a:chOff x="914400" y="2685960"/>
            <a:chExt cx="1218960" cy="1143000"/>
          </a:xfrm>
        </p:grpSpPr>
        <p:sp>
          <p:nvSpPr>
            <p:cNvPr id="101" name=""/>
            <p:cNvSpPr/>
            <p:nvPr/>
          </p:nvSpPr>
          <p:spPr>
            <a:xfrm>
              <a:off x="990360" y="27622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33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268596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cc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82240" y="299088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967720" y="1314360"/>
            <a:ext cx="1804680" cy="3353040"/>
            <a:chOff x="5967720" y="1314360"/>
            <a:chExt cx="1804680" cy="3353040"/>
          </a:xfrm>
        </p:grpSpPr>
        <p:sp>
          <p:nvSpPr>
            <p:cNvPr id="105" name=""/>
            <p:cNvSpPr/>
            <p:nvPr/>
          </p:nvSpPr>
          <p:spPr>
            <a:xfrm>
              <a:off x="6096240" y="1390680"/>
              <a:ext cx="1676160" cy="3276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19920" y="1314360"/>
              <a:ext cx="1676520" cy="3276720"/>
            </a:xfrm>
            <a:prstGeom prst="rect">
              <a:avLst/>
            </a:prstGeom>
            <a:solidFill>
              <a:srgbClr val="cc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553440" y="1467000"/>
              <a:ext cx="914400" cy="2971800"/>
              <a:chOff x="6553440" y="1467000"/>
              <a:chExt cx="914400" cy="2971800"/>
            </a:xfrm>
          </p:grpSpPr>
          <p:sp>
            <p:nvSpPr>
              <p:cNvPr id="108" name=""/>
              <p:cNvSpPr/>
              <p:nvPr/>
            </p:nvSpPr>
            <p:spPr>
              <a:xfrm>
                <a:off x="6553440" y="1467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53440" y="1695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53440" y="1924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53440" y="21528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53440" y="23814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53440" y="2838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53440" y="2610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53440" y="3067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53440" y="32958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53440" y="35244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553440" y="3753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53440" y="4210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53440" y="3981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6212880" y="1390680"/>
              <a:ext cx="455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12880" y="1619280"/>
              <a:ext cx="455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67720" y="4133880"/>
              <a:ext cx="730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350760" y="933480"/>
            <a:ext cx="100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2152800"/>
            <a:ext cx="1218960" cy="2361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2076480"/>
            <a:ext cx="1219320" cy="2362320"/>
          </a:xfrm>
          <a:prstGeom prst="rect">
            <a:avLst/>
          </a:prstGeom>
          <a:solidFill>
            <a:srgbClr val="cc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733920" y="2228760"/>
            <a:ext cx="533160" cy="2057400"/>
            <a:chOff x="3733920" y="2228760"/>
            <a:chExt cx="533160" cy="2057400"/>
          </a:xfrm>
        </p:grpSpPr>
        <p:sp>
          <p:nvSpPr>
            <p:cNvPr id="128" name=""/>
            <p:cNvSpPr/>
            <p:nvPr/>
          </p:nvSpPr>
          <p:spPr>
            <a:xfrm>
              <a:off x="3733920" y="22287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33920" y="24573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33920" y="26859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33920" y="29145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31431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33920" y="36003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33920" y="33717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33920" y="38289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33920" y="40575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393360" y="2152800"/>
            <a:ext cx="455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93360" y="2381400"/>
            <a:ext cx="455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41720" y="3981600"/>
            <a:ext cx="73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01760" y="1663560"/>
            <a:ext cx="1553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057400" y="2838240"/>
            <a:ext cx="1676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43440" y="271476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0" y="3638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29120" y="2800440"/>
            <a:ext cx="248616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038480" y="2533320"/>
            <a:ext cx="25146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57040" y="337140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733560" y="3828600"/>
            <a:ext cx="533520" cy="228600"/>
            <a:chOff x="3733560" y="3828600"/>
            <a:chExt cx="533520" cy="228600"/>
          </a:xfrm>
        </p:grpSpPr>
        <p:sp>
          <p:nvSpPr>
            <p:cNvPr id="148" name=""/>
            <p:cNvSpPr/>
            <p:nvPr/>
          </p:nvSpPr>
          <p:spPr>
            <a:xfrm flipV="1">
              <a:off x="3733920" y="38286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3733560" y="38286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733560" y="3142800"/>
            <a:ext cx="533520" cy="228600"/>
            <a:chOff x="3733560" y="3142800"/>
            <a:chExt cx="533520" cy="228600"/>
          </a:xfrm>
        </p:grpSpPr>
        <p:sp>
          <p:nvSpPr>
            <p:cNvPr id="151" name=""/>
            <p:cNvSpPr/>
            <p:nvPr/>
          </p:nvSpPr>
          <p:spPr>
            <a:xfrm flipV="1">
              <a:off x="3733920" y="31428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733560" y="31428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572000" y="4591080"/>
            <a:ext cx="1295280" cy="666720"/>
            <a:chOff x="4572000" y="4591080"/>
            <a:chExt cx="1295280" cy="666720"/>
          </a:xfrm>
        </p:grpSpPr>
        <p:sp>
          <p:nvSpPr>
            <p:cNvPr id="154" name=""/>
            <p:cNvSpPr/>
            <p:nvPr/>
          </p:nvSpPr>
          <p:spPr>
            <a:xfrm>
              <a:off x="4572000" y="4743720"/>
              <a:ext cx="1295280" cy="380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572000" y="4591080"/>
              <a:ext cx="1295280" cy="666720"/>
              <a:chOff x="4572000" y="4591080"/>
              <a:chExt cx="1295280" cy="666720"/>
            </a:xfrm>
          </p:grpSpPr>
          <p:sp>
            <p:nvSpPr>
              <p:cNvPr id="156" name=""/>
              <p:cNvSpPr/>
              <p:nvPr/>
            </p:nvSpPr>
            <p:spPr>
              <a:xfrm>
                <a:off x="4572000" y="4591080"/>
                <a:ext cx="1295280" cy="304920"/>
              </a:xfrm>
              <a:prstGeom prst="ellipse">
                <a:avLst/>
              </a:prstGeom>
              <a:solidFill>
                <a:srgbClr val="cc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72000" y="474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67280" y="474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72000" y="512460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cc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4843800" y="4896000"/>
            <a:ext cx="73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10040" y="326700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00680" y="394344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43400" y="1924200"/>
            <a:ext cx="14158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38880" y="2000160"/>
            <a:ext cx="14158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5486400"/>
            <a:ext cx="6096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 hit: page is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 fault: page is on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066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CFF-FE79-461B-A88B-8D50262990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Virtual and physical address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0680" y="1752480"/>
            <a:ext cx="3286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 (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1752480"/>
            <a:ext cx="2197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94400" y="1724040"/>
            <a:ext cx="223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77880" y="3962520"/>
            <a:ext cx="28288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page number (PP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3962520"/>
            <a:ext cx="2197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36160" y="3962520"/>
            <a:ext cx="237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2560" y="219384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51200" y="36291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83360" y="36291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2838600"/>
            <a:ext cx="2425680" cy="36828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88880" y="36291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30880" y="36291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29240" y="144792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08280" y="1419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16760" y="141912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12560" y="1419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1640" y="213372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1640" y="326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9528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emory: up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: up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4B0-BB48-404A-953E-A5362AAFE6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Page Table translates VPN to PP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epa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ge table per ea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PN is the index into the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2217600"/>
            <a:ext cx="7359840" cy="4411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11788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BC8-6BA3-4B3F-9AB9-FDE74DE854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ranslation Lookaside Buffer (TLB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 is in memory or even on d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low a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keeps things mana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472428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352680"/>
            <a:ext cx="175248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3581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429000" y="59691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16400" y="4190760"/>
            <a:ext cx="1260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4284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397480" y="416556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7480" y="41720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08080" y="327672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89160" y="327672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335268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432432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05320" y="4343400"/>
            <a:ext cx="990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495680" y="43174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9720" y="4343400"/>
            <a:ext cx="9504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02840" y="6019920"/>
            <a:ext cx="1087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3352680"/>
            <a:ext cx="10792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B16-9AB7-4B49-A6C6-F0A3E91A6A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LB and the L1-Cach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8160" y="1254240"/>
            <a:ext cx="15508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1295280"/>
            <a:ext cx="2165400" cy="2286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87680" y="1295280"/>
            <a:ext cx="1175040" cy="2286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2480" y="1066680"/>
            <a:ext cx="4129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26560" y="1066680"/>
            <a:ext cx="1994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32960" y="1066680"/>
            <a:ext cx="4129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3600" y="1066680"/>
            <a:ext cx="1994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84680" y="2171880"/>
            <a:ext cx="6264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37240" y="2171880"/>
            <a:ext cx="22266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31960" y="2171880"/>
            <a:ext cx="4129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97520" y="4584600"/>
            <a:ext cx="635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89360" y="4584600"/>
            <a:ext cx="4222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64600" y="4584600"/>
            <a:ext cx="5288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22880" y="5897520"/>
            <a:ext cx="65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920" y="5943600"/>
            <a:ext cx="141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417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7640" y="41734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8520" y="347976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0716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90560" y="22575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98760" y="4724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-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56E-E983-4F83-8A29-C5E81E59FC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Worst case? (most delay)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miss, page fault on page table, then page fault on memory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37339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2720" y="228600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905120" y="2590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90920" y="49784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577960" y="3200040"/>
            <a:ext cx="1296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904760" y="3200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572000" y="4038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4038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70000" y="228600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46320" y="1981080"/>
            <a:ext cx="2870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A (PTBR + 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71800" y="23623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3333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66880" y="3352680"/>
            <a:ext cx="99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657600" y="33271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64760" y="5029200"/>
            <a:ext cx="1087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2362320"/>
            <a:ext cx="107964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733920" y="3505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04800" y="3200400"/>
            <a:ext cx="9504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962160" y="3505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28954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56000" y="289548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5000" y="5105520"/>
            <a:ext cx="1752480" cy="4572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6095880"/>
            <a:ext cx="1752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6748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485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0958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102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2388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88240" y="4495680"/>
            <a:ext cx="1636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459120" y="4495680"/>
            <a:ext cx="1636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521-C090-4D96-9C86-AE93D358D8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-bit virtu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-bit physic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1024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is 2-way associative with 16 total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809-F3C1-4AD4-A752-D913AA4600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SCS</cp:lastModifiedBy>
  <dcterms:modified xsi:type="dcterms:W3CDTF">2006-03-27T06:01:36Z</dcterms:modified>
  <cp:revision>507</cp:revision>
  <dc:subject/>
  <dc:title>Recitation 5</dc:title>
</cp:coreProperties>
</file>