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626E-735B-47BC-8EEA-B2E5E91D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C95-9677-4921-93EA-D670E392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A2E-8018-4271-A239-8F817B94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E5B-F98F-4752-92A6-AB57DBBA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937E-B451-40BF-8140-608B40B3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9F98-A932-470A-A5CA-95D1DF1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27CE-9A20-44B5-AFFB-C92A6635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CCB5-0B23-4EF2-9788-084A8215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E74E-0304-44F7-BE18-F9D48534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0CBB-74C1-4A87-BC74-C4998CA1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99A-A247-4A50-993A-7561E3B4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E974-133E-472A-BCDD-7464A110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5A4-2526-4130-9D37-DA94E021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4626-05F9-4825-AF2B-9A8DFD10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41F3-51C2-4D52-92BA-A1229313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CECD-A1CC-429A-8BA7-FE777B77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1F0A-7005-454C-BC2B-C008C699C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B10-3B90-4BF3-90A7-EF834EFB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AC2-80F6-4C3E-913F-B851FD2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C89E-952A-418E-8C10-F1CC6FE6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895-91E4-4522-B534-22CB95FF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961-1328-468F-83F9-6D9B6D2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DB0-38FF-4D44-9A01-6058AFAC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A55-50E9-4E63-B3D4-37FBB7D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CBCC-DC4F-4425-89BD-A9D88E6403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9373-912F-41BA-A969-8ACEEB2F72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9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42656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: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 due 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E4E-AEC8-4D12-94B9-B6503C80B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Virtu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771480" y="2209680"/>
            <a:ext cx="7734240" cy="609480"/>
            <a:chOff x="771480" y="2209680"/>
            <a:chExt cx="7734240" cy="609480"/>
          </a:xfrm>
        </p:grpSpPr>
        <p:grpSp>
          <p:nvGrpSpPr>
            <p:cNvPr id="348" name=""/>
            <p:cNvGrpSpPr/>
            <p:nvPr/>
          </p:nvGrpSpPr>
          <p:grpSpPr>
            <a:xfrm>
              <a:off x="1933560" y="2209680"/>
              <a:ext cx="387360" cy="609480"/>
              <a:chOff x="1933560" y="2209680"/>
              <a:chExt cx="387360" cy="609480"/>
            </a:xfrm>
          </p:grpSpPr>
          <p:sp>
            <p:nvSpPr>
              <p:cNvPr id="349" name=""/>
              <p:cNvSpPr/>
              <p:nvPr/>
            </p:nvSpPr>
            <p:spPr>
              <a:xfrm>
                <a:off x="1933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933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320920" y="2209680"/>
              <a:ext cx="385920" cy="609480"/>
              <a:chOff x="2320920" y="2209680"/>
              <a:chExt cx="385920" cy="609480"/>
            </a:xfrm>
          </p:grpSpPr>
          <p:sp>
            <p:nvSpPr>
              <p:cNvPr id="352" name=""/>
              <p:cNvSpPr/>
              <p:nvPr/>
            </p:nvSpPr>
            <p:spPr>
              <a:xfrm>
                <a:off x="2320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320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2706840" y="2209680"/>
              <a:ext cx="387360" cy="609480"/>
              <a:chOff x="2706840" y="2209680"/>
              <a:chExt cx="387360" cy="609480"/>
            </a:xfrm>
          </p:grpSpPr>
          <p:sp>
            <p:nvSpPr>
              <p:cNvPr id="355" name=""/>
              <p:cNvSpPr/>
              <p:nvPr/>
            </p:nvSpPr>
            <p:spPr>
              <a:xfrm>
                <a:off x="270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0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94200" y="2209680"/>
              <a:ext cx="387360" cy="609480"/>
              <a:chOff x="3094200" y="2209680"/>
              <a:chExt cx="387360" cy="609480"/>
            </a:xfrm>
          </p:grpSpPr>
          <p:sp>
            <p:nvSpPr>
              <p:cNvPr id="358" name=""/>
              <p:cNvSpPr/>
              <p:nvPr/>
            </p:nvSpPr>
            <p:spPr>
              <a:xfrm>
                <a:off x="309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9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3481560" y="2209680"/>
              <a:ext cx="387000" cy="609480"/>
              <a:chOff x="3481560" y="2209680"/>
              <a:chExt cx="387000" cy="609480"/>
            </a:xfrm>
          </p:grpSpPr>
          <p:sp>
            <p:nvSpPr>
              <p:cNvPr id="361" name=""/>
              <p:cNvSpPr/>
              <p:nvPr/>
            </p:nvSpPr>
            <p:spPr>
              <a:xfrm>
                <a:off x="3481560" y="25142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481560" y="22096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868560" y="2209680"/>
              <a:ext cx="387360" cy="609480"/>
              <a:chOff x="3868560" y="2209680"/>
              <a:chExt cx="387360" cy="609480"/>
            </a:xfrm>
          </p:grpSpPr>
          <p:sp>
            <p:nvSpPr>
              <p:cNvPr id="364" name=""/>
              <p:cNvSpPr/>
              <p:nvPr/>
            </p:nvSpPr>
            <p:spPr>
              <a:xfrm>
                <a:off x="3868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868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255920" y="2209680"/>
              <a:ext cx="385920" cy="609480"/>
              <a:chOff x="4255920" y="2209680"/>
              <a:chExt cx="385920" cy="609480"/>
            </a:xfrm>
          </p:grpSpPr>
          <p:sp>
            <p:nvSpPr>
              <p:cNvPr id="367" name=""/>
              <p:cNvSpPr/>
              <p:nvPr/>
            </p:nvSpPr>
            <p:spPr>
              <a:xfrm>
                <a:off x="4255920" y="25142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255920" y="22096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641840" y="2209680"/>
              <a:ext cx="387360" cy="609480"/>
              <a:chOff x="4641840" y="2209680"/>
              <a:chExt cx="387360" cy="609480"/>
            </a:xfrm>
          </p:grpSpPr>
          <p:sp>
            <p:nvSpPr>
              <p:cNvPr id="370" name=""/>
              <p:cNvSpPr/>
              <p:nvPr/>
            </p:nvSpPr>
            <p:spPr>
              <a:xfrm>
                <a:off x="4641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641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5029200" y="2209680"/>
              <a:ext cx="387360" cy="609480"/>
              <a:chOff x="5029200" y="2209680"/>
              <a:chExt cx="387360" cy="609480"/>
            </a:xfrm>
          </p:grpSpPr>
          <p:sp>
            <p:nvSpPr>
              <p:cNvPr id="373" name=""/>
              <p:cNvSpPr/>
              <p:nvPr/>
            </p:nvSpPr>
            <p:spPr>
              <a:xfrm>
                <a:off x="5029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029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5416560" y="2209680"/>
              <a:ext cx="387360" cy="609480"/>
              <a:chOff x="5416560" y="2209680"/>
              <a:chExt cx="387360" cy="609480"/>
            </a:xfrm>
          </p:grpSpPr>
          <p:sp>
            <p:nvSpPr>
              <p:cNvPr id="376" name=""/>
              <p:cNvSpPr/>
              <p:nvPr/>
            </p:nvSpPr>
            <p:spPr>
              <a:xfrm>
                <a:off x="54165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4165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03920" y="2209680"/>
              <a:ext cx="387360" cy="609480"/>
              <a:chOff x="5803920" y="2209680"/>
              <a:chExt cx="387360" cy="609480"/>
            </a:xfrm>
          </p:grpSpPr>
          <p:sp>
            <p:nvSpPr>
              <p:cNvPr id="379" name=""/>
              <p:cNvSpPr/>
              <p:nvPr/>
            </p:nvSpPr>
            <p:spPr>
              <a:xfrm>
                <a:off x="580392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0392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191280" y="2209680"/>
              <a:ext cx="385560" cy="609480"/>
              <a:chOff x="6191280" y="2209680"/>
              <a:chExt cx="385560" cy="609480"/>
            </a:xfrm>
          </p:grpSpPr>
          <p:sp>
            <p:nvSpPr>
              <p:cNvPr id="382" name=""/>
              <p:cNvSpPr/>
              <p:nvPr/>
            </p:nvSpPr>
            <p:spPr>
              <a:xfrm>
                <a:off x="6191280" y="25142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191280" y="22096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6576840" y="2209680"/>
              <a:ext cx="387360" cy="609480"/>
              <a:chOff x="6576840" y="2209680"/>
              <a:chExt cx="387360" cy="609480"/>
            </a:xfrm>
          </p:grpSpPr>
          <p:sp>
            <p:nvSpPr>
              <p:cNvPr id="385" name=""/>
              <p:cNvSpPr/>
              <p:nvPr/>
            </p:nvSpPr>
            <p:spPr>
              <a:xfrm>
                <a:off x="65768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5768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964200" y="2209680"/>
              <a:ext cx="387360" cy="609480"/>
              <a:chOff x="6964200" y="2209680"/>
              <a:chExt cx="387360" cy="609480"/>
            </a:xfrm>
          </p:grpSpPr>
          <p:sp>
            <p:nvSpPr>
              <p:cNvPr id="388" name=""/>
              <p:cNvSpPr/>
              <p:nvPr/>
            </p:nvSpPr>
            <p:spPr>
              <a:xfrm>
                <a:off x="69642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9642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1549440" y="2209680"/>
              <a:ext cx="387360" cy="609480"/>
              <a:chOff x="1549440" y="2209680"/>
              <a:chExt cx="387360" cy="609480"/>
            </a:xfrm>
          </p:grpSpPr>
          <p:sp>
            <p:nvSpPr>
              <p:cNvPr id="391" name=""/>
              <p:cNvSpPr/>
              <p:nvPr/>
            </p:nvSpPr>
            <p:spPr>
              <a:xfrm>
                <a:off x="154944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4944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1155600" y="2209680"/>
              <a:ext cx="387360" cy="609480"/>
              <a:chOff x="1155600" y="2209680"/>
              <a:chExt cx="387360" cy="609480"/>
            </a:xfrm>
          </p:grpSpPr>
          <p:sp>
            <p:nvSpPr>
              <p:cNvPr id="394" name=""/>
              <p:cNvSpPr/>
              <p:nvPr/>
            </p:nvSpPr>
            <p:spPr>
              <a:xfrm>
                <a:off x="11556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56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348680" y="2209680"/>
              <a:ext cx="387360" cy="609480"/>
              <a:chOff x="7348680" y="2209680"/>
              <a:chExt cx="387360" cy="609480"/>
            </a:xfrm>
          </p:grpSpPr>
          <p:sp>
            <p:nvSpPr>
              <p:cNvPr id="397" name=""/>
              <p:cNvSpPr/>
              <p:nvPr/>
            </p:nvSpPr>
            <p:spPr>
              <a:xfrm>
                <a:off x="73486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486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7732800" y="2209680"/>
              <a:ext cx="387360" cy="609480"/>
              <a:chOff x="7732800" y="2209680"/>
              <a:chExt cx="387360" cy="609480"/>
            </a:xfrm>
          </p:grpSpPr>
          <p:sp>
            <p:nvSpPr>
              <p:cNvPr id="400" name=""/>
              <p:cNvSpPr/>
              <p:nvPr/>
            </p:nvSpPr>
            <p:spPr>
              <a:xfrm>
                <a:off x="773280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73280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8118360" y="2209680"/>
              <a:ext cx="387360" cy="609480"/>
              <a:chOff x="8118360" y="2209680"/>
              <a:chExt cx="387360" cy="609480"/>
            </a:xfrm>
          </p:grpSpPr>
          <p:sp>
            <p:nvSpPr>
              <p:cNvPr id="403" name=""/>
              <p:cNvSpPr/>
              <p:nvPr/>
            </p:nvSpPr>
            <p:spPr>
              <a:xfrm>
                <a:off x="811836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11836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771480" y="2209680"/>
              <a:ext cx="387360" cy="609480"/>
              <a:chOff x="771480" y="2209680"/>
              <a:chExt cx="387360" cy="609480"/>
            </a:xfrm>
          </p:grpSpPr>
          <p:sp>
            <p:nvSpPr>
              <p:cNvPr id="406" name=""/>
              <p:cNvSpPr/>
              <p:nvPr/>
            </p:nvSpPr>
            <p:spPr>
              <a:xfrm>
                <a:off x="771480" y="25142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71480" y="22096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"/>
          <p:cNvSpPr/>
          <p:nvPr/>
        </p:nvSpPr>
        <p:spPr>
          <a:xfrm rot="5400000">
            <a:off x="6438600" y="110448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2590560" y="1066320"/>
            <a:ext cx="228600" cy="3886200"/>
          </a:xfrm>
          <a:custGeom>
            <a:avLst/>
            <a:gdLst>
              <a:gd name="textAreaLeft" fmla="*/ 0 w 228600"/>
              <a:gd name="textAreaRight" fmla="*/ 82440 w 22860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424240" y="31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81640" y="31431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981080" y="704520"/>
            <a:ext cx="228600" cy="266688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3924360" y="1428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53920" y="1600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67812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1539720" y="4724280"/>
            <a:ext cx="6956640" cy="609480"/>
            <a:chOff x="1539720" y="4724280"/>
            <a:chExt cx="6956640" cy="609480"/>
          </a:xfrm>
        </p:grpSpPr>
        <p:grpSp>
          <p:nvGrpSpPr>
            <p:cNvPr id="417" name=""/>
            <p:cNvGrpSpPr/>
            <p:nvPr/>
          </p:nvGrpSpPr>
          <p:grpSpPr>
            <a:xfrm>
              <a:off x="1924200" y="4724280"/>
              <a:ext cx="387360" cy="609480"/>
              <a:chOff x="1924200" y="4724280"/>
              <a:chExt cx="387360" cy="609480"/>
            </a:xfrm>
          </p:grpSpPr>
          <p:sp>
            <p:nvSpPr>
              <p:cNvPr id="418" name=""/>
              <p:cNvSpPr/>
              <p:nvPr/>
            </p:nvSpPr>
            <p:spPr>
              <a:xfrm>
                <a:off x="192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92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311560" y="4724280"/>
              <a:ext cx="385560" cy="609480"/>
              <a:chOff x="2311560" y="4724280"/>
              <a:chExt cx="385560" cy="609480"/>
            </a:xfrm>
          </p:grpSpPr>
          <p:sp>
            <p:nvSpPr>
              <p:cNvPr id="421" name=""/>
              <p:cNvSpPr/>
              <p:nvPr/>
            </p:nvSpPr>
            <p:spPr>
              <a:xfrm>
                <a:off x="2311560" y="5028840"/>
                <a:ext cx="3855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311560" y="4724280"/>
                <a:ext cx="385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697120" y="4724280"/>
              <a:ext cx="387360" cy="609480"/>
              <a:chOff x="2697120" y="4724280"/>
              <a:chExt cx="387360" cy="609480"/>
            </a:xfrm>
          </p:grpSpPr>
          <p:sp>
            <p:nvSpPr>
              <p:cNvPr id="424" name=""/>
              <p:cNvSpPr/>
              <p:nvPr/>
            </p:nvSpPr>
            <p:spPr>
              <a:xfrm>
                <a:off x="26971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971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3084480" y="4724280"/>
              <a:ext cx="387360" cy="609480"/>
              <a:chOff x="3084480" y="4724280"/>
              <a:chExt cx="387360" cy="609480"/>
            </a:xfrm>
          </p:grpSpPr>
          <p:sp>
            <p:nvSpPr>
              <p:cNvPr id="427" name=""/>
              <p:cNvSpPr/>
              <p:nvPr/>
            </p:nvSpPr>
            <p:spPr>
              <a:xfrm>
                <a:off x="3084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084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471840" y="4724280"/>
              <a:ext cx="387360" cy="609480"/>
              <a:chOff x="3471840" y="4724280"/>
              <a:chExt cx="387360" cy="609480"/>
            </a:xfrm>
          </p:grpSpPr>
          <p:sp>
            <p:nvSpPr>
              <p:cNvPr id="430" name=""/>
              <p:cNvSpPr/>
              <p:nvPr/>
            </p:nvSpPr>
            <p:spPr>
              <a:xfrm>
                <a:off x="3471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471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859200" y="4724280"/>
              <a:ext cx="387360" cy="609480"/>
              <a:chOff x="3859200" y="4724280"/>
              <a:chExt cx="387360" cy="609480"/>
            </a:xfrm>
          </p:grpSpPr>
          <p:sp>
            <p:nvSpPr>
              <p:cNvPr id="433" name=""/>
              <p:cNvSpPr/>
              <p:nvPr/>
            </p:nvSpPr>
            <p:spPr>
              <a:xfrm>
                <a:off x="3859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59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246560" y="4724280"/>
              <a:ext cx="385920" cy="609480"/>
              <a:chOff x="4246560" y="4724280"/>
              <a:chExt cx="385920" cy="609480"/>
            </a:xfrm>
          </p:grpSpPr>
          <p:sp>
            <p:nvSpPr>
              <p:cNvPr id="436" name=""/>
              <p:cNvSpPr/>
              <p:nvPr/>
            </p:nvSpPr>
            <p:spPr>
              <a:xfrm>
                <a:off x="4246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246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632480" y="4724280"/>
              <a:ext cx="387360" cy="609480"/>
              <a:chOff x="4632480" y="4724280"/>
              <a:chExt cx="387360" cy="609480"/>
            </a:xfrm>
          </p:grpSpPr>
          <p:sp>
            <p:nvSpPr>
              <p:cNvPr id="439" name=""/>
              <p:cNvSpPr/>
              <p:nvPr/>
            </p:nvSpPr>
            <p:spPr>
              <a:xfrm>
                <a:off x="4632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32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019840" y="4724280"/>
              <a:ext cx="387360" cy="609480"/>
              <a:chOff x="5019840" y="4724280"/>
              <a:chExt cx="387360" cy="609480"/>
            </a:xfrm>
          </p:grpSpPr>
          <p:sp>
            <p:nvSpPr>
              <p:cNvPr id="442" name=""/>
              <p:cNvSpPr/>
              <p:nvPr/>
            </p:nvSpPr>
            <p:spPr>
              <a:xfrm>
                <a:off x="5019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19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407200" y="4724280"/>
              <a:ext cx="387000" cy="609480"/>
              <a:chOff x="5407200" y="4724280"/>
              <a:chExt cx="387000" cy="609480"/>
            </a:xfrm>
          </p:grpSpPr>
          <p:sp>
            <p:nvSpPr>
              <p:cNvPr id="445" name=""/>
              <p:cNvSpPr/>
              <p:nvPr/>
            </p:nvSpPr>
            <p:spPr>
              <a:xfrm>
                <a:off x="5407200" y="5028840"/>
                <a:ext cx="38700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07200" y="4724280"/>
                <a:ext cx="3870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5794200" y="4724280"/>
              <a:ext cx="387360" cy="609480"/>
              <a:chOff x="5794200" y="4724280"/>
              <a:chExt cx="387360" cy="609480"/>
            </a:xfrm>
          </p:grpSpPr>
          <p:sp>
            <p:nvSpPr>
              <p:cNvPr id="448" name=""/>
              <p:cNvSpPr/>
              <p:nvPr/>
            </p:nvSpPr>
            <p:spPr>
              <a:xfrm>
                <a:off x="57942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942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181560" y="4724280"/>
              <a:ext cx="385920" cy="609480"/>
              <a:chOff x="6181560" y="4724280"/>
              <a:chExt cx="385920" cy="609480"/>
            </a:xfrm>
          </p:grpSpPr>
          <p:sp>
            <p:nvSpPr>
              <p:cNvPr id="451" name=""/>
              <p:cNvSpPr/>
              <p:nvPr/>
            </p:nvSpPr>
            <p:spPr>
              <a:xfrm>
                <a:off x="6181560" y="5028840"/>
                <a:ext cx="385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181560" y="4724280"/>
                <a:ext cx="385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567480" y="4724280"/>
              <a:ext cx="387360" cy="609480"/>
              <a:chOff x="6567480" y="4724280"/>
              <a:chExt cx="387360" cy="609480"/>
            </a:xfrm>
          </p:grpSpPr>
          <p:sp>
            <p:nvSpPr>
              <p:cNvPr id="454" name=""/>
              <p:cNvSpPr/>
              <p:nvPr/>
            </p:nvSpPr>
            <p:spPr>
              <a:xfrm>
                <a:off x="65674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674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954840" y="4724280"/>
              <a:ext cx="387360" cy="609480"/>
              <a:chOff x="6954840" y="4724280"/>
              <a:chExt cx="387360" cy="609480"/>
            </a:xfrm>
          </p:grpSpPr>
          <p:sp>
            <p:nvSpPr>
              <p:cNvPr id="457" name=""/>
              <p:cNvSpPr/>
              <p:nvPr/>
            </p:nvSpPr>
            <p:spPr>
              <a:xfrm>
                <a:off x="695484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5484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1539720" y="4724280"/>
              <a:ext cx="387360" cy="609480"/>
              <a:chOff x="1539720" y="4724280"/>
              <a:chExt cx="387360" cy="609480"/>
            </a:xfrm>
          </p:grpSpPr>
          <p:sp>
            <p:nvSpPr>
              <p:cNvPr id="460" name=""/>
              <p:cNvSpPr/>
              <p:nvPr/>
            </p:nvSpPr>
            <p:spPr>
              <a:xfrm>
                <a:off x="153972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3972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338960" y="4724280"/>
              <a:ext cx="387360" cy="609480"/>
              <a:chOff x="7338960" y="4724280"/>
              <a:chExt cx="387360" cy="609480"/>
            </a:xfrm>
          </p:grpSpPr>
          <p:sp>
            <p:nvSpPr>
              <p:cNvPr id="463" name=""/>
              <p:cNvSpPr/>
              <p:nvPr/>
            </p:nvSpPr>
            <p:spPr>
              <a:xfrm>
                <a:off x="733896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3896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723080" y="4724280"/>
              <a:ext cx="387360" cy="609480"/>
              <a:chOff x="7723080" y="4724280"/>
              <a:chExt cx="387360" cy="609480"/>
            </a:xfrm>
          </p:grpSpPr>
          <p:sp>
            <p:nvSpPr>
              <p:cNvPr id="466" name=""/>
              <p:cNvSpPr/>
              <p:nvPr/>
            </p:nvSpPr>
            <p:spPr>
              <a:xfrm>
                <a:off x="772308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72308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109000" y="4724280"/>
              <a:ext cx="387360" cy="609480"/>
              <a:chOff x="8109000" y="4724280"/>
              <a:chExt cx="387360" cy="60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8109000" y="5028840"/>
                <a:ext cx="38736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109000" y="4724280"/>
                <a:ext cx="3873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0033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"/>
          <p:cNvSpPr/>
          <p:nvPr/>
        </p:nvSpPr>
        <p:spPr>
          <a:xfrm rot="5400000">
            <a:off x="6438600" y="361476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2971440" y="3957480"/>
            <a:ext cx="228600" cy="312444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440"/>
              <a:gd name="textAreaBottom" fmla="*/ 3043080 h 312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76680" y="5648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56530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F73-C0C6-44FE-A55B-5923C2CFB5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: TLB and page tab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200240" y="1019160"/>
            <a:ext cx="7029360" cy="51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9D9-5EA8-4E7D-A54F-EC5A361A29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78E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78E6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0" name=""/>
          <p:cNvSpPr/>
          <p:nvPr/>
        </p:nvSpPr>
        <p:spPr>
          <a:xfrm>
            <a:off x="2766240" y="143208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11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032120" y="495936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0101 1100 1110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0E9-E193-4157-B11F-745338BB88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art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 0x04A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04AA4 =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0000 0100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Address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 1010 0010 1010 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1066680" y="2444760"/>
          <a:ext cx="7315200" cy="18223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hi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fault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B 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44F-3199-4D3E-B5BC-4A559F0540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urther materia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0.6.4: a concret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arefully and solve practice problem 1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2C38-1E25-4C0B-B559-D8000164ED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important concepts in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of virtual memory (V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AM as a cache for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emory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es linking and loa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 prot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are memory effici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29AF-B80C-4CC5-BE11-D71D9D9C08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Virtual memor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14400" y="2685960"/>
            <a:ext cx="1218960" cy="1143000"/>
            <a:chOff x="914400" y="2685960"/>
            <a:chExt cx="1218960" cy="1143000"/>
          </a:xfrm>
        </p:grpSpPr>
        <p:sp>
          <p:nvSpPr>
            <p:cNvPr id="101" name=""/>
            <p:cNvSpPr/>
            <p:nvPr/>
          </p:nvSpPr>
          <p:spPr>
            <a:xfrm>
              <a:off x="990360" y="27622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68596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cc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2240" y="299088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967720" y="1314360"/>
            <a:ext cx="1804680" cy="3353040"/>
            <a:chOff x="5967720" y="1314360"/>
            <a:chExt cx="1804680" cy="3353040"/>
          </a:xfrm>
        </p:grpSpPr>
        <p:sp>
          <p:nvSpPr>
            <p:cNvPr id="105" name=""/>
            <p:cNvSpPr/>
            <p:nvPr/>
          </p:nvSpPr>
          <p:spPr>
            <a:xfrm>
              <a:off x="6096240" y="1390680"/>
              <a:ext cx="1676160" cy="3276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19920" y="1314360"/>
              <a:ext cx="1676520" cy="3276720"/>
            </a:xfrm>
            <a:prstGeom prst="rect">
              <a:avLst/>
            </a:prstGeom>
            <a:solidFill>
              <a:srgbClr val="cc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553440" y="1467000"/>
              <a:ext cx="914400" cy="2971800"/>
              <a:chOff x="6553440" y="1467000"/>
              <a:chExt cx="914400" cy="2971800"/>
            </a:xfrm>
          </p:grpSpPr>
          <p:sp>
            <p:nvSpPr>
              <p:cNvPr id="108" name=""/>
              <p:cNvSpPr/>
              <p:nvPr/>
            </p:nvSpPr>
            <p:spPr>
              <a:xfrm>
                <a:off x="6553440" y="1467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440" y="1695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53440" y="1924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53440" y="2152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53440" y="2381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53440" y="2838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53440" y="2610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3440" y="3067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3440" y="32958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553440" y="35244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553440" y="37530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53440" y="42102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553440" y="3981600"/>
                <a:ext cx="914400" cy="228600"/>
              </a:xfrm>
              <a:prstGeom prst="rect">
                <a:avLst/>
              </a:prstGeom>
              <a:solidFill>
                <a:srgbClr val="ffffe1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6212880" y="13906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12880" y="1619280"/>
              <a:ext cx="455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67720" y="4133880"/>
              <a:ext cx="730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0033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350760" y="933480"/>
            <a:ext cx="100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152800"/>
            <a:ext cx="1218960" cy="2361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076480"/>
            <a:ext cx="1219320" cy="2362320"/>
          </a:xfrm>
          <a:prstGeom prst="rect">
            <a:avLst/>
          </a:prstGeom>
          <a:solidFill>
            <a:srgbClr val="cc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733920" y="2228760"/>
            <a:ext cx="533160" cy="2057400"/>
            <a:chOff x="3733920" y="2228760"/>
            <a:chExt cx="533160" cy="2057400"/>
          </a:xfrm>
        </p:grpSpPr>
        <p:sp>
          <p:nvSpPr>
            <p:cNvPr id="128" name=""/>
            <p:cNvSpPr/>
            <p:nvPr/>
          </p:nvSpPr>
          <p:spPr>
            <a:xfrm>
              <a:off x="3733920" y="2228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3920" y="2457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3920" y="2685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3920" y="2914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3920" y="31431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33920" y="36003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33920" y="33717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33920" y="38289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33920" y="4057560"/>
              <a:ext cx="533160" cy="228600"/>
            </a:xfrm>
            <a:prstGeom prst="rect">
              <a:avLst/>
            </a:prstGeom>
            <a:solidFill>
              <a:srgbClr val="ffffe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393360" y="21528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93360" y="2381400"/>
            <a:ext cx="455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41720" y="39816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01760" y="1663560"/>
            <a:ext cx="1553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2838240"/>
            <a:ext cx="1676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43440" y="271476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0" y="36385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29120" y="2800440"/>
            <a:ext cx="248616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038480" y="2533320"/>
            <a:ext cx="251460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057040" y="3371400"/>
            <a:ext cx="167652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733560" y="3828600"/>
            <a:ext cx="533520" cy="228600"/>
            <a:chOff x="3733560" y="3828600"/>
            <a:chExt cx="533520" cy="228600"/>
          </a:xfrm>
        </p:grpSpPr>
        <p:sp>
          <p:nvSpPr>
            <p:cNvPr id="148" name=""/>
            <p:cNvSpPr/>
            <p:nvPr/>
          </p:nvSpPr>
          <p:spPr>
            <a:xfrm flipV="1">
              <a:off x="373392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3733560" y="38286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733560" y="3142800"/>
            <a:ext cx="533520" cy="228600"/>
            <a:chOff x="3733560" y="3142800"/>
            <a:chExt cx="533520" cy="228600"/>
          </a:xfrm>
        </p:grpSpPr>
        <p:sp>
          <p:nvSpPr>
            <p:cNvPr id="151" name=""/>
            <p:cNvSpPr/>
            <p:nvPr/>
          </p:nvSpPr>
          <p:spPr>
            <a:xfrm flipV="1">
              <a:off x="373392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3733560" y="314280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572000" y="4591080"/>
            <a:ext cx="1295280" cy="666720"/>
            <a:chOff x="4572000" y="4591080"/>
            <a:chExt cx="1295280" cy="666720"/>
          </a:xfrm>
        </p:grpSpPr>
        <p:sp>
          <p:nvSpPr>
            <p:cNvPr id="154" name=""/>
            <p:cNvSpPr/>
            <p:nvPr/>
          </p:nvSpPr>
          <p:spPr>
            <a:xfrm>
              <a:off x="4572000" y="4743720"/>
              <a:ext cx="1295280" cy="380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572000" y="4591080"/>
              <a:ext cx="1295280" cy="666720"/>
              <a:chOff x="4572000" y="4591080"/>
              <a:chExt cx="1295280" cy="66672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0" y="4591080"/>
                <a:ext cx="1295280" cy="304920"/>
              </a:xfrm>
              <a:prstGeom prst="ellipse">
                <a:avLst/>
              </a:prstGeom>
              <a:solidFill>
                <a:srgbClr val="cc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7200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7280" y="474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72000" y="512460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c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>
            <a:off x="4843800" y="4896000"/>
            <a:ext cx="730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0040" y="326700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00680" y="394344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43400" y="192420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38880" y="2000160"/>
            <a:ext cx="14158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5486400"/>
            <a:ext cx="6096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hit: page is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Page fault: page is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CB7A-4E35-48D6-A0F1-D56714BC63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Virtual and physical address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20680" y="1752480"/>
            <a:ext cx="3286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 (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175248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94400" y="1724040"/>
            <a:ext cx="22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77880" y="3962520"/>
            <a:ext cx="28288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page number (PP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3962520"/>
            <a:ext cx="2197080" cy="3682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36160" y="3962520"/>
            <a:ext cx="237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2560" y="219384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5120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8336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838600"/>
            <a:ext cx="2425680" cy="36828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88880" y="362916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30880" y="36291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29240" y="14479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0828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6760" y="141912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12560" y="1419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1640" y="213372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1640" y="3260880"/>
            <a:ext cx="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952880"/>
            <a:ext cx="815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: up t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AF1-D4B4-4808-919E-32B277874B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Page Table translates VPN to PP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Separ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ge table per ea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PN is the index into the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17600"/>
            <a:ext cx="7359840" cy="4411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1178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13-225C-4AA8-994D-F75B702744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ranslation Lookaside Buffer (TLB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 is in memory or even on d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low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keeps things 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7242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3352680"/>
            <a:ext cx="1752480" cy="198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29000" y="59691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16400" y="4190760"/>
            <a:ext cx="1260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4284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397480" y="416556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7480" y="41720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0808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89160" y="327672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335268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32432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5320" y="4343400"/>
            <a:ext cx="990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495680" y="4317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9720" y="4343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002840" y="601992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352680"/>
            <a:ext cx="10792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4AB-98E4-4364-A202-80DE99520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LB and the L1-Cach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18160" y="1254240"/>
            <a:ext cx="155088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295280"/>
            <a:ext cx="216540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87680" y="1295280"/>
            <a:ext cx="1175040" cy="2286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248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2656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32960" y="10666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3600" y="1066680"/>
            <a:ext cx="1994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84680" y="2171880"/>
            <a:ext cx="626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37240" y="2171880"/>
            <a:ext cx="22266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631960" y="2171880"/>
            <a:ext cx="4129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97520" y="4584600"/>
            <a:ext cx="63576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89360" y="4584600"/>
            <a:ext cx="42228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64600" y="4584600"/>
            <a:ext cx="5288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22880" y="5897520"/>
            <a:ext cx="65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920" y="5943600"/>
            <a:ext cx="14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417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407640" y="41734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8520" y="347976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60716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990560" y="22575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98760" y="4724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-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AED-451E-4840-9ED9-3C4169431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Worst case? (most delay)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miss, page fault on page table, then page fault on memory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7339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2286000"/>
            <a:ext cx="1752480" cy="198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/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2590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5909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590920" y="49784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577960" y="3200040"/>
            <a:ext cx="1296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904760" y="3200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572000" y="4038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70000" y="228600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46320" y="1981080"/>
            <a:ext cx="2870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TEA (PTBR + VP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71800" y="2362320"/>
            <a:ext cx="10796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05320" y="3333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6880" y="3352680"/>
            <a:ext cx="99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657600" y="33271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164760" y="5029200"/>
            <a:ext cx="1087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2362320"/>
            <a:ext cx="10796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7339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04800" y="3200400"/>
            <a:ext cx="950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962160" y="3505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28954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56000" y="2895480"/>
            <a:ext cx="813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5000" y="5105520"/>
            <a:ext cx="1752480" cy="4572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15000" y="6095880"/>
            <a:ext cx="1752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71500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674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5638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67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095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10280" y="4343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23888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8824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459120" y="4495680"/>
            <a:ext cx="16362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6AD-E64C-46E6-AD69-2FF255D2E3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-bit virtu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-bit physic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1024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B is 2-way associative with 16 total e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136-AECA-4F63-877E-01D229A1B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dcterms:modified xsi:type="dcterms:W3CDTF">2006-03-27T06:01:36Z</dcterms:modified>
  <cp:revision>507</cp:revision>
  <dc:subject/>
  <dc:title>Recitation 5</dc:title>
</cp:coreProperties>
</file>