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F22-A923-4D2A-8ABA-3E106A0F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23F-D23F-4016-99E8-E3175B88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25A-49A5-4E8E-A5EE-50968772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80B-F68A-46BB-973C-F5A9FDDD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9D69-2735-487F-9E19-512B6D10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61C5-B719-4435-986A-91117977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4A76-5059-44FA-A96C-C6DD0295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E55F-7436-48F0-812D-AC9BC61A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51DF-18DB-42C8-9516-4C151F51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30B0-FDA5-4DC9-A655-08AC7CDC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38C4-4B1D-4727-BD46-8119C0D0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876-BD5E-47C7-88FF-C87EC25B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44B0-FAA2-44E4-9B36-3E213D95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F9BE-A744-458E-BA17-9F54A0F5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3BEE-D118-4625-B827-0D52692A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FD59-BDBA-4115-93C1-4F22EC6B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6D3F-2480-4D3E-8635-666249D7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9EC-3618-43CE-9DFB-4017D5E9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DED-43CD-4DA8-B16A-59750BD6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AF2-359C-4961-B56A-767CD4E3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C1A-7DF3-4288-A9FB-20135D67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5E3-C01C-4B62-B8BC-8CBF7097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F1A-0EF8-4F45-B5BC-8D2E3122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72F-F6B0-4BB0-B68C-A93DE4D5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F205-09E3-42E0-8B0D-C4BA1A817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2B4D-BA37-48B4-AF45-04CF170FAE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citation #8, Section F, 15-213, Sp 06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244160"/>
            <a:ext cx="379584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La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Next Thurs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368000"/>
            <a:ext cx="4267080" cy="46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: Jernej Bar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fro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un Gao’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glong Shao’s recitation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2005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FEC-62DC-4B7B-89C8-9D4E75BBB5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tree for ts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345924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46560" y="345924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00800" y="345924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51240" y="213372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92200" y="464508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17920" y="464508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058840" y="4281480"/>
            <a:ext cx="182880" cy="36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38600" y="427824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29131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921040" y="282096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360" y="278136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32520" y="198108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3352680"/>
            <a:ext cx="251928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42600" y="604692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30640" y="335268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61720" y="443232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71680" y="443880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97480" y="335268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9480" y="35337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9600" y="35798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26440" y="35798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95720" y="53895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38720" y="53989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53040" y="94284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08480" y="101592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"/>
          <p:cNvCxnSpPr>
            <a:stCxn id="254" idx="4"/>
            <a:endCxn id="234" idx="0"/>
          </p:cNvCxnSpPr>
          <p:nvPr/>
        </p:nvCxnSpPr>
        <p:spPr>
          <a:xfrm flipH="1">
            <a:off x="4742640" y="1719000"/>
            <a:ext cx="252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 rot="20220600">
            <a:off x="5180040" y="2209680"/>
            <a:ext cx="619200" cy="133560"/>
          </a:xfrm>
          <a:prstGeom prst="leftArrow">
            <a:avLst>
              <a:gd name="adj1" fmla="val 50000"/>
              <a:gd name="adj2" fmla="val 11590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17359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Foreground 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receives SIGINT, SIGTSTP, when you type ctrl-c, ctrl-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047760" y="2895480"/>
            <a:ext cx="9903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9782000">
            <a:off x="2594520" y="28188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ward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0880" y="5159520"/>
            <a:ext cx="47541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kill(pid_t pid, int s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&gt; 0: send sig to process with PID=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0: send sig to all processes in m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-1: send sig to all processes with PID&g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pid &lt; -1: send sig to group abs(p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64F-FC53-4A43-B52E-11818ABA9A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ecute progra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execve(const char *fnam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const argv[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const envp[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“/bin/ls”, NULL, NU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“./mytest”, argv, env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320040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to the caller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effectively term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program overwrites its st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akes its P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ignal handlers installed by the caller are re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110-CDBA-4321-B582-DCECFE5B27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terminated child process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_t waitpid(pid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*statu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ption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&gt;0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process with PID=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ait for an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&lt;-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y process from group abs(p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fault, waitpid blocks until at least one zombie process becomes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NOHA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immediately if no zombie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UNTRACED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eturn if some process has be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NOHANG|WUNTRAC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is very useful in the shell lab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tects all the necessary events, and doesn’t block if no ‘’events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886-AEAE-487E-AED1-9B4176D803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terminated child process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_t waitpid(pid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*statu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ption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&gt;0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process with PID=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ait for an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&lt;-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y process from group abs(p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val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d of the process that exit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zero if WNOHANG  was  used and no zombie process availa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-1 on error (then see err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u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s info on why the process terminated (or stopped if WUNTRACED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10F-E601-40D0-AFF3-21B37B670C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tatu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pid(pid, &amp;status, WNOHANG|WUNTRA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s to evaluate 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EXITED(status):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exited norm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EXITSTATUS(status):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t code of th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SIGNALED(status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exited because a signal was not caught (SIGINT, SIGKILL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TERMSIG(status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es the signal that was not cau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STOPPED(status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ce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as stop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STOPSIG(status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es the stopping sig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51460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362916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94352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15A-3B2B-4631-8026-0449741ECB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child process in ts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p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aitpid(…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handout sugges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entralized reaping for both fg and b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713-0859-4331-A5CD-CD54288BC0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usy wait for foreground job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h should still wait for fg job to complete,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 appropriate place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va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/* do nothing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684-5B7C-47BA-A031-C6729F1D4E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etter than simple busy-waiting: Sleep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 appropriate place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va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BD6-1F5A-42AF-B029-2C3C4DCC9D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ace hazar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structure is shared by two pieces of code that can run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ehaviors of program depending upon how the schedule interleaves the execution of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95D-FA82-4D41-99FA-2412F93FE3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n example of a race hazard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pid(…)) …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signal handler may run BEFORE addjob()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B79-755B-44A4-9417-9C74A891E8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IDs &amp; process group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has its own, unique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_t getpid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belongs to exactly one proces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_t getpgrp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process belongs to which process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parent’s process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new process group for myself and my child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setpgid(0, 0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03A-31E0-4649-85C1-D4BF0635F6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lution: blocking 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EDB-1384-44D2-99C8-A95C9BC76A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I/O Redirec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ed in Chapter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file descriptor ‘newfd’ a copy of ‘oldfd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up2(int oldfd, int newfd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input from my_infd instead of standard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up2(my_infd, STDIN_FILEN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copy of a file descriptor (standard output in this cas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my_outfd = dup(STDOUT_FILEN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23E-7696-46D6-B969-EAC27DB977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mind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mportant system c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k(), execve(), waitpid(), sigprocmask(), setpgid(), kill()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man  pages for details about 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n 2 ki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return values of all 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sh output buffers: fflush(stdou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EP by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 your shell by typing commands 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rt n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B0A-94F8-438A-B492-CCB206362A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hat are the possible program outputs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911160"/>
            <a:ext cx="6019560" cy="44830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unistd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 ++; // in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 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%d", c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73760" y="4648320"/>
            <a:ext cx="251244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sible outpu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9560-7D76-49E5-9299-BCE7A5A41C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&amp; concurrenc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fork(vo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a new proces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denti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paren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 0 to child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 child’s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the paren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cheduling order of processes is possibl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less code uses explicit synchron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switching can happen at any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E3C-E048-4121-8C33-B737715DC1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b 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6720" y="990720"/>
            <a:ext cx="8400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ny shell with job control &amp; I/O re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p all child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 SIGCHLD, SIGTSTP, SIG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 race haz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3F0-726B-4ACF-AD03-D9432FA048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ow to Send 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single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ill(pid_t pid, int si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very process in group abs(gi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ill(pid_t gid, int sig), where gid is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use signals to count ev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hy? Signals not queued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161-46BA-42CC-A9A6-2CD1F0924E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: send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09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11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24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137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140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886280" y="21700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71440" y="1285920"/>
            <a:ext cx="2238480" cy="1266840"/>
            <a:chOff x="1171440" y="1285920"/>
            <a:chExt cx="2238480" cy="1266840"/>
          </a:xfrm>
        </p:grpSpPr>
        <p:sp>
          <p:nvSpPr>
            <p:cNvPr id="144" name=""/>
            <p:cNvSpPr/>
            <p:nvPr/>
          </p:nvSpPr>
          <p:spPr>
            <a:xfrm>
              <a:off x="121932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71440" y="1285920"/>
              <a:ext cx="118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Process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57440" y="3943080"/>
            <a:ext cx="2266920" cy="1600560"/>
            <a:chOff x="3457440" y="3943080"/>
            <a:chExt cx="2266920" cy="1600560"/>
          </a:xfrm>
        </p:grpSpPr>
        <p:grpSp>
          <p:nvGrpSpPr>
            <p:cNvPr id="148" name=""/>
            <p:cNvGrpSpPr/>
            <p:nvPr/>
          </p:nvGrpSpPr>
          <p:grpSpPr>
            <a:xfrm>
              <a:off x="3457440" y="4667400"/>
              <a:ext cx="2266920" cy="876240"/>
              <a:chOff x="3457440" y="4667400"/>
              <a:chExt cx="2266920" cy="876240"/>
            </a:xfrm>
          </p:grpSpPr>
          <p:sp>
            <p:nvSpPr>
              <p:cNvPr id="149" name=""/>
              <p:cNvSpPr/>
              <p:nvPr/>
            </p:nvSpPr>
            <p:spPr>
              <a:xfrm>
                <a:off x="3457440" y="4667400"/>
                <a:ext cx="2200320" cy="876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76520" y="4800600"/>
                <a:ext cx="224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other event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V="1">
              <a:off x="4600440" y="3943080"/>
              <a:ext cx="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514680" y="3352680"/>
            <a:ext cx="250524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81480" y="3409920"/>
            <a:ext cx="27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signal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143000" y="1819440"/>
            <a:ext cx="2438280" cy="1724040"/>
            <a:chOff x="1143000" y="1819440"/>
            <a:chExt cx="2438280" cy="1724040"/>
          </a:xfrm>
        </p:grpSpPr>
        <p:sp>
          <p:nvSpPr>
            <p:cNvPr id="155" name=""/>
            <p:cNvSpPr/>
            <p:nvPr/>
          </p:nvSpPr>
          <p:spPr>
            <a:xfrm>
              <a:off x="1143000" y="181944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Courier New"/>
                </a:rPr>
                <a:t>kill(pid, SIGIN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62160" y="2104920"/>
              <a:ext cx="1352520" cy="1438560"/>
            </a:xfrm>
            <a:custGeom>
              <a:avLst/>
              <a:gdLst/>
              <a:ahLst/>
              <a:rect l="l" t="t" r="r" b="b"/>
              <a:pathLst>
                <a:path w="846" h="624">
                  <a:moveTo>
                    <a:pt x="6" y="0"/>
                  </a:moveTo>
                  <a:lnTo>
                    <a:pt x="0" y="624"/>
                  </a:lnTo>
                  <a:lnTo>
                    <a:pt x="846" y="6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flipV="1">
            <a:off x="4867200" y="2444400"/>
            <a:ext cx="14292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62080" y="4000680"/>
            <a:ext cx="2209680" cy="1782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divide by zero: SIGF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trl-c: SIG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hild process exit: SIGCH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7E6-EE97-4261-A246-7BCF6C090E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14680" y="3352680"/>
            <a:ext cx="250524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: receiv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64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79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192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195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3429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signal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1865160"/>
            <a:ext cx="28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09600" y="1305000"/>
            <a:ext cx="302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delivers the pending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non-block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86280" y="21700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867200" y="2444400"/>
            <a:ext cx="14292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7D7-7516-48AD-93A6-FB58928B54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ey signals in the shell lab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ggered by: Interrupt signal (ctrl-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ault action: the process term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TS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ggered by: Stop signal from terminal (ctrl-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ault action: the process st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restarted later(by sending SIGCONT to 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CH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ggered by: a child process has stopped or termin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D4D-0C5E-4507-AA4C-22928D09DD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hell: the process tre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262260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46560" y="262260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262260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51240" y="12812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9220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1792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058840" y="3444840"/>
            <a:ext cx="18288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38600" y="344160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46600" y="20606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921040" y="196848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21360" y="192888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57720" y="13539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2516040"/>
            <a:ext cx="251928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42600" y="52102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3064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61720" y="35956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71680" y="360216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974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6240" y="26971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59600" y="27432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26440" y="27432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92480" y="45529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35480" y="45626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60120" y="4937040"/>
            <a:ext cx="551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job has a unique process group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etpgid(pid_t pid, pid_t pg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pgid(0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326-1473-4433-B3C8-03B2994648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SCS</cp:lastModifiedBy>
  <cp:lastPrinted>2006-03-20T10:10:04Z</cp:lastPrinted>
  <dcterms:modified xsi:type="dcterms:W3CDTF">2006-03-21T00:49:38Z</dcterms:modified>
  <cp:revision>337</cp:revision>
  <dc:subject/>
  <dc:title>Recitation 5</dc:title>
</cp:coreProperties>
</file>