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A8E0-40AA-47CC-82C5-BBD69EFED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3FDD-2E12-44D9-AF06-E5A4477F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8F3E-930F-4DD9-8426-DAFFA40B0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824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5068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8E0D-ABEB-44A1-90E4-DEFB9047F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17B2-AB72-4DD9-9C71-BC7DC6721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C04C-AA13-4193-8DE1-70BE57FC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3511-238A-46D8-B10A-F2C89CB4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B7B5-78D1-4000-803F-4E66E9D5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D923-A9AF-4FD5-9EB1-A1FBF974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0235-A6F1-4183-9044-BBBD07D5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B66D-38E1-4521-9983-1B3683C4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09E7-6A88-4E6C-A4CC-4DCE2D07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B24F-DF2D-48E4-B48F-842ACC3E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763F-429F-484D-9397-490AEFD4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F2F6-8E19-4DAC-845A-B07BBCFD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76FD-529C-4E5C-8018-4120D9CC9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6824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50680" y="99072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6824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50680" y="3856680"/>
            <a:ext cx="264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3DCD-31A4-4863-A462-1943DD50B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DDF5-42D2-40AE-8E57-B6D18517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3055-84F4-4FDE-9DF2-1A274BAF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772F-EE7A-4084-B67F-74D96E9D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DECB-E8E4-4862-8FAD-00253054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47E0-BC9E-45B6-A80D-7F820F27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2840" y="385668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DCB4-E760-40BB-9C0F-406657DE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2840" y="990720"/>
            <a:ext cx="4015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8229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7BB7-6A94-4DAB-8BFC-3E5847F3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09480" cy="44197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857160"/>
            <a:ext cx="8583840" cy="0"/>
          </a:xfrm>
          <a:prstGeom prst="line">
            <a:avLst/>
          </a:prstGeom>
          <a:ln w="190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3865-596B-4297-870D-A7D9D24EA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44197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4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C34F-F1B7-4245-9414-D9F422347F7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ecitation #8, Section F, 15-213, Sp 06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3560" y="1244160"/>
            <a:ext cx="379584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emi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z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La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e Next Thurs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960" y="1368000"/>
            <a:ext cx="4267080" cy="46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: Jernej Barb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from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un Gao’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glong Shao’s recitation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ing 2005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ll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1371600"/>
            <a:ext cx="0" cy="449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5640-6E6C-4E3B-84AE-D069C625ACF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rocess tree for tsh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50920" y="3459240"/>
            <a:ext cx="982800" cy="885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46560" y="3459240"/>
            <a:ext cx="982800" cy="86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 #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400800" y="3459240"/>
            <a:ext cx="984240" cy="885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 #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251240" y="213372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492200" y="464508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17920" y="464508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058840" y="4281480"/>
            <a:ext cx="182880" cy="36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38600" y="4278240"/>
            <a:ext cx="163440" cy="36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746600" y="2913120"/>
            <a:ext cx="0" cy="55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921040" y="2820960"/>
            <a:ext cx="1481040" cy="8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360" y="2781360"/>
            <a:ext cx="1412640" cy="83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332520" y="198108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143000" y="3352680"/>
            <a:ext cx="2519280" cy="2648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42600" y="604692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Fore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process group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130640" y="3352680"/>
            <a:ext cx="1176480" cy="1086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61720" y="443232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process group 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971680" y="443880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ackgro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process group 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297480" y="3352680"/>
            <a:ext cx="1176480" cy="1086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49480" y="353376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59600" y="357984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426440" y="357984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95720" y="538956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38720" y="539892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53040" y="942840"/>
            <a:ext cx="984240" cy="776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408480" y="1015920"/>
            <a:ext cx="91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"/>
          <p:cNvCxnSpPr>
            <a:stCxn id="254" idx="4"/>
            <a:endCxn id="234" idx="0"/>
          </p:cNvCxnSpPr>
          <p:nvPr/>
        </p:nvCxnSpPr>
        <p:spPr>
          <a:xfrm flipH="1">
            <a:off x="4742640" y="1719000"/>
            <a:ext cx="2520" cy="41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 rot="20220600">
            <a:off x="5180040" y="2209680"/>
            <a:ext cx="619200" cy="133560"/>
          </a:xfrm>
          <a:prstGeom prst="leftArrow">
            <a:avLst>
              <a:gd name="adj1" fmla="val 50000"/>
              <a:gd name="adj2" fmla="val 115903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1735920"/>
            <a:ext cx="320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Foreground jo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a50021"/>
                </a:solidFill>
                <a:latin typeface="Arial"/>
              </a:rPr>
              <a:t>receives SIGINT, SIGTSTP, when you type ctrl-c, ctrl-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3047760" y="2895480"/>
            <a:ext cx="99036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rot="19782000">
            <a:off x="2594520" y="281880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ward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0880" y="5159520"/>
            <a:ext cx="47541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kill(pid_t pid, int si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&gt; 0: send sig to process with PID=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0: send sig to all processes in my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-1: send sig to all processes with PID&gt;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pid &lt; -1: send sig to group abs(p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D324-FF6C-46D3-8B02-2A114351FC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ecute program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execve(const char *fnam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const argv[]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*const envp[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ve(“/bin/ls”, NULL, NUL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ve(“./mytest”, argv, envp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3200400"/>
            <a:ext cx="8229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ppens to the caller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effectively termin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w program overwrites its st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akes its P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signal handlers installed by the caller are re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0E4D-64CF-4994-9A10-6B6AC8A85F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eaping terminated child process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_t waitpid(pid_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*statu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option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&gt;0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process with PID=p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wait for any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&lt;-1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any process from group abs(p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default, waitpid blocks until at least one zombie process becomes avail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p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NOHA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immediately if no zombie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UNTRACED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return if some process has been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NOHANG|WUNTRAC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 is very useful in the shell lab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detects all the necessary events, and doesn’t block if no ‘’events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3579-4490-4E6D-8542-C2EEEAB962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eaping terminated child process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_t waitpid(pid_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*statu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option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&gt;0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process with PID=p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wait for any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&lt;-1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any process from group abs(p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val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d of the process that exite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zero if WNOHANG  was  used and no zombie process availab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-1 on error (then see err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u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s info on why the process terminated (or stopped if WUNTRACED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10A0-476B-4B41-BFC6-B3FC21338A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tatu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tatu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aitpid(pid, &amp;status, WNOHANG|WUNTRAC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ros to evaluate stat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WIFEXITED(status):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 exited norm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WEXITSTATUS(status):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t code of the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WIFSIGNALED(status)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 exited because a signal was not caught (SIGINT, SIGKILL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WTERMSIG(status)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es the signal that was not cau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WIFSTOPPED(status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ces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as stopp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urier New"/>
              </a:rPr>
              <a:t>WSTOPSIG(status)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es the stopping sig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2514600"/>
            <a:ext cx="76320" cy="457200"/>
          </a:xfrm>
          <a:custGeom>
            <a:avLst/>
            <a:gdLst>
              <a:gd name="textAreaLeft" fmla="*/ 48960 w 76320"/>
              <a:gd name="textAreaRight" fmla="*/ 7632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362916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4943520"/>
            <a:ext cx="76320" cy="457200"/>
          </a:xfrm>
          <a:custGeom>
            <a:avLst/>
            <a:gdLst>
              <a:gd name="textAreaLeft" fmla="*/ 48960 w 76320"/>
              <a:gd name="textAreaRight" fmla="*/ 7632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4E3A-00E4-4136-93F0-EF7270292A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eaping child process in tsh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to pu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aitpid(…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the handout suggest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entralized reaping for both fg and b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igchld_handler(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9857-61A4-45F4-AF33-99386866C2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Busy wait for foreground job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sh should still wait for fg job to complete, 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n appropriate place i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val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fg process still aliv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/* do nothing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A023-5CDF-43AC-BE19-3964C9B98B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Better than simple busy-waiting: Sleep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n appropriate place i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val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fg process still aliv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leep(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FFC7-C7EC-43C9-A0CD-BFB93C9131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ace hazard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ata structure is shared by two pieces of code that can run concurr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behaviors of program depending upon how the schedule interleaves the execution of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BB62-D863-4E8A-91CA-2B913FAF19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An example of a race hazard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gchld_handler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aitpid(…)) …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tejob(pi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val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 = for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id ==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* child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ve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* signal handler may run BEFORE addjob()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76FC-A9A2-4B1A-93BB-B598058700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rocess IDs &amp; process group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cess has its own, unique process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pid_t getpid(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cess belongs to exactly one proces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pid_t getpgrp(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w process belongs to which process gro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s parent’s process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new process group for myself and my child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setpgid(0, 0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60F6-69AE-444A-918A-659E5D184B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olution: blocking signal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val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igprocmask(SIG_BLOCK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 = for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id ==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* child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igprocmask(SIG_UNBLOCK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ve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* signal handler might run BEFORE addjob()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igprocmask(SIG_UNBLOCK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5BB9-544E-4208-A662-C18832A8CD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Courier New"/>
              </a:rPr>
              <a:t>I/O Redirectio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ed in Chapter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file descriptor ‘newfd’ a copy of ‘oldfd’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up2(int oldfd, int newfd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input from my_infd instead of standard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up2(my_infd, STDIN_FILENO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copy of a file descriptor (standard output in this case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 my_outfd = dup(STDOUT_FILENO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633D-9886-4375-A42D-A2F9796B2B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Reminder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important system ca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k(), execve(), waitpid(), sigprocmask(), setpgid(), kill()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man  pages for details about 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n 2 kil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return values of all 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sh output buffers: fflush(stdou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TEP by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st your shell by typing commands fir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tart now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A7F6-7643-45B3-9174-A84220F96E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What are the possible program outputs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20" y="911160"/>
            <a:ext cx="6019560" cy="448308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include &lt;unistd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cn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main(vo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fork() == 0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nt ++; // in 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nt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nt 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%d", cn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873760" y="4648320"/>
            <a:ext cx="2512440" cy="119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ssible outpu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63D8-D043-4D78-8A19-8EB853415F5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rocess &amp; concurrenc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 fork(vo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 a new process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dentic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parent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turn 0 to child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turn child’s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pi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the parent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scheduling order of processes is possible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less code uses explicit synchron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xt switching can happen at any po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F32D-9426-475E-8C5E-3A2F41FE97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Lab 5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66720" y="990720"/>
            <a:ext cx="84009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iny shell with job control &amp; I/O re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po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p all child proc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 SIGCHLD, SIGTSTP, SIG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void race hazar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B5F0-2001-495E-8394-198515AE02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How to Send Signal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 single proc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 kill(pid_t pid, int si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very process in group abs(gi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 kill(pid_t gid, int sig), where gid is neg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e use signals to count ev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Why? Signals not queued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D9B9-ACF2-461B-A7BD-E1ED10D369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ignals: sending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23760" y="3038400"/>
            <a:ext cx="7372440" cy="281952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5257800"/>
            <a:ext cx="172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438800" y="1333440"/>
            <a:ext cx="2190600" cy="1219320"/>
            <a:chOff x="4438800" y="1333440"/>
            <a:chExt cx="2190600" cy="1219320"/>
          </a:xfrm>
        </p:grpSpPr>
        <p:sp>
          <p:nvSpPr>
            <p:cNvPr id="109" name=""/>
            <p:cNvSpPr/>
            <p:nvPr/>
          </p:nvSpPr>
          <p:spPr>
            <a:xfrm>
              <a:off x="4438800" y="1333440"/>
              <a:ext cx="2190600" cy="1219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4647960" y="2209680"/>
              <a:ext cx="1828440" cy="233640"/>
              <a:chOff x="4647960" y="2209680"/>
              <a:chExt cx="1828440" cy="233640"/>
            </a:xfrm>
          </p:grpSpPr>
          <p:sp>
            <p:nvSpPr>
              <p:cNvPr id="111" name=""/>
              <p:cNvSpPr/>
              <p:nvPr/>
            </p:nvSpPr>
            <p:spPr>
              <a:xfrm>
                <a:off x="4647960" y="2209680"/>
                <a:ext cx="1828440" cy="228600"/>
              </a:xfrm>
              <a:prstGeom prst="rect">
                <a:avLst/>
              </a:prstGeom>
              <a:solidFill>
                <a:srgbClr val="fff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8002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952520" y="2209680"/>
                <a:ext cx="0" cy="23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10480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2574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4097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56200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71464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8669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01920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1718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3241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4647960" y="1905120"/>
              <a:ext cx="1828440" cy="233280"/>
              <a:chOff x="4647960" y="1905120"/>
              <a:chExt cx="1828440" cy="233280"/>
            </a:xfrm>
          </p:grpSpPr>
          <p:sp>
            <p:nvSpPr>
              <p:cNvPr id="124" name=""/>
              <p:cNvSpPr/>
              <p:nvPr/>
            </p:nvSpPr>
            <p:spPr>
              <a:xfrm>
                <a:off x="4647960" y="1905120"/>
                <a:ext cx="1828440" cy="228240"/>
              </a:xfrm>
              <a:prstGeom prst="rect">
                <a:avLst/>
              </a:prstGeom>
              <a:solidFill>
                <a:srgbClr val="fff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002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952520" y="190512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10480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2574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4097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56200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71464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8669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01920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1718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3241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6" name=""/>
          <p:cNvGrpSpPr/>
          <p:nvPr/>
        </p:nvGrpSpPr>
        <p:grpSpPr>
          <a:xfrm>
            <a:off x="6477120" y="1714680"/>
            <a:ext cx="1504800" cy="459720"/>
            <a:chOff x="6477120" y="1714680"/>
            <a:chExt cx="1504800" cy="459720"/>
          </a:xfrm>
        </p:grpSpPr>
        <p:sp>
          <p:nvSpPr>
            <p:cNvPr id="137" name=""/>
            <p:cNvSpPr/>
            <p:nvPr/>
          </p:nvSpPr>
          <p:spPr>
            <a:xfrm>
              <a:off x="6477120" y="19810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62600" y="17146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block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477120" y="2114640"/>
            <a:ext cx="1504800" cy="459720"/>
            <a:chOff x="6477120" y="2114640"/>
            <a:chExt cx="1504800" cy="459720"/>
          </a:xfrm>
        </p:grpSpPr>
        <p:sp>
          <p:nvSpPr>
            <p:cNvPr id="140" name=""/>
            <p:cNvSpPr/>
            <p:nvPr/>
          </p:nvSpPr>
          <p:spPr>
            <a:xfrm>
              <a:off x="6477120" y="2381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62600" y="211464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pend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4886280" y="217008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171440" y="1285920"/>
            <a:ext cx="2238480" cy="1266840"/>
            <a:chOff x="1171440" y="1285920"/>
            <a:chExt cx="2238480" cy="1266840"/>
          </a:xfrm>
        </p:grpSpPr>
        <p:sp>
          <p:nvSpPr>
            <p:cNvPr id="144" name=""/>
            <p:cNvSpPr/>
            <p:nvPr/>
          </p:nvSpPr>
          <p:spPr>
            <a:xfrm>
              <a:off x="1219320" y="1333440"/>
              <a:ext cx="2190600" cy="1219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71440" y="1285920"/>
              <a:ext cx="118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Process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4410000" y="1276200"/>
            <a:ext cx="11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rocess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457440" y="3943080"/>
            <a:ext cx="2266920" cy="1600560"/>
            <a:chOff x="3457440" y="3943080"/>
            <a:chExt cx="2266920" cy="1600560"/>
          </a:xfrm>
        </p:grpSpPr>
        <p:grpSp>
          <p:nvGrpSpPr>
            <p:cNvPr id="148" name=""/>
            <p:cNvGrpSpPr/>
            <p:nvPr/>
          </p:nvGrpSpPr>
          <p:grpSpPr>
            <a:xfrm>
              <a:off x="3457440" y="4667400"/>
              <a:ext cx="2266920" cy="876240"/>
              <a:chOff x="3457440" y="4667400"/>
              <a:chExt cx="2266920" cy="876240"/>
            </a:xfrm>
          </p:grpSpPr>
          <p:sp>
            <p:nvSpPr>
              <p:cNvPr id="149" name=""/>
              <p:cNvSpPr/>
              <p:nvPr/>
            </p:nvSpPr>
            <p:spPr>
              <a:xfrm>
                <a:off x="3457440" y="4667400"/>
                <a:ext cx="2200320" cy="876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476520" y="4800600"/>
                <a:ext cx="2247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99"/>
                    </a:solidFill>
                    <a:latin typeface="Times New Roman"/>
                  </a:rPr>
                  <a:t>other event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 flipV="1">
              <a:off x="4600440" y="3943080"/>
              <a:ext cx="0" cy="72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3514680" y="3352680"/>
            <a:ext cx="250524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81480" y="3409920"/>
            <a:ext cx="27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OS signal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143000" y="1819440"/>
            <a:ext cx="2438280" cy="1724040"/>
            <a:chOff x="1143000" y="1819440"/>
            <a:chExt cx="2438280" cy="1724040"/>
          </a:xfrm>
        </p:grpSpPr>
        <p:sp>
          <p:nvSpPr>
            <p:cNvPr id="155" name=""/>
            <p:cNvSpPr/>
            <p:nvPr/>
          </p:nvSpPr>
          <p:spPr>
            <a:xfrm>
              <a:off x="1143000" y="1819440"/>
              <a:ext cx="243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Courier New"/>
                </a:rPr>
                <a:t>kill(pid, SIGIN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62160" y="2104920"/>
              <a:ext cx="1352520" cy="1438560"/>
            </a:xfrm>
            <a:custGeom>
              <a:avLst/>
              <a:gdLst/>
              <a:ahLst/>
              <a:rect l="l" t="t" r="r" b="b"/>
              <a:pathLst>
                <a:path w="846" h="624">
                  <a:moveTo>
                    <a:pt x="6" y="0"/>
                  </a:moveTo>
                  <a:lnTo>
                    <a:pt x="0" y="624"/>
                  </a:lnTo>
                  <a:lnTo>
                    <a:pt x="846" y="62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 flipV="1">
            <a:off x="4867200" y="2444400"/>
            <a:ext cx="142920" cy="91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62080" y="4000680"/>
            <a:ext cx="2209680" cy="178200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divide by zero: SIGF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ctrl-c: SIG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child process exit: SIGCH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910E-52F5-4AD7-838F-2758FE942C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23760" y="3038400"/>
            <a:ext cx="7372440" cy="281952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14680" y="3352680"/>
            <a:ext cx="250524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ignals: receiving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77120" y="5257800"/>
            <a:ext cx="172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438800" y="1333440"/>
            <a:ext cx="2190600" cy="1219320"/>
            <a:chOff x="4438800" y="1333440"/>
            <a:chExt cx="2190600" cy="1219320"/>
          </a:xfrm>
        </p:grpSpPr>
        <p:sp>
          <p:nvSpPr>
            <p:cNvPr id="164" name=""/>
            <p:cNvSpPr/>
            <p:nvPr/>
          </p:nvSpPr>
          <p:spPr>
            <a:xfrm>
              <a:off x="4438800" y="1333440"/>
              <a:ext cx="2190600" cy="1219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4647960" y="2209680"/>
              <a:ext cx="1828440" cy="233640"/>
              <a:chOff x="4647960" y="2209680"/>
              <a:chExt cx="1828440" cy="233640"/>
            </a:xfrm>
          </p:grpSpPr>
          <p:sp>
            <p:nvSpPr>
              <p:cNvPr id="166" name=""/>
              <p:cNvSpPr/>
              <p:nvPr/>
            </p:nvSpPr>
            <p:spPr>
              <a:xfrm>
                <a:off x="4647960" y="2209680"/>
                <a:ext cx="1828440" cy="228600"/>
              </a:xfrm>
              <a:prstGeom prst="rect">
                <a:avLst/>
              </a:prstGeom>
              <a:solidFill>
                <a:srgbClr val="fff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8002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952520" y="2209680"/>
                <a:ext cx="0" cy="23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10480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2574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4097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56200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71464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8669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01920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1718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3241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647960" y="1905120"/>
              <a:ext cx="1828440" cy="233280"/>
              <a:chOff x="4647960" y="1905120"/>
              <a:chExt cx="1828440" cy="233280"/>
            </a:xfrm>
          </p:grpSpPr>
          <p:sp>
            <p:nvSpPr>
              <p:cNvPr id="179" name=""/>
              <p:cNvSpPr/>
              <p:nvPr/>
            </p:nvSpPr>
            <p:spPr>
              <a:xfrm>
                <a:off x="4647960" y="1905120"/>
                <a:ext cx="1828440" cy="228240"/>
              </a:xfrm>
              <a:prstGeom prst="rect">
                <a:avLst/>
              </a:prstGeom>
              <a:solidFill>
                <a:srgbClr val="ffffe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8002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952520" y="190512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10480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2574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4097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6200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71464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8669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01920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1718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3241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6477120" y="1714680"/>
            <a:ext cx="1504800" cy="459720"/>
            <a:chOff x="6477120" y="1714680"/>
            <a:chExt cx="1504800" cy="459720"/>
          </a:xfrm>
        </p:grpSpPr>
        <p:sp>
          <p:nvSpPr>
            <p:cNvPr id="192" name=""/>
            <p:cNvSpPr/>
            <p:nvPr/>
          </p:nvSpPr>
          <p:spPr>
            <a:xfrm>
              <a:off x="6477120" y="19810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762600" y="17146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block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477120" y="2114640"/>
            <a:ext cx="1504800" cy="459720"/>
            <a:chOff x="6477120" y="2114640"/>
            <a:chExt cx="1504800" cy="459720"/>
          </a:xfrm>
        </p:grpSpPr>
        <p:sp>
          <p:nvSpPr>
            <p:cNvPr id="195" name=""/>
            <p:cNvSpPr/>
            <p:nvPr/>
          </p:nvSpPr>
          <p:spPr>
            <a:xfrm>
              <a:off x="6477120" y="2381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762600" y="211464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pend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4410000" y="1276200"/>
            <a:ext cx="11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rocess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34290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OS signal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1865160"/>
            <a:ext cx="28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09600" y="1305000"/>
            <a:ext cx="3029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 delivers the pending </a:t>
            </a: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non-block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86280" y="217008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867200" y="2444400"/>
            <a:ext cx="142920" cy="91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3321-F4B1-45BB-B8B2-4A1A194C63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Key signals in the shell lab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iggered by: Interrupt signal (ctrl-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ault action: the process termin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TS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iggered by: Stop signal from terminal (ctrl-z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ault action: the process sto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restarted later(by sending SIGCONT to i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CH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iggered by: a child process has stopped or termin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CA17-978B-4933-B8E5-90A0380312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hell: the process tre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50920" y="2622600"/>
            <a:ext cx="982800" cy="885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46560" y="2622600"/>
            <a:ext cx="982800" cy="86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 #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00800" y="2622600"/>
            <a:ext cx="984240" cy="885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 #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51240" y="128124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92200" y="380844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17920" y="380844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058840" y="3444840"/>
            <a:ext cx="182880" cy="37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838600" y="3441600"/>
            <a:ext cx="163440" cy="36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46600" y="2060640"/>
            <a:ext cx="0" cy="55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921040" y="1968480"/>
            <a:ext cx="1481040" cy="8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121360" y="1928880"/>
            <a:ext cx="1412640" cy="83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357720" y="135396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2516040"/>
            <a:ext cx="2519280" cy="2648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42600" y="521028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Fore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process group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130640" y="2516040"/>
            <a:ext cx="1176480" cy="1086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61720" y="359568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process group 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71680" y="3602160"/>
            <a:ext cx="18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ackgro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process group 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297480" y="2516040"/>
            <a:ext cx="1176480" cy="1086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46240" y="269712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59600" y="274320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426440" y="274320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92480" y="455292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35480" y="4562640"/>
            <a:ext cx="103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=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60120" y="4937040"/>
            <a:ext cx="5514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job has a unique process group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etpgid(pid_t pid, pid_t pgi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pgid(0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4E56-8320-4FA4-B1C5-88623A3F83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7:54:32Z</dcterms:created>
  <dc:creator>Minglong Shao</dc:creator>
  <dc:description/>
  <dc:language>en-US</dc:language>
  <cp:lastModifiedBy>SCS</cp:lastModifiedBy>
  <cp:lastPrinted>2006-03-20T10:10:04Z</cp:lastPrinted>
  <dcterms:modified xsi:type="dcterms:W3CDTF">2006-03-21T00:49:38Z</dcterms:modified>
  <cp:revision>337</cp:revision>
  <dc:subject/>
  <dc:title>Recitation 5</dc:title>
</cp:coreProperties>
</file>