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2D19-B00F-446B-B66A-6847405DA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A1A6-5D99-481C-A035-3FE20AAB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C597-2749-444A-8F4E-ECAD1C075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824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068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79DA-A087-4E44-9FCA-2CE71DE45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3832-E302-4110-9D8C-E03927513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F977-30B3-449D-AEB6-B518A716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7073-1377-4686-965D-6D5877D4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4420-678E-41EB-A676-7DB0F2EF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08B9-DB3E-446D-BBFA-3BD2EAE3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3E41-5093-4BF0-B675-87AF4481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4DAB-AFF9-48C2-8D19-6E4AB0FB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C6A6-765B-4A38-98EB-DEB475AC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C5F0-0D45-4A3D-8D6E-5C4ACC7A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DF72-D726-498C-976D-1E878118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6A4A-D32B-4664-977D-C6E35D3A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BFC4-EC4C-48C4-8023-E13C30163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6824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5068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2515-295F-453B-B430-9F9ADAFBB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9499-2370-4C8E-9B7C-29072B24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9B97-538C-4B42-8CC6-C461B8F7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0E19-EDF8-43C9-99C7-26263CE8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E8FF-41D0-4ADF-8D82-18BDD320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D39C-2F9C-48B9-89C2-C8A0DF08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1828-A3B8-495E-A643-8467E750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5416-0960-412E-9265-0286B27E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4197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857160"/>
            <a:ext cx="8583840" cy="0"/>
          </a:xfrm>
          <a:prstGeom prst="line">
            <a:avLst/>
          </a:prstGeom>
          <a:ln w="190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D33C-80FF-4166-89B7-4909921CD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44197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529A-FF51-41A9-9AA5-D105040505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ecitation #8, Section F, 15-213, Sp 06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3560" y="1244160"/>
            <a:ext cx="379584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emi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z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La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e Next Thurs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960" y="1368000"/>
            <a:ext cx="4267080" cy="46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: Jernej Barb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from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un Gao’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glong Shao’s recitation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ing 2005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l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1371600"/>
            <a:ext cx="0" cy="449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67EC-70E3-4FE7-B9E7-AF4435084B0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rocess tree for tsh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50920" y="3459240"/>
            <a:ext cx="982800" cy="885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46560" y="3459240"/>
            <a:ext cx="982800" cy="863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 #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400800" y="3459240"/>
            <a:ext cx="984240" cy="885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 #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251240" y="2133720"/>
            <a:ext cx="984240" cy="77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492200" y="4645080"/>
            <a:ext cx="984240" cy="77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17920" y="4645080"/>
            <a:ext cx="984240" cy="77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058840" y="4281480"/>
            <a:ext cx="182880" cy="36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38600" y="4278240"/>
            <a:ext cx="163440" cy="36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746600" y="2913120"/>
            <a:ext cx="0" cy="55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921040" y="2820960"/>
            <a:ext cx="1481040" cy="80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360" y="2781360"/>
            <a:ext cx="1412640" cy="83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332520" y="198108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143000" y="3352680"/>
            <a:ext cx="2519280" cy="2648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42600" y="6046920"/>
            <a:ext cx="18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Fore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process group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130640" y="3352680"/>
            <a:ext cx="1176480" cy="1086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61720" y="4432320"/>
            <a:ext cx="18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process group 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971680" y="4438800"/>
            <a:ext cx="18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ackgro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process group 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297480" y="3352680"/>
            <a:ext cx="1176480" cy="1086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49480" y="353376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59600" y="357984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426440" y="357984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95720" y="538956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38720" y="539892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53040" y="942840"/>
            <a:ext cx="984240" cy="776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408480" y="1015920"/>
            <a:ext cx="91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"/>
          <p:cNvCxnSpPr>
            <a:stCxn id="254" idx="4"/>
            <a:endCxn id="234" idx="0"/>
          </p:cNvCxnSpPr>
          <p:nvPr/>
        </p:nvCxnSpPr>
        <p:spPr>
          <a:xfrm flipH="1">
            <a:off x="4742640" y="1719000"/>
            <a:ext cx="2520" cy="41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 rot="20220600">
            <a:off x="5180040" y="2209680"/>
            <a:ext cx="619200" cy="133560"/>
          </a:xfrm>
          <a:prstGeom prst="leftArrow">
            <a:avLst>
              <a:gd name="adj1" fmla="val 50000"/>
              <a:gd name="adj2" fmla="val 11590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1735920"/>
            <a:ext cx="320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Foreground jo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receives SIGINT, SIGTSTP, when you type ctrl-c, ctrl-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3047760" y="2895480"/>
            <a:ext cx="99036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rot="19782000">
            <a:off x="2594520" y="281880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orward sig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0880" y="5159520"/>
            <a:ext cx="47541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kill(pid_t pid, int si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&gt; 0: send sig to process with PID=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0: send sig to all processes in my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-1: send sig to all processes with PID&gt;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pid &lt; -1: send sig to group abs(p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58CD-BF32-42AB-B2F1-962ABF993C9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ecute program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execve(const char *fnam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const argv[]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const envp[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ecve(“/bin/ls”, NULL, NUL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ecve(“./mytest”, argv, envp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" y="3200400"/>
            <a:ext cx="82296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s to the caller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effectively termin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w program overwrites its st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akes its P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signal handlers installed by the caller are re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32D5-4E63-46F0-923A-386810ACB6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eaping terminated child process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d_t waitpid(pid_t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*statu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option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d&gt;0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process with PID=p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1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wait for any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d&lt;-1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any process from group abs(p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default, waitpid blocks until at least one zombie process becomes avail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p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NOHAN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immediately if no zombie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UNTRACED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return if some process has been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NOHANG|WUNTRAC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 is very useful in the shell lab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detects all the necessary events, and doesn’t block if no ‘’events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F3CA-C7F6-4C28-9F62-9FC12923B0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eaping terminated child process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d_t waitpid(pid_t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*statu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option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d&gt;0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process with PID=p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1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wait for any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d&lt;-1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any process from group abs(p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val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d of the process that exite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zero if WNOHANG  was  used and no zombie process availab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-1 on error (then see err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u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s info on why the process terminated (or stopped if WUNTRACED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51C1-697D-4483-B4C0-22CD652289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tatu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tatu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aitpid(pid, &amp;status, WNOHANG|WUNTRAC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ros to evaluate stat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WIFEXITED(status):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 exited norm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WEXITSTATUS(status):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t code of the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WIFSIGNALED(status)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 exited because a signal was not caught (SIGINT, SIGKILL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WTERMSIG(status)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es the signal that was not cau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WIFSTOPPED(status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ces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as stopp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WSTOPSIG(status)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es the stopping sig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2514600"/>
            <a:ext cx="76320" cy="457200"/>
          </a:xfrm>
          <a:custGeom>
            <a:avLst/>
            <a:gdLst>
              <a:gd name="textAreaLeft" fmla="*/ 48960 w 76320"/>
              <a:gd name="textAreaRight" fmla="*/ 7632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362916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4943520"/>
            <a:ext cx="76320" cy="457200"/>
          </a:xfrm>
          <a:custGeom>
            <a:avLst/>
            <a:gdLst>
              <a:gd name="textAreaLeft" fmla="*/ 48960 w 76320"/>
              <a:gd name="textAreaRight" fmla="*/ 7632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4A9F-B8A2-4AAF-97C3-AB95BDF282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eaping child process in tsh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to pu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aitpid(…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the handout suggest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centralized reaping for both fg and b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sigchld_handler(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6946-8F9F-4DFF-8920-CDADC33212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Busy wait for foreground job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sh should still wait for fg job to complete, 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n appropriate place i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val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fg process still aliv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/* do nothing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60D6-3ED6-4D60-8973-8E15D55924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Better than simple busy-waiting: Sleep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n appropriate place i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val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fg process still aliv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leep(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CA3F-3CFD-4A2A-843D-557E811F25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ace hazard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ata structure is shared by two pieces of code that can run concurr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behaviors of program depending upon how the schedule interleaves the execution of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00F0-176D-4879-97A0-6B90EC2B64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An example of a race hazard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gchld_handler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aitpid(…)) …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tejob(pi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val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d = for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id ==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/* child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ecve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/* signal handler may run BEFORE addjob()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job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C043-99A0-4C48-B8F6-7D6A1932B4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rocess IDs &amp; process group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cess has its own, unique process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pid_t getpid(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cess belongs to exactly one proces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pid_t getpgrp(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w process belongs to which process gro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s parent’s process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new process group for myself and my child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setpgid(0, 0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9969-57AE-49C9-A41D-80AB91900D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olution: blocking signal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val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igprocmask(SIG_BLOCK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d = for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id ==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/* child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igprocmask(SIG_UNBLOCK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ecve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/* signal handler might run BEFORE addjob()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job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igprocmask(SIG_UNBLOCK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5B81-4286-4B76-9006-0B03F94DAA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Courier New"/>
              </a:rPr>
              <a:t>I/O Redirectio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ed in Chapter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file descriptor ‘newfd’ a copy of ‘oldfd’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up2(int oldfd, int newfd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input from my_infd instead of standard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up2(my_infd, STDIN_FILENO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copy of a file descriptor (standard output in this case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 my_outfd = dup(STDOUT_FILENO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ED15-0380-49EF-9CB3-BF74FB828F4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eminder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important system ca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k(), execve(), waitpid(), sigprocmask(), setpgid(), kill()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man  pages for details about 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n 2 kil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return values of all 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sh output buffers: fflush(stdout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TEP by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st your shell by typing commands fir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tart now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D090-7870-4486-BC7B-471C4B2943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What are the possible program outputs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911160"/>
            <a:ext cx="6019560" cy="448308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include &lt;unistd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cn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main(vo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fork() == 0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nt ++; // in 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nt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nt 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%d", cn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873760" y="4648320"/>
            <a:ext cx="2512440" cy="119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ssible outpu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D3B0-0CE0-4EB6-8EAA-CEA9FECEF1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rocess &amp; concurrenc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 fork(vo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 a new process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dentic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parent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turn 0 to child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turn child’s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pi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the parent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scheduling order of processes is possible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less code uses explicit synchron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xt switching can happen at any po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9ABF-3925-4287-968F-DEC59E42AA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Lab 5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66720" y="990720"/>
            <a:ext cx="8400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iny shell with job control &amp; I/O re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po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p all child proc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 SIGCHLD, SIGTSTP, SIG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void race haza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F032-0F6E-4765-9CAB-4DB164A717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How to Send Signal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 single proc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 kill(pid_t pid, int si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very process in group abs(gi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 kill(pid_t gid, int sig), where gid is neg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use signals to count ev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Why? Signals not queued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FA1C-E4FB-4376-9600-AB903890E4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ignals: sending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23760" y="3038400"/>
            <a:ext cx="7372440" cy="281952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5257800"/>
            <a:ext cx="172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438800" y="1333440"/>
            <a:ext cx="2190600" cy="1219320"/>
            <a:chOff x="4438800" y="1333440"/>
            <a:chExt cx="2190600" cy="1219320"/>
          </a:xfrm>
        </p:grpSpPr>
        <p:sp>
          <p:nvSpPr>
            <p:cNvPr id="109" name=""/>
            <p:cNvSpPr/>
            <p:nvPr/>
          </p:nvSpPr>
          <p:spPr>
            <a:xfrm>
              <a:off x="4438800" y="1333440"/>
              <a:ext cx="2190600" cy="1219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4647960" y="2209680"/>
              <a:ext cx="1828440" cy="233640"/>
              <a:chOff x="4647960" y="2209680"/>
              <a:chExt cx="1828440" cy="233640"/>
            </a:xfrm>
          </p:grpSpPr>
          <p:sp>
            <p:nvSpPr>
              <p:cNvPr id="111" name=""/>
              <p:cNvSpPr/>
              <p:nvPr/>
            </p:nvSpPr>
            <p:spPr>
              <a:xfrm>
                <a:off x="4647960" y="2209680"/>
                <a:ext cx="1828440" cy="228600"/>
              </a:xfrm>
              <a:prstGeom prst="rect">
                <a:avLst/>
              </a:prstGeom>
              <a:solidFill>
                <a:srgbClr val="fff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80024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952520" y="2209680"/>
                <a:ext cx="0" cy="23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10480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25744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40972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56200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71464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86692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01920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17184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32412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4647960" y="1905120"/>
              <a:ext cx="1828440" cy="233280"/>
              <a:chOff x="4647960" y="1905120"/>
              <a:chExt cx="1828440" cy="233280"/>
            </a:xfrm>
          </p:grpSpPr>
          <p:sp>
            <p:nvSpPr>
              <p:cNvPr id="124" name=""/>
              <p:cNvSpPr/>
              <p:nvPr/>
            </p:nvSpPr>
            <p:spPr>
              <a:xfrm>
                <a:off x="4647960" y="1905120"/>
                <a:ext cx="1828440" cy="228240"/>
              </a:xfrm>
              <a:prstGeom prst="rect">
                <a:avLst/>
              </a:prstGeom>
              <a:solidFill>
                <a:srgbClr val="fff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0024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952520" y="190512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10480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25744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40972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56200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71464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86692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01920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17184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32412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6" name=""/>
          <p:cNvGrpSpPr/>
          <p:nvPr/>
        </p:nvGrpSpPr>
        <p:grpSpPr>
          <a:xfrm>
            <a:off x="6477120" y="1714680"/>
            <a:ext cx="1504800" cy="459720"/>
            <a:chOff x="6477120" y="1714680"/>
            <a:chExt cx="1504800" cy="459720"/>
          </a:xfrm>
        </p:grpSpPr>
        <p:sp>
          <p:nvSpPr>
            <p:cNvPr id="137" name=""/>
            <p:cNvSpPr/>
            <p:nvPr/>
          </p:nvSpPr>
          <p:spPr>
            <a:xfrm>
              <a:off x="6477120" y="19810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62600" y="17146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block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477120" y="2114640"/>
            <a:ext cx="1504800" cy="459720"/>
            <a:chOff x="6477120" y="2114640"/>
            <a:chExt cx="1504800" cy="459720"/>
          </a:xfrm>
        </p:grpSpPr>
        <p:sp>
          <p:nvSpPr>
            <p:cNvPr id="140" name=""/>
            <p:cNvSpPr/>
            <p:nvPr/>
          </p:nvSpPr>
          <p:spPr>
            <a:xfrm>
              <a:off x="6477120" y="2381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62600" y="211464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pend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4886280" y="217008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171440" y="1285920"/>
            <a:ext cx="2238480" cy="1266840"/>
            <a:chOff x="1171440" y="1285920"/>
            <a:chExt cx="2238480" cy="1266840"/>
          </a:xfrm>
        </p:grpSpPr>
        <p:sp>
          <p:nvSpPr>
            <p:cNvPr id="144" name=""/>
            <p:cNvSpPr/>
            <p:nvPr/>
          </p:nvSpPr>
          <p:spPr>
            <a:xfrm>
              <a:off x="1219320" y="1333440"/>
              <a:ext cx="2190600" cy="1219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71440" y="1285920"/>
              <a:ext cx="118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Process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4410000" y="1276200"/>
            <a:ext cx="11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rocess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457440" y="3943080"/>
            <a:ext cx="2266920" cy="1600560"/>
            <a:chOff x="3457440" y="3943080"/>
            <a:chExt cx="2266920" cy="1600560"/>
          </a:xfrm>
        </p:grpSpPr>
        <p:grpSp>
          <p:nvGrpSpPr>
            <p:cNvPr id="148" name=""/>
            <p:cNvGrpSpPr/>
            <p:nvPr/>
          </p:nvGrpSpPr>
          <p:grpSpPr>
            <a:xfrm>
              <a:off x="3457440" y="4667400"/>
              <a:ext cx="2266920" cy="876240"/>
              <a:chOff x="3457440" y="4667400"/>
              <a:chExt cx="2266920" cy="876240"/>
            </a:xfrm>
          </p:grpSpPr>
          <p:sp>
            <p:nvSpPr>
              <p:cNvPr id="149" name=""/>
              <p:cNvSpPr/>
              <p:nvPr/>
            </p:nvSpPr>
            <p:spPr>
              <a:xfrm>
                <a:off x="3457440" y="4667400"/>
                <a:ext cx="2200320" cy="876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476520" y="4800600"/>
                <a:ext cx="2247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99"/>
                    </a:solidFill>
                    <a:latin typeface="Times New Roman"/>
                  </a:rPr>
                  <a:t>other event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 flipV="1">
              <a:off x="4600440" y="3943080"/>
              <a:ext cx="0" cy="72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3514680" y="3352680"/>
            <a:ext cx="250524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81480" y="3409920"/>
            <a:ext cx="27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OS signal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143000" y="1819440"/>
            <a:ext cx="2438280" cy="1724040"/>
            <a:chOff x="1143000" y="1819440"/>
            <a:chExt cx="2438280" cy="1724040"/>
          </a:xfrm>
        </p:grpSpPr>
        <p:sp>
          <p:nvSpPr>
            <p:cNvPr id="155" name=""/>
            <p:cNvSpPr/>
            <p:nvPr/>
          </p:nvSpPr>
          <p:spPr>
            <a:xfrm>
              <a:off x="1143000" y="1819440"/>
              <a:ext cx="243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Courier New"/>
                </a:rPr>
                <a:t>kill(pid, SIGIN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62160" y="2104920"/>
              <a:ext cx="1352520" cy="1438560"/>
            </a:xfrm>
            <a:custGeom>
              <a:avLst/>
              <a:gdLst/>
              <a:ahLst/>
              <a:rect l="l" t="t" r="r" b="b"/>
              <a:pathLst>
                <a:path w="846" h="624">
                  <a:moveTo>
                    <a:pt x="6" y="0"/>
                  </a:moveTo>
                  <a:lnTo>
                    <a:pt x="0" y="624"/>
                  </a:lnTo>
                  <a:lnTo>
                    <a:pt x="846" y="62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 flipV="1">
            <a:off x="4867200" y="2444400"/>
            <a:ext cx="142920" cy="91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62080" y="4000680"/>
            <a:ext cx="2209680" cy="178200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divide by zero: SIGF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ctrl-c: SIG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child process exit: SIGCH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18E3-C483-417E-90D9-8B656E91ED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23760" y="3038400"/>
            <a:ext cx="7372440" cy="281952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14680" y="3352680"/>
            <a:ext cx="250524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ignals: receiving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77120" y="5257800"/>
            <a:ext cx="172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438800" y="1333440"/>
            <a:ext cx="2190600" cy="1219320"/>
            <a:chOff x="4438800" y="1333440"/>
            <a:chExt cx="2190600" cy="1219320"/>
          </a:xfrm>
        </p:grpSpPr>
        <p:sp>
          <p:nvSpPr>
            <p:cNvPr id="164" name=""/>
            <p:cNvSpPr/>
            <p:nvPr/>
          </p:nvSpPr>
          <p:spPr>
            <a:xfrm>
              <a:off x="4438800" y="1333440"/>
              <a:ext cx="2190600" cy="1219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4647960" y="2209680"/>
              <a:ext cx="1828440" cy="233640"/>
              <a:chOff x="4647960" y="2209680"/>
              <a:chExt cx="1828440" cy="233640"/>
            </a:xfrm>
          </p:grpSpPr>
          <p:sp>
            <p:nvSpPr>
              <p:cNvPr id="166" name=""/>
              <p:cNvSpPr/>
              <p:nvPr/>
            </p:nvSpPr>
            <p:spPr>
              <a:xfrm>
                <a:off x="4647960" y="2209680"/>
                <a:ext cx="1828440" cy="228600"/>
              </a:xfrm>
              <a:prstGeom prst="rect">
                <a:avLst/>
              </a:prstGeom>
              <a:solidFill>
                <a:srgbClr val="fff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80024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952520" y="2209680"/>
                <a:ext cx="0" cy="23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10480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25744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40972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56200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71464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86692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01920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17184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32412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647960" y="1905120"/>
              <a:ext cx="1828440" cy="233280"/>
              <a:chOff x="4647960" y="1905120"/>
              <a:chExt cx="1828440" cy="233280"/>
            </a:xfrm>
          </p:grpSpPr>
          <p:sp>
            <p:nvSpPr>
              <p:cNvPr id="179" name=""/>
              <p:cNvSpPr/>
              <p:nvPr/>
            </p:nvSpPr>
            <p:spPr>
              <a:xfrm>
                <a:off x="4647960" y="1905120"/>
                <a:ext cx="1828440" cy="228240"/>
              </a:xfrm>
              <a:prstGeom prst="rect">
                <a:avLst/>
              </a:prstGeom>
              <a:solidFill>
                <a:srgbClr val="fff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80024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952520" y="190512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10480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25744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40972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56200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71464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86692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01920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17184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32412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6477120" y="1714680"/>
            <a:ext cx="1504800" cy="459720"/>
            <a:chOff x="6477120" y="1714680"/>
            <a:chExt cx="1504800" cy="459720"/>
          </a:xfrm>
        </p:grpSpPr>
        <p:sp>
          <p:nvSpPr>
            <p:cNvPr id="192" name=""/>
            <p:cNvSpPr/>
            <p:nvPr/>
          </p:nvSpPr>
          <p:spPr>
            <a:xfrm>
              <a:off x="6477120" y="19810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762600" y="17146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block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477120" y="2114640"/>
            <a:ext cx="1504800" cy="459720"/>
            <a:chOff x="6477120" y="2114640"/>
            <a:chExt cx="1504800" cy="459720"/>
          </a:xfrm>
        </p:grpSpPr>
        <p:sp>
          <p:nvSpPr>
            <p:cNvPr id="195" name=""/>
            <p:cNvSpPr/>
            <p:nvPr/>
          </p:nvSpPr>
          <p:spPr>
            <a:xfrm>
              <a:off x="6477120" y="2381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762600" y="211464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pend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4410000" y="1276200"/>
            <a:ext cx="11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rocess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34290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OS signal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1865160"/>
            <a:ext cx="28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09600" y="1305000"/>
            <a:ext cx="3029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 delivers the pending </a:t>
            </a: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non-block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86280" y="217008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867200" y="2444400"/>
            <a:ext cx="142920" cy="91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C363-8B6E-4963-9049-9B81E87993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Key signals in the shell lab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iggered by: Interrupt signal (ctrl-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ault action: the process termin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TS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iggered by: Stop signal from terminal (ctrl-z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ault action: the process sto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restarted later(by sending SIGCONT to i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CH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iggered by: a child process has stopped or termin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60E6-0BFB-4A8D-B573-538C1221F0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hell: the process tre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50920" y="2622600"/>
            <a:ext cx="982800" cy="885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46560" y="2622600"/>
            <a:ext cx="982800" cy="863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 #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00800" y="2622600"/>
            <a:ext cx="984240" cy="885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 #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51240" y="1281240"/>
            <a:ext cx="984240" cy="77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92200" y="3808440"/>
            <a:ext cx="984240" cy="77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17920" y="3808440"/>
            <a:ext cx="984240" cy="77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058840" y="3444840"/>
            <a:ext cx="182880" cy="37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838600" y="3441600"/>
            <a:ext cx="163440" cy="36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46600" y="2060640"/>
            <a:ext cx="0" cy="55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921040" y="1968480"/>
            <a:ext cx="1481040" cy="80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121360" y="1928880"/>
            <a:ext cx="1412640" cy="83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357720" y="135396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2516040"/>
            <a:ext cx="2519280" cy="2648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42600" y="5210280"/>
            <a:ext cx="18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Fore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process group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130640" y="2516040"/>
            <a:ext cx="1176480" cy="1086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61720" y="3595680"/>
            <a:ext cx="18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process group 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71680" y="3602160"/>
            <a:ext cx="18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ackgro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process group 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297480" y="2516040"/>
            <a:ext cx="1176480" cy="1086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46240" y="269712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259600" y="274320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426440" y="274320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392480" y="455292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35480" y="456264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60120" y="4937040"/>
            <a:ext cx="5514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job has a unique process group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etpgid(pid_t pid, pid_t pgi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pgid(0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9599-68BC-4855-AC7F-C8BC803200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7:54:32Z</dcterms:created>
  <dc:creator>Minglong Shao</dc:creator>
  <dc:description/>
  <dc:language>en-US</dc:language>
  <cp:lastModifiedBy>SCS</cp:lastModifiedBy>
  <cp:lastPrinted>2006-03-20T10:10:04Z</cp:lastPrinted>
  <dcterms:modified xsi:type="dcterms:W3CDTF">2006-03-21T00:49:38Z</dcterms:modified>
  <cp:revision>337</cp:revision>
  <dc:subject/>
  <dc:title>Recitation 5</dc:title>
</cp:coreProperties>
</file>