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4FA-6B6D-4D8E-A8E2-7468824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E1F-A49D-4DD5-99E2-4F916BC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C7F-A8D3-406B-AEBB-BEB5015C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5CA-3AD3-41E3-B238-F12786B2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DC-329B-436D-AEA1-358BBE7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4A2-CA13-42FB-A5DE-497E297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B2A-372B-45E3-9620-0BE9A4E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0D5-2A84-46B2-A3EF-7F268E9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B47-A5D4-44B9-AF46-42A647F2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3FB-4197-48F9-8B8D-FE10C21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BF3-4B64-4EC6-B825-FD6E3E6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707-F9A1-4F46-8526-6C9CE01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9C79-1ECB-4EA2-9B49-37BEB774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#2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-213 Section 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ing 2006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rnej Barb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 decis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520" y="4073400"/>
            <a:ext cx="1501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0480" y="2814480"/>
            <a:ext cx="27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(-1)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1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0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54960" y="5369040"/>
            <a:ext cx="16588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all 1’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0" y="4338720"/>
            <a:ext cx="15782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M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65280" y="3271320"/>
            <a:ext cx="949320" cy="79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61960" y="4502160"/>
            <a:ext cx="758880" cy="84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92560" y="4655880"/>
            <a:ext cx="6858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360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9520" y="44910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4320" y="45910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94640" y="3616200"/>
            <a:ext cx="1331280" cy="42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s==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49720" y="3970080"/>
            <a:ext cx="75744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96480" y="23194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2480" y="4110120"/>
            <a:ext cx="48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22080" y="494820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N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4754520"/>
            <a:ext cx="65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58000" y="3347640"/>
            <a:ext cx="68580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56480" y="4060800"/>
            <a:ext cx="787320" cy="27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86280"/>
            <a:ext cx="701640" cy="7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9240" y="6359400"/>
            <a:ext cx="26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</a:t>
            </a:r>
            <a:r>
              <a:rPr b="0" lang="en-US" sz="1800" spc="-1" strike="noStrike">
                <a:solidFill>
                  <a:srgbClr val="5f3f1f"/>
                </a:solidFill>
                <a:latin typeface="Arial"/>
              </a:rPr>
              <a:t>(-1)</a:t>
            </a:r>
            <a:r>
              <a:rPr b="0" lang="en-US" sz="18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e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1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990720"/>
          <a:ext cx="767844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784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972520" y="6091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16160" y="311940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312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5600" y="2967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920" y="4948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6440" y="41860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233600">
            <a:off x="1071000" y="3348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956200">
            <a:off x="1058760" y="48819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47760" y="21337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77120" y="2057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0574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040" y="5902200"/>
            <a:ext cx="523800" cy="489240"/>
            <a:chOff x="5486040" y="5902200"/>
            <a:chExt cx="523800" cy="489240"/>
          </a:xfrm>
        </p:grpSpPr>
        <p:sp>
          <p:nvSpPr>
            <p:cNvPr id="128" name=""/>
            <p:cNvSpPr/>
            <p:nvPr/>
          </p:nvSpPr>
          <p:spPr>
            <a:xfrm rot="5400000">
              <a:off x="5676480" y="6058080"/>
              <a:ext cx="142920" cy="5238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3880" y="590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62160" y="2362320"/>
            <a:ext cx="523800" cy="488520"/>
            <a:chOff x="3962160" y="2362320"/>
            <a:chExt cx="523800" cy="488520"/>
          </a:xfrm>
        </p:grpSpPr>
        <p:sp>
          <p:nvSpPr>
            <p:cNvPr id="131" name=""/>
            <p:cNvSpPr/>
            <p:nvPr/>
          </p:nvSpPr>
          <p:spPr>
            <a:xfrm rot="5400000">
              <a:off x="4152600" y="2517480"/>
              <a:ext cx="142560" cy="5238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000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= 1.0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0, e = -2 + Bias = 125, M = 0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= 3E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809880"/>
          <a:ext cx="792504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792504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/8 = -1.1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-1 + Bias = 12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1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BF60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7 = -1.000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4 + Bias = 13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00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C188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 =(int) 0x00354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.0 =(float) 0x4A550C8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rrelation in bit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we also have 3490593.0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: s=0, e=21+Bias=148, M=c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286000"/>
          <a:ext cx="800100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001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352680" y="2209680"/>
            <a:ext cx="5257800" cy="1219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7440" y="34416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95880" y="5643720"/>
            <a:ext cx="10476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0320" y="6172200"/>
            <a:ext cx="17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(c)=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.0 =(float) 0x4A550C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2209680"/>
          <a:ext cx="79250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9250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09480" y="4495680"/>
          <a:ext cx="8001000" cy="18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95680"/>
                    <a:ext cx="800100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5480" y="4648320"/>
            <a:ext cx="518184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518148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934320" y="3124080"/>
            <a:ext cx="380880" cy="13716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0" y="35053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qual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tst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cod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ind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long sequences of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ource file should hav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h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brief comment at the beginning of each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black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ok, open notes, closed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: today at 4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: 3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start it by tomorrow 11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: all material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lose your browser while taking the qu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problems, please email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unsigned integ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78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00400" y="3124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200400" y="426708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26708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99072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213372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13372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0880" y="3429000"/>
            <a:ext cx="8458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LE2BE(unsigned 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resul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&lt; 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lt;&lt; 8) &amp; (0xFF &lt;&lt; 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8) &amp; (0xFF &lt;&lt; 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24) &amp; 0x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62160" y="1981080"/>
            <a:ext cx="2819160" cy="53352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1640" y="1905120"/>
            <a:ext cx="114300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990360" cy="5331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981080"/>
            <a:ext cx="2895480" cy="457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9625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bs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ign = x &gt;&gt; 3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makes either all one or al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eg_x = ~x + 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computes –x (2’s complement) </a:t>
            </a:r>
            <a:r>
              <a:rPr b="0" lang="en-US" sz="2400" spc="-1" strike="noStrike">
                <a:solidFill>
                  <a:srgbClr val="ff470d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sign &amp; neg_x) | (~sign &amp; x)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if-then-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’s complement: gener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981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42720" y="2062080"/>
            <a:ext cx="24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-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3657600"/>
          <a:ext cx="403848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760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17160" y="3809880"/>
            <a:ext cx="9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6920" y="2209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3886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’s complement: som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1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7FFFFFFF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larg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F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E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0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small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1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9880" y="1295280"/>
          <a:ext cx="449604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44960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137160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0" y="5029200"/>
            <a:ext cx="908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7440" y="5334120"/>
            <a:ext cx="29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1, n=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057400"/>
          <a:ext cx="8610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7720" y="411480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xponent boundary is NOT aligned with byte bound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0xFF7FFFFF has lowest exponent bit zero (is normalized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01:53:43Z</dcterms:created>
  <dc:creator>Jernej Barbic</dc:creator>
  <dc:description/>
  <dc:language>en-US</dc:language>
  <cp:lastModifiedBy>SCS</cp:lastModifiedBy>
  <dcterms:modified xsi:type="dcterms:W3CDTF">2006-01-31T01:01:23Z</dcterms:modified>
  <cp:revision>229</cp:revision>
  <dc:subject/>
  <dc:title>15-213 Section F Spring 06</dc:title>
</cp:coreProperties>
</file>