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5587-579B-447D-BFCB-EA05BD61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420-F9F3-48B8-8E26-DD1FB871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877-3718-436F-992A-EB2D74B4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0E5-EBFD-4D84-B322-C6D7C544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B50-4138-46DA-8B31-19000C4F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E5D-5A9E-4188-B4AF-9046CD84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76CF-9937-47DE-B020-E1FA5F07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19E-B842-4CE1-B9C2-8A77BB07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456-E6A5-4ED0-9FE0-200FFB9F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BF37-8B38-4B4F-A723-C68C33E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8BE-E904-4091-9518-52A103B8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4A6A-3B7C-4AB2-87FB-EAC0CB94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E8A1-DB76-4A89-A723-8FB6FFC58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itation #2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-213 Section 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ring 2006</a:t>
            </a:r>
            <a:br>
              <a:rPr sz="3600"/>
            </a:b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rnej Barbi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ating point decis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2520" y="4073400"/>
            <a:ext cx="150192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 == 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90480" y="2814480"/>
            <a:ext cx="276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x = (-1)</a:t>
            </a:r>
            <a:r>
              <a:rPr b="0" lang="en-US" sz="2200" spc="-1" strike="noStrike" baseline="30000">
                <a:solidFill>
                  <a:srgbClr val="5f3f1f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 * 2</a:t>
            </a:r>
            <a:r>
              <a:rPr b="0" lang="en-US" sz="2200" spc="-1" strike="noStrike" baseline="30000">
                <a:solidFill>
                  <a:srgbClr val="5f3f1f"/>
                </a:solidFill>
                <a:latin typeface="Arial"/>
              </a:rPr>
              <a:t>1-Bias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 * 0.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54960" y="5369040"/>
            <a:ext cx="165888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e all 1’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6400" y="4338720"/>
            <a:ext cx="157824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M == 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565280" y="3271320"/>
            <a:ext cx="949320" cy="79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61960" y="4502160"/>
            <a:ext cx="758880" cy="84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292560" y="4655880"/>
            <a:ext cx="6858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3600" y="36529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9520" y="44910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74320" y="45910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94640" y="3616200"/>
            <a:ext cx="1331280" cy="429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s==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049720" y="3970080"/>
            <a:ext cx="757440" cy="376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96480" y="23194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2480" y="4110120"/>
            <a:ext cx="48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5f3f1f"/>
                </a:solidFill>
                <a:latin typeface="Symbol"/>
                <a:ea typeface="Symbol"/>
              </a:rPr>
              <a:t>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22080" y="494820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N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1280" y="4754520"/>
            <a:ext cx="652320" cy="34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858000" y="3347640"/>
            <a:ext cx="685800" cy="260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56480" y="4060800"/>
            <a:ext cx="787320" cy="27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5786280"/>
            <a:ext cx="701640" cy="77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79240" y="6359400"/>
            <a:ext cx="262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x = </a:t>
            </a:r>
            <a:r>
              <a:rPr b="0" lang="en-US" sz="1800" spc="-1" strike="noStrike">
                <a:solidFill>
                  <a:srgbClr val="5f3f1f"/>
                </a:solidFill>
                <a:latin typeface="Arial"/>
              </a:rPr>
              <a:t>(-1)</a:t>
            </a:r>
            <a:r>
              <a:rPr b="0" lang="en-US" sz="1800" spc="-1" strike="noStrike" baseline="30000">
                <a:solidFill>
                  <a:srgbClr val="5f3f1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5f3f1f"/>
                </a:solidFill>
                <a:latin typeface="Arial"/>
              </a:rPr>
              <a:t>e-Bias</a:t>
            </a: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 * 1.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990720"/>
          <a:ext cx="7678440" cy="17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76784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972520" y="60912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16160" y="3119400"/>
            <a:ext cx="554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3f1f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5f3f1f"/>
                </a:solidFill>
                <a:latin typeface="Symbol"/>
                <a:ea typeface="Symbol"/>
              </a:rPr>
              <a:t>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3120" y="36529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55600" y="2967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9920" y="494820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6440" y="418608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9233600">
            <a:off x="1071000" y="334800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470d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956200">
            <a:off x="1058760" y="48819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470d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47760" y="21337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s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477120" y="2057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2057400"/>
            <a:ext cx="266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486040" y="5902200"/>
            <a:ext cx="523800" cy="489240"/>
            <a:chOff x="5486040" y="5902200"/>
            <a:chExt cx="523800" cy="489240"/>
          </a:xfrm>
        </p:grpSpPr>
        <p:sp>
          <p:nvSpPr>
            <p:cNvPr id="128" name=""/>
            <p:cNvSpPr/>
            <p:nvPr/>
          </p:nvSpPr>
          <p:spPr>
            <a:xfrm rot="5400000">
              <a:off x="5676480" y="6058080"/>
              <a:ext cx="142920" cy="52380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3320 h 523800"/>
                <a:gd name="textAreaBottom" fmla="*/ 51048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73880" y="5902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962160" y="2362320"/>
            <a:ext cx="523800" cy="488520"/>
            <a:chOff x="3962160" y="2362320"/>
            <a:chExt cx="523800" cy="488520"/>
          </a:xfrm>
        </p:grpSpPr>
        <p:sp>
          <p:nvSpPr>
            <p:cNvPr id="131" name=""/>
            <p:cNvSpPr/>
            <p:nvPr/>
          </p:nvSpPr>
          <p:spPr>
            <a:xfrm rot="5400000">
              <a:off x="4152600" y="2517480"/>
              <a:ext cx="142560" cy="52380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3320 h 523800"/>
                <a:gd name="textAreaBottom" fmla="*/ 510480 h 52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5000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cc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4 = 1.0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0, e = -2 + Bias = 125, M = 0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= 3E8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3809880"/>
          <a:ext cx="792504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9880"/>
                    <a:ext cx="792504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7/8 = -1.11 x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-1 + Bias = 12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1100…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= 0xBF600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7 = -1.0001 x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4 + Bias = 13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000100…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= 0xC18800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as signed int vs f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90593 =(int) 0x003543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90593.0 =(float) 0x4A550C8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rrelation in bit patt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as signed int vs f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 =(int) 0x354321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 =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1.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we also have 3490593.0 =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1.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: s=0, e=21+Bias=148, M=c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09480" y="2286000"/>
          <a:ext cx="8001000" cy="13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800100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352680" y="2209680"/>
            <a:ext cx="5257800" cy="1219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7440" y="344160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095880" y="5643720"/>
            <a:ext cx="10476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60320" y="6172200"/>
            <a:ext cx="174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th(c)=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ger as signed int vs fl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 =(int) 0x354321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90593.0 =(float) 0x4A550C8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09480" y="2209680"/>
          <a:ext cx="792504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92504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609480" y="4495680"/>
          <a:ext cx="8001000" cy="18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495680"/>
                    <a:ext cx="8001000" cy="18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895480" y="4648320"/>
            <a:ext cx="5181840" cy="685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362320"/>
            <a:ext cx="5181480" cy="6858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934320" y="3124080"/>
            <a:ext cx="380880" cy="1371600"/>
          </a:xfrm>
          <a:prstGeom prst="line">
            <a:avLst/>
          </a:prstGeom>
          <a:ln w="19080">
            <a:solidFill>
              <a:srgbClr val="0000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4000" y="350532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equal </a:t>
            </a:r>
            <a:br>
              <a:rPr sz="2200"/>
            </a:b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bitstr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cod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 ind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long sequences of comman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ource file should have a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hea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brief comment at the beginning of each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: black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book, open notes, closed compu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: today at 4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tion: 3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start it by tomorrow 11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ers: all material so f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close your browser while taking the qu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problems, please email prof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tle Endian to Big End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-bit unsigned integer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3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178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200400" y="3124080"/>
          <a:ext cx="40384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12408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200400" y="4267080"/>
          <a:ext cx="40384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267080"/>
                    <a:ext cx="40384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tle Endian to Big E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ndi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00400" y="990720"/>
          <a:ext cx="40384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9072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200400" y="2133720"/>
          <a:ext cx="40384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2133720"/>
                    <a:ext cx="40384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380880" y="3429000"/>
            <a:ext cx="84582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igned int LE2BE(unsigned in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igned int result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&lt;&lt; 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&lt;&lt; 8) &amp; (0xFF &lt;&lt; 1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&gt;&gt; 8) &amp; (0xFF &lt;&lt; 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&gt;&gt; 24) &amp; 0x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962160" y="1981080"/>
            <a:ext cx="2819160" cy="53352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71640" y="1905120"/>
            <a:ext cx="1143000" cy="60948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05120"/>
            <a:ext cx="990360" cy="53316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33920" y="1981080"/>
            <a:ext cx="2895480" cy="457200"/>
          </a:xfrm>
          <a:prstGeom prst="line">
            <a:avLst/>
          </a:prstGeom>
          <a:ln w="2556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048120" cy="22100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840" y="2209680"/>
            <a:ext cx="459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condition &amp; expression1) |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condition &amp; expression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480" y="15238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1523880"/>
            <a:ext cx="4876920" cy="19814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048120" cy="22100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-then-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048120" cy="2210040"/>
          </a:xfrm>
          <a:prstGeom prst="rect">
            <a:avLst/>
          </a:prstGeom>
          <a:noFill/>
          <a:ln w="255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cond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ression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2209680"/>
            <a:ext cx="459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condition &amp; expression1) |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~condition &amp; expression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480" y="1523880"/>
            <a:ext cx="221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1523880"/>
            <a:ext cx="4876920" cy="198144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9625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abs(int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sign = x &gt;&gt; 31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/ makes either all one or all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eg_x = ~x + 1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/ computes –x (2’s complement) </a:t>
            </a:r>
            <a:r>
              <a:rPr b="0" lang="en-US" sz="2400" spc="-1" strike="noStrike">
                <a:solidFill>
                  <a:srgbClr val="ff470d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(sign &amp; neg_x) | (~sign &amp; x);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// if-then-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’s complement: general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981080"/>
          <a:ext cx="403848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5742720" y="2062080"/>
            <a:ext cx="24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-2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3657600"/>
          <a:ext cx="403848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657600"/>
                    <a:ext cx="403848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717160" y="3809880"/>
            <a:ext cx="9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6920" y="2209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6920" y="3886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’s complement: some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1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7FFFFFFF =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// largest 32-bit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FFFFFFFF =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FFFFFFFE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800000000 = 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1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// smallest 32-bit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x800000001 = 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809880" y="1295280"/>
          <a:ext cx="449604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295280"/>
                    <a:ext cx="449604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080" y="1371600"/>
            <a:ext cx="28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pr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0" y="5029200"/>
            <a:ext cx="908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7440" y="5334120"/>
            <a:ext cx="293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preci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11, n=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920" y="2057400"/>
          <a:ext cx="861048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61048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17720" y="4114800"/>
            <a:ext cx="89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exponent boundary is NOT aligned with byte bounda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0xFF7FFFFF has lowest exponent bit zero (is normalized 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01:53:43Z</dcterms:created>
  <dc:creator>Jernej Barbic</dc:creator>
  <dc:description/>
  <dc:language>en-US</dc:language>
  <cp:lastModifiedBy>SCS</cp:lastModifiedBy>
  <dcterms:modified xsi:type="dcterms:W3CDTF">2006-01-31T01:01:23Z</dcterms:modified>
  <cp:revision>229</cp:revision>
  <dc:subject/>
  <dc:title>15-213 Section F Spring 06</dc:title>
</cp:coreProperties>
</file>