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B8DF-B3FC-4F30-BCC8-FE7EFB2C1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0520" y="402156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07A9-1810-49CD-B11A-1562D0811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47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9DD9-041A-41BE-BDE8-69193E569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960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32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052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960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32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A65A-2341-461D-B616-DAEC3993D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C778-7AB4-4C2F-9904-127A92F2F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47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0520" y="402156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47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960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320" y="137124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052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960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320" y="4021560"/>
            <a:ext cx="2674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C8FB-F84E-4497-93CF-92FA32AA0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1182-87EA-4C6A-9A9B-3C893E1F7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A409-14EB-4D37-8081-8880A9860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76E1-34C6-481C-8AF0-44FCE1E57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B9BE-CB07-440C-9B4B-16CCCAF7C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47520" y="402156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876A-F66C-40EF-B32B-B98872A1C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47520" y="1371240"/>
            <a:ext cx="40539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0520" y="4021560"/>
            <a:ext cx="830736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5647-3F5F-4188-917A-5FC6B1708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10240"/>
            <a:ext cx="9142560" cy="34632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50000">
                <a:srgbClr val="667bbf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503280" cy="6856560"/>
          </a:xfrm>
          <a:prstGeom prst="rect">
            <a:avLst/>
          </a:prstGeom>
          <a:gradFill rotWithShape="0">
            <a:gsLst>
              <a:gs pos="0">
                <a:srgbClr val="667bbf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93000"/>
              </a:lnSpc>
              <a:spcBef>
                <a:spcPts val="1500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38320">
              <a:lnSpc>
                <a:spcPct val="93000"/>
              </a:lnSpc>
              <a:spcBef>
                <a:spcPts val="1500"/>
              </a:spcBef>
              <a:buClr>
                <a:srgbClr val="00ff64"/>
              </a:buClr>
              <a:buSzPct val="68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31840" indent="-228600">
              <a:lnSpc>
                <a:spcPct val="93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451240" indent="-228600">
              <a:lnSpc>
                <a:spcPct val="93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451240" indent="-228600">
              <a:lnSpc>
                <a:spcPct val="93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451240" indent="-228600">
              <a:lnSpc>
                <a:spcPct val="93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123920"/>
          </a:xfrm>
          <a:prstGeom prst="rect">
            <a:avLst/>
          </a:prstGeom>
          <a:gradFill rotWithShape="0">
            <a:gsLst>
              <a:gs pos="0">
                <a:srgbClr val="667bbf"/>
              </a:gs>
              <a:gs pos="50000">
                <a:srgbClr val="002396"/>
              </a:gs>
              <a:gs pos="100000">
                <a:srgbClr val="667b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615520" y="1440"/>
            <a:ext cx="527040" cy="6504120"/>
            <a:chOff x="8615520" y="1440"/>
            <a:chExt cx="527040" cy="6504120"/>
          </a:xfrm>
        </p:grpSpPr>
        <p:sp>
          <p:nvSpPr>
            <p:cNvPr id="5" name=""/>
            <p:cNvSpPr/>
            <p:nvPr/>
          </p:nvSpPr>
          <p:spPr>
            <a:xfrm>
              <a:off x="8615520" y="1109520"/>
              <a:ext cx="527040" cy="5396040"/>
            </a:xfrm>
            <a:prstGeom prst="rect">
              <a:avLst/>
            </a:prstGeom>
            <a:gradFill rotWithShape="0">
              <a:gsLst>
                <a:gs pos="0">
                  <a:srgbClr val="002396"/>
                </a:gs>
                <a:gs pos="100000">
                  <a:srgbClr val="667b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16960" y="1440"/>
              <a:ext cx="525600" cy="1122480"/>
            </a:xfrm>
            <a:prstGeom prst="rect">
              <a:avLst/>
            </a:prstGeom>
            <a:gradFill rotWithShape="0">
              <a:gsLst>
                <a:gs pos="0">
                  <a:srgbClr val="002396"/>
                </a:gs>
                <a:gs pos="100000">
                  <a:srgbClr val="667b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0C57-A893-418C-B181-B0BB502F8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98612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50000">
                <a:srgbClr val="7e90c9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3520" y="0"/>
            <a:ext cx="689040" cy="6858000"/>
          </a:xfrm>
          <a:prstGeom prst="rect">
            <a:avLst/>
          </a:prstGeom>
          <a:gradFill rotWithShape="0">
            <a:gsLst>
              <a:gs pos="0">
                <a:srgbClr val="7e90c9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66720" cy="685656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100000">
                <a:srgbClr val="7e90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400" y="6168960"/>
            <a:ext cx="7844040" cy="689040"/>
          </a:xfrm>
          <a:prstGeom prst="rect">
            <a:avLst/>
          </a:prstGeom>
          <a:gradFill rotWithShape="0">
            <a:gsLst>
              <a:gs pos="0">
                <a:srgbClr val="002396"/>
              </a:gs>
              <a:gs pos="50000">
                <a:srgbClr val="7e90c9"/>
              </a:gs>
              <a:gs pos="100000">
                <a:srgbClr val="0023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00ff64"/>
              </a:buClr>
              <a:buSzPct val="68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45720" rIns="4572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e100"/>
                </a:solidFill>
                <a:latin typeface="Arial"/>
              </a:rPr>
              <a:t>Using Cutwidth to Improve </a:t>
            </a:r>
            <a:br>
              <a:rPr sz="3000"/>
            </a:br>
            <a:r>
              <a:rPr b="1" lang="en-US" sz="3000" spc="-1" strike="noStrike">
                <a:solidFill>
                  <a:srgbClr val="e1e100"/>
                </a:solidFill>
                <a:latin typeface="Arial"/>
              </a:rPr>
              <a:t>Symbolic Simulation &amp; SAT</a:t>
            </a:r>
            <a:endParaRPr b="1" lang="en-US" sz="30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g Wang     Edmund Clark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negie Mellon Univ.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620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unshan Zhu    James Kuk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opsys In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AT based on Cutwidt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practical problems have logarithmic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y is ATPG easy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sad, Chong and Keutzer, DAC99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PLL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s-Putnam-Logemann-Lovel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SAT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n be bounded exponentially by the cutwid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ied SAT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ate a static ordering with small cutwid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is ordering to pick decision variabl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conflict happe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38320">
              <a:lnSpc>
                <a:spcPct val="87000"/>
              </a:lnSpc>
              <a:spcBef>
                <a:spcPts val="249"/>
              </a:spcBef>
              <a:buClr>
                <a:srgbClr val="00ff64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che the assignments to variables above the current decision variable in the ord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3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BE72-54FA-4364-AE6C-AC44E480C210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AT Complexity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90520" y="426708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 a set of clauses S and a variable ordering L, the time complexity of the cutwidth based DPLL is O(n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, where n is the length of S and w is the cutwidth of S under 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2800" y="1219320"/>
            <a:ext cx="830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lict cl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41520" y="1905120"/>
            <a:ext cx="4264200" cy="1966680"/>
            <a:chOff x="2441520" y="1905120"/>
            <a:chExt cx="4264200" cy="1966680"/>
          </a:xfrm>
        </p:grpSpPr>
        <p:sp>
          <p:nvSpPr>
            <p:cNvPr id="336" name=""/>
            <p:cNvSpPr/>
            <p:nvPr/>
          </p:nvSpPr>
          <p:spPr>
            <a:xfrm>
              <a:off x="4267080" y="3276720"/>
              <a:ext cx="824040" cy="230040"/>
            </a:xfrm>
            <a:custGeom>
              <a:avLst/>
              <a:gdLst/>
              <a:ahLst/>
              <a:rect l="l" t="t" r="r" b="b"/>
              <a:pathLst>
                <a:path w="624" h="192">
                  <a:moveTo>
                    <a:pt x="0" y="0"/>
                  </a:moveTo>
                  <a:lnTo>
                    <a:pt x="144" y="192"/>
                  </a:lnTo>
                  <a:lnTo>
                    <a:pt x="624" y="192"/>
                  </a:lnTo>
                  <a:lnTo>
                    <a:pt x="624" y="0"/>
                  </a:lnTo>
                </a:path>
              </a:pathLst>
            </a:custGeom>
            <a:noFill/>
            <a:ln w="19080">
              <a:solidFill>
                <a:srgbClr val="e1e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94240" y="3274920"/>
              <a:ext cx="1309680" cy="23040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192"/>
                  </a:moveTo>
                  <a:lnTo>
                    <a:pt x="1248" y="192"/>
                  </a:lnTo>
                  <a:lnTo>
                    <a:pt x="1248" y="0"/>
                  </a:lnTo>
                </a:path>
              </a:pathLst>
            </a:custGeom>
            <a:noFill/>
            <a:ln w="19080">
              <a:solidFill>
                <a:srgbClr val="e1e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2616120" y="2590560"/>
              <a:ext cx="1692000" cy="604440"/>
              <a:chOff x="2616120" y="2590560"/>
              <a:chExt cx="1692000" cy="604440"/>
            </a:xfrm>
          </p:grpSpPr>
          <p:sp>
            <p:nvSpPr>
              <p:cNvPr id="339" name=""/>
              <p:cNvSpPr/>
              <p:nvPr/>
            </p:nvSpPr>
            <p:spPr>
              <a:xfrm>
                <a:off x="2616120" y="2590920"/>
                <a:ext cx="1692000" cy="453960"/>
              </a:xfrm>
              <a:custGeom>
                <a:avLst/>
                <a:gdLst/>
                <a:ahLst/>
                <a:rect l="l" t="t" r="r" b="b"/>
                <a:pathLst>
                  <a:path w="1872" h="384">
                    <a:moveTo>
                      <a:pt x="0" y="384"/>
                    </a:moveTo>
                    <a:lnTo>
                      <a:pt x="0" y="0"/>
                    </a:lnTo>
                    <a:lnTo>
                      <a:pt x="1872" y="0"/>
                    </a:lnTo>
                    <a:lnTo>
                      <a:pt x="1872" y="38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484440" y="2590560"/>
                <a:ext cx="1440" cy="604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484440" y="2895480"/>
              <a:ext cx="768600" cy="1684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240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576" y="240"/>
                  </a:ln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51240" y="3063960"/>
              <a:ext cx="231840" cy="277560"/>
            </a:xfrm>
            <a:prstGeom prst="ellipse">
              <a:avLst/>
            </a:prstGeom>
            <a:solidFill>
              <a:srgbClr val="dc0a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2680" y="29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67280" y="3063960"/>
              <a:ext cx="231840" cy="277560"/>
            </a:xfrm>
            <a:prstGeom prst="ellipse">
              <a:avLst/>
            </a:prstGeom>
            <a:solidFill>
              <a:srgbClr val="dc0a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68720" y="29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5520" y="3063960"/>
              <a:ext cx="231840" cy="277560"/>
            </a:xfrm>
            <a:prstGeom prst="ellipse">
              <a:avLst/>
            </a:prstGeom>
            <a:solidFill>
              <a:srgbClr val="dc0a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96960" y="29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75280" y="3063960"/>
              <a:ext cx="231480" cy="277560"/>
            </a:xfrm>
            <a:prstGeom prst="ellipse">
              <a:avLst/>
            </a:prstGeom>
            <a:solidFill>
              <a:srgbClr val="dc0a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76720" y="29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81520" y="3063960"/>
              <a:ext cx="231840" cy="277560"/>
            </a:xfrm>
            <a:prstGeom prst="ellipse">
              <a:avLst/>
            </a:prstGeom>
            <a:solidFill>
              <a:srgbClr val="dc0a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45160" y="29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43440" y="22096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1520" y="35035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ign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67120" y="2819520"/>
              <a:ext cx="152280" cy="1522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86200" y="2514600"/>
              <a:ext cx="152280" cy="1522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1905120"/>
              <a:ext cx="22100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signments to ca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038480" y="23623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38480" y="2362320"/>
              <a:ext cx="457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05240" y="2590920"/>
              <a:ext cx="800280" cy="457200"/>
            </a:xfrm>
            <a:custGeom>
              <a:avLst/>
              <a:gdLst/>
              <a:ahLst/>
              <a:rect l="l" t="t" r="r" b="b"/>
              <a:pathLst>
                <a:path w="1872" h="384">
                  <a:moveTo>
                    <a:pt x="0" y="384"/>
                  </a:moveTo>
                  <a:lnTo>
                    <a:pt x="0" y="0"/>
                  </a:lnTo>
                  <a:lnTo>
                    <a:pt x="1872" y="0"/>
                  </a:lnTo>
                  <a:lnTo>
                    <a:pt x="1872" y="38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5AA9-1CA6-4E7F-A0F7-01E4271FE1F4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Ordering Algorithm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830736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um cut linear arrangement is NP-comple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ion using divide and conqu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nimal edge separator using hMet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erminal propagation to reduce wire leng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s well for undirected hypergra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d to generate ordering for CNF formu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40384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523880" y="4419720"/>
            <a:ext cx="5181480" cy="1447560"/>
            <a:chOff x="1523880" y="4419720"/>
            <a:chExt cx="5181480" cy="1447560"/>
          </a:xfrm>
        </p:grpSpPr>
        <p:sp>
          <p:nvSpPr>
            <p:cNvPr id="364" name=""/>
            <p:cNvSpPr/>
            <p:nvPr/>
          </p:nvSpPr>
          <p:spPr>
            <a:xfrm>
              <a:off x="1523880" y="4545360"/>
              <a:ext cx="1960560" cy="1132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534920" y="4849560"/>
              <a:ext cx="2170440" cy="639360"/>
              <a:chOff x="4534920" y="4849560"/>
              <a:chExt cx="2170440" cy="639360"/>
            </a:xfrm>
          </p:grpSpPr>
          <p:sp>
            <p:nvSpPr>
              <p:cNvPr id="366" name=""/>
              <p:cNvSpPr/>
              <p:nvPr/>
            </p:nvSpPr>
            <p:spPr>
              <a:xfrm>
                <a:off x="4534920" y="4860000"/>
                <a:ext cx="910080" cy="628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95280" y="4860000"/>
                <a:ext cx="910080" cy="628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75160" y="4849560"/>
                <a:ext cx="630000" cy="136440"/>
              </a:xfrm>
              <a:custGeom>
                <a:avLst/>
                <a:gdLst/>
                <a:ahLst/>
                <a:rect l="l" t="t" r="r" b="b"/>
                <a:pathLst>
                  <a:path w="432" h="104">
                    <a:moveTo>
                      <a:pt x="0" y="104"/>
                    </a:moveTo>
                    <a:cubicBezTo>
                      <a:pt x="60" y="60"/>
                      <a:pt x="120" y="16"/>
                      <a:pt x="192" y="8"/>
                    </a:cubicBezTo>
                    <a:cubicBezTo>
                      <a:pt x="264" y="0"/>
                      <a:pt x="392" y="48"/>
                      <a:pt x="432" y="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75160" y="5300280"/>
                <a:ext cx="489960" cy="136440"/>
              </a:xfrm>
              <a:custGeom>
                <a:avLst/>
                <a:gdLst/>
                <a:ahLst/>
                <a:rect l="l" t="t" r="r" b="b"/>
                <a:pathLst>
                  <a:path w="336" h="104">
                    <a:moveTo>
                      <a:pt x="0" y="0"/>
                    </a:moveTo>
                    <a:cubicBezTo>
                      <a:pt x="44" y="44"/>
                      <a:pt x="88" y="88"/>
                      <a:pt x="144" y="96"/>
                    </a:cubicBezTo>
                    <a:cubicBezTo>
                      <a:pt x="200" y="104"/>
                      <a:pt x="268" y="76"/>
                      <a:pt x="336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45000" y="5174640"/>
                <a:ext cx="34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955040" y="4419720"/>
              <a:ext cx="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34360" y="5048640"/>
              <a:ext cx="350280" cy="188640"/>
            </a:xfrm>
            <a:prstGeom prst="rightArrow">
              <a:avLst>
                <a:gd name="adj1" fmla="val 50000"/>
                <a:gd name="adj2" fmla="val 4642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339D-339C-4A4F-AF04-9CCF13CC25DD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Ordering for Directed Hypergrap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8307360" cy="234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same divide and conquer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8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s to get directed part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7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ymbolic simulation, the partitions for pseudo-primary input/outputs are fix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7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 easy fix, not optim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38320">
              <a:lnSpc>
                <a:spcPct val="77000"/>
              </a:lnSpc>
              <a:spcBef>
                <a:spcPts val="249"/>
              </a:spcBef>
              <a:buClr>
                <a:srgbClr val="00ff64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each bipartition, move vertices in partition 1 to partition 0, if at least one of its input is in partition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4267080"/>
            <a:ext cx="2819520" cy="1676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295280" y="3657600"/>
            <a:ext cx="2819520" cy="2590920"/>
            <a:chOff x="1295280" y="3657600"/>
            <a:chExt cx="2819520" cy="2590920"/>
          </a:xfrm>
        </p:grpSpPr>
        <p:grpSp>
          <p:nvGrpSpPr>
            <p:cNvPr id="377" name=""/>
            <p:cNvGrpSpPr/>
            <p:nvPr/>
          </p:nvGrpSpPr>
          <p:grpSpPr>
            <a:xfrm>
              <a:off x="1295280" y="3657600"/>
              <a:ext cx="2819520" cy="2590920"/>
              <a:chOff x="1295280" y="3657600"/>
              <a:chExt cx="2819520" cy="2590920"/>
            </a:xfrm>
          </p:grpSpPr>
          <p:sp>
            <p:nvSpPr>
              <p:cNvPr id="378" name=""/>
              <p:cNvSpPr/>
              <p:nvPr/>
            </p:nvSpPr>
            <p:spPr>
              <a:xfrm>
                <a:off x="1295280" y="4267080"/>
                <a:ext cx="281952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66880" y="3657600"/>
                <a:ext cx="0" cy="25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8120" y="5334120"/>
                <a:ext cx="30456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441972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57400" y="487692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057400" y="541008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48120" y="4876920"/>
                <a:ext cx="30456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1904760" y="5029200"/>
                <a:ext cx="686160" cy="487080"/>
                <a:chOff x="1904760" y="5029200"/>
                <a:chExt cx="686160" cy="48708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1904760" y="502920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1905120" y="5029200"/>
                  <a:ext cx="685800" cy="487080"/>
                  <a:chOff x="1905120" y="5029200"/>
                  <a:chExt cx="685800" cy="4870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2362320" y="551628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905120" y="50292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905120" y="5257800"/>
                    <a:ext cx="6858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590920" y="5257800"/>
                    <a:ext cx="0" cy="24588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1752120" y="4495680"/>
                <a:ext cx="1905480" cy="1219320"/>
                <a:chOff x="1752120" y="4495680"/>
                <a:chExt cx="1905480" cy="121932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1752120" y="4495680"/>
                  <a:ext cx="304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752480" y="4951440"/>
                  <a:ext cx="304920" cy="77760"/>
                </a:xfrm>
                <a:custGeom>
                  <a:avLst/>
                  <a:gdLst/>
                  <a:ahLst/>
                  <a:rect l="l" t="t" r="r" b="b"/>
                  <a:pathLst>
                    <a:path w="336" h="1">
                      <a:moveTo>
                        <a:pt x="0" y="0"/>
                      </a:moveTo>
                      <a:cubicBezTo>
                        <a:pt x="0" y="0"/>
                        <a:pt x="168" y="0"/>
                        <a:pt x="336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52480" y="4952880"/>
                  <a:ext cx="0" cy="533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52480" y="5486400"/>
                  <a:ext cx="304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752480" y="4495680"/>
                  <a:ext cx="0" cy="457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352680" y="5486400"/>
                  <a:ext cx="304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657600" y="5486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1752480" y="5715000"/>
                  <a:ext cx="19051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752480" y="5486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1904760" y="4618080"/>
              <a:ext cx="1143360" cy="334800"/>
              <a:chOff x="1904760" y="4618080"/>
              <a:chExt cx="1143360" cy="334800"/>
            </a:xfrm>
          </p:grpSpPr>
          <p:sp>
            <p:nvSpPr>
              <p:cNvPr id="403" name=""/>
              <p:cNvSpPr/>
              <p:nvPr/>
            </p:nvSpPr>
            <p:spPr>
              <a:xfrm>
                <a:off x="2362320" y="4952880"/>
                <a:ext cx="685800" cy="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1904760" y="4618080"/>
                <a:ext cx="686160" cy="182520"/>
                <a:chOff x="1904760" y="4618080"/>
                <a:chExt cx="686160" cy="18252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1904760" y="4618080"/>
                  <a:ext cx="15228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905120" y="4618080"/>
                  <a:ext cx="0" cy="18252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905120" y="4800600"/>
                  <a:ext cx="68580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2590920" y="4813200"/>
                <a:ext cx="0" cy="13644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4419720" y="3657600"/>
            <a:ext cx="2819160" cy="2590920"/>
            <a:chOff x="4419720" y="3657600"/>
            <a:chExt cx="2819160" cy="2590920"/>
          </a:xfrm>
        </p:grpSpPr>
        <p:grpSp>
          <p:nvGrpSpPr>
            <p:cNvPr id="410" name=""/>
            <p:cNvGrpSpPr/>
            <p:nvPr/>
          </p:nvGrpSpPr>
          <p:grpSpPr>
            <a:xfrm>
              <a:off x="4419720" y="3657600"/>
              <a:ext cx="2819160" cy="2590920"/>
              <a:chOff x="4419720" y="3657600"/>
              <a:chExt cx="2819160" cy="2590920"/>
            </a:xfrm>
          </p:grpSpPr>
          <p:sp>
            <p:nvSpPr>
              <p:cNvPr id="411" name=""/>
              <p:cNvSpPr/>
              <p:nvPr/>
            </p:nvSpPr>
            <p:spPr>
              <a:xfrm>
                <a:off x="6553080" y="3657600"/>
                <a:ext cx="0" cy="25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57800" y="487692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43600" y="441972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43600" y="487692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43600" y="5410080"/>
                <a:ext cx="30492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4876920"/>
                <a:ext cx="304560" cy="228600"/>
              </a:xfrm>
              <a:prstGeom prst="flowChartDelay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790960" y="5029200"/>
                <a:ext cx="686160" cy="487080"/>
                <a:chOff x="5790960" y="5029200"/>
                <a:chExt cx="686160" cy="48708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5790960" y="502920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5791320" y="5029200"/>
                  <a:ext cx="685800" cy="487080"/>
                  <a:chOff x="5791320" y="5029200"/>
                  <a:chExt cx="685800" cy="4870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248520" y="551628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91320" y="50292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791320" y="5257800"/>
                    <a:ext cx="6858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477120" y="5257800"/>
                    <a:ext cx="0" cy="24588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 flipH="1">
                <a:off x="5714640" y="449568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62720" y="4951440"/>
                <a:ext cx="380880" cy="77760"/>
              </a:xfrm>
              <a:custGeom>
                <a:avLst/>
                <a:gdLst/>
                <a:ahLst/>
                <a:rect l="l" t="t" r="r" b="b"/>
                <a:pathLst>
                  <a:path w="336" h="1">
                    <a:moveTo>
                      <a:pt x="0" y="0"/>
                    </a:moveTo>
                    <a:cubicBezTo>
                      <a:pt x="0" y="0"/>
                      <a:pt x="168" y="0"/>
                      <a:pt x="336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15000" y="4952880"/>
                <a:ext cx="0" cy="533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15000" y="548640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715000" y="449568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9720" y="5029200"/>
                <a:ext cx="457200" cy="22860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790960" y="4618080"/>
              <a:ext cx="1143360" cy="334800"/>
              <a:chOff x="5790960" y="4618080"/>
              <a:chExt cx="1143360" cy="334800"/>
            </a:xfrm>
          </p:grpSpPr>
          <p:sp>
            <p:nvSpPr>
              <p:cNvPr id="431" name=""/>
              <p:cNvSpPr/>
              <p:nvPr/>
            </p:nvSpPr>
            <p:spPr>
              <a:xfrm>
                <a:off x="6248520" y="4952880"/>
                <a:ext cx="685800" cy="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5790960" y="4618080"/>
                <a:ext cx="686160" cy="182520"/>
                <a:chOff x="5790960" y="4618080"/>
                <a:chExt cx="686160" cy="182520"/>
              </a:xfrm>
            </p:grpSpPr>
            <p:sp>
              <p:nvSpPr>
                <p:cNvPr id="433" name=""/>
                <p:cNvSpPr/>
                <p:nvPr/>
              </p:nvSpPr>
              <p:spPr>
                <a:xfrm flipH="1">
                  <a:off x="5790960" y="4618080"/>
                  <a:ext cx="15228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91320" y="4618080"/>
                  <a:ext cx="0" cy="18252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91320" y="4800600"/>
                  <a:ext cx="68580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6477120" y="4813200"/>
                <a:ext cx="0" cy="13644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CBF3-7A30-41B1-A7B0-01424F0163E9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AT Experiments 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rdering program is based on hMet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twidth based SAT algorithm is implemented on top of fgrasp (cutsa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MACS benchmark set is u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,000 seconds time limit on 360MHz Su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 SAT problems from Superscalar Suite 1.0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opt heuristics to choose the decision 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38320">
              <a:lnSpc>
                <a:spcPct val="87000"/>
              </a:lnSpc>
              <a:spcBef>
                <a:spcPts val="249"/>
              </a:spcBef>
              <a:buClr>
                <a:srgbClr val="00ff64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lue a variable used for the last tim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DBAC-08F8-4519-87BD-2FB5704EC69E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838080" y="1676520"/>
          <a:ext cx="6858000" cy="44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685800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6960" y="2286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DIMACS Benchmark 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7A7D-3164-4841-BB07-5421F4105A33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uperscalar Benchmark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074600" y="2292480"/>
          <a:ext cx="6774120" cy="28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292480"/>
                    <a:ext cx="677412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6B8C-E8FB-40F3-B92F-7582349E1723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ymbolic Simulation Experiments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UDD 2.3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AS93 circuits are used (31 nontrivial on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,000 seconds time limit and 900M memory li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cutwidth based simulation (cutsim) with BFS and DFS sim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mprovements on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FS is 1.6 times smaller than BF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tsim is 3.2 times smaller than DF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D043-984B-4D0C-87A0-A8BF98459E0F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ymbolic Simulation Results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cutsim with DFS for run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 circuits: slightly wor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 circuits: slightly bett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4 circuits: 2-10 times improve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 circuits: over an order of magnitude fast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improvements for cuts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 BFS: 4.5 in time, 2.6 in spa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 DFS: 3.9 in time, 2.4 in spa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ample of the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lnSpc>
                <a:spcPct val="87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62120" y="5105520"/>
          <a:ext cx="7315200" cy="143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31520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DAD6-2901-473F-A78B-0E44F77C9DEA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Related Work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nd BDD size by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. Berman, 199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en McMillan, 199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fication schedu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on &amp; Somenzi, 200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auhan &amp; Clarke et al., 200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 and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24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vid FERNANDEZ-BACA, 198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24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sad, Chong &amp; Keutzer, 199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24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sted, Biere &amp; Zhu, 200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24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oul, Markov &amp; Sakallah, 200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0F9F-153C-48A1-90D8-F96E3E35A3E4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Outline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gorithms based on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mbolic simu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A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ing algorith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al 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7FE2-3A6D-48C7-A4A3-1F266D65B40F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Conclusion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 cutwidth to CNF formulae and circu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cutwidth to measure the complex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ign efficient ordering algorith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a SAT algorithm based on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monstrate efficiency on two set of benchmar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cutwidth to predict the perform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symbolic simulation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es the memory complex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s big improvements for ISCAS circui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A35C-C843-4C90-BFF4-CECEFDBD8D55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Future Work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 the ordering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gorithm for directed hypergrap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aster approximation algorith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 on other SAT solv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 static ordering with dynamic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cutwidth heuristics in quantification scheduling for image compu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4BD8-76F5-40B4-87A9-F45FC325EA22}" type="slidenum">
              <a:t>21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Hypergraph Cutwidt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35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 a hypergraph G(V, E) and a linear ordering L for the vert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der vertices according to 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ch edge covers a ran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twidth under L is the maximal number of overlapping ed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-cut ordering has the minimal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5028840"/>
            <a:ext cx="3180960" cy="838440"/>
            <a:chOff x="838080" y="5028840"/>
            <a:chExt cx="3180960" cy="838440"/>
          </a:xfrm>
        </p:grpSpPr>
        <p:grpSp>
          <p:nvGrpSpPr>
            <p:cNvPr id="95" name=""/>
            <p:cNvGrpSpPr/>
            <p:nvPr/>
          </p:nvGrpSpPr>
          <p:grpSpPr>
            <a:xfrm>
              <a:off x="1711440" y="5587920"/>
              <a:ext cx="2100240" cy="279360"/>
              <a:chOff x="1711440" y="5587920"/>
              <a:chExt cx="2100240" cy="279360"/>
            </a:xfrm>
          </p:grpSpPr>
          <p:sp>
            <p:nvSpPr>
              <p:cNvPr id="96" name=""/>
              <p:cNvSpPr/>
              <p:nvPr/>
            </p:nvSpPr>
            <p:spPr>
              <a:xfrm>
                <a:off x="1711440" y="5587920"/>
                <a:ext cx="699840" cy="279360"/>
              </a:xfrm>
              <a:custGeom>
                <a:avLst/>
                <a:gdLst/>
                <a:ahLst/>
                <a:rect l="l" t="t" r="r" b="b"/>
                <a:pathLst>
                  <a:path w="624" h="192">
                    <a:moveTo>
                      <a:pt x="0" y="0"/>
                    </a:moveTo>
                    <a:lnTo>
                      <a:pt x="144" y="192"/>
                    </a:lnTo>
                    <a:lnTo>
                      <a:pt x="624" y="192"/>
                    </a:lnTo>
                    <a:lnTo>
                      <a:pt x="624" y="0"/>
                    </a:lnTo>
                  </a:path>
                </a:pathLst>
              </a:custGeom>
              <a:noFill/>
              <a:ln w="19080">
                <a:solidFill>
                  <a:srgbClr val="e1e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11640" y="5587920"/>
                <a:ext cx="1400040" cy="279360"/>
              </a:xfrm>
              <a:custGeom>
                <a:avLst/>
                <a:gdLst/>
                <a:ahLst/>
                <a:rect l="l" t="t" r="r" b="b"/>
                <a:pathLst>
                  <a:path w="1248" h="192">
                    <a:moveTo>
                      <a:pt x="0" y="192"/>
                    </a:moveTo>
                    <a:lnTo>
                      <a:pt x="1248" y="192"/>
                    </a:lnTo>
                    <a:lnTo>
                      <a:pt x="1248" y="0"/>
                    </a:lnTo>
                  </a:path>
                </a:pathLst>
              </a:custGeom>
              <a:noFill/>
              <a:ln w="19080">
                <a:solidFill>
                  <a:srgbClr val="e1e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38080" y="5028840"/>
              <a:ext cx="3180960" cy="838080"/>
              <a:chOff x="838080" y="5028840"/>
              <a:chExt cx="3180960" cy="83808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957240" y="5028840"/>
                <a:ext cx="2100240" cy="838080"/>
                <a:chOff x="957240" y="5028840"/>
                <a:chExt cx="2100240" cy="838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957240" y="5029200"/>
                  <a:ext cx="2100240" cy="558360"/>
                </a:xfrm>
                <a:custGeom>
                  <a:avLst/>
                  <a:gdLst/>
                  <a:ahLst/>
                  <a:rect l="l" t="t" r="r" b="b"/>
                  <a:pathLst>
                    <a:path w="1872" h="384">
                      <a:moveTo>
                        <a:pt x="0" y="384"/>
                      </a:moveTo>
                      <a:lnTo>
                        <a:pt x="0" y="0"/>
                      </a:lnTo>
                      <a:lnTo>
                        <a:pt x="1872" y="0"/>
                      </a:lnTo>
                      <a:lnTo>
                        <a:pt x="1872" y="384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2411280" y="5028840"/>
                  <a:ext cx="720" cy="55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57240" y="5587560"/>
                  <a:ext cx="753840" cy="279360"/>
                </a:xfrm>
                <a:custGeom>
                  <a:avLst/>
                  <a:gdLst/>
                  <a:ahLst/>
                  <a:rect l="l" t="t" r="r" b="b"/>
                  <a:pathLst>
                    <a:path w="672" h="192">
                      <a:moveTo>
                        <a:pt x="672" y="0"/>
                      </a:moveTo>
                      <a:lnTo>
                        <a:pt x="672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411280" y="5238720"/>
                <a:ext cx="646200" cy="34920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240"/>
                    </a:moveTo>
                    <a:lnTo>
                      <a:pt x="96" y="0"/>
                    </a:lnTo>
                    <a:lnTo>
                      <a:pt x="384" y="0"/>
                    </a:lnTo>
                    <a:lnTo>
                      <a:pt x="576" y="240"/>
                    </a:ln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92480" y="5448240"/>
                <a:ext cx="226800" cy="29376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94280" y="540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6280" y="5448240"/>
                <a:ext cx="226800" cy="29376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19640" y="542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080" y="5448240"/>
                <a:ext cx="227160" cy="29376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0240" y="540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0360" y="5448240"/>
                <a:ext cx="226800" cy="29376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72160" y="540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24200" y="5448240"/>
                <a:ext cx="227160" cy="29376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11960" y="540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822320" y="5028840"/>
            <a:ext cx="6189120" cy="1525320"/>
            <a:chOff x="1822320" y="5028840"/>
            <a:chExt cx="6189120" cy="1525320"/>
          </a:xfrm>
        </p:grpSpPr>
        <p:sp>
          <p:nvSpPr>
            <p:cNvPr id="115" name=""/>
            <p:cNvSpPr/>
            <p:nvPr/>
          </p:nvSpPr>
          <p:spPr>
            <a:xfrm>
              <a:off x="1822320" y="6094440"/>
              <a:ext cx="48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 hypergraph with two linear or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554360" y="5028840"/>
              <a:ext cx="3457080" cy="838440"/>
              <a:chOff x="4554360" y="5028840"/>
              <a:chExt cx="3457080" cy="8384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311880" y="5546880"/>
                <a:ext cx="1550880" cy="245880"/>
                <a:chOff x="6311880" y="5546880"/>
                <a:chExt cx="1550880" cy="245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311880" y="5546880"/>
                  <a:ext cx="824040" cy="244440"/>
                </a:xfrm>
                <a:custGeom>
                  <a:avLst/>
                  <a:gdLst/>
                  <a:ahLst/>
                  <a:rect l="l" t="t" r="r" b="b"/>
                  <a:pathLst>
                    <a:path w="624" h="192">
                      <a:moveTo>
                        <a:pt x="0" y="0"/>
                      </a:moveTo>
                      <a:lnTo>
                        <a:pt x="144" y="192"/>
                      </a:lnTo>
                      <a:lnTo>
                        <a:pt x="624" y="192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19080">
                  <a:solidFill>
                    <a:srgbClr val="e1e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3080" y="5562720"/>
                  <a:ext cx="1309680" cy="230040"/>
                </a:xfrm>
                <a:custGeom>
                  <a:avLst/>
                  <a:gdLst/>
                  <a:ahLst/>
                  <a:rect l="l" t="t" r="r" b="b"/>
                  <a:pathLst>
                    <a:path w="1248" h="192">
                      <a:moveTo>
                        <a:pt x="0" y="192"/>
                      </a:moveTo>
                      <a:lnTo>
                        <a:pt x="1248" y="192"/>
                      </a:lnTo>
                      <a:lnTo>
                        <a:pt x="1248" y="0"/>
                      </a:lnTo>
                    </a:path>
                  </a:pathLst>
                </a:custGeom>
                <a:noFill/>
                <a:ln w="19080">
                  <a:solidFill>
                    <a:srgbClr val="e1e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554360" y="5028840"/>
                <a:ext cx="3457080" cy="838440"/>
                <a:chOff x="4554360" y="5028840"/>
                <a:chExt cx="3457080" cy="8384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4675320" y="5028840"/>
                  <a:ext cx="1692000" cy="452520"/>
                  <a:chOff x="4675320" y="5028840"/>
                  <a:chExt cx="1692000" cy="4525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675320" y="5029200"/>
                    <a:ext cx="169200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2" h="384">
                        <a:moveTo>
                          <a:pt x="0" y="384"/>
                        </a:moveTo>
                        <a:lnTo>
                          <a:pt x="0" y="0"/>
                        </a:lnTo>
                        <a:lnTo>
                          <a:pt x="1872" y="0"/>
                        </a:lnTo>
                        <a:lnTo>
                          <a:pt x="1872" y="384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5543640" y="5028840"/>
                    <a:ext cx="1440" cy="4525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4664160" y="5481720"/>
                  <a:ext cx="2527200" cy="385560"/>
                </a:xfrm>
                <a:custGeom>
                  <a:avLst/>
                  <a:gdLst/>
                  <a:ahLst/>
                  <a:rect l="l" t="t" r="r" b="b"/>
                  <a:pathLst>
                    <a:path w="672" h="192">
                      <a:moveTo>
                        <a:pt x="672" y="0"/>
                      </a:moveTo>
                      <a:lnTo>
                        <a:pt x="672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543640" y="5181480"/>
                  <a:ext cx="768240" cy="168480"/>
                </a:xfrm>
                <a:custGeom>
                  <a:avLst/>
                  <a:gdLst/>
                  <a:ahLst/>
                  <a:rect l="l" t="t" r="r" b="b"/>
                  <a:pathLst>
                    <a:path w="576" h="240">
                      <a:moveTo>
                        <a:pt x="0" y="240"/>
                      </a:moveTo>
                      <a:lnTo>
                        <a:pt x="96" y="0"/>
                      </a:lnTo>
                      <a:lnTo>
                        <a:pt x="384" y="0"/>
                      </a:lnTo>
                      <a:lnTo>
                        <a:pt x="576" y="240"/>
                      </a:ln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10080" y="5349960"/>
                  <a:ext cx="231840" cy="27756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412240" y="527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026120" y="5349960"/>
                  <a:ext cx="231840" cy="27756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28280" y="527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554360" y="5349960"/>
                  <a:ext cx="231840" cy="27756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556520" y="527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34120" y="5349960"/>
                  <a:ext cx="231840" cy="27756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35920" y="527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740720" y="5349960"/>
                  <a:ext cx="231840" cy="27756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04360" y="527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DBAA-C313-4DDF-BE69-1335B0171269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CNF Formula Cutwidt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8307360" cy="21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graph for a CNF formul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tices are the variabl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ch hyperedge corresponds to a clau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twidth of a CNF under ordering 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cutwidth of the hypergraph under 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7000" y="403704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V1+V2+V3+V4)(V3+V4)(V2+V3+V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4495680"/>
            <a:ext cx="3457080" cy="1295640"/>
            <a:chOff x="2057400" y="4495680"/>
            <a:chExt cx="3457080" cy="1295640"/>
          </a:xfrm>
        </p:grpSpPr>
        <p:grpSp>
          <p:nvGrpSpPr>
            <p:cNvPr id="140" name=""/>
            <p:cNvGrpSpPr/>
            <p:nvPr/>
          </p:nvGrpSpPr>
          <p:grpSpPr>
            <a:xfrm>
              <a:off x="2057400" y="4952520"/>
              <a:ext cx="3457080" cy="838800"/>
              <a:chOff x="2057400" y="4952520"/>
              <a:chExt cx="3457080" cy="8388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814920" y="5470560"/>
                <a:ext cx="1550880" cy="244080"/>
                <a:chOff x="3814920" y="5470560"/>
                <a:chExt cx="1550880" cy="244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814920" y="547056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624" h="192">
                      <a:moveTo>
                        <a:pt x="0" y="0"/>
                      </a:moveTo>
                      <a:lnTo>
                        <a:pt x="144" y="192"/>
                      </a:lnTo>
                      <a:lnTo>
                        <a:pt x="624" y="192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19080">
                  <a:solidFill>
                    <a:srgbClr val="e1e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56120" y="5484240"/>
                  <a:ext cx="1309680" cy="230400"/>
                </a:xfrm>
                <a:custGeom>
                  <a:avLst/>
                  <a:gdLst/>
                  <a:ahLst/>
                  <a:rect l="l" t="t" r="r" b="b"/>
                  <a:pathLst>
                    <a:path w="1248" h="192">
                      <a:moveTo>
                        <a:pt x="0" y="192"/>
                      </a:moveTo>
                      <a:lnTo>
                        <a:pt x="1248" y="192"/>
                      </a:lnTo>
                      <a:lnTo>
                        <a:pt x="1248" y="0"/>
                      </a:lnTo>
                    </a:path>
                  </a:pathLst>
                </a:custGeom>
                <a:noFill/>
                <a:ln w="19080">
                  <a:solidFill>
                    <a:srgbClr val="e1e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057400" y="4952520"/>
                <a:ext cx="3457080" cy="838800"/>
                <a:chOff x="2057400" y="4952520"/>
                <a:chExt cx="3457080" cy="83880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2178000" y="4952520"/>
                  <a:ext cx="1692000" cy="452520"/>
                  <a:chOff x="2178000" y="4952520"/>
                  <a:chExt cx="1692000" cy="4525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2178000" y="4952880"/>
                    <a:ext cx="169200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2" h="384">
                        <a:moveTo>
                          <a:pt x="0" y="384"/>
                        </a:moveTo>
                        <a:lnTo>
                          <a:pt x="0" y="0"/>
                        </a:lnTo>
                        <a:lnTo>
                          <a:pt x="1872" y="0"/>
                        </a:lnTo>
                        <a:lnTo>
                          <a:pt x="1872" y="384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>
                    <a:off x="3046320" y="4952520"/>
                    <a:ext cx="1440" cy="4525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2166840" y="5405400"/>
                  <a:ext cx="2527560" cy="385920"/>
                </a:xfrm>
                <a:custGeom>
                  <a:avLst/>
                  <a:gdLst/>
                  <a:ahLst/>
                  <a:rect l="l" t="t" r="r" b="b"/>
                  <a:pathLst>
                    <a:path w="672" h="192">
                      <a:moveTo>
                        <a:pt x="672" y="0"/>
                      </a:moveTo>
                      <a:lnTo>
                        <a:pt x="672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6320" y="5105520"/>
                  <a:ext cx="768600" cy="168120"/>
                </a:xfrm>
                <a:custGeom>
                  <a:avLst/>
                  <a:gdLst/>
                  <a:ahLst/>
                  <a:rect l="l" t="t" r="r" b="b"/>
                  <a:pathLst>
                    <a:path w="576" h="240">
                      <a:moveTo>
                        <a:pt x="0" y="240"/>
                      </a:moveTo>
                      <a:lnTo>
                        <a:pt x="96" y="0"/>
                      </a:lnTo>
                      <a:lnTo>
                        <a:pt x="384" y="0"/>
                      </a:lnTo>
                      <a:lnTo>
                        <a:pt x="576" y="240"/>
                      </a:ln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13120" y="52736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914920" y="5194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29160" y="52736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30960" y="5194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57400" y="52736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59200" y="5194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736800" y="52736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738960" y="5194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43400" y="52736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207400" y="51944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3276720" y="4495680"/>
              <a:ext cx="304560" cy="381240"/>
            </a:xfrm>
            <a:prstGeom prst="downArrow">
              <a:avLst>
                <a:gd name="adj1" fmla="val 50000"/>
                <a:gd name="adj2" fmla="val 3129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4F9E-FC96-485B-AA66-27B9502D2780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Combinational Circuit Cutwidt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32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ed hypergra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ch edge has a source vertex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ational circuit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tices are the gat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ch hyperedge corresponds to a gate and its direct fanout gates, that gate is the sour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twidth is defined on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opologica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order on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4952880"/>
            <a:ext cx="2133360" cy="1219320"/>
            <a:chOff x="1447920" y="4952880"/>
            <a:chExt cx="2133360" cy="1219320"/>
          </a:xfrm>
        </p:grpSpPr>
        <p:grpSp>
          <p:nvGrpSpPr>
            <p:cNvPr id="164" name=""/>
            <p:cNvGrpSpPr/>
            <p:nvPr/>
          </p:nvGrpSpPr>
          <p:grpSpPr>
            <a:xfrm>
              <a:off x="1447920" y="4952880"/>
              <a:ext cx="2133360" cy="1219320"/>
              <a:chOff x="1447920" y="4952880"/>
              <a:chExt cx="2133360" cy="1219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447920" y="5410080"/>
                <a:ext cx="304560" cy="228600"/>
              </a:xfrm>
              <a:prstGeom prst="flowChartDelay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86000" y="4952880"/>
                <a:ext cx="304920" cy="228600"/>
              </a:xfrm>
              <a:prstGeom prst="flowChartDelay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86000" y="5410080"/>
                <a:ext cx="304920" cy="228600"/>
              </a:xfrm>
              <a:prstGeom prst="flowChartDelay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86000" y="5943600"/>
                <a:ext cx="304920" cy="228600"/>
              </a:xfrm>
              <a:prstGeom prst="flowChartDelay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76720" y="5410080"/>
                <a:ext cx="304560" cy="228600"/>
              </a:xfrm>
              <a:prstGeom prst="flowChartDelay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2133360" y="5562720"/>
                <a:ext cx="686160" cy="487080"/>
                <a:chOff x="2133360" y="5562720"/>
                <a:chExt cx="686160" cy="48708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2133360" y="55627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2133720" y="5562720"/>
                  <a:ext cx="685800" cy="487080"/>
                  <a:chOff x="2133720" y="5562720"/>
                  <a:chExt cx="685800" cy="487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2590920" y="604980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133720" y="55627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133720" y="5791320"/>
                    <a:ext cx="68580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819520" y="5791320"/>
                    <a:ext cx="0" cy="24588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1752480" y="5029200"/>
                <a:ext cx="533160" cy="990720"/>
                <a:chOff x="1752480" y="5029200"/>
                <a:chExt cx="533160" cy="9907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1981080" y="5029200"/>
                  <a:ext cx="304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752480" y="5029200"/>
                  <a:ext cx="533160" cy="990720"/>
                  <a:chOff x="1752480" y="5029200"/>
                  <a:chExt cx="533160" cy="9907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752480" y="5486400"/>
                    <a:ext cx="533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">
                        <a:moveTo>
                          <a:pt x="0" y="0"/>
                        </a:moveTo>
                        <a:cubicBezTo>
                          <a:pt x="0" y="0"/>
                          <a:pt x="168" y="0"/>
                          <a:pt x="336" y="0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81080" y="5486400"/>
                    <a:ext cx="0" cy="5335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81080" y="6019920"/>
                    <a:ext cx="3045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>
                    <a:off x="1981080" y="5029200"/>
                    <a:ext cx="0" cy="457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2133360" y="5151600"/>
              <a:ext cx="1143360" cy="334800"/>
              <a:chOff x="2133360" y="5151600"/>
              <a:chExt cx="1143360" cy="334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590920" y="5486400"/>
                <a:ext cx="685800" cy="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133360" y="5151600"/>
                <a:ext cx="686160" cy="182520"/>
                <a:chOff x="2133360" y="5151600"/>
                <a:chExt cx="686160" cy="18252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2133360" y="5151600"/>
                  <a:ext cx="15228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33720" y="5151600"/>
                  <a:ext cx="0" cy="18252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133720" y="5334120"/>
                  <a:ext cx="68580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2819520" y="5346720"/>
                <a:ext cx="0" cy="136440"/>
              </a:xfrm>
              <a:prstGeom prst="line">
                <a:avLst/>
              </a:prstGeom>
              <a:ln w="19080">
                <a:solidFill>
                  <a:srgbClr val="e1e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886200" y="4952520"/>
            <a:ext cx="3978000" cy="778320"/>
            <a:chOff x="3886200" y="4952520"/>
            <a:chExt cx="3978000" cy="778320"/>
          </a:xfrm>
        </p:grpSpPr>
        <p:sp>
          <p:nvSpPr>
            <p:cNvPr id="192" name=""/>
            <p:cNvSpPr/>
            <p:nvPr/>
          </p:nvSpPr>
          <p:spPr>
            <a:xfrm>
              <a:off x="3886200" y="54100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419720" y="4952520"/>
              <a:ext cx="3444480" cy="778320"/>
              <a:chOff x="4419720" y="4952520"/>
              <a:chExt cx="3444480" cy="778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4533840" y="507168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540320" y="4952520"/>
                <a:ext cx="1692000" cy="452520"/>
                <a:chOff x="4540320" y="4952520"/>
                <a:chExt cx="1692000" cy="452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0320" y="4952880"/>
                  <a:ext cx="1692000" cy="339480"/>
                </a:xfrm>
                <a:custGeom>
                  <a:avLst/>
                  <a:gdLst/>
                  <a:ahLst/>
                  <a:rect l="l" t="t" r="r" b="b"/>
                  <a:pathLst>
                    <a:path w="1872" h="384">
                      <a:moveTo>
                        <a:pt x="0" y="384"/>
                      </a:moveTo>
                      <a:lnTo>
                        <a:pt x="0" y="0"/>
                      </a:lnTo>
                      <a:lnTo>
                        <a:pt x="1872" y="0"/>
                      </a:lnTo>
                      <a:lnTo>
                        <a:pt x="1872" y="384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5408640" y="4952520"/>
                  <a:ext cx="1440" cy="452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 flipV="1">
                <a:off x="6234120" y="495216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672" y="0"/>
                    </a:moveTo>
                    <a:lnTo>
                      <a:pt x="672" y="192"/>
                    </a:lnTo>
                    <a:lnTo>
                      <a:pt x="0" y="19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8640" y="5105520"/>
                <a:ext cx="768240" cy="16812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240"/>
                    </a:moveTo>
                    <a:lnTo>
                      <a:pt x="96" y="0"/>
                    </a:lnTo>
                    <a:lnTo>
                      <a:pt x="384" y="0"/>
                    </a:lnTo>
                    <a:lnTo>
                      <a:pt x="576" y="240"/>
                    </a:ln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75440" y="5273640"/>
                <a:ext cx="231480" cy="27792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76880" y="519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91480" y="5273640"/>
                <a:ext cx="231480" cy="27792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92920" y="519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19720" y="5273640"/>
                <a:ext cx="231480" cy="27792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21160" y="519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99120" y="5273640"/>
                <a:ext cx="231840" cy="27792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00560" y="519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05720" y="5273640"/>
                <a:ext cx="231840" cy="277920"/>
              </a:xfrm>
              <a:prstGeom prst="ellipse">
                <a:avLst/>
              </a:prstGeom>
              <a:solidFill>
                <a:srgbClr val="dc0a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69000" y="519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410080" y="5105160"/>
                <a:ext cx="152640" cy="1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221520" y="5562720"/>
                <a:ext cx="1474560" cy="168120"/>
                <a:chOff x="6221520" y="5562720"/>
                <a:chExt cx="1474560" cy="16812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6221520" y="5562720"/>
                  <a:ext cx="1474560" cy="168120"/>
                  <a:chOff x="6221520" y="5562720"/>
                  <a:chExt cx="1474560" cy="1681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221520" y="5562720"/>
                    <a:ext cx="7833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192">
                        <a:moveTo>
                          <a:pt x="0" y="0"/>
                        </a:moveTo>
                        <a:lnTo>
                          <a:pt x="144" y="192"/>
                        </a:lnTo>
                        <a:lnTo>
                          <a:pt x="624" y="192"/>
                        </a:lnTo>
                        <a:lnTo>
                          <a:pt x="624" y="0"/>
                        </a:lnTo>
                      </a:path>
                    </a:pathLst>
                  </a:custGeom>
                  <a:noFill/>
                  <a:ln w="19080">
                    <a:solidFill>
                      <a:srgbClr val="e1e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450840" y="5572080"/>
                    <a:ext cx="12452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8" h="192">
                        <a:moveTo>
                          <a:pt x="0" y="192"/>
                        </a:moveTo>
                        <a:lnTo>
                          <a:pt x="1248" y="192"/>
                        </a:lnTo>
                        <a:lnTo>
                          <a:pt x="1248" y="0"/>
                        </a:lnTo>
                      </a:path>
                    </a:pathLst>
                  </a:custGeom>
                  <a:noFill/>
                  <a:ln w="19080">
                    <a:solidFill>
                      <a:srgbClr val="e1e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6289560" y="5626080"/>
                  <a:ext cx="144720" cy="10476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973F-B626-4E50-9C83-C9142B19A0B4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equential Circuit Cutwidth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830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t to a combinational circu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5000" y="2030400"/>
            <a:ext cx="2962800" cy="1538280"/>
            <a:chOff x="765000" y="2030400"/>
            <a:chExt cx="2962800" cy="1538280"/>
          </a:xfrm>
        </p:grpSpPr>
        <p:sp>
          <p:nvSpPr>
            <p:cNvPr id="219" name=""/>
            <p:cNvSpPr/>
            <p:nvPr/>
          </p:nvSpPr>
          <p:spPr>
            <a:xfrm>
              <a:off x="1862280" y="2108160"/>
              <a:ext cx="753840" cy="82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6600" y="3200400"/>
              <a:ext cx="70200" cy="127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16120" y="2806560"/>
              <a:ext cx="20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20960" y="2806560"/>
              <a:ext cx="0" cy="44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204640" y="3251160"/>
              <a:ext cx="615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724040" y="2806560"/>
              <a:ext cx="13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4040" y="2806560"/>
              <a:ext cx="0" cy="44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4040" y="3251160"/>
              <a:ext cx="41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5160" y="3441600"/>
              <a:ext cx="69840" cy="127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16120" y="2679840"/>
              <a:ext cx="34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7400" y="2679840"/>
              <a:ext cx="0" cy="82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205000" y="3505320"/>
              <a:ext cx="75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587240" y="2679840"/>
              <a:ext cx="27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87600" y="3505320"/>
              <a:ext cx="5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87600" y="2679840"/>
              <a:ext cx="0" cy="82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518840" y="2171880"/>
              <a:ext cx="34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518840" y="2489040"/>
              <a:ext cx="34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518840" y="2335320"/>
              <a:ext cx="34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616120" y="2171880"/>
              <a:ext cx="34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616120" y="2489040"/>
              <a:ext cx="34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616120" y="2335320"/>
              <a:ext cx="34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5000" y="206856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pu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52720" y="203040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pu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93160" y="35812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ch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780000" y="2030400"/>
            <a:ext cx="4733280" cy="1129680"/>
            <a:chOff x="3780000" y="2030400"/>
            <a:chExt cx="4733280" cy="1129680"/>
          </a:xfrm>
        </p:grpSpPr>
        <p:sp>
          <p:nvSpPr>
            <p:cNvPr id="244" name=""/>
            <p:cNvSpPr/>
            <p:nvPr/>
          </p:nvSpPr>
          <p:spPr>
            <a:xfrm>
              <a:off x="4819680" y="203040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pu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07040" y="203040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pu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780000" y="2082960"/>
              <a:ext cx="4733280" cy="1077120"/>
              <a:chOff x="3780000" y="2082960"/>
              <a:chExt cx="4733280" cy="1077120"/>
            </a:xfrm>
          </p:grpSpPr>
          <p:sp>
            <p:nvSpPr>
              <p:cNvPr id="247" name=""/>
              <p:cNvSpPr/>
              <p:nvPr/>
            </p:nvSpPr>
            <p:spPr>
              <a:xfrm>
                <a:off x="5916600" y="2082960"/>
                <a:ext cx="754200" cy="825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at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70800" y="2654280"/>
                <a:ext cx="34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5641560" y="2654280"/>
                <a:ext cx="274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573880" y="2146320"/>
                <a:ext cx="34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5573880" y="2463840"/>
                <a:ext cx="34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573880" y="2309760"/>
                <a:ext cx="34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670800" y="2146320"/>
                <a:ext cx="34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670800" y="2463840"/>
                <a:ext cx="34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670800" y="2309760"/>
                <a:ext cx="34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93440" y="2639880"/>
                <a:ext cx="1419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seudo-prima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pu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630400" y="2806560"/>
                <a:ext cx="274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57840" y="2806560"/>
                <a:ext cx="34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83640" y="2602080"/>
                <a:ext cx="1419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seudo-prima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80000" y="2577960"/>
                <a:ext cx="342720" cy="190800"/>
              </a:xfrm>
              <a:prstGeom prst="rightArrow">
                <a:avLst>
                  <a:gd name="adj1" fmla="val 50000"/>
                  <a:gd name="adj2" fmla="val 44906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304920" y="4092480"/>
            <a:ext cx="830736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rict the or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eudo primary inputs are at the beginn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eudo-primary outputs are at the e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corresponds to the lifetime of BDDs for registers in symbolic simulation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04CF-A60A-49E6-B5E6-E749AEAD6918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1e100"/>
                </a:solidFill>
                <a:latin typeface="Arial"/>
              </a:rPr>
              <a:t>Symbolic Simulation</a:t>
            </a: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rder to build BDDs for gates is a topological ord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gate is ready when all its input gates have BD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gate is dead when all its output gates have BD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ither BFS or DFS order is used in pract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ation proceeds according to time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DDs for registers are copied to next timefram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ze of the intermediate BDDs is usually much bigger than the final size of the BDDs for the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D513-7236-4168-A2C6-D70C8C043C3D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e100"/>
                </a:solidFill>
                <a:latin typeface="Arial"/>
              </a:rPr>
              <a:t>Symbolic Simulation based on Cutwidth</a:t>
            </a:r>
            <a:endParaRPr b="1" lang="en-US" sz="36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371600"/>
            <a:ext cx="83073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bserv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number of peak live BDDs equals to the cutwidth of the circuit under that ord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2286000"/>
            <a:ext cx="6551280" cy="2057400"/>
            <a:chOff x="914400" y="2286000"/>
            <a:chExt cx="6551280" cy="2057400"/>
          </a:xfrm>
        </p:grpSpPr>
        <p:grpSp>
          <p:nvGrpSpPr>
            <p:cNvPr id="267" name=""/>
            <p:cNvGrpSpPr/>
            <p:nvPr/>
          </p:nvGrpSpPr>
          <p:grpSpPr>
            <a:xfrm>
              <a:off x="914400" y="3124080"/>
              <a:ext cx="2133360" cy="1219320"/>
              <a:chOff x="914400" y="3124080"/>
              <a:chExt cx="2133360" cy="121932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914400" y="3124080"/>
                <a:ext cx="2133360" cy="1219320"/>
                <a:chOff x="914400" y="3124080"/>
                <a:chExt cx="2133360" cy="12193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14400" y="3581280"/>
                  <a:ext cx="304560" cy="228600"/>
                </a:xfrm>
                <a:prstGeom prst="flowChartDelay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52480" y="3124080"/>
                  <a:ext cx="304920" cy="228600"/>
                </a:xfrm>
                <a:prstGeom prst="flowChartDelay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752480" y="3581280"/>
                  <a:ext cx="304920" cy="228600"/>
                </a:xfrm>
                <a:prstGeom prst="flowChartDelay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752480" y="4114800"/>
                  <a:ext cx="304920" cy="228600"/>
                </a:xfrm>
                <a:prstGeom prst="flowChartDelay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743200" y="3581280"/>
                  <a:ext cx="304560" cy="228600"/>
                </a:xfrm>
                <a:prstGeom prst="flowChartDelay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1599840" y="3733920"/>
                  <a:ext cx="686160" cy="487080"/>
                  <a:chOff x="1599840" y="3733920"/>
                  <a:chExt cx="686160" cy="4870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>
                    <a:off x="1599840" y="373392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1600200" y="3733920"/>
                    <a:ext cx="685800" cy="487080"/>
                    <a:chOff x="1600200" y="3733920"/>
                    <a:chExt cx="685800" cy="4870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2057400" y="422100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600200" y="373392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600200" y="3962520"/>
                      <a:ext cx="685800" cy="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2286000" y="3962520"/>
                      <a:ext cx="0" cy="24588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218960" y="3200400"/>
                  <a:ext cx="533160" cy="990720"/>
                  <a:chOff x="1218960" y="3200400"/>
                  <a:chExt cx="533160" cy="9907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>
                    <a:off x="1447560" y="3200400"/>
                    <a:ext cx="3045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218960" y="3200400"/>
                    <a:ext cx="533160" cy="990720"/>
                    <a:chOff x="1218960" y="3200400"/>
                    <a:chExt cx="533160" cy="99072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218960" y="3657600"/>
                      <a:ext cx="5331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">
                          <a:moveTo>
                            <a:pt x="0" y="0"/>
                          </a:moveTo>
                          <a:cubicBezTo>
                            <a:pt x="0" y="0"/>
                            <a:pt x="168" y="0"/>
                            <a:pt x="336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1447560" y="3657600"/>
                      <a:ext cx="0" cy="5335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1447560" y="4191120"/>
                      <a:ext cx="3045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V="1">
                      <a:off x="1447560" y="3200400"/>
                      <a:ext cx="0" cy="457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1599840" y="3322800"/>
                <a:ext cx="1143360" cy="334800"/>
                <a:chOff x="1599840" y="3322800"/>
                <a:chExt cx="1143360" cy="334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057400" y="3657600"/>
                  <a:ext cx="685800" cy="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1599840" y="3322800"/>
                  <a:ext cx="686160" cy="182520"/>
                  <a:chOff x="1599840" y="3322800"/>
                  <a:chExt cx="686160" cy="1825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>
                    <a:off x="1599840" y="332280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e1e1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600200" y="3322800"/>
                    <a:ext cx="0" cy="182520"/>
                  </a:xfrm>
                  <a:prstGeom prst="line">
                    <a:avLst/>
                  </a:prstGeom>
                  <a:ln w="19080">
                    <a:solidFill>
                      <a:srgbClr val="e1e1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600200" y="3505320"/>
                    <a:ext cx="685800" cy="0"/>
                  </a:xfrm>
                  <a:prstGeom prst="line">
                    <a:avLst/>
                  </a:prstGeom>
                  <a:ln w="19080">
                    <a:solidFill>
                      <a:srgbClr val="e1e1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2286000" y="3517920"/>
                  <a:ext cx="0" cy="136440"/>
                </a:xfrm>
                <a:prstGeom prst="line">
                  <a:avLst/>
                </a:prstGeom>
                <a:ln w="19080">
                  <a:solidFill>
                    <a:srgbClr val="e1e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3487680" y="2286000"/>
              <a:ext cx="3978000" cy="1676520"/>
              <a:chOff x="3487680" y="2286000"/>
              <a:chExt cx="3978000" cy="1676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487680" y="3581280"/>
                <a:ext cx="380880" cy="228600"/>
              </a:xfrm>
              <a:prstGeom prst="rightArrow">
                <a:avLst>
                  <a:gd name="adj1" fmla="val 50000"/>
                  <a:gd name="adj2" fmla="val 4165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4021200" y="2286000"/>
                <a:ext cx="3444480" cy="1676520"/>
                <a:chOff x="4021200" y="2286000"/>
                <a:chExt cx="3444480" cy="1676520"/>
              </a:xfrm>
            </p:grpSpPr>
            <p:sp>
              <p:nvSpPr>
                <p:cNvPr id="298" name=""/>
                <p:cNvSpPr/>
                <p:nvPr/>
              </p:nvSpPr>
              <p:spPr>
                <a:xfrm flipV="1">
                  <a:off x="4135320" y="324288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4141800" y="2971440"/>
                  <a:ext cx="1713960" cy="604440"/>
                  <a:chOff x="4141800" y="2971440"/>
                  <a:chExt cx="1713960" cy="6044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4141800" y="2971800"/>
                    <a:ext cx="171396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2" h="384">
                        <a:moveTo>
                          <a:pt x="0" y="384"/>
                        </a:moveTo>
                        <a:lnTo>
                          <a:pt x="0" y="0"/>
                        </a:lnTo>
                        <a:lnTo>
                          <a:pt x="1872" y="0"/>
                        </a:lnTo>
                        <a:lnTo>
                          <a:pt x="1872" y="384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5021280" y="2971440"/>
                    <a:ext cx="1440" cy="6044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" name=""/>
                <p:cNvSpPr/>
                <p:nvPr/>
              </p:nvSpPr>
              <p:spPr>
                <a:xfrm flipV="1">
                  <a:off x="5857920" y="2971800"/>
                  <a:ext cx="771480" cy="533520"/>
                </a:xfrm>
                <a:custGeom>
                  <a:avLst/>
                  <a:gdLst/>
                  <a:ahLst/>
                  <a:rect l="l" t="t" r="r" b="b"/>
                  <a:pathLst>
                    <a:path w="672" h="192">
                      <a:moveTo>
                        <a:pt x="672" y="0"/>
                      </a:moveTo>
                      <a:lnTo>
                        <a:pt x="672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10120" y="3276720"/>
                  <a:ext cx="768240" cy="168120"/>
                </a:xfrm>
                <a:custGeom>
                  <a:avLst/>
                  <a:gdLst/>
                  <a:ahLst/>
                  <a:rect l="l" t="t" r="r" b="b"/>
                  <a:pathLst>
                    <a:path w="576" h="240">
                      <a:moveTo>
                        <a:pt x="0" y="240"/>
                      </a:moveTo>
                      <a:lnTo>
                        <a:pt x="96" y="0"/>
                      </a:lnTo>
                      <a:lnTo>
                        <a:pt x="384" y="0"/>
                      </a:lnTo>
                      <a:lnTo>
                        <a:pt x="576" y="240"/>
                      </a:ln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876920" y="3444840"/>
                  <a:ext cx="23148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878360" y="3367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92960" y="34448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94400" y="3367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021200" y="34448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022640" y="3367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00600" y="34448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702040" y="3367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07200" y="3444840"/>
                  <a:ext cx="231840" cy="277920"/>
                </a:xfrm>
                <a:prstGeom prst="ellipse">
                  <a:avLst/>
                </a:prstGeom>
                <a:solidFill>
                  <a:srgbClr val="dc0a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70480" y="3367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011560" y="3276360"/>
                  <a:ext cx="152640" cy="1522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5823000" y="3733920"/>
                  <a:ext cx="1474560" cy="168120"/>
                  <a:chOff x="5823000" y="3733920"/>
                  <a:chExt cx="1474560" cy="16812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823000" y="3733920"/>
                    <a:ext cx="1474560" cy="168120"/>
                    <a:chOff x="5823000" y="3733920"/>
                    <a:chExt cx="1474560" cy="16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5823000" y="3733920"/>
                      <a:ext cx="78336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4" h="192">
                          <a:moveTo>
                            <a:pt x="0" y="0"/>
                          </a:moveTo>
                          <a:lnTo>
                            <a:pt x="144" y="192"/>
                          </a:lnTo>
                          <a:lnTo>
                            <a:pt x="624" y="192"/>
                          </a:lnTo>
                          <a:lnTo>
                            <a:pt x="62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e1e1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052320" y="3743280"/>
                      <a:ext cx="12452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8" h="192">
                          <a:moveTo>
                            <a:pt x="0" y="192"/>
                          </a:moveTo>
                          <a:lnTo>
                            <a:pt x="1248" y="192"/>
                          </a:lnTo>
                          <a:lnTo>
                            <a:pt x="1248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e1e1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>
                    <a:off x="5891040" y="3797280"/>
                    <a:ext cx="144720" cy="104760"/>
                  </a:xfrm>
                  <a:prstGeom prst="line">
                    <a:avLst/>
                  </a:prstGeom>
                  <a:ln w="19080">
                    <a:solidFill>
                      <a:srgbClr val="e1e1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5391000" y="2590920"/>
                  <a:ext cx="0" cy="1371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315040" y="3200400"/>
                  <a:ext cx="152280" cy="152280"/>
                </a:xfrm>
                <a:prstGeom prst="flowChartCollat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319720" y="2895480"/>
                  <a:ext cx="152280" cy="152640"/>
                </a:xfrm>
                <a:prstGeom prst="flowChartCollat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943600" y="2286000"/>
                  <a:ext cx="1295280" cy="368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ive BDD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5486400" y="2743200"/>
                  <a:ext cx="457200" cy="45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5486400" y="2743200"/>
                  <a:ext cx="457200" cy="22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6" name=""/>
          <p:cNvSpPr/>
          <p:nvPr/>
        </p:nvSpPr>
        <p:spPr>
          <a:xfrm>
            <a:off x="304920" y="4572000"/>
            <a:ext cx="83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ate a topological order with small cutwid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is order to schedule gates during 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744C-7B2B-4361-9BE1-B84268F10AD9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1" lang="en-US" sz="3800" spc="-1" strike="noStrike">
              <a:solidFill>
                <a:srgbClr val="e1e1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371240"/>
            <a:ext cx="8307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ighted cutwid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ight a hyperedge according to the BDD siz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ate an ordering minimizing the weighted cutwid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eak live number of BDD nodes is the weighted cutwidt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3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uristics to estimate the weight of a hyper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sum of the BDD sizes for the source vertex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44440">
              <a:lnSpc>
                <a:spcPct val="87000"/>
              </a:lnSpc>
              <a:spcBef>
                <a:spcPts val="689"/>
              </a:spcBef>
              <a:buClr>
                <a:srgbClr val="66ff99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alculate an ordering when the estimates become inaccur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6960" y="39996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e100"/>
                </a:solidFill>
                <a:latin typeface="Arial"/>
              </a:rPr>
              <a:t>Reduce BDD No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0360-8504-46D7-93D8-4D34ED6FE851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8:16:45Z</dcterms:created>
  <dc:creator>Dong Wang</dc:creator>
  <dc:description/>
  <dc:language>en-US</dc:language>
  <cp:lastModifiedBy>Donated by Intel</cp:lastModifiedBy>
  <dcterms:modified xsi:type="dcterms:W3CDTF">2001-11-07T05:18:39Z</dcterms:modified>
  <cp:revision>38</cp:revision>
  <dc:subject/>
  <dc:title>Using Cutwidth to Improve Symbolic Simulaion and Boolean Satisfiabilty</dc:title>
</cp:coreProperties>
</file>