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DF72-0A8D-4493-95AC-6FA1B6D30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8698-DA28-4620-9505-6D4D808F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048D-5FE0-47D2-9138-F3DFFB686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7901-CA65-4D5E-B831-2728176C5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EEA3-1149-4FF6-9DC3-372B7CD8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2481-DE7E-4709-AA76-DEBC0594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F0BB-BAB9-49BD-B0A5-5F8F9B68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49C6-DAF6-44E4-BA9D-2238662A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C6D9-8AD7-4828-AB78-E6C92B91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2D38-8D73-4371-AABB-42EDDFB8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26AC-C5B4-4693-9E5B-3B42CBFB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87ED-9757-48F0-8379-0D0018D3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F098-5B79-4F63-9D4F-45E7F3E46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gram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Atkeson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cy It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: general policy (a table in discrete state case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) Compute 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c(x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) + 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(x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polic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arg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(x,u) + 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(x,u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to *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chastic Dynamic Program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: C(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(c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llman equation now involves expect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(c(x,u) +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(x,u)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(x,u)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d Bellman equation applies to value and policy it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need to add discount fa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ous State D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is still discr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discretize the sta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handle continuous sta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etize states on a gr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each point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generate trajectory segment of length N by minimizing C(u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+ V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interpolate using surrounding V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multilinear interpolation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typically determined by when V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ndependent of V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favorite continuous function optimizer to search for best u when minimizing C(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V() at that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e Increment Dynamic Programming (Lars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21337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38280" y="21337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21337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10080" y="21337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21337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320040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228600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411480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502920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594360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24480" y="5867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3124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324480" y="2209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2209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43400" y="2209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2209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62320" y="2209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24480" y="4038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4120" y="4038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43400" y="4038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52680" y="4038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62320" y="4038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24480" y="3124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3124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3124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52680" y="3124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362320" y="4952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49528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43400" y="4952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4952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49528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362320" y="5867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5867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43400" y="5867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5867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19720" y="3809880"/>
            <a:ext cx="1218960" cy="304920"/>
          </a:xfrm>
          <a:custGeom>
            <a:avLst/>
            <a:gdLst/>
            <a:ahLst/>
            <a:rect l="l" t="t" r="r" b="b"/>
            <a:pathLst>
              <a:path w="768" h="192">
                <a:moveTo>
                  <a:pt x="0" y="192"/>
                </a:moveTo>
                <a:lnTo>
                  <a:pt x="240" y="48"/>
                </a:lnTo>
                <a:lnTo>
                  <a:pt x="528" y="0"/>
                </a:lnTo>
                <a:lnTo>
                  <a:pt x="768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24280" y="38098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81480" y="3733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3733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40760" y="3733920"/>
            <a:ext cx="67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46960" y="3581280"/>
            <a:ext cx="696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10080" y="32004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10080" y="380952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638320" y="320040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38680" y="38098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12360" y="342900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55160" y="350532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50600" y="403848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e Increment Dynamic Program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76520" y="952560"/>
            <a:ext cx="57909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id, multilinear interp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ptive Gr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l grid: local optimizer gets right answer in each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lit at policy discontinu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lit to avoid local opt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: can you figure out good tessellation without fully solving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nos and Moore, Variable Resolution Discretization in Optimal Contro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e Learning, 49 (2/3)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91-323, 2002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uhn Triangulation, kd-t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2041560"/>
            <a:ext cx="914400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gramm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: continuous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: continuous control or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ete time dynamics: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f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function: L(x,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function V(x)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∑L(x,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function Q(x,u) = L(x,u) + V(f(x,u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llman Equation V(x) = 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Q(x,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licy/control law: u(x) = arg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Q(x,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uhn Triangulation in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770120"/>
            <a:ext cx="91440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jectory Seg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95280" y="631800"/>
            <a:ext cx="662940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untain C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174680"/>
            <a:ext cx="914400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lu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8080" y="558720"/>
            <a:ext cx="7315200" cy="62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lu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3657600" cy="3149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505320" y="1249200"/>
            <a:ext cx="563868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2013120"/>
            <a:ext cx="914400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Spl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olations of V(x) of cell/region from model (constant, linear, quadratic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olations of u(x) of cell/region from model (constant, linear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riteria applied to predecessors (how much change in V needed to affect trajectory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cy Iteration: Continuous St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etize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 policy at discretized states u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cell in table has constant u,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as knot points for linear or higher order sp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) Same kind of trajectory segments used to compute 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(x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) + 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e polic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arg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(x,u) + 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(x,u))) using favorite continuous function optimiz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to *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chastic DP: Continous St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: C(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(c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Monte Carlo sampling of process noise for each trajectory segment (many trajectory segments),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agate analytic distribution (see Kalman fil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llman equation involves expect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(c(x,u) +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(x,u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develop planning methods that scale computational cost according to complexity of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problems are easy to solve (LQ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icated problems are expensive to solve, or aren’t solvable with current meth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01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40" y="0"/>
            <a:ext cx="35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lu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ly sample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ly sample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local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agate local models along traj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ly optim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local optimizations to globally optim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bout continuous ac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ized Dynamic Plann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3465360"/>
            <a:ext cx="6934320" cy="3392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267080" y="762120"/>
            <a:ext cx="5105520" cy="2701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admaps (aka P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ly Expl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Trees (R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ndom Sampling DP: Related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-uniform strategies in multi-armed bandit problems: Epsilon-X strate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ary (random) action sear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mirovsky and Yudin: can’t beat curse of dimensionality in continuous action sear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t 97: Random sampling of states in stochastic DP. E() smooths problem. Beat curse of dimensionality for computing E(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un 00: POMDPs. Random sampling of belief states. Nearest neighbor interpolation of V(). Coverage vs. surprise t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Action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invariant deterministic problem: find steady state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 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function: Q(x,u) = L(x,u) + V(f(x,u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lman’s equation: V(x) = 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(x,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current policy u(x): Q(x,u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1 random action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rand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Q(x,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rand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best one: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e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(x,u(x)) &lt; Q(x,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rand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V(x) = Q(x,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u(x) =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P Asynchron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Link Swing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func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Resolution: 100x100x100x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 million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057400" y="1555920"/>
                <a:ext cx="228600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505320" y="2895480"/>
            <a:ext cx="5418000" cy="403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209680" y="2133720"/>
                <a:ext cx="1333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4578480"/>
            <a:ext cx="9144000" cy="22795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1046160"/>
            <a:ext cx="9144000" cy="33354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Link Swing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Link Swing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33720" y="203364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00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52280" y="28440"/>
            <a:ext cx="8763120" cy="68295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16000" y="3575160"/>
            <a:ext cx="235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Lin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wing 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2768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481440" y="25909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ular Velo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36640" y="609588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r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65160"/>
            <a:ext cx="9144000" cy="6729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440" y="0"/>
            <a:ext cx="153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f Action Grid Siz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Link: 60x60x60x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1851120"/>
            <a:ext cx="9144000" cy="318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04920" y="12600"/>
            <a:ext cx="8534160" cy="68328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eatabilit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8-10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1-148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153640" cy="67802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00400" y="2514600"/>
            <a:ext cx="5486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More Actio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er Upd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Sampling of Actions: Impro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ne distribution to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some local optimization (gradient descent): so far only slows search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ooth output trajectory with trajectory optim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e updates adap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ynamic Programm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779040"/>
            <a:ext cx="8229600" cy="60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jectory optimization (including receding horizon control) can produce high quality answ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trajectory optimization often gets stuck in local minima that are not use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ombine dynamic programming and trajectory optimization to get high quality answers with fewer problems from local minima. DP produces an initial trajectory, which is refined by optim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 produces a policy u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ynamic Programm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779040"/>
            <a:ext cx="8229600" cy="60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y optimization can produce useful answ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need to choose good features/basis functions/parameter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urse of Dimensiona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 St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age cost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olutio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d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computational cost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olutio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d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 A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 computational cost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olutio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d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do Dynamic Programm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specified end time 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s: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f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: C() =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function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is represented by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x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(x,u) +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(x,u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he Bellman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version of DP is value it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lso tabulate policy: u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do Dynamic Programming (no specified end tim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: C(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a guess, or all ze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 the Bellman eq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(x) is given by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when V stops chang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needs to have zero cost, or need to discount so V() does not grow to infinit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(x,u)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(x,u)))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7T02:24:05Z</dcterms:created>
  <dc:creator>cga</dc:creator>
  <dc:description/>
  <dc:language>en-US</dc:language>
  <cp:lastModifiedBy>cga</cp:lastModifiedBy>
  <dcterms:modified xsi:type="dcterms:W3CDTF">2012-02-15T14:39:30Z</dcterms:modified>
  <cp:revision>52</cp:revision>
  <dc:subject/>
  <dc:title>Handling uncertainty over time: predicting, estimating, recognizing</dc:title>
</cp:coreProperties>
</file>