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2DA-1C27-4A8A-A910-B2AE947F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1D9-A6FB-446F-A8DD-A5DCB868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C87-E2C0-41DB-BB97-B6D59874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136-B293-470C-A9D8-F96B8A90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7A3-0062-4F67-A904-11D2D45F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6C6-21FB-429B-A63B-710C631B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BFB-7CAA-4BD6-AF87-9680DD1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E1F-33A4-4A5B-B2E0-B5816397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DD3-F11B-4418-8A29-40219A08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1D8-5014-4676-8026-ED8B510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A0B-CFB3-466B-9DCD-21903CB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0E9-0125-4A75-815C-A9D5B321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336-90E5-4C45-B0C0-A86FF224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Policy Grad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/Learning of Feedback 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QBR: Linear (dynamics) Quadratic (cost) Bilinear (policy) Reg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187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678204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in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433520"/>
            <a:ext cx="8839440" cy="243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4373640"/>
            <a:ext cx="9144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ing control “parameters” in DDP: Dyer and McReynolds 19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output feedback design (1960s-197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model adaptive control (M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gradient reinforcem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critics, Werbos: HDP, DHP, GDHP, ADHDP, ADD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ill LQBR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tabilizing policy is known (“output stabilizabl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ositive de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ositive semi-definite and (sqrt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detec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matrix C has full row r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ly Linear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840" y="1295280"/>
            <a:ext cx="9128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228600" y="3033720"/>
            <a:ext cx="5105520" cy="382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19720" y="30337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609480"/>
            <a:ext cx="2286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1981080"/>
            <a:ext cx="19051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609480"/>
            <a:ext cx="1600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3048120"/>
            <a:ext cx="28954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685800"/>
            <a:ext cx="25146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80880" y="1523520"/>
            <a:ext cx="3276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33160" y="3962520"/>
            <a:ext cx="28954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4648320"/>
            <a:ext cx="38124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038480"/>
            <a:ext cx="198108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95680" y="304776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680" y="2133720"/>
            <a:ext cx="76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18284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8195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657600" y="2133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428640" y="281952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9625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962520" y="4038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29000" y="320004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2160" y="3581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1337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304776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15000" y="3048120"/>
            <a:ext cx="763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80920" y="556272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905120"/>
            <a:ext cx="763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5486400"/>
            <a:ext cx="21333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371600" y="68544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8040" y="3657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211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One Gradi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8280" y="1905120"/>
            <a:ext cx="9045720" cy="86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597348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hastic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ding Horizon Control/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HC/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with 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olicies -&gt; Learn State Estim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Iteration, with gradient-based policy improvement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 gradients are e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overlapping sub-policies make second order gradient calculations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hoose policy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h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and learn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from “value iteration” to “policy iter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ig switch from optimizing and learning value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radient-based polic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ly design nonlinear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policy-gradient reinforcement learning prac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-Based Policy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policy u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from some initial state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olicy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local or global optimizer to optimize simulated policy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gradients are used, they are typically numerically estim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-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1st order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-(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2n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make model-based policy gradient more effic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stic policy: u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Iteration (Bellman Equa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= L(x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) + V(f(x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),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models: f(x,u) =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(x,u) =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,p) =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Grad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range multiplier approach, with constraint violation valu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320" y="2990880"/>
            <a:ext cx="9045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Second Orde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1370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8313840" cy="1539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9174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137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43:35Z</dcterms:created>
  <dc:creator>cga</dc:creator>
  <dc:description/>
  <dc:language>en-US</dc:language>
  <cp:lastModifiedBy>cga</cp:lastModifiedBy>
  <dcterms:modified xsi:type="dcterms:W3CDTF">2012-03-02T03:52:47Z</dcterms:modified>
  <cp:revision>40</cp:revision>
  <dc:subject/>
  <dc:title>Model-based Policy Gradient</dc:title>
</cp:coreProperties>
</file>