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744C-F949-4A6D-A055-2ABB1332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99F8-AAB6-41C4-9BB1-092099B3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25F-6ED7-45AA-8014-09159CC0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519-34EA-4E71-852E-A4C51A63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F6C3-97FC-4EAD-8BF9-36A7B6F3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268-F782-4C80-8A78-C5D1A294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F1D-FB36-4778-AE43-E3659A71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AC7-BA8A-4EC3-B9F6-B3727CE0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F04-804D-4C20-80B5-645810B5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604A-F77B-4272-ADB0-6B250C2F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370-B6F3-40E8-8371-34520F8B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821-D1D5-4931-8156-FC46F3CD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0443-1813-4515-9A71-AF3CEFED1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t Policy Gradi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tion/Learning of Feedback Control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Atke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QBR: Linear (dynamics) Quadratic (cost) Bilinear (policy) Regu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1879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66680" y="2286000"/>
            <a:ext cx="678204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ing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1433520"/>
            <a:ext cx="8839440" cy="2432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4373640"/>
            <a:ext cx="91440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ing control “parameters” in DDP: Dyer and McReynolds 197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 output feedback design (1960s-1970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model adaptive control (MM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gradient reinforcem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critics, Werbos: HDP, DHP, GDHP, ADHDP, ADD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ill LQBR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stabilizing policy is known (“output stabilizable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ositive defi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ositive semi-definite and (sqrt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detec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matrix C has full row r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ly Linear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840" y="1295280"/>
            <a:ext cx="912816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-228600" y="3033720"/>
            <a:ext cx="5105520" cy="3824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419720" y="3033720"/>
            <a:ext cx="510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l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609480"/>
            <a:ext cx="22860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1981080"/>
            <a:ext cx="19051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609480"/>
            <a:ext cx="1600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3048120"/>
            <a:ext cx="289548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685800"/>
            <a:ext cx="25146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80880" y="1523520"/>
            <a:ext cx="32767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33160" y="3962520"/>
            <a:ext cx="28954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580920" y="4648320"/>
            <a:ext cx="38124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4038480"/>
            <a:ext cx="198108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95680" y="3047760"/>
            <a:ext cx="1295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95680" y="2133720"/>
            <a:ext cx="763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572000" y="18284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28195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657600" y="21337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428640" y="281952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9625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962520" y="40384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29000" y="320004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962160" y="35812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213372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72000" y="3047760"/>
            <a:ext cx="12193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715000" y="3048120"/>
            <a:ext cx="763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80920" y="5562720"/>
            <a:ext cx="21337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1905120"/>
            <a:ext cx="763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5486400"/>
            <a:ext cx="21333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371600" y="68544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8040" y="36576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211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Of One Gradient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8280" y="1905120"/>
            <a:ext cx="9045720" cy="860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5973480" cy="8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hastic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ding Horizon Control/M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RHC/M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with Dynamic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Policies -&gt; Learn State Estim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e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Iteration, with gradient-based policy improvement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tic gradients are ea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overlapping sub-policies make second order gradient calculations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roblem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hoose policy stru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ch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and learn poli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from “value iteration” to “policy itera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big switch from optimizing and learning value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gradient-based policy optim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ly design nonlinear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policy-gradient reinforcement learning prac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-Based Policy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e policy u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p) from some initial states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olicy c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avorite local or global optimizer to optimize simulated policy c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gradients are used, they are typically numerically estim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-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∑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1st order grad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-(∑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∑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2nd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we make model-based policy gradient more effici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tic Grad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istic policy: u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Iteration (Bellman Equatio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p) = L(x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p)) + V(f(x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p)),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models: f(x,u) =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(x,u) =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p)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x,p) =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Gradi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k-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grange multiplier approach, with constraint violation value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9320" y="2990880"/>
            <a:ext cx="90453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p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Second Order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91720" cy="1370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8313840" cy="1539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91742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91137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6:43:35Z</dcterms:created>
  <dc:creator>cga</dc:creator>
  <dc:description/>
  <dc:language>en-US</dc:language>
  <cp:lastModifiedBy>cga</cp:lastModifiedBy>
  <dcterms:modified xsi:type="dcterms:W3CDTF">2012-03-02T03:52:47Z</dcterms:modified>
  <cp:revision>40</cp:revision>
  <dc:subject/>
  <dc:title>Model-based Policy Gradient</dc:title>
</cp:coreProperties>
</file>