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83400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ED87-222A-4939-B2BE-40F0491B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6E5B-5E1E-4E6C-89C4-8A753058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04DB-1CCE-4936-B610-4C6D37F2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C7EF-1EF2-413B-97AA-9FF62C74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E66D-EEBA-45F2-A0EA-59BB260E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EA3-3A0C-4FAA-9790-5B8C63EB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FC50-2A16-4D4B-AC94-F52F513C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107C-1CF7-4A32-BBDB-51DCDB67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E22D-9224-495B-BC71-40655582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8D6-81F6-4A92-A0D1-7AD66A11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3250-4626-4018-8BEC-543AF850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BD03-735C-41E6-BA06-AFEC472F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9E33-ED74-456B-8B8A-D81BA0492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 Policies Us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Symbol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Atkeson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or tasks: want to stay at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jectory tasks: go from A to B in time T, or attain goal set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ic tasks: cyclic behavior such as wa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ys to Parameterize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function u(x,p) = 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K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 (nonlinear controll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ed with traj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(t)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) + K(t)(x –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ed with trajectory(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(x) = 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 +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(x –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n: nearest neigh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izing Policies Using Function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 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ized policy u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,p), p is vector of adjustable para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st approach: Run it for a while, and measure total c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avorite function optimization approach to search for best 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ricks to improve policy comparison, such as using the same perturbations in different trials, and terminating trial early if really bad (racing algorithm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 Link Sw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3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Link Sw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func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057400" y="1523880"/>
                <a:ext cx="10717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209680" y="2184480"/>
                <a:ext cx="685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05320" y="2819520"/>
            <a:ext cx="4925880" cy="46332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304920" y="3581280"/>
            <a:ext cx="8535600" cy="2895840"/>
            <a:chOff x="304920" y="3581280"/>
            <a:chExt cx="8535600" cy="2895840"/>
          </a:xfrm>
        </p:grpSpPr>
        <p:sp>
          <p:nvSpPr>
            <p:cNvPr id="51" name=""/>
            <p:cNvSpPr/>
            <p:nvPr/>
          </p:nvSpPr>
          <p:spPr>
            <a:xfrm>
              <a:off x="609840" y="5029200"/>
              <a:ext cx="0" cy="1447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29960" y="3581280"/>
              <a:ext cx="0" cy="1447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1507680" y="5050800"/>
              <a:ext cx="1023840" cy="1023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68240" y="5070600"/>
              <a:ext cx="1398240" cy="374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308280" y="3983760"/>
              <a:ext cx="1023840" cy="1023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38640" y="4952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49528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67440" y="4952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48520" y="49528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153640" y="4952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771320" y="4495680"/>
              <a:ext cx="1069200" cy="91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8719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871912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8382240" y="4572000"/>
                  <a:ext cx="33480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8077320" y="5105520"/>
                  <a:ext cx="34128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304920" y="5029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10040" y="5029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38840" y="5029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19920" y="5029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5040" y="5029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54040" y="0"/>
            <a:ext cx="7689960" cy="7772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-2160" y="0"/>
            <a:ext cx="48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sible Traj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polic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mapping state to command: u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65160"/>
            <a:ext cx="9144000" cy="6729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40" y="0"/>
            <a:ext cx="153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an we compute a polic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 trajectory from every starting point. The value function is the cost of each of those trajec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ize the policy u(x,p) and optimize the parameters for some distribution of initial con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program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00400" y="838080"/>
            <a:ext cx="5715000" cy="5829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e Trajectory From Every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01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240" y="0"/>
            <a:ext cx="35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u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7T02:24:05Z</dcterms:created>
  <dc:creator>cga</dc:creator>
  <dc:description/>
  <dc:language>en-US</dc:language>
  <cp:lastModifiedBy>cga</cp:lastModifiedBy>
  <dcterms:modified xsi:type="dcterms:W3CDTF">2012-02-15T14:35:04Z</dcterms:modified>
  <cp:revision>52</cp:revision>
  <dc:subject/>
  <dc:title>Handling uncertainty over time: predicting, estimating, recognizing</dc:title>
</cp:coreProperties>
</file>