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83400" cy="9169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8DB2-6BFB-444E-9A79-046987363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14C4-5A8B-43EF-8C9E-204F61E2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6F89-61DC-48C5-B68A-93C10923F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3347-4C3C-4591-B0BD-E010BC879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DFC8-484E-4B62-AB82-9C2F2ED6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8A09-29D9-4CED-AB73-662063DC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D7F2-2777-466B-841F-A63A07B8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8055-E793-4502-8783-8EEDD701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1DCB-6FD2-4983-9DE1-2FF4A8B7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3119-7247-4C60-8005-A9C1E19A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7431-9A0A-4508-8806-8C8A0983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2FD0-2DFF-4BE2-8B86-30FE5167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2C7F-B285-4ED5-9B7C-4E89160E8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ning Policies Us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Optim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Symbol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Atkeson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tor tasks: want to stay at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jectory tasks: go from A to B in time T, or attain goal set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ic tasks: cyclic behavior such as wal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ys to Parameterize Poli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 function u(x,p) = 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K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nomial (nonlinear controll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ociated with traje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(t) =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) + K(t)(x –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ociated with trajectory(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(x) = 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) +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)(x –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n: nearest neigh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mizing Policies Using Function Optim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cy 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meterized policy u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,p), p is vector of adjustable parame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st approach: Run it for a while, and measure total c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favorite function optimization approach to search for best 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ricks to improve policy comparison, such as using the same perturbations in different trials, and terminating trial early if really bad (racing algorithm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 Link Swing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034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63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 Link Swing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func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057400" y="1523880"/>
                <a:ext cx="107172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,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209680" y="2184480"/>
                <a:ext cx="685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505320" y="2819520"/>
            <a:ext cx="4925880" cy="46332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304920" y="3581280"/>
            <a:ext cx="8535600" cy="2895840"/>
            <a:chOff x="304920" y="3581280"/>
            <a:chExt cx="8535600" cy="2895840"/>
          </a:xfrm>
        </p:grpSpPr>
        <p:sp>
          <p:nvSpPr>
            <p:cNvPr id="51" name=""/>
            <p:cNvSpPr/>
            <p:nvPr/>
          </p:nvSpPr>
          <p:spPr>
            <a:xfrm>
              <a:off x="609840" y="5029200"/>
              <a:ext cx="0" cy="1447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29960" y="3581280"/>
              <a:ext cx="0" cy="1447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1507680" y="5050800"/>
              <a:ext cx="1023840" cy="1023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68240" y="5070600"/>
              <a:ext cx="1398240" cy="374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6308280" y="3983760"/>
              <a:ext cx="1023840" cy="1023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38640" y="49528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49528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267440" y="49528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248520" y="49528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153640" y="49528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771320" y="4495680"/>
              <a:ext cx="1069200" cy="91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87191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871912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8382240" y="4572000"/>
                  <a:ext cx="334800" cy="46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8077320" y="5105520"/>
                  <a:ext cx="341280" cy="37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304920" y="5029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10040" y="50292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038840" y="50292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19920" y="5029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5040" y="50292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54040" y="0"/>
            <a:ext cx="7689960" cy="7772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-2160" y="0"/>
            <a:ext cx="48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sible Traj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polic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mapping state to command: u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65160"/>
            <a:ext cx="9144000" cy="6729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40" y="0"/>
            <a:ext cx="153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an we compute a polic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e trajectory from every starting point. The value function is the cost of each of those traject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meterize the policy u(x,p) and optimize the parameters for some distribution of initial cond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 programm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200400" y="838080"/>
            <a:ext cx="5715000" cy="5829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e Trajectory From Every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011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240" y="0"/>
            <a:ext cx="35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lu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7T02:24:05Z</dcterms:created>
  <dc:creator>cga</dc:creator>
  <dc:description/>
  <dc:language>en-US</dc:language>
  <cp:lastModifiedBy>cga</cp:lastModifiedBy>
  <dcterms:modified xsi:type="dcterms:W3CDTF">2012-02-15T14:35:04Z</dcterms:modified>
  <cp:revision>52</cp:revision>
  <dc:subject/>
  <dc:title>Handling uncertainty over time: predicting, estimating, recognizing</dc:title>
</cp:coreProperties>
</file>