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1BE-9D5B-4DC0-B4A9-BA495E87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3FB-1162-47B3-B1D0-28E839E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445-33DD-4014-8809-ACF3AFB9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9FC-F297-48C2-8DFA-7E7150F3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399-6CDD-4786-AC70-C3C068CB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6E8-A606-4E0E-BF07-082C888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455-DD71-4BD1-9898-0C42A18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D4A-6E6B-40F2-931E-8DCB048C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494-8230-4DD1-A6C7-C5E6784E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E31-B0C4-44BE-8648-15E7E28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9F4-BAE4-4623-B254-F2DEBC0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7D6-AB5A-45AF-878F-E6D9D77A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5200-223F-47AF-8615-52F02206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general policy (a table in discrete state ca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hastic Dynamic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now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ellman equation applies to value and policy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d discount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St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still disc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cretize th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handle continuous st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 on a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point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generate trajectory segment of length N by minimizing C(u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interpolate using surrounding V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ultilinear interpolatio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ypically determined by when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dependent of V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continuous function optimizer to search for best u when minimizing C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) at that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 (Lar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867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lnTo>
                  <a:pt x="240" y="48"/>
                </a:lnTo>
                <a:lnTo>
                  <a:pt x="528" y="0"/>
                </a:lnTo>
                <a:lnTo>
                  <a:pt x="7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760" y="3733920"/>
            <a:ext cx="67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46960" y="3581280"/>
            <a:ext cx="69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809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638320" y="3200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809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236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5160" y="3505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0600" y="40384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Increment 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952560"/>
            <a:ext cx="5790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, multi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Gr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grid: local optimizer gets right answer in each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at policy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to avoi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can you figure out good tessellation without fully solv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os and Moore, Variable Resolution Discretization in Optimal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 Learning, 49 (2/3)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1-323, 20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, kd-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041560"/>
            <a:ext cx="9144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: continuou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 continuous control 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time 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(x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∑L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man Equation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icy/control law: u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hn Triangulation in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jectory Se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31800"/>
            <a:ext cx="66294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558720"/>
            <a:ext cx="73152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314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1249200"/>
            <a:ext cx="56386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Spl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V(x) of cell/region from model (constant, linear, quadrati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s of u(x) of cell/region from model (constant, lin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iteria applied to predecessors (how much change in V needed to affect trajector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Iteration: Continu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policy at discretized states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in table has constant u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s knot points for linear or higher order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 Same kind of trajectory segments used to compute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oli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rg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 using favorite continuous function optim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*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hastic DP: Continous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nte Carlo sampling of process noise for each trajectory segment (many trajectory segments)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analytic distribution (see Kalman fil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 equation involves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velop planning methods that scale computational cost according to complexity of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oblems are easy to solve (L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problems are expensive to solve, or aren’t solvable with current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" y="0"/>
            <a:ext cx="35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sampl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local models along traj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local optimizations to globally optim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continuous a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ized Dynamic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465360"/>
            <a:ext cx="6934320" cy="339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5105520" cy="2701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s (aka P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Expl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rees (R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ampling DP: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uniform strategies in multi-armed bandit problems: Epsilon-X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(random)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irovsky and Yudin: can’t beat curse of dimensionality in continuous action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 97: Random sampling of states in stochastic DP. E() smooths problem. Beat curse of dimensionality for computing 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n 00: POMDPs. Random sampling of belief states. Nearest neighbor interpolation of V(). Coverage vs. surpris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variant deterministic problem: find steady stat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function: Q(x,u) = L(x,u) + V(f(x,u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man’s equation: V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(x,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current policy u(x): Q(x,u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1 random action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est one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,u(x)) &lt;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V(x) = Q(x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u(x) =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 Asynchron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fun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solution: 100x100x100x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illi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1555920"/>
                <a:ext cx="2286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18000" cy="4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09680" y="2133720"/>
                <a:ext cx="133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578480"/>
            <a:ext cx="9144000" cy="227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046160"/>
            <a:ext cx="9144000" cy="3335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 S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28440"/>
            <a:ext cx="8763120" cy="6829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357516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7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440" y="2590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6640" y="6095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0" y="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Action Grid Siz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k: 60x60x60x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2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-1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-1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53640" cy="6780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486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More A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 Up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of Actions: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e distribution to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local optimization (gradient descent): so far only slows search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output trajectory with trajector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updates adap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ry optimization (including receding horizon control) can produce high quality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rajectory optimization often gets stuck in local minima that are not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mbine dynamic programming and trajectory optimization to get high quality answers with fewer problems from local minima. DP produces an initial trajectory, which is refined b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produces a policy u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ynamic Progra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7904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mization can produce useful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need to choose good features/basis functions/parame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se of Dimension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omputational cost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lutio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pecified end time 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represented b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x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Bellm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DP is valu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abulate policy: u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Dynamic Programming (no specified end ti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C(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a guess, or all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Bellma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) is given by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when V stops cha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needs to have zero cost, or need to discount so V() does not grow to infi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(x,u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(x,u))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2:24:05Z</dcterms:created>
  <dc:creator>cga</dc:creator>
  <dc:description/>
  <dc:language>en-US</dc:language>
  <cp:lastModifiedBy>cga</cp:lastModifiedBy>
  <dcterms:modified xsi:type="dcterms:W3CDTF">2012-02-15T14:39:30Z</dcterms:modified>
  <cp:revision>52</cp:revision>
  <dc:subject/>
  <dc:title>Handling uncertainty over time: predicting, estimating, recognizing</dc:title>
</cp:coreProperties>
</file>