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EE2-922A-4551-889B-0B54DA8E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508-397E-4620-8A9A-CD13BE51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46F-83BF-439C-B4FE-F92BF0F6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60C-2F1F-4E5F-90A5-8F143758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6EC-4F04-4356-B064-B26BCBBE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C28-49FE-46B5-B5F4-AF2E54E6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10B-2B11-435C-97DC-8339609E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7EA-4344-4C3A-8644-885CCA76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7AE-B6BA-4042-BCDC-FAE390B2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626-8AF5-4751-847B-3153FDA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98C-39D0-4F3F-A83E-EB55F8C7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88B-48BA-4CEE-A3D9-EE6F604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950E-7109-49FD-8B2E-3BA4EA538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general policy (a table in discrete state cas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hastic Dynamic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now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ellman equation applies to value and policy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d discount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State 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s still discr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cretize the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handle continuous st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 on a gr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ach point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generate trajectory segment of length N by minimizing C(u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interpolate using surrounding V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multilinear interpolation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typically determined by when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dependent of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continuous function optimizer to search for best u when minimizing C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) at that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 (Lars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004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2860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1148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0292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80988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lnTo>
                  <a:pt x="240" y="48"/>
                </a:lnTo>
                <a:lnTo>
                  <a:pt x="528" y="0"/>
                </a:lnTo>
                <a:lnTo>
                  <a:pt x="768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0760" y="3733920"/>
            <a:ext cx="67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46960" y="3581280"/>
            <a:ext cx="69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200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809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38320" y="32004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8098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12360" y="3429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55160" y="3505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0600" y="4038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952560"/>
            <a:ext cx="5790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, multilinear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Gr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grid: local optimizer gets right answer in each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at policy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to avoid local op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can you figure out good tessellation without fully solving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os and Moore, Variable Resolution Discretization in Optimal Contro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 Learning, 49 (2/3)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1-323, 200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, kd-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041560"/>
            <a:ext cx="9144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gram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: continuous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: continuous control o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time 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(x)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∑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man Equation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icy/control law: u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 in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jectory Seg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31800"/>
            <a:ext cx="66294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558720"/>
            <a:ext cx="73152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314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05320" y="1249200"/>
            <a:ext cx="56386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013120"/>
            <a:ext cx="914400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Spl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V(x) of cell/region from model (constant, linear, quadratic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u(x) of cell/region from model (constant, lin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riteria applied to predecessors (how much change in V needed to affect trajector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: Continu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policy at discretized states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ell in table has constant u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as knot points for linear or higher order s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Same kind of trajectory segments used to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using favorite continuous function optim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hastic DP: Contin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onte Carlo sampling of process noise for each trajectory segment (many trajectory segments)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analytic distribution (see Kalman fil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develop planning methods that scale computational cost according to complexity of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blems are easy to solve (LQ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ed problems are expensive to solve, or aren’t solvable with current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" y="0"/>
            <a:ext cx="35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o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local models along 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ly optim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local optimizations to globally optim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continuous a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ized Dynamic Plan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3465360"/>
            <a:ext cx="6934320" cy="3392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5105520" cy="2701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s (aka P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ly Expl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Trees (R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ampling DP: 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uniform strategies in multi-armed bandit problems: Epsilon-X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(random)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irovsky and Yudin: can’t beat curse of dimensionality in continuous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t 97: Random sampling of states in stochastic DP. E() smooths problem. Beat curse of dimensionality for computing E(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un 00: POMDPs. Random sampling of belief states. Nearest neighbor interpolation of V(). Coverage vs. surprise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Action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nvariant deterministic problem: find steady stat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: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man’s equation: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current policy u(x): Q(x,u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1 random action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est one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(x,u(x)) &lt;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x) =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u(x) =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 Asynchron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Resolution: 100x100x100x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illio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057400" y="1555920"/>
                <a:ext cx="2286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5418000" cy="40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209680" y="2133720"/>
                <a:ext cx="133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578480"/>
            <a:ext cx="9144000" cy="2279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046160"/>
            <a:ext cx="9144000" cy="333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28440"/>
            <a:ext cx="8763120" cy="6829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6000" y="357516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Li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7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81440" y="25909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6640" y="60958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0" y="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Action Grid Siz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: 60x60x60x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1851120"/>
            <a:ext cx="9144000" cy="31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12600"/>
            <a:ext cx="8534160" cy="6832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8-10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-14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53640" cy="6780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400" y="2514600"/>
            <a:ext cx="5486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More A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er Up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of Actions: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e distribution to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local optimization (gradient descent): so far only slows search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output trajectory with trajector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updates adap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ctory optimization (including receding horizon control) can produce high quality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rajectory optimization often gets stuck in local minima that are not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mbine dynamic programming and trajectory optimization to get high quality answers with fewer problems from local minima. DP produces an initial trajectory, which is refined b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 produces a policy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optimization can produce useful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need to choose good features/basis functions/parameter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se of Dimensiona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St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pecified end time 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is represented by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x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Bellma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sion of DP is value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tabulate policy: 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(no specified end ti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 guess, or all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Bellma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) is given by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when V stops cha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needs to have zero cost, or need to discount so V() does not grow to infin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2:24:05Z</dcterms:created>
  <dc:creator>cga</dc:creator>
  <dc:description/>
  <dc:language>en-US</dc:language>
  <cp:lastModifiedBy>cga</cp:lastModifiedBy>
  <dcterms:modified xsi:type="dcterms:W3CDTF">2012-02-15T14:39:30Z</dcterms:modified>
  <cp:revision>52</cp:revision>
  <dc:subject/>
  <dc:title>Handling uncertainty over time: predicting, estimating, recognizing</dc:title>
</cp:coreProperties>
</file>