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1C2-1E41-4444-A17A-C4645E6C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16E-16BA-4C63-B39B-4E5EBFE7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BC9-AF78-4C90-9496-9929576C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7E7-0F44-4D08-8114-234C6302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2C8-5729-4D35-884E-5EE1BCE3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C4A-D82C-4CE3-86B0-FAD959A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132-1CCA-40DB-AF5A-291520B3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B0D-7C8E-403E-9C4D-00A21A89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A1C-AEEB-4046-931C-35516A9A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C2B-C32E-4756-8667-81FF716C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B42-E32F-4CA1-B5BB-0F16A0D8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B17-F241-47D3-B595-C34A5E7D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7461-9A0C-47F4-BFB9-756E5D89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cmu.edu/~cga/drc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PA Robotics Challen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s Learn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nswered Question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al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ics is the science of wiring and conn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t is also the science of waste heat dis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aft – water co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bo – air co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s – Electric wrist motor always over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w and Steady vs. Fast and Fla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ew we were going to be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used human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otal autonomy plus communications de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: Assume other teams will rush and screw up (which happen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tlas repairs will not b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 Ru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am Steel (VRC) Vio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ze early and test, test,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crack of doom bu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introduce suicide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 temptation to t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in safety fea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robust to tired distracted human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your safety features don’t kill 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icide bug was not robust to fals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have project leader also run a divis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se an overall firefighter and skep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should have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fully teleoperated systems, and then gradually automate and worry about bandwidth limi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ode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group activities that simulated tests or did other things that got people to integrate and test entire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58200" y="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rough terrain and the ladder, locomotion were dominated by tight kinematic targ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these are all stepping ston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ifferent from most research on legged loco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1880" y="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els w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 are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wheeled/tracked vehicles plowed through debris. All other vehicles walked over rough ter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IST – walked on stairs; Nimbro, RoboSimian – no st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/wheel hybrids good if there is a flat floor somewhere under the pile of deb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eled/tracked vehicles fell: need to consider dynamics, need to be able to get up (CHIMP, NimbRo), and get un-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s                  Fi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05520" y="6854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KA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IH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CH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im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RoboSim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WPI-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DRC-HUBO UN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TRAC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68544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 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IH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CH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RoboSi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TRAC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WPI-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Tro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g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KA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H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RC-HUBO-UN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42840" y="914400"/>
            <a:ext cx="2514600" cy="472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371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8120" y="1828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514600" y="2286000"/>
            <a:ext cx="27432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098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657240" y="327672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0532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267080"/>
            <a:ext cx="24386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724280"/>
            <a:ext cx="25909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181480"/>
            <a:ext cx="2819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6095880"/>
            <a:ext cx="2743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648320" y="4190760"/>
            <a:ext cx="609480" cy="2361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4360" y="594360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= Out of the box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mproved Robot: DRC-H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kiest Team: IH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uckiest Teams: CHIMP,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st Effective Robot: Momaru (Nimb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esthetically Pleasing Egress: RoboSim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But Steady Award: WPI-C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unding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: mechanical and s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robotics (software and hardw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nk Rob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Challenges a good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doing the challenge crowd out other research? It certainly caused us to put some research on hold, but also led to new issues and redirected our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challenge make us more productive? In the short term, yes. In the long te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between developing conservative and reliable deployable systems, and understanding hard issues like ag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elf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s.cmu.edu/~cga/d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FR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counteract failure videos (robot snuff vid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U vs WPI-CMU: CMU “would have avoided falling down if we went as slow as you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nomy g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or Errors Domin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six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I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must detect and handle operator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false alarms kill (Typical suicide bug = deliberately fall down safe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ors vs. Aut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want control at all levels: “Nudg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not particularly interested in aut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system from ground up to be easy for humans to drive, rather than design a system to be autono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the robot from the op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Teams Had A Major Bug Slip Through Tes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ug was an incorrect Finite State Machine for the Drill Task, which led to the drill being dr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 attempt at the drill task failed because the right forearm overheated and shut off. We had a two handed strategy (bad). We had evidence that this could happen, but failed to act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 is too frag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IST drill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MP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I-CMU parameter tweaking: MA vs. CA (actually battery vs. offboard pow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Labs – Atlas behavior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ST Nedo – 4cm ground level error -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y is not enough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rs, ladder, doors, terrain, debris: No use of railings, walls, door fra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ress: all about bump an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s: Walk and push: practice in a wind tun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ng and State Estim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mportant than AI,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 state estimation, not fancy control, is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ore sensors (wrist and knee came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sk specific sen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design for 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failure (Atlas a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onents -&gt; something always br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6:43:35Z</dcterms:created>
  <dc:creator>cga</dc:creator>
  <dc:description/>
  <dc:language>en-US</dc:language>
  <cp:lastModifiedBy>cga</cp:lastModifiedBy>
  <dcterms:modified xsi:type="dcterms:W3CDTF">2015-11-03T23:34:50Z</dcterms:modified>
  <cp:revision>110</cp:revision>
  <dc:subject/>
  <dc:title>Model-based Policy Gradient</dc:title>
</cp:coreProperties>
</file>