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CEC-D2B5-4AB6-B22C-4BB45104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D65-038C-4BF9-A202-317ED46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DC4-C54E-4B6B-9F46-5CED6B0E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B88-32E0-4132-857C-7945FF5E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D59-CC7F-4F9B-90B1-E398A58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53C-5266-4528-B294-7741100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FCF-8EA0-4C37-907B-6AA0649C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19E-06A9-4477-86C6-86F5E19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A26-BD17-49A8-B894-6DDD360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3DE-2FF6-4275-88BA-E053DCD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5D8-E15B-4032-A901-5A38283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224-DB85-429A-BEB6-E61DE12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062-1229-4D51-B359-C7CD8D2A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cmu.edu/~cga/drc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PA Robotics Challen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nswered Quest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al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 is the science of wiring and conn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t is also the science of waste heat dis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aft –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o – ai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 – Electric wrist motor always over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w and Steady vs. Fast and Fla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ew we were going to be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used huma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otal autonomy plus communications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: Assume other teams will rush and screw up (which happen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tlas repairs will not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Ru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am Steel (VRC) Vio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ze early and test, test,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crack of doom 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ntroduce suicid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 temptation to t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in safety f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robust to tired distracted human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your safety features don’t kill 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cide bug was not robust to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have project leader also run a divi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e an overall firefighter and skep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should have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fully teleoperated systems, and then gradually automate and worry about bandwidth limi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od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group activities that simulated tests or did other things that got people to integrate and test entir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ough terrain and the ladder, locomotion were dominated by tight kinematic targ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these are all stepping ston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ifferent from most research on legged loco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els w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ar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heeled/tracked vehicles plowed through debris. All other vehicles walked over rough ter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– walked on stairs; Nimbro, RoboSimian – no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/wheel hybrids good if there is a flat floor somewhere under the pile of deb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eled/tracked vehicles fell: need to consider dynamics, need to be able to get up (CHIMP, NimbRo), and get un-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s                  Fi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6854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m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RoboSim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DRC-HUBO 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6854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 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RoboSi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Tro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C-HUBO-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42840" y="914400"/>
            <a:ext cx="2514600" cy="472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371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81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514600" y="228600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98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657240" y="32767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0532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267080"/>
            <a:ext cx="24386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724280"/>
            <a:ext cx="25909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181480"/>
            <a:ext cx="2819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6095880"/>
            <a:ext cx="2743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8320" y="4190760"/>
            <a:ext cx="609480" cy="2361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4360" y="594360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= Out of the box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mproved Robot: DRC-H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est Team: IH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uckiest Teams: CHIMP,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st Effective Robot: Momaru (Nimb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esthetically Pleasing Egress: RoboSim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But Steady Award: WPI-C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unding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: mechanical and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robotics (software and hard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nk Rob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hallenges a good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doing the challenge crowd out other research? It certainly caused us to put some research on hold, but also led to new issues and redirected our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hallenge make us more productive? In the short term, yes. In the long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between developing conservative and reliable deployable systems, and understanding hard issues like ag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elf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.cmu.edu/~cga/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counteract failure videos (robot snuff vid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U vs WPI-CMU: CMU “would have avoided falling down if we went as slow as you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omy g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 Errors Domin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six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I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ust detect and handle operator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false alarms kill (Typical suicide bug = deliberately fall down saf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s vs. Aut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want control at all levels: “Nudg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not particularly interested in aut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ystem from ground up to be easy for humans to drive, rather than design a system to be autono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the robot from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Teams Had A Major Bug Slip Through Tes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ug was an incorrect Finite State Machine for the Drill Task, which led to the drill being dr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 attempt at the drill task failed because the right forearm overheated and shut off. We had a two handed strategy (bad). We had evidence that this could happen, but failed to act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is too frag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dril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MP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I-CMU parameter tweaking: MA vs. CA (actually battery vs. offboard pow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Labs – Atlas behavior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ST Nedo – 4cm ground level error -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is not enough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rs, ladder, doors, terrain, debris: No use of railings, walls, door fr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ess: all about bump an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s: Walk and push: practice in a wind tu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ng and State Esti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mportant than AI,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state estimation, not fancy control, i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ore sensors (wrist and knee came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sk specific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design for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 (Atlas a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onents -&gt; something always br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5-11-03T23:34:50Z</dcterms:modified>
  <cp:revision>110</cp:revision>
  <dc:subject/>
  <dc:title>Model-based Policy Gradient</dc:title>
</cp:coreProperties>
</file>