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8AA-4C82-408F-9263-FE2E6BEA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2C30-54EA-49C0-92C5-DD7D3C49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056-4319-4F82-9AF0-A84313B7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B52-44D8-4F5A-B383-EE140D80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CE8-993F-4758-8933-02EA8DC7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0C06-5892-4F49-AE41-9A23EB16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AB9-C86D-4F01-B866-691BCD52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046A-2B05-4FB9-B46B-4F9B0C77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4C63-BA0F-4542-AB8B-890E921D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9AD1-23A2-4E8F-997B-E8DBC70A3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091-C2A1-47F8-BBAB-754CD908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FCBC-4CD4-4526-8194-4E7C6133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277-0D99-4AC4-B56B-FA9644E6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43D-6A1B-4676-BB32-937CFDE7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5F9-171A-4BEA-9C4B-DE269B73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5682-E4CD-4E6F-B44C-C397D1E1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65D2-C87F-495E-9DBA-C7B1CBE8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1988-A714-4A62-A585-59BA2147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3C64-B399-460E-BE59-4376945B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2437-0D9F-44F1-B950-A12899E1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E0DA-76FB-4FA5-82AB-A8F2174D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541D-4E5C-41C4-9D70-11AE8040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B094-8836-4AAF-9807-B2E5B648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ACC7-C43E-4B70-BBCB-18284F26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77B-8880-46A0-B57A-E93A3A9F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E9B3-B3F6-4499-967B-89CD1BBA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A4D3-E7F8-4BF8-A03E-4ADF0A8B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F7CD-1254-4A09-8350-F49BB9D8D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A19D-846C-4C31-99B7-016A1297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CA76-E337-4EC4-9E1A-38B7AE17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D13-820C-4CFB-AA10-6A738777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E33F-ADE3-4AB6-B1A1-36E5BF7E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C54-CC7D-4A51-B0EC-22C8EE69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D6D-BEB6-499D-9BDA-579801B3C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DE56-E8FF-4593-B143-617045D3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B8A-CD5B-443A-B74F-26C8459F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310-B00A-47E1-B118-A5938C4E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353-4FAC-4D80-B4C8-E6A8AFF3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654-DA6B-4627-A0AC-B6C15773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806-8C35-4BB0-AFF6-08DD2E19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4E5-ABA3-4250-81DD-706D2DE3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C35-A1D5-4EBD-B429-332D5807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BA5-385C-4424-AD52-0F3F767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41F-A5AA-4C6D-A0A3-093EEABA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082-62A5-4312-A0B6-884EC0D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3B6-1B8C-4824-9432-9AC0042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71F-7266-48C5-8E29-C27F922D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9328-CD43-4935-B3FD-4EAFDE8BB3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rete Variational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Steph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.E. Marsden and M. West, “Discrete mechanics and variational integrators,” Acta Numerica, No. 10, pp. 357-514,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. West “Variational Integrators,” PhD Thesis, Caltech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F5CB-9C57-4D8B-8640-EC7C97003F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 of the Lagrangi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ast Action = the function, q*(t), minimizes the integral of the Lagrang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066680" y="2743200"/>
                <a:ext cx="6783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ε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4267080" y="4651200"/>
                <a:ext cx="309096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8"/>
          <p:cNvSpPr/>
          <p:nvPr/>
        </p:nvSpPr>
        <p:spPr>
          <a:xfrm>
            <a:off x="1219320" y="4879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 of trajectory with endpoints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3505320" y="5184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600200" y="6019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milton’s Principle” ~1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FFAD-262E-41B5-93AE-7D460A3780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09480" y="3886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us of Variations” ~ Lagrange, 17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3048120" y="4800600"/>
                <a:ext cx="2877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Picture 14" descr=""/>
          <p:cNvPicPr/>
          <p:nvPr/>
        </p:nvPicPr>
        <p:blipFill>
          <a:blip r:embed="rId1"/>
          <a:stretch/>
        </p:blipFill>
        <p:spPr>
          <a:xfrm>
            <a:off x="609480" y="2773440"/>
            <a:ext cx="8001000" cy="210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4200480" cy="2152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81080" y="6095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ler-Lagrange Equ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20B1-32E0-4FD2-BF7A-6686C2058D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219320" y="1523880"/>
                <a:ext cx="4155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457200" y="2286000"/>
                <a:ext cx="5008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133720" y="3429000"/>
                <a:ext cx="2908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"/>
              <p:cNvSpPr txBox="1"/>
              <p:nvPr/>
            </p:nvSpPr>
            <p:spPr>
              <a:xfrm>
                <a:off x="2133720" y="4435560"/>
                <a:ext cx="43765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103480" y="5924520"/>
                <a:ext cx="4437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85C-7D34-4AC1-A25A-E5F5D25396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iscrete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:Qx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CDA-769F-461D-8BF0-CE1EA0A4AB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3962520" y="1523880"/>
                <a:ext cx="47098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p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Line 50"/>
          <p:cNvSpPr/>
          <p:nvPr/>
        </p:nvSpPr>
        <p:spPr>
          <a:xfrm flipH="1">
            <a:off x="3123720" y="37339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2"/>
          <p:cNvGrpSpPr/>
          <p:nvPr/>
        </p:nvGrpSpPr>
        <p:grpSpPr>
          <a:xfrm>
            <a:off x="1371600" y="3700440"/>
            <a:ext cx="5867280" cy="3005280"/>
            <a:chOff x="1371600" y="3700440"/>
            <a:chExt cx="5867280" cy="3005280"/>
          </a:xfrm>
        </p:grpSpPr>
        <p:sp>
          <p:nvSpPr>
            <p:cNvPr id="169" name="Line 6"/>
            <p:cNvSpPr/>
            <p:nvPr/>
          </p:nvSpPr>
          <p:spPr>
            <a:xfrm>
              <a:off x="1872360" y="3700440"/>
              <a:ext cx="0" cy="26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1872360" y="6348240"/>
              <a:ext cx="536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6"/>
            <p:cNvSpPr/>
            <p:nvPr/>
          </p:nvSpPr>
          <p:spPr>
            <a:xfrm>
              <a:off x="1872360" y="4277160"/>
              <a:ext cx="4908960" cy="207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237312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287424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337500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387576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437688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487764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537876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587952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638028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 flipV="1">
              <a:off x="2373120" y="4630680"/>
              <a:ext cx="0" cy="171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V="1">
              <a:off x="2874240" y="4415400"/>
              <a:ext cx="0" cy="193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 flipV="1">
              <a:off x="3375000" y="4272840"/>
              <a:ext cx="0" cy="207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 flipH="1" flipV="1">
              <a:off x="3872880" y="4288680"/>
              <a:ext cx="2880" cy="20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 flipH="1" flipV="1">
              <a:off x="4376880" y="4344480"/>
              <a:ext cx="2880" cy="198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 flipH="1" flipV="1">
              <a:off x="4877640" y="4630320"/>
              <a:ext cx="2880" cy="1701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 flipH="1" flipV="1">
              <a:off x="5378760" y="4988160"/>
              <a:ext cx="2880" cy="134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 flipH="1" flipV="1">
              <a:off x="5879520" y="5131080"/>
              <a:ext cx="2880" cy="11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 flipV="1">
              <a:off x="6380280" y="498816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 flipH="1">
              <a:off x="187200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 flipH="1">
              <a:off x="237276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 flipH="1">
              <a:off x="2873880" y="441576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 flipH="1">
              <a:off x="3374640" y="42728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 flipH="1">
              <a:off x="3875400" y="43444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 flipH="1">
              <a:off x="437652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1"/>
            <p:cNvSpPr/>
            <p:nvPr/>
          </p:nvSpPr>
          <p:spPr>
            <a:xfrm flipH="1">
              <a:off x="4877280" y="498852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4"/>
            <p:cNvSpPr/>
            <p:nvPr/>
          </p:nvSpPr>
          <p:spPr>
            <a:xfrm flipH="1">
              <a:off x="5378400" y="51314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5"/>
            <p:cNvSpPr/>
            <p:nvPr/>
          </p:nvSpPr>
          <p:spPr>
            <a:xfrm flipH="1">
              <a:off x="5879160" y="51314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46"/>
                <p:cNvSpPr txBox="1"/>
                <p:nvPr/>
              </p:nvSpPr>
              <p:spPr>
                <a:xfrm>
                  <a:off x="1371600" y="4845240"/>
                  <a:ext cx="307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47"/>
                <p:cNvSpPr txBox="1"/>
                <p:nvPr/>
              </p:nvSpPr>
              <p:spPr>
                <a:xfrm>
                  <a:off x="2730960" y="6419520"/>
                  <a:ext cx="222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48"/>
                <p:cNvSpPr txBox="1"/>
                <p:nvPr/>
              </p:nvSpPr>
              <p:spPr>
                <a:xfrm>
                  <a:off x="3017160" y="6348240"/>
                  <a:ext cx="16236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Rectangle 49"/>
            <p:cNvSpPr/>
            <p:nvPr/>
          </p:nvSpPr>
          <p:spPr>
            <a:xfrm>
              <a:off x="2874240" y="4415760"/>
              <a:ext cx="500760" cy="193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51"/>
                <p:cNvSpPr txBox="1"/>
                <p:nvPr/>
              </p:nvSpPr>
              <p:spPr>
                <a:xfrm>
                  <a:off x="3176640" y="6419520"/>
                  <a:ext cx="3337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Object 52"/>
              <p:cNvSpPr txBox="1"/>
              <p:nvPr/>
            </p:nvSpPr>
            <p:spPr>
              <a:xfrm>
                <a:off x="4038480" y="3124080"/>
                <a:ext cx="4859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tion of Discrete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47920" y="5711760"/>
                <a:ext cx="6224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" name="Group 11"/>
          <p:cNvGrpSpPr/>
          <p:nvPr/>
        </p:nvGrpSpPr>
        <p:grpSpPr>
          <a:xfrm>
            <a:off x="304920" y="3200400"/>
            <a:ext cx="8583120" cy="2318760"/>
            <a:chOff x="304920" y="3200400"/>
            <a:chExt cx="8583120" cy="2318760"/>
          </a:xfrm>
        </p:grpSpPr>
        <p:pic>
          <p:nvPicPr>
            <p:cNvPr id="208" name="Picture 7" descr=""/>
            <p:cNvPicPr/>
            <p:nvPr/>
          </p:nvPicPr>
          <p:blipFill>
            <a:blip r:embed="rId1"/>
            <a:stretch/>
          </p:blipFill>
          <p:spPr>
            <a:xfrm>
              <a:off x="304920" y="3200400"/>
              <a:ext cx="8557560" cy="165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8" descr=""/>
            <p:cNvPicPr/>
            <p:nvPr/>
          </p:nvPicPr>
          <p:blipFill>
            <a:blip r:embed="rId2"/>
            <a:stretch/>
          </p:blipFill>
          <p:spPr>
            <a:xfrm>
              <a:off x="3286080" y="4939560"/>
              <a:ext cx="56019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9"/>
            <p:cNvSpPr/>
            <p:nvPr/>
          </p:nvSpPr>
          <p:spPr>
            <a:xfrm flipV="1">
              <a:off x="5439240" y="4939200"/>
              <a:ext cx="414000" cy="57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 flipV="1">
              <a:off x="8420760" y="4939200"/>
              <a:ext cx="414000" cy="57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4276800" cy="2171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2438280" y="6324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Euler-Lagrange Equa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0C26-48F2-40E0-9303-9C634D93EA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tional Integ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for      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828800" y="2590920"/>
                <a:ext cx="54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" y="3733920"/>
                <a:ext cx="7950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8"/>
              <p:cNvSpPr txBox="1"/>
              <p:nvPr/>
            </p:nvSpPr>
            <p:spPr>
              <a:xfrm>
                <a:off x="380880" y="5638680"/>
                <a:ext cx="8197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2422440" y="1600200"/>
                <a:ext cx="625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F03E-A886-46F3-A4C9-E49C591866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Nonlinear Root F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371600" y="3581280"/>
                <a:ext cx="3589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990720" y="2133720"/>
                <a:ext cx="6879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2857680" cy="23526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2644-E435-499F-BCEA-90C6EF45F8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Example: Spring-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 Lagrang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ler-Lagrange Equ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Integration Sch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486400" y="1447920"/>
                <a:ext cx="33051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5299200" y="2666880"/>
                <a:ext cx="3844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590920" y="4572000"/>
                <a:ext cx="37843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0269-EB28-408F-966F-1FBCCD6B9A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Example: Spring-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e Lagrang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e Euler-Lagrange Equ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D6D7-E984-469D-96A5-F782BC80A0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76520" y="1981080"/>
                <a:ext cx="57751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676520" y="3952800"/>
                <a:ext cx="54514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2057400" y="4334040"/>
                <a:ext cx="45576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2590920" y="5562720"/>
                <a:ext cx="35449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: 3 Types of Integ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ler – easiest, least 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ge-Kutta – more complicated, more 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– EASY &amp; ACCUR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513-D16F-457D-91B5-88BDD134B3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My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oid balance using simpl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ant floating body force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push recovery planning by trajecto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36"/>
          <p:cNvGrpSpPr/>
          <p:nvPr/>
        </p:nvGrpSpPr>
        <p:grpSpPr>
          <a:xfrm>
            <a:off x="5562720" y="1523880"/>
            <a:ext cx="2818800" cy="4249800"/>
            <a:chOff x="5562720" y="1523880"/>
            <a:chExt cx="2818800" cy="4249800"/>
          </a:xfrm>
        </p:grpSpPr>
        <p:grpSp>
          <p:nvGrpSpPr>
            <p:cNvPr id="54" name="Group 131"/>
            <p:cNvGrpSpPr/>
            <p:nvPr/>
          </p:nvGrpSpPr>
          <p:grpSpPr>
            <a:xfrm>
              <a:off x="5562720" y="1523880"/>
              <a:ext cx="2733120" cy="4249800"/>
              <a:chOff x="5562720" y="1523880"/>
              <a:chExt cx="2733120" cy="4249800"/>
            </a:xfrm>
          </p:grpSpPr>
          <p:sp>
            <p:nvSpPr>
              <p:cNvPr id="55" name="Parallelogram 16"/>
              <p:cNvSpPr/>
              <p:nvPr/>
            </p:nvSpPr>
            <p:spPr>
              <a:xfrm>
                <a:off x="5562720" y="4946400"/>
                <a:ext cx="2733120" cy="827280"/>
              </a:xfrm>
              <a:prstGeom prst="parallelogram">
                <a:avLst>
                  <a:gd name="adj" fmla="val 109880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Oval 17"/>
              <p:cNvGrpSpPr/>
              <p:nvPr/>
            </p:nvGrpSpPr>
            <p:grpSpPr>
              <a:xfrm>
                <a:off x="7229520" y="2740320"/>
                <a:ext cx="731160" cy="514440"/>
                <a:chOff x="7229520" y="2740320"/>
                <a:chExt cx="731160" cy="514440"/>
              </a:xfrm>
            </p:grpSpPr>
            <p:pic>
              <p:nvPicPr>
                <p:cNvPr id="57" name="Oval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29520" y="2740320"/>
                  <a:ext cx="731160" cy="51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18032400">
                  <a:off x="7522560" y="2722320"/>
                  <a:ext cx="14868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Oval 18"/>
              <p:cNvGrpSpPr/>
              <p:nvPr/>
            </p:nvGrpSpPr>
            <p:grpSpPr>
              <a:xfrm>
                <a:off x="7022520" y="1802160"/>
                <a:ext cx="438840" cy="1095480"/>
                <a:chOff x="7022520" y="1802160"/>
                <a:chExt cx="438840" cy="1095480"/>
              </a:xfrm>
            </p:grpSpPr>
            <p:pic>
              <p:nvPicPr>
                <p:cNvPr id="60" name="Oval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22520" y="1802160"/>
                  <a:ext cx="438840" cy="109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20974800">
                  <a:off x="7150320" y="197172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Oval 19"/>
              <p:cNvGrpSpPr/>
              <p:nvPr/>
            </p:nvGrpSpPr>
            <p:grpSpPr>
              <a:xfrm>
                <a:off x="6991920" y="4822560"/>
                <a:ext cx="651960" cy="387360"/>
                <a:chOff x="6991920" y="4822560"/>
                <a:chExt cx="651960" cy="387360"/>
              </a:xfrm>
            </p:grpSpPr>
            <p:pic>
              <p:nvPicPr>
                <p:cNvPr id="63" name="Oval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91920" y="4822560"/>
                  <a:ext cx="651960" cy="38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675800">
                  <a:off x="7226280" y="4799520"/>
                  <a:ext cx="188280" cy="38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Oval 20"/>
              <p:cNvGrpSpPr/>
              <p:nvPr/>
            </p:nvGrpSpPr>
            <p:grpSpPr>
              <a:xfrm>
                <a:off x="7040880" y="3369960"/>
                <a:ext cx="694800" cy="974520"/>
                <a:chOff x="7040880" y="3369960"/>
                <a:chExt cx="694800" cy="974520"/>
              </a:xfrm>
            </p:grpSpPr>
            <p:pic>
              <p:nvPicPr>
                <p:cNvPr id="66" name="Oval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040880" y="3369960"/>
                  <a:ext cx="69480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9680600">
                  <a:off x="7293960" y="34826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" name="Oval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6242040" y="4441320"/>
                <a:ext cx="481320" cy="865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" name="Oval 22"/>
              <p:cNvGrpSpPr/>
              <p:nvPr/>
            </p:nvGrpSpPr>
            <p:grpSpPr>
              <a:xfrm>
                <a:off x="7077240" y="4168800"/>
                <a:ext cx="639720" cy="829080"/>
                <a:chOff x="7077240" y="4168800"/>
                <a:chExt cx="639720" cy="829080"/>
              </a:xfrm>
            </p:grpSpPr>
            <p:pic>
              <p:nvPicPr>
                <p:cNvPr id="70" name="Oval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077240" y="4168800"/>
                  <a:ext cx="639720" cy="82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2822600">
                  <a:off x="7305840" y="4259880"/>
                  <a:ext cx="19152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Oval 23"/>
              <p:cNvGrpSpPr/>
              <p:nvPr/>
            </p:nvGrpSpPr>
            <p:grpSpPr>
              <a:xfrm>
                <a:off x="6443280" y="3267000"/>
                <a:ext cx="828720" cy="484200"/>
                <a:chOff x="6443280" y="3267000"/>
                <a:chExt cx="828720" cy="484200"/>
              </a:xfrm>
            </p:grpSpPr>
            <p:pic>
              <p:nvPicPr>
                <p:cNvPr id="73" name="Oval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43280" y="3267000"/>
                  <a:ext cx="828720" cy="48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6732720" y="3230280"/>
                  <a:ext cx="255240" cy="5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val 24"/>
              <p:cNvGrpSpPr/>
              <p:nvPr/>
            </p:nvGrpSpPr>
            <p:grpSpPr>
              <a:xfrm>
                <a:off x="6632280" y="1523880"/>
                <a:ext cx="615600" cy="1918800"/>
                <a:chOff x="6632280" y="1523880"/>
                <a:chExt cx="615600" cy="1918800"/>
              </a:xfrm>
            </p:grpSpPr>
            <p:pic>
              <p:nvPicPr>
                <p:cNvPr id="76" name="Oval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32280" y="1523880"/>
                  <a:ext cx="615600" cy="19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339600">
                  <a:off x="6780600" y="1818000"/>
                  <a:ext cx="325080" cy="12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val 25"/>
              <p:cNvGrpSpPr/>
              <p:nvPr/>
            </p:nvGrpSpPr>
            <p:grpSpPr>
              <a:xfrm>
                <a:off x="6413040" y="3484800"/>
                <a:ext cx="408240" cy="1101600"/>
                <a:chOff x="6413040" y="3484800"/>
                <a:chExt cx="408240" cy="1101600"/>
              </a:xfrm>
            </p:grpSpPr>
            <p:pic>
              <p:nvPicPr>
                <p:cNvPr id="79" name="Oval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13040" y="3484800"/>
                  <a:ext cx="408240" cy="110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386400">
                  <a:off x="6524280" y="36590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Oval 26"/>
              <p:cNvGrpSpPr/>
              <p:nvPr/>
            </p:nvGrpSpPr>
            <p:grpSpPr>
              <a:xfrm>
                <a:off x="6376320" y="1753560"/>
                <a:ext cx="578880" cy="1046880"/>
                <a:chOff x="6376320" y="1753560"/>
                <a:chExt cx="578880" cy="1046880"/>
              </a:xfrm>
            </p:grpSpPr>
            <p:pic>
              <p:nvPicPr>
                <p:cNvPr id="82" name="Oval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376320" y="1753560"/>
                  <a:ext cx="578880" cy="104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2150600">
                  <a:off x="6572520" y="19004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Oval 27"/>
              <p:cNvGrpSpPr/>
              <p:nvPr/>
            </p:nvGrpSpPr>
            <p:grpSpPr>
              <a:xfrm>
                <a:off x="6327360" y="2595240"/>
                <a:ext cx="572760" cy="641520"/>
                <a:chOff x="6327360" y="2595240"/>
                <a:chExt cx="572760" cy="641520"/>
              </a:xfrm>
            </p:grpSpPr>
            <p:pic>
              <p:nvPicPr>
                <p:cNvPr id="85" name="Oval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327360" y="2595240"/>
                  <a:ext cx="572760" cy="64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224000">
                  <a:off x="6538680" y="2658240"/>
                  <a:ext cx="16020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Oval 28"/>
              <p:cNvSpPr/>
              <p:nvPr/>
            </p:nvSpPr>
            <p:spPr>
              <a:xfrm>
                <a:off x="7100640" y="5286600"/>
                <a:ext cx="426960" cy="8352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9"/>
              <p:cNvSpPr/>
              <p:nvPr/>
            </p:nvSpPr>
            <p:spPr>
              <a:xfrm>
                <a:off x="7670520" y="5201640"/>
                <a:ext cx="137880" cy="6768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0"/>
              <p:cNvSpPr/>
              <p:nvPr/>
            </p:nvSpPr>
            <p:spPr>
              <a:xfrm>
                <a:off x="7014960" y="4933800"/>
                <a:ext cx="734760" cy="479160"/>
              </a:xfrm>
              <a:prstGeom prst="pie">
                <a:avLst/>
              </a:prstGeom>
              <a:noFill/>
              <a:ln w="38160">
                <a:solidFill>
                  <a:srgbClr val="4a7ebb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31"/>
              <p:cNvSpPr/>
              <p:nvPr/>
            </p:nvSpPr>
            <p:spPr>
              <a:xfrm>
                <a:off x="6843600" y="3335400"/>
                <a:ext cx="171360" cy="169920"/>
              </a:xfrm>
              <a:prstGeom prst="ellipse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2"/>
              <p:cNvSpPr/>
              <p:nvPr/>
            </p:nvSpPr>
            <p:spPr>
              <a:xfrm>
                <a:off x="6903720" y="3349440"/>
                <a:ext cx="885600" cy="77040"/>
              </a:xfrm>
              <a:prstGeom prst="pie">
                <a:avLst/>
              </a:prstGeom>
              <a:noFill/>
              <a:ln w="38160">
                <a:solidFill>
                  <a:srgbClr val="98b954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" name="Straight Arrow Connector 33"/>
              <p:cNvCxnSpPr/>
              <p:nvPr/>
            </p:nvCxnSpPr>
            <p:spPr>
              <a:xfrm flipV="1">
                <a:off x="6389640" y="3799440"/>
                <a:ext cx="467280" cy="172188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grpSp>
            <p:nvGrpSpPr>
              <p:cNvPr id="93" name="Oval 34"/>
              <p:cNvGrpSpPr/>
              <p:nvPr/>
            </p:nvGrpSpPr>
            <p:grpSpPr>
              <a:xfrm>
                <a:off x="6108120" y="5191920"/>
                <a:ext cx="639720" cy="435600"/>
                <a:chOff x="6108120" y="5191920"/>
                <a:chExt cx="639720" cy="435600"/>
              </a:xfrm>
            </p:grpSpPr>
            <p:pic>
              <p:nvPicPr>
                <p:cNvPr id="94" name="Oval 3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08120" y="5191920"/>
                  <a:ext cx="639720" cy="43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7234400">
                  <a:off x="6330960" y="5193360"/>
                  <a:ext cx="200520" cy="38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Oval 35"/>
              <p:cNvSpPr/>
              <p:nvPr/>
            </p:nvSpPr>
            <p:spPr>
              <a:xfrm>
                <a:off x="7237080" y="4906800"/>
                <a:ext cx="171360" cy="16992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6"/>
              <p:cNvSpPr/>
              <p:nvPr/>
            </p:nvSpPr>
            <p:spPr>
              <a:xfrm>
                <a:off x="6283080" y="5275800"/>
                <a:ext cx="171360" cy="16848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8" name="Object 2"/>
                <p:cNvSpPr txBox="1"/>
                <p:nvPr/>
              </p:nvSpPr>
              <p:spPr>
                <a:xfrm>
                  <a:off x="7774920" y="3189960"/>
                  <a:ext cx="606600" cy="40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3"/>
                <p:cNvSpPr txBox="1"/>
                <p:nvPr/>
              </p:nvSpPr>
              <p:spPr>
                <a:xfrm>
                  <a:off x="7629120" y="4457160"/>
                  <a:ext cx="7333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4"/>
                <p:cNvSpPr txBox="1"/>
                <p:nvPr/>
              </p:nvSpPr>
              <p:spPr>
                <a:xfrm>
                  <a:off x="6254280" y="2977560"/>
                  <a:ext cx="30384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5"/>
                <p:cNvSpPr txBox="1"/>
                <p:nvPr/>
              </p:nvSpPr>
              <p:spPr>
                <a:xfrm>
                  <a:off x="6762600" y="4457160"/>
                  <a:ext cx="3538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6"/>
                <p:cNvSpPr txBox="1"/>
                <p:nvPr/>
              </p:nvSpPr>
              <p:spPr>
                <a:xfrm>
                  <a:off x="5816880" y="4857120"/>
                  <a:ext cx="3805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Straight Connector 10"/>
            <p:cNvSpPr/>
            <p:nvPr/>
          </p:nvSpPr>
          <p:spPr>
            <a:xfrm>
              <a:off x="6496200" y="3190680"/>
              <a:ext cx="372960" cy="182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11"/>
            <p:cNvSpPr/>
            <p:nvPr/>
          </p:nvSpPr>
          <p:spPr>
            <a:xfrm>
              <a:off x="6129360" y="5113440"/>
              <a:ext cx="233280" cy="220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12"/>
            <p:cNvSpPr/>
            <p:nvPr/>
          </p:nvSpPr>
          <p:spPr>
            <a:xfrm>
              <a:off x="7050240" y="4710240"/>
              <a:ext cx="233280" cy="220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3"/>
            <p:cNvSpPr/>
            <p:nvPr/>
          </p:nvSpPr>
          <p:spPr>
            <a:xfrm flipH="1">
              <a:off x="7616880" y="4819680"/>
              <a:ext cx="139680" cy="18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7"/>
                <p:cNvSpPr txBox="1"/>
                <p:nvPr/>
              </p:nvSpPr>
              <p:spPr>
                <a:xfrm>
                  <a:off x="6080760" y="3583080"/>
                  <a:ext cx="27756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Straight Connector 15"/>
            <p:cNvSpPr/>
            <p:nvPr/>
          </p:nvSpPr>
          <p:spPr>
            <a:xfrm>
              <a:off x="6296040" y="3833640"/>
              <a:ext cx="379080" cy="323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Slide Number Placeholder 3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73E4-F75D-4318-ADCD-0B585D6CA4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8"/>
          <p:cNvSpPr/>
          <p:nvPr/>
        </p:nvSpPr>
        <p:spPr>
          <a:xfrm>
            <a:off x="2133720" y="62596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s.cmu.edu/~bsteph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FE3A-A869-4684-B389-96B643D4FA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8"/>
          <p:cNvSpPr/>
          <p:nvPr/>
        </p:nvSpPr>
        <p:spPr>
          <a:xfrm>
            <a:off x="228600" y="5533920"/>
            <a:ext cx="58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does not dissipat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error is b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3AF4-BA9F-457C-A2A7-2889D5EA51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0" r="0" b="24829"/>
          <a:stretch/>
        </p:blipFill>
        <p:spPr>
          <a:xfrm>
            <a:off x="0" y="2133720"/>
            <a:ext cx="9144000" cy="1614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0" y="62118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n A., Desbrun M. “Discrete geometric mechanics for variational time integrators” in Discrete Differential Geometry. ACM SIGGRAPH Course Note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al Integrators are “Symplectic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explanation: area of the cat head remains constant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4B5-1E38-4574-8079-3AE7458045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cing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ization of Lagrange–d’Alembert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685800" y="4070520"/>
            <a:ext cx="7751880" cy="653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685800" y="5108400"/>
            <a:ext cx="7835760" cy="454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1523880" y="2743200"/>
            <a:ext cx="6029280" cy="90504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071-EA7F-4F3B-BD57-F08919BA27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2819520" y="5334120"/>
                <a:ext cx="3554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0" y="1905120"/>
                <a:ext cx="9144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h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h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∇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3581280" y="3733920"/>
                <a:ext cx="1846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61A2-4BAC-4443-BC1C-D2F5C86B0E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Constrained Double Pendulum w/ Dam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5720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 flipV="1">
            <a:off x="4572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 flipV="1">
            <a:off x="6094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7621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 flipV="1">
            <a:off x="9144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10666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 flipV="1">
            <a:off x="12193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 flipV="1">
            <a:off x="13716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 flipV="1">
            <a:off x="15238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 flipV="1">
            <a:off x="16765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 flipV="1">
            <a:off x="18288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 flipV="1">
            <a:off x="19810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 flipV="1">
            <a:off x="21337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 flipV="1">
            <a:off x="22860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 flipV="1">
            <a:off x="24382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9"/>
          <p:cNvSpPr/>
          <p:nvPr/>
        </p:nvSpPr>
        <p:spPr>
          <a:xfrm flipV="1">
            <a:off x="25909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0"/>
          <p:cNvSpPr/>
          <p:nvPr/>
        </p:nvSpPr>
        <p:spPr>
          <a:xfrm flipV="1">
            <a:off x="27432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 rot="17194800">
            <a:off x="685800" y="5105160"/>
            <a:ext cx="2438280" cy="152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2"/>
          <p:cNvSpPr/>
          <p:nvPr/>
        </p:nvSpPr>
        <p:spPr>
          <a:xfrm rot="15312600">
            <a:off x="685440" y="2895480"/>
            <a:ext cx="2438640" cy="152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2093760" y="3971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5"/>
          <p:cNvSpPr/>
          <p:nvPr/>
        </p:nvSpPr>
        <p:spPr>
          <a:xfrm>
            <a:off x="1476360" y="6175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160020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7"/>
          <p:cNvSpPr/>
          <p:nvPr/>
        </p:nvSpPr>
        <p:spPr>
          <a:xfrm flipH="1">
            <a:off x="2209680" y="1981080"/>
            <a:ext cx="53352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9"/>
              <p:cNvSpPr txBox="1"/>
              <p:nvPr/>
            </p:nvSpPr>
            <p:spPr>
              <a:xfrm>
                <a:off x="1676520" y="4038480"/>
                <a:ext cx="3366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0"/>
              <p:cNvSpPr txBox="1"/>
              <p:nvPr/>
            </p:nvSpPr>
            <p:spPr>
              <a:xfrm>
                <a:off x="2043000" y="2743200"/>
                <a:ext cx="3654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1"/>
              <p:cNvSpPr txBox="1"/>
              <p:nvPr/>
            </p:nvSpPr>
            <p:spPr>
              <a:xfrm>
                <a:off x="2133720" y="5638680"/>
                <a:ext cx="812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Line 32"/>
          <p:cNvSpPr/>
          <p:nvPr/>
        </p:nvSpPr>
        <p:spPr>
          <a:xfrm flipH="1">
            <a:off x="1676160" y="59436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34"/>
              <p:cNvSpPr txBox="1"/>
              <p:nvPr/>
            </p:nvSpPr>
            <p:spPr>
              <a:xfrm>
                <a:off x="5257800" y="1752480"/>
                <a:ext cx="20638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5"/>
              <p:cNvSpPr txBox="1"/>
              <p:nvPr/>
            </p:nvSpPr>
            <p:spPr>
              <a:xfrm>
                <a:off x="6248520" y="3429000"/>
                <a:ext cx="2233440" cy="20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8"/>
              <p:cNvSpPr txBox="1"/>
              <p:nvPr/>
            </p:nvSpPr>
            <p:spPr>
              <a:xfrm>
                <a:off x="4343400" y="3505320"/>
                <a:ext cx="121428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5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397-FC24-4F8A-AE01-174383A258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strained Double Pendulum w/ Dam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strictly enforced, h=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-304920" y="2286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B293-7262-4440-9251-7ACA2B2AA1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182880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stabilization heuristics requi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 Johnson, T. Murphey, “Scalable Variational Integrators for Constrained Mechanical Systems in Generalized Coordinates,” IEEE Transactions on Robotic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k.a “Beware of OD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F74-96E9-4D27-95A0-F0AF8E9270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233360" y="1104840"/>
            <a:ext cx="6677280" cy="5753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5562720" y="3124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al Integ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71629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686F-2BBF-4892-8EC8-FA586DB4FA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553000" cy="4971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0" y="205740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CFEB-E1A0-4BC3-8E8C-3D8760FBB4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C2D-26AE-48A2-A8BA-D0DD2A2187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able2.wmv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843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2133720" y="62596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s.cmu.edu/~bsteph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3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500120" y="1271520"/>
            <a:ext cx="6143760" cy="4314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 rot="16200000">
            <a:off x="1185840" y="40287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457200" y="6019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ep was decreased until error was below threshold, leading to longer run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BD27-D2D8-429B-924D-D98354E7F9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ionette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0" t="0" r="68006" b="0"/>
          <a:stretch/>
        </p:blipFill>
        <p:spPr>
          <a:xfrm>
            <a:off x="1371600" y="2286000"/>
            <a:ext cx="1828800" cy="38098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Johnson and T. Murphey, “Discrete and Continuous Mechanics for Tree Represenatations of Mechanical Systems,” ICR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2C4-EEF8-4850-88C3-CDFC4631A0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uppet-time-step-comparison.mpg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503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996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0" t="0" r="48085" b="0"/>
          <a:stretch/>
        </p:blipFill>
        <p:spPr>
          <a:xfrm>
            <a:off x="609480" y="2362320"/>
            <a:ext cx="3353040" cy="3343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Johnson, K. Morris and T. Murphey, “A Variational Approach to Stand-Based Modeling of the Human Hand,”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gorithmic Foundations of Robotics V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E4F-2469-41D8-B8D3-452001F362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im-sphere.mpg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2861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96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smooth dyna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643200" cy="2498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152280" y="57150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ecau, R. C. and Marsden, J. E. and Ortiz, M. and West, M. (200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smooth Lagrangian mechanics and variational collision integrat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AM Journal on Applied Dynamic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2997-635D-4EA8-9BAC-F679D86622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hexsim.avi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505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040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 Mecha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276640" y="2514600"/>
            <a:ext cx="4581360" cy="28670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ar G. Kale and Adrian J. Lew, “Parallel asynchronous variational integrators,” International Journal for Numerical Methods in Engineering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852-BE1F-4912-8BE3-3AE85731ED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jecto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257800" cy="38941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152280" y="6095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. Junge, J.E. Marsden, S. Ober-Blöbaum, “Discrete Mechanics and Optimal Control”, in Proccedings of the 16th IFAC World Congress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3772080" cy="7905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FD61-666F-4840-9ED2-7035480D81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ization of the variational principle results in symplectic discret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integrators perform better than almost all other integr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ork is being applied to the analysis of robotic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316-69D9-4799-946C-D7302CAA96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can this idea be applied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al Control is also derived from a variational principle (“Pontryagin’s Minimum Principle”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dea should be taught in calculus and/or dynamics cour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n’t need accurate simulation because real systems never a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56E6-06F1-421C-8C0F-4A251CB568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ef History of Lagrangian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ast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ebniz, 1707; Euler, 1744; Maupertuis, 17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grange, 17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échanique Analy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grange, 17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grangian Mecha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milton, 18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C7A-C431-439D-81CA-234C2A3781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is talk is not about tha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iple of Least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28600" y="26668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pectacle of the universe seems all the more grand and beautiful and worthy of its Author, when one considers that it is all derived from a small number of laws laid down most wi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pertuis, 17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E29E-A343-4324-AC0C-31BB9FFA24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in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tions of motion are derived from a variational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integrators discretize th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integrators discretize the variational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B25-8D53-4259-8065-0D3F1FFCD3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ly meaningful dynamics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47920" y="1933560"/>
            <a:ext cx="618156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2118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n A., Desbrun M. “Discrete geometric mechanics for variational time integrators” in Discrete Differential Geometry. ACM SIGGRAPH Course Note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1371600" y="4662360"/>
            <a:ext cx="6329520" cy="158616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0823-747F-4242-BDAA-2DD6EDCF92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for the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s (and a little His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Examples/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Work and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58FA-151E-4288-9A51-199196A7F4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inuous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– configuration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Q – tangent (velocity)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:T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2089080" y="4191120"/>
                <a:ext cx="3995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Box 4"/>
          <p:cNvSpPr/>
          <p:nvPr/>
        </p:nvSpPr>
        <p:spPr>
          <a:xfrm>
            <a:off x="32767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3341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4479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grang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8"/>
          <p:cNvCxnSpPr>
            <a:stCxn id="134" idx="0"/>
          </p:cNvCxnSpPr>
          <p:nvPr/>
        </p:nvCxnSpPr>
        <p:spPr>
          <a:xfrm flipV="1">
            <a:off x="4264560" y="472536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Straight Arrow Connector 10"/>
          <p:cNvCxnSpPr/>
          <p:nvPr/>
        </p:nvCxnSpPr>
        <p:spPr>
          <a:xfrm flipH="1" flipV="1">
            <a:off x="5714640" y="4723920"/>
            <a:ext cx="3816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Straight Arrow Connector 12"/>
          <p:cNvCxnSpPr/>
          <p:nvPr/>
        </p:nvCxnSpPr>
        <p:spPr>
          <a:xfrm flipV="1">
            <a:off x="2132640" y="4723920"/>
            <a:ext cx="5338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0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890-8AE3-4877-BFFB-D0CA4024BC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21:06:55Z</dcterms:created>
  <dc:creator>School of Computer Science</dc:creator>
  <dc:description/>
  <dc:language>en-US</dc:language>
  <cp:lastModifiedBy>Benjamin Stephens</cp:lastModifiedBy>
  <dcterms:modified xsi:type="dcterms:W3CDTF">2010-03-30T21:37:40Z</dcterms:modified>
  <cp:revision>149</cp:revision>
  <dc:subject/>
  <dc:title>Discrete Variational Mechanics</dc:title>
</cp:coreProperties>
</file>