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BD67-221A-43FB-81BC-5C7A8BE86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F4D2-06C7-4F95-9473-1879282DE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FC9A-E873-4B9D-824E-E4200249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F27C-4B4A-4256-AAF4-BF1F7EDE4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8E9C-8A01-439C-8EE9-7E5EF0800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1DFD-BFFB-48AD-BE05-185100FA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6509-C98E-4EF4-B3D1-2CF081FA1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6563-0F39-41E3-8AEE-9EAD0BA48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BECD-8411-4151-8F55-50796495D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3139-047C-4AAD-9C67-B3B395AB5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CF2F-AA61-4BAA-BBFC-B3B32B192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A3A3-6B4E-4139-829F-35C6DA9E1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9FF5-CD97-4A17-A75B-766B15699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9F65-2D68-482C-9BF4-84A2AE564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51BD-B7ED-4E33-BB2C-BB35EA21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643B-C913-4A66-B34B-23965D465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5C80-4421-4EDF-AB48-19E1E4CED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2A31-898A-40C0-A19C-F3325BF84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2956-95B9-4E20-946D-4B8EAA58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73F3-2A61-4311-A37D-4DCF0EE2E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CE79-1235-4742-A330-56BB9410C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A364-6F6E-413C-95F8-75A2E2D51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9A37-E7FB-4FE9-896D-6597E6E48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EEBE-A5E7-4757-9BD6-A6EAF87DD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49A0-8FE7-408E-BFC9-07FDA53AC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F5B4-8D1D-400D-ABD3-CD40D05A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B719-5B20-4071-9864-28740D2C2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6A11-4189-4084-A914-A5CE5D222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B34D-F039-487B-96D9-AE286930E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3550-4868-4FBD-8D50-311A7196A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9635-EF42-477A-ABD3-E74473245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D26D-9B91-4031-9E1D-314E13FED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7648-8B79-4B28-AA41-BA965E488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0699-4666-46C9-BD92-5D26EEE2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604-8D5B-40D9-9B75-527C7C0A6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0CF-9C5F-423C-A591-F05C69A5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D5F-7F91-4BDF-A18B-901C50F2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B5E-0583-4EAB-A02E-1DC6785C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956-6C18-406A-8A31-540E1997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528-F86F-4A1E-8399-54A441EE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97F-97D3-4406-9EC7-94F64045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FAA-F525-4394-9BAB-526FD3FB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B2C-5447-412F-A0A9-20A09760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1C6-6F14-43E2-A6FE-26669D23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D41-20BC-44FF-A9C0-50C46CAA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79E-D349-4781-9BDF-34EF171E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76D-E558-4F5D-8707-27B24EB3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2D48-B653-4245-9CA9-704D9CF188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rete Variational Mecha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jamin Steph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.E. Marsden and M. West, “Discrete mechanics and variational integrators,” Acta Numerica, No. 10, pp. 357-514, 2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. West “Variational Integrators,” PhD Thesis, Caltech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C897-3C21-4FEA-B957-A6DC104A79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tion of the Lagrangi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of Least Action = the function, q*(t), minimizes the integral of the Lagrang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066680" y="2743200"/>
                <a:ext cx="67834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ε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4267080" y="4651200"/>
                <a:ext cx="309096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Text Box 8"/>
          <p:cNvSpPr/>
          <p:nvPr/>
        </p:nvSpPr>
        <p:spPr>
          <a:xfrm>
            <a:off x="1219320" y="48798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 of trajectory with endpoints 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3505320" y="5184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600200" y="6019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milton’s Principle” ~1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E1C2-C9B2-4275-BE84-BBA264DD51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09480" y="38862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us of Variations” ~ Lagrange, 17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ous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4"/>
              <p:cNvSpPr txBox="1"/>
              <p:nvPr/>
            </p:nvSpPr>
            <p:spPr>
              <a:xfrm>
                <a:off x="3048120" y="4800600"/>
                <a:ext cx="28778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2" name="Picture 14" descr=""/>
          <p:cNvPicPr/>
          <p:nvPr/>
        </p:nvPicPr>
        <p:blipFill>
          <a:blip r:embed="rId1"/>
          <a:stretch/>
        </p:blipFill>
        <p:spPr>
          <a:xfrm>
            <a:off x="609480" y="2773440"/>
            <a:ext cx="8001000" cy="2103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2514600" y="838080"/>
            <a:ext cx="4200480" cy="2152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981080" y="6095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ler-Lagrange Equ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5876-A22C-47EF-B196-73E6E2E038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ous Mecha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219320" y="1523880"/>
                <a:ext cx="41558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457200" y="2286000"/>
                <a:ext cx="5008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2133720" y="3429000"/>
                <a:ext cx="2908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8"/>
              <p:cNvSpPr txBox="1"/>
              <p:nvPr/>
            </p:nvSpPr>
            <p:spPr>
              <a:xfrm>
                <a:off x="2133720" y="4435560"/>
                <a:ext cx="43765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103480" y="5924520"/>
                <a:ext cx="4437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916A-3D59-45FC-A361-34C0039167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iscrete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:Qx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7918-0049-44DA-ADA6-7169F0908A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3962520" y="1523880"/>
                <a:ext cx="47098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p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Line 50"/>
          <p:cNvSpPr/>
          <p:nvPr/>
        </p:nvSpPr>
        <p:spPr>
          <a:xfrm flipH="1">
            <a:off x="3123720" y="37339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2"/>
          <p:cNvGrpSpPr/>
          <p:nvPr/>
        </p:nvGrpSpPr>
        <p:grpSpPr>
          <a:xfrm>
            <a:off x="1371600" y="3700440"/>
            <a:ext cx="5867280" cy="3005280"/>
            <a:chOff x="1371600" y="3700440"/>
            <a:chExt cx="5867280" cy="3005280"/>
          </a:xfrm>
        </p:grpSpPr>
        <p:sp>
          <p:nvSpPr>
            <p:cNvPr id="169" name="Line 6"/>
            <p:cNvSpPr/>
            <p:nvPr/>
          </p:nvSpPr>
          <p:spPr>
            <a:xfrm>
              <a:off x="1872360" y="3700440"/>
              <a:ext cx="0" cy="264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1872360" y="6348240"/>
              <a:ext cx="536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6"/>
            <p:cNvSpPr/>
            <p:nvPr/>
          </p:nvSpPr>
          <p:spPr>
            <a:xfrm>
              <a:off x="1872360" y="4277160"/>
              <a:ext cx="4908960" cy="2070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237312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>
              <a:off x="287424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337500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>
              <a:off x="387576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437688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2"/>
            <p:cNvSpPr/>
            <p:nvPr/>
          </p:nvSpPr>
          <p:spPr>
            <a:xfrm>
              <a:off x="487764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537876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587952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638028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6"/>
            <p:cNvSpPr/>
            <p:nvPr/>
          </p:nvSpPr>
          <p:spPr>
            <a:xfrm flipV="1">
              <a:off x="2373120" y="4630680"/>
              <a:ext cx="0" cy="171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V="1">
              <a:off x="2874240" y="4415400"/>
              <a:ext cx="0" cy="193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8"/>
            <p:cNvSpPr/>
            <p:nvPr/>
          </p:nvSpPr>
          <p:spPr>
            <a:xfrm flipV="1">
              <a:off x="3375000" y="4272840"/>
              <a:ext cx="0" cy="207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 flipH="1" flipV="1">
              <a:off x="3872880" y="4288680"/>
              <a:ext cx="2880" cy="2058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0"/>
            <p:cNvSpPr/>
            <p:nvPr/>
          </p:nvSpPr>
          <p:spPr>
            <a:xfrm flipH="1" flipV="1">
              <a:off x="4376880" y="4344480"/>
              <a:ext cx="2880" cy="198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1"/>
            <p:cNvSpPr/>
            <p:nvPr/>
          </p:nvSpPr>
          <p:spPr>
            <a:xfrm flipH="1" flipV="1">
              <a:off x="4877640" y="4630320"/>
              <a:ext cx="2880" cy="1701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 flipH="1" flipV="1">
              <a:off x="5378760" y="4988160"/>
              <a:ext cx="2880" cy="134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 flipH="1" flipV="1">
              <a:off x="5879520" y="5131080"/>
              <a:ext cx="2880" cy="11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 flipV="1">
              <a:off x="6380280" y="4988160"/>
              <a:ext cx="0" cy="134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 flipH="1">
              <a:off x="1872000" y="46306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 flipH="1">
              <a:off x="2372760" y="46306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7"/>
            <p:cNvSpPr/>
            <p:nvPr/>
          </p:nvSpPr>
          <p:spPr>
            <a:xfrm flipH="1">
              <a:off x="2873880" y="441576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8"/>
            <p:cNvSpPr/>
            <p:nvPr/>
          </p:nvSpPr>
          <p:spPr>
            <a:xfrm flipH="1">
              <a:off x="3374640" y="427284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9"/>
            <p:cNvSpPr/>
            <p:nvPr/>
          </p:nvSpPr>
          <p:spPr>
            <a:xfrm flipH="1">
              <a:off x="3875400" y="43444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0"/>
            <p:cNvSpPr/>
            <p:nvPr/>
          </p:nvSpPr>
          <p:spPr>
            <a:xfrm flipH="1">
              <a:off x="4376520" y="46306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1"/>
            <p:cNvSpPr/>
            <p:nvPr/>
          </p:nvSpPr>
          <p:spPr>
            <a:xfrm flipH="1">
              <a:off x="4877280" y="498852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4"/>
            <p:cNvSpPr/>
            <p:nvPr/>
          </p:nvSpPr>
          <p:spPr>
            <a:xfrm flipH="1">
              <a:off x="5378400" y="513144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5"/>
            <p:cNvSpPr/>
            <p:nvPr/>
          </p:nvSpPr>
          <p:spPr>
            <a:xfrm flipH="1">
              <a:off x="5879160" y="513144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46"/>
                <p:cNvSpPr txBox="1"/>
                <p:nvPr/>
              </p:nvSpPr>
              <p:spPr>
                <a:xfrm>
                  <a:off x="1371600" y="4845240"/>
                  <a:ext cx="30708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Object 47"/>
                <p:cNvSpPr txBox="1"/>
                <p:nvPr/>
              </p:nvSpPr>
              <p:spPr>
                <a:xfrm>
                  <a:off x="2730960" y="6419520"/>
                  <a:ext cx="222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48"/>
                <p:cNvSpPr txBox="1"/>
                <p:nvPr/>
              </p:nvSpPr>
              <p:spPr>
                <a:xfrm>
                  <a:off x="3017160" y="6348240"/>
                  <a:ext cx="162360" cy="22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Rectangle 49"/>
            <p:cNvSpPr/>
            <p:nvPr/>
          </p:nvSpPr>
          <p:spPr>
            <a:xfrm>
              <a:off x="2874240" y="4415760"/>
              <a:ext cx="500760" cy="1932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51"/>
                <p:cNvSpPr txBox="1"/>
                <p:nvPr/>
              </p:nvSpPr>
              <p:spPr>
                <a:xfrm>
                  <a:off x="3176640" y="6419520"/>
                  <a:ext cx="3337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4" name="Object 52"/>
              <p:cNvSpPr txBox="1"/>
              <p:nvPr/>
            </p:nvSpPr>
            <p:spPr>
              <a:xfrm>
                <a:off x="4038480" y="3124080"/>
                <a:ext cx="4859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tion of Discrete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1447920" y="5711760"/>
                <a:ext cx="6224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7" name="Group 11"/>
          <p:cNvGrpSpPr/>
          <p:nvPr/>
        </p:nvGrpSpPr>
        <p:grpSpPr>
          <a:xfrm>
            <a:off x="304920" y="3200400"/>
            <a:ext cx="8583120" cy="2318760"/>
            <a:chOff x="304920" y="3200400"/>
            <a:chExt cx="8583120" cy="2318760"/>
          </a:xfrm>
        </p:grpSpPr>
        <p:pic>
          <p:nvPicPr>
            <p:cNvPr id="208" name="Picture 7" descr=""/>
            <p:cNvPicPr/>
            <p:nvPr/>
          </p:nvPicPr>
          <p:blipFill>
            <a:blip r:embed="rId1"/>
            <a:stretch/>
          </p:blipFill>
          <p:spPr>
            <a:xfrm>
              <a:off x="304920" y="3200400"/>
              <a:ext cx="8557560" cy="165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8" descr=""/>
            <p:cNvPicPr/>
            <p:nvPr/>
          </p:nvPicPr>
          <p:blipFill>
            <a:blip r:embed="rId2"/>
            <a:stretch/>
          </p:blipFill>
          <p:spPr>
            <a:xfrm>
              <a:off x="3286080" y="4939560"/>
              <a:ext cx="56019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Line 9"/>
            <p:cNvSpPr/>
            <p:nvPr/>
          </p:nvSpPr>
          <p:spPr>
            <a:xfrm flipV="1">
              <a:off x="5439240" y="4939200"/>
              <a:ext cx="414000" cy="57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 flipV="1">
              <a:off x="8420760" y="4939200"/>
              <a:ext cx="414000" cy="57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9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4276800" cy="21718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8"/>
          <p:cNvSpPr/>
          <p:nvPr/>
        </p:nvSpPr>
        <p:spPr>
          <a:xfrm>
            <a:off x="2438280" y="6324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 Euler-Lagrange Equa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84C7-3032-4E2E-A658-67B2436ECA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tional Integ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for      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1828800" y="2590920"/>
                <a:ext cx="5479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457200" y="3733920"/>
                <a:ext cx="79502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8"/>
              <p:cNvSpPr txBox="1"/>
              <p:nvPr/>
            </p:nvSpPr>
            <p:spPr>
              <a:xfrm>
                <a:off x="380880" y="5638680"/>
                <a:ext cx="8197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2422440" y="1600200"/>
                <a:ext cx="625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90FF-FEF2-4266-AA63-35D3ABE268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Nonlinear Root F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1371600" y="3581280"/>
                <a:ext cx="3589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990720" y="2133720"/>
                <a:ext cx="68799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2857680" cy="23526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13AF-828E-46A1-B777-A1CA19428E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Example: Spring-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ous Lagrangi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ler-Lagrange Equ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Integration Sche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5486400" y="1447920"/>
                <a:ext cx="33051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5299200" y="2666880"/>
                <a:ext cx="3844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2590920" y="4572000"/>
                <a:ext cx="37843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h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A22-7FE4-4251-B533-486BD51FFD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Example: Spring-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e Lagrangi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e Euler-Lagrange Equ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4297-38F7-44C8-AD60-8D011E1E43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1676520" y="1981080"/>
                <a:ext cx="577512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1676520" y="3952800"/>
                <a:ext cx="54514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2057400" y="4334040"/>
                <a:ext cx="45576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6"/>
              <p:cNvSpPr txBox="1"/>
              <p:nvPr/>
            </p:nvSpPr>
            <p:spPr>
              <a:xfrm>
                <a:off x="2590920" y="5562720"/>
                <a:ext cx="354492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: 3 Types of Integ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ler – easiest, least accu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ge-Kutta – more complicated, more accu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tional – EASY &amp; ACCURA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6A40-2E11-433F-B16D-48356179F0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My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oid balance using simple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iant floating body force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push recovery planning by trajectory opt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36"/>
          <p:cNvGrpSpPr/>
          <p:nvPr/>
        </p:nvGrpSpPr>
        <p:grpSpPr>
          <a:xfrm>
            <a:off x="5562720" y="1523880"/>
            <a:ext cx="2818800" cy="4249800"/>
            <a:chOff x="5562720" y="1523880"/>
            <a:chExt cx="2818800" cy="4249800"/>
          </a:xfrm>
        </p:grpSpPr>
        <p:grpSp>
          <p:nvGrpSpPr>
            <p:cNvPr id="54" name="Group 131"/>
            <p:cNvGrpSpPr/>
            <p:nvPr/>
          </p:nvGrpSpPr>
          <p:grpSpPr>
            <a:xfrm>
              <a:off x="5562720" y="1523880"/>
              <a:ext cx="2733120" cy="4249800"/>
              <a:chOff x="5562720" y="1523880"/>
              <a:chExt cx="2733120" cy="4249800"/>
            </a:xfrm>
          </p:grpSpPr>
          <p:sp>
            <p:nvSpPr>
              <p:cNvPr id="55" name="Parallelogram 16"/>
              <p:cNvSpPr/>
              <p:nvPr/>
            </p:nvSpPr>
            <p:spPr>
              <a:xfrm>
                <a:off x="5562720" y="4946400"/>
                <a:ext cx="2733120" cy="827280"/>
              </a:xfrm>
              <a:prstGeom prst="parallelogram">
                <a:avLst>
                  <a:gd name="adj" fmla="val 109880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Oval 17"/>
              <p:cNvGrpSpPr/>
              <p:nvPr/>
            </p:nvGrpSpPr>
            <p:grpSpPr>
              <a:xfrm>
                <a:off x="7229520" y="2740320"/>
                <a:ext cx="731160" cy="514440"/>
                <a:chOff x="7229520" y="2740320"/>
                <a:chExt cx="731160" cy="514440"/>
              </a:xfrm>
            </p:grpSpPr>
            <p:pic>
              <p:nvPicPr>
                <p:cNvPr id="57" name="Oval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29520" y="2740320"/>
                  <a:ext cx="731160" cy="51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18032400">
                  <a:off x="7522560" y="2722320"/>
                  <a:ext cx="14868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Oval 18"/>
              <p:cNvGrpSpPr/>
              <p:nvPr/>
            </p:nvGrpSpPr>
            <p:grpSpPr>
              <a:xfrm>
                <a:off x="7022520" y="1802160"/>
                <a:ext cx="438840" cy="1095480"/>
                <a:chOff x="7022520" y="1802160"/>
                <a:chExt cx="438840" cy="1095480"/>
              </a:xfrm>
            </p:grpSpPr>
            <p:pic>
              <p:nvPicPr>
                <p:cNvPr id="60" name="Oval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022520" y="1802160"/>
                  <a:ext cx="438840" cy="109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 rot="20974800">
                  <a:off x="7150320" y="197172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Oval 19"/>
              <p:cNvGrpSpPr/>
              <p:nvPr/>
            </p:nvGrpSpPr>
            <p:grpSpPr>
              <a:xfrm>
                <a:off x="6991920" y="4822560"/>
                <a:ext cx="651960" cy="387360"/>
                <a:chOff x="6991920" y="4822560"/>
                <a:chExt cx="651960" cy="387360"/>
              </a:xfrm>
            </p:grpSpPr>
            <p:pic>
              <p:nvPicPr>
                <p:cNvPr id="63" name="Oval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91920" y="4822560"/>
                  <a:ext cx="651960" cy="38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 rot="16675800">
                  <a:off x="7226280" y="4799520"/>
                  <a:ext cx="188280" cy="38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Oval 20"/>
              <p:cNvGrpSpPr/>
              <p:nvPr/>
            </p:nvGrpSpPr>
            <p:grpSpPr>
              <a:xfrm>
                <a:off x="7040880" y="3369960"/>
                <a:ext cx="694800" cy="974520"/>
                <a:chOff x="7040880" y="3369960"/>
                <a:chExt cx="694800" cy="974520"/>
              </a:xfrm>
            </p:grpSpPr>
            <p:pic>
              <p:nvPicPr>
                <p:cNvPr id="66" name="Oval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040880" y="3369960"/>
                  <a:ext cx="69480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 rot="19680600">
                  <a:off x="7293960" y="348264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" name="Oval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6242040" y="4441320"/>
                <a:ext cx="481320" cy="865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" name="Oval 22"/>
              <p:cNvGrpSpPr/>
              <p:nvPr/>
            </p:nvGrpSpPr>
            <p:grpSpPr>
              <a:xfrm>
                <a:off x="7077240" y="4168800"/>
                <a:ext cx="639720" cy="829080"/>
                <a:chOff x="7077240" y="4168800"/>
                <a:chExt cx="639720" cy="829080"/>
              </a:xfrm>
            </p:grpSpPr>
            <p:pic>
              <p:nvPicPr>
                <p:cNvPr id="70" name="Oval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077240" y="4168800"/>
                  <a:ext cx="639720" cy="82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2822600">
                  <a:off x="7305840" y="4259880"/>
                  <a:ext cx="19152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Oval 23"/>
              <p:cNvGrpSpPr/>
              <p:nvPr/>
            </p:nvGrpSpPr>
            <p:grpSpPr>
              <a:xfrm>
                <a:off x="6443280" y="3267000"/>
                <a:ext cx="828720" cy="484200"/>
                <a:chOff x="6443280" y="3267000"/>
                <a:chExt cx="828720" cy="484200"/>
              </a:xfrm>
            </p:grpSpPr>
            <p:pic>
              <p:nvPicPr>
                <p:cNvPr id="73" name="Oval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43280" y="3267000"/>
                  <a:ext cx="828720" cy="48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6200000">
                  <a:off x="6732720" y="3230280"/>
                  <a:ext cx="255240" cy="5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Oval 24"/>
              <p:cNvGrpSpPr/>
              <p:nvPr/>
            </p:nvGrpSpPr>
            <p:grpSpPr>
              <a:xfrm>
                <a:off x="6632280" y="1523880"/>
                <a:ext cx="615600" cy="1918800"/>
                <a:chOff x="6632280" y="1523880"/>
                <a:chExt cx="615600" cy="1918800"/>
              </a:xfrm>
            </p:grpSpPr>
            <p:pic>
              <p:nvPicPr>
                <p:cNvPr id="76" name="Oval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32280" y="1523880"/>
                  <a:ext cx="615600" cy="191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 rot="339600">
                  <a:off x="6780600" y="1818000"/>
                  <a:ext cx="325080" cy="12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Oval 25"/>
              <p:cNvGrpSpPr/>
              <p:nvPr/>
            </p:nvGrpSpPr>
            <p:grpSpPr>
              <a:xfrm>
                <a:off x="6413040" y="3484800"/>
                <a:ext cx="408240" cy="1101600"/>
                <a:chOff x="6413040" y="3484800"/>
                <a:chExt cx="408240" cy="1101600"/>
              </a:xfrm>
            </p:grpSpPr>
            <p:pic>
              <p:nvPicPr>
                <p:cNvPr id="79" name="Oval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413040" y="3484800"/>
                  <a:ext cx="408240" cy="110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 rot="386400">
                  <a:off x="6524280" y="365904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Oval 26"/>
              <p:cNvGrpSpPr/>
              <p:nvPr/>
            </p:nvGrpSpPr>
            <p:grpSpPr>
              <a:xfrm>
                <a:off x="6376320" y="1753560"/>
                <a:ext cx="578880" cy="1046880"/>
                <a:chOff x="6376320" y="1753560"/>
                <a:chExt cx="578880" cy="1046880"/>
              </a:xfrm>
            </p:grpSpPr>
            <p:pic>
              <p:nvPicPr>
                <p:cNvPr id="82" name="Oval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376320" y="1753560"/>
                  <a:ext cx="578880" cy="104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 rot="12150600">
                  <a:off x="6572520" y="190044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Oval 27"/>
              <p:cNvGrpSpPr/>
              <p:nvPr/>
            </p:nvGrpSpPr>
            <p:grpSpPr>
              <a:xfrm>
                <a:off x="6327360" y="2595240"/>
                <a:ext cx="572760" cy="641520"/>
                <a:chOff x="6327360" y="2595240"/>
                <a:chExt cx="572760" cy="641520"/>
              </a:xfrm>
            </p:grpSpPr>
            <p:pic>
              <p:nvPicPr>
                <p:cNvPr id="85" name="Oval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327360" y="2595240"/>
                  <a:ext cx="572760" cy="64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224000">
                  <a:off x="6538680" y="2658240"/>
                  <a:ext cx="16020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Oval 28"/>
              <p:cNvSpPr/>
              <p:nvPr/>
            </p:nvSpPr>
            <p:spPr>
              <a:xfrm>
                <a:off x="7100640" y="5286600"/>
                <a:ext cx="426960" cy="8352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9"/>
              <p:cNvSpPr/>
              <p:nvPr/>
            </p:nvSpPr>
            <p:spPr>
              <a:xfrm>
                <a:off x="7670520" y="5201640"/>
                <a:ext cx="137880" cy="6768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0"/>
              <p:cNvSpPr/>
              <p:nvPr/>
            </p:nvSpPr>
            <p:spPr>
              <a:xfrm>
                <a:off x="7014960" y="4933800"/>
                <a:ext cx="734760" cy="479160"/>
              </a:xfrm>
              <a:prstGeom prst="pie">
                <a:avLst/>
              </a:prstGeom>
              <a:noFill/>
              <a:ln w="38160">
                <a:solidFill>
                  <a:srgbClr val="4a7ebb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31"/>
              <p:cNvSpPr/>
              <p:nvPr/>
            </p:nvSpPr>
            <p:spPr>
              <a:xfrm>
                <a:off x="6843600" y="3335400"/>
                <a:ext cx="171360" cy="169920"/>
              </a:xfrm>
              <a:prstGeom prst="ellipse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2"/>
              <p:cNvSpPr/>
              <p:nvPr/>
            </p:nvSpPr>
            <p:spPr>
              <a:xfrm>
                <a:off x="6903720" y="3349440"/>
                <a:ext cx="885600" cy="77040"/>
              </a:xfrm>
              <a:prstGeom prst="pie">
                <a:avLst/>
              </a:prstGeom>
              <a:noFill/>
              <a:ln w="38160">
                <a:solidFill>
                  <a:srgbClr val="98b954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" name="Straight Arrow Connector 33"/>
              <p:cNvCxnSpPr/>
              <p:nvPr/>
            </p:nvCxnSpPr>
            <p:spPr>
              <a:xfrm flipV="1">
                <a:off x="6389640" y="3799440"/>
                <a:ext cx="467280" cy="1721880"/>
              </a:xfrm>
              <a:prstGeom prst="straightConnector1">
                <a:avLst/>
              </a:prstGeom>
              <a:ln w="38160">
                <a:solidFill>
                  <a:srgbClr val="f79646"/>
                </a:solidFill>
                <a:miter/>
                <a:tailEnd len="med" type="arrow" w="med"/>
              </a:ln>
            </p:spPr>
          </p:cxnSp>
          <p:grpSp>
            <p:nvGrpSpPr>
              <p:cNvPr id="93" name="Oval 34"/>
              <p:cNvGrpSpPr/>
              <p:nvPr/>
            </p:nvGrpSpPr>
            <p:grpSpPr>
              <a:xfrm>
                <a:off x="6108120" y="5191920"/>
                <a:ext cx="639720" cy="435600"/>
                <a:chOff x="6108120" y="5191920"/>
                <a:chExt cx="639720" cy="435600"/>
              </a:xfrm>
            </p:grpSpPr>
            <p:pic>
              <p:nvPicPr>
                <p:cNvPr id="94" name="Oval 3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108120" y="5191920"/>
                  <a:ext cx="639720" cy="43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7234400">
                  <a:off x="6330960" y="5193360"/>
                  <a:ext cx="200520" cy="38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Oval 35"/>
              <p:cNvSpPr/>
              <p:nvPr/>
            </p:nvSpPr>
            <p:spPr>
              <a:xfrm>
                <a:off x="7237080" y="4906800"/>
                <a:ext cx="171360" cy="16992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6"/>
              <p:cNvSpPr/>
              <p:nvPr/>
            </p:nvSpPr>
            <p:spPr>
              <a:xfrm>
                <a:off x="6283080" y="5275800"/>
                <a:ext cx="171360" cy="16848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8" name="Object 2"/>
                <p:cNvSpPr txBox="1"/>
                <p:nvPr/>
              </p:nvSpPr>
              <p:spPr>
                <a:xfrm>
                  <a:off x="7774920" y="3189960"/>
                  <a:ext cx="606600" cy="40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3"/>
                <p:cNvSpPr txBox="1"/>
                <p:nvPr/>
              </p:nvSpPr>
              <p:spPr>
                <a:xfrm>
                  <a:off x="7629120" y="4457160"/>
                  <a:ext cx="7333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4"/>
                <p:cNvSpPr txBox="1"/>
                <p:nvPr/>
              </p:nvSpPr>
              <p:spPr>
                <a:xfrm>
                  <a:off x="6254280" y="2977560"/>
                  <a:ext cx="30384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Object 5"/>
                <p:cNvSpPr txBox="1"/>
                <p:nvPr/>
              </p:nvSpPr>
              <p:spPr>
                <a:xfrm>
                  <a:off x="6762600" y="4457160"/>
                  <a:ext cx="3538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Object 6"/>
                <p:cNvSpPr txBox="1"/>
                <p:nvPr/>
              </p:nvSpPr>
              <p:spPr>
                <a:xfrm>
                  <a:off x="5816880" y="4857120"/>
                  <a:ext cx="3805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Straight Connector 10"/>
            <p:cNvSpPr/>
            <p:nvPr/>
          </p:nvSpPr>
          <p:spPr>
            <a:xfrm>
              <a:off x="6496200" y="3190680"/>
              <a:ext cx="372960" cy="182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11"/>
            <p:cNvSpPr/>
            <p:nvPr/>
          </p:nvSpPr>
          <p:spPr>
            <a:xfrm>
              <a:off x="6129360" y="5113440"/>
              <a:ext cx="233280" cy="220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12"/>
            <p:cNvSpPr/>
            <p:nvPr/>
          </p:nvSpPr>
          <p:spPr>
            <a:xfrm>
              <a:off x="7050240" y="4710240"/>
              <a:ext cx="233280" cy="220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3"/>
            <p:cNvSpPr/>
            <p:nvPr/>
          </p:nvSpPr>
          <p:spPr>
            <a:xfrm flipH="1">
              <a:off x="7616880" y="4819680"/>
              <a:ext cx="139680" cy="18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7"/>
                <p:cNvSpPr txBox="1"/>
                <p:nvPr/>
              </p:nvSpPr>
              <p:spPr>
                <a:xfrm>
                  <a:off x="6080760" y="3583080"/>
                  <a:ext cx="27756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Straight Connector 15"/>
            <p:cNvSpPr/>
            <p:nvPr/>
          </p:nvSpPr>
          <p:spPr>
            <a:xfrm>
              <a:off x="6296040" y="3833640"/>
              <a:ext cx="379080" cy="323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Slide Number Placeholder 3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15B5-D683-42D7-A4A4-F16D665CF0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8"/>
          <p:cNvSpPr/>
          <p:nvPr/>
        </p:nvSpPr>
        <p:spPr>
          <a:xfrm>
            <a:off x="2133720" y="62596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cs.cmu.edu/~bsteph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F30B-4474-4B9D-A3BA-31617A0A98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8"/>
          <p:cNvSpPr/>
          <p:nvPr/>
        </p:nvSpPr>
        <p:spPr>
          <a:xfrm>
            <a:off x="228600" y="5533920"/>
            <a:ext cx="58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does not dissipat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error is b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64DF-1C23-4CAE-849D-0B6504BA46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rcRect l="0" t="0" r="0" b="24829"/>
          <a:stretch/>
        </p:blipFill>
        <p:spPr>
          <a:xfrm>
            <a:off x="0" y="2133720"/>
            <a:ext cx="9144000" cy="1614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0" y="62118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in A., Desbrun M. “Discrete geometric mechanics for variational time integrators” in Discrete Differential Geometry. ACM SIGGRAPH Course Notes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tional Integrators are “Symplectic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explanation: area of the cat head remains constant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75C2-4005-4F02-9F8E-BB335D8F54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cing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ization of Lagrange–d’Alembert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685800" y="4070520"/>
            <a:ext cx="7751880" cy="653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685800" y="5108400"/>
            <a:ext cx="7835760" cy="454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1523880" y="2743200"/>
            <a:ext cx="6029280" cy="90504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F9F6-A335-4770-A668-8E4AD22706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2819520" y="5334120"/>
                <a:ext cx="35542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0" y="1905120"/>
                <a:ext cx="914400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h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h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t xml:space="preserve">∇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8"/>
              <p:cNvSpPr txBox="1"/>
              <p:nvPr/>
            </p:nvSpPr>
            <p:spPr>
              <a:xfrm>
                <a:off x="3581280" y="3733920"/>
                <a:ext cx="18464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400F-107A-42B4-B76D-767BBDBEB8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Constrained Double Pendulum w/ Damp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57200" y="6248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 flipV="1">
            <a:off x="4572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 flipV="1">
            <a:off x="6094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7621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 flipV="1">
            <a:off x="9144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 flipV="1">
            <a:off x="10666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 flipV="1">
            <a:off x="12193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 flipV="1">
            <a:off x="13716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 flipV="1">
            <a:off x="15238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 flipV="1">
            <a:off x="16765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 flipV="1">
            <a:off x="18288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 flipV="1">
            <a:off x="19810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 flipV="1">
            <a:off x="21337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 flipV="1">
            <a:off x="22860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 flipV="1">
            <a:off x="24382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9"/>
          <p:cNvSpPr/>
          <p:nvPr/>
        </p:nvSpPr>
        <p:spPr>
          <a:xfrm flipV="1">
            <a:off x="25909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0"/>
          <p:cNvSpPr/>
          <p:nvPr/>
        </p:nvSpPr>
        <p:spPr>
          <a:xfrm flipV="1">
            <a:off x="27432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1"/>
          <p:cNvSpPr/>
          <p:nvPr/>
        </p:nvSpPr>
        <p:spPr>
          <a:xfrm rot="17194800">
            <a:off x="685800" y="5105160"/>
            <a:ext cx="2438280" cy="1522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2"/>
          <p:cNvSpPr/>
          <p:nvPr/>
        </p:nvSpPr>
        <p:spPr>
          <a:xfrm rot="15312600">
            <a:off x="685440" y="2895480"/>
            <a:ext cx="2438640" cy="1522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2093760" y="3971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5"/>
          <p:cNvSpPr/>
          <p:nvPr/>
        </p:nvSpPr>
        <p:spPr>
          <a:xfrm>
            <a:off x="1476360" y="6175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6"/>
          <p:cNvSpPr/>
          <p:nvPr/>
        </p:nvSpPr>
        <p:spPr>
          <a:xfrm>
            <a:off x="160020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7"/>
          <p:cNvSpPr/>
          <p:nvPr/>
        </p:nvSpPr>
        <p:spPr>
          <a:xfrm flipH="1">
            <a:off x="2209680" y="1981080"/>
            <a:ext cx="53352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9"/>
              <p:cNvSpPr txBox="1"/>
              <p:nvPr/>
            </p:nvSpPr>
            <p:spPr>
              <a:xfrm>
                <a:off x="1676520" y="4038480"/>
                <a:ext cx="3366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0"/>
              <p:cNvSpPr txBox="1"/>
              <p:nvPr/>
            </p:nvSpPr>
            <p:spPr>
              <a:xfrm>
                <a:off x="2043000" y="2743200"/>
                <a:ext cx="3654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1"/>
              <p:cNvSpPr txBox="1"/>
              <p:nvPr/>
            </p:nvSpPr>
            <p:spPr>
              <a:xfrm>
                <a:off x="2133720" y="5638680"/>
                <a:ext cx="8125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Line 32"/>
          <p:cNvSpPr/>
          <p:nvPr/>
        </p:nvSpPr>
        <p:spPr>
          <a:xfrm flipH="1">
            <a:off x="1676160" y="59436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34"/>
              <p:cNvSpPr txBox="1"/>
              <p:nvPr/>
            </p:nvSpPr>
            <p:spPr>
              <a:xfrm>
                <a:off x="5257800" y="1752480"/>
                <a:ext cx="20638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35"/>
              <p:cNvSpPr txBox="1"/>
              <p:nvPr/>
            </p:nvSpPr>
            <p:spPr>
              <a:xfrm>
                <a:off x="6248520" y="3429000"/>
                <a:ext cx="2233440" cy="20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8"/>
              <p:cNvSpPr txBox="1"/>
              <p:nvPr/>
            </p:nvSpPr>
            <p:spPr>
              <a:xfrm>
                <a:off x="4343400" y="3505320"/>
                <a:ext cx="1214280" cy="20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5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7C3C-276B-467B-8C90-69924B3734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strained Double Pendulum w/ Dam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 strictly enforced, h=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5333760" cy="4000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-304920" y="22860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C8F1-D187-4BC0-9A63-E40EAFFDE7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1828800" y="6248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stabilization heuristics requir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 Johnson, T. Murphey, “Scalable Variational Integrators for Constrained Mechanical Systems in Generalized Coordinates,” IEEE Transactions on Robotic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k.a “Beware of OD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ECDF-0AEC-4B39-A99F-5E3BA7C884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233360" y="1104840"/>
            <a:ext cx="6677280" cy="57531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5562720" y="3124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al Integ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716292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99E0-BD69-4941-AF16-9710CD9C9D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5553000" cy="4971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0" y="205740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F818-3C7B-457E-BC8A-7DBE03C070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B87E-BF31-4E41-93A6-498EB93188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able2.wmv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843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2133720" y="62596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cs.cmu.edu/~bsteph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83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500120" y="1271520"/>
            <a:ext cx="6143760" cy="4314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 rot="16200000">
            <a:off x="1185840" y="40287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"/>
          <p:cNvSpPr/>
          <p:nvPr/>
        </p:nvSpPr>
        <p:spPr>
          <a:xfrm>
            <a:off x="457200" y="6019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ep was decreased until error was below threshold, leading to longer run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2F3C-2668-4264-9DC0-76123DE35B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ionette Rob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0" t="0" r="68006" b="0"/>
          <a:stretch/>
        </p:blipFill>
        <p:spPr>
          <a:xfrm>
            <a:off x="1371600" y="2286000"/>
            <a:ext cx="1828800" cy="38098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Johnson and T. Murphey, “Discrete and Continuous Mechanics for Tree Represenatations of Mechanical Systems,” ICR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FCFE-2DB6-4B18-BACC-AA3BCA4D87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uppet-time-step-comparison.mpg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2503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996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rcRect l="0" t="0" r="48085" b="0"/>
          <a:stretch/>
        </p:blipFill>
        <p:spPr>
          <a:xfrm>
            <a:off x="609480" y="2362320"/>
            <a:ext cx="3353040" cy="33433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Johnson, K. Morris and T. Murphey, “A Variational Approach to Stand-Based Modeling of the Human Hand,”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gorithmic Foundations of Robotics V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CC40-6D1C-4FCC-87F7-15E92DCD46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sim-sphere.mpg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2861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996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smooth dyna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643200" cy="24987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5"/>
          <p:cNvSpPr/>
          <p:nvPr/>
        </p:nvSpPr>
        <p:spPr>
          <a:xfrm>
            <a:off x="152280" y="57150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ecau, R. C. and Marsden, J. E. and Ortiz, M. and West, M. (2003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smooth Lagrangian mechanics and variational collision integrato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AM Journal on Applied Dynamic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8264-01C5-4F2C-8C68-3E18C7C8D3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hexsim.avi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505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5040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 Mecha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276640" y="2514600"/>
            <a:ext cx="4581360" cy="28670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dar G. Kale and Adrian J. Lew, “Parallel asynchronous variational integrators,” International Journal for Numerical Methods in Engineering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EF58-F151-4570-9A5F-790DB6EFB8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jectory opt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257800" cy="38941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152280" y="6095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. Junge, J.E. Marsden, S. Ober-Blöbaum, “Discrete Mechanics and Optimal Control”, in Proccedings of the 16th IFAC World Congress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3772080" cy="79056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8468-E8BC-4E78-B1AE-8EB70E4519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ization of the variational principle results in symplectic discrete equations of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tional integrators perform better than almost all other integr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ork is being applied to the analysis of robotic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478C-7B81-485D-BDB7-BF50370FAC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can this idea be applied t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mal Control is also derived from a variational principle (“Pontryagin’s Minimum Principle”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dea should be taught in calculus and/or dynamics cour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on’t need accurate simulation because real systems never ag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9BDD-44C8-4A46-A23D-7F43BEB7F1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ef History of Lagrangian Mecha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of Least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ebniz, 1707; Euler, 1744; Maupertuis, 17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grange, 17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échanique Analy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grange, 17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grangian Mecha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milton, 18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06F9-248B-4272-877B-9E5E5A1269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this talk is not about tha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iple of Least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28600" y="26668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pectacle of the universe seems all the more grand and beautiful and worthy of its Author, when one considers that it is all derived from a small number of laws laid down most wis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pertuis, 17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C95A-D3BF-40BE-A152-C1219FC1C8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in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tions of motion are derived from a variational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integrators discretize the equations of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tional integrators discretize the variational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58E7-1311-4700-ADF4-879B5CD639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ly meaningful dynamics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47920" y="1933560"/>
            <a:ext cx="618156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2118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in A., Desbrun M. “Discrete geometric mechanics for variational time integrators” in Discrete Differential Geometry. ACM SIGGRAPH Course Notes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1371600" y="4662360"/>
            <a:ext cx="6329520" cy="158616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BE28-5902-4C2F-95AC-1656ACB018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for the T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amentals (and a little Hist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Examples/Compari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Work and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7E8A-D66F-41D9-96AF-01AACA074D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ntinuous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 – configuration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Q – tangent (velocity)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:T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2089080" y="4191120"/>
                <a:ext cx="3995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Box 4"/>
          <p:cNvSpPr/>
          <p:nvPr/>
        </p:nvSpPr>
        <p:spPr>
          <a:xfrm>
            <a:off x="32767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3341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4479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grang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8"/>
          <p:cNvCxnSpPr>
            <a:stCxn id="134" idx="0"/>
          </p:cNvCxnSpPr>
          <p:nvPr/>
        </p:nvCxnSpPr>
        <p:spPr>
          <a:xfrm flipV="1">
            <a:off x="4264560" y="472536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8" name="Straight Arrow Connector 10"/>
          <p:cNvCxnSpPr/>
          <p:nvPr/>
        </p:nvCxnSpPr>
        <p:spPr>
          <a:xfrm flipH="1" flipV="1">
            <a:off x="5714640" y="4723920"/>
            <a:ext cx="3816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9" name="Straight Arrow Connector 12"/>
          <p:cNvCxnSpPr/>
          <p:nvPr/>
        </p:nvCxnSpPr>
        <p:spPr>
          <a:xfrm flipV="1">
            <a:off x="2132640" y="4723920"/>
            <a:ext cx="5338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0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CF9D-4070-4E15-B84F-BF0A150D02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21:06:55Z</dcterms:created>
  <dc:creator>School of Computer Science</dc:creator>
  <dc:description/>
  <dc:language>en-US</dc:language>
  <cp:lastModifiedBy>Benjamin Stephens</cp:lastModifiedBy>
  <dcterms:modified xsi:type="dcterms:W3CDTF">2010-03-30T21:37:40Z</dcterms:modified>
  <cp:revision>149</cp:revision>
  <dc:subject/>
  <dc:title>Discrete Variational Mechanics</dc:title>
</cp:coreProperties>
</file>