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9E4F-50F3-43F1-AAAF-C73CA40D4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F8BD-5A9A-4185-ACEF-8CC70CF2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20A-E1C8-4AED-9CAD-D413AD1FE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8A1D-F424-47FC-B699-AB7145F14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8D14-DB6A-4591-A422-600669C5F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537B-8C41-4B52-8D79-19C16EDFA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311D-C8DD-40BA-BFC0-CF2F0207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6303-176B-4DFC-BC33-5B584CD5F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3748-84AC-42C6-830D-3E7E397AB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B260-760E-4C11-8487-6F9289552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7574-616C-46AD-8496-BEB681C1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4A8C-3D4C-4778-ABD9-40BACACC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17AC-F8F4-4D46-99FC-F7C9685F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941F-5C64-4A26-8FB6-E9B211D16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89B8-E961-4822-8FC2-D575466A9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2722-7D3A-494E-9EA6-CF23CA089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079F-10BB-41FC-9443-3A78CE481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B239-FF19-42CF-970A-CE8B4F13B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B48E-F319-4B9A-AEA6-A828CE71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9AB7-B939-4B2B-AF37-37E5B4DDB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1703-51B7-46B5-B922-C6DA9675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3F9E-23A2-4037-93BC-FBAC44A00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D731-B607-42B4-943B-3A0429207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DC96-B3D6-405C-BAD9-298A84E03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7205-1809-4070-81FD-145E5027E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E1A8-9C94-46CB-B7A5-431349457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B439-5067-45F7-95F3-A507D843D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8B1E-27C2-49DE-AB56-E16B6CBDC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8E2E-0161-4616-9399-9BE769512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43AC-FF90-4332-97A9-BDE7CC4D2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8ADD-4E7E-4D48-903F-98A55B04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289-E8D2-48D3-BE2A-449FEB31C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3B0F-2D39-4977-97C1-79966116D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C4DA-CF38-4171-A3F8-D6AA41FF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D81D-8687-47B2-BDC8-9BDE7F17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352-B5F8-4678-A19D-4579E83E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DE3-BC7F-4296-845A-EDF808B0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022-FC88-4095-AD43-8134D9F2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104-F825-4F46-BD4F-2435FB3A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2F8-1685-4AB4-8FFD-7E414FAE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C7D-5EE8-4ABB-BA27-0B989E29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170-C2CA-4456-84F3-976C6CC3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3B6-B20C-497B-9AAF-C3C4B946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12B-63D2-4454-A544-02FB2E76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0DF-01AC-4600-9280-D4AEBAF1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070-F730-4574-89BA-3C001C06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002-7A9F-475D-8E3F-F4063C80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A4D9-C5AC-4C90-AF74-590EA37E63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rete Variational Mecha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jamin Steph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.E. Marsden and M. West, “Discrete mechanics and variational integrators,” Acta Numerica, No. 10, pp. 357-514, 2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. West “Variational Integrators,” PhD Thesis, Caltech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9787-77F9-4F91-AE42-CEE1372CF9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tion of the Lagrangi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of Least Action = the function, q*(t), minimizes the integral of the Lagrang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066680" y="2743200"/>
                <a:ext cx="67834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ε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4267080" y="4651200"/>
                <a:ext cx="309096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Text Box 8"/>
          <p:cNvSpPr/>
          <p:nvPr/>
        </p:nvSpPr>
        <p:spPr>
          <a:xfrm>
            <a:off x="1219320" y="48798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 of trajectory with endpoints 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3505320" y="5184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600200" y="6019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milton’s Principle” ~1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5841-6A97-4F2B-87D2-56AC06E79F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09480" y="38862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us of Variations” ~ Lagrange, 17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ous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4"/>
              <p:cNvSpPr txBox="1"/>
              <p:nvPr/>
            </p:nvSpPr>
            <p:spPr>
              <a:xfrm>
                <a:off x="3048120" y="4800600"/>
                <a:ext cx="28778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2" name="Picture 14" descr=""/>
          <p:cNvPicPr/>
          <p:nvPr/>
        </p:nvPicPr>
        <p:blipFill>
          <a:blip r:embed="rId1"/>
          <a:stretch/>
        </p:blipFill>
        <p:spPr>
          <a:xfrm>
            <a:off x="609480" y="2773440"/>
            <a:ext cx="8001000" cy="2103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2514600" y="838080"/>
            <a:ext cx="4200480" cy="2152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981080" y="6095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ler-Lagrange Equ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8BED-E9B2-4A71-86CB-E82EE372B8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ous Mecha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219320" y="1523880"/>
                <a:ext cx="41558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457200" y="2286000"/>
                <a:ext cx="5008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2133720" y="3429000"/>
                <a:ext cx="2908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8"/>
              <p:cNvSpPr txBox="1"/>
              <p:nvPr/>
            </p:nvSpPr>
            <p:spPr>
              <a:xfrm>
                <a:off x="2133720" y="4435560"/>
                <a:ext cx="43765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103480" y="5924520"/>
                <a:ext cx="4437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5FCB-BE33-442A-B808-8EF3449B6D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iscrete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:Qx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0D10-B6D1-4BD4-94A1-6288D382F4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3962520" y="1523880"/>
                <a:ext cx="47098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p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Line 50"/>
          <p:cNvSpPr/>
          <p:nvPr/>
        </p:nvSpPr>
        <p:spPr>
          <a:xfrm flipH="1">
            <a:off x="3123720" y="37339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2"/>
          <p:cNvGrpSpPr/>
          <p:nvPr/>
        </p:nvGrpSpPr>
        <p:grpSpPr>
          <a:xfrm>
            <a:off x="1371600" y="3700440"/>
            <a:ext cx="5867280" cy="3005280"/>
            <a:chOff x="1371600" y="3700440"/>
            <a:chExt cx="5867280" cy="3005280"/>
          </a:xfrm>
        </p:grpSpPr>
        <p:sp>
          <p:nvSpPr>
            <p:cNvPr id="169" name="Line 6"/>
            <p:cNvSpPr/>
            <p:nvPr/>
          </p:nvSpPr>
          <p:spPr>
            <a:xfrm>
              <a:off x="1872360" y="3700440"/>
              <a:ext cx="0" cy="264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1872360" y="6348240"/>
              <a:ext cx="536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6"/>
            <p:cNvSpPr/>
            <p:nvPr/>
          </p:nvSpPr>
          <p:spPr>
            <a:xfrm>
              <a:off x="1872360" y="4277160"/>
              <a:ext cx="4908960" cy="2070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237312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>
              <a:off x="287424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337500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>
              <a:off x="387576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437688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2"/>
            <p:cNvSpPr/>
            <p:nvPr/>
          </p:nvSpPr>
          <p:spPr>
            <a:xfrm>
              <a:off x="487764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537876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587952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6380280" y="62766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6"/>
            <p:cNvSpPr/>
            <p:nvPr/>
          </p:nvSpPr>
          <p:spPr>
            <a:xfrm flipV="1">
              <a:off x="2373120" y="4630680"/>
              <a:ext cx="0" cy="171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V="1">
              <a:off x="2874240" y="4415400"/>
              <a:ext cx="0" cy="193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8"/>
            <p:cNvSpPr/>
            <p:nvPr/>
          </p:nvSpPr>
          <p:spPr>
            <a:xfrm flipV="1">
              <a:off x="3375000" y="4272840"/>
              <a:ext cx="0" cy="207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 flipH="1" flipV="1">
              <a:off x="3872880" y="4288680"/>
              <a:ext cx="2880" cy="2058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0"/>
            <p:cNvSpPr/>
            <p:nvPr/>
          </p:nvSpPr>
          <p:spPr>
            <a:xfrm flipH="1" flipV="1">
              <a:off x="4376880" y="4344480"/>
              <a:ext cx="2880" cy="198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1"/>
            <p:cNvSpPr/>
            <p:nvPr/>
          </p:nvSpPr>
          <p:spPr>
            <a:xfrm flipH="1" flipV="1">
              <a:off x="4877640" y="4630320"/>
              <a:ext cx="2880" cy="1701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 flipH="1" flipV="1">
              <a:off x="5378760" y="4988160"/>
              <a:ext cx="2880" cy="134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 flipH="1" flipV="1">
              <a:off x="5879520" y="5131080"/>
              <a:ext cx="2880" cy="11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 flipV="1">
              <a:off x="6380280" y="4988160"/>
              <a:ext cx="0" cy="134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 flipH="1">
              <a:off x="1872000" y="46306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 flipH="1">
              <a:off x="2372760" y="46306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7"/>
            <p:cNvSpPr/>
            <p:nvPr/>
          </p:nvSpPr>
          <p:spPr>
            <a:xfrm flipH="1">
              <a:off x="2873880" y="441576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8"/>
            <p:cNvSpPr/>
            <p:nvPr/>
          </p:nvSpPr>
          <p:spPr>
            <a:xfrm flipH="1">
              <a:off x="3374640" y="427284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9"/>
            <p:cNvSpPr/>
            <p:nvPr/>
          </p:nvSpPr>
          <p:spPr>
            <a:xfrm flipH="1">
              <a:off x="3875400" y="43444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0"/>
            <p:cNvSpPr/>
            <p:nvPr/>
          </p:nvSpPr>
          <p:spPr>
            <a:xfrm flipH="1">
              <a:off x="4376520" y="463068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1"/>
            <p:cNvSpPr/>
            <p:nvPr/>
          </p:nvSpPr>
          <p:spPr>
            <a:xfrm flipH="1">
              <a:off x="4877280" y="498852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4"/>
            <p:cNvSpPr/>
            <p:nvPr/>
          </p:nvSpPr>
          <p:spPr>
            <a:xfrm flipH="1">
              <a:off x="5378400" y="513144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5"/>
            <p:cNvSpPr/>
            <p:nvPr/>
          </p:nvSpPr>
          <p:spPr>
            <a:xfrm flipH="1">
              <a:off x="5879160" y="5131440"/>
              <a:ext cx="50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46"/>
                <p:cNvSpPr txBox="1"/>
                <p:nvPr/>
              </p:nvSpPr>
              <p:spPr>
                <a:xfrm>
                  <a:off x="1371600" y="4845240"/>
                  <a:ext cx="30708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Object 47"/>
                <p:cNvSpPr txBox="1"/>
                <p:nvPr/>
              </p:nvSpPr>
              <p:spPr>
                <a:xfrm>
                  <a:off x="2730960" y="6419520"/>
                  <a:ext cx="222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48"/>
                <p:cNvSpPr txBox="1"/>
                <p:nvPr/>
              </p:nvSpPr>
              <p:spPr>
                <a:xfrm>
                  <a:off x="3017160" y="6348240"/>
                  <a:ext cx="162360" cy="22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Rectangle 49"/>
            <p:cNvSpPr/>
            <p:nvPr/>
          </p:nvSpPr>
          <p:spPr>
            <a:xfrm>
              <a:off x="2874240" y="4415760"/>
              <a:ext cx="500760" cy="1932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51"/>
                <p:cNvSpPr txBox="1"/>
                <p:nvPr/>
              </p:nvSpPr>
              <p:spPr>
                <a:xfrm>
                  <a:off x="3176640" y="6419520"/>
                  <a:ext cx="3337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4" name="Object 52"/>
              <p:cNvSpPr txBox="1"/>
              <p:nvPr/>
            </p:nvSpPr>
            <p:spPr>
              <a:xfrm>
                <a:off x="4038480" y="3124080"/>
                <a:ext cx="4859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tion of Discrete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1447920" y="5711760"/>
                <a:ext cx="6224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7" name="Group 11"/>
          <p:cNvGrpSpPr/>
          <p:nvPr/>
        </p:nvGrpSpPr>
        <p:grpSpPr>
          <a:xfrm>
            <a:off x="304920" y="3200400"/>
            <a:ext cx="8583120" cy="2318760"/>
            <a:chOff x="304920" y="3200400"/>
            <a:chExt cx="8583120" cy="2318760"/>
          </a:xfrm>
        </p:grpSpPr>
        <p:pic>
          <p:nvPicPr>
            <p:cNvPr id="208" name="Picture 7" descr=""/>
            <p:cNvPicPr/>
            <p:nvPr/>
          </p:nvPicPr>
          <p:blipFill>
            <a:blip r:embed="rId1"/>
            <a:stretch/>
          </p:blipFill>
          <p:spPr>
            <a:xfrm>
              <a:off x="304920" y="3200400"/>
              <a:ext cx="8557560" cy="165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8" descr=""/>
            <p:cNvPicPr/>
            <p:nvPr/>
          </p:nvPicPr>
          <p:blipFill>
            <a:blip r:embed="rId2"/>
            <a:stretch/>
          </p:blipFill>
          <p:spPr>
            <a:xfrm>
              <a:off x="3286080" y="4939560"/>
              <a:ext cx="56019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Line 9"/>
            <p:cNvSpPr/>
            <p:nvPr/>
          </p:nvSpPr>
          <p:spPr>
            <a:xfrm flipV="1">
              <a:off x="5439240" y="4939200"/>
              <a:ext cx="414000" cy="57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 flipV="1">
              <a:off x="8420760" y="4939200"/>
              <a:ext cx="414000" cy="57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9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4276800" cy="21718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8"/>
          <p:cNvSpPr/>
          <p:nvPr/>
        </p:nvSpPr>
        <p:spPr>
          <a:xfrm>
            <a:off x="2438280" y="6324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 Euler-Lagrange Equa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F440-5530-4EC3-BEB6-FCE10B0A84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tional Integ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for      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1828800" y="2590920"/>
                <a:ext cx="5479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457200" y="3733920"/>
                <a:ext cx="79502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8"/>
              <p:cNvSpPr txBox="1"/>
              <p:nvPr/>
            </p:nvSpPr>
            <p:spPr>
              <a:xfrm>
                <a:off x="380880" y="5638680"/>
                <a:ext cx="8197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2422440" y="1600200"/>
                <a:ext cx="625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7A0E-E7D6-4307-9302-EA7D57DD65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Nonlinear Root F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1371600" y="3581280"/>
                <a:ext cx="3589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990720" y="2133720"/>
                <a:ext cx="68799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2857680" cy="23526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DB31-BACD-4FF3-9811-3C5A74B6BC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Example: Spring-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ous Lagrangi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ler-Lagrange Equ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Integration Sche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5486400" y="1447920"/>
                <a:ext cx="33051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5299200" y="2666880"/>
                <a:ext cx="3844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2590920" y="4572000"/>
                <a:ext cx="37843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h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86CF-6AAC-404E-9194-FAB6BB935C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Example: Spring-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e Lagrangi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e Euler-Lagrange Equ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E994-0DA9-4B94-ADD7-C5878B0167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1676520" y="1981080"/>
                <a:ext cx="577512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1676520" y="3952800"/>
                <a:ext cx="54514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2057400" y="4334040"/>
                <a:ext cx="45576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6"/>
              <p:cNvSpPr txBox="1"/>
              <p:nvPr/>
            </p:nvSpPr>
            <p:spPr>
              <a:xfrm>
                <a:off x="2590920" y="5562720"/>
                <a:ext cx="354492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: 3 Types of Integ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ler – easiest, least accu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ge-Kutta – more complicated, more accu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tional – EASY &amp; ACCURA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90AC-7119-4B1A-99DD-1A9438B090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My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oid balance using simple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iant floating body force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push recovery planning by trajectory opt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36"/>
          <p:cNvGrpSpPr/>
          <p:nvPr/>
        </p:nvGrpSpPr>
        <p:grpSpPr>
          <a:xfrm>
            <a:off x="5562720" y="1523880"/>
            <a:ext cx="2818800" cy="4249800"/>
            <a:chOff x="5562720" y="1523880"/>
            <a:chExt cx="2818800" cy="4249800"/>
          </a:xfrm>
        </p:grpSpPr>
        <p:grpSp>
          <p:nvGrpSpPr>
            <p:cNvPr id="54" name="Group 131"/>
            <p:cNvGrpSpPr/>
            <p:nvPr/>
          </p:nvGrpSpPr>
          <p:grpSpPr>
            <a:xfrm>
              <a:off x="5562720" y="1523880"/>
              <a:ext cx="2733120" cy="4249800"/>
              <a:chOff x="5562720" y="1523880"/>
              <a:chExt cx="2733120" cy="4249800"/>
            </a:xfrm>
          </p:grpSpPr>
          <p:sp>
            <p:nvSpPr>
              <p:cNvPr id="55" name="Parallelogram 16"/>
              <p:cNvSpPr/>
              <p:nvPr/>
            </p:nvSpPr>
            <p:spPr>
              <a:xfrm>
                <a:off x="5562720" y="4946400"/>
                <a:ext cx="2733120" cy="827280"/>
              </a:xfrm>
              <a:prstGeom prst="parallelogram">
                <a:avLst>
                  <a:gd name="adj" fmla="val 109880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Oval 17"/>
              <p:cNvGrpSpPr/>
              <p:nvPr/>
            </p:nvGrpSpPr>
            <p:grpSpPr>
              <a:xfrm>
                <a:off x="7229520" y="2740320"/>
                <a:ext cx="731160" cy="514440"/>
                <a:chOff x="7229520" y="2740320"/>
                <a:chExt cx="731160" cy="514440"/>
              </a:xfrm>
            </p:grpSpPr>
            <p:pic>
              <p:nvPicPr>
                <p:cNvPr id="57" name="Oval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29520" y="2740320"/>
                  <a:ext cx="731160" cy="51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18032400">
                  <a:off x="7522560" y="2722320"/>
                  <a:ext cx="14868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Oval 18"/>
              <p:cNvGrpSpPr/>
              <p:nvPr/>
            </p:nvGrpSpPr>
            <p:grpSpPr>
              <a:xfrm>
                <a:off x="7022520" y="1802160"/>
                <a:ext cx="438840" cy="1095480"/>
                <a:chOff x="7022520" y="1802160"/>
                <a:chExt cx="438840" cy="1095480"/>
              </a:xfrm>
            </p:grpSpPr>
            <p:pic>
              <p:nvPicPr>
                <p:cNvPr id="60" name="Oval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022520" y="1802160"/>
                  <a:ext cx="438840" cy="109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 rot="20974800">
                  <a:off x="7150320" y="197172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Oval 19"/>
              <p:cNvGrpSpPr/>
              <p:nvPr/>
            </p:nvGrpSpPr>
            <p:grpSpPr>
              <a:xfrm>
                <a:off x="6991920" y="4822560"/>
                <a:ext cx="651960" cy="387360"/>
                <a:chOff x="6991920" y="4822560"/>
                <a:chExt cx="651960" cy="387360"/>
              </a:xfrm>
            </p:grpSpPr>
            <p:pic>
              <p:nvPicPr>
                <p:cNvPr id="63" name="Oval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91920" y="4822560"/>
                  <a:ext cx="651960" cy="38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 rot="16675800">
                  <a:off x="7226280" y="4799520"/>
                  <a:ext cx="188280" cy="38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Oval 20"/>
              <p:cNvGrpSpPr/>
              <p:nvPr/>
            </p:nvGrpSpPr>
            <p:grpSpPr>
              <a:xfrm>
                <a:off x="7040880" y="3369960"/>
                <a:ext cx="694800" cy="974520"/>
                <a:chOff x="7040880" y="3369960"/>
                <a:chExt cx="694800" cy="974520"/>
              </a:xfrm>
            </p:grpSpPr>
            <p:pic>
              <p:nvPicPr>
                <p:cNvPr id="66" name="Oval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040880" y="3369960"/>
                  <a:ext cx="69480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 rot="19680600">
                  <a:off x="7293960" y="348264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" name="Oval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6242040" y="4441320"/>
                <a:ext cx="481320" cy="865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" name="Oval 22"/>
              <p:cNvGrpSpPr/>
              <p:nvPr/>
            </p:nvGrpSpPr>
            <p:grpSpPr>
              <a:xfrm>
                <a:off x="7077240" y="4168800"/>
                <a:ext cx="639720" cy="829080"/>
                <a:chOff x="7077240" y="4168800"/>
                <a:chExt cx="639720" cy="829080"/>
              </a:xfrm>
            </p:grpSpPr>
            <p:pic>
              <p:nvPicPr>
                <p:cNvPr id="70" name="Oval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077240" y="4168800"/>
                  <a:ext cx="639720" cy="82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2822600">
                  <a:off x="7305840" y="4259880"/>
                  <a:ext cx="19152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Oval 23"/>
              <p:cNvGrpSpPr/>
              <p:nvPr/>
            </p:nvGrpSpPr>
            <p:grpSpPr>
              <a:xfrm>
                <a:off x="6443280" y="3267000"/>
                <a:ext cx="828720" cy="484200"/>
                <a:chOff x="6443280" y="3267000"/>
                <a:chExt cx="828720" cy="484200"/>
              </a:xfrm>
            </p:grpSpPr>
            <p:pic>
              <p:nvPicPr>
                <p:cNvPr id="73" name="Oval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43280" y="3267000"/>
                  <a:ext cx="828720" cy="48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6200000">
                  <a:off x="6732720" y="3230280"/>
                  <a:ext cx="255240" cy="5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Oval 24"/>
              <p:cNvGrpSpPr/>
              <p:nvPr/>
            </p:nvGrpSpPr>
            <p:grpSpPr>
              <a:xfrm>
                <a:off x="6632280" y="1523880"/>
                <a:ext cx="615600" cy="1918800"/>
                <a:chOff x="6632280" y="1523880"/>
                <a:chExt cx="615600" cy="1918800"/>
              </a:xfrm>
            </p:grpSpPr>
            <p:pic>
              <p:nvPicPr>
                <p:cNvPr id="76" name="Oval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32280" y="1523880"/>
                  <a:ext cx="615600" cy="191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 rot="339600">
                  <a:off x="6780600" y="1818000"/>
                  <a:ext cx="325080" cy="12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Oval 25"/>
              <p:cNvGrpSpPr/>
              <p:nvPr/>
            </p:nvGrpSpPr>
            <p:grpSpPr>
              <a:xfrm>
                <a:off x="6413040" y="3484800"/>
                <a:ext cx="408240" cy="1101600"/>
                <a:chOff x="6413040" y="3484800"/>
                <a:chExt cx="408240" cy="1101600"/>
              </a:xfrm>
            </p:grpSpPr>
            <p:pic>
              <p:nvPicPr>
                <p:cNvPr id="79" name="Oval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413040" y="3484800"/>
                  <a:ext cx="408240" cy="110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 rot="386400">
                  <a:off x="6524280" y="365904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Oval 26"/>
              <p:cNvGrpSpPr/>
              <p:nvPr/>
            </p:nvGrpSpPr>
            <p:grpSpPr>
              <a:xfrm>
                <a:off x="6376320" y="1753560"/>
                <a:ext cx="578880" cy="1046880"/>
                <a:chOff x="6376320" y="1753560"/>
                <a:chExt cx="578880" cy="1046880"/>
              </a:xfrm>
            </p:grpSpPr>
            <p:pic>
              <p:nvPicPr>
                <p:cNvPr id="82" name="Oval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376320" y="1753560"/>
                  <a:ext cx="578880" cy="104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 rot="12150600">
                  <a:off x="6572520" y="1900440"/>
                  <a:ext cx="1915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Oval 27"/>
              <p:cNvGrpSpPr/>
              <p:nvPr/>
            </p:nvGrpSpPr>
            <p:grpSpPr>
              <a:xfrm>
                <a:off x="6327360" y="2595240"/>
                <a:ext cx="572760" cy="641520"/>
                <a:chOff x="6327360" y="2595240"/>
                <a:chExt cx="572760" cy="641520"/>
              </a:xfrm>
            </p:grpSpPr>
            <p:pic>
              <p:nvPicPr>
                <p:cNvPr id="85" name="Oval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327360" y="2595240"/>
                  <a:ext cx="572760" cy="64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224000">
                  <a:off x="6538680" y="2658240"/>
                  <a:ext cx="16020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Oval 28"/>
              <p:cNvSpPr/>
              <p:nvPr/>
            </p:nvSpPr>
            <p:spPr>
              <a:xfrm>
                <a:off x="7100640" y="5286600"/>
                <a:ext cx="426960" cy="8352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9"/>
              <p:cNvSpPr/>
              <p:nvPr/>
            </p:nvSpPr>
            <p:spPr>
              <a:xfrm>
                <a:off x="7670520" y="5201640"/>
                <a:ext cx="137880" cy="6768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0"/>
              <p:cNvSpPr/>
              <p:nvPr/>
            </p:nvSpPr>
            <p:spPr>
              <a:xfrm>
                <a:off x="7014960" y="4933800"/>
                <a:ext cx="734760" cy="479160"/>
              </a:xfrm>
              <a:prstGeom prst="pie">
                <a:avLst/>
              </a:prstGeom>
              <a:noFill/>
              <a:ln w="38160">
                <a:solidFill>
                  <a:srgbClr val="4a7ebb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31"/>
              <p:cNvSpPr/>
              <p:nvPr/>
            </p:nvSpPr>
            <p:spPr>
              <a:xfrm>
                <a:off x="6843600" y="3335400"/>
                <a:ext cx="171360" cy="169920"/>
              </a:xfrm>
              <a:prstGeom prst="ellipse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2"/>
              <p:cNvSpPr/>
              <p:nvPr/>
            </p:nvSpPr>
            <p:spPr>
              <a:xfrm>
                <a:off x="6903720" y="3349440"/>
                <a:ext cx="885600" cy="77040"/>
              </a:xfrm>
              <a:prstGeom prst="pie">
                <a:avLst/>
              </a:prstGeom>
              <a:noFill/>
              <a:ln w="38160">
                <a:solidFill>
                  <a:srgbClr val="98b954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" name="Straight Arrow Connector 33"/>
              <p:cNvCxnSpPr/>
              <p:nvPr/>
            </p:nvCxnSpPr>
            <p:spPr>
              <a:xfrm flipV="1">
                <a:off x="6389640" y="3799440"/>
                <a:ext cx="467280" cy="1721880"/>
              </a:xfrm>
              <a:prstGeom prst="straightConnector1">
                <a:avLst/>
              </a:prstGeom>
              <a:ln w="38160">
                <a:solidFill>
                  <a:srgbClr val="f79646"/>
                </a:solidFill>
                <a:miter/>
                <a:tailEnd len="med" type="arrow" w="med"/>
              </a:ln>
            </p:spPr>
          </p:cxnSp>
          <p:grpSp>
            <p:nvGrpSpPr>
              <p:cNvPr id="93" name="Oval 34"/>
              <p:cNvGrpSpPr/>
              <p:nvPr/>
            </p:nvGrpSpPr>
            <p:grpSpPr>
              <a:xfrm>
                <a:off x="6108120" y="5191920"/>
                <a:ext cx="639720" cy="435600"/>
                <a:chOff x="6108120" y="5191920"/>
                <a:chExt cx="639720" cy="435600"/>
              </a:xfrm>
            </p:grpSpPr>
            <p:pic>
              <p:nvPicPr>
                <p:cNvPr id="94" name="Oval 3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108120" y="5191920"/>
                  <a:ext cx="639720" cy="43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7234400">
                  <a:off x="6330960" y="5193360"/>
                  <a:ext cx="200520" cy="38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Oval 35"/>
              <p:cNvSpPr/>
              <p:nvPr/>
            </p:nvSpPr>
            <p:spPr>
              <a:xfrm>
                <a:off x="7237080" y="4906800"/>
                <a:ext cx="171360" cy="16992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6"/>
              <p:cNvSpPr/>
              <p:nvPr/>
            </p:nvSpPr>
            <p:spPr>
              <a:xfrm>
                <a:off x="6283080" y="5275800"/>
                <a:ext cx="171360" cy="168480"/>
              </a:xfrm>
              <a:prstGeom prst="ellipse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8" name="Object 2"/>
                <p:cNvSpPr txBox="1"/>
                <p:nvPr/>
              </p:nvSpPr>
              <p:spPr>
                <a:xfrm>
                  <a:off x="7774920" y="3189960"/>
                  <a:ext cx="606600" cy="40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3"/>
                <p:cNvSpPr txBox="1"/>
                <p:nvPr/>
              </p:nvSpPr>
              <p:spPr>
                <a:xfrm>
                  <a:off x="7629120" y="4457160"/>
                  <a:ext cx="7333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4"/>
                <p:cNvSpPr txBox="1"/>
                <p:nvPr/>
              </p:nvSpPr>
              <p:spPr>
                <a:xfrm>
                  <a:off x="6254280" y="2977560"/>
                  <a:ext cx="30384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Object 5"/>
                <p:cNvSpPr txBox="1"/>
                <p:nvPr/>
              </p:nvSpPr>
              <p:spPr>
                <a:xfrm>
                  <a:off x="6762600" y="4457160"/>
                  <a:ext cx="3538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Object 6"/>
                <p:cNvSpPr txBox="1"/>
                <p:nvPr/>
              </p:nvSpPr>
              <p:spPr>
                <a:xfrm>
                  <a:off x="5816880" y="4857120"/>
                  <a:ext cx="3805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Straight Connector 10"/>
            <p:cNvSpPr/>
            <p:nvPr/>
          </p:nvSpPr>
          <p:spPr>
            <a:xfrm>
              <a:off x="6496200" y="3190680"/>
              <a:ext cx="372960" cy="182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11"/>
            <p:cNvSpPr/>
            <p:nvPr/>
          </p:nvSpPr>
          <p:spPr>
            <a:xfrm>
              <a:off x="6129360" y="5113440"/>
              <a:ext cx="233280" cy="220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12"/>
            <p:cNvSpPr/>
            <p:nvPr/>
          </p:nvSpPr>
          <p:spPr>
            <a:xfrm>
              <a:off x="7050240" y="4710240"/>
              <a:ext cx="233280" cy="220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3"/>
            <p:cNvSpPr/>
            <p:nvPr/>
          </p:nvSpPr>
          <p:spPr>
            <a:xfrm flipH="1">
              <a:off x="7616880" y="4819680"/>
              <a:ext cx="139680" cy="18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7"/>
                <p:cNvSpPr txBox="1"/>
                <p:nvPr/>
              </p:nvSpPr>
              <p:spPr>
                <a:xfrm>
                  <a:off x="6080760" y="3583080"/>
                  <a:ext cx="27756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Straight Connector 15"/>
            <p:cNvSpPr/>
            <p:nvPr/>
          </p:nvSpPr>
          <p:spPr>
            <a:xfrm>
              <a:off x="6296040" y="3833640"/>
              <a:ext cx="379080" cy="323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Slide Number Placeholder 3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7E38-2C98-4C92-8555-96E8A5EAA9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8"/>
          <p:cNvSpPr/>
          <p:nvPr/>
        </p:nvSpPr>
        <p:spPr>
          <a:xfrm>
            <a:off x="2133720" y="62596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cs.cmu.edu/~bsteph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7B50-6885-4133-9213-9C93442691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8"/>
          <p:cNvSpPr/>
          <p:nvPr/>
        </p:nvSpPr>
        <p:spPr>
          <a:xfrm>
            <a:off x="228600" y="5533920"/>
            <a:ext cx="58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does not dissipat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error is b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FFDA-D75C-4DFD-B696-B4BD76A22C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rcRect l="0" t="0" r="0" b="24829"/>
          <a:stretch/>
        </p:blipFill>
        <p:spPr>
          <a:xfrm>
            <a:off x="0" y="2133720"/>
            <a:ext cx="9144000" cy="1614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0" y="62118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in A., Desbrun M. “Discrete geometric mechanics for variational time integrators” in Discrete Differential Geometry. ACM SIGGRAPH Course Notes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tional Integrators are “Symplectic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explanation: area of the cat head remains constant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E313-85C6-4028-977F-C3126F5F8C1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cing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ization of Lagrange–d’Alembert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685800" y="4070520"/>
            <a:ext cx="7751880" cy="653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685800" y="5108400"/>
            <a:ext cx="7835760" cy="454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1523880" y="2743200"/>
            <a:ext cx="6029280" cy="90504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BD50-92DF-4209-8DE4-C082855D35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2819520" y="5334120"/>
                <a:ext cx="35542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0" y="1905120"/>
                <a:ext cx="914400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h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h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t xml:space="preserve">∇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8"/>
              <p:cNvSpPr txBox="1"/>
              <p:nvPr/>
            </p:nvSpPr>
            <p:spPr>
              <a:xfrm>
                <a:off x="3581280" y="3733920"/>
                <a:ext cx="18464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511D-9BD5-4713-A2C1-1900E1FC64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Constrained Double Pendulum w/ Damp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57200" y="6248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 flipV="1">
            <a:off x="4572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 flipV="1">
            <a:off x="6094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7621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 flipV="1">
            <a:off x="9144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 flipV="1">
            <a:off x="10666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 flipV="1">
            <a:off x="12193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 flipV="1">
            <a:off x="13716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 flipV="1">
            <a:off x="15238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 flipV="1">
            <a:off x="16765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 flipV="1">
            <a:off x="18288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 flipV="1">
            <a:off x="19810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 flipV="1">
            <a:off x="21337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 flipV="1">
            <a:off x="22860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 flipV="1">
            <a:off x="2438280" y="6248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9"/>
          <p:cNvSpPr/>
          <p:nvPr/>
        </p:nvSpPr>
        <p:spPr>
          <a:xfrm flipV="1">
            <a:off x="259092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0"/>
          <p:cNvSpPr/>
          <p:nvPr/>
        </p:nvSpPr>
        <p:spPr>
          <a:xfrm flipV="1">
            <a:off x="2743200" y="6248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1"/>
          <p:cNvSpPr/>
          <p:nvPr/>
        </p:nvSpPr>
        <p:spPr>
          <a:xfrm rot="17194800">
            <a:off x="685800" y="5105160"/>
            <a:ext cx="2438280" cy="1522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2"/>
          <p:cNvSpPr/>
          <p:nvPr/>
        </p:nvSpPr>
        <p:spPr>
          <a:xfrm rot="15312600">
            <a:off x="685440" y="2895480"/>
            <a:ext cx="2438640" cy="1522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2093760" y="3971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5"/>
          <p:cNvSpPr/>
          <p:nvPr/>
        </p:nvSpPr>
        <p:spPr>
          <a:xfrm>
            <a:off x="1476360" y="6175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6"/>
          <p:cNvSpPr/>
          <p:nvPr/>
        </p:nvSpPr>
        <p:spPr>
          <a:xfrm>
            <a:off x="160020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7"/>
          <p:cNvSpPr/>
          <p:nvPr/>
        </p:nvSpPr>
        <p:spPr>
          <a:xfrm flipH="1">
            <a:off x="2209680" y="1981080"/>
            <a:ext cx="53352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9"/>
              <p:cNvSpPr txBox="1"/>
              <p:nvPr/>
            </p:nvSpPr>
            <p:spPr>
              <a:xfrm>
                <a:off x="1676520" y="4038480"/>
                <a:ext cx="3366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0"/>
              <p:cNvSpPr txBox="1"/>
              <p:nvPr/>
            </p:nvSpPr>
            <p:spPr>
              <a:xfrm>
                <a:off x="2043000" y="2743200"/>
                <a:ext cx="3654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1"/>
              <p:cNvSpPr txBox="1"/>
              <p:nvPr/>
            </p:nvSpPr>
            <p:spPr>
              <a:xfrm>
                <a:off x="2133720" y="5638680"/>
                <a:ext cx="8125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Line 32"/>
          <p:cNvSpPr/>
          <p:nvPr/>
        </p:nvSpPr>
        <p:spPr>
          <a:xfrm flipH="1">
            <a:off x="1676160" y="59436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34"/>
              <p:cNvSpPr txBox="1"/>
              <p:nvPr/>
            </p:nvSpPr>
            <p:spPr>
              <a:xfrm>
                <a:off x="5257800" y="1752480"/>
                <a:ext cx="20638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35"/>
              <p:cNvSpPr txBox="1"/>
              <p:nvPr/>
            </p:nvSpPr>
            <p:spPr>
              <a:xfrm>
                <a:off x="6248520" y="3429000"/>
                <a:ext cx="2233440" cy="20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8"/>
              <p:cNvSpPr txBox="1"/>
              <p:nvPr/>
            </p:nvSpPr>
            <p:spPr>
              <a:xfrm>
                <a:off x="4343400" y="3505320"/>
                <a:ext cx="1214280" cy="20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5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5C71-357F-4696-B564-DF9469880A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strained Double Pendulum w/ Dam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 strictly enforced, h=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5333760" cy="4000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-304920" y="22860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1816-0E83-42EC-B323-6A0763D1F3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1828800" y="6248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stabilization heuristics requir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 Johnson, T. Murphey, “Scalable Variational Integrators for Constrained Mechanical Systems in Generalized Coordinates,” IEEE Transactions on Robotic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k.a “Beware of OD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6A62-DB9D-4206-B37A-640C198039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233360" y="1104840"/>
            <a:ext cx="6677280" cy="57531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5562720" y="3124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al Integ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716292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C1F7-E70F-4EBD-9760-012C0B464F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5553000" cy="4971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0" y="205740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AE35-4FF3-4782-9B4F-613508DCD2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DAAE-5BB5-42A2-9088-A273FD3EB0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able2.wmv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843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2133720" y="62596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cs.cmu.edu/~bsteph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83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 Examples From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500120" y="1271520"/>
            <a:ext cx="6143760" cy="4314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 rot="16200000">
            <a:off x="1185840" y="40287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"/>
          <p:cNvSpPr/>
          <p:nvPr/>
        </p:nvSpPr>
        <p:spPr>
          <a:xfrm>
            <a:off x="457200" y="6019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ep was decreased until error was below threshold, leading to longer run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84E0-A000-4568-A1DB-A9092A6076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ionette Rob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0" t="0" r="68006" b="0"/>
          <a:stretch/>
        </p:blipFill>
        <p:spPr>
          <a:xfrm>
            <a:off x="1371600" y="2286000"/>
            <a:ext cx="1828800" cy="38098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Johnson and T. Murphey, “Discrete and Continuous Mechanics for Tree Represenatations of Mechanical Systems,” ICR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8548-D5E7-4AD3-B86E-ED5C5539B0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uppet-time-step-comparison.mpg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2503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996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rcRect l="0" t="0" r="48085" b="0"/>
          <a:stretch/>
        </p:blipFill>
        <p:spPr>
          <a:xfrm>
            <a:off x="609480" y="2362320"/>
            <a:ext cx="3353040" cy="33433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Johnson, K. Morris and T. Murphey, “A Variational Approach to Stand-Based Modeling of the Human Hand,”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gorithmic Foundations of Robotics V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1697-BDE0-4516-8D19-D060B66217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sim-sphere.mpg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2861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996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smooth dyna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643200" cy="24987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5"/>
          <p:cNvSpPr/>
          <p:nvPr/>
        </p:nvSpPr>
        <p:spPr>
          <a:xfrm>
            <a:off x="152280" y="57150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ecau, R. C. and Marsden, J. E. and Ortiz, M. and West, M. (2003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smooth Lagrangian mechanics and variational collision integrato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AM Journal on Applied Dynamic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DA48-F7AC-48B7-8E32-6F596E9F7D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hexsim.avi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505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5040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 Mecha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276640" y="2514600"/>
            <a:ext cx="4581360" cy="28670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dar G. Kale and Adrian J. Lew, “Parallel asynchronous variational integrators,” International Journal for Numerical Methods in Engineering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42D1-30B4-4D02-951F-257CE3A14C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jectory opt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257800" cy="38941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152280" y="6095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. Junge, J.E. Marsden, S. Ober-Blöbaum, “Discrete Mechanics and Optimal Control”, in Proccedings of the 16th IFAC World Congress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3772080" cy="79056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CFD-7DE0-4B09-80E5-CA99CCD6DF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tization of the variational principle results in symplectic discrete equations of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tional integrators perform better than almost all other integr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ork is being applied to the analysis of robotic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96C0-5B0A-49A3-9A01-20E4066914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can this idea be applied t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mal Control is also derived from a variational principle (“Pontryagin’s Minimum Principle”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dea should be taught in calculus and/or dynamics cour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on’t need accurate simulation because real systems never ag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54A2-C96B-4D02-8C58-79D140DA71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ef History of Lagrangian Mecha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of Least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ebniz, 1707; Euler, 1744; Maupertuis, 17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grange, 17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échanique Analy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grange, 17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grangian Mecha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milton, 18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B43D-4B47-4DBB-BCD3-575D57250A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this talk is not about tha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inciple of Least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28600" y="26668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pectacle of the universe seems all the more grand and beautiful and worthy of its Author, when one considers that it is all derived from a small number of laws laid down most wis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pertuis, 17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F781-D2BE-47A7-BA9F-96C29B9871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in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tions of motion are derived from a variational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integrators discretize the equations of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tional integrators discretize the variational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AA45-1607-4DAF-8758-2853B40327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ly meaningful dynamics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47920" y="1933560"/>
            <a:ext cx="618156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2118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in A., Desbrun M. “Discrete geometric mechanics for variational time integrators” in Discrete Differential Geometry. ACM SIGGRAPH Course Notes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1371600" y="4662360"/>
            <a:ext cx="6329520" cy="158616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06FA-4194-480C-B935-C1DEF352B7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for the T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amentals (and a little Hist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Examples/Compari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Work and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1C98-E630-4AFF-AB7C-7A815DA4E3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ntinuous Lagrang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 – configuration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Q – tangent (velocity)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:T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2089080" y="4191120"/>
                <a:ext cx="3995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Box 4"/>
          <p:cNvSpPr/>
          <p:nvPr/>
        </p:nvSpPr>
        <p:spPr>
          <a:xfrm>
            <a:off x="32767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3341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4479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grang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8"/>
          <p:cNvCxnSpPr>
            <a:stCxn id="134" idx="0"/>
          </p:cNvCxnSpPr>
          <p:nvPr/>
        </p:nvCxnSpPr>
        <p:spPr>
          <a:xfrm flipV="1">
            <a:off x="4264560" y="472536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8" name="Straight Arrow Connector 10"/>
          <p:cNvCxnSpPr/>
          <p:nvPr/>
        </p:nvCxnSpPr>
        <p:spPr>
          <a:xfrm flipH="1" flipV="1">
            <a:off x="5714640" y="4723920"/>
            <a:ext cx="3816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9" name="Straight Arrow Connector 12"/>
          <p:cNvCxnSpPr/>
          <p:nvPr/>
        </p:nvCxnSpPr>
        <p:spPr>
          <a:xfrm flipV="1">
            <a:off x="2132640" y="4723920"/>
            <a:ext cx="5338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0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4AA4-31CC-48D5-B670-9685E0490D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21:06:55Z</dcterms:created>
  <dc:creator>School of Computer Science</dc:creator>
  <dc:description/>
  <dc:language>en-US</dc:language>
  <cp:lastModifiedBy>Benjamin Stephens</cp:lastModifiedBy>
  <dcterms:modified xsi:type="dcterms:W3CDTF">2010-03-30T21:37:40Z</dcterms:modified>
  <cp:revision>149</cp:revision>
  <dc:subject/>
  <dc:title>Discrete Variational Mechanics</dc:title>
</cp:coreProperties>
</file>