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7432000" cy="34747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75040" y="685440"/>
            <a:ext cx="27079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17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E3BE-42B6-406C-97B0-01B9CBE40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075040" y="685800"/>
            <a:ext cx="270792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36A2-4818-4E24-B559-AB679B43B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9A6-41FF-4321-8D95-9CEA8EF7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17C-D95F-4A92-AF18-97C2D41D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3A0-C290-4FF3-A4D1-7085000E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892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06624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1892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06624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DAD-2255-47B3-ACF7-AA245EC6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068-E15D-48ED-9E58-1507E6E8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425-71B6-44A1-A5F2-E7EBDB25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27A-4F4B-4F10-BB05-FB522084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90D-69FB-4650-BC7B-8621F7EE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90320"/>
            <a:ext cx="2468880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239-5EA3-47C7-A6DE-B65DDB20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5A5-F327-4CDF-B17D-ADF2D871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2F8-6019-4587-B92F-B07C900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A64-FC60-4B09-9188-B3C4CDD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17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7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marL="1332000" indent="-133200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1" marL="2886120" indent="-110988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2" marL="4441680" indent="-88884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3" marL="6216480" indent="-88740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4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5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6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1643280"/>
            <a:ext cx="8686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3D1E-063D-40AA-BEC3-250D93F973FE}" type="slidenum">
              <a:rPr b="0" lang="en-US" sz="5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99"/>
          <p:cNvGrpSpPr/>
          <p:nvPr/>
        </p:nvGrpSpPr>
        <p:grpSpPr>
          <a:xfrm>
            <a:off x="914400" y="76320"/>
            <a:ext cx="25603200" cy="34747200"/>
            <a:chOff x="914400" y="76320"/>
            <a:chExt cx="25603200" cy="34747200"/>
          </a:xfrm>
        </p:grpSpPr>
        <p:sp>
          <p:nvSpPr>
            <p:cNvPr id="49" name="Straight Connector 119"/>
            <p:cNvSpPr/>
            <p:nvPr/>
          </p:nvSpPr>
          <p:spPr>
            <a:xfrm>
              <a:off x="137160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traight Connector 120"/>
            <p:cNvSpPr/>
            <p:nvPr/>
          </p:nvSpPr>
          <p:spPr>
            <a:xfrm>
              <a:off x="9144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121"/>
            <p:cNvSpPr/>
            <p:nvPr/>
          </p:nvSpPr>
          <p:spPr>
            <a:xfrm>
              <a:off x="265176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traight Connector 122"/>
            <p:cNvSpPr/>
            <p:nvPr/>
          </p:nvSpPr>
          <p:spPr>
            <a:xfrm>
              <a:off x="141732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123"/>
            <p:cNvSpPr/>
            <p:nvPr/>
          </p:nvSpPr>
          <p:spPr>
            <a:xfrm>
              <a:off x="13258800" y="76320"/>
              <a:ext cx="0" cy="347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" descr="QoLTlogo_Whole_ERConLeft"/>
          <p:cNvPicPr/>
          <p:nvPr/>
        </p:nvPicPr>
        <p:blipFill>
          <a:blip r:embed="rId1"/>
          <a:stretch/>
        </p:blipFill>
        <p:spPr>
          <a:xfrm>
            <a:off x="0" y="33471000"/>
            <a:ext cx="10058400" cy="119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nsf_Logo4c"/>
          <p:cNvPicPr/>
          <p:nvPr/>
        </p:nvPicPr>
        <p:blipFill>
          <a:blip r:embed="rId2"/>
          <a:stretch/>
        </p:blipFill>
        <p:spPr>
          <a:xfrm>
            <a:off x="10439280" y="33299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152280"/>
            <a:ext cx="27432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ush Recovery by Stepping for Humanoid Robots with For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ntrolled Joi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Benjamin J. Stephens, Christopher G. Atkeson</a:t>
            </a:r>
            <a:br>
              <a:rPr sz="66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http://www.cs.cmu.edu/~bstephe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86"/>
              <p:cNvSpPr txBox="1"/>
              <p:nvPr/>
            </p:nvSpPr>
            <p:spPr>
              <a:xfrm>
                <a:off x="23496480" y="23412600"/>
                <a:ext cx="3859200" cy="32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nertia matrix</m:t>
                        </m:r>
                      </m:e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gravitational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torques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enter of mas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foot posi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TextBox 116"/>
          <p:cNvSpPr/>
          <p:nvPr/>
        </p:nvSpPr>
        <p:spPr>
          <a:xfrm>
            <a:off x="914400" y="426708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7"/>
          <p:cNvSpPr/>
          <p:nvPr/>
        </p:nvSpPr>
        <p:spPr>
          <a:xfrm>
            <a:off x="914400" y="5105520"/>
            <a:ext cx="12039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paper presents a step recovery controller using online optimal control to simultaneously determine desired center of mass (COM) acceleration and desired footstep locations that is applied to a force-controlled humanoid robot.  This force-based controller allows the robot to be compliant and at the same time recover from disturbances such as large pus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4"/>
          <p:cNvSpPr/>
          <p:nvPr/>
        </p:nvSpPr>
        <p:spPr>
          <a:xfrm>
            <a:off x="13944600" y="1805940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loating Body Force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01"/>
          <p:cNvGrpSpPr/>
          <p:nvPr/>
        </p:nvGrpSpPr>
        <p:grpSpPr>
          <a:xfrm>
            <a:off x="18135720" y="8186760"/>
            <a:ext cx="7804080" cy="5452920"/>
            <a:chOff x="18135720" y="8186760"/>
            <a:chExt cx="7804080" cy="5452920"/>
          </a:xfrm>
        </p:grpSpPr>
        <p:pic>
          <p:nvPicPr>
            <p:cNvPr id="62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18135720" y="8186760"/>
              <a:ext cx="1942560" cy="54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"/>
            <p:cNvPicPr/>
            <p:nvPr/>
          </p:nvPicPr>
          <p:blipFill>
            <a:blip r:embed="rId4"/>
            <a:stretch/>
          </p:blipFill>
          <p:spPr>
            <a:xfrm flipH="1">
              <a:off x="20112120" y="8186760"/>
              <a:ext cx="1771920" cy="54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" descr=""/>
            <p:cNvPicPr/>
            <p:nvPr/>
          </p:nvPicPr>
          <p:blipFill>
            <a:blip r:embed="rId5"/>
            <a:stretch/>
          </p:blipFill>
          <p:spPr>
            <a:xfrm flipH="1">
              <a:off x="21918600" y="8186760"/>
              <a:ext cx="2044800" cy="54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6" descr=""/>
            <p:cNvPicPr/>
            <p:nvPr/>
          </p:nvPicPr>
          <p:blipFill>
            <a:blip r:embed="rId6"/>
            <a:stretch/>
          </p:blipFill>
          <p:spPr>
            <a:xfrm flipH="1">
              <a:off x="23997240" y="8186760"/>
              <a:ext cx="1942560" cy="54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206"/>
          <p:cNvGrpSpPr/>
          <p:nvPr/>
        </p:nvGrpSpPr>
        <p:grpSpPr>
          <a:xfrm>
            <a:off x="14254200" y="8339040"/>
            <a:ext cx="3286080" cy="5072040"/>
            <a:chOff x="14254200" y="8339040"/>
            <a:chExt cx="3286080" cy="5072040"/>
          </a:xfrm>
        </p:grpSpPr>
        <p:grpSp>
          <p:nvGrpSpPr>
            <p:cNvPr id="67" name="Group 131"/>
            <p:cNvGrpSpPr/>
            <p:nvPr/>
          </p:nvGrpSpPr>
          <p:grpSpPr>
            <a:xfrm>
              <a:off x="14254200" y="8339040"/>
              <a:ext cx="3263040" cy="5072040"/>
              <a:chOff x="14254200" y="8339040"/>
              <a:chExt cx="3263040" cy="5072040"/>
            </a:xfrm>
          </p:grpSpPr>
          <p:sp>
            <p:nvSpPr>
              <p:cNvPr id="68" name="Parallelogram 240"/>
              <p:cNvSpPr/>
              <p:nvPr/>
            </p:nvSpPr>
            <p:spPr>
              <a:xfrm>
                <a:off x="14254200" y="12423240"/>
                <a:ext cx="3263040" cy="987840"/>
              </a:xfrm>
              <a:prstGeom prst="parallelogram">
                <a:avLst>
                  <a:gd name="adj" fmla="val 109801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Oval 241"/>
              <p:cNvGrpSpPr/>
              <p:nvPr/>
            </p:nvGrpSpPr>
            <p:grpSpPr>
              <a:xfrm>
                <a:off x="16252560" y="9787320"/>
                <a:ext cx="853560" cy="599760"/>
                <a:chOff x="16252560" y="9787320"/>
                <a:chExt cx="853560" cy="599760"/>
              </a:xfrm>
            </p:grpSpPr>
            <p:pic>
              <p:nvPicPr>
                <p:cNvPr id="70" name="Oval 2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252560" y="9787320"/>
                  <a:ext cx="853560" cy="59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8032400">
                  <a:off x="16594920" y="9765720"/>
                  <a:ext cx="1778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Oval 242"/>
              <p:cNvGrpSpPr/>
              <p:nvPr/>
            </p:nvGrpSpPr>
            <p:grpSpPr>
              <a:xfrm>
                <a:off x="16008480" y="8672040"/>
                <a:ext cx="505800" cy="1284480"/>
                <a:chOff x="16008480" y="8672040"/>
                <a:chExt cx="505800" cy="1284480"/>
              </a:xfrm>
            </p:grpSpPr>
            <p:pic>
              <p:nvPicPr>
                <p:cNvPr id="73" name="Oval 24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08480" y="8672040"/>
                  <a:ext cx="505800" cy="128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20974800">
                  <a:off x="16149600" y="886860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val 243"/>
              <p:cNvGrpSpPr/>
              <p:nvPr/>
            </p:nvGrpSpPr>
            <p:grpSpPr>
              <a:xfrm>
                <a:off x="15972120" y="12278160"/>
                <a:ext cx="762120" cy="448200"/>
                <a:chOff x="15972120" y="12278160"/>
                <a:chExt cx="762120" cy="448200"/>
              </a:xfrm>
            </p:grpSpPr>
            <p:pic>
              <p:nvPicPr>
                <p:cNvPr id="76" name="Oval 24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972120" y="12278160"/>
                  <a:ext cx="762120" cy="44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 rot="16675800">
                  <a:off x="16241400" y="12247920"/>
                  <a:ext cx="224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val 244"/>
              <p:cNvGrpSpPr/>
              <p:nvPr/>
            </p:nvGrpSpPr>
            <p:grpSpPr>
              <a:xfrm>
                <a:off x="16026840" y="10550880"/>
                <a:ext cx="810720" cy="1139040"/>
                <a:chOff x="16026840" y="10550880"/>
                <a:chExt cx="810720" cy="1139040"/>
              </a:xfrm>
            </p:grpSpPr>
            <p:pic>
              <p:nvPicPr>
                <p:cNvPr id="79" name="Oval 24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6026840" y="10550880"/>
                  <a:ext cx="8107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 rot="19680600">
                  <a:off x="16321680" y="1067364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" name="Oval 24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075360" y="11829600"/>
                <a:ext cx="554760" cy="100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Oval 246"/>
              <p:cNvGrpSpPr/>
              <p:nvPr/>
            </p:nvGrpSpPr>
            <p:grpSpPr>
              <a:xfrm>
                <a:off x="16075440" y="11496240"/>
                <a:ext cx="743760" cy="969480"/>
                <a:chOff x="16075440" y="11496240"/>
                <a:chExt cx="743760" cy="969480"/>
              </a:xfrm>
            </p:grpSpPr>
            <p:pic>
              <p:nvPicPr>
                <p:cNvPr id="83" name="Oval 24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6075440" y="11496240"/>
                  <a:ext cx="743760" cy="9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2822600">
                  <a:off x="16335000" y="11603520"/>
                  <a:ext cx="22860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Oval 247"/>
              <p:cNvGrpSpPr/>
              <p:nvPr/>
            </p:nvGrpSpPr>
            <p:grpSpPr>
              <a:xfrm>
                <a:off x="15313320" y="10423440"/>
                <a:ext cx="975600" cy="551160"/>
                <a:chOff x="15313320" y="10423440"/>
                <a:chExt cx="975600" cy="551160"/>
              </a:xfrm>
            </p:grpSpPr>
            <p:pic>
              <p:nvPicPr>
                <p:cNvPr id="86" name="Oval 247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5313320" y="10423440"/>
                  <a:ext cx="975600" cy="55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16200000">
                  <a:off x="15651720" y="10372320"/>
                  <a:ext cx="304920" cy="60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Oval 248"/>
              <p:cNvGrpSpPr/>
              <p:nvPr/>
            </p:nvGrpSpPr>
            <p:grpSpPr>
              <a:xfrm>
                <a:off x="15545160" y="8339040"/>
                <a:ext cx="707040" cy="2266200"/>
                <a:chOff x="15545160" y="8339040"/>
                <a:chExt cx="707040" cy="2266200"/>
              </a:xfrm>
            </p:grpSpPr>
            <p:pic>
              <p:nvPicPr>
                <p:cNvPr id="89" name="Oval 248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5545160" y="8339040"/>
                  <a:ext cx="707040" cy="226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339600">
                  <a:off x="15709320" y="8684640"/>
                  <a:ext cx="388080" cy="15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Oval 249"/>
              <p:cNvGrpSpPr/>
              <p:nvPr/>
            </p:nvGrpSpPr>
            <p:grpSpPr>
              <a:xfrm>
                <a:off x="15282720" y="10677960"/>
                <a:ext cx="463320" cy="1302840"/>
                <a:chOff x="15282720" y="10677960"/>
                <a:chExt cx="463320" cy="1302840"/>
              </a:xfrm>
            </p:grpSpPr>
            <p:pic>
              <p:nvPicPr>
                <p:cNvPr id="92" name="Oval 249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5282720" y="10677960"/>
                  <a:ext cx="463320" cy="130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386400">
                  <a:off x="15402960" y="1088496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Oval 250"/>
              <p:cNvGrpSpPr/>
              <p:nvPr/>
            </p:nvGrpSpPr>
            <p:grpSpPr>
              <a:xfrm>
                <a:off x="15240240" y="8617680"/>
                <a:ext cx="664560" cy="1224000"/>
                <a:chOff x="15240240" y="8617680"/>
                <a:chExt cx="664560" cy="1224000"/>
              </a:xfrm>
            </p:grpSpPr>
            <p:pic>
              <p:nvPicPr>
                <p:cNvPr id="95" name="Oval 250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5240240" y="8617680"/>
                  <a:ext cx="664560" cy="122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2150600">
                  <a:off x="15460200" y="8783640"/>
                  <a:ext cx="2286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Oval 251"/>
              <p:cNvGrpSpPr/>
              <p:nvPr/>
            </p:nvGrpSpPr>
            <p:grpSpPr>
              <a:xfrm>
                <a:off x="15185160" y="9617400"/>
                <a:ext cx="658440" cy="745200"/>
                <a:chOff x="15185160" y="9617400"/>
                <a:chExt cx="658440" cy="745200"/>
              </a:xfrm>
            </p:grpSpPr>
            <p:pic>
              <p:nvPicPr>
                <p:cNvPr id="98" name="Oval 25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5185160" y="9617400"/>
                  <a:ext cx="658440" cy="74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9224000">
                  <a:off x="15420240" y="9688320"/>
                  <a:ext cx="19116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Oval 252"/>
              <p:cNvSpPr/>
              <p:nvPr/>
            </p:nvSpPr>
            <p:spPr>
              <a:xfrm>
                <a:off x="16089840" y="12827160"/>
                <a:ext cx="509400" cy="10224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53"/>
              <p:cNvSpPr/>
              <p:nvPr/>
            </p:nvSpPr>
            <p:spPr>
              <a:xfrm>
                <a:off x="16770960" y="12726360"/>
                <a:ext cx="164880" cy="835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54"/>
              <p:cNvSpPr/>
              <p:nvPr/>
            </p:nvSpPr>
            <p:spPr>
              <a:xfrm>
                <a:off x="15988320" y="12405960"/>
                <a:ext cx="876240" cy="574200"/>
              </a:xfrm>
              <a:custGeom>
                <a:avLst/>
                <a:gdLst/>
                <a:ahLst/>
                <a:rect l="l" t="t" r="r" b="b"/>
                <a:pathLst>
                  <a:path w="655320" h="342900">
                    <a:moveTo>
                      <a:pt x="0" y="342900"/>
                    </a:moveTo>
                    <a:cubicBezTo>
                      <a:pt x="128270" y="194310"/>
                      <a:pt x="256540" y="45720"/>
                      <a:pt x="365760" y="22860"/>
                    </a:cubicBezTo>
                    <a:cubicBezTo>
                      <a:pt x="474980" y="0"/>
                      <a:pt x="565150" y="102870"/>
                      <a:pt x="655320" y="205740"/>
                    </a:cubicBezTo>
                  </a:path>
                </a:pathLst>
              </a:custGeom>
              <a:noFill/>
              <a:ln w="38160">
                <a:solidFill>
                  <a:srgbClr val="4a7ebb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55"/>
              <p:cNvSpPr/>
              <p:nvPr/>
            </p:nvSpPr>
            <p:spPr>
              <a:xfrm>
                <a:off x="15783120" y="10496520"/>
                <a:ext cx="204840" cy="204840"/>
              </a:xfrm>
              <a:prstGeom prst="ellipse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56"/>
              <p:cNvSpPr/>
              <p:nvPr/>
            </p:nvSpPr>
            <p:spPr>
              <a:xfrm>
                <a:off x="15856200" y="10513800"/>
                <a:ext cx="1055880" cy="92880"/>
              </a:xfrm>
              <a:custGeom>
                <a:avLst/>
                <a:gdLst/>
                <a:ahLst/>
                <a:rect l="l" t="t" r="r" b="b"/>
                <a:pathLst>
                  <a:path w="548640" h="82550">
                    <a:moveTo>
                      <a:pt x="0" y="72390"/>
                    </a:moveTo>
                    <a:cubicBezTo>
                      <a:pt x="33655" y="77470"/>
                      <a:pt x="67310" y="82550"/>
                      <a:pt x="121920" y="72390"/>
                    </a:cubicBezTo>
                    <a:cubicBezTo>
                      <a:pt x="176530" y="62230"/>
                      <a:pt x="256540" y="22860"/>
                      <a:pt x="327660" y="11430"/>
                    </a:cubicBezTo>
                    <a:cubicBezTo>
                      <a:pt x="398780" y="0"/>
                      <a:pt x="473710" y="1905"/>
                      <a:pt x="548640" y="3810"/>
                    </a:cubicBezTo>
                  </a:path>
                </a:pathLst>
              </a:custGeom>
              <a:noFill/>
              <a:ln w="38160">
                <a:solidFill>
                  <a:srgbClr val="98b954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" name="Straight Arrow Connector 257"/>
              <p:cNvCxnSpPr/>
              <p:nvPr/>
            </p:nvCxnSpPr>
            <p:spPr>
              <a:xfrm flipV="1">
                <a:off x="15240240" y="11053080"/>
                <a:ext cx="559080" cy="2057040"/>
              </a:xfrm>
              <a:prstGeom prst="straightConnector1">
                <a:avLst/>
              </a:prstGeom>
              <a:ln w="38160">
                <a:solidFill>
                  <a:srgbClr val="f79646"/>
                </a:solidFill>
                <a:miter/>
                <a:tailEnd len="med" type="arrow" w="med"/>
              </a:ln>
            </p:spPr>
          </p:cxnSp>
          <p:grpSp>
            <p:nvGrpSpPr>
              <p:cNvPr id="106" name="Oval 258"/>
              <p:cNvGrpSpPr/>
              <p:nvPr/>
            </p:nvGrpSpPr>
            <p:grpSpPr>
              <a:xfrm>
                <a:off x="14916960" y="12726360"/>
                <a:ext cx="743760" cy="490680"/>
                <a:chOff x="14916960" y="12726360"/>
                <a:chExt cx="743760" cy="490680"/>
              </a:xfrm>
            </p:grpSpPr>
            <p:pic>
              <p:nvPicPr>
                <p:cNvPr id="107" name="Oval 258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4916960" y="12726360"/>
                  <a:ext cx="743760" cy="49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 rot="17234400">
                  <a:off x="15171480" y="12718080"/>
                  <a:ext cx="2397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Oval 259"/>
              <p:cNvSpPr/>
              <p:nvPr/>
            </p:nvSpPr>
            <p:spPr>
              <a:xfrm>
                <a:off x="16251840" y="12376080"/>
                <a:ext cx="204840" cy="20340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60"/>
              <p:cNvSpPr/>
              <p:nvPr/>
            </p:nvSpPr>
            <p:spPr>
              <a:xfrm>
                <a:off x="15114600" y="12816360"/>
                <a:ext cx="203040" cy="20196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" name="Object 2"/>
                <p:cNvSpPr txBox="1"/>
                <p:nvPr/>
              </p:nvSpPr>
              <p:spPr>
                <a:xfrm>
                  <a:off x="16815960" y="10327680"/>
                  <a:ext cx="724320" cy="48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34"/>
                <p:cNvSpPr txBox="1"/>
                <p:nvPr/>
              </p:nvSpPr>
              <p:spPr>
                <a:xfrm>
                  <a:off x="16641720" y="11839680"/>
                  <a:ext cx="87516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35"/>
                <p:cNvSpPr txBox="1"/>
                <p:nvPr/>
              </p:nvSpPr>
              <p:spPr>
                <a:xfrm>
                  <a:off x="15000120" y="10088280"/>
                  <a:ext cx="3632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Object 36"/>
                <p:cNvSpPr txBox="1"/>
                <p:nvPr/>
              </p:nvSpPr>
              <p:spPr>
                <a:xfrm>
                  <a:off x="15607080" y="11839680"/>
                  <a:ext cx="42264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37"/>
                <p:cNvSpPr txBox="1"/>
                <p:nvPr/>
              </p:nvSpPr>
              <p:spPr>
                <a:xfrm>
                  <a:off x="14477760" y="12317040"/>
                  <a:ext cx="45432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Straight Connector 233"/>
            <p:cNvSpPr/>
            <p:nvPr/>
          </p:nvSpPr>
          <p:spPr>
            <a:xfrm>
              <a:off x="15287760" y="10328040"/>
              <a:ext cx="446040" cy="218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34"/>
            <p:cNvSpPr/>
            <p:nvPr/>
          </p:nvSpPr>
          <p:spPr>
            <a:xfrm>
              <a:off x="14849280" y="12622320"/>
              <a:ext cx="279360" cy="263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235"/>
            <p:cNvSpPr/>
            <p:nvPr/>
          </p:nvSpPr>
          <p:spPr>
            <a:xfrm>
              <a:off x="15948000" y="12142800"/>
              <a:ext cx="279360" cy="261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236"/>
            <p:cNvSpPr/>
            <p:nvPr/>
          </p:nvSpPr>
          <p:spPr>
            <a:xfrm flipH="1">
              <a:off x="16624080" y="12274560"/>
              <a:ext cx="16668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42"/>
                <p:cNvSpPr txBox="1"/>
                <p:nvPr/>
              </p:nvSpPr>
              <p:spPr>
                <a:xfrm>
                  <a:off x="14792760" y="10796760"/>
                  <a:ext cx="33156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Straight Connector 238"/>
            <p:cNvSpPr/>
            <p:nvPr/>
          </p:nvSpPr>
          <p:spPr>
            <a:xfrm>
              <a:off x="15050880" y="11096640"/>
              <a:ext cx="450720" cy="38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203"/>
          <p:cNvSpPr/>
          <p:nvPr/>
        </p:nvSpPr>
        <p:spPr>
          <a:xfrm>
            <a:off x="914400" y="1082052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ush Recovery Model Predictive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9"/>
          <a:stretch/>
        </p:blipFill>
        <p:spPr>
          <a:xfrm>
            <a:off x="5483160" y="14806440"/>
            <a:ext cx="7486560" cy="5615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7"/>
          <p:cNvSpPr/>
          <p:nvPr/>
        </p:nvSpPr>
        <p:spPr>
          <a:xfrm>
            <a:off x="905040" y="11658600"/>
            <a:ext cx="1200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-MPC simultaneously solves for a trajectory of the COM and footstep locations using optimal control[1].  The goal state places the COM between the two feet after the step with zero veloc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19" descr="E:\My Dropbox\Research\drafts\preview\figures\onestepzmp.png"/>
          <p:cNvPicPr/>
          <p:nvPr/>
        </p:nvPicPr>
        <p:blipFill>
          <a:blip r:embed="rId20"/>
          <a:stretch/>
        </p:blipFill>
        <p:spPr>
          <a:xfrm>
            <a:off x="1143000" y="15287760"/>
            <a:ext cx="4280040" cy="4663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2265480" y="30113280"/>
                <a:ext cx="891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oal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5"/>
              <p:cNvSpPr txBox="1"/>
              <p:nvPr/>
            </p:nvSpPr>
            <p:spPr>
              <a:xfrm>
                <a:off x="5443560" y="31394520"/>
                <a:ext cx="491976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U</m:t>
                            </m:r>
                          </m:lim>
                        </m:limLow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HU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TextBox 117"/>
          <p:cNvSpPr/>
          <p:nvPr/>
        </p:nvSpPr>
        <p:spPr>
          <a:xfrm>
            <a:off x="914400" y="20193120"/>
            <a:ext cx="1200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ynamics of the system are represented by a Linear Inverted Pendulum model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7"/>
          <p:cNvSpPr/>
          <p:nvPr/>
        </p:nvSpPr>
        <p:spPr>
          <a:xfrm>
            <a:off x="13944600" y="5029200"/>
            <a:ext cx="1200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ot control is achieved by Dynamic Balance Force Control[2] using COM accelerations provided by PR-MPC combined with inverse kinematics using low-gain PD serv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4"/>
          <p:cNvSpPr/>
          <p:nvPr/>
        </p:nvSpPr>
        <p:spPr>
          <a:xfrm>
            <a:off x="13411080" y="31992840"/>
            <a:ext cx="14325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] H. Diedam, D. Dimitrov, P. Wieber, K. Mombaur, and M. Diehl, "Online Walking Gait Generation with Adaptive Foot Positioning Through Linear Model Predictive Control,“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tional Conference on Intelligent Robots and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EEE, 2008, pp. 1121-11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] Stephens, Benjamin J, and Christopher G Atkeson. “Dynamic Balance Force Control for Compliant Humanoid Robots.”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tional Conference on Intelligent Robots and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3] Mistry, M, J Nakanishi, G Cheng, and S Schaal. “Inverse kinematics with floating base and constraints for full body humanoid robot control.” 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ternational Conference on Humanoid Rob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4"/>
          <p:cNvSpPr/>
          <p:nvPr/>
        </p:nvSpPr>
        <p:spPr>
          <a:xfrm>
            <a:off x="13944600" y="419904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ull Body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39"/>
              <p:cNvSpPr txBox="1"/>
              <p:nvPr/>
            </p:nvSpPr>
            <p:spPr>
              <a:xfrm>
                <a:off x="1523880" y="21717000"/>
                <a:ext cx="71121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g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g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Box 117"/>
          <p:cNvSpPr/>
          <p:nvPr/>
        </p:nvSpPr>
        <p:spPr>
          <a:xfrm>
            <a:off x="914400" y="24147360"/>
            <a:ext cx="12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the trajectory over the next N time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40"/>
              <p:cNvSpPr txBox="1"/>
              <p:nvPr/>
            </p:nvSpPr>
            <p:spPr>
              <a:xfrm>
                <a:off x="901800" y="25069680"/>
                <a:ext cx="7556400" cy="23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B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" name="Group 178"/>
          <p:cNvGrpSpPr/>
          <p:nvPr/>
        </p:nvGrpSpPr>
        <p:grpSpPr>
          <a:xfrm>
            <a:off x="9191520" y="25374600"/>
            <a:ext cx="3000600" cy="1790640"/>
            <a:chOff x="9191520" y="25374600"/>
            <a:chExt cx="3000600" cy="1790640"/>
          </a:xfrm>
        </p:grpSpPr>
        <mc:AlternateContent>
          <mc:Choice xmlns:a14="http://schemas.microsoft.com/office/drawing/2010/main" Requires="a14">
            <p:sp>
              <p:nvSpPr>
                <p:cNvPr id="136" name="Object 241"/>
                <p:cNvSpPr txBox="1"/>
                <p:nvPr/>
              </p:nvSpPr>
              <p:spPr>
                <a:xfrm>
                  <a:off x="9239040" y="25374600"/>
                  <a:ext cx="28580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242"/>
                <p:cNvSpPr txBox="1"/>
                <p:nvPr/>
              </p:nvSpPr>
              <p:spPr>
                <a:xfrm>
                  <a:off x="9191520" y="25984080"/>
                  <a:ext cx="29530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243"/>
                <p:cNvSpPr txBox="1"/>
                <p:nvPr/>
              </p:nvSpPr>
              <p:spPr>
                <a:xfrm>
                  <a:off x="9239040" y="26593920"/>
                  <a:ext cx="29530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" name="TextBox 117"/>
          <p:cNvSpPr/>
          <p:nvPr/>
        </p:nvSpPr>
        <p:spPr>
          <a:xfrm>
            <a:off x="914400" y="27746280"/>
            <a:ext cx="12001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combined with a quadratic cost function, the solution simplifies to a quadratic programming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7"/>
          <p:cNvSpPr/>
          <p:nvPr/>
        </p:nvSpPr>
        <p:spPr>
          <a:xfrm>
            <a:off x="13944600" y="14878080"/>
            <a:ext cx="1253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-MPC is solved online at a rate of 50Hz using the current state of the humanoid robot.  Between evaluations, the desired COM acceleration is used to generate desired full body torqu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4"/>
          <p:cNvSpPr/>
          <p:nvPr/>
        </p:nvSpPr>
        <p:spPr>
          <a:xfrm>
            <a:off x="13944600" y="1402092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al-time PR-M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78" descr="http://www.reefbot.com/images/ri_logo.jpg"/>
          <p:cNvPicPr/>
          <p:nvPr/>
        </p:nvPicPr>
        <p:blipFill>
          <a:blip r:embed="rId21"/>
          <a:stretch/>
        </p:blipFill>
        <p:spPr>
          <a:xfrm>
            <a:off x="23622120" y="1676520"/>
            <a:ext cx="1904760" cy="273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244"/>
              <p:cNvSpPr txBox="1"/>
              <p:nvPr/>
            </p:nvSpPr>
            <p:spPr>
              <a:xfrm>
                <a:off x="13395240" y="23229720"/>
                <a:ext cx="9941040" cy="359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  <m:e/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  <m:e/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  <m:r>
                                      <m:t xml:space="preserve">×</m:t>
                                    </m:r>
                                  </m:e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  <m:r>
                                      <m:t xml:space="preserve">×</m:t>
                                    </m:r>
                                  </m:e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s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TextBox 124"/>
          <p:cNvSpPr/>
          <p:nvPr/>
        </p:nvSpPr>
        <p:spPr>
          <a:xfrm>
            <a:off x="13944600" y="27059040"/>
            <a:ext cx="1234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loating Body Inverse Kinema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1"/>
              <p:cNvSpPr txBox="1"/>
              <p:nvPr/>
            </p:nvSpPr>
            <p:spPr>
              <a:xfrm>
                <a:off x="16611480" y="30784680"/>
                <a:ext cx="6462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es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6" name="TextBox 117"/>
          <p:cNvSpPr/>
          <p:nvPr/>
        </p:nvSpPr>
        <p:spPr>
          <a:xfrm>
            <a:off x="13944600" y="18916560"/>
            <a:ext cx="12001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-forward joint torques are computed by considering both the full floating body dynamics and the desired COM accelerations given by PR-MPC.  The system of equations is solved with constraints to keep the center of pressure (COP) under each fo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7"/>
          <p:cNvSpPr/>
          <p:nvPr/>
        </p:nvSpPr>
        <p:spPr>
          <a:xfrm>
            <a:off x="13944600" y="27843120"/>
            <a:ext cx="1200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-body reference poses are generated using floating body inverse kinematics[3].  Low-gain PD controls are added to the feed-forward joint torqu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ular Callout 82"/>
          <p:cNvSpPr/>
          <p:nvPr/>
        </p:nvSpPr>
        <p:spPr>
          <a:xfrm>
            <a:off x="10058400" y="29184480"/>
            <a:ext cx="2133720" cy="914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tstep locations are included in the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8"/>
              <p:cNvSpPr txBox="1"/>
              <p:nvPr/>
            </p:nvSpPr>
            <p:spPr>
              <a:xfrm>
                <a:off x="9144000" y="21717000"/>
                <a:ext cx="370188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OM </m:t>
                        </m:r>
                        <m:r>
                          <m:rPr>
                            <m:lit/>
                            <m:nor/>
                          </m:rPr>
                          <m:t xml:space="preserve">Position</m:t>
                        </m:r>
                      </m:e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OM</m:t>
                        </m:r>
                        <m:r>
                          <m:rPr>
                            <m:lit/>
                            <m:nor/>
                          </m:rPr>
                          <m:t xml:space="preserve">Velocity</m:t>
                        </m:r>
                      </m:e>
                      <m:e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Center of Pressure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MPC </m:t>
                        </m:r>
                        <m:r>
                          <m:rPr>
                            <m:lit/>
                            <m:nor/>
                          </m:rPr>
                          <m:t xml:space="preserve">Timeste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Rounded Rectangular Callout 83"/>
          <p:cNvSpPr/>
          <p:nvPr/>
        </p:nvSpPr>
        <p:spPr>
          <a:xfrm>
            <a:off x="2362320" y="31165920"/>
            <a:ext cx="2095560" cy="1371600"/>
          </a:xfrm>
          <a:prstGeom prst="wedgeRoundRectCallout">
            <a:avLst>
              <a:gd name="adj1" fmla="val 23212"/>
              <a:gd name="adj2" fmla="val -70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goal location places COM in the center of the two feet after the step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ular Callout 84"/>
          <p:cNvSpPr/>
          <p:nvPr/>
        </p:nvSpPr>
        <p:spPr>
          <a:xfrm>
            <a:off x="8534520" y="32308920"/>
            <a:ext cx="2743200" cy="914400"/>
          </a:xfrm>
          <a:prstGeom prst="wedgeRoundRectCallout">
            <a:avLst>
              <a:gd name="adj1" fmla="val -69046"/>
              <a:gd name="adj2" fmla="val -250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inear inequality constraints keep the COP in the base of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ular Callout 87"/>
          <p:cNvSpPr/>
          <p:nvPr/>
        </p:nvSpPr>
        <p:spPr>
          <a:xfrm>
            <a:off x="7620120" y="15773400"/>
            <a:ext cx="2133360" cy="685800"/>
          </a:xfrm>
          <a:prstGeom prst="wedgeRoundRectCallout">
            <a:avLst>
              <a:gd name="adj1" fmla="val 28273"/>
              <a:gd name="adj2" fmla="val 972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xample trajectory output by PR-M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njamin</dc:creator>
  <dc:description/>
  <dc:language>en-US</dc:language>
  <cp:lastModifiedBy> </cp:lastModifiedBy>
  <dcterms:modified xsi:type="dcterms:W3CDTF">2010-12-03T20:20:00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