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0B7-1CF5-44DA-AB0E-FE8ADA39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D31-4F5F-4B02-B920-D14C093C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FAD-FD10-4ABF-AE69-25DA93E3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A39-10B9-477C-B7B8-98A704AE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90E7-E360-4DE0-A857-20D32508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0743-4DA8-4E4A-B57B-BCE1BACE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12EF-FA7A-49F9-9423-376F00CE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4120-65D3-41F3-BFF7-880152BB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2287-7AE0-4572-A9C2-FFF2C9A8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6811-E11A-4984-A09A-7DE8E202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35C0-EC70-4635-A5EE-0C2BC511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9D3-975C-45E5-82C8-BF9DB0FC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07AB-FD47-4692-B94D-8F3983C9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3212-ACBD-497F-84D6-A40EED80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FA0C-1C07-4072-8D2F-49421A88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CA64-3192-488D-9C29-FFCCC99C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3F54-658E-40FE-B90A-7554492E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3C4-FEF6-4D10-8309-DE6A8859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A44-2FDA-45EB-AF84-73210F69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604-E5EC-4252-9462-FB6B93EB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620-1D42-4AB5-BBB6-4A094EB9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414-25B2-4F19-AF5D-7D7D2403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517-A895-474F-BD96-A9F10EF8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D8A-7813-42BA-B1F2-886BB36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3057-E502-49A1-B49F-CE200E9308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8D38-7DCC-4801-BC54-B89E7BB7CE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visimo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EUREKA: Dialogue-based I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toine R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R Seminar and Lab 11-743 Fall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d-term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mmands: summaries, query modification (with +, -, “”, ~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literature (e.g. Belkin), design search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/conduct evaluation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 be continued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ssible Actions by Us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new qu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ine/reformulate a qu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a clu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for a document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for a cluster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ssible Actions by the Syst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list of doc ti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list of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summary of a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summary of a clu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 a query refinement/refor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Go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2168640"/>
            <a:ext cx="854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uild a light-weight, “natural language” dialogue-based interface to refine queries and select relevant docu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Overvie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ckend: Vivisimo (using web scra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alogue Management: RavenClaw (successor of CMU Communica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guage Understanding: Light Open Vocabulary Parser, created for this project. Very simple so far (first word=command, other words=argu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LG/TTS: template-based &amp; Festi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ivisim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le clustering meta-search engine</a:t>
            </a:r>
            <a:br>
              <a:rPr sz="3200"/>
            </a:b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vivisimo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-written Perl web scrap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ope Vivisimo doesn’t change their page design by the end of the semester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avenC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-declarative language (C++ macr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agent architec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312408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URE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64832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et 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64832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m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464832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648320"/>
            <a:ext cx="14475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88240" y="476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94360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594360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uster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14475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c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94360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837720" y="3809880"/>
            <a:ext cx="358164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666520" y="3809880"/>
            <a:ext cx="175284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809880"/>
            <a:ext cx="7596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809880"/>
            <a:ext cx="182880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295280" y="5334120"/>
            <a:ext cx="32767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971440" y="5334120"/>
            <a:ext cx="16002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334120"/>
            <a:ext cx="1522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5334120"/>
            <a:ext cx="19051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464832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809880"/>
            <a:ext cx="365760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OV Pars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 traditional NL parsers require a dictionary of all valid word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 applicable to open domain 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 (implemented in C++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 a small number of one-word commands (new_query, open, list_clust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se each line as “[command] [arguments]” or “[command]” or “[arguments]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LG/T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-based Language Genera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.g. “I found &lt;n_doc&gt; documents.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purpose Festival voice for T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B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wsing through lists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ffici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speech, even for lists of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ready Implement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prot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_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_clusters, list_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, close (clus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, back (list of clusters/docu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of Computer Science</cp:lastModifiedBy>
  <dcterms:modified xsi:type="dcterms:W3CDTF">2003-10-21T19:55:00Z</dcterms:modified>
  <cp:revision>11</cp:revision>
  <dc:subject/>
  <dc:title>PowerPoint Presentation</dc:title>
</cp:coreProperties>
</file>