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9F3-8A5A-4E42-BE93-B90738F5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E94-A565-4A9F-B4CD-70CC1573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229-3D38-42CA-A0D2-9F9C021F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C54-7A73-412B-9B64-5C4BFB16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C15B-0043-4304-8027-FD767B2D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6743-243A-4FF6-8224-E08DC0CD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9404-13BF-45F8-B082-68515E7C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96C-2414-4D14-AF45-0E34155D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8490-3D70-4602-963C-6BFA2E1C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77FC-04D9-466C-B732-C1479B6C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4BD9-898C-4F10-8FB0-A6BC5B72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7F7-74E1-40DE-8739-9095A787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3269-D7C1-4EFD-ACEF-4076C344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C78-520A-45FE-A594-4BE50F8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C497-6197-41AA-B26F-69F735F9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2885-1313-4C57-A826-720A71C9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352F-BFDB-43D8-9584-CC60A201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291-C793-47BB-8FFC-13408E70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BDC-741A-4BED-97EA-96368B18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695-AB86-43FB-BAE4-63FC9BA2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2E8-EE71-4E9C-85E9-DCB134C7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BE3-879F-4ABF-9322-6F81B489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CF2-DAD1-4958-A085-0A7EBB0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AE0-5DF7-42B4-B126-C784DEB7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73C0-3167-45AA-9FA3-891AFEC4A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6B5E-CB1E-49DD-9981-79B336E9EE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visimo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EUREKA: Dialogue-based I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oine R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R Seminar and Lab 11-743 Fall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-term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mmands: summaries, query modification (with +, -, “”, ~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literature (e.g. Belkin), design search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/conduct evaluation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 be continued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sible Actions by Us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new qu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ine/reformulate a qu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for a document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for a cluster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sible Actions by the Syst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list of doc ti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list of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summary of a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summary of a clu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a query refinement/re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Go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2168640"/>
            <a:ext cx="854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ild a light-weight, “natural language” dialogue-based interface to refine queries and select relevant docu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ckend: Vivisimo (using web scra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alogue Management: RavenClaw (successor of CMU Communi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guage Understanding: Light Open Vocabulary Parser, created for this project. Very simple so far (first word=command, other words=arg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LG/TTS: template-based &amp; Fest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ivisim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clustering meta-search engine</a:t>
            </a:r>
            <a:br>
              <a:rPr sz="3200"/>
            </a:b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vivisimo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written Perl web scrap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ope Vivisimo doesn’t change their page design by the end of the semester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avenC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-declarative language (C++ macr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agent architec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312408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E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t 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m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648320"/>
            <a:ext cx="14475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88240" y="476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94360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594360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4475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c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94360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837720" y="3809880"/>
            <a:ext cx="35816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666520" y="3809880"/>
            <a:ext cx="17528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809880"/>
            <a:ext cx="7596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809880"/>
            <a:ext cx="182880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295280" y="5334120"/>
            <a:ext cx="32767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971440" y="5334120"/>
            <a:ext cx="16002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334120"/>
            <a:ext cx="1522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5334120"/>
            <a:ext cx="19051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4648320"/>
            <a:ext cx="14479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809880"/>
            <a:ext cx="365760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V Pars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traditional NL parsers require a dictionary of all valid word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 applicable to open domain 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(implemented in C++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 a small number of one-word commands (new_query, open, list_clust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se each line as “[command] [arguments]” or “[command]” or “[arguments]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LG/T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-based Language Gener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.g. “I found &lt;n_doc&gt; documents.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purpose Festival voice for T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B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sing through lists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ffici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speech, even for lists of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ready Implemen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prot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_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_clusters, list_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, close (clus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, back (list of clusters/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of Computer Science</cp:lastModifiedBy>
  <dcterms:modified xsi:type="dcterms:W3CDTF">2003-10-21T19:55:00Z</dcterms:modified>
  <cp:revision>11</cp:revision>
  <dc:subject/>
  <dc:title>PowerPoint Presentation</dc:title>
</cp:coreProperties>
</file>