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49A-70AD-43EC-B7ED-47CDFC3E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3E2A-E67D-463A-A01A-0BB9D282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D04-DB74-4A47-BB14-71509339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5FE-EBC0-4E59-8163-992FC890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5328-279D-4F27-8DEA-66357E3E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5F3A-D18F-4250-BD08-C9927ECC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57C5-3172-42BF-91B7-ABFF276D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B9E5-1169-437F-B88C-D3695E66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A71B-15BA-4A12-B80B-C774621F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A579-E8A0-4083-80F8-E265B9C5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EBF6-3599-4D44-B6DE-4AF00F3E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C7E3-3F59-4AB7-B7DC-D197ACA2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AE02-C4EF-4C22-8AEE-1D1B60AD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EB54-28BB-406F-A12A-56E94494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8AA2-0C56-4F4E-936F-2924DBF9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8E5A-1889-43E8-9B13-48763C8B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9288-F8E3-4C62-ACCB-B2F51888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8077-8D68-444D-B9A6-EA68AF49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DF1C-15C2-4BEE-9655-90A5BE73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8A9C-2CF2-408F-BEDF-A5F2E8B4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2F9-09A7-4F94-9211-C7A83D98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802F-33CE-4340-9871-34E2127C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9642-A50E-43B3-BF69-0620B1E8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CC5F-F9D6-4B51-8B0D-066F20DD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CB2E-379B-4A11-AC1E-CB909CDF12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C0CD-D7F8-4B60-A601-95D331047E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ivisimo.com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  <a:ea typeface="ＭＳ Ｐゴシック"/>
              </a:rPr>
              <a:t>EUREKA: Dialogue-based IR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toine R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R Seminar and Lab 11-743 Fall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d-term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ommands: summaries, query modification (with +, -, “”, ~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literature (e.g. Belkin), design search strate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/conduct evaluation 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 be continued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ossible Actions by Us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new qu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ine/reformulate a qu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a clu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for a document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for a cluster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ossible Actions by the Syste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a list of doc ti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a list of clu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summary of a doc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summary of a clu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e a query refinement/refor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  <a:ea typeface="ＭＳ Ｐゴシック"/>
              </a:rPr>
              <a:t>Goa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2168640"/>
            <a:ext cx="854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uild a light-weight, “natural language” dialogue-based interface to refine queries and select relevant docu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  <a:ea typeface="ＭＳ Ｐゴシック"/>
              </a:rPr>
              <a:t>Overvie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ackend: Vivisimo (using web scrap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alogue Management: RavenClaw (successor of CMU Communicat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nguage Understanding: Light Open Vocabulary Parser, created for this project. Very simple so far (first word=command, other words=argum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LG/TTS: template-based &amp; Festi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ivisim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ilable clustering meta-search engine</a:t>
            </a:r>
            <a:br>
              <a:rPr sz="3200"/>
            </a:b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www.vivisimo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-written Perl web scrape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hope Vivisimo doesn’t change their page design by the end of the semester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avenCla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i-declarative language (C++ macr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archical agent architectu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3124080"/>
            <a:ext cx="144792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URE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4648320"/>
            <a:ext cx="144792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et 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648320"/>
            <a:ext cx="144792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m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4648320"/>
            <a:ext cx="144792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4648320"/>
            <a:ext cx="144756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688240" y="4765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5943600"/>
            <a:ext cx="144792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m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5943600"/>
            <a:ext cx="144792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uster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144756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c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5943600"/>
            <a:ext cx="144792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837720" y="3809880"/>
            <a:ext cx="358164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666520" y="3809880"/>
            <a:ext cx="175284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3809880"/>
            <a:ext cx="7596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3809880"/>
            <a:ext cx="182880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295280" y="5334120"/>
            <a:ext cx="32767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971440" y="5334120"/>
            <a:ext cx="160020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5334120"/>
            <a:ext cx="1522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5334120"/>
            <a:ext cx="19051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4648320"/>
            <a:ext cx="144792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3809880"/>
            <a:ext cx="365760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OV Pars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: traditional NL parsers require a dictionary of all valid word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t applicable to open domain 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 (implemented in C++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 a small number of one-word commands (new_query, open, list_clust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se each line as “[command] [arguments]” or “[command]” or “[arguments]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LG/T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-based Language Generatio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.g. “I found &lt;n_doc&gt; documents.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purpose Festival voice for T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B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wsing through lists i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fficie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speech, even for lists of clu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lready Implemente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ing proto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_qu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_clusters, list_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, close (clus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, back (list of clusters/docum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of Computer Science</cp:lastModifiedBy>
  <dcterms:modified xsi:type="dcterms:W3CDTF">2003-10-21T19:55:00Z</dcterms:modified>
  <cp:revision>11</cp:revision>
  <dc:subject/>
  <dc:title>PowerPoint Presentation</dc:title>
</cp:coreProperties>
</file>