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DE4D-C1E7-4502-BDCF-4AC93C2B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567F-8D5B-421B-B02E-78BAEAD0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A1BC-CDF8-4910-8313-0C003209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81E4-1063-4357-BA45-5322EAFA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BCC-DA69-44DF-9F18-D5C31999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990-AAE7-4DAE-98A6-95765C10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40DE-CD4C-4510-8CF8-0EC4B0B6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0052-924D-46AD-B972-9E208C7D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6AB8-48DB-4200-8A1D-4451871F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C5AA-B8F0-466E-8400-5AD14DE6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05DE-7001-4F87-AD41-A4665163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6255-0F43-4F72-AF35-81CC9EA4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0CBB-E8E5-46E9-96B8-451D4060F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ument Clustering for Natural Language Dialogue-based I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Google for the Blin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toine R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R Seminar and Lab 11-743 Fall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itial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urrent search engines: user browses through an ordered list of retrieved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blem: for some users and/or some devices, this is not reali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eech only interaction (e.g. for the blind, phone-based 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mall devices (e.g. PDA, cell ph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uild a light-weight, “natural language” dialogue-based interface to refine queries and select relevant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evious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search on innovative interfaces for IR using clus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.g. Scatter/G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echnology to enable the visually impaired to access th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ge readers, web navig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ut no research combining the tw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sing clustering to perform speech-based 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blem Defini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rts with a free que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at are you seeking information about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urn-based inte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ystem turns: 20 words at m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ser turns: free, natural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oal: retrieve one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seline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eed the initial query to a traditional search eng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ad the first words of the top document and ask “Do you want this document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users says “No”, read the first words of the next document, and so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posed (Initial)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eed the initial query to a traditional search eng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luster the set of selected documents into a small number of cluster (e.g. 2-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bel each clu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enerate a question to select a clu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small number of documents left, traverse the list sequentially else go back to step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lanned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se the Lemur Toolkit for parsing, indexing and basic retrie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mplement (in C++) a top-down clustering algorithm that labels each clu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mplement a (very simple) CGI user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5105520"/>
            <a:ext cx="14475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533412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5105520"/>
            <a:ext cx="14479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5334120"/>
            <a:ext cx="761760" cy="4572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5105520"/>
            <a:ext cx="14479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533412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5029200"/>
            <a:ext cx="144756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mm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95480" y="4572000"/>
            <a:ext cx="3276720" cy="457200"/>
          </a:xfrm>
          <a:custGeom>
            <a:avLst/>
            <a:gdLst>
              <a:gd name="textAreaLeft" fmla="*/ 629280 w 3276720"/>
              <a:gd name="textAreaRight" fmla="*/ 2319840 w 3276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96" hR="21600" stAng="10800000" swAng="5400000"/>
                <a:lnTo>
                  <a:pt x="11145" y="0"/>
                </a:lnTo>
                <a:arcTo wR="8296" hR="21600" stAng="-5400000" swAng="1959867"/>
                <a:lnTo>
                  <a:pt x="20421" y="10500"/>
                </a:lnTo>
                <a:lnTo>
                  <a:pt x="18016" y="21600"/>
                </a:lnTo>
                <a:lnTo>
                  <a:pt x="13252" y="10500"/>
                </a:lnTo>
                <a:lnTo>
                  <a:pt x="15412" y="10500"/>
                </a:lnTo>
                <a:arcTo wR="8296" hR="21600" stAng="-3440133" swAng="-1730075"/>
                <a:lnTo>
                  <a:pt x="9720" y="321"/>
                </a:lnTo>
                <a:arcTo wR="8296" hR="21600" stAng="-5629792" swAng="-5170208"/>
                <a:close/>
              </a:path>
              <a:path fill="darkenLess" w="21600" h="21600">
                <a:moveTo>
                  <a:pt x="0" y="21600"/>
                </a:moveTo>
                <a:arcTo wR="8296" hR="21600" stAng="10800000" swAng="5400000"/>
                <a:lnTo>
                  <a:pt x="8296" y="0"/>
                </a:lnTo>
                <a:arcTo wR="8296" hR="21600" stAng="-5400000" swAng="229792"/>
                <a:lnTo>
                  <a:pt x="9720" y="321"/>
                </a:lnTo>
                <a:arcTo wR="8296" hR="21600" stAng="-5629792" swAng="-5170208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be continue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of Computer Science</cp:lastModifiedBy>
  <dcterms:modified xsi:type="dcterms:W3CDTF">2003-09-18T14:26:46Z</dcterms:modified>
  <cp:revision>13</cp:revision>
  <dc:subject/>
  <dc:title>PowerPoint Presentation</dc:title>
</cp:coreProperties>
</file>