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512-BBC1-4F31-A600-BE67FB19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223-C18E-401E-8536-B40F236C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2A3-EB09-4D90-92E1-AB068BAE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3D0-3627-4506-8BBC-A7017B60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0C2-AED6-4818-9F19-155CA8F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7C8-8711-4B68-93DD-7960140E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995-CAE4-4802-AC4A-02830D41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653-9E89-42E4-807E-0BD41D17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DA3-0B22-4581-8048-3150A4A8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229-E5B3-4A28-9259-7E9BF25C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04E-68EE-4874-BAF8-4EE31801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A1B-1234-4518-85C2-7263C954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62E3-92E4-4D8F-A1F0-AC316CEF9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ument Clustering for Natural Language Dialogue-based 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Google for the Blin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toine R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R Seminar and Lab 11-743 Fall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itial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urrent search engines: user browses through an ordered list of retrieved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lem: for some users and/or some devices, this is not rea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eech only interaction (e.g. for the blind, phone-based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mall devices (e.g. PDA, cell ph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ild a light-weight, “natural language” dialogue-based interface to refine queries and select relevant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viou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earch on innovative interfaces for IR using 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 Scatter/G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chnology to enable the visually impaired to access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ge readers, web navig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no research combining the tw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clustering to perform speech-based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lem Defin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s with a free qu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at are you seeking information abou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urn-based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ystem turns: 20 words at 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r turns: free, natura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al: retrieve one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selin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eed the initial query to a traditional search eng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d the first words of the top document and ask “Do you want this document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users says “No”, read the first words of the next document, and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ed (Initial)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eed the initial query to a traditional search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uster the set of selected documents into a small number of cluster (e.g. 2-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bel each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enerate a question to select a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small number of documents left, traverse the list sequentially else go back to ste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anned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 the Lemur Toolkit for parsing, indexing and basic retri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plement (in C++) a top-down clustering algorithm that labels each clu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plement a (very simple) CGI us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105520"/>
            <a:ext cx="14475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5334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5105520"/>
            <a:ext cx="1447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533412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5105520"/>
            <a:ext cx="1447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334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5029200"/>
            <a:ext cx="144756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mm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480" y="4572000"/>
            <a:ext cx="3276720" cy="457200"/>
          </a:xfrm>
          <a:custGeom>
            <a:avLst/>
            <a:gdLst>
              <a:gd name="textAreaLeft" fmla="*/ 629280 w 3276720"/>
              <a:gd name="textAreaRight" fmla="*/ 2319840 w 3276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96" hR="21600" stAng="10800000" swAng="5400000"/>
                <a:lnTo>
                  <a:pt x="11145" y="0"/>
                </a:lnTo>
                <a:arcTo wR="8296" hR="21600" stAng="-5400000" swAng="1959867"/>
                <a:lnTo>
                  <a:pt x="20421" y="10500"/>
                </a:lnTo>
                <a:lnTo>
                  <a:pt x="18016" y="21600"/>
                </a:lnTo>
                <a:lnTo>
                  <a:pt x="13252" y="10500"/>
                </a:lnTo>
                <a:lnTo>
                  <a:pt x="15412" y="10500"/>
                </a:lnTo>
                <a:arcTo wR="8296" hR="21600" stAng="-3440133" swAng="-1730075"/>
                <a:lnTo>
                  <a:pt x="9720" y="321"/>
                </a:lnTo>
                <a:arcTo wR="8296" hR="21600" stAng="-5629792" swAng="-5170208"/>
                <a:close/>
              </a:path>
              <a:path fill="darkenLess" w="21600" h="21600">
                <a:moveTo>
                  <a:pt x="0" y="21600"/>
                </a:moveTo>
                <a:arcTo wR="8296" hR="21600" stAng="10800000" swAng="5400000"/>
                <a:lnTo>
                  <a:pt x="8296" y="0"/>
                </a:lnTo>
                <a:arcTo wR="8296" hR="21600" stAng="-5400000" swAng="229792"/>
                <a:lnTo>
                  <a:pt x="9720" y="321"/>
                </a:lnTo>
                <a:arcTo wR="8296" hR="21600" stAng="-5629792" swAng="-5170208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be continu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of Computer Science</cp:lastModifiedBy>
  <dcterms:modified xsi:type="dcterms:W3CDTF">2003-09-18T14:26:46Z</dcterms:modified>
  <cp:revision>13</cp:revision>
  <dc:subject/>
  <dc:title>PowerPoint Presentation</dc:title>
</cp:coreProperties>
</file>