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43CB-FCDD-4B42-9AF0-5D686DC2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42D2-0400-41D3-844F-CC8005B8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84AB-1F27-420A-A413-C751EAA4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6012-E91A-423A-9502-217F1C4A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398D-329F-4DBC-9F06-62F3C2C1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8AFE-D595-46A6-8B0B-74560C94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6001-565E-4417-A0B9-CE297E3E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C497-CCF1-4781-AE98-D05FBFBE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4749-3F87-42D0-8240-D3235D8E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C5D1-D816-44EA-9346-E91379BE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7C03-BB24-45CE-9C4F-C8FBFE03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5955-F36E-497B-9D63-6ADF2372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B2E3-FCF5-409E-A2A0-BEFA879D2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cument Clustering for Natural Language Dialogue-based I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Google for the Blin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toine Ra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R Seminar and Lab 11-743 Fall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itial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urrent search engines: user browses through an ordered list of retrieved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blem: for some users and/or some devices, this is not reali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eech only interaction (e.g. for the blind, phone-based syste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mall devices (e.g. PDA, cell ph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uild a light-weight, “natural language” dialogue-based interface to refine queries and select relevant doc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evious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search on innovative interfaces for IR using clus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.g. Scatter/G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echnology to enable the visually impaired to access the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ge readers, web navig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ut no research combining the tw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sing clustering to perform speech-based 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blem Defini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arts with a free que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at are you seeking information about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urn-based inte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ystem turns: 20 words at m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ser turns: free, natural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oal: retrieve one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seline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eed the initial query to a traditional search engi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ad the first words of the top document and ask “Do you want this document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users says “No”, read the first words of the next document, and so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posed (Initial)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eed the initial query to a traditional search eng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luster the set of selected documents into a small number of cluster (e.g. 2-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bel each clu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enerate a question to select a clu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small number of documents left, traverse the list sequentially else go back to step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lanned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se the Lemur Toolkit for parsing, indexing and basic retrie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mplement (in C++) a top-down clustering algorithm that labels each clu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mplement a (very simple) CGI user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5105520"/>
            <a:ext cx="14475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tri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533412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5105520"/>
            <a:ext cx="14479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5334120"/>
            <a:ext cx="761760" cy="4572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5105520"/>
            <a:ext cx="14479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533412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91520" y="5029200"/>
            <a:ext cx="144756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umm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95480" y="4572000"/>
            <a:ext cx="3276720" cy="457200"/>
          </a:xfrm>
          <a:custGeom>
            <a:avLst/>
            <a:gdLst>
              <a:gd name="textAreaLeft" fmla="*/ 629280 w 3276720"/>
              <a:gd name="textAreaRight" fmla="*/ 2319840 w 32767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96" hR="21600" stAng="10800000" swAng="5400000"/>
                <a:lnTo>
                  <a:pt x="11145" y="0"/>
                </a:lnTo>
                <a:arcTo wR="8296" hR="21600" stAng="-5400000" swAng="1959867"/>
                <a:lnTo>
                  <a:pt x="20421" y="10500"/>
                </a:lnTo>
                <a:lnTo>
                  <a:pt x="18016" y="21600"/>
                </a:lnTo>
                <a:lnTo>
                  <a:pt x="13252" y="10500"/>
                </a:lnTo>
                <a:lnTo>
                  <a:pt x="15412" y="10500"/>
                </a:lnTo>
                <a:arcTo wR="8296" hR="21600" stAng="-3440133" swAng="-1730075"/>
                <a:lnTo>
                  <a:pt x="9720" y="321"/>
                </a:lnTo>
                <a:arcTo wR="8296" hR="21600" stAng="-5629792" swAng="-5170208"/>
                <a:close/>
              </a:path>
              <a:path fill="darkenLess" w="21600" h="21600">
                <a:moveTo>
                  <a:pt x="0" y="21600"/>
                </a:moveTo>
                <a:arcTo wR="8296" hR="21600" stAng="10800000" swAng="5400000"/>
                <a:lnTo>
                  <a:pt x="8296" y="0"/>
                </a:lnTo>
                <a:arcTo wR="8296" hR="21600" stAng="-5400000" swAng="229792"/>
                <a:lnTo>
                  <a:pt x="9720" y="321"/>
                </a:lnTo>
                <a:arcTo wR="8296" hR="21600" stAng="-5629792" swAng="-5170208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be continue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of Computer Science</cp:lastModifiedBy>
  <dcterms:modified xsi:type="dcterms:W3CDTF">2003-09-18T14:26:46Z</dcterms:modified>
  <cp:revision>13</cp:revision>
  <dc:subject/>
  <dc:title>PowerPoint Presentation</dc:title>
</cp:coreProperties>
</file>