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0.png" ContentType="image/png"/>
  <Override PartName="/ppt/media/image30.png" ContentType="image/png"/>
  <Override PartName="/ppt/media/image28.wmf" ContentType="image/x-wmf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6101-3E62-47CF-B874-A548A610A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2CE6-A27C-42EA-8F83-E8F37EAF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E250-4478-40DB-B967-C34EE59B2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4318-E911-4636-91E0-4F9AC7AC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E56F-DAB1-431C-883C-6D5FABA79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E5A0-546C-46BD-919C-01A0159F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DEAC-A593-4596-833D-A737EF61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6865-EDA3-4C3C-8074-9D0E205F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2027-8CBB-4E6D-9971-D285DC5D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B947-367D-4C6A-8540-59F8B1B7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F04A-4A40-465E-BB2E-B9D92382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6FD8-1D34-483A-BFBA-E0914828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BCE7-8EE5-407D-B7F9-C03C811B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69E5-0687-4BAF-86D6-F62CE106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E7FD-6F0A-44F3-8831-655A27B5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5BC9-D990-4B33-B0AD-4064C9FE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7208-17BE-41DF-8E31-0993CAF4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4CDB-F9BC-4899-950C-B315C355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63DB-F5E1-4FA0-8E17-68E3A365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8E93-1F7F-4619-AEA5-DC4CEB21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3D98-2CE8-447F-B5F9-63C5E331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E7B3-0C2B-4537-B667-27521BAE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C396-E91F-48B4-8DC9-C7D8DCF0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C241-DFF3-4A26-971B-B14369C8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Click to edit the outline text format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Second Outline Level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Third Outline Level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Fourth Outline Level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Fifth Outline Level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Sixth Outline Level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Seventh Outline Level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276C-0599-478C-8E4D-8D4AE5CE6F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4E8F-28BA-4A0C-B9E2-9C2EF76C91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i="1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Face Cluster Radiosit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2895120"/>
            <a:ext cx="64008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 Black"/>
              </a:rPr>
              <a:t>Eurographics Workshop on Rendering, 1999</a:t>
            </a:r>
            <a:endParaRPr b="0" i="1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 Black"/>
              </a:rPr>
              <a:t>Andrew Willmott</a:t>
            </a:r>
            <a:endParaRPr b="0" i="1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 Black"/>
              </a:rPr>
              <a:t>Paul Heckbert</a:t>
            </a:r>
            <a:endParaRPr b="0" i="1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 Black"/>
              </a:rPr>
              <a:t>Michael Garland</a:t>
            </a:r>
            <a:endParaRPr b="0" i="1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 Black"/>
              </a:rPr>
              <a:t>Carnegie Mellon University</a:t>
            </a:r>
            <a:endParaRPr b="0" i="1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dvantage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manual selection of simplification leve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access each of th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put polygons during each ite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store radiosity for each input polyg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resolution models are precalcul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ce for each new model acqui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ortized over many scenes and rend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ultiresolution Model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tially used edge-collapse models direct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se contain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ertex hierarch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witched to using dual of vertex hierarchy algorithm: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face cluster hierarch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’s easier to deal with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ace hierarch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Face Cluster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3198960" cy="46227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72000" y="19810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oup faces rather than vert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’t change geometry of the mod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0880" y="1905120"/>
            <a:ext cx="8382240" cy="4572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Hierarchical Radiosit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5486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used refin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ex-hier-hr" descr=""/>
          <p:cNvPicPr/>
          <p:nvPr/>
        </p:nvPicPr>
        <p:blipFill>
          <a:blip r:embed="rId1"/>
          <a:stretch/>
        </p:blipFill>
        <p:spPr>
          <a:xfrm>
            <a:off x="1752480" y="4572000"/>
            <a:ext cx="5677200" cy="1714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295280" y="43434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put polyg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4876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af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sed refin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095520" y="4267080"/>
            <a:ext cx="1219320" cy="762120"/>
          </a:xfrm>
          <a:prstGeom prst="line">
            <a:avLst/>
          </a:prstGeom>
          <a:ln cap="sq"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0880" y="1905120"/>
            <a:ext cx="8382240" cy="4572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dd Volume Clustering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5" name="ex-hier-hrvc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5677200" cy="4267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971800" y="5486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used refin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3434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put polyg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05720" y="4876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af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sed refin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095520" y="4267080"/>
            <a:ext cx="1219320" cy="762120"/>
          </a:xfrm>
          <a:prstGeom prst="line">
            <a:avLst/>
          </a:prstGeom>
          <a:ln cap="sq"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9920" y="2286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olume clu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571640" y="2590920"/>
            <a:ext cx="1600200" cy="1066680"/>
          </a:xfrm>
          <a:prstGeom prst="line">
            <a:avLst/>
          </a:prstGeom>
          <a:ln cap="sq"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1905120"/>
            <a:ext cx="8382240" cy="4572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dd Face Clustering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5" name="ex-hier-fcr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5677200" cy="4267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971800" y="5486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used refin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43434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put polyg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4876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af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sed refin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095520" y="4267080"/>
            <a:ext cx="1219320" cy="762120"/>
          </a:xfrm>
          <a:prstGeom prst="line">
            <a:avLst/>
          </a:prstGeom>
          <a:ln cap="sq"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9920" y="2286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olume clu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4571640" y="2514600"/>
            <a:ext cx="1600200" cy="76320"/>
          </a:xfrm>
          <a:prstGeom prst="line">
            <a:avLst/>
          </a:prstGeom>
          <a:ln cap="sq"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8954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ace clu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43200" y="3200400"/>
            <a:ext cx="1828800" cy="152280"/>
          </a:xfrm>
          <a:prstGeom prst="line">
            <a:avLst/>
          </a:prstGeom>
          <a:ln cap="sq"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" y="2743200"/>
            <a:ext cx="1371600" cy="99072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40384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us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ace clu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066680" y="1905120"/>
            <a:ext cx="2971800" cy="4343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Face Cluster Hierarchie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038120" y="1885680"/>
            <a:ext cx="45975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eratively merge face clust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itial clusters each contain a single polyg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 links between two child clusters and their un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peat until only root cluster lef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face-hierarchy-fix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230364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 Face Cluster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approximately planar region on the mes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ainer for a set of connected fac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iented bounding bo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gregate area-weighted norm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inters to the two child clusters that partition 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face-cluster-fix" descr=""/>
          <p:cNvPicPr/>
          <p:nvPr/>
        </p:nvPicPr>
        <p:blipFill>
          <a:blip r:embed="rId1"/>
          <a:srcRect l="0" t="9863" r="0" b="11507"/>
          <a:stretch/>
        </p:blipFill>
        <p:spPr>
          <a:xfrm>
            <a:off x="2971800" y="4346640"/>
            <a:ext cx="35100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e use Garland’s Quadric method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al of edge-collapse simplif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adric error term measures distance to best-fit plane of face vertices, rather than distance to face planes of best-fit vertex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important proper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clusters that are approximately plan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ght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orient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ounding box calculated via P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 well-shaped term to get compact clust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Building the Hierarch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2843280" cy="41083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2842920" cy="41083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724280" y="609588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With ‘well-shaped’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6095880"/>
            <a:ext cx="3048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lanar term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Face Clustered Venu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e Claim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The Domain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diosity on scenes with detailed mode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By using </a:t>
            </a:r>
            <a:r>
              <a:rPr b="0" i="1" lang="en-US" sz="3200" spc="-1" strike="noStrike">
                <a:solidFill>
                  <a:srgbClr val="ff6600"/>
                </a:solidFill>
                <a:latin typeface="Tahoma"/>
              </a:rPr>
              <a:t>face cluster hierarchies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 we can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t sub-linear or constant complex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ter approximate detailed model surfa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Vector Radiosit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Standard radiosity equation is scalar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ed to face clusters it incorrectly ignores variation in local norm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obvious way of combining radiosities of two elements with different norm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Solution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ast radiosity equation in terms of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rradiance vecto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ower v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62120" y="2362320"/>
            <a:ext cx="2743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ahoma"/>
              </a:rPr>
              <a:t>Leaf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10280" y="2895480"/>
            <a:ext cx="1600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ahoma"/>
              </a:rPr>
              <a:t>Haar Ba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5029200"/>
            <a:ext cx="15242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ahoma"/>
              </a:rPr>
              <a:t>Vector Radio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2293920" cy="2293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648320" y="4191120"/>
            <a:ext cx="2293920" cy="22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838080" y="2895480"/>
            <a:ext cx="2551320" cy="25513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hy Vector Radiosity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838080" y="2895480"/>
            <a:ext cx="2551320" cy="25513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 flipV="1">
            <a:off x="3124080" y="3047760"/>
            <a:ext cx="1981440" cy="609480"/>
          </a:xfrm>
          <a:prstGeom prst="line">
            <a:avLst/>
          </a:prstGeom>
          <a:ln cap="sq"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4495680"/>
            <a:ext cx="1981440" cy="838440"/>
          </a:xfrm>
          <a:prstGeom prst="line">
            <a:avLst/>
          </a:prstGeom>
          <a:ln cap="sq"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0880" y="1905120"/>
            <a:ext cx="8382240" cy="4572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228600"/>
            <a:ext cx="779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Vector Radiosity Approx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5334120"/>
            <a:ext cx="1905120" cy="483840"/>
          </a:xfrm>
          <a:prstGeom prst="rect">
            <a:avLst/>
          </a:prstGeom>
          <a:noFill/>
          <a:ln cap="sq"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-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m</a:t>
            </a:r>
            <a:r>
              <a:rPr b="1" lang="en-US" sz="2400" spc="-1" strike="noStrike" baseline="50000">
                <a:solidFill>
                  <a:srgbClr val="000000"/>
                </a:solidFill>
                <a:latin typeface="Tahoma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96440" y="5460840"/>
            <a:ext cx="5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02480" y="507996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46720" y="530856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5410080"/>
            <a:ext cx="3200400" cy="228600"/>
          </a:xfrm>
          <a:prstGeom prst="line">
            <a:avLst/>
          </a:prstGeom>
          <a:ln cap="sq"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vr-clus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677200" cy="2522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581280" y="4343400"/>
            <a:ext cx="0" cy="609480"/>
          </a:xfrm>
          <a:prstGeom prst="line">
            <a:avLst/>
          </a:prstGeom>
          <a:ln cap="sq" w="114480">
            <a:solidFill>
              <a:srgbClr val="ffcc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Justificatio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mplest representation that captures the appropriate behavio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nimises storage for each face cluster no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combine vectors hierarchically to represent complex radiosity distribu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lgorithm Overview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ruct face cluster hierarchy file for each new model.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uper-linear in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 scene from mode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d in scene description, add root face cluster nodes to a volume cluster hierarc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n gather/push-pull/refin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ver.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ub-linear in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agate radiosity solution to leaves of all models, write to disk.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inear in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267080"/>
            <a:ext cx="8001000" cy="990720"/>
          </a:xfrm>
          <a:prstGeom prst="rect">
            <a:avLst/>
          </a:prstGeom>
          <a:noFill/>
          <a:ln cap="sq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53080" y="44956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ahoma"/>
              </a:rPr>
              <a:t>Domin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esult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Tested on a million polygon scene.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um-high illumination complexity (sun, sky, three spotlights, much reflect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scanned models, implicit surface podium, displacement-mapped flo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so tested at several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resoluti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that scene, along with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rogress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HRV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adiosity algorith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rcRect l="0" t="10943" r="0" b="14784"/>
          <a:stretch/>
        </p:blipFill>
        <p:spPr>
          <a:xfrm>
            <a:off x="685800" y="1981080"/>
            <a:ext cx="5713560" cy="42418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629400" y="3048120"/>
            <a:ext cx="23623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Time: 109 secs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Memory: 100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useum Scen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"/>
          <p:cNvSpPr/>
          <p:nvPr/>
        </p:nvSpPr>
        <p:spPr>
          <a:xfrm>
            <a:off x="6629400" y="4876920"/>
            <a:ext cx="2362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Progressive and HRVC would not fit in 1G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29400" y="2133720"/>
            <a:ext cx="23623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2,700,000 trian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Venus Close-up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16" name="venus-fcr" descr=""/>
          <p:cNvPicPr/>
          <p:nvPr/>
        </p:nvPicPr>
        <p:blipFill>
          <a:blip r:embed="rId1"/>
          <a:srcRect l="9600" t="9600" r="9600" b="9600"/>
          <a:stretch/>
        </p:blipFill>
        <p:spPr>
          <a:xfrm>
            <a:off x="2590920" y="2133720"/>
            <a:ext cx="406224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esults: Solution Tim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2209680"/>
            <a:ext cx="18288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ame scene, progressively fewer polyg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time-graph-fix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691524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esults: Resident Set Siz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1" name=""/>
          <p:cNvSpPr/>
          <p:nvPr/>
        </p:nvSpPr>
        <p:spPr>
          <a:xfrm>
            <a:off x="7315200" y="2209680"/>
            <a:ext cx="18288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ame scene, progressively fewer polyg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mem-graph-fix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691524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tate of the Ar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cc00"/>
                </a:solidFill>
                <a:latin typeface="Tahoma"/>
              </a:rPr>
              <a:t>Hierarchical Radiosity with Volume Clustering</a:t>
            </a:r>
            <a:endParaRPr b="0" i="1" lang="en-US" sz="3000" spc="-1" strike="noStrike">
              <a:solidFill>
                <a:srgbClr val="ffcc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ructs a complete scene hierarch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s volume clusters above input polygons (preprocess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divides below input polygons (during solu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gorithm is O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g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the number of 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input polyg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 the number of 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element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used by the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onclusion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Face cluster hierarchies proved highly effective for use with radiosity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-linear performance in the number of input polygons, as opposed to ‘previous best’ of O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g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 memory us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remely detailed sce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Future Work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ter visibility sampling in final pa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ervative bounds on radiosity transf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arison to radiance and other radiosity code b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ject page 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http://www.cs.cmu.edu/~radiosity/mrr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EXTRA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Virtual Memor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ce cluster files are written in breadth-first order, so get good memory loc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ually only small first section of the face cluster file used, so it’s memory mapp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gressive Radiosity has good total memory use, but very poor loc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adiance: Medium Qualit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31" name="rad-time-graph-fix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60096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adiance: High Qualit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33" name="rad-time-graph-H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60096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adiance: Memory Us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35" name="rad-mem-graph-fix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6006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Detail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its error estimated by sampl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ror term doesn’t depend on normals, but penalizes side-on clus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ibility by ray casting, nested gr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bounding bo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actional visibility used during simulation, visibility resampled at higher resolution for final illumi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omplexit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g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, not O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g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, wher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 the number of face cluster hierarch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&lt;&lt;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most always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&lt;&lt;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ch face cluster hierarchy represents a separate polygon mes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447920" y="2057400"/>
            <a:ext cx="6248160" cy="4343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Vector Radiosity Equation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971800" y="2209680"/>
            <a:ext cx="2901960" cy="8413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3079800" y="3898800"/>
            <a:ext cx="2381040" cy="8161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3489480" y="5781600"/>
            <a:ext cx="2019240" cy="5572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427640" y="3166920"/>
            <a:ext cx="0" cy="38124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63920" y="3941640"/>
            <a:ext cx="1041480" cy="81288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754440" y="3789360"/>
            <a:ext cx="1803240" cy="1117440"/>
          </a:xfrm>
          <a:prstGeom prst="ellipse">
            <a:avLst/>
          </a:prstGeom>
          <a:noFill/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89400" y="4691160"/>
            <a:ext cx="304920" cy="30456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91440" y="475128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665160" y="4691160"/>
            <a:ext cx="304920" cy="304560"/>
          </a:xfrm>
          <a:prstGeom prst="line">
            <a:avLst/>
          </a:prstGeom>
          <a:ln w="25560">
            <a:solidFill>
              <a:srgbClr val="ff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87440" y="4751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27640" y="5224320"/>
            <a:ext cx="0" cy="38124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roblem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ow for complex scenes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&gt;&gt;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t push irradiance down to leaves when gathering, pull radiosity up when shoo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input polygons must be touched on each ite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roxi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olume clusters approximate a cloud of unconnected polyg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do better for connected, largely smooth surfa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 Dual Edge Contractio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54" name="xxx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753264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rative Face Clustering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56" name="face-clusters-fix" descr=""/>
          <p:cNvPicPr/>
          <p:nvPr/>
        </p:nvPicPr>
        <p:blipFill>
          <a:blip r:embed="rId1"/>
          <a:srcRect l="0" t="0" r="0" b="40430"/>
          <a:stretch/>
        </p:blipFill>
        <p:spPr>
          <a:xfrm>
            <a:off x="2133720" y="1981080"/>
            <a:ext cx="474336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FCR Pedestal: Cluster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066760" y="1838160"/>
          <a:ext cx="5295960" cy="44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6760" y="1838160"/>
                    <a:ext cx="529596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ransfer Example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rcRect l="12191" t="23650" r="21042" b="0"/>
          <a:stretch/>
        </p:blipFill>
        <p:spPr>
          <a:xfrm>
            <a:off x="695160" y="2000160"/>
            <a:ext cx="3810240" cy="4356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rcRect l="11712" t="23650" r="20840" b="0"/>
          <a:stretch/>
        </p:blipFill>
        <p:spPr>
          <a:xfrm>
            <a:off x="4562640" y="2000160"/>
            <a:ext cx="384804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HRVC Pedestal Final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rcRect l="0" t="21842" r="0" b="0"/>
          <a:stretch/>
        </p:blipFill>
        <p:spPr>
          <a:xfrm>
            <a:off x="1790640" y="1895400"/>
            <a:ext cx="570564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FCR Pedestal Final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rcRect l="0" t="22510" r="0" b="0"/>
          <a:stretch/>
        </p:blipFill>
        <p:spPr>
          <a:xfrm>
            <a:off x="1790640" y="1933560"/>
            <a:ext cx="570564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Background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Experimenting with large scanned models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rge enough to mak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g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prob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ser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polygons are for high resolution deta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’t affect radiosity computations mu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and with Multiresolution Models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 you to adjust the resolution of the model at different places on the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ntuitio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3276720"/>
            <a:ext cx="2057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Run radiosity on simplified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9880" y="4191120"/>
            <a:ext cx="2038320" cy="2038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477120" y="2666880"/>
            <a:ext cx="2038320" cy="2038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85800" y="3124080"/>
            <a:ext cx="2550960" cy="25513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819520" y="4267080"/>
            <a:ext cx="1295280" cy="838440"/>
          </a:xfrm>
          <a:prstGeom prst="line">
            <a:avLst/>
          </a:prstGeom>
          <a:ln cap="sq"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715000" y="4343400"/>
            <a:ext cx="990720" cy="838080"/>
          </a:xfrm>
          <a:prstGeom prst="line">
            <a:avLst/>
          </a:prstGeom>
          <a:ln cap="sq"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2209680"/>
            <a:ext cx="23619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Instead of running radiosity on detailed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77120" y="4876920"/>
            <a:ext cx="19810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Apply results to original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 Better Solutio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bine simplification &amp; radiosity algorith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multiresolution hierarchies of the models direct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just resolution on the fly to match that needed by the radiosity algorith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0880" y="1905120"/>
            <a:ext cx="8382240" cy="44956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051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efinement in the Hierarch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7" name="ex-hier1-fix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4259160" cy="3201840"/>
          </a:xfrm>
          <a:prstGeom prst="rect">
            <a:avLst/>
          </a:prstGeom>
          <a:ln w="0">
            <a:noFill/>
          </a:ln>
        </p:spPr>
      </p:pic>
      <p:pic>
        <p:nvPicPr>
          <p:cNvPr id="108" name="mesh2-fix" descr=""/>
          <p:cNvPicPr/>
          <p:nvPr/>
        </p:nvPicPr>
        <p:blipFill>
          <a:blip r:embed="rId2"/>
          <a:stretch/>
        </p:blipFill>
        <p:spPr>
          <a:xfrm>
            <a:off x="4724280" y="2819520"/>
            <a:ext cx="3830760" cy="2743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V="1">
            <a:off x="3505320" y="3276720"/>
            <a:ext cx="1600200" cy="457200"/>
          </a:xfrm>
          <a:prstGeom prst="line">
            <a:avLst/>
          </a:prstGeom>
          <a:ln cap="sq"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962520" y="4038480"/>
            <a:ext cx="2514600" cy="457200"/>
          </a:xfrm>
          <a:prstGeom prst="line">
            <a:avLst/>
          </a:prstGeom>
          <a:ln cap="sq"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21337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ot: entire sc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97960" y="582444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3276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put polyg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48006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fin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1905120"/>
            <a:ext cx="8382240" cy="44956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implificatio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7" name="whaleHi-fix" descr=""/>
          <p:cNvPicPr/>
          <p:nvPr/>
        </p:nvPicPr>
        <p:blipFill>
          <a:blip r:embed="rId1"/>
          <a:srcRect l="0" t="22383" r="0" b="27357"/>
          <a:stretch/>
        </p:blipFill>
        <p:spPr>
          <a:xfrm>
            <a:off x="5029200" y="4343400"/>
            <a:ext cx="3676680" cy="1847880"/>
          </a:xfrm>
          <a:prstGeom prst="rect">
            <a:avLst/>
          </a:prstGeom>
          <a:ln w="0">
            <a:noFill/>
          </a:ln>
        </p:spPr>
      </p:pic>
      <p:pic>
        <p:nvPicPr>
          <p:cNvPr id="118" name="whaleLo-fix" descr=""/>
          <p:cNvPicPr/>
          <p:nvPr/>
        </p:nvPicPr>
        <p:blipFill>
          <a:blip r:embed="rId2"/>
          <a:srcRect l="0" t="22383" r="0" b="27357"/>
          <a:stretch/>
        </p:blipFill>
        <p:spPr>
          <a:xfrm>
            <a:off x="5029200" y="2133720"/>
            <a:ext cx="3675240" cy="1846080"/>
          </a:xfrm>
          <a:prstGeom prst="rect">
            <a:avLst/>
          </a:prstGeom>
          <a:ln w="0">
            <a:noFill/>
          </a:ln>
        </p:spPr>
      </p:pic>
      <p:pic>
        <p:nvPicPr>
          <p:cNvPr id="119" name="ex-hier2-fix" descr=""/>
          <p:cNvPicPr/>
          <p:nvPr/>
        </p:nvPicPr>
        <p:blipFill>
          <a:blip r:embed="rId3"/>
          <a:stretch/>
        </p:blipFill>
        <p:spPr>
          <a:xfrm>
            <a:off x="533520" y="2590920"/>
            <a:ext cx="4268520" cy="3208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flipV="1">
            <a:off x="3429000" y="3352320"/>
            <a:ext cx="1828800" cy="304920"/>
          </a:xfrm>
          <a:prstGeom prst="line">
            <a:avLst/>
          </a:prstGeom>
          <a:ln cap="sq"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4572000"/>
            <a:ext cx="1219320" cy="228600"/>
          </a:xfrm>
          <a:prstGeom prst="line">
            <a:avLst/>
          </a:prstGeom>
          <a:ln cap="sq"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133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97960" y="582444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46483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put polyg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2971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mpl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3429000"/>
            <a:ext cx="533520" cy="304920"/>
          </a:xfrm>
          <a:prstGeom prst="line">
            <a:avLst/>
          </a:prstGeom>
          <a:ln cap="sq"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jw</cp:lastModifiedBy>
  <cp:lastPrinted>1999-06-19T00:46:11Z</cp:lastPrinted>
  <dcterms:modified xsi:type="dcterms:W3CDTF">1999-07-04T01:34:12Z</dcterms:modified>
  <cp:revision>2938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cmu.edu/~ajw</vt:lpwstr>
  </property>
  <property fmtid="{D5CDD505-2E9C-101B-9397-08002B2CF9AE}" pid="9" name="LinkColor">
    <vt:r8>16711782</vt:r8>
  </property>
  <property fmtid="{D5CDD505-2E9C-101B-9397-08002B2CF9AE}" pid="10" name="MailAddress">
    <vt:lpwstr>ajw+fcr@cs.cmu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WINNT\Profiles\ajw\Persona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