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DD9-7493-4182-85BD-8FC68DE0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1B9-B780-4599-948B-CEFD92F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166-9DCA-4031-BB89-D260AF80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0E8-DB8D-4901-9566-5B41CB12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DA04-388F-468B-8097-D05CC115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BFC4-6790-45B4-9324-FCE97A12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2CC8-52D1-41CB-A8B2-C9A7A9A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8E58-89D9-4E64-8CA9-F3120F6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6ADE-23F6-40A7-B59E-05813D2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6EC9-CFE2-44EC-9949-A401B2D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A83F-EC8E-4A86-9B6F-25DEE0A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683-352A-4BC2-BBE2-99A6D50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4EBC-1993-4471-8EEF-BA81CDA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5C5B-F99F-4254-87DF-B9F74CD2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82FC-F671-4592-A475-DC17771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4BF6-0032-41DA-BD81-0AAB4838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420-6A10-4665-8EC1-8CF1461B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374-78C0-428E-BA87-F0F58107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499-56F3-462F-AE5E-8B58321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A39-A4A9-4863-A7A2-65B7957D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CE7-65D7-410A-B24A-DCE60AB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FE7-D9AD-4321-8E75-0B77987B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F6F-ABF0-44D2-B2C9-D45C83E5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D55-3EBF-44FD-B6E4-F63B0B9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3BAC-E089-4022-A565-CB6DCF8714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DC42-DF08-4220-9579-52AF7DA110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28951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 Black"/>
              </a:rPr>
              <a:t>Eurographics Workshop on Rendering, 1999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Andrew Willmott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Paul Heckbert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Michael Garland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Carnegie Mellon University</a:t>
            </a: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vantag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nual selection of simplification le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ccess each of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put polygons during each it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store radiosity for each input polyg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resolution models are pre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ce for each new model ac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rtized over many scenes and re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resolution Model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ly used edge-collapse models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contai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rtex hierarch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ed to using dual of vertex hierarchy algorithm: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ace cluster hierarc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easier to deal with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e hierarch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198960" cy="4622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1981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p faces rather than ver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change geometry of the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ierarchical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x-hier-hr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5677200" cy="171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Volum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5" name="ex-hier-hrvc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7720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1640" y="2590920"/>
            <a:ext cx="1600200" cy="10666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Fac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5" name="ex-hier-fcr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77200" cy="426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571640" y="2514600"/>
            <a:ext cx="1600200" cy="763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200400"/>
            <a:ext cx="1828800" cy="1522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743200"/>
            <a:ext cx="1371600" cy="9907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1905120"/>
            <a:ext cx="297180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 Hierarchi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597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ratively merge face clu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 clusters each contain a single polyg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links between two child clusters and their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 until only root cluster 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face-hierarchy-fix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3036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Face Clust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pproximately planar region on the mes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er for a set of connected fa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ed bounding 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gate area-weighted 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ers to the two child clusters that partitio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face-cluster-fix" descr=""/>
          <p:cNvPicPr/>
          <p:nvPr/>
        </p:nvPicPr>
        <p:blipFill>
          <a:blip r:embed="rId1"/>
          <a:srcRect l="0" t="9863" r="0" b="11507"/>
          <a:stretch/>
        </p:blipFill>
        <p:spPr>
          <a:xfrm>
            <a:off x="2971800" y="4346640"/>
            <a:ext cx="3510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e use Garland’s Quadric method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al of edge-collapse simpl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dric error term measures distance to best-fit plane of face vertices, rather than distance to face planes of best-fit vert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important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clusters that are approximately plan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ght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ien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ounding box calculated via 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well-shaped term to get compact clu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ilding the Hierarch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843280" cy="4108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2842920" cy="4108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24280" y="60958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‘well-shaped’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9588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lanar term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ed Venu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Clai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he Domai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sity on scenes with detailed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y using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face cluster hierarchies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 we ca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sub-linear or constant complex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approximate detailed model surf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tandard radiosity equation is scalar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to face clusters it incorrectly ignores variation in local nor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bvious way of combining radiosities of two elements with different nor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olutio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st radiosity equation in terms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rradiance vect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wer v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2362320"/>
            <a:ext cx="274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2895480"/>
            <a:ext cx="16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Haar 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5029200"/>
            <a:ext cx="1524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Vector Radi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2551320" cy="255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y Vector Radiosity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38080" y="2895480"/>
            <a:ext cx="2551320" cy="2551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V="1">
            <a:off x="3124080" y="3047760"/>
            <a:ext cx="1981440" cy="60948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4495680"/>
            <a:ext cx="1981440" cy="83844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 Appro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334120"/>
            <a:ext cx="1905120" cy="483840"/>
          </a:xfrm>
          <a:prstGeom prst="rect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m</a:t>
            </a:r>
            <a:r>
              <a:rPr b="1" lang="en-US" sz="2400" spc="-1" strike="noStrike" baseline="50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6440" y="54608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02480" y="50799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6720" y="53085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410080"/>
            <a:ext cx="3200400" cy="228600"/>
          </a:xfrm>
          <a:prstGeom prst="line">
            <a:avLst/>
          </a:prstGeom>
          <a:ln cap="sq"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vr-clu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677200" cy="2522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cap="sq" w="11448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Justific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st representation that captures the appropriate behavi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ises storage for each face cluster n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ombine vectors hierarchically to represent complex radiosity distrib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lgorithm Overview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 face cluster hierarchy file for each new model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per-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scene from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in scene description, add root face cluster nodes to a volume cluster hier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gather/push-pull/refi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r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b-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 radiosity solution to leaves of all models, write to disk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8001000" cy="990720"/>
          </a:xfrm>
          <a:prstGeom prst="rect">
            <a:avLst/>
          </a:prstGeom>
          <a:noFill/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495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ested on a million polygon scene.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-high illumination complexity (sun, sky, three spotlights, much refle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scanned models, implicit surface podium, displacement-mapped flo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tested at severa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olu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at scene, along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RV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diosity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10943" r="0" b="14784"/>
          <a:stretch/>
        </p:blipFill>
        <p:spPr>
          <a:xfrm>
            <a:off x="685800" y="1981080"/>
            <a:ext cx="5713560" cy="4241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29400" y="30481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ime: 109 sec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mory: 100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seum Scen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48769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rogressive and HRVC would not fit in 1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21337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2,700,000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nus Close-up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venus-fcr" descr=""/>
          <p:cNvPicPr/>
          <p:nvPr/>
        </p:nvPicPr>
        <p:blipFill>
          <a:blip r:embed="rId1"/>
          <a:srcRect l="9600" t="9600" r="9600" b="9600"/>
          <a:stretch/>
        </p:blipFill>
        <p:spPr>
          <a:xfrm>
            <a:off x="2590920" y="2133720"/>
            <a:ext cx="40622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: Solution Tim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209680"/>
            <a:ext cx="1828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ame scene, progressively fewe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ime-graph-fix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6915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: Resident Set Siz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2209680"/>
            <a:ext cx="1828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ame scene, progressively fewe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mem-graph-fix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6915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ate of the A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ahoma"/>
              </a:rPr>
              <a:t>Hierarchical Radiosity with Volume Clustering</a:t>
            </a:r>
            <a:endParaRPr b="0" i="1" lang="en-US" sz="30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s a complete scene hierarc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s volume clusters above input polygons (preprocess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divides below input polygons (during solu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orithm is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number of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put polyg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number of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elem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ed by the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ace cluster hierarchies proved highly effective for use with radiosity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linear performance in the number of input polygons, as opposed to ‘previous best’ of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memory u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detailed sc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visibility sampling in final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ative bounds on radiosity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son to radiance and other radiosity code 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page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http://www.cs.cmu.edu/~radiosity/mrr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TR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irtual Memor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e cluster files are written in breadth-first order, so get good memory loc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only small first section of the face cluster file used, so it’s memory m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ive Radiosity has good total memory use, but very poor loc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Medium Qual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rad-time-graph-fix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0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High Qual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3" name="rad-time-graph-H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0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Memory Us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5" name="rad-mem-graph-fix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0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etail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error estimated by 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 term doesn’t depend on normals, but penalizes side-on cl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ility by ray casting, nested gr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bounding bo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ctional visibility used during simulation, visibility resampled at higher resolution for final illu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lex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not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whe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number of face cluster hierarch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&l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ost alway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&l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face cluster hierarchy represents a separate polygon m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2057400"/>
            <a:ext cx="624816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 Equa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1960" cy="84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79800" y="3898800"/>
            <a:ext cx="2381040" cy="816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489480" y="5781600"/>
            <a:ext cx="2019240" cy="557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427640" y="3166920"/>
            <a:ext cx="0" cy="3812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63920" y="3941640"/>
            <a:ext cx="1041480" cy="8128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54440" y="3789360"/>
            <a:ext cx="1803240" cy="1117440"/>
          </a:xfrm>
          <a:prstGeom prst="ellipse">
            <a:avLst/>
          </a:prstGeom>
          <a:noFill/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9400" y="4691160"/>
            <a:ext cx="304920" cy="304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91440" y="475128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665160" y="4691160"/>
            <a:ext cx="304920" cy="304560"/>
          </a:xfrm>
          <a:prstGeom prst="line">
            <a:avLst/>
          </a:prstGeom>
          <a:ln w="25560">
            <a:solidFill>
              <a:srgbClr val="ff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87440" y="4751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5224320"/>
            <a:ext cx="0" cy="3812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blem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for complex scene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gt;&g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push irradiance down to leaves when gathering, pull radiosity up when shoo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input polygons must be touched on each it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xi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ume clusters approximate a cloud of unconnected polyg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do better for connected, largely smooth sur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Dual Edge Contrac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4" name="xxx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532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rative Fac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6" name="face-clusters-fix" descr=""/>
          <p:cNvPicPr/>
          <p:nvPr/>
        </p:nvPicPr>
        <p:blipFill>
          <a:blip r:embed="rId1"/>
          <a:srcRect l="0" t="0" r="0" b="40430"/>
          <a:stretch/>
        </p:blipFill>
        <p:spPr>
          <a:xfrm>
            <a:off x="2133720" y="1981080"/>
            <a:ext cx="4743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CR Pedestal: Clus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066760" y="1838160"/>
          <a:ext cx="529596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838160"/>
                    <a:ext cx="52959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ransfer Examp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2191" t="23650" r="21042" b="0"/>
          <a:stretch/>
        </p:blipFill>
        <p:spPr>
          <a:xfrm>
            <a:off x="695160" y="2000160"/>
            <a:ext cx="3810240" cy="435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rcRect l="11712" t="23650" r="20840" b="0"/>
          <a:stretch/>
        </p:blipFill>
        <p:spPr>
          <a:xfrm>
            <a:off x="4562640" y="2000160"/>
            <a:ext cx="3848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RVC Pedestal Fin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21842" r="0" b="0"/>
          <a:stretch/>
        </p:blipFill>
        <p:spPr>
          <a:xfrm>
            <a:off x="1790640" y="1895400"/>
            <a:ext cx="57056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CR Pedestal Fin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22510" r="0" b="0"/>
          <a:stretch/>
        </p:blipFill>
        <p:spPr>
          <a:xfrm>
            <a:off x="1790640" y="1933560"/>
            <a:ext cx="57056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xperimenting with large scanned model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enough to ma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polygons are for high resolution d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affect radiosity computations m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nd with Multiresolution Model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you to adjust the resolution of the model at different places on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u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276720"/>
            <a:ext cx="2057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Run radiosity on simplifi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550960" cy="255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19520" y="4267080"/>
            <a:ext cx="1295280" cy="83844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15000" y="4343400"/>
            <a:ext cx="990720" cy="83808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2361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stead of running radiosity on detail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876920"/>
            <a:ext cx="1981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Apply results to origi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Better Solu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e simplification &amp; radiosity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multiresolution hierarchies of the models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just resolution on the fly to match that needed by the radiosity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3822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inement in the Hierarch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ex-hier1-fix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4259160" cy="3201840"/>
          </a:xfrm>
          <a:prstGeom prst="rect">
            <a:avLst/>
          </a:prstGeom>
          <a:ln w="0">
            <a:noFill/>
          </a:ln>
        </p:spPr>
      </p:pic>
      <p:pic>
        <p:nvPicPr>
          <p:cNvPr id="108" name="mesh2-fix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3076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3505320" y="3276720"/>
            <a:ext cx="1600200" cy="4572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962520" y="4038480"/>
            <a:ext cx="2514600" cy="4572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: entir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97960" y="58244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4800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905120"/>
            <a:ext cx="83822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implific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whaleHi-fix" descr=""/>
          <p:cNvPicPr/>
          <p:nvPr/>
        </p:nvPicPr>
        <p:blipFill>
          <a:blip r:embed="rId1"/>
          <a:srcRect l="0" t="22383" r="0" b="27357"/>
          <a:stretch/>
        </p:blipFill>
        <p:spPr>
          <a:xfrm>
            <a:off x="5029200" y="4343400"/>
            <a:ext cx="36766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whaleLo-fix" descr=""/>
          <p:cNvPicPr/>
          <p:nvPr/>
        </p:nvPicPr>
        <p:blipFill>
          <a:blip r:embed="rId2"/>
          <a:srcRect l="0" t="22383" r="0" b="27357"/>
          <a:stretch/>
        </p:blipFill>
        <p:spPr>
          <a:xfrm>
            <a:off x="5029200" y="2133720"/>
            <a:ext cx="3675240" cy="1846080"/>
          </a:xfrm>
          <a:prstGeom prst="rect">
            <a:avLst/>
          </a:prstGeom>
          <a:ln w="0">
            <a:noFill/>
          </a:ln>
        </p:spPr>
      </p:pic>
      <p:pic>
        <p:nvPicPr>
          <p:cNvPr id="119" name="ex-hier2-fix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4268520" cy="320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3429000" y="3352320"/>
            <a:ext cx="1828800" cy="30492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1219320" cy="2286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7960" y="58244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648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pl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429000"/>
            <a:ext cx="533520" cy="3049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jw</cp:lastModifiedBy>
  <cp:lastPrinted>1999-06-19T00:46:11Z</cp:lastPrinted>
  <dcterms:modified xsi:type="dcterms:W3CDTF">1999-07-04T01:34:12Z</dcterms:modified>
  <cp:revision>2938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ajw</vt:lpwstr>
  </property>
  <property fmtid="{D5CDD505-2E9C-101B-9397-08002B2CF9AE}" pid="9" name="LinkColor">
    <vt:r8>16711782</vt:r8>
  </property>
  <property fmtid="{D5CDD505-2E9C-101B-9397-08002B2CF9AE}" pid="10" name="MailAddress">
    <vt:lpwstr>ajw+fcr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NT\Profiles\ajw\Persona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