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202-BA7F-43F9-AB8D-1BEA0660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80C-8806-45C6-9429-4CF7720C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EC0-3A3B-4117-A5B4-65C975EA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923-278A-4F96-A75B-0797F99B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5262-4ECC-41DF-93C3-B0B5293A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4F95-042A-4278-B30B-8A5028CA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4741-E459-43E1-AE2F-6F7DC9F5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1C82-58CC-4740-88C0-0D03603D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6C36-3224-452C-991F-8A741017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CD0D-31E8-4F95-A48B-F4C83183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76D4-8315-450A-8E7A-96E1F80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028-C89A-4132-9698-B885F9D2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1ECE-65B8-4315-AED8-396F632F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DAFA-B66A-4DF3-93CB-369CFF7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016D-826D-4C79-887C-99BF4178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4522-D0D9-4DC5-8CC9-78740532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CB38-4EAF-4D17-B88B-80754036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F81-8DE1-46C2-B740-93DB6BE1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205-B8E5-475F-891C-D981054A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B92-62B9-4B42-837F-B34E84A0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EDC-5E65-4334-BB3A-A8B4689A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B1E-8015-49B6-B6E7-90112E9A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3AB-085A-4FF7-9EBB-85FC1910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411-3401-4332-BF3A-8440AC76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3399-DAEB-4062-9F65-DEB24227145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1E84-6C5E-48E5-B8E0-028E30DF0D6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On Multi-Path Rout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218960" y="3711240"/>
            <a:ext cx="74674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ditya Akell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03/25/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GP contd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useful is Multi-Path Routing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much potential for Multi-Path Routing exists, with BGP in its current form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much potential can we add and how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me factors just cannot be helped (some policie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other factors can we get around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cost fun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is it, exactly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can it be computed in a distributed manner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t what frequency to compute, update routes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tc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useful can this be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1143000"/>
            <a:ext cx="7378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(2) The Cos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if everybody employed Multi-Path Routing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ach flow is now a selfish agen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ach flow tries to maximize its observed performa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would be the marginal utility per flow when all flows are selfish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Nash Equilibri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annot be better than the optimal case --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When flows route packets in such a manner as to optimize a common global metric –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social equilibri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ame-Theoretic Analys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378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useful can this be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1143000"/>
            <a:ext cx="737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(3) Selfish Rout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ame The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ill not bore you with the details. Here is an outl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have a game-theoretic model for multi-path routing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ave a way of showing how bad Nash equilibrium is compared to social equilibri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ave a link pricing mechanism that can be employed to bridge the gap between Nash and social equilib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ey idea: cheat by propagating link costs different from the true cos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reedy flows will try to minimize co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sign cost in such a way that greedy flows actually end up minimizing average cost (social optimum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at’s about it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7760" y="3352680"/>
            <a:ext cx="7958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stions/Comment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Multi-Path Rout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Dynamicall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route traffi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ultiple paths to a destin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th taken dependant on the relative load on candidate paths at flow-arrival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elp flows circumvent congested link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oad balancing, improved response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tic rou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747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 example, OSP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fter route update, pick path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ith least co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l flows between the same source and destination will follow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til the next update picks a different path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st candidate path information is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sta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for the update perio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-path routing vs. Static rou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st candidate path of a flow is a function of the network state </a:t>
            </a: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when the flow arri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oids staleness, in some sen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eeping accurate network state at every instant of time very toug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ulti-path routing uses estimated network st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pdate estimated state at regular interval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st work and state-of-the-a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enty of related work (but, will mainly discuss Shaikh and Rexford’s work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rform load-sensitive routing of long-lived IP flo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atically route short lived flo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icable to backbone networks of IS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rst hop router of a flow computes the path for the flow based on knowledge of the entire network (the backbon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ink State rout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Intra-AS solu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 different take on the proble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ulti-Path routing of IP flo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isting solutions designed to work within the core of an 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tra-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imed at achieving optimum provisioning of resources within an 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ut the core is relatively under-utiliz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Multi-path routing might only help make under-utilization unifrom across an IS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reater congestion probably occurs at the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edg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f an 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ueueing drops at Peering poi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dge of the network where stub networks attac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ight help more to do multi-path at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ter-A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…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isting solutions should be extended to work at a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coarser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h Intra-AS and Inter-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 about designing a solution that works at the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Inter-A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level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cus of this work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ork in combination with an Intra-AS sol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this talk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plore the utility of employing multi-path routing at AS-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issues hinder the usefulness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can they be analyzed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 will not present an actual mechanism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378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useful can this be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tential multiple paths are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hidde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by BG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lic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.g., Peer will not provide transit serv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th Vector as opposed link st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nly path length infor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ed path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cos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nfor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eighbor relations do not reveal number of path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ighbors could peer at many pla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1219320"/>
            <a:ext cx="737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(1) BGP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3T02:05:27Z</dcterms:created>
  <dc:creator>Shuchi Chawla</dc:creator>
  <dc:description/>
  <dc:language>en-US</dc:language>
  <cp:lastModifiedBy>Shuchi Chawla</cp:lastModifiedBy>
  <dcterms:modified xsi:type="dcterms:W3CDTF">2002-03-25T15:48:03Z</dcterms:modified>
  <cp:revision>11</cp:revision>
  <dc:subject/>
  <dc:title>Multi-Path Routing: A Different Perspective</dc:title>
</cp:coreProperties>
</file>