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04A-17C0-4813-B413-000B9C74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B72-85E5-4EC7-8D44-4128D7AC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010-0429-4C8A-983F-D9A8682C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AEF-BACF-4386-9933-92EE582E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4B6C-96DE-4EDA-9F8E-2C4D85BC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0179-57C4-4F4C-8DB2-2C74A9B1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39F4-12BF-44DA-9ABA-E2180593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8E24-80E7-4E18-8E25-D077249A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EF8D-B911-43A1-BF80-5BAE741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77A2-095C-4C3E-9830-7CD62C09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8C1C-1FD8-4EEE-932D-1BF8D2E6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FC2-623C-4358-814A-C1751926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6889-AC9D-4C6B-A803-749B833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9750-A017-43DC-86B3-FBC5FD8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83AE-9BEE-4DDD-9DAE-2C8CECFC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EC7C-94B1-4865-837F-B4BCA8C0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9F70-7615-479C-8799-043B62E4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5AE-8153-4C1F-854A-EC8E07C6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3CF-B2F8-4085-8881-F42C588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E75-0FD2-4D1E-A9A8-A5A24589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FC7-1847-4E68-B167-AC312E7C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74C-DA75-4007-BE87-663C830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331-D600-4239-B345-8EC522D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888-F395-4F79-B4F9-D0D827B7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9832-943C-4904-AF0B-E4619001AB6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0165-3032-4706-80D7-511E2A6CEBA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n Multi-Path Rou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218960" y="3711240"/>
            <a:ext cx="74674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ditya Akel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03/25/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GP contd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useful is Multi-Path Routing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much potential for Multi-Path Routing exists, with BGP in its current form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much potential can we add and how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me factors just cannot be helped (some polici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other factors can we get around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cost fun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is it, exactl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can it be computed in a distributed manner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t what frequency to compute, update route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tc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useful can this be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1143000"/>
            <a:ext cx="7378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(2) The Cos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if everybody employed Multi-Path Routing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ach flow is now a selfish agen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ach flow tries to maximize its observed perform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would be the marginal utility per flow when all flows are selfish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Nash Equilibri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annot be better than the optimal case --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When flows route packets in such a manner as to optimize a common global metric –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social equilibri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ame-Theoretic Analys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useful can this be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1143000"/>
            <a:ext cx="737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(3) Selfish Rou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ame The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ill not bore you with the details. Here is an outl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have a game-theoretic model for multi-path routing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ave a way of showing how bad Nash equilibrium is compared to social equilibri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ave a link pricing mechanism that can be employed to bridge the gap between Nash and social equilib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ey idea: cheat by propagating link costs different from the true cos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eedy flows will try to minimize co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sign cost in such a way that greedy flows actually end up minimizing average cost (social optimum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t’s about it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7760" y="3352680"/>
            <a:ext cx="7958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stions/Comment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Multi-Path Rout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Dynamicall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route traffi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ultiple paths to a destin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th taken dependant on the relative load on candidate paths at flow-arrival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lp flows circumvent congested link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oad balancing, improved response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tic rou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747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 example, OSP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fter route update, pick path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ith least c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l flows between the same source and destination will follow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til the next update picks a different path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st candidate path information is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sta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for the update perio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-path routing vs. Static rou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st candidate path of a flow is a function of the network state </a:t>
            </a: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when the flow arri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oids staleness, in some sen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eeping accurate network state at every instant of time very toug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ulti-path routing uses estimated network st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pdate estimated state at regular interval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st work and state-of-the-a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enty of related work (but, will mainly discuss Shaikh and Rexford’s work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rform load-sensitive routing of long-lived IP fl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tically route short lived fl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ble to backbone networks of IS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rst hop router of a flow computes the path for the flow based on knowledge of the entire network (the backbon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ink State rou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Intra-AS solu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 different take on the proble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ulti-Path routing of IP fl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isting solutions designed to work within the core of an 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tra-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imed at achieving optimum provisioning of resources within an 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ut the core is relatively under-utiliz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Multi-path routing might only help make under-utilization unifrom across an IS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eater congestion probably occurs at the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edg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f an 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ueing drops at Peering poi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dge of the network where stub networks attac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ight help more to do multi-path at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ter-A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…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isting solutions should be extended to work at a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oarser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h Intra-AS and Inter-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 about designing a solution that works at the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Inter-A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leve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cus of this work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ork in combination with an Intra-AS sol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this talk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plore the utility of employing multi-path routing at AS-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issues hinder the usefulnes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can they be analyzed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 will not present an actual mechanism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useful can this be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tential multiple paths are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hidde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by BG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lic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.g., Peer will not provide transit serv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th Vector as opposed link st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nly path length in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ed path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eighbor relations do not reveal number of path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ighbors could peer at many pla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1219320"/>
            <a:ext cx="737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(1) BGP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02:05:27Z</dcterms:created>
  <dc:creator>Shuchi Chawla</dc:creator>
  <dc:description/>
  <dc:language>en-US</dc:language>
  <cp:lastModifiedBy>Shuchi Chawla</cp:lastModifiedBy>
  <dcterms:modified xsi:type="dcterms:W3CDTF">2002-03-25T15:48:03Z</dcterms:modified>
  <cp:revision>11</cp:revision>
  <dc:subject/>
  <dc:title>Multi-Path Routing: A Different Perspective</dc:title>
</cp:coreProperties>
</file>