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3D7-1B30-4E11-B15B-869FCD5E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F38-3F09-4648-B33F-8545D73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69C-AD04-4DA8-BC19-B33C64BC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786-DF06-4688-A340-5D647376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3734-65D4-44B5-A423-14E7F171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FEF1-9847-467B-83BF-9372ADE7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BBA3-3A4A-4981-9E33-8A2E04F7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33A5-5FDA-47E9-9C4C-7E537C9B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30E1-9010-4A48-96F5-2F799CC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C445-676B-4DBA-A0AF-3A2496F1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78D3D-1F04-496B-ADAC-0A7E2642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AC83-EC73-41DA-8538-7E7B7D5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B2E9-C533-4ADC-AF39-CE784489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C282-E216-43E5-B353-C4F98AAE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E2B6-88AE-48B1-BE5D-C51178A5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7CD7-C4BC-4FE8-8E41-04178621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F052-683B-4E6E-9C01-86CC9936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68C-F6B2-4CA7-A6B8-CDBF3AF1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106A-518B-48F8-A352-AAF4BF20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629-CB03-41D6-ADBE-9FA742ED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94C-123D-45D8-B536-755C9A64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EFF-04F5-471A-972F-C5666D2D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5545-1CBD-4F53-885E-533C0D3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AD0-7C6E-4F5A-B09F-700D20F6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7CBD-BB02-44FE-9499-C0A0D92CA87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C536-81C2-4448-B604-DA40BC67041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On Multi-Path Rou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218960" y="3711240"/>
            <a:ext cx="74674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ditya Akel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03/25/0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BGP contd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useful is Multi-Path Routing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much potential for Multi-Path Routing exists, with BGP in its current form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much potential can we add and how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ome factors just cannot be helped (some polici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other factors can we get around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e cost func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is it, exactl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can it be computed in a distributed manner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t what frequency to compute, update route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tc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useful can this be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1143000"/>
            <a:ext cx="7378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(2) The Cos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if everybody employed Multi-Path Routing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ach flow is now a selfish agen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ach flow tries to maximize its observed perform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hat would be the marginal utility per flow when all flows are selfish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Nash Equilibri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annot be better than the optimal case --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i="1" lang="en-US" sz="2000" spc="-1" strike="noStrike">
                <a:solidFill>
                  <a:srgbClr val="003366"/>
                </a:solidFill>
                <a:latin typeface="Times New Roman"/>
              </a:rPr>
              <a:t>When flows route packets in such a manner as to optimize a common global metric –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social equilibriu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ame-Theoretic Analys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useful can this be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95280" y="1143000"/>
            <a:ext cx="7378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(3) Selfish Routing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ame Theo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ill not bore you with the details. Here is an outlin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We have a game-theoretic model for multi-path routing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ave a way of showing how bad Nash equilibrium is compared to social equilibriu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ave a link pricing mechanism that can be employed to bridge the gap between Nash and social equilib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ey idea: cheat by propagating link costs different from the true cos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Greedy flows will try to minimize cos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esign cost in such a way that greedy flows actually end up minimizing average cost (social optimum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at’s about it!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7760" y="3352680"/>
            <a:ext cx="79581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estions/Comment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is Multi-Path Routing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Dynamically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route traffi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ultiple paths to a destin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th taken dependant on the relative load on candidate paths at flow-arrival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elp flows circumvent congested link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oad balancing, improved response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tic rou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747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 example, OSP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fter route update, pick path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with least cos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ll flows between the same source and destination will follow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ntil the next update picks a different path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’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est candidate path information is </a:t>
            </a:r>
            <a:r>
              <a:rPr b="0" i="1" lang="en-US" sz="2800" spc="-1" strike="noStrike">
                <a:solidFill>
                  <a:srgbClr val="800000"/>
                </a:solidFill>
                <a:latin typeface="Times New Roman"/>
              </a:rPr>
              <a:t>stale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for the update perio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ulti-path routing vs. Static rou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est candidate path of a flow is a function of the network state </a:t>
            </a:r>
            <a:r>
              <a:rPr b="0" i="1" lang="en-US" sz="3200" spc="-1" strike="noStrike">
                <a:solidFill>
                  <a:srgbClr val="800000"/>
                </a:solidFill>
                <a:latin typeface="Times New Roman"/>
              </a:rPr>
              <a:t>when the flow arriv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voids staleness, in some sen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eeping accurate network state at every instant of time very toug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Multi-path routing uses estimated network st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Update estimated state at regular interval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st work and state-of-the-ar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lenty of related work (but, will mainly discuss Shaikh and Rexford’s work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erform load-sensitive routing of long-lived IP fl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tatically route short lived fl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pplicable to backbone networks of IS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rst hop router of a flow computes the path for the flow based on knowledge of the entire network (the backbone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Link State rou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Intra-AS solu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 different take on the proble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ulti-Path routing of IP flow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xisting solutions designed to work within the core of an 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Intra-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imed at achieving optimum provisioning of resources within an 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But the core is relatively under-utiliz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Multi-path routing might only help make under-utilization unifrom across an IS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Greater congestion probably occurs at the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edge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of an A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ueing drops at Peering poi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Edge of the network where stub networks attac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ight help more to do multi-path at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ter-AS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o…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isting solutions should be extended to work at a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coarser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Both Intra-AS and Inter-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w about designing a solution that works at the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Inter-A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leve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ocus of this work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an work in combination with an Intra-AS solu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this talk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plore the utility of employing multi-path routing at AS-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What issues hinder the usefulness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How can they be analyzed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 will not present an actual mechanism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378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w useful can this be?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tential multiple paths are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hidden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by BG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olic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E.g., Peer will not provide transit servi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ath Vector as opposed link st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nly path length in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ed path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</a:rPr>
              <a:t>cost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inform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eighbor relations do not reveal number of path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eighbors could peer at many pla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1219320"/>
            <a:ext cx="7378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(1) BGP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3T02:05:27Z</dcterms:created>
  <dc:creator>Shuchi Chawla</dc:creator>
  <dc:description/>
  <dc:language>en-US</dc:language>
  <cp:lastModifiedBy>Shuchi Chawla</cp:lastModifiedBy>
  <dcterms:modified xsi:type="dcterms:W3CDTF">2002-03-25T15:48:03Z</dcterms:modified>
  <cp:revision>11</cp:revision>
  <dc:subject/>
  <dc:title>Multi-Path Routing: A Different Perspective</dc:title>
</cp:coreProperties>
</file>