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260800" cy="3657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93840" y="3250800"/>
            <a:ext cx="24873120" cy="6095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93840" y="10566360"/>
            <a:ext cx="24873120" cy="10467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193840" y="22028760"/>
            <a:ext cx="24873120" cy="10467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3840" y="3250800"/>
            <a:ext cx="24873120" cy="6095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93840" y="10566360"/>
            <a:ext cx="12137760" cy="10467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38920" y="10566360"/>
            <a:ext cx="12137760" cy="10467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93840" y="22028760"/>
            <a:ext cx="12137760" cy="10467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14938920" y="22028760"/>
            <a:ext cx="12137760" cy="10467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93840" y="3250800"/>
            <a:ext cx="24873120" cy="6095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93840" y="10566360"/>
            <a:ext cx="8008920" cy="10467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03440" y="10566360"/>
            <a:ext cx="8008920" cy="10467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13400" y="10566360"/>
            <a:ext cx="8008920" cy="10467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193840" y="22028760"/>
            <a:ext cx="8008920" cy="10467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10603440" y="22028760"/>
            <a:ext cx="8008920" cy="10467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9013400" y="22028760"/>
            <a:ext cx="8008920" cy="10467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93840" y="3250800"/>
            <a:ext cx="24873120" cy="6095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193840" y="10566360"/>
            <a:ext cx="24873120" cy="219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93840" y="3250800"/>
            <a:ext cx="24873120" cy="6095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193840" y="10566360"/>
            <a:ext cx="24873120" cy="21945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93840" y="3250800"/>
            <a:ext cx="24873120" cy="6095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193840" y="10566360"/>
            <a:ext cx="12137760" cy="21945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14938920" y="10566360"/>
            <a:ext cx="12137760" cy="21945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3840" y="3250800"/>
            <a:ext cx="24873120" cy="6095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93840" y="3250800"/>
            <a:ext cx="24873120" cy="2825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25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93840" y="3250800"/>
            <a:ext cx="24873120" cy="6095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93840" y="10566360"/>
            <a:ext cx="12137760" cy="10467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4938920" y="10566360"/>
            <a:ext cx="12137760" cy="21945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193840" y="22028760"/>
            <a:ext cx="12137760" cy="10467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93840" y="3250800"/>
            <a:ext cx="24873120" cy="6095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93840" y="10566360"/>
            <a:ext cx="12137760" cy="21945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4938920" y="10566360"/>
            <a:ext cx="12137760" cy="10467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938920" y="22028760"/>
            <a:ext cx="12137760" cy="10467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93840" y="3250800"/>
            <a:ext cx="24873120" cy="6095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93840" y="10566360"/>
            <a:ext cx="12137760" cy="10467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4938920" y="10566360"/>
            <a:ext cx="12137760" cy="10467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193840" y="22028760"/>
            <a:ext cx="24873120" cy="1046772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3762360"/>
                <a:tab algn="l" pos="75247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3840" y="3250800"/>
            <a:ext cx="24873120" cy="609588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93840" y="10566360"/>
            <a:ext cx="24873120" cy="21945600"/>
          </a:xfrm>
          <a:prstGeom prst="rect">
            <a:avLst/>
          </a:prstGeom>
          <a:noFill/>
          <a:ln w="0">
            <a:noFill/>
          </a:ln>
        </p:spPr>
        <p:txBody>
          <a:bodyPr lIns="376200" rIns="376200" tIns="188280" bIns="188280" anchor="t">
            <a:normAutofit/>
          </a:bodyPr>
          <a:p>
            <a:pPr marL="1411200" indent="-141120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3762360"/>
                <a:tab algn="l" pos="7524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1" marL="3056040" indent="-1174680">
              <a:spcBef>
                <a:spcPts val="1225"/>
              </a:spcBef>
              <a:buClr>
                <a:srgbClr val="000000"/>
              </a:buClr>
              <a:buFont typeface="Times New Roman"/>
              <a:buChar char="–"/>
              <a:tabLst>
                <a:tab algn="l" pos="3762360"/>
                <a:tab algn="l" pos="7524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2" marL="4702320" indent="-93996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3762360"/>
                <a:tab algn="l" pos="7524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3" marL="6583320" indent="-939600">
              <a:spcBef>
                <a:spcPts val="1225"/>
              </a:spcBef>
              <a:buClr>
                <a:srgbClr val="000000"/>
              </a:buClr>
              <a:buFont typeface="Times New Roman"/>
              <a:buChar char="–"/>
              <a:tabLst>
                <a:tab algn="l" pos="3762360"/>
                <a:tab algn="l" pos="7524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4" marL="8464680" indent="-939960">
              <a:spcBef>
                <a:spcPts val="1225"/>
              </a:spcBef>
              <a:buClr>
                <a:srgbClr val="000000"/>
              </a:buClr>
              <a:buFont typeface="Times New Roman"/>
              <a:buChar char="»"/>
              <a:tabLst>
                <a:tab algn="l" pos="3762360"/>
                <a:tab algn="l" pos="7524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5" marL="8464680" indent="-939960">
              <a:spcBef>
                <a:spcPts val="1225"/>
              </a:spcBef>
              <a:buClr>
                <a:srgbClr val="000000"/>
              </a:buClr>
              <a:buFont typeface="Times New Roman"/>
              <a:buChar char="»"/>
              <a:tabLst>
                <a:tab algn="l" pos="3762360"/>
                <a:tab algn="l" pos="7524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6" marL="8464680" indent="-939960">
              <a:spcBef>
                <a:spcPts val="1225"/>
              </a:spcBef>
              <a:buClr>
                <a:srgbClr val="000000"/>
              </a:buClr>
              <a:buFont typeface="Times New Roman"/>
              <a:buChar char="»"/>
              <a:tabLst>
                <a:tab algn="l" pos="3762360"/>
                <a:tab algn="l" pos="7524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4630400" y="2286000"/>
            <a:ext cx="0" cy="7010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9296280"/>
            <a:ext cx="2926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5544800" y="8839080"/>
            <a:ext cx="12801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292608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Impact of False Sharing on Shared Congestion Managemen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itya Akella and Srinivasan Seshan (Computer Science Department, Carnegie Mellon Universit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286000"/>
            <a:ext cx="13784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62360"/>
                <a:tab algn="l" pos="752472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Shared Congestion Manage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80988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ccessful in preventing congestion collap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, sub-optimal when there are multiple concurrent flows between source and dest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520" indent="-405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 for band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520" indent="-405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emble shows aggressive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38098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8640" indent="-458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66920" indent="-44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es co-operation amongst multiple concurrent flows from a source to a dest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66920" indent="-443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that the ensembles exhibits reasonable AIMD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66920" indent="-44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sharing – two or more flows sharing congestion state may not share the same bottlene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200400"/>
            <a:ext cx="729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ngestion Control To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6520" y="3200400"/>
            <a:ext cx="75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hared Congestion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69680" y="3581280"/>
            <a:ext cx="3505320" cy="2971800"/>
          </a:xfrm>
          <a:prstGeom prst="rect">
            <a:avLst/>
          </a:prstGeom>
          <a:solidFill>
            <a:srgbClr val="f5f5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678520" y="228600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62360"/>
                <a:tab algn="l" pos="752472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What is False Sharing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087600" y="3200400"/>
            <a:ext cx="10134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would congestion sharing with Flow 1 and 2 result in false sha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466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s 1 and 2 treated differently by the network e.g. DiffSer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466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s 1 and 2 take different paths e.g., dispersity routing, N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8120" y="3886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127080" y="5867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87600" y="6400800"/>
            <a:ext cx="13639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e the impact, detection and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466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congestion control compromised? &amp; Does performance of individual flows suff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466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nd how can false sharing be detecte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466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hould end systems be modified to deal with false shar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450920" y="4343400"/>
            <a:ext cx="2438280" cy="1606680"/>
          </a:xfrm>
          <a:custGeom>
            <a:avLst/>
            <a:gdLst/>
            <a:ahLst/>
            <a:rect l="l" t="t" r="r" b="b"/>
            <a:pathLst>
              <a:path w="1488" h="964">
                <a:moveTo>
                  <a:pt x="0" y="0"/>
                </a:moveTo>
                <a:cubicBezTo>
                  <a:pt x="28" y="65"/>
                  <a:pt x="78" y="312"/>
                  <a:pt x="170" y="393"/>
                </a:cubicBezTo>
                <a:cubicBezTo>
                  <a:pt x="262" y="474"/>
                  <a:pt x="435" y="450"/>
                  <a:pt x="554" y="489"/>
                </a:cubicBezTo>
                <a:cubicBezTo>
                  <a:pt x="673" y="528"/>
                  <a:pt x="790" y="555"/>
                  <a:pt x="886" y="628"/>
                </a:cubicBezTo>
                <a:cubicBezTo>
                  <a:pt x="982" y="701"/>
                  <a:pt x="1030" y="886"/>
                  <a:pt x="1130" y="925"/>
                </a:cubicBezTo>
                <a:cubicBezTo>
                  <a:pt x="1230" y="964"/>
                  <a:pt x="1414" y="877"/>
                  <a:pt x="1488" y="8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831800" y="4191120"/>
            <a:ext cx="2286000" cy="1371600"/>
          </a:xfrm>
          <a:custGeom>
            <a:avLst/>
            <a:gdLst/>
            <a:ahLst/>
            <a:rect l="l" t="t" r="r" b="b"/>
            <a:pathLst>
              <a:path w="1440" h="864">
                <a:moveTo>
                  <a:pt x="0" y="0"/>
                </a:moveTo>
                <a:cubicBezTo>
                  <a:pt x="52" y="56"/>
                  <a:pt x="104" y="112"/>
                  <a:pt x="192" y="144"/>
                </a:cubicBezTo>
                <a:cubicBezTo>
                  <a:pt x="280" y="176"/>
                  <a:pt x="424" y="168"/>
                  <a:pt x="528" y="192"/>
                </a:cubicBezTo>
                <a:cubicBezTo>
                  <a:pt x="632" y="216"/>
                  <a:pt x="760" y="232"/>
                  <a:pt x="816" y="288"/>
                </a:cubicBezTo>
                <a:cubicBezTo>
                  <a:pt x="872" y="344"/>
                  <a:pt x="776" y="480"/>
                  <a:pt x="864" y="528"/>
                </a:cubicBezTo>
                <a:cubicBezTo>
                  <a:pt x="952" y="576"/>
                  <a:pt x="1248" y="520"/>
                  <a:pt x="1344" y="576"/>
                </a:cubicBezTo>
                <a:cubicBezTo>
                  <a:pt x="1440" y="632"/>
                  <a:pt x="1440" y="748"/>
                  <a:pt x="1440" y="8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889200" y="556272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298280" y="3886200"/>
            <a:ext cx="533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4249520"/>
            <a:ext cx="8382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 Different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may give different flows different Q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sharing occurs when endpoint is unaware of Q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ETF’s Diffserv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set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iffserv classes – Assured Forwarding (AF)  and Best Effort (B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flows belong to AF and 40 belong to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0287000"/>
            <a:ext cx="13030200" cy="3886200"/>
          </a:xfrm>
          <a:prstGeom prst="rect">
            <a:avLst/>
          </a:prstGeom>
          <a:solidFill>
            <a:srgbClr val="f5f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9296280"/>
            <a:ext cx="13563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62360"/>
                <a:tab algn="l" pos="752472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Impact of False Shar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10287000"/>
            <a:ext cx="1120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11200" indent="-1411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lse sharing reduces observed flow through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411200" indent="-1411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740040" y="10788480"/>
                <a:ext cx="639468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shar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7188120" y="1090944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2209680" y="11887200"/>
            <a:ext cx="998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lse sharing increases observed flow loss r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670200" y="12573000"/>
                <a:ext cx="23749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har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175520" y="12573000"/>
                <a:ext cx="25779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har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188120" y="1090944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752480" y="13411080"/>
            <a:ext cx="113540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ere 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re the respective loss event rates of the two flows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re the throughputs of the individual flows without sharing,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re their RTTs, and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s min (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296280" y="14478120"/>
            <a:ext cx="4648320" cy="5029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f-be_shared-buffer_bw-plot" descr=""/>
          <p:cNvPicPr/>
          <p:nvPr/>
        </p:nvPicPr>
        <p:blipFill>
          <a:blip r:embed="rId1"/>
          <a:srcRect l="0" t="0" r="6861" b="0"/>
          <a:stretch/>
        </p:blipFill>
        <p:spPr>
          <a:xfrm>
            <a:off x="9677520" y="14644800"/>
            <a:ext cx="4114800" cy="3886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rot="16200000">
            <a:off x="7712280" y="16455240"/>
            <a:ext cx="3962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dwidth in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859000" y="15392520"/>
            <a:ext cx="5029200" cy="4114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545800" y="15239880"/>
            <a:ext cx="5029200" cy="4191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545800" y="10210680"/>
            <a:ext cx="5029200" cy="4191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096880" y="10058400"/>
            <a:ext cx="5486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h 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lows taking different paths are aggregated into a single macroflo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s might share some/all/none of the bottlen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parallel analytic expec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nat_fullshared-bottleneck_bw-plot" descr=""/>
          <p:cNvPicPr/>
          <p:nvPr/>
        </p:nvPicPr>
        <p:blipFill>
          <a:blip r:embed="rId2"/>
          <a:stretch/>
        </p:blipFill>
        <p:spPr>
          <a:xfrm>
            <a:off x="23888880" y="15436800"/>
            <a:ext cx="4609800" cy="3143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3774400" y="18911880"/>
            <a:ext cx="47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Shared 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041160" y="18484920"/>
            <a:ext cx="4419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io of RT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22204440" y="16965360"/>
            <a:ext cx="3429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width in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nat_unshared-bottleneck_bw-plot" descr=""/>
          <p:cNvPicPr/>
          <p:nvPr/>
        </p:nvPicPr>
        <p:blipFill>
          <a:blip r:embed="rId3"/>
          <a:stretch/>
        </p:blipFill>
        <p:spPr>
          <a:xfrm>
            <a:off x="15175080" y="15559200"/>
            <a:ext cx="4484520" cy="3143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935320" y="19050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hared 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011280" y="18606960"/>
            <a:ext cx="4648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io of bottleneck bandwid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13647600" y="16936920"/>
            <a:ext cx="3124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width in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nat_semishared-bottleneck_bw-plot" descr=""/>
          <p:cNvPicPr/>
          <p:nvPr/>
        </p:nvPicPr>
        <p:blipFill>
          <a:blip r:embed="rId4"/>
          <a:stretch/>
        </p:blipFill>
        <p:spPr>
          <a:xfrm>
            <a:off x="23888880" y="10363320"/>
            <a:ext cx="4609800" cy="3143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3622120" y="13868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-Shared 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98080" y="13411080"/>
            <a:ext cx="4800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io of potential bandwid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2320000" y="11741040"/>
            <a:ext cx="3124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width in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9811880"/>
            <a:ext cx="2926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1120" y="31699080"/>
            <a:ext cx="1338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62360"/>
                <a:tab algn="l" pos="752472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On-going 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1120" y="32766120"/>
            <a:ext cx="13339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ly implementing false sharing detection in linux kern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ding to real world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466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degree of noise in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466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lived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760" indent="-466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tic traffic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544800" y="20969280"/>
            <a:ext cx="5410080" cy="4495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936320" y="20969280"/>
            <a:ext cx="5410080" cy="4495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621120" y="19811880"/>
            <a:ext cx="1348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62360"/>
                <a:tab algn="l" pos="752472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End-System Respon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onfidence-interval_no-share_delay" descr=""/>
          <p:cNvPicPr/>
          <p:nvPr/>
        </p:nvPicPr>
        <p:blipFill>
          <a:blip r:embed="rId5"/>
          <a:srcRect l="0" t="0" r="5564" b="0"/>
          <a:stretch/>
        </p:blipFill>
        <p:spPr>
          <a:xfrm>
            <a:off x="23318640" y="21121560"/>
            <a:ext cx="4799160" cy="3560760"/>
          </a:xfrm>
          <a:prstGeom prst="rect">
            <a:avLst/>
          </a:prstGeom>
          <a:ln w="0">
            <a:noFill/>
          </a:ln>
        </p:spPr>
      </p:pic>
      <p:pic>
        <p:nvPicPr>
          <p:cNvPr id="94" name="confidence-interval_share_delay" descr=""/>
          <p:cNvPicPr/>
          <p:nvPr/>
        </p:nvPicPr>
        <p:blipFill>
          <a:blip r:embed="rId6"/>
          <a:srcRect l="0" t="0" r="5454" b="0"/>
          <a:stretch/>
        </p:blipFill>
        <p:spPr>
          <a:xfrm>
            <a:off x="15925680" y="21197880"/>
            <a:ext cx="4800600" cy="3557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849720" y="2500776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s Share a 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209200" y="24931800"/>
            <a:ext cx="49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s Share no Bottlene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392520" y="25620840"/>
            <a:ext cx="13639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90% confidence intervals for the auto and cross correlation metrics no longer overlap, the detection test outputs a decision of share or no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harder to detect shared bottlenecks (90 secs) than to detect no shared bottlenecks (35 secs), as can be deduced from the detection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087600" y="27812880"/>
            <a:ext cx="13563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a default of sharing con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03160" indent="-168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ing – detection tests work best when packets are nicely interlea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57320" indent="-168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only when flows belong to the same macro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3160" indent="-168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and loss correlation tests detect false sharing more easily than they detect shared bottlene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3160" indent="-168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ossible concern – host might transmit data too quickly during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057320" indent="-168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ly, as bandwidth achieved during false sharing is limited by the slower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on detection – segregate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03160" indent="-168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stion Manager – associate flows with different macro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3160" indent="-168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 to API to support control of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240880" y="24564960"/>
            <a:ext cx="4876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21367080" y="22839840"/>
            <a:ext cx="3811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lation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849720" y="24641280"/>
            <a:ext cx="4876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14067360" y="22916160"/>
            <a:ext cx="3811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lation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839080" y="25908120"/>
            <a:ext cx="5257800" cy="4495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67680" y="20954880"/>
            <a:ext cx="5029200" cy="4496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0954880"/>
            <a:ext cx="5181480" cy="4496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9811880"/>
            <a:ext cx="1409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62360"/>
                <a:tab algn="l" pos="752472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Detection of False Shar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0" y="24628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hared: Loss Correlation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1107520"/>
            <a:ext cx="304776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: Uncorrelated delays and losses across flows is a strong indicator of false s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nat_semishared-bottleneck_loss-corr-plot" descr=""/>
          <p:cNvPicPr/>
          <p:nvPr/>
        </p:nvPicPr>
        <p:blipFill>
          <a:blip r:embed="rId7"/>
          <a:srcRect l="0" t="0" r="9917" b="0"/>
          <a:stretch/>
        </p:blipFill>
        <p:spPr>
          <a:xfrm>
            <a:off x="9561600" y="21107520"/>
            <a:ext cx="4154400" cy="323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9499680" y="21107520"/>
          <a:ext cx="253800" cy="3276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499680" y="21107520"/>
                    <a:ext cx="25380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0006920" y="2134872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66ff"/>
                </a:solidFill>
                <a:latin typeface="Arial"/>
              </a:rPr>
              <a:t>All losses on flow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82080" y="22097880"/>
            <a:ext cx="312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Losses on both flows – back2back losses show as a “pil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006920" y="2325384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cc00"/>
                </a:solidFill>
                <a:latin typeface="Arial"/>
              </a:rPr>
              <a:t>All losses on flow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725640" y="22326480"/>
            <a:ext cx="1519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524880" y="24231600"/>
            <a:ext cx="4173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24612480"/>
            <a:ext cx="51814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Shared: Delay Correlation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Note: Strong correlation between 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nat_fullshared-bottleneck_delay-corr-plot" descr=""/>
          <p:cNvPicPr/>
          <p:nvPr/>
        </p:nvPicPr>
        <p:blipFill>
          <a:blip r:embed="rId10"/>
          <a:stretch/>
        </p:blipFill>
        <p:spPr>
          <a:xfrm>
            <a:off x="996840" y="21077280"/>
            <a:ext cx="4718160" cy="3306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90720" y="24231600"/>
            <a:ext cx="472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-730080" y="22675680"/>
            <a:ext cx="3504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  in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91720" y="2958156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hared: Delay Correlation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nat_semishared-bottleneck_delay-corr-plot" descr=""/>
          <p:cNvPicPr/>
          <p:nvPr/>
        </p:nvPicPr>
        <p:blipFill>
          <a:blip r:embed="rId11"/>
          <a:stretch/>
        </p:blipFill>
        <p:spPr>
          <a:xfrm>
            <a:off x="9220320" y="26060400"/>
            <a:ext cx="4610160" cy="3232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248520" y="249937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5679520"/>
            <a:ext cx="7848720" cy="5638680"/>
          </a:xfrm>
          <a:prstGeom prst="rect">
            <a:avLst/>
          </a:prstGeom>
          <a:solidFill>
            <a:srgbClr val="f5f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256795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62360"/>
                <a:tab algn="l" pos="752472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tecting False Sharing: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26303400"/>
            <a:ext cx="7696440" cy="50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Correlation Test: Not as good as delay correlatio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Correlation Test: Does not necessarily segregate flows with inherently different RT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-of-Order Test: Most robust of the three tests and requires single destination h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s do not detect false sharing when non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and delay tests either output a decision that shared bottlenecks exists or remain inconclu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5680" y="26715960"/>
            <a:ext cx="18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991720" y="29184480"/>
            <a:ext cx="4876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7460640" y="27589680"/>
            <a:ext cx="3430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  in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1699080"/>
            <a:ext cx="14630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246888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630400" y="19811880"/>
            <a:ext cx="0" cy="16764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354680" y="10210680"/>
            <a:ext cx="373392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semi-shared" descr=""/>
          <p:cNvPicPr/>
          <p:nvPr/>
        </p:nvPicPr>
        <p:blipFill>
          <a:blip r:embed="rId12"/>
          <a:stretch/>
        </p:blipFill>
        <p:spPr>
          <a:xfrm>
            <a:off x="19728000" y="12039480"/>
            <a:ext cx="3244680" cy="1536840"/>
          </a:xfrm>
          <a:prstGeom prst="rect">
            <a:avLst/>
          </a:prstGeom>
          <a:ln w="0">
            <a:noFill/>
          </a:ln>
        </p:spPr>
      </p:pic>
      <p:pic>
        <p:nvPicPr>
          <p:cNvPr id="135" name="fully-shared" descr=""/>
          <p:cNvPicPr/>
          <p:nvPr/>
        </p:nvPicPr>
        <p:blipFill>
          <a:blip r:embed="rId13"/>
          <a:stretch/>
        </p:blipFill>
        <p:spPr>
          <a:xfrm>
            <a:off x="19735920" y="13716000"/>
            <a:ext cx="3346200" cy="1452600"/>
          </a:xfrm>
          <a:prstGeom prst="rect">
            <a:avLst/>
          </a:prstGeom>
          <a:ln w="0">
            <a:noFill/>
          </a:ln>
        </p:spPr>
      </p:pic>
      <p:pic>
        <p:nvPicPr>
          <p:cNvPr id="136" name="unshared" descr=""/>
          <p:cNvPicPr/>
          <p:nvPr/>
        </p:nvPicPr>
        <p:blipFill>
          <a:blip r:embed="rId14"/>
          <a:stretch/>
        </p:blipFill>
        <p:spPr>
          <a:xfrm>
            <a:off x="19594440" y="10287000"/>
            <a:ext cx="3454560" cy="1536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356840" y="10210680"/>
            <a:ext cx="11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Un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354680" y="11702880"/>
            <a:ext cx="15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Semi-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378440" y="1341108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Fully 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193120" y="16002000"/>
            <a:ext cx="3047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ypes of bottleneck sharing (unshared, semi-shared, fully-shar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448920" y="188355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ser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524880" y="18408600"/>
            <a:ext cx="4267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’s share of bottleneck bandwidth in %-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23:53:14Z</dcterms:created>
  <dc:creator>Srinivasan &amp; Asha Seshan</dc:creator>
  <dc:description/>
  <dc:language>en-US</dc:language>
  <cp:lastModifiedBy>Srinivasan &amp; Asha Seshan</cp:lastModifiedBy>
  <dcterms:modified xsi:type="dcterms:W3CDTF">2001-08-21T15:42:23Z</dcterms:modified>
  <cp:revision>28</cp:revision>
  <dc:subject/>
  <dc:title>PowerPoint Presentation</dc:title>
</cp:coreProperties>
</file>