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86800" cy="624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4120" y="64771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itya Akella (aditya@cs.cmu.ed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Congestion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tya Ak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rini Seshan, Scott Shenker and Ion Sto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880" y="2819520"/>
                <a:ext cx="8382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IMD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IAD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MD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AD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limited set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n ‘good’ via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ide variety while keeping siz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liberately ext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o study ke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o be realistic (for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of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Loss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o-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K-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f router queu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E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D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o-style Loss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and AIAD provide identical goodpu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is the only fair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had the best delay and loss rate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038480" y="1752480"/>
          <a:ext cx="480060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52480"/>
                    <a:ext cx="48006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04920" y="1752480"/>
          <a:ext cx="3733560" cy="330228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K-style Loss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181480"/>
            <a:ext cx="792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l schemes except MIAD provide reasonable goodpu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is the only fair algorithm. Fairness, loss rates, delays of others wor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38480" y="1676520"/>
          <a:ext cx="480060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76520"/>
                    <a:ext cx="480060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4920" y="1752480"/>
          <a:ext cx="3733560" cy="330228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of RED + Reno-style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181480"/>
            <a:ext cx="792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and AIAD provide best goodpu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Fairness of all algorithms impr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oss rates and delays are low  for all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038480" y="1600200"/>
          <a:ext cx="480060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48006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4920" y="1752480"/>
          <a:ext cx="3733560" cy="330228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of RED + SACK-style Reco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5627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AD provides best goodput performance and is reasonably f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62520" y="1600200"/>
          <a:ext cx="48765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00200"/>
                    <a:ext cx="4876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04920" y="1752480"/>
          <a:ext cx="3733560" cy="330228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of EC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6002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form of loss recovery (e.g., SACK, shown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4100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MIAD, MIMD and AIAD provide best goodpu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provides worst goodpu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IMD has the best fairness, delay and los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114800" y="1981080"/>
          <a:ext cx="46483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81080"/>
                    <a:ext cx="46483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04920" y="2031840"/>
          <a:ext cx="3733560" cy="330228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DR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form of loss recovery (e.g., SACK, shown be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562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Same ordering as with drop-tail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l algorithms are now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191120" y="2048040"/>
          <a:ext cx="4647960" cy="33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048040"/>
                    <a:ext cx="464796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04920" y="2108160"/>
          <a:ext cx="3733560" cy="3301920"/>
        </p:xfrm>
        <a:graphic>
          <a:graphicData uri="http://schemas.openxmlformats.org/drawingml/2006/table">
            <a:tbl>
              <a:tblPr/>
              <a:tblGrid>
                <a:gridCol w="636480"/>
                <a:gridCol w="555480"/>
                <a:gridCol w="484200"/>
                <a:gridCol w="838440"/>
                <a:gridCol w="609480"/>
                <a:gridCol w="609480"/>
              </a:tblGrid>
              <a:tr h="524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p 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p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1752480"/>
          <a:ext cx="50673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50673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into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D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we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oss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good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D is not always supreme if we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fairness, loss an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good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I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always a leading goodput perform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Congestion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on early congestion contro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u-Jai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D most fair, stable and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ecover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o-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on over-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IFO drop-tail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loser Look at AI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AD’s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fair at times (FIFO drop-tail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shows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ure the AIAD’s unfair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D etc.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algorithms allow both additive and multiplicativ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 unfairness of AIAD be fix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schemes are the answer to AIAD’s un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rness and Hybrid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algorithm converges to fairness as long as it is not purely additive (both increase and decrease are additive) or purely multiplicative (both increase and decrease are multiplic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does not consider unstable schemes (like MI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Back to AI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ure AI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small multiplicative component to the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I-M-A-D (additive increase, multiplicative additive decre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AD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onvergence to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loss a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goodput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Schemes –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AD (AIAD with multiplicative component (0.9) in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4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MD (AIMD with multiplicative component (1.1) in in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901960"/>
          <a:ext cx="42670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01960"/>
                    <a:ext cx="42670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2990880"/>
          <a:ext cx="411480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990880"/>
                    <a:ext cx="41148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Chiu-Jain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u-Jain do not allow additive component a &lt; 0 in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ur theorem allows AIMAD which has a &lt;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u-Jain’s condition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nece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d the four basic linear alternatives under a variety of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work in 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alternate world were to choose a congestion control algorithm, is AIMD the only possible choice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r answer is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 for Our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loss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and scheduling policies at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-level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IMD still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400" y="4495680"/>
            <a:ext cx="71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are vi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of the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evalua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There Ever be a Clear W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1981080"/>
          <a:ext cx="403884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0388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495680" y="1828800"/>
          <a:ext cx="434340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828800"/>
                    <a:ext cx="4343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62120" y="5502240"/>
          <a:ext cx="3276360" cy="66996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799920"/>
                <a:gridCol w="838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029200" y="5486400"/>
          <a:ext cx="3276720" cy="66996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79992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Methodology: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ngle algorithms is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ful comparison is t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should not be designed for specific scenari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ness more important than optim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 is to identify key aspects not to pick w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rom competi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set of algorithms we wish to com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environments the algorithm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ght be faced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71600" y="3581280"/>
                <a:ext cx="7543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IMD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IAD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MD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IAD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 Cont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measures worst-case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easures mean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44480" y="1752480"/>
                <a:ext cx="7713720" cy="348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cor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forme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es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erforme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an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∈</m:t>
                            </m:r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E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5:28:30Z</dcterms:created>
  <dc:creator>Srinivasa Aditya Akella </dc:creator>
  <dc:description/>
  <dc:language>en-US</dc:language>
  <cp:lastModifiedBy>Srinivasa Aditya Akella </cp:lastModifiedBy>
  <dcterms:modified xsi:type="dcterms:W3CDTF">2001-11-16T21:27:11Z</dcterms:modified>
  <cp:revision>10</cp:revision>
  <dc:subject/>
  <dc:title>Exploring Congestion Control</dc:title>
</cp:coreProperties>
</file>