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9153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044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912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824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912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824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7EC4-13C3-4D68-AA04-7AB42E73A0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2C73-7DEB-41C9-88E8-8BD7B5D562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D391-CF9B-4440-BAA4-8C9A5C26B5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4FA3-D042-4B21-876B-8073BA953C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EB57-B19D-4050-A822-46D72D2213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91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CAF7-84EE-45C8-9B73-78CD8E2ABC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C56E-7455-4D53-BDC7-5D737C6A48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044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60CC-1C89-42F4-9A6C-FE53DD41EC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E579-6CA0-4F41-9F4D-FA0F460D05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0360" y="39153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56AF-09A4-4A4E-9BB5-FF73B125D4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044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26CC1-BF33-4C29-B3F3-AF087CBC3A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912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8240" y="14475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036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912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8240" y="3915360"/>
            <a:ext cx="255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A659-5B1D-4E91-A187-E82C52A506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75960"/>
            <a:ext cx="791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0440" y="39153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0440" y="1447560"/>
            <a:ext cx="3866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915360"/>
            <a:ext cx="79232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049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1049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049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66760" y="6200640"/>
            <a:ext cx="895320" cy="466920"/>
          </a:xfrm>
          <a:prstGeom prst="rect">
            <a:avLst/>
          </a:prstGeom>
          <a:gradFill rotWithShape="0">
            <a:gsLst>
              <a:gs pos="0">
                <a:srgbClr val="0043ca"/>
              </a:gs>
              <a:gs pos="100000">
                <a:srgbClr val="00226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GS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7400" y="64342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8796-A025-478F-BF75-5D3FE20783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0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b605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db605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1"/>
          </p:nvPr>
        </p:nvSpPr>
        <p:spPr>
          <a:xfrm>
            <a:off x="7237440" y="6397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e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7DB1-556D-4D78-A3DB-2CC4DB34EE31}" type="slidenum">
              <a:rPr b="0" lang="en-US" sz="1400" spc="-1" strike="noStrike">
                <a:solidFill>
                  <a:srgbClr val="001e8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0360" y="6454800"/>
            <a:ext cx="20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venting IC design technologies that will be vital to Inte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449840" y="5654520"/>
            <a:ext cx="1318320" cy="965160"/>
            <a:chOff x="7449840" y="5654520"/>
            <a:chExt cx="1318320" cy="965160"/>
          </a:xfrm>
        </p:grpSpPr>
        <p:sp>
          <p:nvSpPr>
            <p:cNvPr id="44" name=""/>
            <p:cNvSpPr/>
            <p:nvPr/>
          </p:nvSpPr>
          <p:spPr>
            <a:xfrm>
              <a:off x="7449840" y="5657040"/>
              <a:ext cx="52344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93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86440" y="5847480"/>
              <a:ext cx="62532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93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176320" y="5654520"/>
              <a:ext cx="59184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93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4840" y="647280"/>
            <a:ext cx="8487000" cy="17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 Black"/>
              </a:rPr>
              <a:t>Compositional </a:t>
            </a:r>
            <a:br>
              <a:rPr sz="4000"/>
            </a:br>
            <a:r>
              <a:rPr b="1" lang="en-US" sz="4000" spc="-1" strike="noStrike">
                <a:solidFill>
                  <a:srgbClr val="fdb605"/>
                </a:solidFill>
                <a:latin typeface="Arial Black"/>
              </a:rPr>
              <a:t>Specification and Verification </a:t>
            </a:r>
            <a:br>
              <a:rPr sz="4000"/>
            </a:br>
            <a:r>
              <a:rPr b="1" lang="en-US" sz="4000" spc="-1" strike="noStrike">
                <a:solidFill>
                  <a:srgbClr val="fdb605"/>
                </a:solidFill>
                <a:latin typeface="Arial Black"/>
              </a:rPr>
              <a:t>in GSTE</a:t>
            </a:r>
            <a:endParaRPr b="1" lang="en-US" sz="4000" spc="-1" strike="noStrike">
              <a:solidFill>
                <a:srgbClr val="fdb605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0" y="3123720"/>
            <a:ext cx="5773680" cy="189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in Ya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int work with Carl Se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ategic CAD Labs, Intel Corp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h 23, 200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22A8-FF09-42C6-9D93-D35B8B5E87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The Meet Operator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6200" y="1390320"/>
            <a:ext cx="8191440" cy="29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et of assertion lett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( 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(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et of assertion word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(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 (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 … (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et of assertion languag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{ 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| 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|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| 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|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|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" y="4524480"/>
            <a:ext cx="8245800" cy="1385640"/>
            <a:chOff x="457200" y="4524480"/>
            <a:chExt cx="8245800" cy="1385640"/>
          </a:xfrm>
        </p:grpSpPr>
        <p:sp>
          <p:nvSpPr>
            <p:cNvPr id="196" name=""/>
            <p:cNvSpPr/>
            <p:nvPr/>
          </p:nvSpPr>
          <p:spPr>
            <a:xfrm>
              <a:off x="457200" y="5176800"/>
              <a:ext cx="8245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 vote[1]=1, true ) ( true, true ) 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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( true, true ) ( vote[2]=2, true ) 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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( vote[3]=2, true ) ( true, true 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 vote[1]=1 &amp; vote[3]=2, true ) ( vote[2]=2, true 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11960" y="4524480"/>
              <a:ext cx="24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4c4c4"/>
                  </a:solidFill>
                  <a:latin typeface="Arial"/>
                </a:rPr>
                <a:t>Parallel composi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Self Consistency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6200" y="1181160"/>
            <a:ext cx="8191440" cy="47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ed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L,  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(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-1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)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(k&gt;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m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+1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ut 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) =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+1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)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of sket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…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=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…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w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may be new, but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w)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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w</a:t>
            </a:r>
            <a:r>
              <a:rPr b="1" lang="en-US" sz="18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w </a:t>
            </a:r>
            <a:r>
              <a:rPr b="1" lang="en-US" sz="12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w</a:t>
            </a:r>
            <a:r>
              <a:rPr b="1" lang="en-US" sz="1800" spc="-1" strike="noStrike" baseline="30000">
                <a:solidFill>
                  <a:srgbClr val="00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orem (about limi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ut 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 ) =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Compositional Specification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6200" y="1380600"/>
            <a:ext cx="8191440" cy="35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itializ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+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D,D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fix: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(1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&lt;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tion: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(h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&lt;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40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… …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40000">
                <a:solidFill>
                  <a:srgbClr val="00ffff"/>
                </a:solidFill>
                <a:latin typeface="Arial"/>
              </a:rPr>
              <a:t>k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0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&lt;h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et: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(l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&lt;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40000">
                <a:solidFill>
                  <a:srgbClr val="00ffff"/>
                </a:solidFill>
                <a:latin typeface="Arial"/>
              </a:rPr>
              <a:t>1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… …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40000">
                <a:solidFill>
                  <a:srgbClr val="00ffff"/>
                </a:solidFill>
                <a:latin typeface="Arial"/>
              </a:rPr>
              <a:t>k 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0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&lt;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90920" y="5205240"/>
            <a:ext cx="463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Commen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4c4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there is a unique solution to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4c4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very much like CCS but with new </a:t>
            </a:r>
            <a:r>
              <a:rPr b="1" lang="en-US" sz="14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400" spc="-1" strike="noStrike">
                <a:solidFill>
                  <a:srgbClr val="c4c4c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ample 1: Memory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579320" y="1608120"/>
            <a:ext cx="5699160" cy="1019160"/>
            <a:chOff x="1579320" y="1608120"/>
            <a:chExt cx="5699160" cy="1019160"/>
          </a:xfrm>
        </p:grpSpPr>
        <p:sp>
          <p:nvSpPr>
            <p:cNvPr id="205" name=""/>
            <p:cNvSpPr/>
            <p:nvPr/>
          </p:nvSpPr>
          <p:spPr>
            <a:xfrm>
              <a:off x="1672920" y="1998360"/>
              <a:ext cx="104760" cy="8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29000" y="1998360"/>
              <a:ext cx="106200" cy="8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53920" y="2036520"/>
              <a:ext cx="2578320" cy="9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4068720" y="2090520"/>
              <a:ext cx="633240" cy="536760"/>
              <a:chOff x="4068720" y="2090520"/>
              <a:chExt cx="63324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068720" y="2090520"/>
                <a:ext cx="633240" cy="5367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286880" y="2094120"/>
                <a:ext cx="52920" cy="1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1579320" y="2041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08040" y="210024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19560" y="203976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27200" y="1854000"/>
              <a:ext cx="68040" cy="154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46360" y="2039760"/>
              <a:ext cx="2578320" cy="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38360" y="1608120"/>
              <a:ext cx="261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 wren &amp; addr = A &amp; din = D, true 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78920" y="1622160"/>
              <a:ext cx="220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 rden &amp; addr = A, dout = D 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61640" y="2179440"/>
              <a:ext cx="193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 !wren | addr != A, true 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452600" y="3165480"/>
            <a:ext cx="680544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=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,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wren &amp; addr = A &amp; din = D, tr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224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,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!wren | addr != A, tr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=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, 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,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=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den &amp; addr = A, dout =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98560" y="75960"/>
            <a:ext cx="800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ample 2: Voting Machine (VM)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8520" y="1754280"/>
            <a:ext cx="1635120" cy="2179440"/>
          </a:xfrm>
          <a:custGeom>
            <a:avLst/>
            <a:gdLst>
              <a:gd name="textAreaLeft" fmla="*/ 79560 w 1635120"/>
              <a:gd name="textAreaRight" fmla="*/ 1555560 w 1635120"/>
              <a:gd name="textAreaTop" fmla="*/ 79560 h 2179440"/>
              <a:gd name="textAreaBottom" fmla="*/ 2099880 h 217944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4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487400" y="1449360"/>
            <a:ext cx="1800" cy="295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24240" y="11984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08200" y="19620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314520" y="2087640"/>
            <a:ext cx="323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14880" y="228924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23320" y="214956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12880" y="260352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319200" y="2728800"/>
            <a:ext cx="323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19560" y="293040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28000" y="27907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8840" y="321624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305160" y="3341520"/>
            <a:ext cx="3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05160" y="354348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13960" y="340344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73640" y="2732040"/>
            <a:ext cx="370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56680" y="25988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974960"/>
            <a:ext cx="42840" cy="49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48240" y="2612880"/>
            <a:ext cx="42840" cy="49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43200" y="3225960"/>
            <a:ext cx="42840" cy="49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41640" y="2435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0680" y="4354560"/>
            <a:ext cx="8191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te can be accepted at statio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through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ote[i]=1,2,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when it is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outputs a voting result (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out=f(vote[1], vote[2], vote[3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s soon as all three votes are in, and then makes the stations available for next roun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321000" y="3495600"/>
            <a:ext cx="244800" cy="304200"/>
            <a:chOff x="3321000" y="3495600"/>
            <a:chExt cx="244800" cy="304200"/>
          </a:xfrm>
        </p:grpSpPr>
        <p:sp>
          <p:nvSpPr>
            <p:cNvPr id="244" name=""/>
            <p:cNvSpPr/>
            <p:nvPr/>
          </p:nvSpPr>
          <p:spPr>
            <a:xfrm>
              <a:off x="3398760" y="349560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21000" y="3568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325680" y="2871720"/>
            <a:ext cx="244800" cy="304200"/>
            <a:chOff x="3325680" y="2871720"/>
            <a:chExt cx="244800" cy="304200"/>
          </a:xfrm>
        </p:grpSpPr>
        <p:sp>
          <p:nvSpPr>
            <p:cNvPr id="247" name=""/>
            <p:cNvSpPr/>
            <p:nvPr/>
          </p:nvSpPr>
          <p:spPr>
            <a:xfrm>
              <a:off x="3403440" y="287172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5680" y="29448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330360" y="2232000"/>
            <a:ext cx="244800" cy="304200"/>
            <a:chOff x="3330360" y="2232000"/>
            <a:chExt cx="244800" cy="304200"/>
          </a:xfrm>
        </p:grpSpPr>
        <p:sp>
          <p:nvSpPr>
            <p:cNvPr id="250" name=""/>
            <p:cNvSpPr/>
            <p:nvPr/>
          </p:nvSpPr>
          <p:spPr>
            <a:xfrm>
              <a:off x="3408120" y="223200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30360" y="23050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302080" y="2681280"/>
            <a:ext cx="244800" cy="304200"/>
            <a:chOff x="5302080" y="2681280"/>
            <a:chExt cx="244800" cy="304200"/>
          </a:xfrm>
        </p:grpSpPr>
        <p:sp>
          <p:nvSpPr>
            <p:cNvPr id="253" name=""/>
            <p:cNvSpPr/>
            <p:nvPr/>
          </p:nvSpPr>
          <p:spPr>
            <a:xfrm>
              <a:off x="5379840" y="268128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02080" y="27543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ample 2 (cont)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= 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+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  = 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eset, true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eset | vote[i]=0, avail[i]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 =  (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!reset &amp; vote[i]=V[i]&gt;0, avail[i]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  = 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!reset, !avail[i]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=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=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j]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i]))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=  L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pol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rue, vote=f(V[1], V[2], V[3])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Model Checking Product Spec.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06440" y="1200240"/>
            <a:ext cx="8339040" cy="42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orem (product specific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ny languag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 the solution,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regul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c4c4c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c4c4"/>
                </a:solidFill>
                <a:latin typeface="Times New Roman"/>
              </a:rPr>
              <a:t>proof sket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00"/>
              </a:spcBef>
              <a:buClr>
                <a:srgbClr val="c4c4c4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(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j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  <a:ea typeface="Arial"/>
              </a:rPr>
              <a:t>•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=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  <a:ea typeface="Arial"/>
              </a:rPr>
              <a:t>•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00"/>
              </a:spcBef>
              <a:buClr>
                <a:srgbClr val="c4c4c4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(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=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00"/>
              </a:spcBef>
              <a:buClr>
                <a:srgbClr val="c4c4c4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(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 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=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 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-221400">
              <a:spcBef>
                <a:spcPts val="400"/>
              </a:spcBef>
              <a:buClr>
                <a:srgbClr val="c4c4c4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construct transitions for the states in P({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1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, …, </a:t>
            </a:r>
            <a:r>
              <a:rPr b="1" lang="en-US" sz="1600" spc="-1" strike="noStrike">
                <a:solidFill>
                  <a:srgbClr val="c4c4c4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c4c4c4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 baseline="30000">
                <a:solidFill>
                  <a:srgbClr val="c4c4c4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c4c4c4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c4c4c4"/>
                </a:solidFill>
                <a:latin typeface="Times New Roman"/>
              </a:rPr>
              <a:t>}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4920" indent="-2214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L) =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 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his effectively provides a precise GSTE model checking solution for each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 the solu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assertion graph for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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ay be exponentially lar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38560" y="5770440"/>
            <a:ext cx="44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4c4c4"/>
                </a:solidFill>
                <a:latin typeface="Arial"/>
              </a:rPr>
              <a:t>Need more efficient solution</a:t>
            </a:r>
            <a:r>
              <a:rPr b="1" lang="en-US" sz="1800" spc="-1" strike="noStrike">
                <a:solidFill>
                  <a:srgbClr val="c4c4c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4c4c4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Model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52200" y="1266840"/>
            <a:ext cx="79232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>
              <a:lnSpc>
                <a:spcPct val="8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M = (S, R, 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a finite set of sta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R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a transition relation s.t.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,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’, (s, s’)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L: S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a labeling func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man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n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0" algn="ctr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: N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.t.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0, (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i),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i+1))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ce langu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0" algn="ctr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M) = { L(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|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is a run of M 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isfiability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M |=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0" algn="ctr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M)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Im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0" algn="ctr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post(S’) = { s |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’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S’, s.t. (s’, s)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R 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Simulation Relation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3960" y="1447560"/>
            <a:ext cx="8190000" cy="28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mapp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R: {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…,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(S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 algn="ctr">
              <a:lnSpc>
                <a:spcPct val="8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isfying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R(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of M s.t.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|w|)=s, L(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 sat. ant(w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or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•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 L(R(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)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cons(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M |=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compGSTE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360" y="1238040"/>
            <a:ext cx="792324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720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all L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 R(L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:= { }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8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x-point it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:= R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-221400">
              <a:lnSpc>
                <a:spcPct val="8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all L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c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 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      R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 := S;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 i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=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n R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 := {s | L(s)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t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}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se R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 := post(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)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{s | L(s)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t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}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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(R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)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cons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) then return false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  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 :=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’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  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 :=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’(L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til R = R’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urn tru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Motivation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18640" y="1263240"/>
            <a:ext cx="8075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bines high capacity of STE with expressive power of traditional model checking (YS ICCD’00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s a multi-dim. approach to achieve high capacity while maintaining accuracy (YS FMCAD’0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 been used by FVers for &gt; 1 year successfully on next-gen. Intel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processors (Schubert ICCAD’0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 of FORTE public rele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rtion graph specification in GSTE is inherently sequential but circuit behavior may be concurr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…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790720" y="1390680"/>
            <a:ext cx="3762360" cy="51624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2476440"/>
            <a:ext cx="1486080" cy="26766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VM Implementation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28480" y="36464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78320" y="2697120"/>
            <a:ext cx="212760" cy="250920"/>
          </a:xfrm>
          <a:custGeom>
            <a:avLst/>
            <a:gdLst>
              <a:gd name="textAreaLeft" fmla="*/ 75240 w 212760"/>
              <a:gd name="textAreaRight" fmla="*/ 144360 w 212760"/>
              <a:gd name="textAreaTop" fmla="*/ 29520 h 250920"/>
              <a:gd name="textAreaBottom" fmla="*/ 221400 h 2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9" y="2629"/>
                  <a:pt x="14657" y="5080"/>
                  <a:pt x="14657" y="10800"/>
                </a:cubicBezTo>
                <a:cubicBezTo>
                  <a:pt x="14657" y="16520"/>
                  <a:pt x="18129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319720" y="3200400"/>
            <a:ext cx="169560" cy="271440"/>
            <a:chOff x="5319720" y="3200400"/>
            <a:chExt cx="169560" cy="271440"/>
          </a:xfrm>
        </p:grpSpPr>
        <p:sp>
          <p:nvSpPr>
            <p:cNvPr id="272" name=""/>
            <p:cNvSpPr/>
            <p:nvPr/>
          </p:nvSpPr>
          <p:spPr>
            <a:xfrm>
              <a:off x="5319720" y="3200400"/>
              <a:ext cx="99360" cy="2714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15120" y="3200400"/>
              <a:ext cx="74160" cy="2714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886120" y="1486080"/>
            <a:ext cx="1685880" cy="156204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198960" y="2046240"/>
            <a:ext cx="249120" cy="498600"/>
            <a:chOff x="3198960" y="2046240"/>
            <a:chExt cx="249120" cy="498600"/>
          </a:xfrm>
        </p:grpSpPr>
        <p:sp>
          <p:nvSpPr>
            <p:cNvPr id="276" name=""/>
            <p:cNvSpPr/>
            <p:nvPr/>
          </p:nvSpPr>
          <p:spPr>
            <a:xfrm>
              <a:off x="3198960" y="204624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7920" y="221148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610000" y="231768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70360" y="2260440"/>
            <a:ext cx="6480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2240" y="23335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824280" y="1866960"/>
            <a:ext cx="178920" cy="243000"/>
            <a:chOff x="3824280" y="1866960"/>
            <a:chExt cx="178920" cy="243000"/>
          </a:xfrm>
        </p:grpSpPr>
        <p:sp>
          <p:nvSpPr>
            <p:cNvPr id="282" name=""/>
            <p:cNvSpPr/>
            <p:nvPr/>
          </p:nvSpPr>
          <p:spPr>
            <a:xfrm>
              <a:off x="3824280" y="1866960"/>
              <a:ext cx="104760" cy="24300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25080" y="1866960"/>
              <a:ext cx="78120" cy="24300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457440" y="2317680"/>
            <a:ext cx="1609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19440" y="206676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19440" y="192708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07760" y="178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10040" y="197496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3769200" y="183348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286160" y="1895400"/>
            <a:ext cx="218880" cy="162000"/>
            <a:chOff x="4286160" y="1895400"/>
            <a:chExt cx="218880" cy="162000"/>
          </a:xfrm>
        </p:grpSpPr>
        <p:sp>
          <p:nvSpPr>
            <p:cNvPr id="291" name=""/>
            <p:cNvSpPr/>
            <p:nvPr/>
          </p:nvSpPr>
          <p:spPr>
            <a:xfrm rot="5400000">
              <a:off x="4271760" y="190980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4416120" y="193356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600280" y="168588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05160" y="2543040"/>
            <a:ext cx="1971720" cy="29556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65160" y="155268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90000" y="216864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86120" y="3171960"/>
            <a:ext cx="1685880" cy="156204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198960" y="3732120"/>
            <a:ext cx="249120" cy="498600"/>
            <a:chOff x="3198960" y="3732120"/>
            <a:chExt cx="249120" cy="498600"/>
          </a:xfrm>
        </p:grpSpPr>
        <p:sp>
          <p:nvSpPr>
            <p:cNvPr id="299" name=""/>
            <p:cNvSpPr/>
            <p:nvPr/>
          </p:nvSpPr>
          <p:spPr>
            <a:xfrm>
              <a:off x="3198960" y="373212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47920" y="389736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610000" y="400356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70360" y="3946680"/>
            <a:ext cx="64800" cy="118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92240" y="40194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24280" y="3552840"/>
            <a:ext cx="178920" cy="243000"/>
            <a:chOff x="3824280" y="3552840"/>
            <a:chExt cx="178920" cy="243000"/>
          </a:xfrm>
        </p:grpSpPr>
        <p:sp>
          <p:nvSpPr>
            <p:cNvPr id="305" name=""/>
            <p:cNvSpPr/>
            <p:nvPr/>
          </p:nvSpPr>
          <p:spPr>
            <a:xfrm>
              <a:off x="3824280" y="3552840"/>
              <a:ext cx="104760" cy="24300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25080" y="3552840"/>
              <a:ext cx="78120" cy="24300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457440" y="4003560"/>
            <a:ext cx="183852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19440" y="3753000"/>
            <a:ext cx="190440" cy="23796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19440" y="361332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7760" y="347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10040" y="366084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769200" y="35193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286160" y="3581280"/>
            <a:ext cx="218880" cy="162000"/>
            <a:chOff x="4286160" y="3581280"/>
            <a:chExt cx="218880" cy="162000"/>
          </a:xfrm>
        </p:grpSpPr>
        <p:sp>
          <p:nvSpPr>
            <p:cNvPr id="314" name=""/>
            <p:cNvSpPr/>
            <p:nvPr/>
          </p:nvSpPr>
          <p:spPr>
            <a:xfrm rot="5400000">
              <a:off x="4271760" y="359568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400000">
              <a:off x="4416120" y="361944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600280" y="3371760"/>
            <a:ext cx="1514520" cy="27648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05160" y="4229280"/>
            <a:ext cx="1457280" cy="28548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65160" y="323856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90000" y="38545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86120" y="4867200"/>
            <a:ext cx="1685880" cy="156204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198960" y="5427720"/>
            <a:ext cx="249120" cy="498240"/>
            <a:chOff x="3198960" y="5427720"/>
            <a:chExt cx="249120" cy="498240"/>
          </a:xfrm>
        </p:grpSpPr>
        <p:sp>
          <p:nvSpPr>
            <p:cNvPr id="322" name=""/>
            <p:cNvSpPr/>
            <p:nvPr/>
          </p:nvSpPr>
          <p:spPr>
            <a:xfrm>
              <a:off x="3198960" y="5427720"/>
              <a:ext cx="249120" cy="49824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7920" y="5592600"/>
              <a:ext cx="134640" cy="1566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610000" y="569916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0360" y="5641920"/>
            <a:ext cx="6480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92240" y="57150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824280" y="5248440"/>
            <a:ext cx="178920" cy="242640"/>
            <a:chOff x="3824280" y="5248440"/>
            <a:chExt cx="178920" cy="242640"/>
          </a:xfrm>
        </p:grpSpPr>
        <p:sp>
          <p:nvSpPr>
            <p:cNvPr id="328" name=""/>
            <p:cNvSpPr/>
            <p:nvPr/>
          </p:nvSpPr>
          <p:spPr>
            <a:xfrm>
              <a:off x="3824280" y="5248440"/>
              <a:ext cx="104760" cy="2426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25080" y="5248440"/>
              <a:ext cx="78120" cy="2426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3457440" y="5699160"/>
            <a:ext cx="1619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19440" y="544824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19440" y="530856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07760" y="5167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10040" y="535608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3769200" y="521460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4286160" y="5276880"/>
            <a:ext cx="218880" cy="162000"/>
            <a:chOff x="4286160" y="5276880"/>
            <a:chExt cx="218880" cy="162000"/>
          </a:xfrm>
        </p:grpSpPr>
        <p:sp>
          <p:nvSpPr>
            <p:cNvPr id="337" name=""/>
            <p:cNvSpPr/>
            <p:nvPr/>
          </p:nvSpPr>
          <p:spPr>
            <a:xfrm rot="5400000">
              <a:off x="4271760" y="529128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4416120" y="531504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600280" y="506736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305160" y="5924520"/>
            <a:ext cx="1457280" cy="28584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65160" y="49338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90000" y="554976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329080" y="3643200"/>
            <a:ext cx="342720" cy="733680"/>
            <a:chOff x="5329080" y="3643200"/>
            <a:chExt cx="342720" cy="733680"/>
          </a:xfrm>
        </p:grpSpPr>
        <p:sp>
          <p:nvSpPr>
            <p:cNvPr id="344" name=""/>
            <p:cNvSpPr/>
            <p:nvPr/>
          </p:nvSpPr>
          <p:spPr>
            <a:xfrm rot="16200000">
              <a:off x="5133600" y="3838680"/>
              <a:ext cx="733680" cy="342720"/>
            </a:xfrm>
            <a:custGeom>
              <a:avLst/>
              <a:gdLst>
                <a:gd name="textAreaLeft" fmla="*/ 161280 w 733680"/>
                <a:gd name="textAreaRight" fmla="*/ 572400 w 73368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38440" y="38466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505400" y="3419640"/>
            <a:ext cx="799920" cy="1933560"/>
          </a:xfrm>
          <a:custGeom>
            <a:avLst/>
            <a:gdLst/>
            <a:ahLst/>
            <a:rect l="l" t="t" r="r" b="b"/>
            <a:pathLst>
              <a:path w="504" h="1218">
                <a:moveTo>
                  <a:pt x="0" y="1218"/>
                </a:moveTo>
                <a:lnTo>
                  <a:pt x="438" y="1218"/>
                </a:lnTo>
                <a:lnTo>
                  <a:pt x="438" y="0"/>
                </a:lnTo>
                <a:lnTo>
                  <a:pt x="504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67360" y="4191120"/>
            <a:ext cx="247680" cy="1514520"/>
          </a:xfrm>
          <a:custGeom>
            <a:avLst/>
            <a:gdLst/>
            <a:ahLst/>
            <a:rect l="l" t="t" r="r" b="b"/>
            <a:pathLst>
              <a:path w="156" h="954">
                <a:moveTo>
                  <a:pt x="156" y="0"/>
                </a:moveTo>
                <a:lnTo>
                  <a:pt x="0" y="0"/>
                </a:lnTo>
                <a:lnTo>
                  <a:pt x="0" y="95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067360" y="2313720"/>
            <a:ext cx="247680" cy="1514520"/>
          </a:xfrm>
          <a:custGeom>
            <a:avLst/>
            <a:gdLst/>
            <a:ahLst/>
            <a:rect l="l" t="t" r="r" b="b"/>
            <a:pathLst>
              <a:path w="156" h="954">
                <a:moveTo>
                  <a:pt x="156" y="0"/>
                </a:moveTo>
                <a:lnTo>
                  <a:pt x="0" y="0"/>
                </a:lnTo>
                <a:lnTo>
                  <a:pt x="0" y="95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05400" y="3333600"/>
            <a:ext cx="790560" cy="333360"/>
          </a:xfrm>
          <a:custGeom>
            <a:avLst/>
            <a:gdLst/>
            <a:ahLst/>
            <a:rect l="l" t="t" r="r" b="b"/>
            <a:pathLst>
              <a:path w="498" h="210">
                <a:moveTo>
                  <a:pt x="0" y="210"/>
                </a:moveTo>
                <a:lnTo>
                  <a:pt x="396" y="210"/>
                </a:lnTo>
                <a:lnTo>
                  <a:pt x="396" y="0"/>
                </a:lnTo>
                <a:lnTo>
                  <a:pt x="49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05400" y="1971720"/>
            <a:ext cx="799920" cy="1276200"/>
          </a:xfrm>
          <a:custGeom>
            <a:avLst/>
            <a:gdLst/>
            <a:ahLst/>
            <a:rect l="l" t="t" r="r" b="b"/>
            <a:pathLst>
              <a:path w="504" h="804">
                <a:moveTo>
                  <a:pt x="0" y="0"/>
                </a:moveTo>
                <a:lnTo>
                  <a:pt x="390" y="0"/>
                </a:lnTo>
                <a:lnTo>
                  <a:pt x="390" y="804"/>
                </a:lnTo>
                <a:lnTo>
                  <a:pt x="504" y="804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29280" y="3476520"/>
            <a:ext cx="352440" cy="6382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5994720" y="3675600"/>
            <a:ext cx="6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676840" y="3984120"/>
            <a:ext cx="34308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38840" y="367020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27160" y="3529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86400" y="3324240"/>
            <a:ext cx="647640" cy="152280"/>
          </a:xfrm>
          <a:custGeom>
            <a:avLst/>
            <a:gdLst/>
            <a:ahLst/>
            <a:rect l="l" t="t" r="r" b="b"/>
            <a:pathLst>
              <a:path w="408" h="96">
                <a:moveTo>
                  <a:pt x="0" y="0"/>
                </a:moveTo>
                <a:lnTo>
                  <a:pt x="408" y="0"/>
                </a:lnTo>
                <a:lnTo>
                  <a:pt x="408" y="96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81720" y="3794040"/>
            <a:ext cx="466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38880" y="2867040"/>
            <a:ext cx="333360" cy="457200"/>
          </a:xfrm>
          <a:custGeom>
            <a:avLst/>
            <a:gdLst/>
            <a:ahLst/>
            <a:rect l="l" t="t" r="r" b="b"/>
            <a:pathLst>
              <a:path w="210" h="288">
                <a:moveTo>
                  <a:pt x="210" y="288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48240" y="1257480"/>
            <a:ext cx="314280" cy="1476360"/>
          </a:xfrm>
          <a:custGeom>
            <a:avLst/>
            <a:gdLst/>
            <a:ahLst/>
            <a:rect l="l" t="t" r="r" b="b"/>
            <a:pathLst>
              <a:path w="198" h="930">
                <a:moveTo>
                  <a:pt x="198" y="0"/>
                </a:moveTo>
                <a:lnTo>
                  <a:pt x="198" y="930"/>
                </a:lnTo>
                <a:lnTo>
                  <a:pt x="0" y="93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753080" y="2828880"/>
            <a:ext cx="0" cy="3371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920" y="228276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_in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86920" y="397836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_in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77560" y="566424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_in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16160" y="201600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d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06440" y="36543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d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06440" y="536904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d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56160" y="9795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86040" y="2579760"/>
            <a:ext cx="5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55760" y="234468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36680" y="404028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46400" y="572616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59000" y="19828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59000" y="365904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49280" y="536400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33600" y="1676520"/>
            <a:ext cx="0" cy="371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24240" y="3362400"/>
            <a:ext cx="0" cy="371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24240" y="5057640"/>
            <a:ext cx="0" cy="371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590400" y="1200240"/>
            <a:ext cx="3762360" cy="27432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2000160"/>
            <a:ext cx="1685880" cy="15336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-1944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VM Model Checking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52560" y="1305000"/>
            <a:ext cx="1486080" cy="21240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35560" y="27097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78000" y="1525680"/>
            <a:ext cx="212760" cy="250560"/>
          </a:xfrm>
          <a:custGeom>
            <a:avLst/>
            <a:gdLst>
              <a:gd name="textAreaLeft" fmla="*/ 75240 w 212760"/>
              <a:gd name="textAreaRight" fmla="*/ 144360 w 212760"/>
              <a:gd name="textAreaTop" fmla="*/ 29520 h 250560"/>
              <a:gd name="textAreaBottom" fmla="*/ 221040 h 25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9" y="2629"/>
                  <a:pt x="14657" y="5080"/>
                  <a:pt x="14657" y="10800"/>
                </a:cubicBezTo>
                <a:cubicBezTo>
                  <a:pt x="14657" y="16520"/>
                  <a:pt x="18129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119400" y="2028960"/>
            <a:ext cx="169560" cy="271440"/>
            <a:chOff x="3119400" y="2028960"/>
            <a:chExt cx="169560" cy="271440"/>
          </a:xfrm>
        </p:grpSpPr>
        <p:sp>
          <p:nvSpPr>
            <p:cNvPr id="385" name=""/>
            <p:cNvSpPr/>
            <p:nvPr/>
          </p:nvSpPr>
          <p:spPr>
            <a:xfrm>
              <a:off x="3119400" y="2028960"/>
              <a:ext cx="99360" cy="2714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14800" y="2028960"/>
              <a:ext cx="74160" cy="2714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998640" y="2560680"/>
            <a:ext cx="249120" cy="498600"/>
            <a:chOff x="998640" y="2560680"/>
            <a:chExt cx="249120" cy="498600"/>
          </a:xfrm>
        </p:grpSpPr>
        <p:sp>
          <p:nvSpPr>
            <p:cNvPr id="388" name=""/>
            <p:cNvSpPr/>
            <p:nvPr/>
          </p:nvSpPr>
          <p:spPr>
            <a:xfrm>
              <a:off x="998640" y="256068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47600" y="272592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409680" y="283212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70040" y="2774880"/>
            <a:ext cx="6516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1920" y="2847960"/>
            <a:ext cx="244800" cy="23112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57480" y="2832120"/>
            <a:ext cx="183816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19120" y="258120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19120" y="244152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07440" y="2300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09720" y="248904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85840" y="2409840"/>
            <a:ext cx="218880" cy="162000"/>
            <a:chOff x="2085840" y="2409840"/>
            <a:chExt cx="218880" cy="162000"/>
          </a:xfrm>
        </p:grpSpPr>
        <p:sp>
          <p:nvSpPr>
            <p:cNvPr id="399" name=""/>
            <p:cNvSpPr/>
            <p:nvPr/>
          </p:nvSpPr>
          <p:spPr>
            <a:xfrm rot="5400000">
              <a:off x="2071440" y="242424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5400000">
              <a:off x="2215800" y="244800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399960" y="220032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04840" y="3057480"/>
            <a:ext cx="1457280" cy="28584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0360" y="18828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vail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1880" y="283212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129120" y="2471400"/>
            <a:ext cx="342720" cy="733320"/>
            <a:chOff x="3129120" y="2471400"/>
            <a:chExt cx="342720" cy="733320"/>
          </a:xfrm>
        </p:grpSpPr>
        <p:sp>
          <p:nvSpPr>
            <p:cNvPr id="406" name=""/>
            <p:cNvSpPr/>
            <p:nvPr/>
          </p:nvSpPr>
          <p:spPr>
            <a:xfrm rot="16200000">
              <a:off x="2933640" y="2666520"/>
              <a:ext cx="733320" cy="342720"/>
            </a:xfrm>
            <a:custGeom>
              <a:avLst/>
              <a:gdLst>
                <a:gd name="textAreaLeft" fmla="*/ 161280 w 733320"/>
                <a:gd name="textAreaRight" fmla="*/ 572040 w 7333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2440" y="26985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305080" y="2162160"/>
            <a:ext cx="790560" cy="333360"/>
          </a:xfrm>
          <a:custGeom>
            <a:avLst/>
            <a:gdLst/>
            <a:ahLst/>
            <a:rect l="l" t="t" r="r" b="b"/>
            <a:pathLst>
              <a:path w="498" h="210">
                <a:moveTo>
                  <a:pt x="0" y="210"/>
                </a:moveTo>
                <a:lnTo>
                  <a:pt x="396" y="210"/>
                </a:lnTo>
                <a:lnTo>
                  <a:pt x="396" y="0"/>
                </a:lnTo>
                <a:lnTo>
                  <a:pt x="498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28960" y="2305080"/>
            <a:ext cx="352440" cy="6382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5400000">
            <a:off x="3794400" y="2504160"/>
            <a:ext cx="6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476520" y="2813040"/>
            <a:ext cx="34308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38520" y="249876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33680" y="238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86080" y="2152800"/>
            <a:ext cx="647640" cy="152280"/>
          </a:xfrm>
          <a:custGeom>
            <a:avLst/>
            <a:gdLst/>
            <a:ahLst/>
            <a:rect l="l" t="t" r="r" b="b"/>
            <a:pathLst>
              <a:path w="408" h="96">
                <a:moveTo>
                  <a:pt x="0" y="0"/>
                </a:moveTo>
                <a:lnTo>
                  <a:pt x="408" y="0"/>
                </a:lnTo>
                <a:lnTo>
                  <a:pt x="408" y="96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81400" y="2622600"/>
            <a:ext cx="466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38560" y="1695600"/>
            <a:ext cx="333360" cy="457200"/>
          </a:xfrm>
          <a:custGeom>
            <a:avLst/>
            <a:gdLst/>
            <a:ahLst/>
            <a:rect l="l" t="t" r="r" b="b"/>
            <a:pathLst>
              <a:path w="210" h="288">
                <a:moveTo>
                  <a:pt x="210" y="288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7920" y="1047600"/>
            <a:ext cx="304920" cy="514440"/>
          </a:xfrm>
          <a:custGeom>
            <a:avLst/>
            <a:gdLst/>
            <a:ahLst/>
            <a:rect l="l" t="t" r="r" b="b"/>
            <a:pathLst>
              <a:path w="198" h="930">
                <a:moveTo>
                  <a:pt x="198" y="0"/>
                </a:moveTo>
                <a:lnTo>
                  <a:pt x="198" y="930"/>
                </a:lnTo>
                <a:lnTo>
                  <a:pt x="0" y="93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2552760" y="1638360"/>
            <a:ext cx="9360" cy="1714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89120" y="283212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_in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97120" y="251784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d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87720" y="957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50960" y="14335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e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76600" y="263844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562120" y="1638360"/>
            <a:ext cx="524160" cy="9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666880" y="207648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224784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76600" y="308628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34880" y="354168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82400" y="126540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14560" y="2209680"/>
            <a:ext cx="0" cy="352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623960" y="2381400"/>
            <a:ext cx="178920" cy="242640"/>
            <a:chOff x="1623960" y="2381400"/>
            <a:chExt cx="178920" cy="242640"/>
          </a:xfrm>
        </p:grpSpPr>
        <p:sp>
          <p:nvSpPr>
            <p:cNvPr id="432" name=""/>
            <p:cNvSpPr/>
            <p:nvPr/>
          </p:nvSpPr>
          <p:spPr>
            <a:xfrm>
              <a:off x="1623960" y="2381400"/>
              <a:ext cx="104760" cy="2426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24760" y="2381400"/>
              <a:ext cx="78120" cy="2426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949320" y="25066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46080" y="284940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81720" y="1177920"/>
            <a:ext cx="40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16200000">
            <a:off x="1568880" y="23475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90720" y="1952640"/>
            <a:ext cx="65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92880" y="2728800"/>
            <a:ext cx="67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84600" y="4280040"/>
            <a:ext cx="44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83520" y="5054760"/>
            <a:ext cx="42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6040" y="5830920"/>
            <a:ext cx="46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63480" y="1482840"/>
            <a:ext cx="63936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. tr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0160" y="4124160"/>
            <a:ext cx="4589280" cy="1973520"/>
          </a:xfrm>
          <a:prstGeom prst="rect">
            <a:avLst/>
          </a:prstGeom>
          <a:solidFill>
            <a:srgbClr val="003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+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, true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 | vote[i]=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= 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 &amp; vote[i]=V[i]&gt;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(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, !avail[i])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j]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vote=f(V[1], V[2], V[3]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90720" y="3503520"/>
            <a:ext cx="65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90400" y="1200240"/>
            <a:ext cx="3762360" cy="27432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2000160"/>
            <a:ext cx="1685880" cy="15336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-1944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VM Model Checking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52560" y="1305000"/>
            <a:ext cx="1486080" cy="21240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35560" y="27097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78000" y="1525680"/>
            <a:ext cx="212760" cy="250560"/>
          </a:xfrm>
          <a:custGeom>
            <a:avLst/>
            <a:gdLst>
              <a:gd name="textAreaLeft" fmla="*/ 75240 w 212760"/>
              <a:gd name="textAreaRight" fmla="*/ 144360 w 212760"/>
              <a:gd name="textAreaTop" fmla="*/ 29520 h 250560"/>
              <a:gd name="textAreaBottom" fmla="*/ 221040 h 25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9" y="2629"/>
                  <a:pt x="14657" y="5080"/>
                  <a:pt x="14657" y="10800"/>
                </a:cubicBezTo>
                <a:cubicBezTo>
                  <a:pt x="14657" y="16520"/>
                  <a:pt x="18129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3119400" y="2028960"/>
            <a:ext cx="169560" cy="271440"/>
            <a:chOff x="3119400" y="2028960"/>
            <a:chExt cx="169560" cy="271440"/>
          </a:xfrm>
        </p:grpSpPr>
        <p:sp>
          <p:nvSpPr>
            <p:cNvPr id="453" name=""/>
            <p:cNvSpPr/>
            <p:nvPr/>
          </p:nvSpPr>
          <p:spPr>
            <a:xfrm>
              <a:off x="3119400" y="2028960"/>
              <a:ext cx="99360" cy="2714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14800" y="2028960"/>
              <a:ext cx="74160" cy="2714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998640" y="2560680"/>
            <a:ext cx="249120" cy="498600"/>
            <a:chOff x="998640" y="2560680"/>
            <a:chExt cx="249120" cy="498600"/>
          </a:xfrm>
        </p:grpSpPr>
        <p:sp>
          <p:nvSpPr>
            <p:cNvPr id="456" name=""/>
            <p:cNvSpPr/>
            <p:nvPr/>
          </p:nvSpPr>
          <p:spPr>
            <a:xfrm>
              <a:off x="998640" y="256068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47600" y="272592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409680" y="283212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0040" y="2774880"/>
            <a:ext cx="6516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1920" y="2847960"/>
            <a:ext cx="244800" cy="23112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57480" y="2832120"/>
            <a:ext cx="183816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19120" y="258120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19120" y="244152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07440" y="2300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09720" y="248904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085840" y="2409840"/>
            <a:ext cx="218880" cy="162000"/>
            <a:chOff x="2085840" y="2409840"/>
            <a:chExt cx="218880" cy="162000"/>
          </a:xfrm>
        </p:grpSpPr>
        <p:sp>
          <p:nvSpPr>
            <p:cNvPr id="467" name=""/>
            <p:cNvSpPr/>
            <p:nvPr/>
          </p:nvSpPr>
          <p:spPr>
            <a:xfrm rot="5400000">
              <a:off x="2071440" y="242424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5400000">
              <a:off x="2215800" y="244800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99960" y="220032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04840" y="3057480"/>
            <a:ext cx="1457280" cy="28584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0360" y="18828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vail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1880" y="283212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129120" y="2471400"/>
            <a:ext cx="342720" cy="733320"/>
            <a:chOff x="3129120" y="2471400"/>
            <a:chExt cx="342720" cy="733320"/>
          </a:xfrm>
        </p:grpSpPr>
        <p:sp>
          <p:nvSpPr>
            <p:cNvPr id="474" name=""/>
            <p:cNvSpPr/>
            <p:nvPr/>
          </p:nvSpPr>
          <p:spPr>
            <a:xfrm rot="16200000">
              <a:off x="2933640" y="2666520"/>
              <a:ext cx="733320" cy="342720"/>
            </a:xfrm>
            <a:custGeom>
              <a:avLst/>
              <a:gdLst>
                <a:gd name="textAreaLeft" fmla="*/ 161280 w 733320"/>
                <a:gd name="textAreaRight" fmla="*/ 572040 w 7333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42440" y="26985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2305080" y="2162160"/>
            <a:ext cx="790560" cy="333360"/>
          </a:xfrm>
          <a:custGeom>
            <a:avLst/>
            <a:gdLst/>
            <a:ahLst/>
            <a:rect l="l" t="t" r="r" b="b"/>
            <a:pathLst>
              <a:path w="498" h="210">
                <a:moveTo>
                  <a:pt x="0" y="210"/>
                </a:moveTo>
                <a:lnTo>
                  <a:pt x="396" y="210"/>
                </a:lnTo>
                <a:lnTo>
                  <a:pt x="396" y="0"/>
                </a:lnTo>
                <a:lnTo>
                  <a:pt x="498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28960" y="2305080"/>
            <a:ext cx="352440" cy="6382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5400000">
            <a:off x="3794400" y="2504160"/>
            <a:ext cx="6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476520" y="2813040"/>
            <a:ext cx="34308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38520" y="249876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33680" y="238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86080" y="2152800"/>
            <a:ext cx="647640" cy="152280"/>
          </a:xfrm>
          <a:custGeom>
            <a:avLst/>
            <a:gdLst/>
            <a:ahLst/>
            <a:rect l="l" t="t" r="r" b="b"/>
            <a:pathLst>
              <a:path w="408" h="96">
                <a:moveTo>
                  <a:pt x="0" y="0"/>
                </a:moveTo>
                <a:lnTo>
                  <a:pt x="408" y="0"/>
                </a:lnTo>
                <a:lnTo>
                  <a:pt x="408" y="96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81400" y="2622600"/>
            <a:ext cx="466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38560" y="1695600"/>
            <a:ext cx="333360" cy="457200"/>
          </a:xfrm>
          <a:custGeom>
            <a:avLst/>
            <a:gdLst/>
            <a:ahLst/>
            <a:rect l="l" t="t" r="r" b="b"/>
            <a:pathLst>
              <a:path w="210" h="288">
                <a:moveTo>
                  <a:pt x="210" y="288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47920" y="1047600"/>
            <a:ext cx="304920" cy="514440"/>
          </a:xfrm>
          <a:custGeom>
            <a:avLst/>
            <a:gdLst/>
            <a:ahLst/>
            <a:rect l="l" t="t" r="r" b="b"/>
            <a:pathLst>
              <a:path w="198" h="930">
                <a:moveTo>
                  <a:pt x="198" y="0"/>
                </a:moveTo>
                <a:lnTo>
                  <a:pt x="198" y="930"/>
                </a:lnTo>
                <a:lnTo>
                  <a:pt x="0" y="93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2552760" y="1638360"/>
            <a:ext cx="9360" cy="1714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89120" y="283212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_in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97120" y="251784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d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87720" y="957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50960" y="14335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e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676600" y="263844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562120" y="1638360"/>
            <a:ext cx="524160" cy="9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66880" y="207648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224784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6600" y="308628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34880" y="354168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82400" y="126540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14560" y="2209680"/>
            <a:ext cx="0" cy="352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623960" y="2381400"/>
            <a:ext cx="178920" cy="242640"/>
            <a:chOff x="1623960" y="2381400"/>
            <a:chExt cx="178920" cy="242640"/>
          </a:xfrm>
        </p:grpSpPr>
        <p:sp>
          <p:nvSpPr>
            <p:cNvPr id="500" name=""/>
            <p:cNvSpPr/>
            <p:nvPr/>
          </p:nvSpPr>
          <p:spPr>
            <a:xfrm>
              <a:off x="1623960" y="2381400"/>
              <a:ext cx="104760" cy="2426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24760" y="2381400"/>
              <a:ext cx="78120" cy="2426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949320" y="25066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46080" y="284940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1720" y="1177920"/>
            <a:ext cx="40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1568880" y="23475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90720" y="1952640"/>
            <a:ext cx="65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92880" y="2728800"/>
            <a:ext cx="67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4600" y="4280040"/>
            <a:ext cx="44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83520" y="5054760"/>
            <a:ext cx="42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86040" y="5830920"/>
            <a:ext cx="46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2560" y="1482840"/>
            <a:ext cx="63936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2. tr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0160" y="4124160"/>
            <a:ext cx="4589280" cy="1973520"/>
          </a:xfrm>
          <a:prstGeom prst="rect">
            <a:avLst/>
          </a:prstGeom>
          <a:solidFill>
            <a:srgbClr val="003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+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, true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 | vote[i]=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= 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 &amp; vote[i]=V[i]&gt;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(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, !avail[i])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j]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vote=f(V[1], V[2], V[3]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90720" y="3503520"/>
            <a:ext cx="65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82560" y="2244600"/>
            <a:ext cx="71712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2. 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90400" y="1200240"/>
            <a:ext cx="3762360" cy="27432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2000160"/>
            <a:ext cx="1685880" cy="15336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720" y="-1944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VM Model Checking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52560" y="1305000"/>
            <a:ext cx="1486080" cy="21240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435560" y="27097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78000" y="1525680"/>
            <a:ext cx="212760" cy="250560"/>
          </a:xfrm>
          <a:custGeom>
            <a:avLst/>
            <a:gdLst>
              <a:gd name="textAreaLeft" fmla="*/ 75240 w 212760"/>
              <a:gd name="textAreaRight" fmla="*/ 144360 w 212760"/>
              <a:gd name="textAreaTop" fmla="*/ 29520 h 250560"/>
              <a:gd name="textAreaBottom" fmla="*/ 221040 h 25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9" y="2629"/>
                  <a:pt x="14657" y="5080"/>
                  <a:pt x="14657" y="10800"/>
                </a:cubicBezTo>
                <a:cubicBezTo>
                  <a:pt x="14657" y="16520"/>
                  <a:pt x="18129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119400" y="2028960"/>
            <a:ext cx="169560" cy="271440"/>
            <a:chOff x="3119400" y="2028960"/>
            <a:chExt cx="169560" cy="271440"/>
          </a:xfrm>
        </p:grpSpPr>
        <p:sp>
          <p:nvSpPr>
            <p:cNvPr id="522" name=""/>
            <p:cNvSpPr/>
            <p:nvPr/>
          </p:nvSpPr>
          <p:spPr>
            <a:xfrm>
              <a:off x="3119400" y="2028960"/>
              <a:ext cx="99360" cy="2714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214800" y="2028960"/>
              <a:ext cx="74160" cy="2714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998640" y="2560680"/>
            <a:ext cx="249120" cy="498600"/>
            <a:chOff x="998640" y="2560680"/>
            <a:chExt cx="249120" cy="498600"/>
          </a:xfrm>
        </p:grpSpPr>
        <p:sp>
          <p:nvSpPr>
            <p:cNvPr id="525" name=""/>
            <p:cNvSpPr/>
            <p:nvPr/>
          </p:nvSpPr>
          <p:spPr>
            <a:xfrm>
              <a:off x="998640" y="256068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47600" y="272592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09680" y="283212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70040" y="2774880"/>
            <a:ext cx="6516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91920" y="2847960"/>
            <a:ext cx="244800" cy="23112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57480" y="2832120"/>
            <a:ext cx="183816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19120" y="258120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19120" y="244152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07440" y="2300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809720" y="248904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085840" y="2409840"/>
            <a:ext cx="218880" cy="162000"/>
            <a:chOff x="2085840" y="2409840"/>
            <a:chExt cx="218880" cy="162000"/>
          </a:xfrm>
        </p:grpSpPr>
        <p:sp>
          <p:nvSpPr>
            <p:cNvPr id="536" name=""/>
            <p:cNvSpPr/>
            <p:nvPr/>
          </p:nvSpPr>
          <p:spPr>
            <a:xfrm rot="5400000">
              <a:off x="2071440" y="242424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5400000">
              <a:off x="2215800" y="244800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9960" y="220032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104840" y="3057480"/>
            <a:ext cx="1457280" cy="28584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0360" y="18828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vail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1880" y="283212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129120" y="2471400"/>
            <a:ext cx="342720" cy="733320"/>
            <a:chOff x="3129120" y="2471400"/>
            <a:chExt cx="342720" cy="733320"/>
          </a:xfrm>
        </p:grpSpPr>
        <p:sp>
          <p:nvSpPr>
            <p:cNvPr id="543" name=""/>
            <p:cNvSpPr/>
            <p:nvPr/>
          </p:nvSpPr>
          <p:spPr>
            <a:xfrm rot="16200000">
              <a:off x="2933640" y="2666520"/>
              <a:ext cx="733320" cy="342720"/>
            </a:xfrm>
            <a:custGeom>
              <a:avLst/>
              <a:gdLst>
                <a:gd name="textAreaLeft" fmla="*/ 161280 w 733320"/>
                <a:gd name="textAreaRight" fmla="*/ 572040 w 7333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42440" y="26985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2305080" y="2162160"/>
            <a:ext cx="790560" cy="333360"/>
          </a:xfrm>
          <a:custGeom>
            <a:avLst/>
            <a:gdLst/>
            <a:ahLst/>
            <a:rect l="l" t="t" r="r" b="b"/>
            <a:pathLst>
              <a:path w="498" h="210">
                <a:moveTo>
                  <a:pt x="0" y="210"/>
                </a:moveTo>
                <a:lnTo>
                  <a:pt x="396" y="210"/>
                </a:lnTo>
                <a:lnTo>
                  <a:pt x="396" y="0"/>
                </a:lnTo>
                <a:lnTo>
                  <a:pt x="498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28960" y="2305080"/>
            <a:ext cx="352440" cy="6382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5400000">
            <a:off x="3794400" y="2504160"/>
            <a:ext cx="6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3476520" y="2813040"/>
            <a:ext cx="34308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38520" y="249876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33680" y="238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86080" y="2152800"/>
            <a:ext cx="647640" cy="152280"/>
          </a:xfrm>
          <a:custGeom>
            <a:avLst/>
            <a:gdLst/>
            <a:ahLst/>
            <a:rect l="l" t="t" r="r" b="b"/>
            <a:pathLst>
              <a:path w="408" h="96">
                <a:moveTo>
                  <a:pt x="0" y="0"/>
                </a:moveTo>
                <a:lnTo>
                  <a:pt x="408" y="0"/>
                </a:lnTo>
                <a:lnTo>
                  <a:pt x="408" y="96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81400" y="2622600"/>
            <a:ext cx="466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38560" y="1695600"/>
            <a:ext cx="333360" cy="457200"/>
          </a:xfrm>
          <a:custGeom>
            <a:avLst/>
            <a:gdLst/>
            <a:ahLst/>
            <a:rect l="l" t="t" r="r" b="b"/>
            <a:pathLst>
              <a:path w="210" h="288">
                <a:moveTo>
                  <a:pt x="210" y="288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47920" y="1047600"/>
            <a:ext cx="304920" cy="514440"/>
          </a:xfrm>
          <a:custGeom>
            <a:avLst/>
            <a:gdLst/>
            <a:ahLst/>
            <a:rect l="l" t="t" r="r" b="b"/>
            <a:pathLst>
              <a:path w="198" h="930">
                <a:moveTo>
                  <a:pt x="198" y="0"/>
                </a:moveTo>
                <a:lnTo>
                  <a:pt x="198" y="930"/>
                </a:lnTo>
                <a:lnTo>
                  <a:pt x="0" y="93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2552760" y="1638360"/>
            <a:ext cx="9360" cy="1714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689120" y="283212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_in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797120" y="251784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d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87720" y="957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50960" y="14335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e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76600" y="263844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562120" y="1638360"/>
            <a:ext cx="524160" cy="9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66880" y="207648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66880" y="224784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76600" y="308628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34880" y="354168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382400" y="126540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14560" y="2209680"/>
            <a:ext cx="0" cy="352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623960" y="2381400"/>
            <a:ext cx="178920" cy="242640"/>
            <a:chOff x="1623960" y="2381400"/>
            <a:chExt cx="178920" cy="242640"/>
          </a:xfrm>
        </p:grpSpPr>
        <p:sp>
          <p:nvSpPr>
            <p:cNvPr id="569" name=""/>
            <p:cNvSpPr/>
            <p:nvPr/>
          </p:nvSpPr>
          <p:spPr>
            <a:xfrm>
              <a:off x="1623960" y="2381400"/>
              <a:ext cx="104760" cy="2426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24760" y="2381400"/>
              <a:ext cx="78120" cy="2426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949320" y="25066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46080" y="284940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1720" y="1177920"/>
            <a:ext cx="40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16200000">
            <a:off x="1568880" y="23475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90720" y="1952640"/>
            <a:ext cx="65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492880" y="2728800"/>
            <a:ext cx="67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84600" y="4280040"/>
            <a:ext cx="44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83520" y="5054760"/>
            <a:ext cx="42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86040" y="5830920"/>
            <a:ext cx="46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63480" y="1492200"/>
            <a:ext cx="63936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3. tr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0160" y="4124160"/>
            <a:ext cx="4589280" cy="1973520"/>
          </a:xfrm>
          <a:prstGeom prst="rect">
            <a:avLst/>
          </a:prstGeom>
          <a:solidFill>
            <a:srgbClr val="003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+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, true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 | vote[i]=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= 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 &amp; vote[i]=V[i]&gt;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(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, !avail[i])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j]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vote=f(V[1], V[2], V[3]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90720" y="3503520"/>
            <a:ext cx="65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091560" y="2340000"/>
            <a:ext cx="252324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3. reset | vote[i]=0 &amp; vote_in[i]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2640" y="3102120"/>
            <a:ext cx="280044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3. !reset &amp; vote[i]=V[i] &amp; vote_in[i]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90400" y="1200240"/>
            <a:ext cx="3762360" cy="27432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85800" y="2000160"/>
            <a:ext cx="1685880" cy="15336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720" y="-1944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VM Model Checking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752560" y="1305000"/>
            <a:ext cx="1486080" cy="21240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35560" y="27097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78000" y="1525680"/>
            <a:ext cx="212760" cy="250560"/>
          </a:xfrm>
          <a:custGeom>
            <a:avLst/>
            <a:gdLst>
              <a:gd name="textAreaLeft" fmla="*/ 75240 w 212760"/>
              <a:gd name="textAreaRight" fmla="*/ 144360 w 212760"/>
              <a:gd name="textAreaTop" fmla="*/ 29520 h 250560"/>
              <a:gd name="textAreaBottom" fmla="*/ 221040 h 25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29" y="2629"/>
                  <a:pt x="14657" y="5080"/>
                  <a:pt x="14657" y="10800"/>
                </a:cubicBezTo>
                <a:cubicBezTo>
                  <a:pt x="14657" y="16520"/>
                  <a:pt x="18129" y="189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3119400" y="2028960"/>
            <a:ext cx="169560" cy="271440"/>
            <a:chOff x="3119400" y="2028960"/>
            <a:chExt cx="169560" cy="271440"/>
          </a:xfrm>
        </p:grpSpPr>
        <p:sp>
          <p:nvSpPr>
            <p:cNvPr id="592" name=""/>
            <p:cNvSpPr/>
            <p:nvPr/>
          </p:nvSpPr>
          <p:spPr>
            <a:xfrm>
              <a:off x="3119400" y="2028960"/>
              <a:ext cx="99360" cy="2714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14800" y="2028960"/>
              <a:ext cx="74160" cy="2714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998640" y="2560680"/>
            <a:ext cx="249120" cy="498600"/>
            <a:chOff x="998640" y="2560680"/>
            <a:chExt cx="249120" cy="498600"/>
          </a:xfrm>
        </p:grpSpPr>
        <p:sp>
          <p:nvSpPr>
            <p:cNvPr id="595" name=""/>
            <p:cNvSpPr/>
            <p:nvPr/>
          </p:nvSpPr>
          <p:spPr>
            <a:xfrm>
              <a:off x="998640" y="2560680"/>
              <a:ext cx="249120" cy="49860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47600" y="2725920"/>
              <a:ext cx="134640" cy="15696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09680" y="2832120"/>
            <a:ext cx="581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0040" y="2774880"/>
            <a:ext cx="65160" cy="119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1920" y="2847960"/>
            <a:ext cx="244800" cy="23112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57480" y="2832120"/>
            <a:ext cx="183816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419120" y="2581200"/>
            <a:ext cx="190440" cy="238320"/>
          </a:xfrm>
          <a:custGeom>
            <a:avLst/>
            <a:gdLst/>
            <a:ahLst/>
            <a:rect l="l" t="t" r="r" b="b"/>
            <a:pathLst>
              <a:path w="120" h="150">
                <a:moveTo>
                  <a:pt x="0" y="150"/>
                </a:moveTo>
                <a:lnTo>
                  <a:pt x="0" y="0"/>
                </a:lnTo>
                <a:lnTo>
                  <a:pt x="12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419120" y="244152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07440" y="2300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809720" y="2489040"/>
            <a:ext cx="266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2085840" y="2409840"/>
            <a:ext cx="218880" cy="162000"/>
            <a:chOff x="2085840" y="2409840"/>
            <a:chExt cx="218880" cy="162000"/>
          </a:xfrm>
        </p:grpSpPr>
        <p:sp>
          <p:nvSpPr>
            <p:cNvPr id="606" name=""/>
            <p:cNvSpPr/>
            <p:nvPr/>
          </p:nvSpPr>
          <p:spPr>
            <a:xfrm rot="5400000">
              <a:off x="2071440" y="2424240"/>
              <a:ext cx="162000" cy="133200"/>
            </a:xfrm>
            <a:prstGeom prst="triangle">
              <a:avLst>
                <a:gd name="adj" fmla="val 50000"/>
              </a:avLst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5400000">
              <a:off x="2215800" y="2448000"/>
              <a:ext cx="88920" cy="88560"/>
            </a:xfrm>
            <a:prstGeom prst="ellipse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99960" y="2200320"/>
            <a:ext cx="1514520" cy="276120"/>
          </a:xfrm>
          <a:custGeom>
            <a:avLst/>
            <a:gdLst/>
            <a:ahLst/>
            <a:rect l="l" t="t" r="r" b="b"/>
            <a:pathLst>
              <a:path w="924" h="168">
                <a:moveTo>
                  <a:pt x="924" y="168"/>
                </a:move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04840" y="3057480"/>
            <a:ext cx="1457280" cy="285840"/>
          </a:xfrm>
          <a:custGeom>
            <a:avLst/>
            <a:gdLst/>
            <a:ahLst/>
            <a:rect l="l" t="t" r="r" b="b"/>
            <a:pathLst>
              <a:path w="804" h="180">
                <a:moveTo>
                  <a:pt x="804" y="180"/>
                </a:moveTo>
                <a:lnTo>
                  <a:pt x="0" y="18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0360" y="18828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vail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1880" y="283212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129120" y="2471400"/>
            <a:ext cx="342720" cy="733320"/>
            <a:chOff x="3129120" y="2471400"/>
            <a:chExt cx="342720" cy="733320"/>
          </a:xfrm>
        </p:grpSpPr>
        <p:sp>
          <p:nvSpPr>
            <p:cNvPr id="613" name=""/>
            <p:cNvSpPr/>
            <p:nvPr/>
          </p:nvSpPr>
          <p:spPr>
            <a:xfrm rot="16200000">
              <a:off x="2933640" y="2666520"/>
              <a:ext cx="733320" cy="342720"/>
            </a:xfrm>
            <a:custGeom>
              <a:avLst/>
              <a:gdLst>
                <a:gd name="textAreaLeft" fmla="*/ 161280 w 733320"/>
                <a:gd name="textAreaRight" fmla="*/ 572040 w 733320"/>
                <a:gd name="textAreaTop" fmla="*/ 75240 h 342720"/>
                <a:gd name="textAreaBottom" fmla="*/ 2674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142440" y="26985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305080" y="2162160"/>
            <a:ext cx="790560" cy="333360"/>
          </a:xfrm>
          <a:custGeom>
            <a:avLst/>
            <a:gdLst/>
            <a:ahLst/>
            <a:rect l="l" t="t" r="r" b="b"/>
            <a:pathLst>
              <a:path w="498" h="210">
                <a:moveTo>
                  <a:pt x="0" y="210"/>
                </a:moveTo>
                <a:lnTo>
                  <a:pt x="396" y="210"/>
                </a:lnTo>
                <a:lnTo>
                  <a:pt x="396" y="0"/>
                </a:lnTo>
                <a:lnTo>
                  <a:pt x="498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28960" y="2305080"/>
            <a:ext cx="352440" cy="6382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5400000">
            <a:off x="3794400" y="2504160"/>
            <a:ext cx="6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3476520" y="2813040"/>
            <a:ext cx="343080" cy="9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38520" y="2498760"/>
            <a:ext cx="1810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33680" y="2382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86080" y="2152800"/>
            <a:ext cx="647640" cy="152280"/>
          </a:xfrm>
          <a:custGeom>
            <a:avLst/>
            <a:gdLst/>
            <a:ahLst/>
            <a:rect l="l" t="t" r="r" b="b"/>
            <a:pathLst>
              <a:path w="408" h="96">
                <a:moveTo>
                  <a:pt x="0" y="0"/>
                </a:moveTo>
                <a:lnTo>
                  <a:pt x="408" y="0"/>
                </a:lnTo>
                <a:lnTo>
                  <a:pt x="408" y="96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81400" y="2622600"/>
            <a:ext cx="466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38560" y="1695600"/>
            <a:ext cx="333360" cy="457200"/>
          </a:xfrm>
          <a:custGeom>
            <a:avLst/>
            <a:gdLst/>
            <a:ahLst/>
            <a:rect l="l" t="t" r="r" b="b"/>
            <a:pathLst>
              <a:path w="210" h="288">
                <a:moveTo>
                  <a:pt x="210" y="288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solidFill>
            <a:srgbClr val="0034ff"/>
          </a:solidFill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47920" y="1047600"/>
            <a:ext cx="304920" cy="514440"/>
          </a:xfrm>
          <a:custGeom>
            <a:avLst/>
            <a:gdLst/>
            <a:ahLst/>
            <a:rect l="l" t="t" r="r" b="b"/>
            <a:pathLst>
              <a:path w="198" h="930">
                <a:moveTo>
                  <a:pt x="198" y="0"/>
                </a:moveTo>
                <a:lnTo>
                  <a:pt x="198" y="930"/>
                </a:lnTo>
                <a:lnTo>
                  <a:pt x="0" y="93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2552760" y="1638360"/>
            <a:ext cx="9360" cy="1714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89120" y="283212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_in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97120" y="251784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d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87720" y="957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50960" y="143352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e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76600" y="263844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562120" y="1638360"/>
            <a:ext cx="524160" cy="9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66880" y="207648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66880" y="2247840"/>
            <a:ext cx="428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76600" y="3086280"/>
            <a:ext cx="428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334880" y="354168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382400" y="1265400"/>
            <a:ext cx="702000" cy="368280"/>
          </a:xfrm>
          <a:prstGeom prst="rect">
            <a:avLst/>
          </a:prstGeom>
          <a:solidFill>
            <a:srgbClr val="003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14560" y="2209680"/>
            <a:ext cx="0" cy="352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623960" y="2381400"/>
            <a:ext cx="178920" cy="242640"/>
            <a:chOff x="1623960" y="2381400"/>
            <a:chExt cx="178920" cy="242640"/>
          </a:xfrm>
        </p:grpSpPr>
        <p:sp>
          <p:nvSpPr>
            <p:cNvPr id="639" name=""/>
            <p:cNvSpPr/>
            <p:nvPr/>
          </p:nvSpPr>
          <p:spPr>
            <a:xfrm>
              <a:off x="1623960" y="2381400"/>
              <a:ext cx="104760" cy="24264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5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08" y="177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24760" y="2381400"/>
              <a:ext cx="78120" cy="24264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0" y="0"/>
                  </a:moveTo>
                  <a:cubicBezTo>
                    <a:pt x="36" y="9"/>
                    <a:pt x="73" y="19"/>
                    <a:pt x="87" y="39"/>
                  </a:cubicBezTo>
                  <a:cubicBezTo>
                    <a:pt x="101" y="59"/>
                    <a:pt x="101" y="100"/>
                    <a:pt x="87" y="123"/>
                  </a:cubicBezTo>
                  <a:cubicBezTo>
                    <a:pt x="73" y="146"/>
                    <a:pt x="38" y="161"/>
                    <a:pt x="3" y="177"/>
                  </a:cubicBez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949320" y="250668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46080" y="284940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81720" y="1177920"/>
            <a:ext cx="40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1568880" y="23475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90720" y="1952640"/>
            <a:ext cx="65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92880" y="2728800"/>
            <a:ext cx="67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84600" y="4280040"/>
            <a:ext cx="44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83520" y="5054760"/>
            <a:ext cx="429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86040" y="5830920"/>
            <a:ext cx="462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63840" y="1492200"/>
            <a:ext cx="46872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0160" y="4124160"/>
            <a:ext cx="4589280" cy="1973520"/>
          </a:xfrm>
          <a:prstGeom prst="rect">
            <a:avLst/>
          </a:prstGeom>
          <a:solidFill>
            <a:srgbClr val="003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+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tru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ni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, true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reset | vote[i]=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= 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 &amp; vote[i]=V[i]&gt;0, avail[i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187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  =  (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!reset, !avail[i])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wai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rea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=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ing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j]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)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>
              <a:lnSpc>
                <a:spcPct val="95000"/>
              </a:lnSpc>
              <a:spcBef>
                <a:spcPts val="4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out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=  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pol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true, vote=f(V[1], V[2], V[3])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90720" y="3503520"/>
            <a:ext cx="65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vote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90480" y="2340000"/>
            <a:ext cx="235260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reset | vote[i]=0 &amp; vote_in[i]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3000" y="3102120"/>
            <a:ext cx="262980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!reset &amp; vote[i]=V[i] &amp; vote_in[i]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5520" y="3929040"/>
            <a:ext cx="261720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!reset &amp; vote_in[i]=V[i] &amp; </a:t>
            </a: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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j. … …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93720" y="4672080"/>
            <a:ext cx="253836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reset | </a:t>
            </a: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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i.vote[i]=0 &amp; vote_in[i]=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0" y="5415120"/>
            <a:ext cx="3010680" cy="45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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i.!reset &amp; vote[i]=V[i] &amp; vote_in[i]=0 &amp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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j</a:t>
            </a: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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i.(vote[j]=V[j] | vote_in[j]=V[j]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04520" y="6281640"/>
            <a:ext cx="1386360" cy="276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bebe8"/>
                </a:solidFill>
                <a:latin typeface="Symbol"/>
                <a:ea typeface="Symbol"/>
              </a:rPr>
              <a:t></a:t>
            </a:r>
            <a:r>
              <a:rPr b="1" lang="en-US" sz="1200" spc="-1" strike="noStrike">
                <a:solidFill>
                  <a:srgbClr val="7bebe8"/>
                </a:solidFill>
                <a:latin typeface="Arial"/>
              </a:rPr>
              <a:t>i.vote_in[i]=V[i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Brief Discussions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76040" y="1294920"/>
            <a:ext cx="78375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GSTE is approx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nd but not comple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nded quaternary model abstraction (FMCAD 200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straction refin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l refinement vs spec. refinement (FMCAD 200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al product construction on specifications (serializat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vantages over assume-guarantee based compos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re specification, implementation independ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uted “intermediate assumptions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less sensitive to implementation chang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Ex: Implementation Change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756400" y="1495440"/>
            <a:ext cx="2711160" cy="28098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696000" y="1609560"/>
            <a:ext cx="1676520" cy="249588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27680" y="2546280"/>
            <a:ext cx="682560" cy="1008000"/>
          </a:xfrm>
          <a:prstGeom prst="rect">
            <a:avLst/>
          </a:prstGeom>
          <a:solidFill>
            <a:srgbClr val="0034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559480" y="3086280"/>
            <a:ext cx="403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676840" y="3036960"/>
            <a:ext cx="54000" cy="10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94760" y="3112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95880" y="278136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te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5965920" y="2770200"/>
            <a:ext cx="259560" cy="642960"/>
            <a:chOff x="5965920" y="2770200"/>
            <a:chExt cx="259560" cy="642960"/>
          </a:xfrm>
        </p:grpSpPr>
        <p:sp>
          <p:nvSpPr>
            <p:cNvPr id="670" name=""/>
            <p:cNvSpPr/>
            <p:nvPr/>
          </p:nvSpPr>
          <p:spPr>
            <a:xfrm>
              <a:off x="5965920" y="2770200"/>
              <a:ext cx="258480" cy="642960"/>
            </a:xfrm>
            <a:prstGeom prst="rect">
              <a:avLst/>
            </a:pr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5400000">
              <a:off x="5790240" y="2967120"/>
              <a:ext cx="62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co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6235560" y="3143160"/>
            <a:ext cx="84168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243480" y="2752560"/>
            <a:ext cx="833760" cy="247680"/>
          </a:xfrm>
          <a:custGeom>
            <a:avLst/>
            <a:gdLst/>
            <a:ahLst/>
            <a:rect l="l" t="t" r="r" b="b"/>
            <a:pathLst>
              <a:path w="1050" h="180">
                <a:moveTo>
                  <a:pt x="0" y="180"/>
                </a:moveTo>
                <a:lnTo>
                  <a:pt x="882" y="180"/>
                </a:lnTo>
                <a:lnTo>
                  <a:pt x="882" y="0"/>
                </a:lnTo>
                <a:lnTo>
                  <a:pt x="105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6235560" y="3298680"/>
            <a:ext cx="849600" cy="255600"/>
          </a:xfrm>
          <a:custGeom>
            <a:avLst/>
            <a:gdLst/>
            <a:ahLst/>
            <a:rect l="l" t="t" r="r" b="b"/>
            <a:pathLst>
              <a:path w="1050" h="180">
                <a:moveTo>
                  <a:pt x="0" y="180"/>
                </a:moveTo>
                <a:lnTo>
                  <a:pt x="882" y="180"/>
                </a:lnTo>
                <a:lnTo>
                  <a:pt x="882" y="0"/>
                </a:lnTo>
                <a:lnTo>
                  <a:pt x="105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7083360" y="2090880"/>
            <a:ext cx="204840" cy="1720440"/>
            <a:chOff x="7083360" y="2090880"/>
            <a:chExt cx="204840" cy="1720440"/>
          </a:xfrm>
        </p:grpSpPr>
        <p:grpSp>
          <p:nvGrpSpPr>
            <p:cNvPr id="676" name=""/>
            <p:cNvGrpSpPr/>
            <p:nvPr/>
          </p:nvGrpSpPr>
          <p:grpSpPr>
            <a:xfrm>
              <a:off x="7083360" y="2520360"/>
              <a:ext cx="204840" cy="432360"/>
              <a:chOff x="7083360" y="2520360"/>
              <a:chExt cx="204840" cy="432360"/>
            </a:xfrm>
          </p:grpSpPr>
          <p:sp>
            <p:nvSpPr>
              <p:cNvPr id="677" name=""/>
              <p:cNvSpPr/>
              <p:nvPr/>
            </p:nvSpPr>
            <p:spPr>
              <a:xfrm>
                <a:off x="7083360" y="2520360"/>
                <a:ext cx="204840" cy="432360"/>
              </a:xfrm>
              <a:prstGeom prst="rect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123680" y="2663640"/>
                <a:ext cx="110520" cy="13608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7083360" y="3379320"/>
              <a:ext cx="204840" cy="432000"/>
              <a:chOff x="7083360" y="3379320"/>
              <a:chExt cx="204840" cy="432000"/>
            </a:xfrm>
          </p:grpSpPr>
          <p:sp>
            <p:nvSpPr>
              <p:cNvPr id="680" name=""/>
              <p:cNvSpPr/>
              <p:nvPr/>
            </p:nvSpPr>
            <p:spPr>
              <a:xfrm>
                <a:off x="7083360" y="3379320"/>
                <a:ext cx="204840" cy="432000"/>
              </a:xfrm>
              <a:prstGeom prst="rect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123680" y="3522240"/>
                <a:ext cx="110520" cy="13572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7083360" y="2949840"/>
              <a:ext cx="204840" cy="432000"/>
              <a:chOff x="7083360" y="2949840"/>
              <a:chExt cx="204840" cy="432000"/>
            </a:xfrm>
          </p:grpSpPr>
          <p:sp>
            <p:nvSpPr>
              <p:cNvPr id="683" name=""/>
              <p:cNvSpPr/>
              <p:nvPr/>
            </p:nvSpPr>
            <p:spPr>
              <a:xfrm>
                <a:off x="7083360" y="2949840"/>
                <a:ext cx="204840" cy="432000"/>
              </a:xfrm>
              <a:prstGeom prst="rect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123680" y="3092760"/>
                <a:ext cx="110520" cy="13572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7083360" y="2090880"/>
              <a:ext cx="204840" cy="432360"/>
              <a:chOff x="7083360" y="2090880"/>
              <a:chExt cx="204840" cy="432360"/>
            </a:xfrm>
          </p:grpSpPr>
          <p:sp>
            <p:nvSpPr>
              <p:cNvPr id="686" name=""/>
              <p:cNvSpPr/>
              <p:nvPr/>
            </p:nvSpPr>
            <p:spPr>
              <a:xfrm>
                <a:off x="7083360" y="2090880"/>
                <a:ext cx="204840" cy="432360"/>
              </a:xfrm>
              <a:prstGeom prst="rect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23680" y="2234160"/>
                <a:ext cx="110520" cy="13608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"/>
          <p:cNvSpPr/>
          <p:nvPr/>
        </p:nvSpPr>
        <p:spPr>
          <a:xfrm>
            <a:off x="6235560" y="2347920"/>
            <a:ext cx="833400" cy="528480"/>
          </a:xfrm>
          <a:custGeom>
            <a:avLst/>
            <a:gdLst/>
            <a:ahLst/>
            <a:rect l="l" t="t" r="r" b="b"/>
            <a:pathLst>
              <a:path w="1032" h="384">
                <a:moveTo>
                  <a:pt x="0" y="384"/>
                </a:moveTo>
                <a:lnTo>
                  <a:pt x="738" y="384"/>
                </a:lnTo>
                <a:lnTo>
                  <a:pt x="738" y="0"/>
                </a:lnTo>
                <a:lnTo>
                  <a:pt x="1032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226200" y="269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34120" y="2847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234120" y="298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232320" y="3119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241040" y="208584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 bund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88200" y="2314440"/>
            <a:ext cx="336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296120" y="2728800"/>
            <a:ext cx="3556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7296120" y="3131640"/>
            <a:ext cx="36504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296120" y="3554280"/>
            <a:ext cx="3556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81760" y="2224080"/>
            <a:ext cx="195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86440" y="2448000"/>
            <a:ext cx="1987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867360" y="2644560"/>
            <a:ext cx="217800" cy="1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6880320" y="2847600"/>
            <a:ext cx="196920" cy="1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153720" y="1278000"/>
            <a:ext cx="4794120" cy="2986200"/>
            <a:chOff x="153720" y="1278000"/>
            <a:chExt cx="4794120" cy="2986200"/>
          </a:xfrm>
        </p:grpSpPr>
        <p:sp>
          <p:nvSpPr>
            <p:cNvPr id="703" name=""/>
            <p:cNvSpPr/>
            <p:nvPr/>
          </p:nvSpPr>
          <p:spPr>
            <a:xfrm>
              <a:off x="653760" y="1521000"/>
              <a:ext cx="3762360" cy="2743200"/>
            </a:xfrm>
            <a:prstGeom prst="rect">
              <a:avLst/>
            </a:prstGeom>
            <a:solidFill>
              <a:srgbClr val="0034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9160" y="2320920"/>
              <a:ext cx="1685880" cy="1533600"/>
            </a:xfrm>
            <a:prstGeom prst="rect">
              <a:avLst/>
            </a:prstGeom>
            <a:solidFill>
              <a:srgbClr val="0034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15920" y="1625760"/>
              <a:ext cx="1486080" cy="2124000"/>
            </a:xfrm>
            <a:prstGeom prst="rect">
              <a:avLst/>
            </a:prstGeom>
            <a:solidFill>
              <a:srgbClr val="0034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98920" y="303048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ou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41360" y="1846440"/>
              <a:ext cx="212760" cy="250560"/>
            </a:xfrm>
            <a:custGeom>
              <a:avLst/>
              <a:gdLst>
                <a:gd name="textAreaLeft" fmla="*/ 75240 w 212760"/>
                <a:gd name="textAreaRight" fmla="*/ 144360 w 212760"/>
                <a:gd name="textAreaTop" fmla="*/ 29520 h 250560"/>
                <a:gd name="textAreaBottom" fmla="*/ 22104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129" y="2629"/>
                    <a:pt x="14657" y="5080"/>
                    <a:pt x="14657" y="10800"/>
                  </a:cubicBezTo>
                  <a:cubicBezTo>
                    <a:pt x="14657" y="16520"/>
                    <a:pt x="18129" y="189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3182760" y="2349720"/>
              <a:ext cx="169560" cy="271440"/>
              <a:chOff x="3182760" y="2349720"/>
              <a:chExt cx="169560" cy="271440"/>
            </a:xfrm>
          </p:grpSpPr>
          <p:sp>
            <p:nvSpPr>
              <p:cNvPr id="709" name=""/>
              <p:cNvSpPr/>
              <p:nvPr/>
            </p:nvSpPr>
            <p:spPr>
              <a:xfrm>
                <a:off x="3182760" y="2349720"/>
                <a:ext cx="99360" cy="271440"/>
              </a:xfrm>
              <a:custGeom>
                <a:avLst/>
                <a:gdLst/>
                <a:ahLst/>
                <a:rect l="l" t="t" r="r" b="b"/>
                <a:pathLst>
                  <a:path w="108" h="177">
                    <a:moveTo>
                      <a:pt x="105" y="0"/>
                    </a:moveTo>
                    <a:lnTo>
                      <a:pt x="0" y="0"/>
                    </a:lnTo>
                    <a:lnTo>
                      <a:pt x="0" y="177"/>
                    </a:lnTo>
                    <a:lnTo>
                      <a:pt x="108" y="177"/>
                    </a:lnTo>
                  </a:path>
                </a:pathLst>
              </a:custGeom>
              <a:solidFill>
                <a:srgbClr val="0034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278160" y="2349720"/>
                <a:ext cx="74160" cy="271440"/>
              </a:xfrm>
              <a:custGeom>
                <a:avLst/>
                <a:gdLst/>
                <a:ahLst/>
                <a:rect l="l" t="t" r="r" b="b"/>
                <a:pathLst>
                  <a:path w="101" h="177">
                    <a:moveTo>
                      <a:pt x="0" y="0"/>
                    </a:moveTo>
                    <a:cubicBezTo>
                      <a:pt x="36" y="9"/>
                      <a:pt x="73" y="19"/>
                      <a:pt x="87" y="39"/>
                    </a:cubicBezTo>
                    <a:cubicBezTo>
                      <a:pt x="101" y="59"/>
                      <a:pt x="101" y="100"/>
                      <a:pt x="87" y="123"/>
                    </a:cubicBezTo>
                    <a:cubicBezTo>
                      <a:pt x="73" y="146"/>
                      <a:pt x="38" y="161"/>
                      <a:pt x="3" y="177"/>
                    </a:cubicBezTo>
                  </a:path>
                </a:pathLst>
              </a:custGeom>
              <a:solidFill>
                <a:srgbClr val="0034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062000" y="2881440"/>
              <a:ext cx="249120" cy="498600"/>
              <a:chOff x="1062000" y="2881440"/>
              <a:chExt cx="249120" cy="498600"/>
            </a:xfrm>
          </p:grpSpPr>
          <p:sp>
            <p:nvSpPr>
              <p:cNvPr id="712" name=""/>
              <p:cNvSpPr/>
              <p:nvPr/>
            </p:nvSpPr>
            <p:spPr>
              <a:xfrm>
                <a:off x="1062000" y="2881440"/>
                <a:ext cx="249120" cy="498600"/>
              </a:xfrm>
              <a:prstGeom prst="rect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110960" y="3046680"/>
                <a:ext cx="134640" cy="15696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473040" y="3152880"/>
              <a:ext cx="581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33400" y="3095640"/>
              <a:ext cx="65160" cy="119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55280" y="3168720"/>
              <a:ext cx="244800" cy="231120"/>
            </a:xfrm>
            <a:prstGeom prst="rect">
              <a:avLst/>
            </a:prstGeom>
            <a:solidFill>
              <a:srgbClr val="003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20840" y="3152880"/>
              <a:ext cx="1838160" cy="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82480" y="2901960"/>
              <a:ext cx="190440" cy="23832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0" y="150"/>
                  </a:moveTo>
                  <a:lnTo>
                    <a:pt x="0" y="0"/>
                  </a:lnTo>
                  <a:lnTo>
                    <a:pt x="120" y="0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82480" y="2762280"/>
              <a:ext cx="181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270800" y="2621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73080" y="2809800"/>
              <a:ext cx="266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2149200" y="2730600"/>
              <a:ext cx="218880" cy="162000"/>
              <a:chOff x="2149200" y="2730600"/>
              <a:chExt cx="218880" cy="162000"/>
            </a:xfrm>
          </p:grpSpPr>
          <p:sp>
            <p:nvSpPr>
              <p:cNvPr id="723" name=""/>
              <p:cNvSpPr/>
              <p:nvPr/>
            </p:nvSpPr>
            <p:spPr>
              <a:xfrm rot="5400000">
                <a:off x="2134800" y="2745000"/>
                <a:ext cx="162000" cy="133200"/>
              </a:xfrm>
              <a:prstGeom prst="triangle">
                <a:avLst>
                  <a:gd name="adj" fmla="val 50000"/>
                </a:avLst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5400000">
                <a:off x="2279160" y="2768760"/>
                <a:ext cx="88920" cy="88560"/>
              </a:xfrm>
              <a:prstGeom prst="ellipse">
                <a:avLst/>
              </a:prstGeom>
              <a:solidFill>
                <a:srgbClr val="0034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463320" y="2521080"/>
              <a:ext cx="1514520" cy="276120"/>
            </a:xfrm>
            <a:custGeom>
              <a:avLst/>
              <a:gdLst/>
              <a:ahLst/>
              <a:rect l="l" t="t" r="r" b="b"/>
              <a:pathLst>
                <a:path w="924" h="168">
                  <a:moveTo>
                    <a:pt x="924" y="168"/>
                  </a:moveTo>
                  <a:lnTo>
                    <a:pt x="924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168200" y="3378240"/>
              <a:ext cx="1457280" cy="285840"/>
            </a:xfrm>
            <a:custGeom>
              <a:avLst/>
              <a:gdLst/>
              <a:ahLst/>
              <a:rect l="l" t="t" r="r" b="b"/>
              <a:pathLst>
                <a:path w="804" h="180">
                  <a:moveTo>
                    <a:pt x="804" y="180"/>
                  </a:moveTo>
                  <a:lnTo>
                    <a:pt x="0" y="18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3720" y="220356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vail[i]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5240" y="31528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ote[i]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3192480" y="2792160"/>
              <a:ext cx="342720" cy="733320"/>
              <a:chOff x="3192480" y="2792160"/>
              <a:chExt cx="342720" cy="733320"/>
            </a:xfrm>
          </p:grpSpPr>
          <p:sp>
            <p:nvSpPr>
              <p:cNvPr id="730" name=""/>
              <p:cNvSpPr/>
              <p:nvPr/>
            </p:nvSpPr>
            <p:spPr>
              <a:xfrm rot="16200000">
                <a:off x="2997000" y="2987280"/>
                <a:ext cx="733320" cy="342720"/>
              </a:xfrm>
              <a:custGeom>
                <a:avLst/>
                <a:gdLst>
                  <a:gd name="textAreaLeft" fmla="*/ 161280 w 733320"/>
                  <a:gd name="textAreaRight" fmla="*/ 572040 w 733320"/>
                  <a:gd name="textAreaTop" fmla="*/ 75240 h 342720"/>
                  <a:gd name="textAreaBottom" fmla="*/ 267480 h 34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205800" y="301932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2368440" y="2482920"/>
              <a:ext cx="790560" cy="333360"/>
            </a:xfrm>
            <a:custGeom>
              <a:avLst/>
              <a:gdLst/>
              <a:ahLst/>
              <a:rect l="l" t="t" r="r" b="b"/>
              <a:pathLst>
                <a:path w="498" h="210">
                  <a:moveTo>
                    <a:pt x="0" y="210"/>
                  </a:moveTo>
                  <a:lnTo>
                    <a:pt x="396" y="210"/>
                  </a:lnTo>
                  <a:lnTo>
                    <a:pt x="396" y="0"/>
                  </a:lnTo>
                  <a:lnTo>
                    <a:pt x="498" y="0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92320" y="2625840"/>
              <a:ext cx="352440" cy="638280"/>
            </a:xfrm>
            <a:prstGeom prst="rect">
              <a:avLst/>
            </a:prstGeom>
            <a:solidFill>
              <a:srgbClr val="0034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5400000">
              <a:off x="3857760" y="2824920"/>
              <a:ext cx="62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3539880" y="3133800"/>
              <a:ext cx="343080" cy="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01880" y="2819520"/>
              <a:ext cx="181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97040" y="27036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49440" y="2473560"/>
              <a:ext cx="647640" cy="152280"/>
            </a:xfrm>
            <a:custGeom>
              <a:avLst/>
              <a:gdLst/>
              <a:ahLst/>
              <a:rect l="l" t="t" r="r" b="b"/>
              <a:pathLst>
                <a:path w="408" h="96">
                  <a:moveTo>
                    <a:pt x="0" y="0"/>
                  </a:moveTo>
                  <a:lnTo>
                    <a:pt x="408" y="0"/>
                  </a:lnTo>
                  <a:lnTo>
                    <a:pt x="408" y="96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44760" y="2943360"/>
              <a:ext cx="466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301920" y="2016360"/>
              <a:ext cx="333360" cy="457200"/>
            </a:xfrm>
            <a:custGeom>
              <a:avLst/>
              <a:gdLst/>
              <a:ahLst/>
              <a:rect l="l" t="t" r="r" b="b"/>
              <a:pathLst>
                <a:path w="210" h="288">
                  <a:moveTo>
                    <a:pt x="210" y="288"/>
                  </a:moveTo>
                  <a:lnTo>
                    <a:pt x="210" y="0"/>
                  </a:lnTo>
                  <a:lnTo>
                    <a:pt x="0" y="0"/>
                  </a:lnTo>
                </a:path>
              </a:pathLst>
            </a:custGeom>
            <a:solidFill>
              <a:srgbClr val="0034ff"/>
            </a:solidFill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311280" y="1368360"/>
              <a:ext cx="304920" cy="514440"/>
            </a:xfrm>
            <a:custGeom>
              <a:avLst/>
              <a:gdLst/>
              <a:ahLst/>
              <a:rect l="l" t="t" r="r" b="b"/>
              <a:pathLst>
                <a:path w="198" h="930">
                  <a:moveTo>
                    <a:pt x="198" y="0"/>
                  </a:moveTo>
                  <a:lnTo>
                    <a:pt x="198" y="930"/>
                  </a:lnTo>
                  <a:lnTo>
                    <a:pt x="0" y="93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2616120" y="1959120"/>
              <a:ext cx="9360" cy="1714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752480" y="3152880"/>
              <a:ext cx="74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ote_in[i]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60480" y="2838600"/>
              <a:ext cx="63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oted[i]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51080" y="12780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14320" y="175428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lea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39960" y="2959200"/>
              <a:ext cx="428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2625480" y="1959120"/>
              <a:ext cx="524160" cy="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30240" y="2397240"/>
              <a:ext cx="428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30240" y="2568600"/>
              <a:ext cx="428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39960" y="3407040"/>
              <a:ext cx="428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98240" y="3862440"/>
              <a:ext cx="702000" cy="368280"/>
            </a:xfrm>
            <a:prstGeom prst="rect">
              <a:avLst/>
            </a:prstGeom>
            <a:solidFill>
              <a:srgbClr val="003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 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45760" y="1586160"/>
              <a:ext cx="702000" cy="368280"/>
            </a:xfrm>
            <a:prstGeom prst="rect">
              <a:avLst/>
            </a:prstGeom>
            <a:solidFill>
              <a:srgbClr val="003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 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77920" y="2530440"/>
              <a:ext cx="0" cy="352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1687320" y="2702160"/>
              <a:ext cx="178920" cy="242640"/>
              <a:chOff x="1687320" y="2702160"/>
              <a:chExt cx="178920" cy="242640"/>
            </a:xfrm>
          </p:grpSpPr>
          <p:sp>
            <p:nvSpPr>
              <p:cNvPr id="756" name=""/>
              <p:cNvSpPr/>
              <p:nvPr/>
            </p:nvSpPr>
            <p:spPr>
              <a:xfrm>
                <a:off x="1687320" y="2702160"/>
                <a:ext cx="104760" cy="242640"/>
              </a:xfrm>
              <a:custGeom>
                <a:avLst/>
                <a:gdLst/>
                <a:ahLst/>
                <a:rect l="l" t="t" r="r" b="b"/>
                <a:pathLst>
                  <a:path w="108" h="177">
                    <a:moveTo>
                      <a:pt x="105" y="0"/>
                    </a:moveTo>
                    <a:lnTo>
                      <a:pt x="0" y="0"/>
                    </a:lnTo>
                    <a:lnTo>
                      <a:pt x="0" y="177"/>
                    </a:lnTo>
                    <a:lnTo>
                      <a:pt x="108" y="177"/>
                    </a:lnTo>
                  </a:path>
                </a:pathLst>
              </a:custGeom>
              <a:solidFill>
                <a:srgbClr val="0034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788120" y="2702160"/>
                <a:ext cx="78120" cy="242640"/>
              </a:xfrm>
              <a:custGeom>
                <a:avLst/>
                <a:gdLst/>
                <a:ahLst/>
                <a:rect l="l" t="t" r="r" b="b"/>
                <a:pathLst>
                  <a:path w="101" h="177">
                    <a:moveTo>
                      <a:pt x="0" y="0"/>
                    </a:moveTo>
                    <a:cubicBezTo>
                      <a:pt x="36" y="9"/>
                      <a:pt x="73" y="19"/>
                      <a:pt x="87" y="39"/>
                    </a:cubicBezTo>
                    <a:cubicBezTo>
                      <a:pt x="101" y="59"/>
                      <a:pt x="101" y="100"/>
                      <a:pt x="87" y="123"/>
                    </a:cubicBezTo>
                    <a:cubicBezTo>
                      <a:pt x="73" y="146"/>
                      <a:pt x="38" y="161"/>
                      <a:pt x="3" y="177"/>
                    </a:cubicBezTo>
                  </a:path>
                </a:pathLst>
              </a:custGeom>
              <a:solidFill>
                <a:srgbClr val="0034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1012680" y="2827440"/>
              <a:ext cx="32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09440" y="317016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l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1632240" y="26683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5945040" y="14940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002280" y="3770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rot="5400000">
            <a:off x="7800480" y="27604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241040" y="251460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 bund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241040" y="293364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 bund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250400" y="334332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3 bund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05920" y="2938320"/>
            <a:ext cx="3553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539200" y="26020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6858000" y="3053880"/>
            <a:ext cx="217440" cy="1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6858000" y="3234960"/>
            <a:ext cx="217440" cy="1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6858000" y="3454560"/>
            <a:ext cx="217440" cy="18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858000" y="3625560"/>
            <a:ext cx="217440" cy="1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75560" y="1336680"/>
            <a:ext cx="0" cy="336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07200" y="12398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5516280" y="1981080"/>
            <a:ext cx="13366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167080" y="203976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vail[i]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76920" y="2638440"/>
            <a:ext cx="237960" cy="447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466640" y="4524120"/>
            <a:ext cx="6303960" cy="19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0">
              <a:lnSpc>
                <a:spcPct val="9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ume-guarantee based com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-partition the model, re-specify interface assumptio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-run model chec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GS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cification unchanged, only re-run model chec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23480" y="75960"/>
            <a:ext cx="794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b605"/>
                </a:solidFill>
                <a:latin typeface="Arial"/>
              </a:rPr>
              <a:t>Industrial Ex.: Resource Scheduler</a:t>
            </a:r>
            <a:endParaRPr b="1" lang="en-US" sz="36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47880" y="4591080"/>
            <a:ext cx="76356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atio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n resource is available (avail = 1), schedule the oldest ready uo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ing 10 uops at a time, &gt;1k state elements, &gt;17000 g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ority matrix, CAM, decision logic, power-saving feature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1926720" y="1265400"/>
            <a:ext cx="4955040" cy="3162960"/>
            <a:chOff x="1926720" y="1265400"/>
            <a:chExt cx="4955040" cy="3162960"/>
          </a:xfrm>
        </p:grpSpPr>
        <p:sp>
          <p:nvSpPr>
            <p:cNvPr id="782" name=""/>
            <p:cNvSpPr/>
            <p:nvPr/>
          </p:nvSpPr>
          <p:spPr>
            <a:xfrm>
              <a:off x="3539880" y="1387440"/>
              <a:ext cx="1003320" cy="10843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539880" y="193068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39880" y="179388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39880" y="165888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39880" y="152424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539880" y="206532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539880" y="220032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39880" y="2336760"/>
              <a:ext cx="100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04840" y="1806120"/>
              <a:ext cx="468720" cy="223200"/>
            </a:xfrm>
            <a:prstGeom prst="rect">
              <a:avLst/>
            </a:prstGeom>
            <a:solidFill>
              <a:srgbClr val="0034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A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60720" y="1387440"/>
              <a:ext cx="239400" cy="10843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5400000">
              <a:off x="2655360" y="1816560"/>
              <a:ext cx="10663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 logi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00120" y="1433520"/>
              <a:ext cx="239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00120" y="2381400"/>
              <a:ext cx="239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3395520" y="1771920"/>
              <a:ext cx="52560" cy="248760"/>
              <a:chOff x="3395520" y="1771920"/>
              <a:chExt cx="52560" cy="248760"/>
            </a:xfrm>
          </p:grpSpPr>
          <p:sp>
            <p:nvSpPr>
              <p:cNvPr id="796" name=""/>
              <p:cNvSpPr/>
              <p:nvPr/>
            </p:nvSpPr>
            <p:spPr>
              <a:xfrm rot="5400000">
                <a:off x="3397320" y="1770120"/>
                <a:ext cx="48960" cy="5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280" bIns="-8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5400000">
                <a:off x="3397320" y="1869840"/>
                <a:ext cx="48600" cy="5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280" bIns="-8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5400000">
                <a:off x="3397320" y="1969920"/>
                <a:ext cx="48600" cy="5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280" bIns="-8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>
              <a:off x="5308560" y="1387440"/>
              <a:ext cx="239760" cy="10843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35280" y="3691080"/>
              <a:ext cx="1004760" cy="407880"/>
            </a:xfrm>
            <a:prstGeom prst="rect">
              <a:avLst/>
            </a:prstGeom>
            <a:solidFill>
              <a:srgbClr val="ff33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641760" y="3790800"/>
              <a:ext cx="10310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iority matrix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52760" y="2652840"/>
              <a:ext cx="287280" cy="9493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5400000">
              <a:off x="4077360" y="3020760"/>
              <a:ext cx="84816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ady logi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5400000">
              <a:off x="3501000" y="2831760"/>
              <a:ext cx="83772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aging an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CAM match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00440" y="2652840"/>
              <a:ext cx="412560" cy="7221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747960" y="2471760"/>
              <a:ext cx="0" cy="18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987720" y="2471760"/>
              <a:ext cx="0" cy="18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3797280" y="2517840"/>
              <a:ext cx="142920" cy="44640"/>
              <a:chOff x="3797280" y="2517840"/>
              <a:chExt cx="142920" cy="44640"/>
            </a:xfrm>
          </p:grpSpPr>
          <p:sp>
            <p:nvSpPr>
              <p:cNvPr id="809" name=""/>
              <p:cNvSpPr/>
              <p:nvPr/>
            </p:nvSpPr>
            <p:spPr>
              <a:xfrm flipV="1">
                <a:off x="3797280" y="2517840"/>
                <a:ext cx="2808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14040" bIns="-14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3854520" y="2517840"/>
                <a:ext cx="2808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14040" bIns="-14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912120" y="2517840"/>
                <a:ext cx="2808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14040" bIns="-14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2630520" y="3511800"/>
              <a:ext cx="1722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630520" y="2787840"/>
              <a:ext cx="525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3155760" y="2471760"/>
              <a:ext cx="0" cy="316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55760" y="2787840"/>
              <a:ext cx="0" cy="1130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55760" y="3918240"/>
              <a:ext cx="479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630520" y="2968920"/>
              <a:ext cx="1069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630520" y="1884600"/>
              <a:ext cx="43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113000" y="2968920"/>
              <a:ext cx="239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25880" y="2878200"/>
              <a:ext cx="287280" cy="10843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5400000">
              <a:off x="4463640" y="3322800"/>
              <a:ext cx="11804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cheduling logi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640040" y="3149640"/>
              <a:ext cx="238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40040" y="3827520"/>
              <a:ext cx="285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13160" y="3421080"/>
              <a:ext cx="192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5405400" y="2471400"/>
              <a:ext cx="0" cy="949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5400000">
              <a:off x="4873680" y="1814760"/>
              <a:ext cx="112248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livering logi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4878000" y="1839960"/>
              <a:ext cx="52200" cy="247680"/>
              <a:chOff x="4878000" y="1839960"/>
              <a:chExt cx="52200" cy="247680"/>
            </a:xfrm>
          </p:grpSpPr>
          <p:sp>
            <p:nvSpPr>
              <p:cNvPr id="828" name=""/>
              <p:cNvSpPr/>
              <p:nvPr/>
            </p:nvSpPr>
            <p:spPr>
              <a:xfrm rot="5400000">
                <a:off x="4879800" y="1838160"/>
                <a:ext cx="486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640" bIns="-8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5400000">
                <a:off x="4879800" y="1937520"/>
                <a:ext cx="486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640" bIns="-8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5400000">
                <a:off x="4879800" y="2037240"/>
                <a:ext cx="486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tIns="-8640" bIns="-8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4543200" y="1433520"/>
              <a:ext cx="765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543200" y="2381400"/>
              <a:ext cx="765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48320" y="1884600"/>
              <a:ext cx="765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83120" y="1884600"/>
              <a:ext cx="0" cy="723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4257360" y="2608560"/>
              <a:ext cx="1625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257720" y="2608560"/>
              <a:ext cx="0" cy="134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4113000" y="2743200"/>
              <a:ext cx="144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792160" y="1265400"/>
              <a:ext cx="3300480" cy="2922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158920" y="1784160"/>
              <a:ext cx="4489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op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77560" y="2668320"/>
              <a:ext cx="46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llo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047680" y="3409560"/>
              <a:ext cx="51768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ad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5040360" y="3962520"/>
              <a:ext cx="0" cy="27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22200" y="4205160"/>
              <a:ext cx="46116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vai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600280" y="3781440"/>
              <a:ext cx="191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179800" y="3681000"/>
              <a:ext cx="37116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22680" y="3421080"/>
              <a:ext cx="860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332760" y="1784160"/>
              <a:ext cx="37872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u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335280" y="3309840"/>
              <a:ext cx="54648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ched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26720" y="2869920"/>
              <a:ext cx="6516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wrback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55680" y="7596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b605"/>
                </a:solidFill>
                <a:latin typeface="Arial"/>
              </a:rPr>
              <a:t>Main Result</a:t>
            </a:r>
            <a:endParaRPr b="1" lang="en-US" sz="36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2080" y="1257480"/>
            <a:ext cx="7923240" cy="47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ious work w/ a state-of-art in-house symbolic model check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ndreds of small local propertie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ly on the priority matrix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sitional specification (top dow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hedule uop[i], if “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uop[i] is the oldest read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 and resource is avail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524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op[i] is oldest ready, if “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op[i] is read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” and for all j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i (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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 i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, either “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op[j] is not read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” or “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op[i] arrived earlier than uop[j]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 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 50 boolean variables for &gt;1k state el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sitional model  checking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2.5 seconds, 36M on P4 1.5GHz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alable - O(lo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#uops), BDD was not a  bottle-neck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ailed work is in writ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60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pefully in time for ICCA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923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ry of the compositional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sitional specification to handle concurr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icient compositional model chec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ation independ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ilding for reaso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soning about compositional specif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on to handle parameterized spec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676680" y="5038560"/>
            <a:ext cx="198108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Sequential Ex.: Memory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19440" y="1444680"/>
            <a:ext cx="1635120" cy="1272960"/>
          </a:xfrm>
          <a:prstGeom prst="roundRect">
            <a:avLst>
              <a:gd name="adj" fmla="val 16667"/>
            </a:avLst>
          </a:prstGeom>
          <a:solidFill>
            <a:srgbClr val="0034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24 x 6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58680" y="17334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r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96960" y="21384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n[63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4880" y="206064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72480" y="192096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dr[9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19560" y="226836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72200" y="217980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14880" y="186048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57440" y="192888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8960" y="17859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d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10600" y="20383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ut[63:0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7040" y="4834080"/>
            <a:ext cx="10476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52760" y="4834080"/>
            <a:ext cx="10656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45200" y="4842000"/>
            <a:ext cx="10476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78040" y="4871880"/>
            <a:ext cx="257796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092480" y="4925880"/>
            <a:ext cx="633600" cy="536760"/>
            <a:chOff x="4092480" y="4925880"/>
            <a:chExt cx="633600" cy="536760"/>
          </a:xfrm>
        </p:grpSpPr>
        <p:sp>
          <p:nvSpPr>
            <p:cNvPr id="105" name=""/>
            <p:cNvSpPr/>
            <p:nvPr/>
          </p:nvSpPr>
          <p:spPr>
            <a:xfrm>
              <a:off x="4092480" y="4925880"/>
              <a:ext cx="633600" cy="536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11000" y="4929480"/>
              <a:ext cx="52920" cy="1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603440" y="4876920"/>
            <a:ext cx="32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32160" y="49356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3680" y="4875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50960" y="4689360"/>
            <a:ext cx="68400" cy="154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70480" y="4875120"/>
            <a:ext cx="2577960" cy="9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46960" y="4257720"/>
            <a:ext cx="223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wren &amp; addr[9:0] = A[9:0]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n[63:0] = D[63:0]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ue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66840" y="4309920"/>
            <a:ext cx="209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rden &amp; addr[9:0] = A[9:0]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ut[63:0] = D[63:0]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38680" y="5056200"/>
            <a:ext cx="21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!wren | addr[9:0] != A[9:0]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ue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29960" y="43070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4c4c4"/>
                </a:solidFill>
                <a:latin typeface="Arial"/>
              </a:rPr>
              <a:t>anteced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24200" y="450360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4c4c4"/>
                </a:solidFill>
                <a:latin typeface="Arial"/>
              </a:rPr>
              <a:t>consequ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77880" y="423864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9a9a"/>
                </a:solidFill>
                <a:latin typeface="Wingdings"/>
                <a:ea typeface="Wingdings"/>
              </a:rPr>
              <a:t>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68160" y="444816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9a9a"/>
                </a:solidFill>
                <a:latin typeface="Wingdings"/>
                <a:ea typeface="Wingdings"/>
              </a:rPr>
              <a:t>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8800" y="3209760"/>
            <a:ext cx="76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ways read from a cell the most recently written dat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0080" y="75960"/>
            <a:ext cx="790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Concurrent Ex.: Voting Machine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8520" y="1754280"/>
            <a:ext cx="1635120" cy="2179440"/>
          </a:xfrm>
          <a:custGeom>
            <a:avLst/>
            <a:gdLst>
              <a:gd name="textAreaLeft" fmla="*/ 79560 w 1635120"/>
              <a:gd name="textAreaRight" fmla="*/ 1555560 w 1635120"/>
              <a:gd name="textAreaTop" fmla="*/ 79560 h 2179440"/>
              <a:gd name="textAreaBottom" fmla="*/ 2099880 h 217944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4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400" y="1449360"/>
            <a:ext cx="1800" cy="295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24240" y="11984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08200" y="198108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14520" y="2106720"/>
            <a:ext cx="323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4880" y="230832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23320" y="216864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1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12880" y="260352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319200" y="2728800"/>
            <a:ext cx="323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19560" y="293040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28000" y="27907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2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8840" y="321624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vail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305160" y="3341520"/>
            <a:ext cx="3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05160" y="3543480"/>
            <a:ext cx="314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13960" y="340344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te[3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73640" y="2732040"/>
            <a:ext cx="370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6680" y="259884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48240" y="1974960"/>
            <a:ext cx="42840" cy="49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48240" y="2612880"/>
            <a:ext cx="42840" cy="49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43200" y="3225960"/>
            <a:ext cx="42840" cy="49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41640" y="2435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0680" y="4354560"/>
            <a:ext cx="8191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te can be accepted at statio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through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ote[i]=1,2,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when it is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outputs a voting result (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out=f(vote[1], vote[2], vote[3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s soon as all three votes are in, and then makes the stations available for next roun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321000" y="2254320"/>
            <a:ext cx="244800" cy="304200"/>
            <a:chOff x="3321000" y="2254320"/>
            <a:chExt cx="244800" cy="304200"/>
          </a:xfrm>
        </p:grpSpPr>
        <p:sp>
          <p:nvSpPr>
            <p:cNvPr id="144" name=""/>
            <p:cNvSpPr/>
            <p:nvPr/>
          </p:nvSpPr>
          <p:spPr>
            <a:xfrm>
              <a:off x="3398760" y="225432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21000" y="23274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25680" y="2862360"/>
            <a:ext cx="244800" cy="304200"/>
            <a:chOff x="3325680" y="2862360"/>
            <a:chExt cx="244800" cy="304200"/>
          </a:xfrm>
        </p:grpSpPr>
        <p:sp>
          <p:nvSpPr>
            <p:cNvPr id="147" name=""/>
            <p:cNvSpPr/>
            <p:nvPr/>
          </p:nvSpPr>
          <p:spPr>
            <a:xfrm>
              <a:off x="3403440" y="286236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25680" y="29354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21000" y="3495600"/>
            <a:ext cx="244800" cy="304200"/>
            <a:chOff x="3321000" y="3495600"/>
            <a:chExt cx="244800" cy="304200"/>
          </a:xfrm>
        </p:grpSpPr>
        <p:sp>
          <p:nvSpPr>
            <p:cNvPr id="150" name=""/>
            <p:cNvSpPr/>
            <p:nvPr/>
          </p:nvSpPr>
          <p:spPr>
            <a:xfrm>
              <a:off x="3398760" y="349560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21000" y="3568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329080" y="2676600"/>
            <a:ext cx="244800" cy="304200"/>
            <a:chOff x="5329080" y="2676600"/>
            <a:chExt cx="244800" cy="304200"/>
          </a:xfrm>
        </p:grpSpPr>
        <p:sp>
          <p:nvSpPr>
            <p:cNvPr id="153" name=""/>
            <p:cNvSpPr/>
            <p:nvPr/>
          </p:nvSpPr>
          <p:spPr>
            <a:xfrm>
              <a:off x="5406840" y="2676600"/>
              <a:ext cx="65160" cy="11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29080" y="274968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Voting Machine (cont.)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3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ation using an assertion graph causes exponential complex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1: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vote[1], …, vote[2], …, vote[3]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2: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vote[1], …, vote[3], …, vote[2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…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urrent extension to assertion graph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ation independ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zing and guiding GSTE model chec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future) ability to reason about specificatio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Basics: Domain And Trace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6200" y="125748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inite non-empty alphab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.g., the set of states in a FSM (circu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(D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power set of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.g., all subsets of states (state predicates) in F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infinite word i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.g.,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infinite state sequence (trace) in F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Basics: Assertion Alphabet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9200" y="1338120"/>
            <a:ext cx="8191440" cy="26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rtion alphab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P(D)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P(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of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cedent/consequence pai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= (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,D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assertion let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cedent: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nt(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  = D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fdb6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quent: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cons(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) = D</a:t>
            </a:r>
            <a:r>
              <a:rPr b="1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358360" y="4089240"/>
            <a:ext cx="3769920" cy="1817640"/>
            <a:chOff x="2358360" y="4089240"/>
            <a:chExt cx="3769920" cy="1817640"/>
          </a:xfrm>
        </p:grpSpPr>
        <p:grpSp>
          <p:nvGrpSpPr>
            <p:cNvPr id="162" name=""/>
            <p:cNvGrpSpPr/>
            <p:nvPr/>
          </p:nvGrpSpPr>
          <p:grpSpPr>
            <a:xfrm>
              <a:off x="2831400" y="4089240"/>
              <a:ext cx="2748240" cy="895320"/>
              <a:chOff x="2831400" y="4089240"/>
              <a:chExt cx="2748240" cy="895320"/>
            </a:xfrm>
          </p:grpSpPr>
          <p:sp>
            <p:nvSpPr>
              <p:cNvPr id="163" name=""/>
              <p:cNvSpPr/>
              <p:nvPr/>
            </p:nvSpPr>
            <p:spPr>
              <a:xfrm>
                <a:off x="3954240" y="4089240"/>
                <a:ext cx="433080" cy="895320"/>
              </a:xfrm>
              <a:custGeom>
                <a:avLst/>
                <a:gdLst/>
                <a:ahLst/>
                <a:rect l="l" t="t" r="r" b="b"/>
                <a:pathLst>
                  <a:path w="320" h="657">
                    <a:moveTo>
                      <a:pt x="6" y="0"/>
                    </a:moveTo>
                    <a:lnTo>
                      <a:pt x="320" y="122"/>
                    </a:lnTo>
                    <a:lnTo>
                      <a:pt x="320" y="506"/>
                    </a:lnTo>
                    <a:lnTo>
                      <a:pt x="6" y="657"/>
                    </a:lnTo>
                    <a:lnTo>
                      <a:pt x="6" y="430"/>
                    </a:lnTo>
                    <a:lnTo>
                      <a:pt x="123" y="331"/>
                    </a:lnTo>
                    <a:lnTo>
                      <a:pt x="0" y="26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34ff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101480" y="435924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92360" y="4254480"/>
                <a:ext cx="480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79760" y="4840200"/>
                <a:ext cx="480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08200" y="4530600"/>
                <a:ext cx="480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47600" y="4116240"/>
                <a:ext cx="67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[15:0]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831400" y="4703760"/>
                <a:ext cx="68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b[15:0]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906800" y="4403520"/>
                <a:ext cx="67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[15:0]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2358360" y="5326200"/>
              <a:ext cx="3769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 a[15:0] = A[15:0] &amp; b[15:0] = B[15:0]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[15:0] = A[15:0] + B[15:0] 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913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Basics: Assertion Language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6200" y="1295280"/>
            <a:ext cx="8191440" cy="19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rtion word - any word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w =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 baseline="30000">
                <a:solidFill>
                  <a:srgbClr val="00ffff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 assertio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sertion wo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rtion language - any set of words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(</a:t>
            </a:r>
            <a:r>
              <a:rPr b="1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 baseline="30000">
                <a:solidFill>
                  <a:srgbClr val="00ffff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rtion graph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regular assertion langu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367280" y="3586320"/>
            <a:ext cx="6668280" cy="1825560"/>
            <a:chOff x="1367280" y="3586320"/>
            <a:chExt cx="6668280" cy="1825560"/>
          </a:xfrm>
        </p:grpSpPr>
        <p:sp>
          <p:nvSpPr>
            <p:cNvPr id="175" name=""/>
            <p:cNvSpPr/>
            <p:nvPr/>
          </p:nvSpPr>
          <p:spPr>
            <a:xfrm>
              <a:off x="1367280" y="5135400"/>
              <a:ext cx="66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 wren &amp; addr = A &amp; din = D, true )  ( !wren | addr != A, true ) *  ( rden &amp; addr = A, dout = D 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736640" y="3586320"/>
              <a:ext cx="5699160" cy="1019160"/>
              <a:chOff x="1736640" y="3586320"/>
              <a:chExt cx="5699160" cy="1019160"/>
            </a:xfrm>
          </p:grpSpPr>
          <p:sp>
            <p:nvSpPr>
              <p:cNvPr id="177" name=""/>
              <p:cNvSpPr/>
              <p:nvPr/>
            </p:nvSpPr>
            <p:spPr>
              <a:xfrm>
                <a:off x="1830240" y="3976560"/>
                <a:ext cx="10476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86320" y="3976560"/>
                <a:ext cx="1062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11240" y="4014720"/>
                <a:ext cx="2578320" cy="97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4226040" y="4068720"/>
                <a:ext cx="633240" cy="536760"/>
                <a:chOff x="4226040" y="4068720"/>
                <a:chExt cx="633240" cy="5367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226040" y="4068720"/>
                  <a:ext cx="633240" cy="53676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4444200" y="4072320"/>
                  <a:ext cx="52920" cy="16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1736640" y="4019400"/>
                <a:ext cx="325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365360" y="4078440"/>
                <a:ext cx="3589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076880" y="4017960"/>
                <a:ext cx="3589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84520" y="3832200"/>
                <a:ext cx="68040" cy="154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03680" y="4017960"/>
                <a:ext cx="2578320" cy="93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795680" y="3586320"/>
                <a:ext cx="261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( wren &amp; addr = A &amp; din = D, true 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36240" y="3600360"/>
                <a:ext cx="220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( rden &amp; addr = A, dout = D 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818960" y="4157640"/>
                <a:ext cx="193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( !wren | addr != A, true 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368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b605"/>
                </a:solidFill>
                <a:latin typeface="Arial"/>
              </a:rPr>
              <a:t>Basics: Trace Semantics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90040" y="1275840"/>
            <a:ext cx="8247240" cy="46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e Satisfi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e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isfies a word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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(D)*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|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|,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i)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[i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e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rtion wo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w) = {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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|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sat. ant(w)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sat. cons(w)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26080">
              <a:lnSpc>
                <a:spcPct val="95000"/>
              </a:lnSpc>
              <a:spcBef>
                <a:spcPts val="751"/>
              </a:spcBef>
              <a:buClr>
                <a:srgbClr val="fdb6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ertion language (for all semantic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 algn="ctr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L) =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w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95000"/>
              </a:lnSpc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901"/>
              </a:spcBef>
              <a:buClr>
                <a:srgbClr val="fdb60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orem: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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L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4c4c4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c4c4c4"/>
                </a:solidFill>
                <a:latin typeface="Arial"/>
              </a:rPr>
              <a:t>more words </a:t>
            </a:r>
            <a:r>
              <a:rPr b="1" lang="en-US" sz="2000" spc="-1" strike="noStrike">
                <a:solidFill>
                  <a:srgbClr val="c4c4c4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c4c4c4"/>
                </a:solidFill>
                <a:latin typeface="Arial"/>
              </a:rPr>
              <a:t> more restricted behavior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5:38:16Z</dcterms:created>
  <dc:creator>Jin Yang</dc:creator>
  <dc:description/>
  <dc:language>en-US</dc:language>
  <cp:lastModifiedBy>JINYANG</cp:lastModifiedBy>
  <dcterms:modified xsi:type="dcterms:W3CDTF">2004-03-23T20:23:01Z</dcterms:modified>
  <cp:revision>791</cp:revision>
  <dc:subject/>
  <dc:title>GSTE</dc:title>
</cp:coreProperties>
</file>