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62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45.png" ContentType="image/png"/>
  <Override PartName="/ppt/media/image131.png" ContentType="image/png"/>
  <Override PartName="/ppt/media/image150.png" ContentType="image/png"/>
  <Override PartName="/ppt/media/image109.png" ContentType="image/png"/>
  <Override PartName="/ppt/media/image151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46.png" ContentType="image/png"/>
  <Override PartName="/ppt/media/image132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134.png" ContentType="image/png"/>
  <Override PartName="/ppt/media/image133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7588" cy="6858000"/>
  <p:notesSz cx="6781800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82400" cy="9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695160" y="761760"/>
            <a:ext cx="539136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448560"/>
            <a:ext cx="2971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09520" y="9448560"/>
            <a:ext cx="2971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3299-AB38-4497-96CB-AE23877DA5E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695160" y="762120"/>
            <a:ext cx="5391360" cy="37335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ord of damok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695160" y="762120"/>
            <a:ext cx="5391360" cy="373356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tes: left side: k^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ight side: k states *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6A22-8BD5-4CB8-83FF-3008F053B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C6F1-05EE-42D8-88BF-6A31916D8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56C8-7F5D-4A2A-9167-746E7FBA0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94CF-F98F-4BCC-BEB3-9F109488AB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3F08-997D-47F2-B29B-F29E18BDD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BC1D-86A2-4E22-8501-E7D754B23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1F8A-EF12-4711-9630-37B582DF2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C72E-3ECA-4C95-B834-3C4E00EC1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E09B-8865-43F6-8345-00958F81E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F6C5-7338-4324-9BC9-0855ACF64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BFD3-E322-492C-8940-D800E919A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EA81-7CC6-4B6B-8AAB-ED52F3B9A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642960"/>
            <a:ext cx="9575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6319800"/>
            <a:ext cx="95760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35680" y="6340320"/>
            <a:ext cx="293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e of Automation and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ity of Erlangen-Nurem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3800" y="6340320"/>
            <a:ext cx="441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Schmi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gh-Level Abstraction of Concurrent Finite Autom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91520" y="15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7538760" y="1508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E24D-3097-40F2-A5EB-19A2F64A80F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image" Target="../media/image90.png"/><Relationship Id="rId19" Type="http://schemas.openxmlformats.org/officeDocument/2006/relationships/image" Target="../media/image91.png"/><Relationship Id="rId20" Type="http://schemas.openxmlformats.org/officeDocument/2006/relationships/image" Target="../media/image89.png"/><Relationship Id="rId21" Type="http://schemas.openxmlformats.org/officeDocument/2006/relationships/image" Target="../media/image90.png"/><Relationship Id="rId22" Type="http://schemas.openxmlformats.org/officeDocument/2006/relationships/image" Target="../media/image91.png"/><Relationship Id="rId23" Type="http://schemas.openxmlformats.org/officeDocument/2006/relationships/image" Target="../media/image92.png"/><Relationship Id="rId24" Type="http://schemas.openxmlformats.org/officeDocument/2006/relationships/image" Target="../media/image93.png"/><Relationship Id="rId25" Type="http://schemas.openxmlformats.org/officeDocument/2006/relationships/image" Target="../media/image94.png"/><Relationship Id="rId26" Type="http://schemas.openxmlformats.org/officeDocument/2006/relationships/image" Target="../media/image95.png"/><Relationship Id="rId27" Type="http://schemas.openxmlformats.org/officeDocument/2006/relationships/image" Target="../media/image96.png"/><Relationship Id="rId28" Type="http://schemas.openxmlformats.org/officeDocument/2006/relationships/image" Target="../media/image97.png"/><Relationship Id="rId29" Type="http://schemas.openxmlformats.org/officeDocument/2006/relationships/image" Target="../media/image98.png"/><Relationship Id="rId30" Type="http://schemas.openxmlformats.org/officeDocument/2006/relationships/image" Target="../media/image99.png"/><Relationship Id="rId31" Type="http://schemas.openxmlformats.org/officeDocument/2006/relationships/image" Target="../media/image100.png"/><Relationship Id="rId32" Type="http://schemas.openxmlformats.org/officeDocument/2006/relationships/image" Target="../media/image100.png"/><Relationship Id="rId33" Type="http://schemas.openxmlformats.org/officeDocument/2006/relationships/image" Target="../media/image101.png"/><Relationship Id="rId34" Type="http://schemas.openxmlformats.org/officeDocument/2006/relationships/image" Target="../media/image102.png"/><Relationship Id="rId35" Type="http://schemas.openxmlformats.org/officeDocument/2006/relationships/image" Target="../media/image101.png"/><Relationship Id="rId3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108.png"/><Relationship Id="rId7" Type="http://schemas.openxmlformats.org/officeDocument/2006/relationships/image" Target="../media/image109.png"/><Relationship Id="rId8" Type="http://schemas.openxmlformats.org/officeDocument/2006/relationships/image" Target="../media/image110.png"/><Relationship Id="rId9" Type="http://schemas.openxmlformats.org/officeDocument/2006/relationships/image" Target="../media/image111.png"/><Relationship Id="rId10" Type="http://schemas.openxmlformats.org/officeDocument/2006/relationships/image" Target="../media/image112.png"/><Relationship Id="rId11" Type="http://schemas.openxmlformats.org/officeDocument/2006/relationships/image" Target="../media/image113.png"/><Relationship Id="rId12" Type="http://schemas.openxmlformats.org/officeDocument/2006/relationships/image" Target="../media/image114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image" Target="../media/image12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26.png"/><Relationship Id="rId6" Type="http://schemas.openxmlformats.org/officeDocument/2006/relationships/image" Target="../media/image127.png"/><Relationship Id="rId7" Type="http://schemas.openxmlformats.org/officeDocument/2006/relationships/image" Target="../media/image128.png"/><Relationship Id="rId8" Type="http://schemas.openxmlformats.org/officeDocument/2006/relationships/image" Target="../media/image129.png"/><Relationship Id="rId9" Type="http://schemas.openxmlformats.org/officeDocument/2006/relationships/image" Target="../media/image130.png"/><Relationship Id="rId10" Type="http://schemas.openxmlformats.org/officeDocument/2006/relationships/image" Target="../media/image13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7.png"/><Relationship Id="rId5" Type="http://schemas.openxmlformats.org/officeDocument/2006/relationships/image" Target="../media/image138.png"/><Relationship Id="rId6" Type="http://schemas.openxmlformats.org/officeDocument/2006/relationships/image" Target="../media/image13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image" Target="../media/image141.png"/><Relationship Id="rId3" Type="http://schemas.openxmlformats.org/officeDocument/2006/relationships/image" Target="../media/image142.png"/><Relationship Id="rId4" Type="http://schemas.openxmlformats.org/officeDocument/2006/relationships/image" Target="../media/image52.png"/><Relationship Id="rId5" Type="http://schemas.openxmlformats.org/officeDocument/2006/relationships/image" Target="../media/image143.png"/><Relationship Id="rId6" Type="http://schemas.openxmlformats.org/officeDocument/2006/relationships/image" Target="../media/image122.png"/><Relationship Id="rId7" Type="http://schemas.openxmlformats.org/officeDocument/2006/relationships/image" Target="../media/image144.png"/><Relationship Id="rId8" Type="http://schemas.openxmlformats.org/officeDocument/2006/relationships/image" Target="../media/image145.png"/><Relationship Id="rId9" Type="http://schemas.openxmlformats.org/officeDocument/2006/relationships/image" Target="../media/image146.png"/><Relationship Id="rId10" Type="http://schemas.openxmlformats.org/officeDocument/2006/relationships/image" Target="../media/image147.png"/><Relationship Id="rId11" Type="http://schemas.openxmlformats.org/officeDocument/2006/relationships/image" Target="../media/image148.png"/><Relationship Id="rId12" Type="http://schemas.openxmlformats.org/officeDocument/2006/relationships/image" Target="../media/image149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image" Target="../media/image90.png"/><Relationship Id="rId19" Type="http://schemas.openxmlformats.org/officeDocument/2006/relationships/image" Target="../media/image91.png"/><Relationship Id="rId20" Type="http://schemas.openxmlformats.org/officeDocument/2006/relationships/image" Target="../media/image89.png"/><Relationship Id="rId21" Type="http://schemas.openxmlformats.org/officeDocument/2006/relationships/image" Target="../media/image90.png"/><Relationship Id="rId22" Type="http://schemas.openxmlformats.org/officeDocument/2006/relationships/image" Target="../media/image91.png"/><Relationship Id="rId23" Type="http://schemas.openxmlformats.org/officeDocument/2006/relationships/image" Target="../media/image75.png"/><Relationship Id="rId24" Type="http://schemas.openxmlformats.org/officeDocument/2006/relationships/image" Target="../media/image76.png"/><Relationship Id="rId25" Type="http://schemas.openxmlformats.org/officeDocument/2006/relationships/image" Target="../media/image77.png"/><Relationship Id="rId26" Type="http://schemas.openxmlformats.org/officeDocument/2006/relationships/image" Target="../media/image78.png"/><Relationship Id="rId27" Type="http://schemas.openxmlformats.org/officeDocument/2006/relationships/image" Target="../media/image79.png"/><Relationship Id="rId28" Type="http://schemas.openxmlformats.org/officeDocument/2006/relationships/image" Target="../media/image81.png"/><Relationship Id="rId29" Type="http://schemas.openxmlformats.org/officeDocument/2006/relationships/image" Target="../media/image82.png"/><Relationship Id="rId30" Type="http://schemas.openxmlformats.org/officeDocument/2006/relationships/image" Target="../media/image83.png"/><Relationship Id="rId31" Type="http://schemas.openxmlformats.org/officeDocument/2006/relationships/image" Target="../media/image84.png"/><Relationship Id="rId32" Type="http://schemas.openxmlformats.org/officeDocument/2006/relationships/image" Target="../media/image85.png"/><Relationship Id="rId33" Type="http://schemas.openxmlformats.org/officeDocument/2006/relationships/image" Target="../media/image86.png"/><Relationship Id="rId34" Type="http://schemas.openxmlformats.org/officeDocument/2006/relationships/image" Target="../media/image87.png"/><Relationship Id="rId35" Type="http://schemas.openxmlformats.org/officeDocument/2006/relationships/image" Target="../media/image89.png"/><Relationship Id="rId36" Type="http://schemas.openxmlformats.org/officeDocument/2006/relationships/image" Target="../media/image90.png"/><Relationship Id="rId37" Type="http://schemas.openxmlformats.org/officeDocument/2006/relationships/image" Target="../media/image91.png"/><Relationship Id="rId38" Type="http://schemas.openxmlformats.org/officeDocument/2006/relationships/image" Target="../media/image89.png"/><Relationship Id="rId39" Type="http://schemas.openxmlformats.org/officeDocument/2006/relationships/image" Target="../media/image90.png"/><Relationship Id="rId40" Type="http://schemas.openxmlformats.org/officeDocument/2006/relationships/image" Target="../media/image91.png"/><Relationship Id="rId41" Type="http://schemas.openxmlformats.org/officeDocument/2006/relationships/image" Target="../media/image150.png"/><Relationship Id="rId42" Type="http://schemas.openxmlformats.org/officeDocument/2006/relationships/image" Target="../media/image151.png"/><Relationship Id="rId4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53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97.png"/><Relationship Id="rId10" Type="http://schemas.openxmlformats.org/officeDocument/2006/relationships/image" Target="../media/image98.png"/><Relationship Id="rId11" Type="http://schemas.openxmlformats.org/officeDocument/2006/relationships/image" Target="../media/image99.png"/><Relationship Id="rId12" Type="http://schemas.openxmlformats.org/officeDocument/2006/relationships/image" Target="../media/image154.png"/><Relationship Id="rId13" Type="http://schemas.openxmlformats.org/officeDocument/2006/relationships/image" Target="../media/image155.png"/><Relationship Id="rId14" Type="http://schemas.openxmlformats.org/officeDocument/2006/relationships/image" Target="../media/image97.png"/><Relationship Id="rId15" Type="http://schemas.openxmlformats.org/officeDocument/2006/relationships/image" Target="../media/image98.png"/><Relationship Id="rId16" Type="http://schemas.openxmlformats.org/officeDocument/2006/relationships/image" Target="../media/image99.png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image" Target="../media/image91.png"/><Relationship Id="rId19" Type="http://schemas.openxmlformats.org/officeDocument/2006/relationships/image" Target="../media/image89.png"/><Relationship Id="rId20" Type="http://schemas.openxmlformats.org/officeDocument/2006/relationships/image" Target="../media/image90.png"/><Relationship Id="rId21" Type="http://schemas.openxmlformats.org/officeDocument/2006/relationships/image" Target="../media/image91.png"/><Relationship Id="rId22" Type="http://schemas.openxmlformats.org/officeDocument/2006/relationships/image" Target="../media/image156.png"/><Relationship Id="rId23" Type="http://schemas.openxmlformats.org/officeDocument/2006/relationships/image" Target="../media/image157.png"/><Relationship Id="rId24" Type="http://schemas.openxmlformats.org/officeDocument/2006/relationships/image" Target="../media/image158.png"/><Relationship Id="rId25" Type="http://schemas.openxmlformats.org/officeDocument/2006/relationships/image" Target="../media/image159.png"/><Relationship Id="rId26" Type="http://schemas.openxmlformats.org/officeDocument/2006/relationships/image" Target="../media/image160.png"/><Relationship Id="rId2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9280" y="1206360"/>
            <a:ext cx="93034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Level Abstraction of Concurrent Finite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or the Purpose of Hierarchic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us Schmid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VC - Se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ptember 16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228F-841B-4E4B-BDEC-C3E743CD3F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707160" y="741240"/>
            <a:ext cx="2857320" cy="3060720"/>
            <a:chOff x="6707160" y="741240"/>
            <a:chExt cx="2857320" cy="3060720"/>
          </a:xfrm>
        </p:grpSpPr>
        <p:sp>
          <p:nvSpPr>
            <p:cNvPr id="278" name=""/>
            <p:cNvSpPr/>
            <p:nvPr/>
          </p:nvSpPr>
          <p:spPr>
            <a:xfrm rot="5400000">
              <a:off x="6529320" y="1414080"/>
              <a:ext cx="2146320" cy="17906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386480" y="810720"/>
              <a:ext cx="1270080" cy="11304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7494120" y="1985760"/>
              <a:ext cx="1689120" cy="194292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5400000">
              <a:off x="7684920" y="1185480"/>
              <a:ext cx="2222280" cy="153684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oncurrent Systems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entraliz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000" y="782640"/>
            <a:ext cx="3225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bsystem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Finite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losed langu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d langu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ev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87480" y="40244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44520" y="3732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txp_fig" descr=""/>
          <p:cNvPicPr/>
          <p:nvPr/>
        </p:nvPicPr>
        <p:blipFill>
          <a:blip r:embed="rId1"/>
          <a:stretch/>
        </p:blipFill>
        <p:spPr>
          <a:xfrm>
            <a:off x="3395520" y="1773360"/>
            <a:ext cx="1211400" cy="228600"/>
          </a:xfrm>
          <a:prstGeom prst="rect">
            <a:avLst/>
          </a:prstGeom>
          <a:ln w="0">
            <a:noFill/>
          </a:ln>
        </p:spPr>
      </p:pic>
      <p:pic>
        <p:nvPicPr>
          <p:cNvPr id="287" name="txp_fig" descr=""/>
          <p:cNvPicPr/>
          <p:nvPr/>
        </p:nvPicPr>
        <p:blipFill>
          <a:blip r:embed="rId2"/>
          <a:stretch/>
        </p:blipFill>
        <p:spPr>
          <a:xfrm>
            <a:off x="3390840" y="2109960"/>
            <a:ext cx="1622520" cy="263520"/>
          </a:xfrm>
          <a:prstGeom prst="rect">
            <a:avLst/>
          </a:prstGeom>
          <a:ln w="0">
            <a:noFill/>
          </a:ln>
        </p:spPr>
      </p:pic>
      <p:pic>
        <p:nvPicPr>
          <p:cNvPr id="288" name="txp_fig" descr=""/>
          <p:cNvPicPr/>
          <p:nvPr/>
        </p:nvPicPr>
        <p:blipFill>
          <a:blip r:embed="rId3"/>
          <a:stretch/>
        </p:blipFill>
        <p:spPr>
          <a:xfrm>
            <a:off x="3405240" y="2498760"/>
            <a:ext cx="2205000" cy="250920"/>
          </a:xfrm>
          <a:prstGeom prst="rect">
            <a:avLst/>
          </a:prstGeom>
          <a:ln w="0">
            <a:noFill/>
          </a:ln>
        </p:spPr>
      </p:pic>
      <p:pic>
        <p:nvPicPr>
          <p:cNvPr id="289" name="txp_fig" descr=""/>
          <p:cNvPicPr/>
          <p:nvPr/>
        </p:nvPicPr>
        <p:blipFill>
          <a:blip r:embed="rId4"/>
          <a:stretch/>
        </p:blipFill>
        <p:spPr>
          <a:xfrm>
            <a:off x="3406680" y="1019160"/>
            <a:ext cx="1368360" cy="216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flipV="1">
            <a:off x="8848800" y="2743200"/>
            <a:ext cx="164880" cy="13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8213400" y="3327480"/>
            <a:ext cx="507960" cy="73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51640" y="1235160"/>
            <a:ext cx="673200" cy="774720"/>
          </a:xfrm>
          <a:custGeom>
            <a:avLst/>
            <a:gdLst/>
            <a:ahLst/>
            <a:rect l="l" t="t" r="r" b="b"/>
            <a:pathLst>
              <a:path w="424" h="488">
                <a:moveTo>
                  <a:pt x="8" y="6"/>
                </a:moveTo>
                <a:lnTo>
                  <a:pt x="84" y="0"/>
                </a:lnTo>
                <a:lnTo>
                  <a:pt x="152" y="2"/>
                </a:lnTo>
                <a:lnTo>
                  <a:pt x="212" y="12"/>
                </a:lnTo>
                <a:lnTo>
                  <a:pt x="272" y="36"/>
                </a:lnTo>
                <a:lnTo>
                  <a:pt x="320" y="56"/>
                </a:lnTo>
                <a:lnTo>
                  <a:pt x="360" y="80"/>
                </a:lnTo>
                <a:lnTo>
                  <a:pt x="424" y="128"/>
                </a:lnTo>
                <a:lnTo>
                  <a:pt x="396" y="188"/>
                </a:lnTo>
                <a:lnTo>
                  <a:pt x="384" y="240"/>
                </a:lnTo>
                <a:lnTo>
                  <a:pt x="374" y="296"/>
                </a:lnTo>
                <a:lnTo>
                  <a:pt x="366" y="346"/>
                </a:lnTo>
                <a:lnTo>
                  <a:pt x="362" y="400"/>
                </a:lnTo>
                <a:lnTo>
                  <a:pt x="362" y="446"/>
                </a:lnTo>
                <a:lnTo>
                  <a:pt x="362" y="488"/>
                </a:lnTo>
                <a:lnTo>
                  <a:pt x="308" y="484"/>
                </a:lnTo>
                <a:lnTo>
                  <a:pt x="256" y="470"/>
                </a:lnTo>
                <a:lnTo>
                  <a:pt x="198" y="444"/>
                </a:lnTo>
                <a:lnTo>
                  <a:pt x="156" y="416"/>
                </a:lnTo>
                <a:lnTo>
                  <a:pt x="120" y="388"/>
                </a:lnTo>
                <a:lnTo>
                  <a:pt x="72" y="332"/>
                </a:lnTo>
                <a:lnTo>
                  <a:pt x="42" y="280"/>
                </a:lnTo>
                <a:lnTo>
                  <a:pt x="22" y="226"/>
                </a:lnTo>
                <a:lnTo>
                  <a:pt x="10" y="178"/>
                </a:lnTo>
                <a:lnTo>
                  <a:pt x="2" y="136"/>
                </a:lnTo>
                <a:lnTo>
                  <a:pt x="0" y="76"/>
                </a:lnTo>
                <a:lnTo>
                  <a:pt x="2" y="44"/>
                </a:lnTo>
                <a:lnTo>
                  <a:pt x="8" y="6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35920" y="21114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0" y="28"/>
                </a:moveTo>
                <a:lnTo>
                  <a:pt x="48" y="14"/>
                </a:lnTo>
                <a:lnTo>
                  <a:pt x="104" y="6"/>
                </a:lnTo>
                <a:lnTo>
                  <a:pt x="170" y="0"/>
                </a:lnTo>
                <a:lnTo>
                  <a:pt x="216" y="0"/>
                </a:lnTo>
                <a:lnTo>
                  <a:pt x="284" y="6"/>
                </a:lnTo>
                <a:lnTo>
                  <a:pt x="288" y="74"/>
                </a:lnTo>
                <a:lnTo>
                  <a:pt x="288" y="146"/>
                </a:lnTo>
                <a:lnTo>
                  <a:pt x="286" y="220"/>
                </a:lnTo>
                <a:lnTo>
                  <a:pt x="272" y="272"/>
                </a:lnTo>
                <a:lnTo>
                  <a:pt x="254" y="358"/>
                </a:lnTo>
                <a:lnTo>
                  <a:pt x="232" y="422"/>
                </a:lnTo>
                <a:lnTo>
                  <a:pt x="202" y="480"/>
                </a:lnTo>
                <a:lnTo>
                  <a:pt x="154" y="422"/>
                </a:lnTo>
                <a:lnTo>
                  <a:pt x="106" y="348"/>
                </a:lnTo>
                <a:lnTo>
                  <a:pt x="70" y="278"/>
                </a:lnTo>
                <a:lnTo>
                  <a:pt x="44" y="214"/>
                </a:lnTo>
                <a:lnTo>
                  <a:pt x="26" y="144"/>
                </a:lnTo>
                <a:lnTo>
                  <a:pt x="10" y="78"/>
                </a:lnTo>
                <a:lnTo>
                  <a:pt x="0" y="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248240" y="2502000"/>
            <a:ext cx="1066680" cy="12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057800" y="1714680"/>
            <a:ext cx="609480" cy="205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txp_fig" descr=""/>
          <p:cNvPicPr/>
          <p:nvPr/>
        </p:nvPicPr>
        <p:blipFill>
          <a:blip r:embed="rId5"/>
          <a:stretch/>
        </p:blipFill>
        <p:spPr>
          <a:xfrm>
            <a:off x="3400560" y="1415880"/>
            <a:ext cx="1643040" cy="217800"/>
          </a:xfrm>
          <a:prstGeom prst="rect">
            <a:avLst/>
          </a:prstGeom>
          <a:ln w="0">
            <a:noFill/>
          </a:ln>
        </p:spPr>
      </p:pic>
      <p:pic>
        <p:nvPicPr>
          <p:cNvPr id="297" name="txp_fig" descr=""/>
          <p:cNvPicPr/>
          <p:nvPr/>
        </p:nvPicPr>
        <p:blipFill>
          <a:blip r:embed="rId6"/>
          <a:stretch/>
        </p:blipFill>
        <p:spPr>
          <a:xfrm>
            <a:off x="6796080" y="1190520"/>
            <a:ext cx="285840" cy="217440"/>
          </a:xfrm>
          <a:prstGeom prst="rect">
            <a:avLst/>
          </a:prstGeom>
          <a:ln w="0">
            <a:noFill/>
          </a:ln>
        </p:spPr>
      </p:pic>
      <p:pic>
        <p:nvPicPr>
          <p:cNvPr id="298" name="txp_fig" descr=""/>
          <p:cNvPicPr/>
          <p:nvPr/>
        </p:nvPicPr>
        <p:blipFill>
          <a:blip r:embed="rId7"/>
          <a:stretch/>
        </p:blipFill>
        <p:spPr>
          <a:xfrm>
            <a:off x="7316640" y="72720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299" name="txp_fig" descr=""/>
          <p:cNvPicPr/>
          <p:nvPr/>
        </p:nvPicPr>
        <p:blipFill>
          <a:blip r:embed="rId8"/>
          <a:stretch/>
        </p:blipFill>
        <p:spPr>
          <a:xfrm>
            <a:off x="9267840" y="87804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300" name="txp_fig" descr=""/>
          <p:cNvPicPr/>
          <p:nvPr/>
        </p:nvPicPr>
        <p:blipFill>
          <a:blip r:embed="rId9"/>
          <a:stretch/>
        </p:blipFill>
        <p:spPr>
          <a:xfrm>
            <a:off x="9059760" y="3557520"/>
            <a:ext cx="297000" cy="21744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152280" y="3125880"/>
            <a:ext cx="6276960" cy="2151360"/>
            <a:chOff x="152280" y="3125880"/>
            <a:chExt cx="6276960" cy="2151360"/>
          </a:xfrm>
        </p:grpSpPr>
        <p:sp>
          <p:nvSpPr>
            <p:cNvPr id="302" name=""/>
            <p:cNvSpPr/>
            <p:nvPr/>
          </p:nvSpPr>
          <p:spPr>
            <a:xfrm>
              <a:off x="152280" y="3125880"/>
              <a:ext cx="368316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verall system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: Finite Automat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nchronous composition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losed languag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rked languag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phabe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txp_fig" descr=""/>
            <p:cNvPicPr/>
            <p:nvPr/>
          </p:nvPicPr>
          <p:blipFill>
            <a:blip r:embed="rId10"/>
            <a:stretch/>
          </p:blipFill>
          <p:spPr>
            <a:xfrm>
              <a:off x="3421080" y="3757680"/>
              <a:ext cx="222876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txp_fig" descr=""/>
            <p:cNvPicPr/>
            <p:nvPr/>
          </p:nvPicPr>
          <p:blipFill>
            <a:blip r:embed="rId11"/>
            <a:stretch/>
          </p:blipFill>
          <p:spPr>
            <a:xfrm>
              <a:off x="3416400" y="4176720"/>
              <a:ext cx="213660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txp_fig" descr=""/>
            <p:cNvPicPr/>
            <p:nvPr/>
          </p:nvPicPr>
          <p:blipFill>
            <a:blip r:embed="rId12"/>
            <a:stretch/>
          </p:blipFill>
          <p:spPr>
            <a:xfrm>
              <a:off x="3413160" y="4559400"/>
              <a:ext cx="30160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txp_fig" descr=""/>
            <p:cNvPicPr/>
            <p:nvPr/>
          </p:nvPicPr>
          <p:blipFill>
            <a:blip r:embed="rId13"/>
            <a:stretch/>
          </p:blipFill>
          <p:spPr>
            <a:xfrm>
              <a:off x="3757680" y="3349800"/>
              <a:ext cx="18252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txp_fig" descr=""/>
            <p:cNvPicPr/>
            <p:nvPr/>
          </p:nvPicPr>
          <p:blipFill>
            <a:blip r:embed="rId14"/>
            <a:stretch/>
          </p:blipFill>
          <p:spPr>
            <a:xfrm>
              <a:off x="3414600" y="4950000"/>
              <a:ext cx="2617920" cy="2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BF34-564B-4A12-93EA-FCFFDB438E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oncurrent Systems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2000" y="9064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a: local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2720" y="1298520"/>
            <a:ext cx="58557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cifications      for decentralized sub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remal controllable sub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cal supervis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urrent opera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action may lead to blocking in the overall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txp_fig" descr=""/>
          <p:cNvPicPr/>
          <p:nvPr/>
        </p:nvPicPr>
        <p:blipFill>
          <a:blip r:embed="rId1"/>
          <a:stretch/>
        </p:blipFill>
        <p:spPr>
          <a:xfrm>
            <a:off x="1876320" y="1460520"/>
            <a:ext cx="263520" cy="217440"/>
          </a:xfrm>
          <a:prstGeom prst="rect">
            <a:avLst/>
          </a:prstGeom>
          <a:ln w="0">
            <a:noFill/>
          </a:ln>
        </p:spPr>
      </p:pic>
      <p:pic>
        <p:nvPicPr>
          <p:cNvPr id="312" name="txp_fig" descr=""/>
          <p:cNvPicPr/>
          <p:nvPr/>
        </p:nvPicPr>
        <p:blipFill>
          <a:blip r:embed="rId2"/>
          <a:stretch/>
        </p:blipFill>
        <p:spPr>
          <a:xfrm>
            <a:off x="5237280" y="1461960"/>
            <a:ext cx="250560" cy="216000"/>
          </a:xfrm>
          <a:prstGeom prst="rect">
            <a:avLst/>
          </a:prstGeom>
          <a:ln w="0">
            <a:noFill/>
          </a:ln>
        </p:spPr>
      </p:pic>
      <p:pic>
        <p:nvPicPr>
          <p:cNvPr id="313" name="txp_fig" descr=""/>
          <p:cNvPicPr/>
          <p:nvPr/>
        </p:nvPicPr>
        <p:blipFill>
          <a:blip r:embed="rId3"/>
          <a:stretch/>
        </p:blipFill>
        <p:spPr>
          <a:xfrm>
            <a:off x="4070520" y="1808280"/>
            <a:ext cx="811080" cy="285480"/>
          </a:xfrm>
          <a:prstGeom prst="rect">
            <a:avLst/>
          </a:prstGeom>
          <a:ln w="0">
            <a:noFill/>
          </a:ln>
        </p:spPr>
      </p:pic>
      <p:pic>
        <p:nvPicPr>
          <p:cNvPr id="314" name="txp_fig" descr=""/>
          <p:cNvPicPr/>
          <p:nvPr/>
        </p:nvPicPr>
        <p:blipFill>
          <a:blip r:embed="rId4"/>
          <a:stretch/>
        </p:blipFill>
        <p:spPr>
          <a:xfrm>
            <a:off x="2529000" y="218592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315" name="txp_fig" descr=""/>
          <p:cNvPicPr/>
          <p:nvPr/>
        </p:nvPicPr>
        <p:blipFill>
          <a:blip r:embed="rId5"/>
          <a:stretch/>
        </p:blipFill>
        <p:spPr>
          <a:xfrm>
            <a:off x="2873520" y="2587680"/>
            <a:ext cx="2925720" cy="217440"/>
          </a:xfrm>
          <a:prstGeom prst="rect">
            <a:avLst/>
          </a:prstGeom>
          <a:ln w="0">
            <a:noFill/>
          </a:ln>
        </p:spPr>
      </p:pic>
      <p:pic>
        <p:nvPicPr>
          <p:cNvPr id="316" name="txp_fig" descr=""/>
          <p:cNvPicPr/>
          <p:nvPr/>
        </p:nvPicPr>
        <p:blipFill>
          <a:blip r:embed="rId6"/>
          <a:stretch/>
        </p:blipFill>
        <p:spPr>
          <a:xfrm>
            <a:off x="728640" y="2973240"/>
            <a:ext cx="4754520" cy="2970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159840" y="4043520"/>
            <a:ext cx="7884000" cy="2034360"/>
            <a:chOff x="159840" y="4043520"/>
            <a:chExt cx="7884000" cy="2034360"/>
          </a:xfrm>
        </p:grpSpPr>
        <p:sp>
          <p:nvSpPr>
            <p:cNvPr id="318" name=""/>
            <p:cNvSpPr/>
            <p:nvPr/>
          </p:nvSpPr>
          <p:spPr>
            <a:xfrm>
              <a:off x="159840" y="4043520"/>
              <a:ext cx="29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nonconflicting-condi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6400" y="4340160"/>
              <a:ext cx="5901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current operation is nonblocking and controllable if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txp_fig" descr=""/>
            <p:cNvPicPr/>
            <p:nvPr/>
          </p:nvPicPr>
          <p:blipFill>
            <a:blip r:embed="rId7"/>
            <a:stretch/>
          </p:blipFill>
          <p:spPr>
            <a:xfrm>
              <a:off x="546120" y="5334120"/>
              <a:ext cx="7497720" cy="3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62520" y="5627520"/>
              <a:ext cx="393876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Symbol" charset="2"/>
                <a:buChar char="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ways check if condition is fulfi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" name="txp_fig" descr=""/>
            <p:cNvPicPr/>
            <p:nvPr/>
          </p:nvPicPr>
          <p:blipFill>
            <a:blip r:embed="rId8"/>
            <a:stretch/>
          </p:blipFill>
          <p:spPr>
            <a:xfrm>
              <a:off x="544680" y="4894200"/>
              <a:ext cx="2195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891160" y="4816440"/>
              <a:ext cx="343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re nonblocking local langu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FE98-B324-45F7-B318-07414EC368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oncurrent Systems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78560" y="870120"/>
            <a:ext cx="6585840" cy="1904040"/>
            <a:chOff x="178560" y="870120"/>
            <a:chExt cx="6585840" cy="1904040"/>
          </a:xfrm>
        </p:grpSpPr>
        <p:sp>
          <p:nvSpPr>
            <p:cNvPr id="326" name=""/>
            <p:cNvSpPr/>
            <p:nvPr/>
          </p:nvSpPr>
          <p:spPr>
            <a:xfrm>
              <a:off x="178560" y="870120"/>
              <a:ext cx="5843880" cy="19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f concurrent operation is conflic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ry to adapt 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struct overall specific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d compute overall supremal controllable 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txp_fig" descr=""/>
            <p:cNvPicPr/>
            <p:nvPr/>
          </p:nvPicPr>
          <p:blipFill>
            <a:blip r:embed="rId1"/>
            <a:stretch/>
          </p:blipFill>
          <p:spPr>
            <a:xfrm>
              <a:off x="3305160" y="1401840"/>
              <a:ext cx="2635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txp_fig" descr=""/>
            <p:cNvPicPr/>
            <p:nvPr/>
          </p:nvPicPr>
          <p:blipFill>
            <a:blip r:embed="rId2"/>
            <a:stretch/>
          </p:blipFill>
          <p:spPr>
            <a:xfrm>
              <a:off x="6066000" y="2189160"/>
              <a:ext cx="6984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txp_fig" descr=""/>
            <p:cNvPicPr/>
            <p:nvPr/>
          </p:nvPicPr>
          <p:blipFill>
            <a:blip r:embed="rId3"/>
            <a:stretch/>
          </p:blipFill>
          <p:spPr>
            <a:xfrm>
              <a:off x="3759120" y="1793880"/>
              <a:ext cx="230832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1932480" y="3618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for which systems equality hold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65240" y="2538360"/>
            <a:ext cx="6997680" cy="937440"/>
            <a:chOff x="165240" y="2538360"/>
            <a:chExt cx="6997680" cy="937440"/>
          </a:xfrm>
        </p:grpSpPr>
        <p:sp>
          <p:nvSpPr>
            <p:cNvPr id="332" name=""/>
            <p:cNvSpPr/>
            <p:nvPr/>
          </p:nvSpPr>
          <p:spPr>
            <a:xfrm>
              <a:off x="165240" y="2538360"/>
              <a:ext cx="2076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 case of confli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3" name="txp_fig" descr=""/>
            <p:cNvPicPr/>
            <p:nvPr/>
          </p:nvPicPr>
          <p:blipFill>
            <a:blip r:embed="rId4"/>
            <a:stretch/>
          </p:blipFill>
          <p:spPr>
            <a:xfrm>
              <a:off x="2546280" y="2698920"/>
              <a:ext cx="461664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txp_fig" descr=""/>
            <p:cNvPicPr/>
            <p:nvPr/>
          </p:nvPicPr>
          <p:blipFill>
            <a:blip r:embed="rId5"/>
            <a:stretch/>
          </p:blipFill>
          <p:spPr>
            <a:xfrm>
              <a:off x="2536920" y="3135240"/>
              <a:ext cx="461628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66320" y="2970360"/>
              <a:ext cx="1324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BE76-610E-442E-828E-A1A82E12C0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59080" y="2658960"/>
            <a:ext cx="658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3. Structural Decentraliz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Finite Autom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40EF-8EE4-4A16-B3DB-F736AD9AED0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Structural Decentralized Finite Automata: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3160" y="933480"/>
            <a:ext cx="40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hared event mark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ndi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xp_fig" descr=""/>
          <p:cNvPicPr/>
          <p:nvPr/>
        </p:nvPicPr>
        <p:blipFill>
          <a:blip r:embed="rId1"/>
          <a:stretch/>
        </p:blipFill>
        <p:spPr>
          <a:xfrm>
            <a:off x="4141800" y="1027080"/>
            <a:ext cx="217440" cy="171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83880" y="214956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redecessor state of each common event is mar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txp_fig" descr=""/>
          <p:cNvPicPr/>
          <p:nvPr/>
        </p:nvPicPr>
        <p:blipFill>
          <a:blip r:embed="rId2"/>
          <a:stretch/>
        </p:blipFill>
        <p:spPr>
          <a:xfrm>
            <a:off x="2089080" y="1587600"/>
            <a:ext cx="3818160" cy="296640"/>
          </a:xfrm>
          <a:prstGeom prst="rect">
            <a:avLst/>
          </a:prstGeom>
          <a:ln w="0">
            <a:noFill/>
          </a:ln>
        </p:spPr>
      </p:pic>
      <p:pic>
        <p:nvPicPr>
          <p:cNvPr id="342" name="txp_fig" descr=""/>
          <p:cNvPicPr/>
          <p:nvPr/>
        </p:nvPicPr>
        <p:blipFill>
          <a:blip r:embed="rId3"/>
          <a:stretch/>
        </p:blipFill>
        <p:spPr>
          <a:xfrm>
            <a:off x="987480" y="1622520"/>
            <a:ext cx="228600" cy="2062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254240" y="1503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7760" y="2835360"/>
            <a:ext cx="5459760" cy="1380960"/>
            <a:chOff x="167760" y="2835360"/>
            <a:chExt cx="5459760" cy="1380960"/>
          </a:xfrm>
        </p:grpSpPr>
        <p:sp>
          <p:nvSpPr>
            <p:cNvPr id="345" name=""/>
            <p:cNvSpPr/>
            <p:nvPr/>
          </p:nvSpPr>
          <p:spPr>
            <a:xfrm>
              <a:off x="167760" y="2835360"/>
              <a:ext cx="39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i)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utual controllability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conditi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txp_fig" descr=""/>
            <p:cNvPicPr/>
            <p:nvPr/>
          </p:nvPicPr>
          <p:blipFill>
            <a:blip r:embed="rId4"/>
            <a:stretch/>
          </p:blipFill>
          <p:spPr>
            <a:xfrm>
              <a:off x="4257720" y="2932200"/>
              <a:ext cx="8683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txp_fig" descr=""/>
            <p:cNvPicPr/>
            <p:nvPr/>
          </p:nvPicPr>
          <p:blipFill>
            <a:blip r:embed="rId5"/>
            <a:stretch/>
          </p:blipFill>
          <p:spPr>
            <a:xfrm>
              <a:off x="930240" y="3884760"/>
              <a:ext cx="23670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txp_fig" descr=""/>
            <p:cNvPicPr/>
            <p:nvPr/>
          </p:nvPicPr>
          <p:blipFill>
            <a:blip r:embed="rId6"/>
            <a:stretch/>
          </p:blipFill>
          <p:spPr>
            <a:xfrm>
              <a:off x="906480" y="3363840"/>
              <a:ext cx="472104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"/>
          <p:cNvGrpSpPr/>
          <p:nvPr/>
        </p:nvGrpSpPr>
        <p:grpSpPr>
          <a:xfrm>
            <a:off x="992880" y="4330800"/>
            <a:ext cx="7139160" cy="806760"/>
            <a:chOff x="992880" y="4330800"/>
            <a:chExt cx="7139160" cy="806760"/>
          </a:xfrm>
        </p:grpSpPr>
        <p:sp>
          <p:nvSpPr>
            <p:cNvPr id="350" name=""/>
            <p:cNvSpPr/>
            <p:nvPr/>
          </p:nvSpPr>
          <p:spPr>
            <a:xfrm>
              <a:off x="992880" y="4330800"/>
              <a:ext cx="71391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3333cc"/>
                </a:buClr>
                <a:buFont typeface="Symbol" charset="2"/>
                <a:buChar char="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local language          is controllable w.r.t. external behavior of 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languages          as seen by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txp_fig" descr=""/>
            <p:cNvPicPr/>
            <p:nvPr/>
          </p:nvPicPr>
          <p:blipFill>
            <a:blip r:embed="rId7"/>
            <a:stretch/>
          </p:blipFill>
          <p:spPr>
            <a:xfrm>
              <a:off x="4222800" y="4875120"/>
              <a:ext cx="252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txp_fig" descr=""/>
            <p:cNvPicPr/>
            <p:nvPr/>
          </p:nvPicPr>
          <p:blipFill>
            <a:blip r:embed="rId8"/>
            <a:stretch/>
          </p:blipFill>
          <p:spPr>
            <a:xfrm>
              <a:off x="2863800" y="4471920"/>
              <a:ext cx="48096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txp_fig" descr=""/>
            <p:cNvPicPr/>
            <p:nvPr/>
          </p:nvPicPr>
          <p:blipFill>
            <a:blip r:embed="rId9"/>
            <a:stretch/>
          </p:blipFill>
          <p:spPr>
            <a:xfrm>
              <a:off x="2473200" y="4842000"/>
              <a:ext cx="4906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3106-A85E-4AFE-AFD9-79941A4AF71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Structural Decentralized Finite Automata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70000" y="1225440"/>
            <a:ext cx="511200" cy="511200"/>
            <a:chOff x="2070000" y="1225440"/>
            <a:chExt cx="511200" cy="511200"/>
          </a:xfrm>
        </p:grpSpPr>
        <p:sp>
          <p:nvSpPr>
            <p:cNvPr id="356" name=""/>
            <p:cNvSpPr/>
            <p:nvPr/>
          </p:nvSpPr>
          <p:spPr>
            <a:xfrm>
              <a:off x="2070000" y="12254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83040" y="130032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070000" y="1981080"/>
            <a:ext cx="511200" cy="511200"/>
            <a:chOff x="2070000" y="1981080"/>
            <a:chExt cx="511200" cy="511200"/>
          </a:xfrm>
        </p:grpSpPr>
        <p:sp>
          <p:nvSpPr>
            <p:cNvPr id="359" name=""/>
            <p:cNvSpPr/>
            <p:nvPr/>
          </p:nvSpPr>
          <p:spPr>
            <a:xfrm>
              <a:off x="2070000" y="19810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83040" y="20556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432240" y="3422520"/>
            <a:ext cx="511200" cy="511200"/>
            <a:chOff x="3432240" y="3422520"/>
            <a:chExt cx="511200" cy="511200"/>
          </a:xfrm>
        </p:grpSpPr>
        <p:sp>
          <p:nvSpPr>
            <p:cNvPr id="362" name=""/>
            <p:cNvSpPr/>
            <p:nvPr/>
          </p:nvSpPr>
          <p:spPr>
            <a:xfrm>
              <a:off x="3432240" y="34225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5280" y="34970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06320" y="1598760"/>
            <a:ext cx="511200" cy="511200"/>
            <a:chOff x="706320" y="1598760"/>
            <a:chExt cx="511200" cy="511200"/>
          </a:xfrm>
        </p:grpSpPr>
        <p:sp>
          <p:nvSpPr>
            <p:cNvPr id="365" name=""/>
            <p:cNvSpPr/>
            <p:nvPr/>
          </p:nvSpPr>
          <p:spPr>
            <a:xfrm>
              <a:off x="706320" y="15987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9360" y="16736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V="1">
            <a:off x="1217520" y="1509840"/>
            <a:ext cx="87012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73240" y="1987560"/>
            <a:ext cx="88560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580840" y="1527120"/>
            <a:ext cx="855720" cy="233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584080" y="1994040"/>
            <a:ext cx="88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84600" y="2117880"/>
            <a:ext cx="0" cy="374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94080" y="2976480"/>
            <a:ext cx="567720" cy="520560"/>
            <a:chOff x="3394080" y="2976480"/>
            <a:chExt cx="567720" cy="520560"/>
          </a:xfrm>
        </p:grpSpPr>
        <p:sp>
          <p:nvSpPr>
            <p:cNvPr id="373" name=""/>
            <p:cNvSpPr/>
            <p:nvPr/>
          </p:nvSpPr>
          <p:spPr>
            <a:xfrm>
              <a:off x="3394080" y="2976480"/>
              <a:ext cx="148320" cy="51516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3813480" y="2982240"/>
              <a:ext cx="147960" cy="51480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340000" y="2484360"/>
            <a:ext cx="1068480" cy="122256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55800" y="208116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16440" y="1886040"/>
            <a:ext cx="40140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7520" y="188136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txp_fig" descr=""/>
          <p:cNvPicPr/>
          <p:nvPr/>
        </p:nvPicPr>
        <p:blipFill>
          <a:blip r:embed="rId1"/>
          <a:stretch/>
        </p:blipFill>
        <p:spPr>
          <a:xfrm>
            <a:off x="277920" y="1314360"/>
            <a:ext cx="285480" cy="217440"/>
          </a:xfrm>
          <a:prstGeom prst="rect">
            <a:avLst/>
          </a:prstGeom>
          <a:ln w="0">
            <a:noFill/>
          </a:ln>
        </p:spPr>
      </p:pic>
      <p:pic>
        <p:nvPicPr>
          <p:cNvPr id="380" name="txp_fig" descr=""/>
          <p:cNvPicPr/>
          <p:nvPr/>
        </p:nvPicPr>
        <p:blipFill>
          <a:blip r:embed="rId2"/>
          <a:stretch/>
        </p:blipFill>
        <p:spPr>
          <a:xfrm>
            <a:off x="5326200" y="1357200"/>
            <a:ext cx="296640" cy="217440"/>
          </a:xfrm>
          <a:prstGeom prst="rect">
            <a:avLst/>
          </a:prstGeom>
          <a:ln w="0">
            <a:noFill/>
          </a:ln>
        </p:spPr>
      </p:pic>
      <p:pic>
        <p:nvPicPr>
          <p:cNvPr id="381" name="txp_fig" descr=""/>
          <p:cNvPicPr/>
          <p:nvPr/>
        </p:nvPicPr>
        <p:blipFill>
          <a:blip r:embed="rId3"/>
          <a:stretch/>
        </p:blipFill>
        <p:spPr>
          <a:xfrm>
            <a:off x="1438200" y="140652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382" name="txp_fig" descr=""/>
          <p:cNvPicPr/>
          <p:nvPr/>
        </p:nvPicPr>
        <p:blipFill>
          <a:blip r:embed="rId4"/>
          <a:stretch/>
        </p:blipFill>
        <p:spPr>
          <a:xfrm>
            <a:off x="2933640" y="140184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383" name="txp_fig" descr=""/>
          <p:cNvPicPr/>
          <p:nvPr/>
        </p:nvPicPr>
        <p:blipFill>
          <a:blip r:embed="rId5"/>
          <a:stretch/>
        </p:blipFill>
        <p:spPr>
          <a:xfrm>
            <a:off x="2798640" y="18702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384" name="txp_fig" descr=""/>
          <p:cNvPicPr/>
          <p:nvPr/>
        </p:nvPicPr>
        <p:blipFill>
          <a:blip r:embed="rId6"/>
          <a:stretch/>
        </p:blipFill>
        <p:spPr>
          <a:xfrm>
            <a:off x="1616040" y="192096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385" name="txp_fig" descr=""/>
          <p:cNvPicPr/>
          <p:nvPr/>
        </p:nvPicPr>
        <p:blipFill>
          <a:blip r:embed="rId7"/>
          <a:stretch/>
        </p:blipFill>
        <p:spPr>
          <a:xfrm>
            <a:off x="4378320" y="282096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386" name="txp_fig" descr=""/>
          <p:cNvPicPr/>
          <p:nvPr/>
        </p:nvPicPr>
        <p:blipFill>
          <a:blip r:embed="rId8"/>
          <a:stretch/>
        </p:blipFill>
        <p:spPr>
          <a:xfrm>
            <a:off x="2498760" y="301932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387" name="txp_fig" descr=""/>
          <p:cNvPicPr/>
          <p:nvPr/>
        </p:nvPicPr>
        <p:blipFill>
          <a:blip r:embed="rId9"/>
          <a:stretch/>
        </p:blipFill>
        <p:spPr>
          <a:xfrm>
            <a:off x="1195560" y="3068640"/>
            <a:ext cx="239400" cy="160200"/>
          </a:xfrm>
          <a:prstGeom prst="rect">
            <a:avLst/>
          </a:prstGeom>
          <a:ln w="0">
            <a:noFill/>
          </a:ln>
        </p:spPr>
      </p:pic>
      <p:pic>
        <p:nvPicPr>
          <p:cNvPr id="388" name="txp_fig" descr=""/>
          <p:cNvPicPr/>
          <p:nvPr/>
        </p:nvPicPr>
        <p:blipFill>
          <a:blip r:embed="rId10"/>
          <a:stretch/>
        </p:blipFill>
        <p:spPr>
          <a:xfrm>
            <a:off x="6407280" y="130968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389" name="txp_fig" descr=""/>
          <p:cNvPicPr/>
          <p:nvPr/>
        </p:nvPicPr>
        <p:blipFill>
          <a:blip r:embed="rId11"/>
          <a:stretch/>
        </p:blipFill>
        <p:spPr>
          <a:xfrm>
            <a:off x="7916760" y="1333440"/>
            <a:ext cx="206640" cy="217440"/>
          </a:xfrm>
          <a:prstGeom prst="rect">
            <a:avLst/>
          </a:prstGeom>
          <a:ln w="0">
            <a:noFill/>
          </a:ln>
        </p:spPr>
      </p:pic>
      <p:pic>
        <p:nvPicPr>
          <p:cNvPr id="390" name="txp_fig" descr=""/>
          <p:cNvPicPr/>
          <p:nvPr/>
        </p:nvPicPr>
        <p:blipFill>
          <a:blip r:embed="rId12"/>
          <a:stretch/>
        </p:blipFill>
        <p:spPr>
          <a:xfrm>
            <a:off x="7797960" y="1801800"/>
            <a:ext cx="20448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txp_fig" descr=""/>
          <p:cNvPicPr/>
          <p:nvPr/>
        </p:nvPicPr>
        <p:blipFill>
          <a:blip r:embed="rId13"/>
          <a:stretch/>
        </p:blipFill>
        <p:spPr>
          <a:xfrm>
            <a:off x="6608880" y="18669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392" name="txp_fig" descr=""/>
          <p:cNvPicPr/>
          <p:nvPr/>
        </p:nvPicPr>
        <p:blipFill>
          <a:blip r:embed="rId14"/>
          <a:stretch/>
        </p:blipFill>
        <p:spPr>
          <a:xfrm>
            <a:off x="6180120" y="2986200"/>
            <a:ext cx="204840" cy="215640"/>
          </a:xfrm>
          <a:prstGeom prst="rect">
            <a:avLst/>
          </a:prstGeom>
          <a:ln w="0">
            <a:noFill/>
          </a:ln>
        </p:spPr>
      </p:pic>
      <p:pic>
        <p:nvPicPr>
          <p:cNvPr id="393" name="txp_fig" descr=""/>
          <p:cNvPicPr/>
          <p:nvPr/>
        </p:nvPicPr>
        <p:blipFill>
          <a:blip r:embed="rId15"/>
          <a:stretch/>
        </p:blipFill>
        <p:spPr>
          <a:xfrm>
            <a:off x="7481880" y="293688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394" name="txp_fig" descr=""/>
          <p:cNvPicPr/>
          <p:nvPr/>
        </p:nvPicPr>
        <p:blipFill>
          <a:blip r:embed="rId16"/>
          <a:stretch/>
        </p:blipFill>
        <p:spPr>
          <a:xfrm>
            <a:off x="9361440" y="2752560"/>
            <a:ext cx="206280" cy="217800"/>
          </a:xfrm>
          <a:prstGeom prst="rect">
            <a:avLst/>
          </a:prstGeom>
          <a:ln w="0">
            <a:noFill/>
          </a:ln>
        </p:spPr>
      </p:pic>
      <p:pic>
        <p:nvPicPr>
          <p:cNvPr id="395" name="txp_fig" descr=""/>
          <p:cNvPicPr/>
          <p:nvPr/>
        </p:nvPicPr>
        <p:blipFill>
          <a:blip r:embed="rId17"/>
          <a:stretch/>
        </p:blipFill>
        <p:spPr>
          <a:xfrm>
            <a:off x="3441600" y="2214720"/>
            <a:ext cx="136800" cy="158760"/>
          </a:xfrm>
          <a:prstGeom prst="rect">
            <a:avLst/>
          </a:prstGeom>
          <a:ln w="0">
            <a:noFill/>
          </a:ln>
        </p:spPr>
      </p:pic>
      <p:pic>
        <p:nvPicPr>
          <p:cNvPr id="396" name="txp_fig" descr=""/>
          <p:cNvPicPr/>
          <p:nvPr/>
        </p:nvPicPr>
        <p:blipFill>
          <a:blip r:embed="rId18"/>
          <a:stretch/>
        </p:blipFill>
        <p:spPr>
          <a:xfrm>
            <a:off x="3200400" y="3127320"/>
            <a:ext cx="103320" cy="171360"/>
          </a:xfrm>
          <a:prstGeom prst="rect">
            <a:avLst/>
          </a:prstGeom>
          <a:ln w="0">
            <a:noFill/>
          </a:ln>
        </p:spPr>
      </p:pic>
      <p:pic>
        <p:nvPicPr>
          <p:cNvPr id="397" name="txp_fig" descr=""/>
          <p:cNvPicPr/>
          <p:nvPr/>
        </p:nvPicPr>
        <p:blipFill>
          <a:blip r:embed="rId19"/>
          <a:stretch/>
        </p:blipFill>
        <p:spPr>
          <a:xfrm>
            <a:off x="4025880" y="3149640"/>
            <a:ext cx="149400" cy="1602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3451320" y="2498760"/>
            <a:ext cx="511200" cy="511200"/>
            <a:chOff x="3451320" y="2498760"/>
            <a:chExt cx="511200" cy="511200"/>
          </a:xfrm>
        </p:grpSpPr>
        <p:sp>
          <p:nvSpPr>
            <p:cNvPr id="399" name=""/>
            <p:cNvSpPr/>
            <p:nvPr/>
          </p:nvSpPr>
          <p:spPr>
            <a:xfrm>
              <a:off x="3451320" y="249876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6760" y="255420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6720" y="257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422520" y="1595520"/>
            <a:ext cx="511200" cy="511200"/>
            <a:chOff x="3422520" y="1595520"/>
            <a:chExt cx="511200" cy="511200"/>
          </a:xfrm>
        </p:grpSpPr>
        <p:sp>
          <p:nvSpPr>
            <p:cNvPr id="403" name=""/>
            <p:cNvSpPr/>
            <p:nvPr/>
          </p:nvSpPr>
          <p:spPr>
            <a:xfrm>
              <a:off x="3422520" y="15955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77960" y="16509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17920" y="167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035840" y="1211400"/>
            <a:ext cx="511200" cy="511200"/>
            <a:chOff x="7035840" y="1211400"/>
            <a:chExt cx="511200" cy="511200"/>
          </a:xfrm>
        </p:grpSpPr>
        <p:sp>
          <p:nvSpPr>
            <p:cNvPr id="407" name=""/>
            <p:cNvSpPr/>
            <p:nvPr/>
          </p:nvSpPr>
          <p:spPr>
            <a:xfrm>
              <a:off x="7035840" y="1211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48880" y="12862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035840" y="1967040"/>
            <a:ext cx="511200" cy="511200"/>
            <a:chOff x="7035840" y="1967040"/>
            <a:chExt cx="511200" cy="511200"/>
          </a:xfrm>
        </p:grpSpPr>
        <p:sp>
          <p:nvSpPr>
            <p:cNvPr id="410" name=""/>
            <p:cNvSpPr/>
            <p:nvPr/>
          </p:nvSpPr>
          <p:spPr>
            <a:xfrm>
              <a:off x="7035840" y="1967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48880" y="2041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397720" y="3408480"/>
            <a:ext cx="511200" cy="511200"/>
            <a:chOff x="8397720" y="3408480"/>
            <a:chExt cx="511200" cy="511200"/>
          </a:xfrm>
        </p:grpSpPr>
        <p:sp>
          <p:nvSpPr>
            <p:cNvPr id="413" name=""/>
            <p:cNvSpPr/>
            <p:nvPr/>
          </p:nvSpPr>
          <p:spPr>
            <a:xfrm>
              <a:off x="8397720" y="34084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10760" y="3483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672160" y="1584360"/>
            <a:ext cx="511200" cy="511200"/>
            <a:chOff x="5672160" y="1584360"/>
            <a:chExt cx="511200" cy="511200"/>
          </a:xfrm>
        </p:grpSpPr>
        <p:sp>
          <p:nvSpPr>
            <p:cNvPr id="416" name=""/>
            <p:cNvSpPr/>
            <p:nvPr/>
          </p:nvSpPr>
          <p:spPr>
            <a:xfrm>
              <a:off x="5672160" y="1584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85200" y="16592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6183360" y="1495440"/>
            <a:ext cx="86976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38720" y="1973160"/>
            <a:ext cx="88596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7546680" y="1512360"/>
            <a:ext cx="855720" cy="23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7550280" y="1979640"/>
            <a:ext cx="885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650440" y="2103480"/>
            <a:ext cx="1440" cy="3747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359920" y="2962440"/>
            <a:ext cx="567360" cy="520200"/>
            <a:chOff x="8359920" y="2962440"/>
            <a:chExt cx="567360" cy="520200"/>
          </a:xfrm>
        </p:grpSpPr>
        <p:sp>
          <p:nvSpPr>
            <p:cNvPr id="424" name=""/>
            <p:cNvSpPr/>
            <p:nvPr/>
          </p:nvSpPr>
          <p:spPr>
            <a:xfrm>
              <a:off x="8359920" y="2962440"/>
              <a:ext cx="148320" cy="51480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8778960" y="2968200"/>
              <a:ext cx="147960" cy="51444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7305840" y="2470320"/>
            <a:ext cx="1068120" cy="122220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21280" y="206676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881920" y="1871640"/>
            <a:ext cx="40176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txp_fig" descr=""/>
          <p:cNvPicPr/>
          <p:nvPr/>
        </p:nvPicPr>
        <p:blipFill>
          <a:blip r:embed="rId20"/>
          <a:stretch/>
        </p:blipFill>
        <p:spPr>
          <a:xfrm>
            <a:off x="8407440" y="220032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430" name="txp_fig" descr=""/>
          <p:cNvPicPr/>
          <p:nvPr/>
        </p:nvPicPr>
        <p:blipFill>
          <a:blip r:embed="rId21"/>
          <a:stretch/>
        </p:blipFill>
        <p:spPr>
          <a:xfrm>
            <a:off x="8166240" y="3112920"/>
            <a:ext cx="102960" cy="171720"/>
          </a:xfrm>
          <a:prstGeom prst="rect">
            <a:avLst/>
          </a:prstGeom>
          <a:ln w="0">
            <a:noFill/>
          </a:ln>
        </p:spPr>
      </p:pic>
      <p:pic>
        <p:nvPicPr>
          <p:cNvPr id="431" name="txp_fig" descr=""/>
          <p:cNvPicPr/>
          <p:nvPr/>
        </p:nvPicPr>
        <p:blipFill>
          <a:blip r:embed="rId22"/>
          <a:stretch/>
        </p:blipFill>
        <p:spPr>
          <a:xfrm>
            <a:off x="8991720" y="3135240"/>
            <a:ext cx="149040" cy="16056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8416800" y="2484360"/>
            <a:ext cx="511200" cy="511200"/>
            <a:chOff x="8416800" y="2484360"/>
            <a:chExt cx="511200" cy="511200"/>
          </a:xfrm>
        </p:grpSpPr>
        <p:sp>
          <p:nvSpPr>
            <p:cNvPr id="433" name=""/>
            <p:cNvSpPr/>
            <p:nvPr/>
          </p:nvSpPr>
          <p:spPr>
            <a:xfrm>
              <a:off x="8416800" y="248436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2240" y="253980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12200" y="255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8388360" y="1581120"/>
            <a:ext cx="511200" cy="511200"/>
            <a:chOff x="8388360" y="1581120"/>
            <a:chExt cx="511200" cy="511200"/>
          </a:xfrm>
        </p:grpSpPr>
        <p:sp>
          <p:nvSpPr>
            <p:cNvPr id="437" name=""/>
            <p:cNvSpPr/>
            <p:nvPr/>
          </p:nvSpPr>
          <p:spPr>
            <a:xfrm>
              <a:off x="8388360" y="15811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43800" y="16365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83760" y="1655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85040" y="74772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wo cooperating machine cells (Lee &amp; Wo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02160" y="2287440"/>
            <a:ext cx="1728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564400" y="2259000"/>
            <a:ext cx="1731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96760" y="259236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76640" y="293688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26040" y="27525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82160" y="27525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69080" y="25671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46800" y="292428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11560" y="160164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04400" y="1564920"/>
            <a:ext cx="4536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76920" y="198576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101440" y="1955520"/>
            <a:ext cx="4536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88040" y="1866960"/>
            <a:ext cx="37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881440" y="4013280"/>
            <a:ext cx="3273120" cy="2257200"/>
            <a:chOff x="2881440" y="4013280"/>
            <a:chExt cx="3273120" cy="2257200"/>
          </a:xfrm>
        </p:grpSpPr>
        <p:grpSp>
          <p:nvGrpSpPr>
            <p:cNvPr id="455" name=""/>
            <p:cNvGrpSpPr/>
            <p:nvPr/>
          </p:nvGrpSpPr>
          <p:grpSpPr>
            <a:xfrm>
              <a:off x="2881440" y="4013280"/>
              <a:ext cx="3050640" cy="2257200"/>
              <a:chOff x="2881440" y="4013280"/>
              <a:chExt cx="3050640" cy="22572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3990960" y="4013280"/>
                <a:ext cx="1941120" cy="2257200"/>
                <a:chOff x="3990960" y="4013280"/>
                <a:chExt cx="1941120" cy="22572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5402160" y="5759280"/>
                  <a:ext cx="5112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b564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515200" y="583416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02160" y="4541760"/>
                  <a:ext cx="5112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b564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515200" y="461628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5364000" y="4957200"/>
                  <a:ext cx="144720" cy="82692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 flipV="1">
                  <a:off x="5787360" y="4976640"/>
                  <a:ext cx="144360" cy="82728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662440" y="5049720"/>
                  <a:ext cx="0" cy="725760"/>
                </a:xfrm>
                <a:prstGeom prst="line">
                  <a:avLst/>
                </a:prstGeom>
                <a:ln w="25560">
                  <a:solidFill>
                    <a:srgbClr val="b564f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661000" y="4013280"/>
                  <a:ext cx="0" cy="536400"/>
                </a:xfrm>
                <a:prstGeom prst="line">
                  <a:avLst/>
                </a:prstGeom>
                <a:ln w="25560">
                  <a:solidFill>
                    <a:srgbClr val="b564f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990960" y="5110200"/>
                  <a:ext cx="928800" cy="377640"/>
                </a:xfrm>
                <a:prstGeom prst="rightArrow">
                  <a:avLst>
                    <a:gd name="adj1" fmla="val 50000"/>
                    <a:gd name="adj2" fmla="val 61487"/>
                  </a:avLst>
                </a:prstGeom>
                <a:solidFill>
                  <a:srgbClr val="b564fe"/>
                </a:solidFill>
                <a:ln w="25560">
                  <a:solidFill>
                    <a:srgbClr val="b564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6" name="txp_fig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180040" y="5268960"/>
                  <a:ext cx="10332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txp_fig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5686560" y="5288040"/>
                  <a:ext cx="136440" cy="15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8" name="txp_fig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81440" y="5157720"/>
                <a:ext cx="868320" cy="30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9" name="txp_fig" descr=""/>
            <p:cNvPicPr/>
            <p:nvPr/>
          </p:nvPicPr>
          <p:blipFill>
            <a:blip r:embed="rId26"/>
            <a:stretch/>
          </p:blipFill>
          <p:spPr>
            <a:xfrm>
              <a:off x="6005520" y="5273640"/>
              <a:ext cx="14904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575320" y="5451480"/>
              <a:ext cx="173160" cy="0"/>
            </a:xfrm>
            <a:prstGeom prst="line">
              <a:avLst/>
            </a:prstGeom>
            <a:ln w="25560">
              <a:solidFill>
                <a:srgbClr val="d9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816200" y="4022640"/>
            <a:ext cx="5330880" cy="2270160"/>
            <a:chOff x="1816200" y="4022640"/>
            <a:chExt cx="5330880" cy="2270160"/>
          </a:xfrm>
        </p:grpSpPr>
        <p:pic>
          <p:nvPicPr>
            <p:cNvPr id="472" name="txp_fig" descr=""/>
            <p:cNvPicPr/>
            <p:nvPr/>
          </p:nvPicPr>
          <p:blipFill>
            <a:blip r:embed="rId27"/>
            <a:stretch/>
          </p:blipFill>
          <p:spPr>
            <a:xfrm>
              <a:off x="1816200" y="5173560"/>
              <a:ext cx="192096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3" name=""/>
            <p:cNvGrpSpPr/>
            <p:nvPr/>
          </p:nvGrpSpPr>
          <p:grpSpPr>
            <a:xfrm>
              <a:off x="5172480" y="4022640"/>
              <a:ext cx="1974600" cy="2270160"/>
              <a:chOff x="5172480" y="4022640"/>
              <a:chExt cx="1974600" cy="2270160"/>
            </a:xfrm>
          </p:grpSpPr>
          <p:pic>
            <p:nvPicPr>
              <p:cNvPr id="474" name="txp_fig" descr=""/>
              <p:cNvPicPr/>
              <p:nvPr/>
            </p:nvPicPr>
            <p:blipFill>
              <a:blip r:embed="rId28"/>
              <a:stretch/>
            </p:blipFill>
            <p:spPr>
              <a:xfrm>
                <a:off x="6000840" y="5292720"/>
                <a:ext cx="149400" cy="160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5" name=""/>
              <p:cNvGrpSpPr/>
              <p:nvPr/>
            </p:nvGrpSpPr>
            <p:grpSpPr>
              <a:xfrm>
                <a:off x="5172480" y="4022640"/>
                <a:ext cx="1248840" cy="2270160"/>
                <a:chOff x="5172480" y="4022640"/>
                <a:chExt cx="1248840" cy="22701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5846760" y="5743440"/>
                  <a:ext cx="574560" cy="549360"/>
                </a:xfrm>
                <a:custGeom>
                  <a:avLst/>
                  <a:gdLst/>
                  <a:ahLst/>
                  <a:rect l="l" t="t" r="r" b="b"/>
                  <a:pathLst>
                    <a:path w="362" h="346">
                      <a:moveTo>
                        <a:pt x="0" y="287"/>
                      </a:moveTo>
                      <a:cubicBezTo>
                        <a:pt x="26" y="296"/>
                        <a:pt x="108" y="338"/>
                        <a:pt x="155" y="342"/>
                      </a:cubicBezTo>
                      <a:cubicBezTo>
                        <a:pt x="202" y="346"/>
                        <a:pt x="250" y="334"/>
                        <a:pt x="283" y="314"/>
                      </a:cubicBezTo>
                      <a:cubicBezTo>
                        <a:pt x="316" y="294"/>
                        <a:pt x="350" y="266"/>
                        <a:pt x="356" y="223"/>
                      </a:cubicBezTo>
                      <a:cubicBezTo>
                        <a:pt x="362" y="180"/>
                        <a:pt x="350" y="95"/>
                        <a:pt x="320" y="58"/>
                      </a:cubicBezTo>
                      <a:cubicBezTo>
                        <a:pt x="290" y="21"/>
                        <a:pt x="227" y="0"/>
                        <a:pt x="174" y="3"/>
                      </a:cubicBezTo>
                      <a:cubicBezTo>
                        <a:pt x="121" y="6"/>
                        <a:pt x="36" y="62"/>
                        <a:pt x="0" y="77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840640" y="4518000"/>
                  <a:ext cx="574200" cy="549360"/>
                </a:xfrm>
                <a:custGeom>
                  <a:avLst/>
                  <a:gdLst/>
                  <a:ahLst/>
                  <a:rect l="l" t="t" r="r" b="b"/>
                  <a:pathLst>
                    <a:path w="362" h="346">
                      <a:moveTo>
                        <a:pt x="0" y="287"/>
                      </a:moveTo>
                      <a:cubicBezTo>
                        <a:pt x="26" y="296"/>
                        <a:pt x="108" y="338"/>
                        <a:pt x="155" y="342"/>
                      </a:cubicBezTo>
                      <a:cubicBezTo>
                        <a:pt x="202" y="346"/>
                        <a:pt x="250" y="334"/>
                        <a:pt x="283" y="314"/>
                      </a:cubicBezTo>
                      <a:cubicBezTo>
                        <a:pt x="316" y="294"/>
                        <a:pt x="350" y="266"/>
                        <a:pt x="356" y="223"/>
                      </a:cubicBezTo>
                      <a:cubicBezTo>
                        <a:pt x="362" y="180"/>
                        <a:pt x="350" y="95"/>
                        <a:pt x="320" y="58"/>
                      </a:cubicBezTo>
                      <a:cubicBezTo>
                        <a:pt x="290" y="21"/>
                        <a:pt x="227" y="0"/>
                        <a:pt x="174" y="3"/>
                      </a:cubicBezTo>
                      <a:cubicBezTo>
                        <a:pt x="121" y="6"/>
                        <a:pt x="36" y="62"/>
                        <a:pt x="0" y="77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394600" y="5769000"/>
                  <a:ext cx="5616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505840" y="584352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394600" y="4551480"/>
                  <a:ext cx="5616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505840" y="462600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5356440" y="4966560"/>
                  <a:ext cx="158400" cy="82692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5780160" y="4985640"/>
                  <a:ext cx="158400" cy="82692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654880" y="5059440"/>
                  <a:ext cx="1080" cy="725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653080" y="4022640"/>
                  <a:ext cx="1440" cy="536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6" name="txp_fig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5172480" y="5281560"/>
                  <a:ext cx="11232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txp_fig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5673960" y="5294160"/>
                  <a:ext cx="150480" cy="15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8" name="txp_fig" descr=""/>
              <p:cNvPicPr/>
              <p:nvPr/>
            </p:nvPicPr>
            <p:blipFill>
              <a:blip r:embed="rId31"/>
              <a:stretch/>
            </p:blipFill>
            <p:spPr>
              <a:xfrm>
                <a:off x="6461280" y="4467240"/>
                <a:ext cx="68580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txp_fig" descr=""/>
              <p:cNvPicPr/>
              <p:nvPr/>
            </p:nvPicPr>
            <p:blipFill>
              <a:blip r:embed="rId32"/>
              <a:stretch/>
            </p:blipFill>
            <p:spPr>
              <a:xfrm>
                <a:off x="6455160" y="5635440"/>
                <a:ext cx="68580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5570640" y="5456160"/>
                <a:ext cx="17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17520" y="3796920"/>
            <a:ext cx="6813360" cy="2495880"/>
            <a:chOff x="317520" y="3796920"/>
            <a:chExt cx="6813360" cy="2495880"/>
          </a:xfrm>
        </p:grpSpPr>
        <p:sp>
          <p:nvSpPr>
            <p:cNvPr id="492" name=""/>
            <p:cNvSpPr/>
            <p:nvPr/>
          </p:nvSpPr>
          <p:spPr>
            <a:xfrm>
              <a:off x="5841720" y="5743440"/>
              <a:ext cx="574920" cy="549360"/>
            </a:xfrm>
            <a:custGeom>
              <a:avLst/>
              <a:gdLst/>
              <a:ahLst/>
              <a:rect l="l" t="t" r="r" b="b"/>
              <a:pathLst>
                <a:path w="362" h="346">
                  <a:moveTo>
                    <a:pt x="0" y="287"/>
                  </a:moveTo>
                  <a:cubicBezTo>
                    <a:pt x="26" y="296"/>
                    <a:pt x="108" y="338"/>
                    <a:pt x="155" y="342"/>
                  </a:cubicBezTo>
                  <a:cubicBezTo>
                    <a:pt x="202" y="346"/>
                    <a:pt x="250" y="334"/>
                    <a:pt x="283" y="314"/>
                  </a:cubicBezTo>
                  <a:cubicBezTo>
                    <a:pt x="316" y="294"/>
                    <a:pt x="350" y="266"/>
                    <a:pt x="356" y="223"/>
                  </a:cubicBezTo>
                  <a:cubicBezTo>
                    <a:pt x="362" y="180"/>
                    <a:pt x="350" y="95"/>
                    <a:pt x="320" y="58"/>
                  </a:cubicBezTo>
                  <a:cubicBezTo>
                    <a:pt x="290" y="21"/>
                    <a:pt x="227" y="0"/>
                    <a:pt x="174" y="3"/>
                  </a:cubicBezTo>
                  <a:cubicBezTo>
                    <a:pt x="121" y="6"/>
                    <a:pt x="36" y="62"/>
                    <a:pt x="0" y="7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33800" y="4518000"/>
              <a:ext cx="574920" cy="549000"/>
            </a:xfrm>
            <a:custGeom>
              <a:avLst/>
              <a:gdLst/>
              <a:ahLst/>
              <a:rect l="l" t="t" r="r" b="b"/>
              <a:pathLst>
                <a:path w="362" h="346">
                  <a:moveTo>
                    <a:pt x="0" y="287"/>
                  </a:moveTo>
                  <a:cubicBezTo>
                    <a:pt x="26" y="296"/>
                    <a:pt x="108" y="338"/>
                    <a:pt x="155" y="342"/>
                  </a:cubicBezTo>
                  <a:cubicBezTo>
                    <a:pt x="202" y="346"/>
                    <a:pt x="250" y="334"/>
                    <a:pt x="283" y="314"/>
                  </a:cubicBezTo>
                  <a:cubicBezTo>
                    <a:pt x="316" y="294"/>
                    <a:pt x="350" y="266"/>
                    <a:pt x="356" y="223"/>
                  </a:cubicBezTo>
                  <a:cubicBezTo>
                    <a:pt x="362" y="180"/>
                    <a:pt x="350" y="95"/>
                    <a:pt x="320" y="58"/>
                  </a:cubicBezTo>
                  <a:cubicBezTo>
                    <a:pt x="290" y="21"/>
                    <a:pt x="227" y="0"/>
                    <a:pt x="174" y="3"/>
                  </a:cubicBezTo>
                  <a:cubicBezTo>
                    <a:pt x="121" y="6"/>
                    <a:pt x="36" y="62"/>
                    <a:pt x="0" y="7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4" name="txp_fig" descr=""/>
            <p:cNvPicPr/>
            <p:nvPr/>
          </p:nvPicPr>
          <p:blipFill>
            <a:blip r:embed="rId33"/>
            <a:stretch/>
          </p:blipFill>
          <p:spPr>
            <a:xfrm>
              <a:off x="6437160" y="4462200"/>
              <a:ext cx="6858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50800" y="4943160"/>
              <a:ext cx="4514760" cy="1103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6" name="txp_fig" descr=""/>
            <p:cNvPicPr/>
            <p:nvPr/>
          </p:nvPicPr>
          <p:blipFill>
            <a:blip r:embed="rId34"/>
            <a:stretch/>
          </p:blipFill>
          <p:spPr>
            <a:xfrm>
              <a:off x="317520" y="5171760"/>
              <a:ext cx="43894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3084840" y="4644720"/>
              <a:ext cx="172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ontrol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txp_fig" descr=""/>
            <p:cNvPicPr/>
            <p:nvPr/>
          </p:nvPicPr>
          <p:blipFill>
            <a:blip r:embed="rId35"/>
            <a:stretch/>
          </p:blipFill>
          <p:spPr>
            <a:xfrm>
              <a:off x="6445080" y="5628960"/>
              <a:ext cx="6858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 rot="1630800">
              <a:off x="4295160" y="4014720"/>
              <a:ext cx="1087560" cy="552240"/>
            </a:xfrm>
            <a:prstGeom prst="leftRightArrow">
              <a:avLst>
                <a:gd name="adj1" fmla="val 50000"/>
                <a:gd name="adj2" fmla="val 3920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B06E-F5B4-4FAD-A6E1-DECDEF29AF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Structural Decentralized Finite Automata: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27280" y="4732200"/>
            <a:ext cx="8096040" cy="1519560"/>
            <a:chOff x="827280" y="4732200"/>
            <a:chExt cx="8096040" cy="1519560"/>
          </a:xfrm>
        </p:grpSpPr>
        <p:sp>
          <p:nvSpPr>
            <p:cNvPr id="502" name=""/>
            <p:cNvSpPr/>
            <p:nvPr/>
          </p:nvSpPr>
          <p:spPr>
            <a:xfrm>
              <a:off x="827280" y="4732200"/>
              <a:ext cx="80960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verify local 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generate local supervi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concurrent operation of local supervisors is nonbloc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concurrent operation of local supervisors is optimal (equals overall solution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3" name="txp_fig" descr=""/>
            <p:cNvPicPr/>
            <p:nvPr/>
          </p:nvPicPr>
          <p:blipFill>
            <a:blip r:embed="rId1"/>
            <a:stretch/>
          </p:blipFill>
          <p:spPr>
            <a:xfrm>
              <a:off x="3933720" y="5245200"/>
              <a:ext cx="2066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txp_fig" descr=""/>
            <p:cNvPicPr/>
            <p:nvPr/>
          </p:nvPicPr>
          <p:blipFill>
            <a:blip r:embed="rId2"/>
            <a:stretch/>
          </p:blipFill>
          <p:spPr>
            <a:xfrm>
              <a:off x="3760920" y="4883040"/>
              <a:ext cx="263520" cy="2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"/>
          <p:cNvGrpSpPr/>
          <p:nvPr/>
        </p:nvGrpSpPr>
        <p:grpSpPr>
          <a:xfrm>
            <a:off x="431640" y="787320"/>
            <a:ext cx="8674200" cy="3848040"/>
            <a:chOff x="431640" y="787320"/>
            <a:chExt cx="8674200" cy="3848040"/>
          </a:xfrm>
        </p:grpSpPr>
        <p:sp>
          <p:nvSpPr>
            <p:cNvPr id="506" name=""/>
            <p:cNvSpPr/>
            <p:nvPr/>
          </p:nvSpPr>
          <p:spPr>
            <a:xfrm>
              <a:off x="431640" y="787320"/>
              <a:ext cx="8674200" cy="38480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9200" y="808200"/>
              <a:ext cx="853848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(Lee and Wong 2002)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et the decentralized architecture be given as defined before. Suppo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at for                                and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)          ma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i)         and       are mutually control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n for any                                the following hold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66240" y="35542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72960" y="3986280"/>
              <a:ext cx="21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s nonblocking w.r.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" name="txp_fig" descr=""/>
            <p:cNvPicPr/>
            <p:nvPr/>
          </p:nvPicPr>
          <p:blipFill>
            <a:blip r:embed="rId3"/>
            <a:stretch/>
          </p:blipFill>
          <p:spPr>
            <a:xfrm>
              <a:off x="3040200" y="2763720"/>
              <a:ext cx="18176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txp_fig" descr=""/>
            <p:cNvPicPr/>
            <p:nvPr/>
          </p:nvPicPr>
          <p:blipFill>
            <a:blip r:embed="rId4"/>
            <a:stretch/>
          </p:blipFill>
          <p:spPr>
            <a:xfrm>
              <a:off x="1962000" y="3151080"/>
              <a:ext cx="572616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txp_fig" descr=""/>
            <p:cNvPicPr/>
            <p:nvPr/>
          </p:nvPicPr>
          <p:blipFill>
            <a:blip r:embed="rId5"/>
            <a:stretch/>
          </p:blipFill>
          <p:spPr>
            <a:xfrm>
              <a:off x="1943280" y="4029120"/>
              <a:ext cx="11318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txp_fig" descr=""/>
            <p:cNvPicPr/>
            <p:nvPr/>
          </p:nvPicPr>
          <p:blipFill>
            <a:blip r:embed="rId6"/>
            <a:stretch/>
          </p:blipFill>
          <p:spPr>
            <a:xfrm>
              <a:off x="5219640" y="4092480"/>
              <a:ext cx="45720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txp_fig" descr=""/>
            <p:cNvPicPr/>
            <p:nvPr/>
          </p:nvPicPr>
          <p:blipFill>
            <a:blip r:embed="rId7"/>
            <a:stretch/>
          </p:blipFill>
          <p:spPr>
            <a:xfrm>
              <a:off x="2454120" y="2043000"/>
              <a:ext cx="228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txp_fig" descr=""/>
            <p:cNvPicPr/>
            <p:nvPr/>
          </p:nvPicPr>
          <p:blipFill>
            <a:blip r:embed="rId8"/>
            <a:stretch/>
          </p:blipFill>
          <p:spPr>
            <a:xfrm>
              <a:off x="3495600" y="2001960"/>
              <a:ext cx="2509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txp_fig" descr=""/>
            <p:cNvPicPr/>
            <p:nvPr/>
          </p:nvPicPr>
          <p:blipFill>
            <a:blip r:embed="rId9"/>
            <a:stretch/>
          </p:blipFill>
          <p:spPr>
            <a:xfrm>
              <a:off x="2446200" y="2392200"/>
              <a:ext cx="21780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txp_fig" descr=""/>
            <p:cNvPicPr/>
            <p:nvPr/>
          </p:nvPicPr>
          <p:blipFill>
            <a:blip r:embed="rId10"/>
            <a:stretch/>
          </p:blipFill>
          <p:spPr>
            <a:xfrm>
              <a:off x="3251160" y="2409840"/>
              <a:ext cx="2397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txp_fig" descr=""/>
            <p:cNvPicPr/>
            <p:nvPr/>
          </p:nvPicPr>
          <p:blipFill>
            <a:blip r:embed="rId11"/>
            <a:stretch/>
          </p:blipFill>
          <p:spPr>
            <a:xfrm>
              <a:off x="2441520" y="1682640"/>
              <a:ext cx="189720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txp_fig" descr=""/>
            <p:cNvPicPr/>
            <p:nvPr/>
          </p:nvPicPr>
          <p:blipFill>
            <a:blip r:embed="rId12"/>
            <a:stretch/>
          </p:blipFill>
          <p:spPr>
            <a:xfrm>
              <a:off x="4883040" y="1677960"/>
              <a:ext cx="536760" cy="2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4227-10CD-4A6E-9DAC-4FEFC2D29BA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613160" y="2930400"/>
            <a:ext cx="62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4. High-Level Abs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6F8B-4D2C-45BF-A050-4872BA7D61B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Contro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txp_fig" descr=""/>
          <p:cNvPicPr/>
          <p:nvPr/>
        </p:nvPicPr>
        <p:blipFill>
          <a:blip r:embed="rId1"/>
          <a:stretch/>
        </p:blipFill>
        <p:spPr>
          <a:xfrm>
            <a:off x="1768320" y="1030320"/>
            <a:ext cx="182880" cy="1602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71360" y="811080"/>
            <a:ext cx="477504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c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urrent nonblocking Finite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ctural Decentralized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ared event ma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tual control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txp_fig" descr=""/>
          <p:cNvPicPr/>
          <p:nvPr/>
        </p:nvPicPr>
        <p:blipFill>
          <a:blip r:embed="rId2"/>
          <a:stretch/>
        </p:blipFill>
        <p:spPr>
          <a:xfrm>
            <a:off x="4964040" y="1363680"/>
            <a:ext cx="3405240" cy="2858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173960" y="5275440"/>
            <a:ext cx="6761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0000"/>
              </a:lnSpc>
              <a:buClr>
                <a:srgbClr val="3333cc"/>
              </a:buClr>
              <a:buFont typeface="Symbol" charset="2"/>
              <a:buChar char="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local controls are non-conflicting (mutual controll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30000"/>
              </a:lnSpc>
              <a:buClr>
                <a:srgbClr val="3333cc"/>
              </a:buClr>
              <a:buFont typeface="Symbol" charset="2"/>
              <a:buChar char="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closed loop language is non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65600" y="2887560"/>
            <a:ext cx="8357760" cy="2205360"/>
            <a:chOff x="165600" y="2887560"/>
            <a:chExt cx="8357760" cy="2205360"/>
          </a:xfrm>
        </p:grpSpPr>
        <p:sp>
          <p:nvSpPr>
            <p:cNvPr id="527" name=""/>
            <p:cNvSpPr/>
            <p:nvPr/>
          </p:nvSpPr>
          <p:spPr>
            <a:xfrm>
              <a:off x="165600" y="2887560"/>
              <a:ext cx="6603480" cy="22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ocal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cal specifications                                (          -closed)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cal supervisor                                                       s.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quivalent overall supervis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cal closed-loop langu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8" name="txp_fig" descr=""/>
            <p:cNvPicPr/>
            <p:nvPr/>
          </p:nvPicPr>
          <p:blipFill>
            <a:blip r:embed="rId3"/>
            <a:stretch/>
          </p:blipFill>
          <p:spPr>
            <a:xfrm>
              <a:off x="2887560" y="3452760"/>
              <a:ext cx="17193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txp_fig" descr=""/>
            <p:cNvPicPr/>
            <p:nvPr/>
          </p:nvPicPr>
          <p:blipFill>
            <a:blip r:embed="rId4"/>
            <a:stretch/>
          </p:blipFill>
          <p:spPr>
            <a:xfrm>
              <a:off x="6372360" y="3809880"/>
              <a:ext cx="215100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txp_fig" descr=""/>
            <p:cNvPicPr/>
            <p:nvPr/>
          </p:nvPicPr>
          <p:blipFill>
            <a:blip r:embed="rId5"/>
            <a:stretch/>
          </p:blipFill>
          <p:spPr>
            <a:xfrm>
              <a:off x="4971960" y="3470400"/>
              <a:ext cx="4557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txp_fig" descr=""/>
            <p:cNvPicPr/>
            <p:nvPr/>
          </p:nvPicPr>
          <p:blipFill>
            <a:blip r:embed="rId6"/>
            <a:stretch/>
          </p:blipFill>
          <p:spPr>
            <a:xfrm>
              <a:off x="3906720" y="4130640"/>
              <a:ext cx="120672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txp_fig" descr=""/>
            <p:cNvPicPr/>
            <p:nvPr/>
          </p:nvPicPr>
          <p:blipFill>
            <a:blip r:embed="rId7"/>
            <a:stretch/>
          </p:blipFill>
          <p:spPr>
            <a:xfrm>
              <a:off x="3889440" y="4780080"/>
              <a:ext cx="2492280" cy="2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txp_fig" descr=""/>
            <p:cNvPicPr/>
            <p:nvPr/>
          </p:nvPicPr>
          <p:blipFill>
            <a:blip r:embed="rId8"/>
            <a:stretch/>
          </p:blipFill>
          <p:spPr>
            <a:xfrm>
              <a:off x="2865600" y="3765600"/>
              <a:ext cx="2982600" cy="28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C60A-D5DC-4D4A-BFE3-83E7FB23FDA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46160" y="800280"/>
            <a:ext cx="8569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ob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events                                                                   (common ev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tural 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mark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supervis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lation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Contro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txp_fig" descr=""/>
          <p:cNvPicPr/>
          <p:nvPr/>
        </p:nvPicPr>
        <p:blipFill>
          <a:blip r:embed="rId1"/>
          <a:stretch/>
        </p:blipFill>
        <p:spPr>
          <a:xfrm>
            <a:off x="1909800" y="957240"/>
            <a:ext cx="365040" cy="217440"/>
          </a:xfrm>
          <a:prstGeom prst="rect">
            <a:avLst/>
          </a:prstGeom>
          <a:ln w="0">
            <a:noFill/>
          </a:ln>
        </p:spPr>
      </p:pic>
      <p:pic>
        <p:nvPicPr>
          <p:cNvPr id="537" name="txp_fig" descr=""/>
          <p:cNvPicPr/>
          <p:nvPr/>
        </p:nvPicPr>
        <p:blipFill>
          <a:blip r:embed="rId2"/>
          <a:stretch/>
        </p:blipFill>
        <p:spPr>
          <a:xfrm>
            <a:off x="3819600" y="1762200"/>
            <a:ext cx="1931760" cy="274680"/>
          </a:xfrm>
          <a:prstGeom prst="rect">
            <a:avLst/>
          </a:prstGeom>
          <a:ln w="0">
            <a:noFill/>
          </a:ln>
        </p:spPr>
      </p:pic>
      <p:pic>
        <p:nvPicPr>
          <p:cNvPr id="538" name="txp_fig" descr=""/>
          <p:cNvPicPr/>
          <p:nvPr/>
        </p:nvPicPr>
        <p:blipFill>
          <a:blip r:embed="rId3"/>
          <a:stretch/>
        </p:blipFill>
        <p:spPr>
          <a:xfrm>
            <a:off x="3844800" y="2585880"/>
            <a:ext cx="4456080" cy="2858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339920" y="4500720"/>
            <a:ext cx="856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concept of high-level abstraction: projection on common event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coordination of system interaction via high-level control</a:t>
            </a:r>
            <a:r>
              <a:rPr b="0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translation of virtual high-level control action to low-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low-level supervisor consists of low-level  + translated high-lev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txp_fig" descr=""/>
          <p:cNvPicPr/>
          <p:nvPr/>
        </p:nvPicPr>
        <p:blipFill>
          <a:blip r:embed="rId4"/>
          <a:stretch/>
        </p:blipFill>
        <p:spPr>
          <a:xfrm>
            <a:off x="3819600" y="1379520"/>
            <a:ext cx="2938320" cy="320760"/>
          </a:xfrm>
          <a:prstGeom prst="rect">
            <a:avLst/>
          </a:prstGeom>
          <a:ln w="0">
            <a:noFill/>
          </a:ln>
        </p:spPr>
      </p:pic>
      <p:pic>
        <p:nvPicPr>
          <p:cNvPr id="541" name="txp_fig" descr=""/>
          <p:cNvPicPr/>
          <p:nvPr/>
        </p:nvPicPr>
        <p:blipFill>
          <a:blip r:embed="rId5"/>
          <a:stretch/>
        </p:blipFill>
        <p:spPr>
          <a:xfrm>
            <a:off x="3819600" y="2174760"/>
            <a:ext cx="2057400" cy="285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775800" y="3846600"/>
            <a:ext cx="3350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                                  iff 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txp_fig" descr=""/>
          <p:cNvPicPr/>
          <p:nvPr/>
        </p:nvPicPr>
        <p:blipFill>
          <a:blip r:embed="rId6"/>
          <a:stretch/>
        </p:blipFill>
        <p:spPr>
          <a:xfrm>
            <a:off x="3844800" y="3027240"/>
            <a:ext cx="1741680" cy="273240"/>
          </a:xfrm>
          <a:prstGeom prst="rect">
            <a:avLst/>
          </a:prstGeom>
          <a:ln w="0">
            <a:noFill/>
          </a:ln>
        </p:spPr>
      </p:pic>
      <p:pic>
        <p:nvPicPr>
          <p:cNvPr id="544" name="txp_fig" descr=""/>
          <p:cNvPicPr/>
          <p:nvPr/>
        </p:nvPicPr>
        <p:blipFill>
          <a:blip r:embed="rId7"/>
          <a:stretch/>
        </p:blipFill>
        <p:spPr>
          <a:xfrm>
            <a:off x="3817800" y="3486240"/>
            <a:ext cx="2094120" cy="226800"/>
          </a:xfrm>
          <a:prstGeom prst="rect">
            <a:avLst/>
          </a:prstGeom>
          <a:ln w="0">
            <a:noFill/>
          </a:ln>
        </p:spPr>
      </p:pic>
      <p:pic>
        <p:nvPicPr>
          <p:cNvPr id="545" name="txp_fig" descr=""/>
          <p:cNvPicPr/>
          <p:nvPr/>
        </p:nvPicPr>
        <p:blipFill>
          <a:blip r:embed="rId8"/>
          <a:stretch/>
        </p:blipFill>
        <p:spPr>
          <a:xfrm>
            <a:off x="1379520" y="3890880"/>
            <a:ext cx="2011320" cy="274680"/>
          </a:xfrm>
          <a:prstGeom prst="rect">
            <a:avLst/>
          </a:prstGeom>
          <a:ln w="0">
            <a:noFill/>
          </a:ln>
        </p:spPr>
      </p:pic>
      <p:pic>
        <p:nvPicPr>
          <p:cNvPr id="546" name="txp_fig" descr=""/>
          <p:cNvPicPr/>
          <p:nvPr/>
        </p:nvPicPr>
        <p:blipFill>
          <a:blip r:embed="rId9"/>
          <a:stretch/>
        </p:blipFill>
        <p:spPr>
          <a:xfrm>
            <a:off x="4181400" y="3890880"/>
            <a:ext cx="1817640" cy="274680"/>
          </a:xfrm>
          <a:prstGeom prst="rect">
            <a:avLst/>
          </a:prstGeom>
          <a:ln w="0">
            <a:noFill/>
          </a:ln>
        </p:spPr>
      </p:pic>
      <p:pic>
        <p:nvPicPr>
          <p:cNvPr id="547" name="txp_fig" descr=""/>
          <p:cNvPicPr/>
          <p:nvPr/>
        </p:nvPicPr>
        <p:blipFill>
          <a:blip r:embed="rId10"/>
          <a:stretch/>
        </p:blipFill>
        <p:spPr>
          <a:xfrm>
            <a:off x="4162320" y="4249800"/>
            <a:ext cx="892440" cy="23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E87B-D7E8-42EE-BC1E-74FCAAEEA7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0240" y="863640"/>
            <a:ext cx="6437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curr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al Decentralized Finite Autom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– Level Abs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Hierarchical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x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and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28B0-A12A-47B1-A390-D42E471695E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5240" y="906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blems to be solved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45640" y="1279440"/>
            <a:ext cx="8116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exity of projection is exponential in size of automa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arenR" startAt="2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cal consistency: translation of high-level control policy to low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action of high- and low-level part of low-level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25280" y="2781360"/>
            <a:ext cx="8680680" cy="1854000"/>
            <a:chOff x="125280" y="2781360"/>
            <a:chExt cx="8680680" cy="1854000"/>
          </a:xfrm>
        </p:grpSpPr>
        <p:sp>
          <p:nvSpPr>
            <p:cNvPr id="552" name=""/>
            <p:cNvSpPr/>
            <p:nvPr/>
          </p:nvSpPr>
          <p:spPr>
            <a:xfrm>
              <a:off x="623880" y="2781360"/>
              <a:ext cx="7772400" cy="1854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5280" y="2868480"/>
              <a:ext cx="8680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1)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(Construction of High-Level Languag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et the proposed hierarchical control architecture be given. Then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igh-level language can be constructed as follow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txp_fig" descr=""/>
            <p:cNvPicPr/>
            <p:nvPr/>
          </p:nvPicPr>
          <p:blipFill>
            <a:blip r:embed="rId1"/>
            <a:stretch/>
          </p:blipFill>
          <p:spPr>
            <a:xfrm>
              <a:off x="1308240" y="4151160"/>
              <a:ext cx="602280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"/>
          <p:cNvGrpSpPr/>
          <p:nvPr/>
        </p:nvGrpSpPr>
        <p:grpSpPr>
          <a:xfrm>
            <a:off x="1370520" y="5040360"/>
            <a:ext cx="5444640" cy="806760"/>
            <a:chOff x="1370520" y="5040360"/>
            <a:chExt cx="5444640" cy="806760"/>
          </a:xfrm>
        </p:grpSpPr>
        <p:sp>
          <p:nvSpPr>
            <p:cNvPr id="556" name=""/>
            <p:cNvSpPr/>
            <p:nvPr/>
          </p:nvSpPr>
          <p:spPr>
            <a:xfrm>
              <a:off x="1370520" y="5040360"/>
              <a:ext cx="461232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apply projection only to sublangu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compose abstracted sublangu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7" name="txp_fig" descr=""/>
            <p:cNvPicPr/>
            <p:nvPr/>
          </p:nvPicPr>
          <p:blipFill>
            <a:blip r:embed="rId2"/>
            <a:stretch/>
          </p:blipFill>
          <p:spPr>
            <a:xfrm>
              <a:off x="5653080" y="5518080"/>
              <a:ext cx="343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txp_fig" descr=""/>
            <p:cNvPicPr/>
            <p:nvPr/>
          </p:nvPicPr>
          <p:blipFill>
            <a:blip r:embed="rId3"/>
            <a:stretch/>
          </p:blipFill>
          <p:spPr>
            <a:xfrm>
              <a:off x="6002280" y="5180040"/>
              <a:ext cx="81288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E181-9FE2-4F23-A042-EA2AC6EC584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65160" y="1270080"/>
            <a:ext cx="7991640" cy="2905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9520" y="1344600"/>
            <a:ext cx="868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orem (Hierarchical Consistenc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ume the proposed hierarchical control architecture,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)       is hierarchical consistent w.r.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all high level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 follows that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i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is nonbloc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ii)       is maximally permi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68360" y="4370400"/>
            <a:ext cx="61210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e0eee"/>
              </a:buClr>
              <a:buFont typeface="Symbol" charset="2"/>
              <a:buChar char="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high-level control action can be realized in low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e0eee"/>
              </a:buClr>
              <a:buFont typeface="Symbol" charset="2"/>
              <a:buChar char="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the closed-loop language is non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e0eee"/>
              </a:buClr>
              <a:buFont typeface="Symbol" charset="2"/>
              <a:buChar char="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the translated low-level supervisor does not dis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behavior if it is not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txp_fig" descr=""/>
          <p:cNvPicPr/>
          <p:nvPr/>
        </p:nvPicPr>
        <p:blipFill>
          <a:blip r:embed="rId1"/>
          <a:stretch/>
        </p:blipFill>
        <p:spPr>
          <a:xfrm>
            <a:off x="1816200" y="2251080"/>
            <a:ext cx="182520" cy="160200"/>
          </a:xfrm>
          <a:prstGeom prst="rect">
            <a:avLst/>
          </a:prstGeom>
          <a:ln w="0">
            <a:noFill/>
          </a:ln>
        </p:spPr>
      </p:pic>
      <p:pic>
        <p:nvPicPr>
          <p:cNvPr id="564" name="txp_fig" descr=""/>
          <p:cNvPicPr/>
          <p:nvPr/>
        </p:nvPicPr>
        <p:blipFill>
          <a:blip r:embed="rId2"/>
          <a:stretch/>
        </p:blipFill>
        <p:spPr>
          <a:xfrm>
            <a:off x="5172120" y="2181240"/>
            <a:ext cx="365040" cy="217440"/>
          </a:xfrm>
          <a:prstGeom prst="rect">
            <a:avLst/>
          </a:prstGeom>
          <a:ln w="0">
            <a:noFill/>
          </a:ln>
        </p:spPr>
      </p:pic>
      <p:pic>
        <p:nvPicPr>
          <p:cNvPr id="565" name="txp_fig" descr=""/>
          <p:cNvPicPr/>
          <p:nvPr/>
        </p:nvPicPr>
        <p:blipFill>
          <a:blip r:embed="rId3"/>
          <a:stretch/>
        </p:blipFill>
        <p:spPr>
          <a:xfrm>
            <a:off x="5237280" y="2592360"/>
            <a:ext cx="3612960" cy="285840"/>
          </a:xfrm>
          <a:prstGeom prst="rect">
            <a:avLst/>
          </a:prstGeom>
          <a:ln w="0">
            <a:noFill/>
          </a:ln>
        </p:spPr>
      </p:pic>
      <p:pic>
        <p:nvPicPr>
          <p:cNvPr id="566" name="txp_fig" descr=""/>
          <p:cNvPicPr/>
          <p:nvPr/>
        </p:nvPicPr>
        <p:blipFill>
          <a:blip r:embed="rId4"/>
          <a:stretch/>
        </p:blipFill>
        <p:spPr>
          <a:xfrm>
            <a:off x="1792440" y="3846600"/>
            <a:ext cx="309240" cy="217440"/>
          </a:xfrm>
          <a:prstGeom prst="rect">
            <a:avLst/>
          </a:prstGeom>
          <a:ln w="0">
            <a:noFill/>
          </a:ln>
        </p:spPr>
      </p:pic>
      <p:pic>
        <p:nvPicPr>
          <p:cNvPr id="567" name="txp_fig" descr=""/>
          <p:cNvPicPr/>
          <p:nvPr/>
        </p:nvPicPr>
        <p:blipFill>
          <a:blip r:embed="rId5"/>
          <a:stretch/>
        </p:blipFill>
        <p:spPr>
          <a:xfrm>
            <a:off x="3522600" y="2989440"/>
            <a:ext cx="3451320" cy="307800"/>
          </a:xfrm>
          <a:prstGeom prst="rect">
            <a:avLst/>
          </a:prstGeom>
          <a:ln w="0">
            <a:noFill/>
          </a:ln>
        </p:spPr>
      </p:pic>
      <p:pic>
        <p:nvPicPr>
          <p:cNvPr id="568" name="txp_fig" descr=""/>
          <p:cNvPicPr/>
          <p:nvPr/>
        </p:nvPicPr>
        <p:blipFill>
          <a:blip r:embed="rId6"/>
          <a:stretch/>
        </p:blipFill>
        <p:spPr>
          <a:xfrm>
            <a:off x="1817640" y="3440160"/>
            <a:ext cx="1473120" cy="2858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45240" y="830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and (3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B10E-A0D2-44C1-9078-E3D69A1903A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Contro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3080" y="119556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80" y="384984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689120" y="3435480"/>
            <a:ext cx="5322600" cy="1609560"/>
            <a:chOff x="1689120" y="3435480"/>
            <a:chExt cx="5322600" cy="1609560"/>
          </a:xfrm>
        </p:grpSpPr>
        <p:pic>
          <p:nvPicPr>
            <p:cNvPr id="574" name="txp_fig" descr=""/>
            <p:cNvPicPr/>
            <p:nvPr/>
          </p:nvPicPr>
          <p:blipFill>
            <a:blip r:embed="rId1"/>
            <a:stretch/>
          </p:blipFill>
          <p:spPr>
            <a:xfrm>
              <a:off x="1839960" y="3743280"/>
              <a:ext cx="19796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89120" y="3508560"/>
              <a:ext cx="2273400" cy="153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963600" y="3773520"/>
              <a:ext cx="304812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62520" y="4273560"/>
              <a:ext cx="3035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8" name="txp_fig" descr=""/>
            <p:cNvPicPr/>
            <p:nvPr/>
          </p:nvPicPr>
          <p:blipFill>
            <a:blip r:embed="rId2"/>
            <a:stretch/>
          </p:blipFill>
          <p:spPr>
            <a:xfrm>
              <a:off x="4713120" y="3435480"/>
              <a:ext cx="149724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txp_fig" descr=""/>
            <p:cNvPicPr/>
            <p:nvPr/>
          </p:nvPicPr>
          <p:blipFill>
            <a:blip r:embed="rId3"/>
            <a:stretch/>
          </p:blipFill>
          <p:spPr>
            <a:xfrm>
              <a:off x="4637160" y="3915000"/>
              <a:ext cx="1576440" cy="29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"/>
          <p:cNvGrpSpPr/>
          <p:nvPr/>
        </p:nvGrpSpPr>
        <p:grpSpPr>
          <a:xfrm>
            <a:off x="6985080" y="3505320"/>
            <a:ext cx="2292120" cy="1536480"/>
            <a:chOff x="6985080" y="3505320"/>
            <a:chExt cx="2292120" cy="1536480"/>
          </a:xfrm>
        </p:grpSpPr>
        <p:grpSp>
          <p:nvGrpSpPr>
            <p:cNvPr id="581" name=""/>
            <p:cNvGrpSpPr/>
            <p:nvPr/>
          </p:nvGrpSpPr>
          <p:grpSpPr>
            <a:xfrm>
              <a:off x="6993000" y="3506760"/>
              <a:ext cx="2284200" cy="1530360"/>
              <a:chOff x="6993000" y="3506760"/>
              <a:chExt cx="2284200" cy="153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6993000" y="3506760"/>
                <a:ext cx="2284200" cy="1530360"/>
              </a:xfrm>
              <a:prstGeom prst="rect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7218360" y="3586320"/>
                <a:ext cx="1912320" cy="1384200"/>
                <a:chOff x="7218360" y="3586320"/>
                <a:chExt cx="1912320" cy="1384200"/>
              </a:xfrm>
            </p:grpSpPr>
            <p:sp>
              <p:nvSpPr>
                <p:cNvPr id="584" name=""/>
                <p:cNvSpPr/>
                <p:nvPr/>
              </p:nvSpPr>
              <p:spPr>
                <a:xfrm rot="5400000">
                  <a:off x="7332480" y="3696120"/>
                  <a:ext cx="970560" cy="1198800"/>
                </a:xfrm>
                <a:prstGeom prst="ellipse">
                  <a:avLst/>
                </a:prstGeom>
                <a:solidFill>
                  <a:srgbClr val="ffff99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5400000">
                  <a:off x="7810920" y="3494880"/>
                  <a:ext cx="574200" cy="756720"/>
                </a:xfrm>
                <a:prstGeom prst="ellipse">
                  <a:avLst/>
                </a:prstGeom>
                <a:solidFill>
                  <a:srgbClr val="99ccff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5400000">
                  <a:off x="7928640" y="3938040"/>
                  <a:ext cx="763920" cy="1301040"/>
                </a:xfrm>
                <a:prstGeom prst="ellipse">
                  <a:avLst/>
                </a:prstGeom>
                <a:solidFill>
                  <a:srgbClr val="ffcc99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5400000">
                  <a:off x="8113680" y="3620520"/>
                  <a:ext cx="1005120" cy="1028520"/>
                </a:xfrm>
                <a:prstGeom prst="ellipse">
                  <a:avLst/>
                </a:prstGeom>
                <a:solidFill>
                  <a:srgbClr val="ccffcc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88" name="txp_fig" descr=""/>
              <p:cNvPicPr/>
              <p:nvPr/>
            </p:nvPicPr>
            <p:blipFill>
              <a:blip r:embed="rId4"/>
              <a:stretch/>
            </p:blipFill>
            <p:spPr>
              <a:xfrm>
                <a:off x="7058160" y="3551400"/>
                <a:ext cx="403200" cy="352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9" name=""/>
            <p:cNvSpPr/>
            <p:nvPr/>
          </p:nvSpPr>
          <p:spPr>
            <a:xfrm>
              <a:off x="6985080" y="3505320"/>
              <a:ext cx="2284200" cy="1536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695600" y="905040"/>
            <a:ext cx="7586640" cy="4141800"/>
            <a:chOff x="1695600" y="905040"/>
            <a:chExt cx="7586640" cy="4141800"/>
          </a:xfrm>
        </p:grpSpPr>
        <p:pic>
          <p:nvPicPr>
            <p:cNvPr id="591" name="txp_fig" descr=""/>
            <p:cNvPicPr/>
            <p:nvPr/>
          </p:nvPicPr>
          <p:blipFill>
            <a:blip r:embed="rId5"/>
            <a:stretch/>
          </p:blipFill>
          <p:spPr>
            <a:xfrm>
              <a:off x="8245800" y="2882880"/>
              <a:ext cx="7426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 flipV="1">
              <a:off x="8175600" y="2427480"/>
              <a:ext cx="0" cy="1079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8840" y="905040"/>
              <a:ext cx="2273400" cy="153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txp_fig" descr=""/>
            <p:cNvPicPr/>
            <p:nvPr/>
          </p:nvPicPr>
          <p:blipFill>
            <a:blip r:embed="rId6"/>
            <a:stretch/>
          </p:blipFill>
          <p:spPr>
            <a:xfrm>
              <a:off x="7753320" y="1406520"/>
              <a:ext cx="806760" cy="48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"/>
            <p:cNvGrpSpPr/>
            <p:nvPr/>
          </p:nvGrpSpPr>
          <p:grpSpPr>
            <a:xfrm>
              <a:off x="3940200" y="3718080"/>
              <a:ext cx="3047760" cy="182520"/>
              <a:chOff x="3940200" y="3718080"/>
              <a:chExt cx="3047760" cy="182520"/>
            </a:xfrm>
          </p:grpSpPr>
          <p:sp>
            <p:nvSpPr>
              <p:cNvPr id="596" name=""/>
              <p:cNvSpPr/>
              <p:nvPr/>
            </p:nvSpPr>
            <p:spPr>
              <a:xfrm>
                <a:off x="4071960" y="3718080"/>
                <a:ext cx="2882880" cy="182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3940200" y="3759120"/>
                <a:ext cx="30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1695600" y="3506760"/>
              <a:ext cx="2273400" cy="154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3960" y="4273560"/>
              <a:ext cx="30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697040" y="900000"/>
            <a:ext cx="7589880" cy="2608200"/>
            <a:chOff x="1697040" y="900000"/>
            <a:chExt cx="7589880" cy="2608200"/>
          </a:xfrm>
        </p:grpSpPr>
        <p:sp>
          <p:nvSpPr>
            <p:cNvPr id="601" name=""/>
            <p:cNvSpPr/>
            <p:nvPr/>
          </p:nvSpPr>
          <p:spPr>
            <a:xfrm>
              <a:off x="1697040" y="905040"/>
              <a:ext cx="2273400" cy="153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970080" y="1336680"/>
              <a:ext cx="3048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70440" y="2022480"/>
              <a:ext cx="3035160" cy="0"/>
            </a:xfrm>
            <a:prstGeom prst="line">
              <a:avLst/>
            </a:prstGeom>
            <a:ln cap="rnd" w="255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txp_fig" descr=""/>
            <p:cNvPicPr/>
            <p:nvPr/>
          </p:nvPicPr>
          <p:blipFill>
            <a:blip r:embed="rId7"/>
            <a:stretch/>
          </p:blipFill>
          <p:spPr>
            <a:xfrm>
              <a:off x="5051520" y="1009800"/>
              <a:ext cx="582480" cy="2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txp_fig" descr=""/>
            <p:cNvPicPr/>
            <p:nvPr/>
          </p:nvPicPr>
          <p:blipFill>
            <a:blip r:embed="rId8"/>
            <a:stretch/>
          </p:blipFill>
          <p:spPr>
            <a:xfrm>
              <a:off x="5065920" y="1706400"/>
              <a:ext cx="62856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txp_fig" descr=""/>
            <p:cNvPicPr/>
            <p:nvPr/>
          </p:nvPicPr>
          <p:blipFill>
            <a:blip r:embed="rId9"/>
            <a:stretch/>
          </p:blipFill>
          <p:spPr>
            <a:xfrm>
              <a:off x="2482920" y="1409760"/>
              <a:ext cx="73044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7013520" y="900000"/>
              <a:ext cx="2273400" cy="153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8174160" y="2428920"/>
              <a:ext cx="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79640" y="55515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13000" y="55641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693800" y="895320"/>
            <a:ext cx="5314680" cy="3970440"/>
            <a:chOff x="1693800" y="895320"/>
            <a:chExt cx="5314680" cy="3970440"/>
          </a:xfrm>
        </p:grpSpPr>
        <p:sp>
          <p:nvSpPr>
            <p:cNvPr id="612" name=""/>
            <p:cNvSpPr/>
            <p:nvPr/>
          </p:nvSpPr>
          <p:spPr>
            <a:xfrm flipH="1">
              <a:off x="2832120" y="2425680"/>
              <a:ext cx="1440" cy="10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3" name="txp_fig" descr=""/>
            <p:cNvPicPr/>
            <p:nvPr/>
          </p:nvPicPr>
          <p:blipFill>
            <a:blip r:embed="rId10"/>
            <a:stretch/>
          </p:blipFill>
          <p:spPr>
            <a:xfrm>
              <a:off x="2906640" y="2873520"/>
              <a:ext cx="846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txp_fig" descr=""/>
            <p:cNvPicPr/>
            <p:nvPr/>
          </p:nvPicPr>
          <p:blipFill>
            <a:blip r:embed="rId11"/>
            <a:stretch/>
          </p:blipFill>
          <p:spPr>
            <a:xfrm>
              <a:off x="4505400" y="4440240"/>
              <a:ext cx="194148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3957480" y="4780080"/>
              <a:ext cx="3035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941640" y="1965240"/>
              <a:ext cx="3035160" cy="88920"/>
              <a:chOff x="3941640" y="1965240"/>
              <a:chExt cx="3035160" cy="88920"/>
            </a:xfrm>
          </p:grpSpPr>
          <p:sp>
            <p:nvSpPr>
              <p:cNvPr id="617" name=""/>
              <p:cNvSpPr/>
              <p:nvPr/>
            </p:nvSpPr>
            <p:spPr>
              <a:xfrm>
                <a:off x="3962160" y="1965240"/>
                <a:ext cx="3000600" cy="88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41640" y="2054160"/>
                <a:ext cx="303516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1693800" y="895320"/>
              <a:ext cx="2273400" cy="153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3960360" y="133344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1" name="txp_fig" descr=""/>
            <p:cNvPicPr/>
            <p:nvPr/>
          </p:nvPicPr>
          <p:blipFill>
            <a:blip r:embed="rId12"/>
            <a:stretch/>
          </p:blipFill>
          <p:spPr>
            <a:xfrm>
              <a:off x="2498760" y="4379760"/>
              <a:ext cx="687240" cy="4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63A0-AB9B-43C6-A55E-7CBC871962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070000" y="698400"/>
            <a:ext cx="511200" cy="511200"/>
            <a:chOff x="2070000" y="698400"/>
            <a:chExt cx="511200" cy="511200"/>
          </a:xfrm>
        </p:grpSpPr>
        <p:sp>
          <p:nvSpPr>
            <p:cNvPr id="624" name=""/>
            <p:cNvSpPr/>
            <p:nvPr/>
          </p:nvSpPr>
          <p:spPr>
            <a:xfrm>
              <a:off x="2070000" y="698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3040" y="7732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2070000" y="1454040"/>
            <a:ext cx="511200" cy="511200"/>
            <a:chOff x="2070000" y="1454040"/>
            <a:chExt cx="511200" cy="511200"/>
          </a:xfrm>
        </p:grpSpPr>
        <p:sp>
          <p:nvSpPr>
            <p:cNvPr id="627" name=""/>
            <p:cNvSpPr/>
            <p:nvPr/>
          </p:nvSpPr>
          <p:spPr>
            <a:xfrm>
              <a:off x="2070000" y="1454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83040" y="1528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432240" y="2895480"/>
            <a:ext cx="511200" cy="511200"/>
            <a:chOff x="3432240" y="2895480"/>
            <a:chExt cx="511200" cy="511200"/>
          </a:xfrm>
        </p:grpSpPr>
        <p:sp>
          <p:nvSpPr>
            <p:cNvPr id="630" name=""/>
            <p:cNvSpPr/>
            <p:nvPr/>
          </p:nvSpPr>
          <p:spPr>
            <a:xfrm>
              <a:off x="3432240" y="28954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45280" y="2970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706320" y="1071720"/>
            <a:ext cx="511200" cy="510840"/>
            <a:chOff x="706320" y="1071720"/>
            <a:chExt cx="511200" cy="510840"/>
          </a:xfrm>
        </p:grpSpPr>
        <p:sp>
          <p:nvSpPr>
            <p:cNvPr id="633" name=""/>
            <p:cNvSpPr/>
            <p:nvPr/>
          </p:nvSpPr>
          <p:spPr>
            <a:xfrm>
              <a:off x="706320" y="1071720"/>
              <a:ext cx="511200" cy="51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9360" y="11462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1217520" y="982800"/>
            <a:ext cx="87012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73240" y="1460520"/>
            <a:ext cx="88560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2580840" y="1000080"/>
            <a:ext cx="855720" cy="233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584080" y="1467000"/>
            <a:ext cx="88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84600" y="1590840"/>
            <a:ext cx="0" cy="374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94080" y="244944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3814920" y="245592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40000" y="1957320"/>
            <a:ext cx="1068480" cy="122256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55800" y="155412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16440" y="1359000"/>
            <a:ext cx="40140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txp_fig" descr=""/>
          <p:cNvPicPr/>
          <p:nvPr/>
        </p:nvPicPr>
        <p:blipFill>
          <a:blip r:embed="rId1"/>
          <a:stretch/>
        </p:blipFill>
        <p:spPr>
          <a:xfrm>
            <a:off x="277920" y="844560"/>
            <a:ext cx="285480" cy="217440"/>
          </a:xfrm>
          <a:prstGeom prst="rect">
            <a:avLst/>
          </a:prstGeom>
          <a:ln w="0">
            <a:noFill/>
          </a:ln>
        </p:spPr>
      </p:pic>
      <p:pic>
        <p:nvPicPr>
          <p:cNvPr id="646" name="txp_fig" descr=""/>
          <p:cNvPicPr/>
          <p:nvPr/>
        </p:nvPicPr>
        <p:blipFill>
          <a:blip r:embed="rId2"/>
          <a:stretch/>
        </p:blipFill>
        <p:spPr>
          <a:xfrm>
            <a:off x="5211720" y="84456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647" name="txp_fig" descr=""/>
          <p:cNvPicPr/>
          <p:nvPr/>
        </p:nvPicPr>
        <p:blipFill>
          <a:blip r:embed="rId3"/>
          <a:stretch/>
        </p:blipFill>
        <p:spPr>
          <a:xfrm>
            <a:off x="1438200" y="87948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648" name="txp_fig" descr=""/>
          <p:cNvPicPr/>
          <p:nvPr/>
        </p:nvPicPr>
        <p:blipFill>
          <a:blip r:embed="rId4"/>
          <a:stretch/>
        </p:blipFill>
        <p:spPr>
          <a:xfrm>
            <a:off x="2933640" y="87480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649" name="txp_fig" descr=""/>
          <p:cNvPicPr/>
          <p:nvPr/>
        </p:nvPicPr>
        <p:blipFill>
          <a:blip r:embed="rId5"/>
          <a:stretch/>
        </p:blipFill>
        <p:spPr>
          <a:xfrm>
            <a:off x="2798640" y="134316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650" name="txp_fig" descr=""/>
          <p:cNvPicPr/>
          <p:nvPr/>
        </p:nvPicPr>
        <p:blipFill>
          <a:blip r:embed="rId6"/>
          <a:stretch/>
        </p:blipFill>
        <p:spPr>
          <a:xfrm>
            <a:off x="1616040" y="139392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651" name="txp_fig" descr=""/>
          <p:cNvPicPr/>
          <p:nvPr/>
        </p:nvPicPr>
        <p:blipFill>
          <a:blip r:embed="rId7"/>
          <a:stretch/>
        </p:blipFill>
        <p:spPr>
          <a:xfrm>
            <a:off x="4378320" y="229392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652" name="txp_fig" descr=""/>
          <p:cNvPicPr/>
          <p:nvPr/>
        </p:nvPicPr>
        <p:blipFill>
          <a:blip r:embed="rId8"/>
          <a:stretch/>
        </p:blipFill>
        <p:spPr>
          <a:xfrm>
            <a:off x="2498760" y="249228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653" name="txp_fig" descr=""/>
          <p:cNvPicPr/>
          <p:nvPr/>
        </p:nvPicPr>
        <p:blipFill>
          <a:blip r:embed="rId9"/>
          <a:stretch/>
        </p:blipFill>
        <p:spPr>
          <a:xfrm>
            <a:off x="1195560" y="2541600"/>
            <a:ext cx="239400" cy="160200"/>
          </a:xfrm>
          <a:prstGeom prst="rect">
            <a:avLst/>
          </a:prstGeom>
          <a:ln w="0">
            <a:noFill/>
          </a:ln>
        </p:spPr>
      </p:pic>
      <p:pic>
        <p:nvPicPr>
          <p:cNvPr id="654" name="txp_fig" descr=""/>
          <p:cNvPicPr/>
          <p:nvPr/>
        </p:nvPicPr>
        <p:blipFill>
          <a:blip r:embed="rId10"/>
          <a:stretch/>
        </p:blipFill>
        <p:spPr>
          <a:xfrm>
            <a:off x="6407280" y="79704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655" name="txp_fig" descr=""/>
          <p:cNvPicPr/>
          <p:nvPr/>
        </p:nvPicPr>
        <p:blipFill>
          <a:blip r:embed="rId11"/>
          <a:stretch/>
        </p:blipFill>
        <p:spPr>
          <a:xfrm>
            <a:off x="7916760" y="820800"/>
            <a:ext cx="206640" cy="217440"/>
          </a:xfrm>
          <a:prstGeom prst="rect">
            <a:avLst/>
          </a:prstGeom>
          <a:ln w="0">
            <a:noFill/>
          </a:ln>
        </p:spPr>
      </p:pic>
      <p:pic>
        <p:nvPicPr>
          <p:cNvPr id="656" name="txp_fig" descr=""/>
          <p:cNvPicPr/>
          <p:nvPr/>
        </p:nvPicPr>
        <p:blipFill>
          <a:blip r:embed="rId12"/>
          <a:stretch/>
        </p:blipFill>
        <p:spPr>
          <a:xfrm>
            <a:off x="7797960" y="1289160"/>
            <a:ext cx="204480" cy="215640"/>
          </a:xfrm>
          <a:prstGeom prst="rect">
            <a:avLst/>
          </a:prstGeom>
          <a:ln w="0">
            <a:noFill/>
          </a:ln>
        </p:spPr>
      </p:pic>
      <p:pic>
        <p:nvPicPr>
          <p:cNvPr id="657" name="txp_fig" descr=""/>
          <p:cNvPicPr/>
          <p:nvPr/>
        </p:nvPicPr>
        <p:blipFill>
          <a:blip r:embed="rId13"/>
          <a:stretch/>
        </p:blipFill>
        <p:spPr>
          <a:xfrm>
            <a:off x="6608880" y="135396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658" name="txp_fig" descr=""/>
          <p:cNvPicPr/>
          <p:nvPr/>
        </p:nvPicPr>
        <p:blipFill>
          <a:blip r:embed="rId14"/>
          <a:stretch/>
        </p:blipFill>
        <p:spPr>
          <a:xfrm>
            <a:off x="6180120" y="2473200"/>
            <a:ext cx="204840" cy="216000"/>
          </a:xfrm>
          <a:prstGeom prst="rect">
            <a:avLst/>
          </a:prstGeom>
          <a:ln w="0">
            <a:noFill/>
          </a:ln>
        </p:spPr>
      </p:pic>
      <p:pic>
        <p:nvPicPr>
          <p:cNvPr id="659" name="txp_fig" descr=""/>
          <p:cNvPicPr/>
          <p:nvPr/>
        </p:nvPicPr>
        <p:blipFill>
          <a:blip r:embed="rId15"/>
          <a:stretch/>
        </p:blipFill>
        <p:spPr>
          <a:xfrm>
            <a:off x="7481880" y="242424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660" name="txp_fig" descr=""/>
          <p:cNvPicPr/>
          <p:nvPr/>
        </p:nvPicPr>
        <p:blipFill>
          <a:blip r:embed="rId16"/>
          <a:stretch/>
        </p:blipFill>
        <p:spPr>
          <a:xfrm>
            <a:off x="9361440" y="223992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661" name="txp_fig" descr=""/>
          <p:cNvPicPr/>
          <p:nvPr/>
        </p:nvPicPr>
        <p:blipFill>
          <a:blip r:embed="rId17"/>
          <a:stretch/>
        </p:blipFill>
        <p:spPr>
          <a:xfrm>
            <a:off x="3441600" y="1687680"/>
            <a:ext cx="136800" cy="158760"/>
          </a:xfrm>
          <a:prstGeom prst="rect">
            <a:avLst/>
          </a:prstGeom>
          <a:ln w="0">
            <a:noFill/>
          </a:ln>
        </p:spPr>
      </p:pic>
      <p:pic>
        <p:nvPicPr>
          <p:cNvPr id="662" name="txp_fig" descr=""/>
          <p:cNvPicPr/>
          <p:nvPr/>
        </p:nvPicPr>
        <p:blipFill>
          <a:blip r:embed="rId18"/>
          <a:stretch/>
        </p:blipFill>
        <p:spPr>
          <a:xfrm>
            <a:off x="3200400" y="2600280"/>
            <a:ext cx="103320" cy="171360"/>
          </a:xfrm>
          <a:prstGeom prst="rect">
            <a:avLst/>
          </a:prstGeom>
          <a:ln w="0">
            <a:noFill/>
          </a:ln>
        </p:spPr>
      </p:pic>
      <p:pic>
        <p:nvPicPr>
          <p:cNvPr id="663" name="txp_fig" descr=""/>
          <p:cNvPicPr/>
          <p:nvPr/>
        </p:nvPicPr>
        <p:blipFill>
          <a:blip r:embed="rId19"/>
          <a:stretch/>
        </p:blipFill>
        <p:spPr>
          <a:xfrm>
            <a:off x="4025880" y="2622600"/>
            <a:ext cx="149400" cy="160200"/>
          </a:xfrm>
          <a:prstGeom prst="rect">
            <a:avLst/>
          </a:prstGeom>
          <a:ln w="0">
            <a:noFill/>
          </a:ln>
        </p:spPr>
      </p:pic>
      <p:grpSp>
        <p:nvGrpSpPr>
          <p:cNvPr id="664" name=""/>
          <p:cNvGrpSpPr/>
          <p:nvPr/>
        </p:nvGrpSpPr>
        <p:grpSpPr>
          <a:xfrm>
            <a:off x="3451320" y="1971720"/>
            <a:ext cx="511200" cy="511200"/>
            <a:chOff x="3451320" y="1971720"/>
            <a:chExt cx="511200" cy="511200"/>
          </a:xfrm>
        </p:grpSpPr>
        <p:sp>
          <p:nvSpPr>
            <p:cNvPr id="665" name=""/>
            <p:cNvSpPr/>
            <p:nvPr/>
          </p:nvSpPr>
          <p:spPr>
            <a:xfrm>
              <a:off x="3451320" y="19717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06760" y="20271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546720" y="204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422520" y="1068480"/>
            <a:ext cx="511200" cy="511200"/>
            <a:chOff x="3422520" y="1068480"/>
            <a:chExt cx="511200" cy="511200"/>
          </a:xfrm>
        </p:grpSpPr>
        <p:sp>
          <p:nvSpPr>
            <p:cNvPr id="669" name=""/>
            <p:cNvSpPr/>
            <p:nvPr/>
          </p:nvSpPr>
          <p:spPr>
            <a:xfrm>
              <a:off x="3422520" y="10684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77960" y="11239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17920" y="114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35840" y="698400"/>
            <a:ext cx="511200" cy="511200"/>
            <a:chOff x="7035840" y="698400"/>
            <a:chExt cx="511200" cy="511200"/>
          </a:xfrm>
        </p:grpSpPr>
        <p:sp>
          <p:nvSpPr>
            <p:cNvPr id="673" name=""/>
            <p:cNvSpPr/>
            <p:nvPr/>
          </p:nvSpPr>
          <p:spPr>
            <a:xfrm>
              <a:off x="7035840" y="698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48880" y="7732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035840" y="1454040"/>
            <a:ext cx="511200" cy="511200"/>
            <a:chOff x="7035840" y="1454040"/>
            <a:chExt cx="511200" cy="511200"/>
          </a:xfrm>
        </p:grpSpPr>
        <p:sp>
          <p:nvSpPr>
            <p:cNvPr id="676" name=""/>
            <p:cNvSpPr/>
            <p:nvPr/>
          </p:nvSpPr>
          <p:spPr>
            <a:xfrm>
              <a:off x="7035840" y="1454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8880" y="1528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8397720" y="2895480"/>
            <a:ext cx="511200" cy="511200"/>
            <a:chOff x="8397720" y="2895480"/>
            <a:chExt cx="511200" cy="511200"/>
          </a:xfrm>
        </p:grpSpPr>
        <p:sp>
          <p:nvSpPr>
            <p:cNvPr id="679" name=""/>
            <p:cNvSpPr/>
            <p:nvPr/>
          </p:nvSpPr>
          <p:spPr>
            <a:xfrm>
              <a:off x="8397720" y="28954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510760" y="2970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672160" y="1071720"/>
            <a:ext cx="511200" cy="510840"/>
            <a:chOff x="5672160" y="1071720"/>
            <a:chExt cx="511200" cy="510840"/>
          </a:xfrm>
        </p:grpSpPr>
        <p:sp>
          <p:nvSpPr>
            <p:cNvPr id="682" name=""/>
            <p:cNvSpPr/>
            <p:nvPr/>
          </p:nvSpPr>
          <p:spPr>
            <a:xfrm>
              <a:off x="5672160" y="1071720"/>
              <a:ext cx="511200" cy="51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85200" y="11462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 flipV="1">
            <a:off x="6183360" y="982800"/>
            <a:ext cx="86976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8720" y="1460520"/>
            <a:ext cx="88596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7546680" y="1000080"/>
            <a:ext cx="855720" cy="233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7550280" y="1467000"/>
            <a:ext cx="885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650440" y="1590840"/>
            <a:ext cx="1440" cy="374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359920" y="244944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8780400" y="245592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05840" y="1957320"/>
            <a:ext cx="1068120" cy="122256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21280" y="155412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881920" y="1359000"/>
            <a:ext cx="40176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txp_fig" descr=""/>
          <p:cNvPicPr/>
          <p:nvPr/>
        </p:nvPicPr>
        <p:blipFill>
          <a:blip r:embed="rId20"/>
          <a:stretch/>
        </p:blipFill>
        <p:spPr>
          <a:xfrm>
            <a:off x="8407440" y="168768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695" name="txp_fig" descr=""/>
          <p:cNvPicPr/>
          <p:nvPr/>
        </p:nvPicPr>
        <p:blipFill>
          <a:blip r:embed="rId21"/>
          <a:stretch/>
        </p:blipFill>
        <p:spPr>
          <a:xfrm>
            <a:off x="8166240" y="2600280"/>
            <a:ext cx="102960" cy="171360"/>
          </a:xfrm>
          <a:prstGeom prst="rect">
            <a:avLst/>
          </a:prstGeom>
          <a:ln w="0">
            <a:noFill/>
          </a:ln>
        </p:spPr>
      </p:pic>
      <p:pic>
        <p:nvPicPr>
          <p:cNvPr id="696" name="txp_fig" descr=""/>
          <p:cNvPicPr/>
          <p:nvPr/>
        </p:nvPicPr>
        <p:blipFill>
          <a:blip r:embed="rId22"/>
          <a:stretch/>
        </p:blipFill>
        <p:spPr>
          <a:xfrm>
            <a:off x="8991720" y="2622600"/>
            <a:ext cx="149040" cy="160200"/>
          </a:xfrm>
          <a:prstGeom prst="rect">
            <a:avLst/>
          </a:prstGeom>
          <a:ln w="0">
            <a:noFill/>
          </a:ln>
        </p:spPr>
      </p:pic>
      <p:grpSp>
        <p:nvGrpSpPr>
          <p:cNvPr id="697" name=""/>
          <p:cNvGrpSpPr/>
          <p:nvPr/>
        </p:nvGrpSpPr>
        <p:grpSpPr>
          <a:xfrm>
            <a:off x="8416800" y="1971720"/>
            <a:ext cx="511200" cy="511200"/>
            <a:chOff x="8416800" y="1971720"/>
            <a:chExt cx="511200" cy="511200"/>
          </a:xfrm>
        </p:grpSpPr>
        <p:sp>
          <p:nvSpPr>
            <p:cNvPr id="698" name=""/>
            <p:cNvSpPr/>
            <p:nvPr/>
          </p:nvSpPr>
          <p:spPr>
            <a:xfrm>
              <a:off x="8416800" y="19717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472240" y="20271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512200" y="204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8388360" y="1068480"/>
            <a:ext cx="511200" cy="511200"/>
            <a:chOff x="8388360" y="1068480"/>
            <a:chExt cx="511200" cy="511200"/>
          </a:xfrm>
        </p:grpSpPr>
        <p:sp>
          <p:nvSpPr>
            <p:cNvPr id="702" name=""/>
            <p:cNvSpPr/>
            <p:nvPr/>
          </p:nvSpPr>
          <p:spPr>
            <a:xfrm>
              <a:off x="8388360" y="10684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443800" y="11239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483760" y="114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602160" y="1760400"/>
            <a:ext cx="1728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564400" y="1746360"/>
            <a:ext cx="1731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96760" y="206532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76640" y="240984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26040" y="222552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182160" y="223992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9080" y="20541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246800" y="241128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11560" y="107460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404400" y="105228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76920" y="145872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101440" y="144288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7520" y="134460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91280" y="1359000"/>
            <a:ext cx="37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83240" y="3608280"/>
            <a:ext cx="8763840" cy="2606760"/>
            <a:chOff x="183240" y="3608280"/>
            <a:chExt cx="8763840" cy="2606760"/>
          </a:xfrm>
        </p:grpSpPr>
        <p:grpSp>
          <p:nvGrpSpPr>
            <p:cNvPr id="720" name=""/>
            <p:cNvGrpSpPr/>
            <p:nvPr/>
          </p:nvGrpSpPr>
          <p:grpSpPr>
            <a:xfrm>
              <a:off x="2089080" y="4102200"/>
              <a:ext cx="511200" cy="511200"/>
              <a:chOff x="2089080" y="4102200"/>
              <a:chExt cx="511200" cy="511200"/>
            </a:xfrm>
          </p:grpSpPr>
          <p:sp>
            <p:nvSpPr>
              <p:cNvPr id="721" name=""/>
              <p:cNvSpPr/>
              <p:nvPr/>
            </p:nvSpPr>
            <p:spPr>
              <a:xfrm>
                <a:off x="2089080" y="41022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202120" y="41770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2089080" y="4857840"/>
              <a:ext cx="511200" cy="511200"/>
              <a:chOff x="2089080" y="4857840"/>
              <a:chExt cx="511200" cy="511200"/>
            </a:xfrm>
          </p:grpSpPr>
          <p:sp>
            <p:nvSpPr>
              <p:cNvPr id="724" name=""/>
              <p:cNvSpPr/>
              <p:nvPr/>
            </p:nvSpPr>
            <p:spPr>
              <a:xfrm>
                <a:off x="2089080" y="48578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202120" y="49323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101680" y="5634000"/>
              <a:ext cx="511200" cy="511200"/>
              <a:chOff x="2101680" y="5634000"/>
              <a:chExt cx="511200" cy="511200"/>
            </a:xfrm>
          </p:grpSpPr>
          <p:sp>
            <p:nvSpPr>
              <p:cNvPr id="727" name=""/>
              <p:cNvSpPr/>
              <p:nvPr/>
            </p:nvSpPr>
            <p:spPr>
              <a:xfrm>
                <a:off x="2101680" y="56340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212560" y="570852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725400" y="4475160"/>
              <a:ext cx="511200" cy="511200"/>
              <a:chOff x="725400" y="4475160"/>
              <a:chExt cx="511200" cy="511200"/>
            </a:xfrm>
          </p:grpSpPr>
          <p:sp>
            <p:nvSpPr>
              <p:cNvPr id="730" name=""/>
              <p:cNvSpPr/>
              <p:nvPr/>
            </p:nvSpPr>
            <p:spPr>
              <a:xfrm>
                <a:off x="725400" y="44751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38440" y="45500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 flipV="1">
              <a:off x="1236600" y="4386240"/>
              <a:ext cx="87012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92320" y="4863960"/>
              <a:ext cx="88560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2599920" y="4403880"/>
              <a:ext cx="85572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2603160" y="4870440"/>
              <a:ext cx="8859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3680" y="4994280"/>
              <a:ext cx="0" cy="374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7" name="txp_fig" descr=""/>
            <p:cNvPicPr/>
            <p:nvPr/>
          </p:nvPicPr>
          <p:blipFill>
            <a:blip r:embed="rId23"/>
            <a:stretch/>
          </p:blipFill>
          <p:spPr>
            <a:xfrm>
              <a:off x="1457280" y="428292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txp_fig" descr=""/>
            <p:cNvPicPr/>
            <p:nvPr/>
          </p:nvPicPr>
          <p:blipFill>
            <a:blip r:embed="rId24"/>
            <a:stretch/>
          </p:blipFill>
          <p:spPr>
            <a:xfrm>
              <a:off x="2952720" y="427824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txp_fig" descr=""/>
            <p:cNvPicPr/>
            <p:nvPr/>
          </p:nvPicPr>
          <p:blipFill>
            <a:blip r:embed="rId25"/>
            <a:stretch/>
          </p:blipFill>
          <p:spPr>
            <a:xfrm>
              <a:off x="2817720" y="474660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txp_fig" descr=""/>
            <p:cNvPicPr/>
            <p:nvPr/>
          </p:nvPicPr>
          <p:blipFill>
            <a:blip r:embed="rId26"/>
            <a:stretch/>
          </p:blipFill>
          <p:spPr>
            <a:xfrm>
              <a:off x="1635120" y="4797360"/>
              <a:ext cx="2397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txp_fig" descr=""/>
            <p:cNvPicPr/>
            <p:nvPr/>
          </p:nvPicPr>
          <p:blipFill>
            <a:blip r:embed="rId27"/>
            <a:stretch/>
          </p:blipFill>
          <p:spPr>
            <a:xfrm>
              <a:off x="4121280" y="472140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txp_fig" descr=""/>
            <p:cNvPicPr/>
            <p:nvPr/>
          </p:nvPicPr>
          <p:blipFill>
            <a:blip r:embed="rId28"/>
            <a:stretch/>
          </p:blipFill>
          <p:spPr>
            <a:xfrm>
              <a:off x="1758960" y="538488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txp_fig" descr=""/>
            <p:cNvPicPr/>
            <p:nvPr/>
          </p:nvPicPr>
          <p:blipFill>
            <a:blip r:embed="rId29"/>
            <a:stretch/>
          </p:blipFill>
          <p:spPr>
            <a:xfrm>
              <a:off x="6426360" y="3957480"/>
              <a:ext cx="20628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txp_fig" descr=""/>
            <p:cNvPicPr/>
            <p:nvPr/>
          </p:nvPicPr>
          <p:blipFill>
            <a:blip r:embed="rId30"/>
            <a:stretch/>
          </p:blipFill>
          <p:spPr>
            <a:xfrm>
              <a:off x="7935840" y="3981600"/>
              <a:ext cx="2062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txp_fig" descr=""/>
            <p:cNvPicPr/>
            <p:nvPr/>
          </p:nvPicPr>
          <p:blipFill>
            <a:blip r:embed="rId31"/>
            <a:stretch/>
          </p:blipFill>
          <p:spPr>
            <a:xfrm>
              <a:off x="7816680" y="4449600"/>
              <a:ext cx="2048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txp_fig" descr=""/>
            <p:cNvPicPr/>
            <p:nvPr/>
          </p:nvPicPr>
          <p:blipFill>
            <a:blip r:embed="rId32"/>
            <a:stretch/>
          </p:blipFill>
          <p:spPr>
            <a:xfrm>
              <a:off x="6627960" y="4514760"/>
              <a:ext cx="2174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txp_fig" descr=""/>
            <p:cNvPicPr/>
            <p:nvPr/>
          </p:nvPicPr>
          <p:blipFill>
            <a:blip r:embed="rId33"/>
            <a:stretch/>
          </p:blipFill>
          <p:spPr>
            <a:xfrm>
              <a:off x="6099120" y="5067360"/>
              <a:ext cx="2048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txp_fig" descr=""/>
            <p:cNvPicPr/>
            <p:nvPr/>
          </p:nvPicPr>
          <p:blipFill>
            <a:blip r:embed="rId34"/>
            <a:stretch/>
          </p:blipFill>
          <p:spPr>
            <a:xfrm>
              <a:off x="6921360" y="5191200"/>
              <a:ext cx="2066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txp_fig" descr=""/>
            <p:cNvPicPr/>
            <p:nvPr/>
          </p:nvPicPr>
          <p:blipFill>
            <a:blip r:embed="rId35"/>
            <a:stretch/>
          </p:blipFill>
          <p:spPr>
            <a:xfrm>
              <a:off x="3460680" y="5091120"/>
              <a:ext cx="1364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txp_fig" descr=""/>
            <p:cNvPicPr/>
            <p:nvPr/>
          </p:nvPicPr>
          <p:blipFill>
            <a:blip r:embed="rId36"/>
            <a:stretch/>
          </p:blipFill>
          <p:spPr>
            <a:xfrm>
              <a:off x="2967120" y="5548320"/>
              <a:ext cx="1029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txp_fig" descr=""/>
            <p:cNvPicPr/>
            <p:nvPr/>
          </p:nvPicPr>
          <p:blipFill>
            <a:blip r:embed="rId37"/>
            <a:stretch/>
          </p:blipFill>
          <p:spPr>
            <a:xfrm>
              <a:off x="4100400" y="5502240"/>
              <a:ext cx="149400" cy="16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2" name=""/>
            <p:cNvGrpSpPr/>
            <p:nvPr/>
          </p:nvGrpSpPr>
          <p:grpSpPr>
            <a:xfrm>
              <a:off x="3470400" y="5375160"/>
              <a:ext cx="511200" cy="511200"/>
              <a:chOff x="3470400" y="5375160"/>
              <a:chExt cx="511200" cy="511200"/>
            </a:xfrm>
          </p:grpSpPr>
          <p:sp>
            <p:nvSpPr>
              <p:cNvPr id="753" name=""/>
              <p:cNvSpPr/>
              <p:nvPr/>
            </p:nvSpPr>
            <p:spPr>
              <a:xfrm>
                <a:off x="3470400" y="5375160"/>
                <a:ext cx="511200" cy="511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525840" y="5430600"/>
                <a:ext cx="403200" cy="403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565800" y="54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441600" y="4471920"/>
              <a:ext cx="511200" cy="511200"/>
              <a:chOff x="3441600" y="4471920"/>
              <a:chExt cx="511200" cy="511200"/>
            </a:xfrm>
          </p:grpSpPr>
          <p:sp>
            <p:nvSpPr>
              <p:cNvPr id="757" name=""/>
              <p:cNvSpPr/>
              <p:nvPr/>
            </p:nvSpPr>
            <p:spPr>
              <a:xfrm>
                <a:off x="3441600" y="4471920"/>
                <a:ext cx="511200" cy="511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497040" y="4527360"/>
                <a:ext cx="403200" cy="403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537000" y="454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7054920" y="3859200"/>
              <a:ext cx="511200" cy="511200"/>
              <a:chOff x="7054920" y="3859200"/>
              <a:chExt cx="511200" cy="511200"/>
            </a:xfrm>
          </p:grpSpPr>
          <p:sp>
            <p:nvSpPr>
              <p:cNvPr id="761" name=""/>
              <p:cNvSpPr/>
              <p:nvPr/>
            </p:nvSpPr>
            <p:spPr>
              <a:xfrm>
                <a:off x="7054920" y="38592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67960" y="39340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7054920" y="4614840"/>
              <a:ext cx="511200" cy="511200"/>
              <a:chOff x="7054920" y="4614840"/>
              <a:chExt cx="511200" cy="511200"/>
            </a:xfrm>
          </p:grpSpPr>
          <p:sp>
            <p:nvSpPr>
              <p:cNvPr id="764" name=""/>
              <p:cNvSpPr/>
              <p:nvPr/>
            </p:nvSpPr>
            <p:spPr>
              <a:xfrm>
                <a:off x="7054920" y="46148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67960" y="46893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5691240" y="4232160"/>
              <a:ext cx="511200" cy="511200"/>
              <a:chOff x="5691240" y="4232160"/>
              <a:chExt cx="511200" cy="511200"/>
            </a:xfrm>
          </p:grpSpPr>
          <p:sp>
            <p:nvSpPr>
              <p:cNvPr id="767" name=""/>
              <p:cNvSpPr/>
              <p:nvPr/>
            </p:nvSpPr>
            <p:spPr>
              <a:xfrm>
                <a:off x="5691240" y="42321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04280" y="43070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6202440" y="4142880"/>
              <a:ext cx="869760" cy="23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57800" y="4621320"/>
              <a:ext cx="88596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7565760" y="4160880"/>
              <a:ext cx="85572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569360" y="4627440"/>
              <a:ext cx="885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669160" y="4751280"/>
              <a:ext cx="0" cy="681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4" name="txp_fig" descr=""/>
            <p:cNvPicPr/>
            <p:nvPr/>
          </p:nvPicPr>
          <p:blipFill>
            <a:blip r:embed="rId38"/>
            <a:stretch/>
          </p:blipFill>
          <p:spPr>
            <a:xfrm>
              <a:off x="8798040" y="4976640"/>
              <a:ext cx="1364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txp_fig" descr=""/>
            <p:cNvPicPr/>
            <p:nvPr/>
          </p:nvPicPr>
          <p:blipFill>
            <a:blip r:embed="rId39"/>
            <a:stretch/>
          </p:blipFill>
          <p:spPr>
            <a:xfrm>
              <a:off x="6783480" y="5946840"/>
              <a:ext cx="1029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txp_fig" descr=""/>
            <p:cNvPicPr/>
            <p:nvPr/>
          </p:nvPicPr>
          <p:blipFill>
            <a:blip r:embed="rId40"/>
            <a:stretch/>
          </p:blipFill>
          <p:spPr>
            <a:xfrm>
              <a:off x="7916760" y="5487840"/>
              <a:ext cx="149400" cy="16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7" name=""/>
            <p:cNvGrpSpPr/>
            <p:nvPr/>
          </p:nvGrpSpPr>
          <p:grpSpPr>
            <a:xfrm>
              <a:off x="8435880" y="5432400"/>
              <a:ext cx="511200" cy="511200"/>
              <a:chOff x="8435880" y="5432400"/>
              <a:chExt cx="511200" cy="511200"/>
            </a:xfrm>
          </p:grpSpPr>
          <p:sp>
            <p:nvSpPr>
              <p:cNvPr id="778" name=""/>
              <p:cNvSpPr/>
              <p:nvPr/>
            </p:nvSpPr>
            <p:spPr>
              <a:xfrm>
                <a:off x="8435880" y="5432400"/>
                <a:ext cx="511200" cy="511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491320" y="5487840"/>
                <a:ext cx="403200" cy="403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531280" y="5506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8407440" y="4229280"/>
              <a:ext cx="511200" cy="510840"/>
              <a:chOff x="8407440" y="4229280"/>
              <a:chExt cx="511200" cy="510840"/>
            </a:xfrm>
          </p:grpSpPr>
          <p:sp>
            <p:nvSpPr>
              <p:cNvPr id="782" name=""/>
              <p:cNvSpPr/>
              <p:nvPr/>
            </p:nvSpPr>
            <p:spPr>
              <a:xfrm>
                <a:off x="8407440" y="4229280"/>
                <a:ext cx="511200" cy="51084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62880" y="4284360"/>
                <a:ext cx="403200" cy="40284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502840" y="4303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21240" y="5164200"/>
              <a:ext cx="17280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583480" y="5064120"/>
              <a:ext cx="1731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137840" y="4901040"/>
              <a:ext cx="73080" cy="15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1440000" y="5233680"/>
              <a:ext cx="11592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09000" y="5335560"/>
              <a:ext cx="1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54680" y="5184720"/>
              <a:ext cx="17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430640" y="4478040"/>
              <a:ext cx="45360" cy="16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23120" y="4213080"/>
              <a:ext cx="45000" cy="16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96000" y="4862160"/>
              <a:ext cx="45360" cy="16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120160" y="4603320"/>
              <a:ext cx="45000" cy="16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612880" y="5697360"/>
              <a:ext cx="857520" cy="189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1069560" y="4959000"/>
              <a:ext cx="1017720" cy="84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4264200" y="4916520"/>
              <a:ext cx="510840" cy="511200"/>
              <a:chOff x="4264200" y="4916520"/>
              <a:chExt cx="510840" cy="511200"/>
            </a:xfrm>
          </p:grpSpPr>
          <p:sp>
            <p:nvSpPr>
              <p:cNvPr id="798" name=""/>
              <p:cNvSpPr/>
              <p:nvPr/>
            </p:nvSpPr>
            <p:spPr>
              <a:xfrm>
                <a:off x="4264200" y="4916520"/>
                <a:ext cx="51084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374360" y="499104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flipV="1">
              <a:off x="3962520" y="5298840"/>
              <a:ext cx="355320" cy="245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916440" y="4870440"/>
              <a:ext cx="347760" cy="16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txp_fig" descr=""/>
            <p:cNvPicPr/>
            <p:nvPr/>
          </p:nvPicPr>
          <p:blipFill>
            <a:blip r:embed="rId41"/>
            <a:stretch/>
          </p:blipFill>
          <p:spPr>
            <a:xfrm>
              <a:off x="299880" y="4184640"/>
              <a:ext cx="2746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txp_fig" descr=""/>
            <p:cNvPicPr/>
            <p:nvPr/>
          </p:nvPicPr>
          <p:blipFill>
            <a:blip r:embed="rId42"/>
            <a:stretch/>
          </p:blipFill>
          <p:spPr>
            <a:xfrm>
              <a:off x="5141880" y="4184640"/>
              <a:ext cx="285840" cy="21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4" name=""/>
            <p:cNvGrpSpPr/>
            <p:nvPr/>
          </p:nvGrpSpPr>
          <p:grpSpPr>
            <a:xfrm>
              <a:off x="7054920" y="5457960"/>
              <a:ext cx="511200" cy="511200"/>
              <a:chOff x="7054920" y="5457960"/>
              <a:chExt cx="511200" cy="511200"/>
            </a:xfrm>
          </p:grpSpPr>
          <p:sp>
            <p:nvSpPr>
              <p:cNvPr id="805" name=""/>
              <p:cNvSpPr/>
              <p:nvPr/>
            </p:nvSpPr>
            <p:spPr>
              <a:xfrm>
                <a:off x="7054920" y="54579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165800" y="553248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691240" y="5450040"/>
              <a:ext cx="511200" cy="511200"/>
              <a:chOff x="5691240" y="5450040"/>
              <a:chExt cx="511200" cy="511200"/>
            </a:xfrm>
          </p:grpSpPr>
          <p:sp>
            <p:nvSpPr>
              <p:cNvPr id="808" name=""/>
              <p:cNvSpPr/>
              <p:nvPr/>
            </p:nvSpPr>
            <p:spPr>
              <a:xfrm>
                <a:off x="5691240" y="54500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802120" y="552456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067440" y="5935680"/>
              <a:ext cx="2495520" cy="279360"/>
            </a:xfrm>
            <a:custGeom>
              <a:avLst/>
              <a:gdLst/>
              <a:ahLst/>
              <a:rect l="l" t="t" r="r" b="b"/>
              <a:pathLst>
                <a:path w="1572" h="176">
                  <a:moveTo>
                    <a:pt x="1572" y="9"/>
                  </a:moveTo>
                  <a:cubicBezTo>
                    <a:pt x="1549" y="23"/>
                    <a:pt x="1487" y="70"/>
                    <a:pt x="1435" y="91"/>
                  </a:cubicBezTo>
                  <a:cubicBezTo>
                    <a:pt x="1383" y="112"/>
                    <a:pt x="1368" y="123"/>
                    <a:pt x="1261" y="137"/>
                  </a:cubicBezTo>
                  <a:cubicBezTo>
                    <a:pt x="1154" y="151"/>
                    <a:pt x="925" y="170"/>
                    <a:pt x="795" y="173"/>
                  </a:cubicBezTo>
                  <a:cubicBezTo>
                    <a:pt x="665" y="176"/>
                    <a:pt x="589" y="166"/>
                    <a:pt x="480" y="153"/>
                  </a:cubicBezTo>
                  <a:cubicBezTo>
                    <a:pt x="371" y="140"/>
                    <a:pt x="218" y="117"/>
                    <a:pt x="138" y="92"/>
                  </a:cubicBezTo>
                  <a:cubicBezTo>
                    <a:pt x="58" y="67"/>
                    <a:pt x="29" y="19"/>
                    <a:pt x="0" y="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940360" y="4732200"/>
              <a:ext cx="0" cy="7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305840" y="5079960"/>
              <a:ext cx="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561440" y="5719680"/>
              <a:ext cx="8553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1920" y="4746600"/>
              <a:ext cx="37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97400" y="4514760"/>
              <a:ext cx="37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3240" y="360828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ow-level spez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612880" y="1824120"/>
            <a:ext cx="1870200" cy="4054320"/>
            <a:chOff x="2612880" y="1824120"/>
            <a:chExt cx="1870200" cy="4054320"/>
          </a:xfrm>
        </p:grpSpPr>
        <p:sp>
          <p:nvSpPr>
            <p:cNvPr id="818" name=""/>
            <p:cNvSpPr/>
            <p:nvPr/>
          </p:nvSpPr>
          <p:spPr>
            <a:xfrm>
              <a:off x="3390840" y="2444760"/>
              <a:ext cx="147600" cy="51444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2612880" y="2825640"/>
              <a:ext cx="330120" cy="266400"/>
              <a:chOff x="2612880" y="2825640"/>
              <a:chExt cx="330120" cy="266400"/>
            </a:xfrm>
          </p:grpSpPr>
          <p:sp>
            <p:nvSpPr>
              <p:cNvPr id="820" name=""/>
              <p:cNvSpPr/>
              <p:nvPr/>
            </p:nvSpPr>
            <p:spPr>
              <a:xfrm>
                <a:off x="2612880" y="2826000"/>
                <a:ext cx="330120" cy="266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2612880" y="2825640"/>
                <a:ext cx="330120" cy="266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152960" y="1824120"/>
              <a:ext cx="330120" cy="266400"/>
              <a:chOff x="4152960" y="1824120"/>
              <a:chExt cx="330120" cy="266400"/>
            </a:xfrm>
          </p:grpSpPr>
          <p:sp>
            <p:nvSpPr>
              <p:cNvPr id="823" name=""/>
              <p:cNvSpPr/>
              <p:nvPr/>
            </p:nvSpPr>
            <p:spPr>
              <a:xfrm>
                <a:off x="4152960" y="18241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4152960" y="18241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 flipH="1">
              <a:off x="2612880" y="5684760"/>
              <a:ext cx="857520" cy="193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833480" y="1359000"/>
            <a:ext cx="2745000" cy="4519440"/>
            <a:chOff x="1833480" y="1359000"/>
            <a:chExt cx="2745000" cy="4519440"/>
          </a:xfrm>
        </p:grpSpPr>
        <p:sp>
          <p:nvSpPr>
            <p:cNvPr id="827" name=""/>
            <p:cNvSpPr/>
            <p:nvPr/>
          </p:nvSpPr>
          <p:spPr>
            <a:xfrm flipH="1">
              <a:off x="3816360" y="2465640"/>
              <a:ext cx="147600" cy="5140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1833480" y="3087720"/>
              <a:ext cx="330120" cy="266400"/>
              <a:chOff x="1833480" y="3087720"/>
              <a:chExt cx="330120" cy="266400"/>
            </a:xfrm>
          </p:grpSpPr>
          <p:sp>
            <p:nvSpPr>
              <p:cNvPr id="829" name=""/>
              <p:cNvSpPr/>
              <p:nvPr/>
            </p:nvSpPr>
            <p:spPr>
              <a:xfrm>
                <a:off x="1833480" y="30877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1833480" y="30877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3386160" y="2443320"/>
              <a:ext cx="147600" cy="51444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2612880" y="5684760"/>
              <a:ext cx="857520" cy="1936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24160" y="1760760"/>
              <a:ext cx="454320" cy="33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19680" y="1359000"/>
              <a:ext cx="401400" cy="1820880"/>
            </a:xfrm>
            <a:custGeom>
              <a:avLst/>
              <a:gdLst/>
              <a:ahLst/>
              <a:rect l="l" t="t" r="r" b="b"/>
              <a:pathLst>
                <a:path w="253" h="1436">
                  <a:moveTo>
                    <a:pt x="10" y="1436"/>
                  </a:moveTo>
                  <a:cubicBezTo>
                    <a:pt x="29" y="1424"/>
                    <a:pt x="93" y="1408"/>
                    <a:pt x="128" y="1362"/>
                  </a:cubicBezTo>
                  <a:cubicBezTo>
                    <a:pt x="163" y="1316"/>
                    <a:pt x="200" y="1248"/>
                    <a:pt x="220" y="1161"/>
                  </a:cubicBezTo>
                  <a:cubicBezTo>
                    <a:pt x="240" y="1074"/>
                    <a:pt x="243" y="951"/>
                    <a:pt x="247" y="841"/>
                  </a:cubicBezTo>
                  <a:cubicBezTo>
                    <a:pt x="251" y="731"/>
                    <a:pt x="253" y="603"/>
                    <a:pt x="247" y="503"/>
                  </a:cubicBezTo>
                  <a:cubicBezTo>
                    <a:pt x="241" y="403"/>
                    <a:pt x="234" y="313"/>
                    <a:pt x="211" y="238"/>
                  </a:cubicBezTo>
                  <a:cubicBezTo>
                    <a:pt x="188" y="163"/>
                    <a:pt x="145" y="95"/>
                    <a:pt x="110" y="55"/>
                  </a:cubicBezTo>
                  <a:cubicBezTo>
                    <a:pt x="75" y="15"/>
                    <a:pt x="23" y="11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3962520" y="5286600"/>
              <a:ext cx="355320" cy="239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C5BF-3F83-4F78-BC76-D82CD79AED9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280" y="9381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rator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288120" y="9525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rator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txp_fig" descr=""/>
          <p:cNvPicPr/>
          <p:nvPr/>
        </p:nvPicPr>
        <p:blipFill>
          <a:blip r:embed="rId1"/>
          <a:stretch/>
        </p:blipFill>
        <p:spPr>
          <a:xfrm>
            <a:off x="1865160" y="988920"/>
            <a:ext cx="1235160" cy="285840"/>
          </a:xfrm>
          <a:prstGeom prst="rect">
            <a:avLst/>
          </a:prstGeom>
          <a:ln w="0">
            <a:noFill/>
          </a:ln>
        </p:spPr>
      </p:pic>
      <p:pic>
        <p:nvPicPr>
          <p:cNvPr id="840" name="txp_fig" descr=""/>
          <p:cNvPicPr/>
          <p:nvPr/>
        </p:nvPicPr>
        <p:blipFill>
          <a:blip r:embed="rId2"/>
          <a:stretch/>
        </p:blipFill>
        <p:spPr>
          <a:xfrm>
            <a:off x="7978680" y="993600"/>
            <a:ext cx="1235160" cy="285840"/>
          </a:xfrm>
          <a:prstGeom prst="rect">
            <a:avLst/>
          </a:prstGeom>
          <a:ln w="0">
            <a:noFill/>
          </a:ln>
        </p:spPr>
      </p:pic>
      <p:pic>
        <p:nvPicPr>
          <p:cNvPr id="841" name="txp_fig" descr=""/>
          <p:cNvPicPr/>
          <p:nvPr/>
        </p:nvPicPr>
        <p:blipFill>
          <a:blip r:embed="rId3"/>
          <a:stretch/>
        </p:blipFill>
        <p:spPr>
          <a:xfrm>
            <a:off x="2085840" y="2330280"/>
            <a:ext cx="149400" cy="16056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1479600" y="280656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90840" y="288144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79600" y="158904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590840" y="16635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441440" y="2004840"/>
            <a:ext cx="158760" cy="82728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1864440" y="2023920"/>
            <a:ext cx="158760" cy="82728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39880" y="2097000"/>
            <a:ext cx="14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1843200"/>
            <a:ext cx="438120" cy="2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txp_fig" descr=""/>
          <p:cNvPicPr/>
          <p:nvPr/>
        </p:nvPicPr>
        <p:blipFill>
          <a:blip r:embed="rId4"/>
          <a:stretch/>
        </p:blipFill>
        <p:spPr>
          <a:xfrm>
            <a:off x="1257480" y="2319480"/>
            <a:ext cx="112680" cy="171360"/>
          </a:xfrm>
          <a:prstGeom prst="rect">
            <a:avLst/>
          </a:prstGeom>
          <a:ln w="0">
            <a:noFill/>
          </a:ln>
        </p:spPr>
      </p:pic>
      <p:pic>
        <p:nvPicPr>
          <p:cNvPr id="851" name="txp_fig" descr=""/>
          <p:cNvPicPr/>
          <p:nvPr/>
        </p:nvPicPr>
        <p:blipFill>
          <a:blip r:embed="rId5"/>
          <a:stretch/>
        </p:blipFill>
        <p:spPr>
          <a:xfrm>
            <a:off x="1758960" y="2332080"/>
            <a:ext cx="150840" cy="158760"/>
          </a:xfrm>
          <a:prstGeom prst="rect">
            <a:avLst/>
          </a:prstGeom>
          <a:ln w="0">
            <a:noFill/>
          </a:ln>
        </p:spPr>
      </p:pic>
      <p:pic>
        <p:nvPicPr>
          <p:cNvPr id="852" name="txp_fig" descr=""/>
          <p:cNvPicPr/>
          <p:nvPr/>
        </p:nvPicPr>
        <p:blipFill>
          <a:blip r:embed="rId6"/>
          <a:stretch/>
        </p:blipFill>
        <p:spPr>
          <a:xfrm>
            <a:off x="8380440" y="2324160"/>
            <a:ext cx="149040" cy="1602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7773840" y="280044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85440" y="28749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773840" y="158256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885440" y="165744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36040" y="1998000"/>
            <a:ext cx="158760" cy="82692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8159040" y="2017080"/>
            <a:ext cx="158760" cy="82692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34480" y="2090880"/>
            <a:ext cx="14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txp_fig" descr=""/>
          <p:cNvPicPr/>
          <p:nvPr/>
        </p:nvPicPr>
        <p:blipFill>
          <a:blip r:embed="rId7"/>
          <a:stretch/>
        </p:blipFill>
        <p:spPr>
          <a:xfrm>
            <a:off x="7551720" y="2313000"/>
            <a:ext cx="112680" cy="171360"/>
          </a:xfrm>
          <a:prstGeom prst="rect">
            <a:avLst/>
          </a:prstGeom>
          <a:ln w="0">
            <a:noFill/>
          </a:ln>
        </p:spPr>
      </p:pic>
      <p:pic>
        <p:nvPicPr>
          <p:cNvPr id="861" name="txp_fig" descr=""/>
          <p:cNvPicPr/>
          <p:nvPr/>
        </p:nvPicPr>
        <p:blipFill>
          <a:blip r:embed="rId8"/>
          <a:stretch/>
        </p:blipFill>
        <p:spPr>
          <a:xfrm>
            <a:off x="8066160" y="2325600"/>
            <a:ext cx="150840" cy="1587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332840" y="1832040"/>
            <a:ext cx="438120" cy="2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33600" y="286056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33600" y="164160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816680" y="2855880"/>
            <a:ext cx="41292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816680" y="1641600"/>
            <a:ext cx="41292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52760" y="254160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53480" y="25671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50560" y="5297400"/>
            <a:ext cx="311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controllable in high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translate to low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284640" y="952560"/>
            <a:ext cx="2654280" cy="2806560"/>
            <a:chOff x="3284640" y="952560"/>
            <a:chExt cx="2654280" cy="2806560"/>
          </a:xfrm>
        </p:grpSpPr>
        <p:sp>
          <p:nvSpPr>
            <p:cNvPr id="871" name=""/>
            <p:cNvSpPr/>
            <p:nvPr/>
          </p:nvSpPr>
          <p:spPr>
            <a:xfrm>
              <a:off x="3284640" y="150192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ator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2" name="txp_fig" descr=""/>
            <p:cNvPicPr/>
            <p:nvPr/>
          </p:nvPicPr>
          <p:blipFill>
            <a:blip r:embed="rId9"/>
            <a:stretch/>
          </p:blipFill>
          <p:spPr>
            <a:xfrm>
              <a:off x="5087880" y="2771640"/>
              <a:ext cx="1494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4481640" y="32479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7480" y="3322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81640" y="2030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97480" y="2104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4443480" y="2446200"/>
              <a:ext cx="158760" cy="8272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4866480" y="2465280"/>
              <a:ext cx="158760" cy="8272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741920" y="2538360"/>
              <a:ext cx="1440" cy="72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44960" y="2284560"/>
              <a:ext cx="43812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txp_fig" descr=""/>
            <p:cNvPicPr/>
            <p:nvPr/>
          </p:nvPicPr>
          <p:blipFill>
            <a:blip r:embed="rId10"/>
            <a:stretch/>
          </p:blipFill>
          <p:spPr>
            <a:xfrm>
              <a:off x="4259160" y="2760840"/>
              <a:ext cx="1126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txp_fig" descr=""/>
            <p:cNvPicPr/>
            <p:nvPr/>
          </p:nvPicPr>
          <p:blipFill>
            <a:blip r:embed="rId11"/>
            <a:stretch/>
          </p:blipFill>
          <p:spPr>
            <a:xfrm>
              <a:off x="4761000" y="2773440"/>
              <a:ext cx="15084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527720" y="329868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27720" y="208440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48320" y="2982960"/>
              <a:ext cx="1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3400" y="95256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65680" y="95256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8" name="txp_fig" descr=""/>
            <p:cNvPicPr/>
            <p:nvPr/>
          </p:nvPicPr>
          <p:blipFill>
            <a:blip r:embed="rId12"/>
            <a:stretch/>
          </p:blipFill>
          <p:spPr>
            <a:xfrm>
              <a:off x="4954680" y="1536840"/>
              <a:ext cx="98424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9" name=""/>
          <p:cNvGrpSpPr/>
          <p:nvPr/>
        </p:nvGrpSpPr>
        <p:grpSpPr>
          <a:xfrm>
            <a:off x="4573080" y="2446200"/>
            <a:ext cx="663840" cy="827280"/>
            <a:chOff x="4573080" y="2446200"/>
            <a:chExt cx="663840" cy="827280"/>
          </a:xfrm>
        </p:grpSpPr>
        <p:sp>
          <p:nvSpPr>
            <p:cNvPr id="890" name=""/>
            <p:cNvSpPr/>
            <p:nvPr/>
          </p:nvSpPr>
          <p:spPr>
            <a:xfrm flipH="1" flipV="1">
              <a:off x="4864680" y="2446200"/>
              <a:ext cx="158760" cy="8272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1" name="txp_fig" descr=""/>
            <p:cNvPicPr/>
            <p:nvPr/>
          </p:nvPicPr>
          <p:blipFill>
            <a:blip r:embed="rId13"/>
            <a:stretch/>
          </p:blipFill>
          <p:spPr>
            <a:xfrm>
              <a:off x="5087880" y="2749680"/>
              <a:ext cx="14904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595760" y="2693880"/>
              <a:ext cx="307800" cy="262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573080" y="2693880"/>
              <a:ext cx="330120" cy="262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78200" y="3846600"/>
            <a:ext cx="6057360" cy="1164960"/>
            <a:chOff x="178200" y="3846600"/>
            <a:chExt cx="6057360" cy="1164960"/>
          </a:xfrm>
        </p:grpSpPr>
        <p:sp>
          <p:nvSpPr>
            <p:cNvPr id="895" name=""/>
            <p:cNvSpPr/>
            <p:nvPr/>
          </p:nvSpPr>
          <p:spPr>
            <a:xfrm>
              <a:off x="178200" y="3846600"/>
              <a:ext cx="27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igh-level 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6" name="txp_fig" descr=""/>
            <p:cNvPicPr/>
            <p:nvPr/>
          </p:nvPicPr>
          <p:blipFill>
            <a:blip r:embed="rId14"/>
            <a:stretch/>
          </p:blipFill>
          <p:spPr>
            <a:xfrm>
              <a:off x="5238720" y="4476600"/>
              <a:ext cx="1494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3286080" y="44146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91200" y="44766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9" name="txp_fig" descr=""/>
            <p:cNvPicPr/>
            <p:nvPr/>
          </p:nvPicPr>
          <p:blipFill>
            <a:blip r:embed="rId15"/>
            <a:stretch/>
          </p:blipFill>
          <p:spPr>
            <a:xfrm>
              <a:off x="4102200" y="4840200"/>
              <a:ext cx="1126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txp_fig" descr=""/>
            <p:cNvPicPr/>
            <p:nvPr/>
          </p:nvPicPr>
          <p:blipFill>
            <a:blip r:embed="rId16"/>
            <a:stretch/>
          </p:blipFill>
          <p:spPr>
            <a:xfrm>
              <a:off x="4048200" y="4335480"/>
              <a:ext cx="15084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792600" y="4578480"/>
              <a:ext cx="71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80000" y="4781520"/>
              <a:ext cx="73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027760" y="4680000"/>
              <a:ext cx="70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33600" y="4471920"/>
              <a:ext cx="41292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14480" y="4680000"/>
              <a:ext cx="43848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048200" y="4484520"/>
              <a:ext cx="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481640" y="44337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6760" y="44956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29160" y="449100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24360" y="44337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29480" y="44956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772240" y="449100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DEA4-06DB-4CBC-862B-4056F270044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5600" y="88884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-leve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txp_fig" descr=""/>
          <p:cNvPicPr/>
          <p:nvPr/>
        </p:nvPicPr>
        <p:blipFill>
          <a:blip r:embed="rId1"/>
          <a:stretch/>
        </p:blipFill>
        <p:spPr>
          <a:xfrm>
            <a:off x="3060720" y="1519200"/>
            <a:ext cx="149040" cy="16020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1108080" y="145728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213200" y="151920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txp_fig" descr=""/>
          <p:cNvPicPr/>
          <p:nvPr/>
        </p:nvPicPr>
        <p:blipFill>
          <a:blip r:embed="rId2"/>
          <a:stretch/>
        </p:blipFill>
        <p:spPr>
          <a:xfrm>
            <a:off x="1924200" y="1882800"/>
            <a:ext cx="112680" cy="171360"/>
          </a:xfrm>
          <a:prstGeom prst="rect">
            <a:avLst/>
          </a:prstGeom>
          <a:ln w="0">
            <a:noFill/>
          </a:ln>
        </p:spPr>
      </p:pic>
      <p:pic>
        <p:nvPicPr>
          <p:cNvPr id="919" name="txp_fig" descr=""/>
          <p:cNvPicPr/>
          <p:nvPr/>
        </p:nvPicPr>
        <p:blipFill>
          <a:blip r:embed="rId3"/>
          <a:stretch/>
        </p:blipFill>
        <p:spPr>
          <a:xfrm>
            <a:off x="1870200" y="1378080"/>
            <a:ext cx="150840" cy="15876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1614600" y="162072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01640" y="1824120"/>
            <a:ext cx="731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49400" y="1722600"/>
            <a:ext cx="70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55600" y="1514520"/>
            <a:ext cx="41292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6480" y="1722600"/>
            <a:ext cx="438120" cy="2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70200" y="1527120"/>
            <a:ext cx="0" cy="17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303640" y="1476360"/>
            <a:ext cx="51084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408400" y="153828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351160" y="153360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46360" y="147636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51480" y="153828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94240" y="153360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2089080" y="3454560"/>
            <a:ext cx="511200" cy="510840"/>
            <a:chOff x="2089080" y="3454560"/>
            <a:chExt cx="511200" cy="510840"/>
          </a:xfrm>
        </p:grpSpPr>
        <p:sp>
          <p:nvSpPr>
            <p:cNvPr id="933" name=""/>
            <p:cNvSpPr/>
            <p:nvPr/>
          </p:nvSpPr>
          <p:spPr>
            <a:xfrm>
              <a:off x="2089080" y="3454560"/>
              <a:ext cx="511200" cy="51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02120" y="35290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089080" y="4210200"/>
            <a:ext cx="511200" cy="511200"/>
            <a:chOff x="2089080" y="4210200"/>
            <a:chExt cx="511200" cy="511200"/>
          </a:xfrm>
        </p:grpSpPr>
        <p:sp>
          <p:nvSpPr>
            <p:cNvPr id="936" name=""/>
            <p:cNvSpPr/>
            <p:nvPr/>
          </p:nvSpPr>
          <p:spPr>
            <a:xfrm>
              <a:off x="2089080" y="42102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202120" y="428472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2101680" y="4986360"/>
            <a:ext cx="511200" cy="511200"/>
            <a:chOff x="2101680" y="4986360"/>
            <a:chExt cx="511200" cy="511200"/>
          </a:xfrm>
        </p:grpSpPr>
        <p:sp>
          <p:nvSpPr>
            <p:cNvPr id="939" name=""/>
            <p:cNvSpPr/>
            <p:nvPr/>
          </p:nvSpPr>
          <p:spPr>
            <a:xfrm>
              <a:off x="2101680" y="4986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12560" y="506088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25400" y="3827520"/>
            <a:ext cx="511200" cy="511200"/>
            <a:chOff x="725400" y="3827520"/>
            <a:chExt cx="511200" cy="511200"/>
          </a:xfrm>
        </p:grpSpPr>
        <p:sp>
          <p:nvSpPr>
            <p:cNvPr id="942" name=""/>
            <p:cNvSpPr/>
            <p:nvPr/>
          </p:nvSpPr>
          <p:spPr>
            <a:xfrm>
              <a:off x="725400" y="38275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8440" y="39024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1236600" y="3738600"/>
            <a:ext cx="870120" cy="23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192320" y="4216320"/>
            <a:ext cx="88560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2599920" y="3755520"/>
            <a:ext cx="855720" cy="2336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603160" y="4222800"/>
            <a:ext cx="88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03680" y="4346640"/>
            <a:ext cx="0" cy="37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txp_fig" descr=""/>
          <p:cNvPicPr/>
          <p:nvPr/>
        </p:nvPicPr>
        <p:blipFill>
          <a:blip r:embed="rId4"/>
          <a:stretch/>
        </p:blipFill>
        <p:spPr>
          <a:xfrm>
            <a:off x="1457280" y="363528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950" name="txp_fig" descr=""/>
          <p:cNvPicPr/>
          <p:nvPr/>
        </p:nvPicPr>
        <p:blipFill>
          <a:blip r:embed="rId5"/>
          <a:stretch/>
        </p:blipFill>
        <p:spPr>
          <a:xfrm>
            <a:off x="2952720" y="363060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951" name="txp_fig" descr=""/>
          <p:cNvPicPr/>
          <p:nvPr/>
        </p:nvPicPr>
        <p:blipFill>
          <a:blip r:embed="rId6"/>
          <a:stretch/>
        </p:blipFill>
        <p:spPr>
          <a:xfrm>
            <a:off x="2817720" y="409896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52" name="txp_fig" descr=""/>
          <p:cNvPicPr/>
          <p:nvPr/>
        </p:nvPicPr>
        <p:blipFill>
          <a:blip r:embed="rId7"/>
          <a:stretch/>
        </p:blipFill>
        <p:spPr>
          <a:xfrm>
            <a:off x="1635120" y="414972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53" name="txp_fig" descr=""/>
          <p:cNvPicPr/>
          <p:nvPr/>
        </p:nvPicPr>
        <p:blipFill>
          <a:blip r:embed="rId8"/>
          <a:stretch/>
        </p:blipFill>
        <p:spPr>
          <a:xfrm>
            <a:off x="4121280" y="407340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954" name="txp_fig" descr=""/>
          <p:cNvPicPr/>
          <p:nvPr/>
        </p:nvPicPr>
        <p:blipFill>
          <a:blip r:embed="rId9"/>
          <a:stretch/>
        </p:blipFill>
        <p:spPr>
          <a:xfrm>
            <a:off x="1758960" y="47372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55" name="txp_fig" descr=""/>
          <p:cNvPicPr/>
          <p:nvPr/>
        </p:nvPicPr>
        <p:blipFill>
          <a:blip r:embed="rId10"/>
          <a:stretch/>
        </p:blipFill>
        <p:spPr>
          <a:xfrm>
            <a:off x="6426360" y="330984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956" name="txp_fig" descr=""/>
          <p:cNvPicPr/>
          <p:nvPr/>
        </p:nvPicPr>
        <p:blipFill>
          <a:blip r:embed="rId11"/>
          <a:stretch/>
        </p:blipFill>
        <p:spPr>
          <a:xfrm>
            <a:off x="7935840" y="3333600"/>
            <a:ext cx="206280" cy="217800"/>
          </a:xfrm>
          <a:prstGeom prst="rect">
            <a:avLst/>
          </a:prstGeom>
          <a:ln w="0">
            <a:noFill/>
          </a:ln>
        </p:spPr>
      </p:pic>
      <p:pic>
        <p:nvPicPr>
          <p:cNvPr id="957" name="txp_fig" descr=""/>
          <p:cNvPicPr/>
          <p:nvPr/>
        </p:nvPicPr>
        <p:blipFill>
          <a:blip r:embed="rId12"/>
          <a:stretch/>
        </p:blipFill>
        <p:spPr>
          <a:xfrm>
            <a:off x="7816680" y="3801960"/>
            <a:ext cx="204840" cy="216000"/>
          </a:xfrm>
          <a:prstGeom prst="rect">
            <a:avLst/>
          </a:prstGeom>
          <a:ln w="0">
            <a:noFill/>
          </a:ln>
        </p:spPr>
      </p:pic>
      <p:pic>
        <p:nvPicPr>
          <p:cNvPr id="958" name="txp_fig" descr=""/>
          <p:cNvPicPr/>
          <p:nvPr/>
        </p:nvPicPr>
        <p:blipFill>
          <a:blip r:embed="rId13"/>
          <a:stretch/>
        </p:blipFill>
        <p:spPr>
          <a:xfrm>
            <a:off x="6627960" y="38671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59" name="txp_fig" descr=""/>
          <p:cNvPicPr/>
          <p:nvPr/>
        </p:nvPicPr>
        <p:blipFill>
          <a:blip r:embed="rId14"/>
          <a:stretch/>
        </p:blipFill>
        <p:spPr>
          <a:xfrm>
            <a:off x="6099120" y="4419720"/>
            <a:ext cx="204840" cy="215640"/>
          </a:xfrm>
          <a:prstGeom prst="rect">
            <a:avLst/>
          </a:prstGeom>
          <a:ln w="0">
            <a:noFill/>
          </a:ln>
        </p:spPr>
      </p:pic>
      <p:pic>
        <p:nvPicPr>
          <p:cNvPr id="960" name="txp_fig" descr=""/>
          <p:cNvPicPr/>
          <p:nvPr/>
        </p:nvPicPr>
        <p:blipFill>
          <a:blip r:embed="rId15"/>
          <a:stretch/>
        </p:blipFill>
        <p:spPr>
          <a:xfrm>
            <a:off x="6921360" y="4543560"/>
            <a:ext cx="206640" cy="217440"/>
          </a:xfrm>
          <a:prstGeom prst="rect">
            <a:avLst/>
          </a:prstGeom>
          <a:ln w="0">
            <a:noFill/>
          </a:ln>
        </p:spPr>
      </p:pic>
      <p:pic>
        <p:nvPicPr>
          <p:cNvPr id="961" name="txp_fig" descr=""/>
          <p:cNvPicPr/>
          <p:nvPr/>
        </p:nvPicPr>
        <p:blipFill>
          <a:blip r:embed="rId16"/>
          <a:stretch/>
        </p:blipFill>
        <p:spPr>
          <a:xfrm>
            <a:off x="3460680" y="444348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962" name="txp_fig" descr=""/>
          <p:cNvPicPr/>
          <p:nvPr/>
        </p:nvPicPr>
        <p:blipFill>
          <a:blip r:embed="rId17"/>
          <a:stretch/>
        </p:blipFill>
        <p:spPr>
          <a:xfrm>
            <a:off x="2967120" y="4900680"/>
            <a:ext cx="102960" cy="171360"/>
          </a:xfrm>
          <a:prstGeom prst="rect">
            <a:avLst/>
          </a:prstGeom>
          <a:ln w="0">
            <a:noFill/>
          </a:ln>
        </p:spPr>
      </p:pic>
      <p:pic>
        <p:nvPicPr>
          <p:cNvPr id="963" name="txp_fig" descr=""/>
          <p:cNvPicPr/>
          <p:nvPr/>
        </p:nvPicPr>
        <p:blipFill>
          <a:blip r:embed="rId18"/>
          <a:stretch/>
        </p:blipFill>
        <p:spPr>
          <a:xfrm>
            <a:off x="4100400" y="4854600"/>
            <a:ext cx="149400" cy="160200"/>
          </a:xfrm>
          <a:prstGeom prst="rect">
            <a:avLst/>
          </a:prstGeom>
          <a:ln w="0">
            <a:noFill/>
          </a:ln>
        </p:spPr>
      </p:pic>
      <p:grpSp>
        <p:nvGrpSpPr>
          <p:cNvPr id="964" name=""/>
          <p:cNvGrpSpPr/>
          <p:nvPr/>
        </p:nvGrpSpPr>
        <p:grpSpPr>
          <a:xfrm>
            <a:off x="3470400" y="4727520"/>
            <a:ext cx="511200" cy="511200"/>
            <a:chOff x="3470400" y="4727520"/>
            <a:chExt cx="511200" cy="511200"/>
          </a:xfrm>
        </p:grpSpPr>
        <p:sp>
          <p:nvSpPr>
            <p:cNvPr id="965" name=""/>
            <p:cNvSpPr/>
            <p:nvPr/>
          </p:nvSpPr>
          <p:spPr>
            <a:xfrm>
              <a:off x="3470400" y="47275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25840" y="47829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65800" y="4802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441600" y="3824280"/>
            <a:ext cx="511200" cy="511200"/>
            <a:chOff x="3441600" y="3824280"/>
            <a:chExt cx="511200" cy="511200"/>
          </a:xfrm>
        </p:grpSpPr>
        <p:sp>
          <p:nvSpPr>
            <p:cNvPr id="969" name=""/>
            <p:cNvSpPr/>
            <p:nvPr/>
          </p:nvSpPr>
          <p:spPr>
            <a:xfrm>
              <a:off x="3441600" y="38242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497040" y="38797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37000" y="3898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7054920" y="3211560"/>
            <a:ext cx="511200" cy="511200"/>
            <a:chOff x="7054920" y="3211560"/>
            <a:chExt cx="511200" cy="511200"/>
          </a:xfrm>
        </p:grpSpPr>
        <p:sp>
          <p:nvSpPr>
            <p:cNvPr id="973" name=""/>
            <p:cNvSpPr/>
            <p:nvPr/>
          </p:nvSpPr>
          <p:spPr>
            <a:xfrm>
              <a:off x="7054920" y="32115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7960" y="32864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7054920" y="3967200"/>
            <a:ext cx="511200" cy="511200"/>
            <a:chOff x="7054920" y="3967200"/>
            <a:chExt cx="511200" cy="511200"/>
          </a:xfrm>
        </p:grpSpPr>
        <p:sp>
          <p:nvSpPr>
            <p:cNvPr id="976" name=""/>
            <p:cNvSpPr/>
            <p:nvPr/>
          </p:nvSpPr>
          <p:spPr>
            <a:xfrm>
              <a:off x="7054920" y="39672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167960" y="404172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691240" y="3584520"/>
            <a:ext cx="511200" cy="511200"/>
            <a:chOff x="5691240" y="3584520"/>
            <a:chExt cx="511200" cy="511200"/>
          </a:xfrm>
        </p:grpSpPr>
        <p:sp>
          <p:nvSpPr>
            <p:cNvPr id="979" name=""/>
            <p:cNvSpPr/>
            <p:nvPr/>
          </p:nvSpPr>
          <p:spPr>
            <a:xfrm>
              <a:off x="5691240" y="35845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04280" y="36594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 flipV="1">
            <a:off x="6202440" y="3495600"/>
            <a:ext cx="869760" cy="23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157800" y="3973680"/>
            <a:ext cx="885960" cy="234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7565760" y="3513240"/>
            <a:ext cx="855720" cy="2332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7569360" y="3979800"/>
            <a:ext cx="885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669160" y="4103640"/>
            <a:ext cx="0" cy="681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txp_fig" descr=""/>
          <p:cNvPicPr/>
          <p:nvPr/>
        </p:nvPicPr>
        <p:blipFill>
          <a:blip r:embed="rId19"/>
          <a:stretch/>
        </p:blipFill>
        <p:spPr>
          <a:xfrm>
            <a:off x="8798040" y="432900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987" name="txp_fig" descr=""/>
          <p:cNvPicPr/>
          <p:nvPr/>
        </p:nvPicPr>
        <p:blipFill>
          <a:blip r:embed="rId20"/>
          <a:stretch/>
        </p:blipFill>
        <p:spPr>
          <a:xfrm>
            <a:off x="6783480" y="5299200"/>
            <a:ext cx="102960" cy="171360"/>
          </a:xfrm>
          <a:prstGeom prst="rect">
            <a:avLst/>
          </a:prstGeom>
          <a:ln w="0">
            <a:noFill/>
          </a:ln>
        </p:spPr>
      </p:pic>
      <p:pic>
        <p:nvPicPr>
          <p:cNvPr id="988" name="txp_fig" descr=""/>
          <p:cNvPicPr/>
          <p:nvPr/>
        </p:nvPicPr>
        <p:blipFill>
          <a:blip r:embed="rId21"/>
          <a:stretch/>
        </p:blipFill>
        <p:spPr>
          <a:xfrm>
            <a:off x="7916760" y="4840200"/>
            <a:ext cx="149400" cy="160560"/>
          </a:xfrm>
          <a:prstGeom prst="rect">
            <a:avLst/>
          </a:prstGeom>
          <a:ln w="0">
            <a:noFill/>
          </a:ln>
        </p:spPr>
      </p:pic>
      <p:grpSp>
        <p:nvGrpSpPr>
          <p:cNvPr id="989" name=""/>
          <p:cNvGrpSpPr/>
          <p:nvPr/>
        </p:nvGrpSpPr>
        <p:grpSpPr>
          <a:xfrm>
            <a:off x="8435880" y="4784760"/>
            <a:ext cx="511200" cy="511200"/>
            <a:chOff x="8435880" y="4784760"/>
            <a:chExt cx="511200" cy="511200"/>
          </a:xfrm>
        </p:grpSpPr>
        <p:sp>
          <p:nvSpPr>
            <p:cNvPr id="990" name=""/>
            <p:cNvSpPr/>
            <p:nvPr/>
          </p:nvSpPr>
          <p:spPr>
            <a:xfrm>
              <a:off x="8435880" y="478476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91320" y="484020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531280" y="4859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8407440" y="3581280"/>
            <a:ext cx="511200" cy="511200"/>
            <a:chOff x="8407440" y="3581280"/>
            <a:chExt cx="511200" cy="511200"/>
          </a:xfrm>
        </p:grpSpPr>
        <p:sp>
          <p:nvSpPr>
            <p:cNvPr id="994" name=""/>
            <p:cNvSpPr/>
            <p:nvPr/>
          </p:nvSpPr>
          <p:spPr>
            <a:xfrm>
              <a:off x="8407440" y="35812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62880" y="36367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502840" y="36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3621240" y="4516560"/>
            <a:ext cx="172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583480" y="4416480"/>
            <a:ext cx="173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4137840" y="4253400"/>
            <a:ext cx="73080" cy="156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440000" y="4586040"/>
            <a:ext cx="115920" cy="1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209000" y="4687920"/>
            <a:ext cx="172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54680" y="453708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30640" y="3830400"/>
            <a:ext cx="45360" cy="167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423120" y="3565080"/>
            <a:ext cx="45000" cy="167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96000" y="4214520"/>
            <a:ext cx="4536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120160" y="3955680"/>
            <a:ext cx="4500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612880" y="5049720"/>
            <a:ext cx="857520" cy="1890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 flipV="1">
            <a:off x="1069560" y="4311360"/>
            <a:ext cx="1017720" cy="84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4264200" y="4268880"/>
            <a:ext cx="510840" cy="511200"/>
            <a:chOff x="4264200" y="4268880"/>
            <a:chExt cx="510840" cy="511200"/>
          </a:xfrm>
        </p:grpSpPr>
        <p:sp>
          <p:nvSpPr>
            <p:cNvPr id="1010" name=""/>
            <p:cNvSpPr/>
            <p:nvPr/>
          </p:nvSpPr>
          <p:spPr>
            <a:xfrm>
              <a:off x="4264200" y="4268880"/>
              <a:ext cx="51084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74360" y="434340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 flipV="1">
            <a:off x="3962520" y="4651200"/>
            <a:ext cx="355320" cy="246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 flipV="1">
            <a:off x="3916440" y="4222800"/>
            <a:ext cx="347760" cy="16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7054920" y="4809960"/>
            <a:ext cx="511200" cy="511200"/>
            <a:chOff x="7054920" y="4809960"/>
            <a:chExt cx="511200" cy="511200"/>
          </a:xfrm>
        </p:grpSpPr>
        <p:sp>
          <p:nvSpPr>
            <p:cNvPr id="1015" name=""/>
            <p:cNvSpPr/>
            <p:nvPr/>
          </p:nvSpPr>
          <p:spPr>
            <a:xfrm>
              <a:off x="7054920" y="48099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65800" y="488448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5691240" y="4802040"/>
            <a:ext cx="511200" cy="511200"/>
            <a:chOff x="5691240" y="4802040"/>
            <a:chExt cx="511200" cy="511200"/>
          </a:xfrm>
        </p:grpSpPr>
        <p:sp>
          <p:nvSpPr>
            <p:cNvPr id="1018" name=""/>
            <p:cNvSpPr/>
            <p:nvPr/>
          </p:nvSpPr>
          <p:spPr>
            <a:xfrm>
              <a:off x="5691240" y="4802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02120" y="487656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067440" y="5288040"/>
            <a:ext cx="2495520" cy="279360"/>
          </a:xfrm>
          <a:custGeom>
            <a:avLst/>
            <a:gdLst/>
            <a:ahLst/>
            <a:rect l="l" t="t" r="r" b="b"/>
            <a:pathLst>
              <a:path w="1572" h="176">
                <a:moveTo>
                  <a:pt x="1572" y="9"/>
                </a:moveTo>
                <a:cubicBezTo>
                  <a:pt x="1549" y="23"/>
                  <a:pt x="1487" y="70"/>
                  <a:pt x="1435" y="91"/>
                </a:cubicBezTo>
                <a:cubicBezTo>
                  <a:pt x="1383" y="112"/>
                  <a:pt x="1368" y="123"/>
                  <a:pt x="1261" y="137"/>
                </a:cubicBezTo>
                <a:cubicBezTo>
                  <a:pt x="1154" y="151"/>
                  <a:pt x="925" y="170"/>
                  <a:pt x="795" y="173"/>
                </a:cubicBezTo>
                <a:cubicBezTo>
                  <a:pt x="665" y="176"/>
                  <a:pt x="589" y="166"/>
                  <a:pt x="480" y="153"/>
                </a:cubicBezTo>
                <a:cubicBezTo>
                  <a:pt x="371" y="140"/>
                  <a:pt x="218" y="117"/>
                  <a:pt x="138" y="92"/>
                </a:cubicBezTo>
                <a:cubicBezTo>
                  <a:pt x="58" y="67"/>
                  <a:pt x="29" y="19"/>
                  <a:pt x="0" y="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940360" y="4084200"/>
            <a:ext cx="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7305840" y="4432320"/>
            <a:ext cx="0" cy="363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7561440" y="5072040"/>
            <a:ext cx="855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1920" y="4098960"/>
            <a:ext cx="37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297400" y="386712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680" y="29606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w-level re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txp_fig" descr=""/>
          <p:cNvPicPr/>
          <p:nvPr/>
        </p:nvPicPr>
        <p:blipFill>
          <a:blip r:embed="rId22"/>
          <a:stretch/>
        </p:blipFill>
        <p:spPr>
          <a:xfrm>
            <a:off x="763560" y="5773680"/>
            <a:ext cx="2481120" cy="274680"/>
          </a:xfrm>
          <a:prstGeom prst="rect">
            <a:avLst/>
          </a:prstGeom>
          <a:ln w="0">
            <a:noFill/>
          </a:ln>
        </p:spPr>
      </p:pic>
      <p:pic>
        <p:nvPicPr>
          <p:cNvPr id="1028" name="txp_fig" descr=""/>
          <p:cNvPicPr/>
          <p:nvPr/>
        </p:nvPicPr>
        <p:blipFill>
          <a:blip r:embed="rId23"/>
          <a:stretch/>
        </p:blipFill>
        <p:spPr>
          <a:xfrm>
            <a:off x="5665680" y="5769000"/>
            <a:ext cx="3087720" cy="274680"/>
          </a:xfrm>
          <a:prstGeom prst="rect">
            <a:avLst/>
          </a:prstGeom>
          <a:ln w="0">
            <a:noFill/>
          </a:ln>
        </p:spPr>
      </p:pic>
      <p:pic>
        <p:nvPicPr>
          <p:cNvPr id="1029" name="txp_fig" descr=""/>
          <p:cNvPicPr/>
          <p:nvPr/>
        </p:nvPicPr>
        <p:blipFill>
          <a:blip r:embed="rId24"/>
          <a:stretch/>
        </p:blipFill>
        <p:spPr>
          <a:xfrm>
            <a:off x="743040" y="2352600"/>
            <a:ext cx="1349280" cy="274680"/>
          </a:xfrm>
          <a:prstGeom prst="rect">
            <a:avLst/>
          </a:prstGeom>
          <a:ln w="0">
            <a:noFill/>
          </a:ln>
        </p:spPr>
      </p:pic>
      <p:pic>
        <p:nvPicPr>
          <p:cNvPr id="1030" name="txp_fig" descr=""/>
          <p:cNvPicPr/>
          <p:nvPr/>
        </p:nvPicPr>
        <p:blipFill>
          <a:blip r:embed="rId25"/>
          <a:stretch/>
        </p:blipFill>
        <p:spPr>
          <a:xfrm>
            <a:off x="243000" y="3494160"/>
            <a:ext cx="674640" cy="239760"/>
          </a:xfrm>
          <a:prstGeom prst="rect">
            <a:avLst/>
          </a:prstGeom>
          <a:ln w="0">
            <a:noFill/>
          </a:ln>
        </p:spPr>
      </p:pic>
      <p:pic>
        <p:nvPicPr>
          <p:cNvPr id="1031" name="txp_fig" descr=""/>
          <p:cNvPicPr/>
          <p:nvPr/>
        </p:nvPicPr>
        <p:blipFill>
          <a:blip r:embed="rId26"/>
          <a:stretch/>
        </p:blipFill>
        <p:spPr>
          <a:xfrm>
            <a:off x="4888080" y="3456000"/>
            <a:ext cx="685800" cy="23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10A3-0A6B-4204-8EE5-D74780C0496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2144520" y="2930400"/>
            <a:ext cx="52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5. Complexity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6A32-A676-40D4-ABAC-97B431DA786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 Complexity Issues: Structural Decentraliz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8280" y="88884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utual Controllabilit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5" name="txp_fig" descr=""/>
          <p:cNvPicPr/>
          <p:nvPr/>
        </p:nvPicPr>
        <p:blipFill>
          <a:blip r:embed="rId1"/>
          <a:stretch/>
        </p:blipFill>
        <p:spPr>
          <a:xfrm>
            <a:off x="2809800" y="907920"/>
            <a:ext cx="5118120" cy="36540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217080" y="1336680"/>
            <a:ext cx="5820480" cy="12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ion:               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xponential in number of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lability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olynomial in number of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txp_fig" descr=""/>
          <p:cNvPicPr/>
          <p:nvPr/>
        </p:nvPicPr>
        <p:blipFill>
          <a:blip r:embed="rId2"/>
          <a:stretch/>
        </p:blipFill>
        <p:spPr>
          <a:xfrm>
            <a:off x="1565280" y="1393920"/>
            <a:ext cx="765000" cy="36504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383120" y="2295360"/>
            <a:ext cx="42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worst case: exponential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169920" y="2743200"/>
            <a:ext cx="9285120" cy="806760"/>
            <a:chOff x="169920" y="2743200"/>
            <a:chExt cx="9285120" cy="806760"/>
          </a:xfrm>
        </p:grpSpPr>
        <p:sp>
          <p:nvSpPr>
            <p:cNvPr id="1040" name=""/>
            <p:cNvSpPr/>
            <p:nvPr/>
          </p:nvSpPr>
          <p:spPr>
            <a:xfrm>
              <a:off x="169920" y="2743200"/>
              <a:ext cx="928512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hared-event marking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olynomial in number of states and transiti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1" name="txp_fig" descr=""/>
            <p:cNvPicPr/>
            <p:nvPr/>
          </p:nvPicPr>
          <p:blipFill>
            <a:blip r:embed="rId3"/>
            <a:stretch/>
          </p:blipFill>
          <p:spPr>
            <a:xfrm>
              <a:off x="3919680" y="2898720"/>
              <a:ext cx="381780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txp_fig" descr=""/>
            <p:cNvPicPr/>
            <p:nvPr/>
          </p:nvPicPr>
          <p:blipFill>
            <a:blip r:embed="rId4"/>
            <a:stretch/>
          </p:blipFill>
          <p:spPr>
            <a:xfrm>
              <a:off x="2817720" y="2919240"/>
              <a:ext cx="228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3084840" y="282888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1367280" y="36957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227520" y="4189320"/>
            <a:ext cx="7123320" cy="1793880"/>
            <a:chOff x="227520" y="4189320"/>
            <a:chExt cx="7123320" cy="1793880"/>
          </a:xfrm>
        </p:grpSpPr>
        <p:sp>
          <p:nvSpPr>
            <p:cNvPr id="1046" name=""/>
            <p:cNvSpPr/>
            <p:nvPr/>
          </p:nvSpPr>
          <p:spPr>
            <a:xfrm>
              <a:off x="227520" y="4189320"/>
              <a:ext cx="71233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ow-Level Control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 ti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quvalent high level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onconflicting condition need not be verifi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7" name="txp_fig" descr=""/>
            <p:cNvPicPr/>
            <p:nvPr/>
          </p:nvPicPr>
          <p:blipFill>
            <a:blip r:embed="rId5"/>
            <a:stretch/>
          </p:blipFill>
          <p:spPr>
            <a:xfrm>
              <a:off x="3608280" y="4681440"/>
              <a:ext cx="128124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txp_fig" descr=""/>
            <p:cNvPicPr/>
            <p:nvPr/>
          </p:nvPicPr>
          <p:blipFill>
            <a:blip r:embed="rId6"/>
            <a:stretch/>
          </p:blipFill>
          <p:spPr>
            <a:xfrm>
              <a:off x="5640480" y="5035680"/>
              <a:ext cx="1531800" cy="29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9" name=""/>
          <p:cNvSpPr/>
          <p:nvPr/>
        </p:nvSpPr>
        <p:spPr>
          <a:xfrm>
            <a:off x="1381680" y="587520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C845-EFF6-46E2-8E9E-EACCB64588D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 Complexity Issues: High-Level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69920" y="800280"/>
            <a:ext cx="9324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-Level Automaton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ore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ion of local automata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chronous composition of projected autom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obal marked state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lynomia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2" name="txp_fig" descr=""/>
          <p:cNvPicPr/>
          <p:nvPr/>
        </p:nvPicPr>
        <p:blipFill>
          <a:blip r:embed="rId1"/>
          <a:stretch/>
        </p:blipFill>
        <p:spPr>
          <a:xfrm>
            <a:off x="7888320" y="1768320"/>
            <a:ext cx="1143000" cy="29700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>
            <a:off x="1353960" y="2516040"/>
            <a:ext cx="75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xponential in number of subautomata and states of sub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367280" y="415908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366920" y="593712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63440" y="4581360"/>
            <a:ext cx="9024840" cy="1328400"/>
            <a:chOff x="163440" y="4581360"/>
            <a:chExt cx="9024840" cy="1328400"/>
          </a:xfrm>
        </p:grpSpPr>
        <p:pic>
          <p:nvPicPr>
            <p:cNvPr id="1057" name="txp_fig" descr=""/>
            <p:cNvPicPr/>
            <p:nvPr/>
          </p:nvPicPr>
          <p:blipFill>
            <a:blip r:embed="rId2"/>
            <a:stretch/>
          </p:blipFill>
          <p:spPr>
            <a:xfrm>
              <a:off x="7894800" y="5146560"/>
              <a:ext cx="7999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"/>
            <p:cNvSpPr/>
            <p:nvPr/>
          </p:nvSpPr>
          <p:spPr>
            <a:xfrm>
              <a:off x="163440" y="4581360"/>
              <a:ext cx="90248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772164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ranslation High-Level to Low-Level Supervisor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772164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posed architectur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772164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ore general architectures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89720" y="2898720"/>
            <a:ext cx="8998560" cy="1218240"/>
            <a:chOff x="189720" y="2898720"/>
            <a:chExt cx="8998560" cy="1218240"/>
          </a:xfrm>
        </p:grpSpPr>
        <p:pic>
          <p:nvPicPr>
            <p:cNvPr id="1060" name="txp_fig" descr=""/>
            <p:cNvPicPr/>
            <p:nvPr/>
          </p:nvPicPr>
          <p:blipFill>
            <a:blip r:embed="rId3"/>
            <a:stretch/>
          </p:blipFill>
          <p:spPr>
            <a:xfrm>
              <a:off x="7083360" y="3790800"/>
              <a:ext cx="210492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189720" y="2898720"/>
              <a:ext cx="6551640" cy="12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2568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igh-Level Control: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568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remal controllable sublanguage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568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igh-level automat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295A-3989-4106-84BF-6B97235D96E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142280" y="2930400"/>
            <a:ext cx="72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6. Summary and Future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D3DB-6773-41A8-B2E4-A2E6AB7A2C3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69840" y="2930400"/>
            <a:ext cx="39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1. Prelimin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CBA8-11B8-4839-B1F1-74A7704E684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. Summary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74960" y="1298520"/>
            <a:ext cx="404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ctural Decentralized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cal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-Level 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cal 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80360" y="4481640"/>
            <a:ext cx="482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aborate conditions for mutual control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ulate more general architec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-level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0360" y="955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5400" y="40971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A8ED-D224-4BBB-AF99-5652A3B3E4CA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5440" y="1400040"/>
            <a:ext cx="340812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erministic finite automata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itio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d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xp_fig" descr=""/>
          <p:cNvPicPr/>
          <p:nvPr/>
        </p:nvPicPr>
        <p:blipFill>
          <a:blip r:embed="rId1"/>
          <a:stretch/>
        </p:blipFill>
        <p:spPr>
          <a:xfrm>
            <a:off x="3174840" y="5164200"/>
            <a:ext cx="2011680" cy="261720"/>
          </a:xfrm>
          <a:prstGeom prst="rect">
            <a:avLst/>
          </a:prstGeom>
          <a:ln w="0">
            <a:noFill/>
          </a:ln>
        </p:spPr>
      </p:pic>
      <p:pic>
        <p:nvPicPr>
          <p:cNvPr id="57" name="txp_fig" descr=""/>
          <p:cNvPicPr/>
          <p:nvPr/>
        </p:nvPicPr>
        <p:blipFill>
          <a:blip r:embed="rId2"/>
          <a:stretch/>
        </p:blipFill>
        <p:spPr>
          <a:xfrm>
            <a:off x="3179880" y="5583240"/>
            <a:ext cx="1428480" cy="228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3080" y="88740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a and regular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xp_fig" descr=""/>
          <p:cNvPicPr/>
          <p:nvPr/>
        </p:nvPicPr>
        <p:blipFill>
          <a:blip r:embed="rId3"/>
          <a:stretch/>
        </p:blipFill>
        <p:spPr>
          <a:xfrm>
            <a:off x="3201840" y="1989000"/>
            <a:ext cx="628920" cy="182880"/>
          </a:xfrm>
          <a:prstGeom prst="rect">
            <a:avLst/>
          </a:prstGeom>
          <a:ln w="0">
            <a:noFill/>
          </a:ln>
        </p:spPr>
      </p:pic>
      <p:pic>
        <p:nvPicPr>
          <p:cNvPr id="60" name="txp_fig" descr=""/>
          <p:cNvPicPr/>
          <p:nvPr/>
        </p:nvPicPr>
        <p:blipFill>
          <a:blip r:embed="rId4"/>
          <a:stretch/>
        </p:blipFill>
        <p:spPr>
          <a:xfrm>
            <a:off x="3211560" y="3454560"/>
            <a:ext cx="753840" cy="217440"/>
          </a:xfrm>
          <a:prstGeom prst="rect">
            <a:avLst/>
          </a:prstGeom>
          <a:ln w="0">
            <a:noFill/>
          </a:ln>
        </p:spPr>
      </p:pic>
      <p:pic>
        <p:nvPicPr>
          <p:cNvPr id="61" name="txp_fig" descr=""/>
          <p:cNvPicPr/>
          <p:nvPr/>
        </p:nvPicPr>
        <p:blipFill>
          <a:blip r:embed="rId5"/>
          <a:stretch/>
        </p:blipFill>
        <p:spPr>
          <a:xfrm>
            <a:off x="3187800" y="3078000"/>
            <a:ext cx="892080" cy="193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3360" y="3913200"/>
            <a:ext cx="2538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ular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los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xp_fig" descr=""/>
          <p:cNvPicPr/>
          <p:nvPr/>
        </p:nvPicPr>
        <p:blipFill>
          <a:blip r:embed="rId6"/>
          <a:stretch/>
        </p:blipFill>
        <p:spPr>
          <a:xfrm>
            <a:off x="3189240" y="4457880"/>
            <a:ext cx="182520" cy="160200"/>
          </a:xfrm>
          <a:prstGeom prst="rect">
            <a:avLst/>
          </a:prstGeom>
          <a:ln w="0">
            <a:noFill/>
          </a:ln>
        </p:spPr>
      </p:pic>
      <p:pic>
        <p:nvPicPr>
          <p:cNvPr id="64" name="txp_fig" descr=""/>
          <p:cNvPicPr/>
          <p:nvPr/>
        </p:nvPicPr>
        <p:blipFill>
          <a:blip r:embed="rId7"/>
          <a:stretch/>
        </p:blipFill>
        <p:spPr>
          <a:xfrm>
            <a:off x="3197160" y="4805280"/>
            <a:ext cx="695520" cy="193680"/>
          </a:xfrm>
          <a:prstGeom prst="rect">
            <a:avLst/>
          </a:prstGeom>
          <a:ln w="0">
            <a:noFill/>
          </a:ln>
        </p:spPr>
      </p:pic>
      <p:pic>
        <p:nvPicPr>
          <p:cNvPr id="65" name="txp_fig" descr=""/>
          <p:cNvPicPr/>
          <p:nvPr/>
        </p:nvPicPr>
        <p:blipFill>
          <a:blip r:embed="rId8"/>
          <a:stretch/>
        </p:blipFill>
        <p:spPr>
          <a:xfrm>
            <a:off x="3208320" y="2362320"/>
            <a:ext cx="628560" cy="18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99200" y="762120"/>
            <a:ext cx="2451240" cy="353052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370640" y="1208160"/>
            <a:ext cx="1951200" cy="2980800"/>
            <a:chOff x="7370640" y="1208160"/>
            <a:chExt cx="1951200" cy="2980800"/>
          </a:xfrm>
        </p:grpSpPr>
        <p:grpSp>
          <p:nvGrpSpPr>
            <p:cNvPr id="68" name=""/>
            <p:cNvGrpSpPr/>
            <p:nvPr/>
          </p:nvGrpSpPr>
          <p:grpSpPr>
            <a:xfrm>
              <a:off x="7370640" y="1208160"/>
              <a:ext cx="511200" cy="510840"/>
              <a:chOff x="7370640" y="1208160"/>
              <a:chExt cx="511200" cy="510840"/>
            </a:xfrm>
          </p:grpSpPr>
          <p:sp>
            <p:nvSpPr>
              <p:cNvPr id="69" name=""/>
              <p:cNvSpPr/>
              <p:nvPr/>
            </p:nvSpPr>
            <p:spPr>
              <a:xfrm>
                <a:off x="7370640" y="120816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83680" y="12826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8110440" y="1998720"/>
              <a:ext cx="511200" cy="510480"/>
              <a:chOff x="8110440" y="1998720"/>
              <a:chExt cx="511200" cy="510480"/>
            </a:xfrm>
          </p:grpSpPr>
          <p:sp>
            <p:nvSpPr>
              <p:cNvPr id="72" name=""/>
              <p:cNvSpPr/>
              <p:nvPr/>
            </p:nvSpPr>
            <p:spPr>
              <a:xfrm>
                <a:off x="8110440" y="1998720"/>
                <a:ext cx="511200" cy="510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23480" y="20732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381800" y="2879640"/>
              <a:ext cx="511200" cy="510840"/>
              <a:chOff x="7381800" y="2879640"/>
              <a:chExt cx="511200" cy="510840"/>
            </a:xfrm>
          </p:grpSpPr>
          <p:sp>
            <p:nvSpPr>
              <p:cNvPr id="75" name=""/>
              <p:cNvSpPr/>
              <p:nvPr/>
            </p:nvSpPr>
            <p:spPr>
              <a:xfrm>
                <a:off x="738180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49484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8810640" y="2879640"/>
              <a:ext cx="511200" cy="510840"/>
              <a:chOff x="8810640" y="2879640"/>
              <a:chExt cx="511200" cy="510840"/>
            </a:xfrm>
          </p:grpSpPr>
          <p:sp>
            <p:nvSpPr>
              <p:cNvPr id="78" name=""/>
              <p:cNvSpPr/>
              <p:nvPr/>
            </p:nvSpPr>
            <p:spPr>
              <a:xfrm>
                <a:off x="881064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92368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8101080" y="3678120"/>
              <a:ext cx="511200" cy="510840"/>
              <a:chOff x="8101080" y="3678120"/>
              <a:chExt cx="511200" cy="510840"/>
            </a:xfrm>
          </p:grpSpPr>
          <p:sp>
            <p:nvSpPr>
              <p:cNvPr id="81" name=""/>
              <p:cNvSpPr/>
              <p:nvPr/>
            </p:nvSpPr>
            <p:spPr>
              <a:xfrm>
                <a:off x="8101080" y="367812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14120" y="37522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7804080" y="1644480"/>
            <a:ext cx="38124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781760" y="2455920"/>
            <a:ext cx="4082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32720" y="2455920"/>
            <a:ext cx="3668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3000" y="3133800"/>
            <a:ext cx="91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04200" y="328932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8555040" y="337824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00920" y="145080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096400" y="3681360"/>
            <a:ext cx="511200" cy="511200"/>
            <a:chOff x="8096400" y="3681360"/>
            <a:chExt cx="511200" cy="511200"/>
          </a:xfrm>
        </p:grpSpPr>
        <p:sp>
          <p:nvSpPr>
            <p:cNvPr id="91" name=""/>
            <p:cNvSpPr/>
            <p:nvPr/>
          </p:nvSpPr>
          <p:spPr>
            <a:xfrm>
              <a:off x="8096400" y="3681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91800" y="375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51840" y="3737160"/>
              <a:ext cx="40320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txp_fig" descr=""/>
          <p:cNvPicPr/>
          <p:nvPr/>
        </p:nvPicPr>
        <p:blipFill>
          <a:blip r:embed="rId9"/>
          <a:stretch/>
        </p:blipFill>
        <p:spPr>
          <a:xfrm>
            <a:off x="8021520" y="163188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95" name="txp_fig" descr=""/>
          <p:cNvPicPr/>
          <p:nvPr/>
        </p:nvPicPr>
        <p:blipFill>
          <a:blip r:embed="rId10"/>
          <a:stretch/>
        </p:blipFill>
        <p:spPr>
          <a:xfrm>
            <a:off x="7694640" y="24638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6" name="txp_fig" descr=""/>
          <p:cNvPicPr/>
          <p:nvPr/>
        </p:nvPicPr>
        <p:blipFill>
          <a:blip r:embed="rId11"/>
          <a:stretch/>
        </p:blipFill>
        <p:spPr>
          <a:xfrm>
            <a:off x="8697960" y="25020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7" name="txp_fig" descr=""/>
          <p:cNvPicPr/>
          <p:nvPr/>
        </p:nvPicPr>
        <p:blipFill>
          <a:blip r:embed="rId12"/>
          <a:stretch/>
        </p:blipFill>
        <p:spPr>
          <a:xfrm>
            <a:off x="8194680" y="2924280"/>
            <a:ext cx="250920" cy="160200"/>
          </a:xfrm>
          <a:prstGeom prst="rect">
            <a:avLst/>
          </a:prstGeom>
          <a:ln w="0">
            <a:noFill/>
          </a:ln>
        </p:spPr>
      </p:pic>
      <p:pic>
        <p:nvPicPr>
          <p:cNvPr id="98" name="txp_fig" descr=""/>
          <p:cNvPicPr/>
          <p:nvPr/>
        </p:nvPicPr>
        <p:blipFill>
          <a:blip r:embed="rId13"/>
          <a:stretch/>
        </p:blipFill>
        <p:spPr>
          <a:xfrm>
            <a:off x="8245440" y="327960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99" name="txp_fig" descr=""/>
          <p:cNvPicPr/>
          <p:nvPr/>
        </p:nvPicPr>
        <p:blipFill>
          <a:blip r:embed="rId14"/>
          <a:stretch/>
        </p:blipFill>
        <p:spPr>
          <a:xfrm>
            <a:off x="8740800" y="3787920"/>
            <a:ext cx="239760" cy="160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Notations in the DES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xp_fig" descr=""/>
          <p:cNvPicPr/>
          <p:nvPr/>
        </p:nvPicPr>
        <p:blipFill>
          <a:blip r:embed="rId15"/>
          <a:stretch/>
        </p:blipFill>
        <p:spPr>
          <a:xfrm>
            <a:off x="3197160" y="2728800"/>
            <a:ext cx="1555920" cy="18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869A-B429-4230-A078-338BFEE942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tandard Contro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90792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sific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680" y="1365120"/>
            <a:ext cx="4418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lable events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– can be disabl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controllable event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– always enabl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5160" y="2322360"/>
            <a:ext cx="6211800" cy="2505240"/>
            <a:chOff x="155160" y="2322360"/>
            <a:chExt cx="6211800" cy="2505240"/>
          </a:xfrm>
        </p:grpSpPr>
        <p:sp>
          <p:nvSpPr>
            <p:cNvPr id="106" name=""/>
            <p:cNvSpPr/>
            <p:nvPr/>
          </p:nvSpPr>
          <p:spPr>
            <a:xfrm>
              <a:off x="155160" y="2322360"/>
              <a:ext cx="22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eedback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009960" y="3892680"/>
              <a:ext cx="1466640" cy="934920"/>
              <a:chOff x="3009960" y="3892680"/>
              <a:chExt cx="1466640" cy="934920"/>
            </a:xfrm>
          </p:grpSpPr>
          <p:sp>
            <p:nvSpPr>
              <p:cNvPr id="108" name=""/>
              <p:cNvSpPr/>
              <p:nvPr/>
            </p:nvSpPr>
            <p:spPr>
              <a:xfrm>
                <a:off x="3009960" y="3892680"/>
                <a:ext cx="1466640" cy="93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56640" y="40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997360" y="2606760"/>
              <a:ext cx="1466640" cy="934920"/>
              <a:chOff x="2997360" y="2606760"/>
              <a:chExt cx="1466640" cy="9349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37320" y="2772000"/>
                <a:ext cx="1374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Supervis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97360" y="2606760"/>
                <a:ext cx="1466640" cy="93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042920" y="3075120"/>
              <a:ext cx="5324040" cy="1295280"/>
              <a:chOff x="1042920" y="3075120"/>
              <a:chExt cx="5324040" cy="1295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476240" y="3090960"/>
                <a:ext cx="582480" cy="1279440"/>
                <a:chOff x="4476240" y="3090960"/>
                <a:chExt cx="582480" cy="1279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476600" y="437040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5058720" y="3090960"/>
                  <a:ext cx="0" cy="1279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4476240" y="309096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407680" y="3075120"/>
                <a:ext cx="582480" cy="1279440"/>
                <a:chOff x="2407680" y="3075120"/>
                <a:chExt cx="582480" cy="1279440"/>
              </a:xfrm>
            </p:grpSpPr>
            <p:sp>
              <p:nvSpPr>
                <p:cNvPr id="119" name=""/>
                <p:cNvSpPr/>
                <p:nvPr/>
              </p:nvSpPr>
              <p:spPr>
                <a:xfrm flipH="1">
                  <a:off x="2407680" y="307512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07680" y="3075120"/>
                  <a:ext cx="0" cy="1279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408040" y="435456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042920" y="3338640"/>
                <a:ext cx="136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isabl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v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52600" y="3289320"/>
                <a:ext cx="1314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v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ccur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</a:t>
                </a:r>
                <a:r>
                  <a:rPr b="0" i="1" lang="de-DE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4" name="txp_fig" descr=""/>
          <p:cNvPicPr/>
          <p:nvPr/>
        </p:nvPicPr>
        <p:blipFill>
          <a:blip r:embed="rId1"/>
          <a:stretch/>
        </p:blipFill>
        <p:spPr>
          <a:xfrm>
            <a:off x="4560840" y="1447920"/>
            <a:ext cx="860400" cy="241200"/>
          </a:xfrm>
          <a:prstGeom prst="rect">
            <a:avLst/>
          </a:prstGeom>
          <a:ln w="0">
            <a:noFill/>
          </a:ln>
        </p:spPr>
      </p:pic>
      <p:pic>
        <p:nvPicPr>
          <p:cNvPr id="125" name="txp_fig" descr=""/>
          <p:cNvPicPr/>
          <p:nvPr/>
        </p:nvPicPr>
        <p:blipFill>
          <a:blip r:embed="rId2"/>
          <a:stretch/>
        </p:blipFill>
        <p:spPr>
          <a:xfrm>
            <a:off x="4565520" y="1811160"/>
            <a:ext cx="1589040" cy="23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99200" y="762120"/>
            <a:ext cx="2451240" cy="353052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370640" y="1208160"/>
            <a:ext cx="1951200" cy="2980800"/>
            <a:chOff x="7370640" y="1208160"/>
            <a:chExt cx="1951200" cy="2980800"/>
          </a:xfrm>
        </p:grpSpPr>
        <p:grpSp>
          <p:nvGrpSpPr>
            <p:cNvPr id="128" name=""/>
            <p:cNvGrpSpPr/>
            <p:nvPr/>
          </p:nvGrpSpPr>
          <p:grpSpPr>
            <a:xfrm>
              <a:off x="7370640" y="1208160"/>
              <a:ext cx="511200" cy="510840"/>
              <a:chOff x="7370640" y="1208160"/>
              <a:chExt cx="511200" cy="510840"/>
            </a:xfrm>
          </p:grpSpPr>
          <p:sp>
            <p:nvSpPr>
              <p:cNvPr id="129" name=""/>
              <p:cNvSpPr/>
              <p:nvPr/>
            </p:nvSpPr>
            <p:spPr>
              <a:xfrm>
                <a:off x="7370640" y="120816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83680" y="12826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8110440" y="1998720"/>
              <a:ext cx="511200" cy="510480"/>
              <a:chOff x="8110440" y="1998720"/>
              <a:chExt cx="511200" cy="510480"/>
            </a:xfrm>
          </p:grpSpPr>
          <p:sp>
            <p:nvSpPr>
              <p:cNvPr id="132" name=""/>
              <p:cNvSpPr/>
              <p:nvPr/>
            </p:nvSpPr>
            <p:spPr>
              <a:xfrm>
                <a:off x="8110440" y="1998720"/>
                <a:ext cx="511200" cy="510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223480" y="20732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381800" y="2879640"/>
              <a:ext cx="511200" cy="510840"/>
              <a:chOff x="7381800" y="2879640"/>
              <a:chExt cx="511200" cy="510840"/>
            </a:xfrm>
          </p:grpSpPr>
          <p:sp>
            <p:nvSpPr>
              <p:cNvPr id="135" name=""/>
              <p:cNvSpPr/>
              <p:nvPr/>
            </p:nvSpPr>
            <p:spPr>
              <a:xfrm>
                <a:off x="738180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9484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8810640" y="2879640"/>
              <a:ext cx="511200" cy="510840"/>
              <a:chOff x="8810640" y="2879640"/>
              <a:chExt cx="511200" cy="510840"/>
            </a:xfrm>
          </p:grpSpPr>
          <p:sp>
            <p:nvSpPr>
              <p:cNvPr id="138" name=""/>
              <p:cNvSpPr/>
              <p:nvPr/>
            </p:nvSpPr>
            <p:spPr>
              <a:xfrm>
                <a:off x="881064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92368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8101080" y="3678120"/>
              <a:ext cx="511200" cy="510840"/>
              <a:chOff x="8101080" y="3678120"/>
              <a:chExt cx="511200" cy="510840"/>
            </a:xfrm>
          </p:grpSpPr>
          <p:sp>
            <p:nvSpPr>
              <p:cNvPr id="141" name=""/>
              <p:cNvSpPr/>
              <p:nvPr/>
            </p:nvSpPr>
            <p:spPr>
              <a:xfrm>
                <a:off x="8101080" y="367812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214120" y="37522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804080" y="1644480"/>
            <a:ext cx="38124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781760" y="2455920"/>
            <a:ext cx="4082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2720" y="2455920"/>
            <a:ext cx="3668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93000" y="3133800"/>
            <a:ext cx="91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04200" y="328932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8555040" y="337824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00920" y="145080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096400" y="3681360"/>
            <a:ext cx="511200" cy="511200"/>
            <a:chOff x="8096400" y="3681360"/>
            <a:chExt cx="511200" cy="511200"/>
          </a:xfrm>
        </p:grpSpPr>
        <p:sp>
          <p:nvSpPr>
            <p:cNvPr id="151" name=""/>
            <p:cNvSpPr/>
            <p:nvPr/>
          </p:nvSpPr>
          <p:spPr>
            <a:xfrm>
              <a:off x="8096400" y="3681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91800" y="375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51840" y="3737160"/>
              <a:ext cx="40320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937640" y="2629080"/>
            <a:ext cx="12672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50160" y="3606840"/>
            <a:ext cx="889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xp_fig" descr=""/>
          <p:cNvPicPr/>
          <p:nvPr/>
        </p:nvPicPr>
        <p:blipFill>
          <a:blip r:embed="rId3"/>
          <a:stretch/>
        </p:blipFill>
        <p:spPr>
          <a:xfrm>
            <a:off x="8021520" y="163188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157" name="txp_fig" descr=""/>
          <p:cNvPicPr/>
          <p:nvPr/>
        </p:nvPicPr>
        <p:blipFill>
          <a:blip r:embed="rId4"/>
          <a:stretch/>
        </p:blipFill>
        <p:spPr>
          <a:xfrm>
            <a:off x="7694640" y="24638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158" name="txp_fig" descr=""/>
          <p:cNvPicPr/>
          <p:nvPr/>
        </p:nvPicPr>
        <p:blipFill>
          <a:blip r:embed="rId5"/>
          <a:stretch/>
        </p:blipFill>
        <p:spPr>
          <a:xfrm>
            <a:off x="8697960" y="25020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159" name="txp_fig" descr=""/>
          <p:cNvPicPr/>
          <p:nvPr/>
        </p:nvPicPr>
        <p:blipFill>
          <a:blip r:embed="rId6"/>
          <a:stretch/>
        </p:blipFill>
        <p:spPr>
          <a:xfrm>
            <a:off x="8194680" y="2924280"/>
            <a:ext cx="250920" cy="160200"/>
          </a:xfrm>
          <a:prstGeom prst="rect">
            <a:avLst/>
          </a:prstGeom>
          <a:ln w="0">
            <a:noFill/>
          </a:ln>
        </p:spPr>
      </p:pic>
      <p:pic>
        <p:nvPicPr>
          <p:cNvPr id="160" name="txp_fig" descr=""/>
          <p:cNvPicPr/>
          <p:nvPr/>
        </p:nvPicPr>
        <p:blipFill>
          <a:blip r:embed="rId7"/>
          <a:stretch/>
        </p:blipFill>
        <p:spPr>
          <a:xfrm>
            <a:off x="8245440" y="327960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161" name="txp_fig" descr=""/>
          <p:cNvPicPr/>
          <p:nvPr/>
        </p:nvPicPr>
        <p:blipFill>
          <a:blip r:embed="rId8"/>
          <a:stretch/>
        </p:blipFill>
        <p:spPr>
          <a:xfrm>
            <a:off x="8740800" y="3787920"/>
            <a:ext cx="239760" cy="1602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142560" y="5037120"/>
            <a:ext cx="4496040" cy="1197360"/>
            <a:chOff x="142560" y="5037120"/>
            <a:chExt cx="4496040" cy="1197360"/>
          </a:xfrm>
        </p:grpSpPr>
        <p:sp>
          <p:nvSpPr>
            <p:cNvPr id="163" name=""/>
            <p:cNvSpPr/>
            <p:nvPr/>
          </p:nvSpPr>
          <p:spPr>
            <a:xfrm>
              <a:off x="142560" y="5454720"/>
              <a:ext cx="3569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racks strings occuring in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isables event             after     i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5880" y="503712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upervis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txp_fig" descr=""/>
            <p:cNvPicPr/>
            <p:nvPr/>
          </p:nvPicPr>
          <p:blipFill>
            <a:blip r:embed="rId9"/>
            <a:stretch/>
          </p:blipFill>
          <p:spPr>
            <a:xfrm>
              <a:off x="3200400" y="5994360"/>
              <a:ext cx="10332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xp_fig" descr=""/>
            <p:cNvPicPr/>
            <p:nvPr/>
          </p:nvPicPr>
          <p:blipFill>
            <a:blip r:embed="rId10"/>
            <a:stretch/>
          </p:blipFill>
          <p:spPr>
            <a:xfrm>
              <a:off x="1967040" y="5940360"/>
              <a:ext cx="6285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xp_fig" descr=""/>
            <p:cNvPicPr/>
            <p:nvPr/>
          </p:nvPicPr>
          <p:blipFill>
            <a:blip r:embed="rId11"/>
            <a:stretch/>
          </p:blipFill>
          <p:spPr>
            <a:xfrm>
              <a:off x="3735360" y="5927760"/>
              <a:ext cx="903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xp_fig" descr=""/>
            <p:cNvPicPr/>
            <p:nvPr/>
          </p:nvPicPr>
          <p:blipFill>
            <a:blip r:embed="rId12"/>
            <a:stretch/>
          </p:blipFill>
          <p:spPr>
            <a:xfrm>
              <a:off x="3355920" y="5540400"/>
              <a:ext cx="56052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xp_fig" descr=""/>
            <p:cNvPicPr/>
            <p:nvPr/>
          </p:nvPicPr>
          <p:blipFill>
            <a:blip r:embed="rId13"/>
            <a:stretch/>
          </p:blipFill>
          <p:spPr>
            <a:xfrm>
              <a:off x="1496880" y="5086440"/>
              <a:ext cx="12906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6DFE-C37A-417B-AB85-E6E514782E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upervis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99200" y="762120"/>
            <a:ext cx="2451240" cy="353052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370640" y="1208160"/>
            <a:ext cx="1951200" cy="2981160"/>
            <a:chOff x="7370640" y="1208160"/>
            <a:chExt cx="1951200" cy="2981160"/>
          </a:xfrm>
        </p:grpSpPr>
        <p:grpSp>
          <p:nvGrpSpPr>
            <p:cNvPr id="173" name=""/>
            <p:cNvGrpSpPr/>
            <p:nvPr/>
          </p:nvGrpSpPr>
          <p:grpSpPr>
            <a:xfrm>
              <a:off x="7370640" y="1208160"/>
              <a:ext cx="511200" cy="511200"/>
              <a:chOff x="7370640" y="1208160"/>
              <a:chExt cx="511200" cy="511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70640" y="12081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83680" y="12830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8110440" y="1998720"/>
              <a:ext cx="511200" cy="511200"/>
              <a:chOff x="8110440" y="1998720"/>
              <a:chExt cx="511200" cy="511200"/>
            </a:xfrm>
          </p:grpSpPr>
          <p:sp>
            <p:nvSpPr>
              <p:cNvPr id="177" name=""/>
              <p:cNvSpPr/>
              <p:nvPr/>
            </p:nvSpPr>
            <p:spPr>
              <a:xfrm>
                <a:off x="8110440" y="199872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223480" y="20736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381800" y="2879640"/>
              <a:ext cx="511200" cy="511200"/>
              <a:chOff x="7381800" y="2879640"/>
              <a:chExt cx="511200" cy="511200"/>
            </a:xfrm>
          </p:grpSpPr>
          <p:sp>
            <p:nvSpPr>
              <p:cNvPr id="180" name=""/>
              <p:cNvSpPr/>
              <p:nvPr/>
            </p:nvSpPr>
            <p:spPr>
              <a:xfrm>
                <a:off x="7381800" y="28796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94840" y="29541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810640" y="2879640"/>
              <a:ext cx="511200" cy="511200"/>
              <a:chOff x="8810640" y="2879640"/>
              <a:chExt cx="511200" cy="511200"/>
            </a:xfrm>
          </p:grpSpPr>
          <p:sp>
            <p:nvSpPr>
              <p:cNvPr id="183" name=""/>
              <p:cNvSpPr/>
              <p:nvPr/>
            </p:nvSpPr>
            <p:spPr>
              <a:xfrm>
                <a:off x="8810640" y="28796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23680" y="29541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8101080" y="3678120"/>
              <a:ext cx="511200" cy="511200"/>
              <a:chOff x="8101080" y="3678120"/>
              <a:chExt cx="511200" cy="511200"/>
            </a:xfrm>
          </p:grpSpPr>
          <p:sp>
            <p:nvSpPr>
              <p:cNvPr id="186" name=""/>
              <p:cNvSpPr/>
              <p:nvPr/>
            </p:nvSpPr>
            <p:spPr>
              <a:xfrm>
                <a:off x="8101080" y="367812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14120" y="37526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7804080" y="1644480"/>
            <a:ext cx="38124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781760" y="2455920"/>
            <a:ext cx="4082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2455920"/>
            <a:ext cx="3668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93000" y="3133800"/>
            <a:ext cx="91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04200" y="328932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8555040" y="337824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00920" y="145080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096400" y="3681360"/>
            <a:ext cx="511200" cy="511200"/>
            <a:chOff x="8096400" y="3681360"/>
            <a:chExt cx="511200" cy="511200"/>
          </a:xfrm>
        </p:grpSpPr>
        <p:sp>
          <p:nvSpPr>
            <p:cNvPr id="196" name=""/>
            <p:cNvSpPr/>
            <p:nvPr/>
          </p:nvSpPr>
          <p:spPr>
            <a:xfrm>
              <a:off x="8096400" y="3681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91800" y="375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51840" y="3737160"/>
              <a:ext cx="40320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937640" y="2629080"/>
            <a:ext cx="12672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50160" y="3606840"/>
            <a:ext cx="889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txp_fig" descr=""/>
          <p:cNvPicPr/>
          <p:nvPr/>
        </p:nvPicPr>
        <p:blipFill>
          <a:blip r:embed="rId1"/>
          <a:stretch/>
        </p:blipFill>
        <p:spPr>
          <a:xfrm>
            <a:off x="8021520" y="163188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202" name="txp_fig" descr=""/>
          <p:cNvPicPr/>
          <p:nvPr/>
        </p:nvPicPr>
        <p:blipFill>
          <a:blip r:embed="rId2"/>
          <a:stretch/>
        </p:blipFill>
        <p:spPr>
          <a:xfrm>
            <a:off x="7694640" y="24638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203" name="txp_fig" descr=""/>
          <p:cNvPicPr/>
          <p:nvPr/>
        </p:nvPicPr>
        <p:blipFill>
          <a:blip r:embed="rId3"/>
          <a:stretch/>
        </p:blipFill>
        <p:spPr>
          <a:xfrm>
            <a:off x="8697960" y="25020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204" name="txp_fig" descr=""/>
          <p:cNvPicPr/>
          <p:nvPr/>
        </p:nvPicPr>
        <p:blipFill>
          <a:blip r:embed="rId4"/>
          <a:stretch/>
        </p:blipFill>
        <p:spPr>
          <a:xfrm>
            <a:off x="8194680" y="2924280"/>
            <a:ext cx="250920" cy="160200"/>
          </a:xfrm>
          <a:prstGeom prst="rect">
            <a:avLst/>
          </a:prstGeom>
          <a:ln w="0">
            <a:noFill/>
          </a:ln>
        </p:spPr>
      </p:pic>
      <p:pic>
        <p:nvPicPr>
          <p:cNvPr id="205" name="txp_fig" descr=""/>
          <p:cNvPicPr/>
          <p:nvPr/>
        </p:nvPicPr>
        <p:blipFill>
          <a:blip r:embed="rId5"/>
          <a:stretch/>
        </p:blipFill>
        <p:spPr>
          <a:xfrm>
            <a:off x="8245440" y="327960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206" name="txp_fig" descr=""/>
          <p:cNvPicPr/>
          <p:nvPr/>
        </p:nvPicPr>
        <p:blipFill>
          <a:blip r:embed="rId6"/>
          <a:stretch/>
        </p:blipFill>
        <p:spPr>
          <a:xfrm>
            <a:off x="8740800" y="3787920"/>
            <a:ext cx="239760" cy="160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709120" y="361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9400" y="927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roll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txp_fig" descr=""/>
          <p:cNvPicPr/>
          <p:nvPr/>
        </p:nvPicPr>
        <p:blipFill>
          <a:blip r:embed="rId7"/>
          <a:stretch/>
        </p:blipFill>
        <p:spPr>
          <a:xfrm>
            <a:off x="2527200" y="1001880"/>
            <a:ext cx="811440" cy="25056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152280" y="2509920"/>
            <a:ext cx="9372600" cy="3751200"/>
            <a:chOff x="152280" y="2509920"/>
            <a:chExt cx="9372600" cy="3751200"/>
          </a:xfrm>
        </p:grpSpPr>
        <p:sp>
          <p:nvSpPr>
            <p:cNvPr id="211" name=""/>
            <p:cNvSpPr/>
            <p:nvPr/>
          </p:nvSpPr>
          <p:spPr>
            <a:xfrm>
              <a:off x="152280" y="2509920"/>
              <a:ext cx="15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8280" y="2963880"/>
              <a:ext cx="199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sired languag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txp_fig" descr=""/>
            <p:cNvPicPr/>
            <p:nvPr/>
          </p:nvPicPr>
          <p:blipFill>
            <a:blip r:embed="rId8"/>
            <a:stretch/>
          </p:blipFill>
          <p:spPr>
            <a:xfrm>
              <a:off x="2724120" y="3086280"/>
              <a:ext cx="6969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134040" y="4419720"/>
              <a:ext cx="3390840" cy="1841400"/>
            </a:xfrm>
            <a:prstGeom prst="rect">
              <a:avLst/>
            </a:prstGeom>
            <a:solidFill>
              <a:srgbClr val="95ca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3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235560" y="5946480"/>
              <a:ext cx="317520" cy="12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789600" y="5257440"/>
              <a:ext cx="5040" cy="41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6320" y="47721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235560" y="5946480"/>
              <a:ext cx="3175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238520" y="5391000"/>
              <a:ext cx="88920" cy="108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42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789600" y="5257440"/>
              <a:ext cx="5040" cy="4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6320" y="47721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74000" y="5029200"/>
              <a:ext cx="5842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5320" y="47880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886880" y="5283360"/>
              <a:ext cx="0" cy="40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53280" y="50418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238520" y="5391000"/>
              <a:ext cx="8892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0920" y="5187960"/>
              <a:ext cx="682560" cy="62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42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8832960" y="4786200"/>
              <a:ext cx="511200" cy="511200"/>
              <a:chOff x="8832960" y="4786200"/>
              <a:chExt cx="511200" cy="511200"/>
            </a:xfrm>
          </p:grpSpPr>
          <p:sp>
            <p:nvSpPr>
              <p:cNvPr id="233" name=""/>
              <p:cNvSpPr/>
              <p:nvPr/>
            </p:nvSpPr>
            <p:spPr>
              <a:xfrm>
                <a:off x="8832960" y="47862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871120" y="48610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88400" y="4842000"/>
                <a:ext cx="403200" cy="403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6" name="txp_fig" descr=""/>
            <p:cNvPicPr/>
            <p:nvPr/>
          </p:nvPicPr>
          <p:blipFill>
            <a:blip r:embed="rId9"/>
            <a:stretch/>
          </p:blipFill>
          <p:spPr>
            <a:xfrm>
              <a:off x="7157880" y="478152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txp_fig" descr=""/>
            <p:cNvPicPr/>
            <p:nvPr/>
          </p:nvPicPr>
          <p:blipFill>
            <a:blip r:embed="rId10"/>
            <a:stretch/>
          </p:blipFill>
          <p:spPr>
            <a:xfrm>
              <a:off x="6499080" y="5425920"/>
              <a:ext cx="2397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txp_fig" descr=""/>
            <p:cNvPicPr/>
            <p:nvPr/>
          </p:nvPicPr>
          <p:blipFill>
            <a:blip r:embed="rId11"/>
            <a:stretch/>
          </p:blipFill>
          <p:spPr>
            <a:xfrm>
              <a:off x="7089840" y="5565600"/>
              <a:ext cx="2397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txp_fig" descr=""/>
            <p:cNvPicPr/>
            <p:nvPr/>
          </p:nvPicPr>
          <p:blipFill>
            <a:blip r:embed="rId12"/>
            <a:stretch/>
          </p:blipFill>
          <p:spPr>
            <a:xfrm>
              <a:off x="7927920" y="5425920"/>
              <a:ext cx="25092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txp_fig" descr=""/>
            <p:cNvPicPr/>
            <p:nvPr/>
          </p:nvPicPr>
          <p:blipFill>
            <a:blip r:embed="rId13"/>
            <a:stretch/>
          </p:blipFill>
          <p:spPr>
            <a:xfrm>
              <a:off x="8304120" y="483876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101640" y="44085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 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txp_fig" descr=""/>
            <p:cNvPicPr/>
            <p:nvPr/>
          </p:nvPicPr>
          <p:blipFill>
            <a:blip r:embed="rId14"/>
            <a:stretch/>
          </p:blipFill>
          <p:spPr>
            <a:xfrm>
              <a:off x="7680240" y="4522680"/>
              <a:ext cx="206640" cy="16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txp_fig" descr=""/>
          <p:cNvPicPr/>
          <p:nvPr/>
        </p:nvPicPr>
        <p:blipFill>
          <a:blip r:embed="rId15"/>
          <a:stretch/>
        </p:blipFill>
        <p:spPr>
          <a:xfrm>
            <a:off x="341280" y="1444680"/>
            <a:ext cx="4402080" cy="9954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72880" y="3635280"/>
            <a:ext cx="5715000" cy="1344600"/>
            <a:chOff x="272880" y="3635280"/>
            <a:chExt cx="5715000" cy="1344600"/>
          </a:xfrm>
        </p:grpSpPr>
        <p:sp>
          <p:nvSpPr>
            <p:cNvPr id="245" name=""/>
            <p:cNvSpPr/>
            <p:nvPr/>
          </p:nvSpPr>
          <p:spPr>
            <a:xfrm>
              <a:off x="272880" y="3635280"/>
              <a:ext cx="5715000" cy="1344600"/>
            </a:xfrm>
            <a:prstGeom prst="rect">
              <a:avLst/>
            </a:prstGeom>
            <a:solidFill>
              <a:srgbClr val="e3caf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320" y="3710160"/>
              <a:ext cx="511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efinition: Control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 language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s controllable w.r.t. to a language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f and only 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txp_fig" descr=""/>
            <p:cNvPicPr/>
            <p:nvPr/>
          </p:nvPicPr>
          <p:blipFill>
            <a:blip r:embed="rId16"/>
            <a:stretch/>
          </p:blipFill>
          <p:spPr>
            <a:xfrm>
              <a:off x="1546200" y="4203720"/>
              <a:ext cx="2062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txp_fig" descr=""/>
            <p:cNvPicPr/>
            <p:nvPr/>
          </p:nvPicPr>
          <p:blipFill>
            <a:blip r:embed="rId17"/>
            <a:stretch/>
          </p:blipFill>
          <p:spPr>
            <a:xfrm>
              <a:off x="1703520" y="4595760"/>
              <a:ext cx="150948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txp_fig" descr=""/>
            <p:cNvPicPr/>
            <p:nvPr/>
          </p:nvPicPr>
          <p:blipFill>
            <a:blip r:embed="rId18"/>
            <a:stretch/>
          </p:blipFill>
          <p:spPr>
            <a:xfrm>
              <a:off x="5345280" y="4199040"/>
              <a:ext cx="14904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149400" y="5162400"/>
            <a:ext cx="4778280" cy="1028880"/>
            <a:chOff x="149400" y="5162400"/>
            <a:chExt cx="4778280" cy="1028880"/>
          </a:xfrm>
        </p:grpSpPr>
        <p:sp>
          <p:nvSpPr>
            <p:cNvPr id="251" name=""/>
            <p:cNvSpPr/>
            <p:nvPr/>
          </p:nvSpPr>
          <p:spPr>
            <a:xfrm>
              <a:off x="149400" y="5162400"/>
              <a:ext cx="47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upremal controllable sub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txp_fig" descr=""/>
            <p:cNvPicPr/>
            <p:nvPr/>
          </p:nvPicPr>
          <p:blipFill>
            <a:blip r:embed="rId19"/>
            <a:stretch/>
          </p:blipFill>
          <p:spPr>
            <a:xfrm>
              <a:off x="896760" y="5654520"/>
              <a:ext cx="348480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7077240" y="5029200"/>
            <a:ext cx="577800" cy="12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94640" y="5257800"/>
            <a:ext cx="0" cy="41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791480" y="1631880"/>
            <a:ext cx="1109520" cy="1317600"/>
            <a:chOff x="7791480" y="1631880"/>
            <a:chExt cx="1109520" cy="1317600"/>
          </a:xfrm>
        </p:grpSpPr>
        <p:sp>
          <p:nvSpPr>
            <p:cNvPr id="256" name=""/>
            <p:cNvSpPr/>
            <p:nvPr/>
          </p:nvSpPr>
          <p:spPr>
            <a:xfrm>
              <a:off x="8523360" y="2448000"/>
              <a:ext cx="377640" cy="50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91480" y="1631880"/>
              <a:ext cx="385560" cy="428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4E36-6130-4150-8AAD-6B71E433AC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1160" y="934920"/>
            <a:ext cx="50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blocking -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50000"/>
              </a:lnSpc>
              <a:tabLst>
                <a:tab algn="l" pos="0"/>
                <a:tab algn="l" pos="2890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e must exist a path to a marke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50000"/>
              </a:lnSpc>
              <a:tabLst>
                <a:tab algn="l" pos="0"/>
                <a:tab algn="l" pos="2890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led languag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upervis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txp_fig" descr=""/>
          <p:cNvPicPr/>
          <p:nvPr/>
        </p:nvPicPr>
        <p:blipFill>
          <a:blip r:embed="rId1"/>
          <a:stretch/>
        </p:blipFill>
        <p:spPr>
          <a:xfrm>
            <a:off x="3006720" y="1798560"/>
            <a:ext cx="2217600" cy="2746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244440" y="2428920"/>
            <a:ext cx="5989680" cy="2171520"/>
            <a:chOff x="244440" y="2428920"/>
            <a:chExt cx="5989680" cy="2171520"/>
          </a:xfrm>
        </p:grpSpPr>
        <p:sp>
          <p:nvSpPr>
            <p:cNvPr id="262" name=""/>
            <p:cNvSpPr/>
            <p:nvPr/>
          </p:nvSpPr>
          <p:spPr>
            <a:xfrm>
              <a:off x="244440" y="2428920"/>
              <a:ext cx="5989680" cy="21715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320" y="2503440"/>
              <a:ext cx="51886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ontrollability and Non-blocking Theor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 non-blocking supervisor, which implements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pecification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for an automaton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exists iff: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)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trollable w.r.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i)      is         -closed, i.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txp_fig" descr=""/>
            <p:cNvPicPr/>
            <p:nvPr/>
          </p:nvPicPr>
          <p:blipFill>
            <a:blip r:embed="rId2"/>
            <a:stretch/>
          </p:blipFill>
          <p:spPr>
            <a:xfrm>
              <a:off x="1709640" y="3414600"/>
              <a:ext cx="20664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txp_fig" descr=""/>
            <p:cNvPicPr/>
            <p:nvPr/>
          </p:nvPicPr>
          <p:blipFill>
            <a:blip r:embed="rId3"/>
            <a:stretch/>
          </p:blipFill>
          <p:spPr>
            <a:xfrm>
              <a:off x="3801960" y="3417840"/>
              <a:ext cx="18432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txp_fig" descr=""/>
            <p:cNvPicPr/>
            <p:nvPr/>
          </p:nvPicPr>
          <p:blipFill>
            <a:blip r:embed="rId4"/>
            <a:stretch/>
          </p:blipFill>
          <p:spPr>
            <a:xfrm>
              <a:off x="1555920" y="3827520"/>
              <a:ext cx="2062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txp_fig" descr=""/>
            <p:cNvPicPr/>
            <p:nvPr/>
          </p:nvPicPr>
          <p:blipFill>
            <a:blip r:embed="rId5"/>
            <a:stretch/>
          </p:blipFill>
          <p:spPr>
            <a:xfrm>
              <a:off x="3578400" y="3817800"/>
              <a:ext cx="1839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txp_fig" descr=""/>
            <p:cNvPicPr/>
            <p:nvPr/>
          </p:nvPicPr>
          <p:blipFill>
            <a:blip r:embed="rId6"/>
            <a:stretch/>
          </p:blipFill>
          <p:spPr>
            <a:xfrm>
              <a:off x="1565280" y="4240080"/>
              <a:ext cx="2062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txp_fig" descr=""/>
            <p:cNvPicPr/>
            <p:nvPr/>
          </p:nvPicPr>
          <p:blipFill>
            <a:blip r:embed="rId7"/>
            <a:stretch/>
          </p:blipFill>
          <p:spPr>
            <a:xfrm>
              <a:off x="2170080" y="4241880"/>
              <a:ext cx="33192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txp_fig" descr=""/>
            <p:cNvPicPr/>
            <p:nvPr/>
          </p:nvPicPr>
          <p:blipFill>
            <a:blip r:embed="rId8"/>
            <a:stretch/>
          </p:blipFill>
          <p:spPr>
            <a:xfrm>
              <a:off x="3871800" y="4197240"/>
              <a:ext cx="140652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B2A3-3C68-422C-8CB3-7A2EA21E8C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5360" y="3035160"/>
            <a:ext cx="4942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e explosion for monolithic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ulation of specifications for larg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upervis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9400" y="1442880"/>
            <a:ext cx="82954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atic procedure for determining supervisors for finite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hesize maximally permissive behavior: supremal controllable sub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s which are polynomial in ti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6600" y="927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67280" y="4745160"/>
            <a:ext cx="33840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modula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decentralized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hierarchical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96C7-23C6-4E71-A394-2590A8A873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893240" y="2930400"/>
            <a:ext cx="570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2. Concurrent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165C-4500-4732-9C80-D6A13BFBE2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09:48:12Z</dcterms:created>
  <dc:creator>Meier, Gerald</dc:creator>
  <dc:description/>
  <dc:language>en-US</dc:language>
  <cp:lastModifiedBy>Klaus </cp:lastModifiedBy>
  <cp:lastPrinted>2002-07-22T09:28:11Z</cp:lastPrinted>
  <dcterms:modified xsi:type="dcterms:W3CDTF">2003-09-16T15:50:43Z</dcterms:modified>
  <cp:revision>357</cp:revision>
  <dc:subject/>
  <dc:title>1. Sitzmodell</dc:title>
</cp:coreProperties>
</file>