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599-D892-4396-B64B-A319D50F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62D-2554-4BDB-99C1-DDAD4E32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A6F-EF37-41E1-8A77-5EDFB7F6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E00-0B2C-48E2-956B-7C1DCE15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644D-634C-4A8E-9D54-D2FD6B26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3D8-5423-40C0-BC08-2612ADE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2246-BF1C-4C5D-B9EA-AE634B7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6243-E44E-4E25-A738-11BDCA6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C40-9048-4716-B4A9-27531FF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E586-D4E2-43B3-A83D-EACB196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4B6-4E79-4786-806A-1DDA4F6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A81-9AB2-4D90-BD26-F3A289D1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CD0-76C9-475C-ADCF-CC0C583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7725-57CD-4F23-947D-7B162F7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05B-AC97-451C-9CCD-A50E205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1FE7-9924-4550-BE6B-31357E24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9A69-3D68-459F-B05C-FFAEEDFF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3B2-6B4E-44C6-B748-2F919213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A3C-949E-4321-AEB9-AE4F1F5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E01-3AE6-41B7-9262-2A1CDD6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D42-857D-4FF8-A765-AA8983D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77E-A5E4-4968-B3B1-A11A911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8F3-228A-47DB-A01D-7FCEE36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073-07F3-4437-9733-EE4956E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521-3CE4-4F12-B5AE-FBC74D5F3E2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5653-45AD-4A57-B876-BE5E0447303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ftware Verification via Refinement Checking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02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ar Chaki, Edmund Clarke, Alex Groc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sh Jha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cedure called, one of two things must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 obser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invocation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Verific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every possible behavior of 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a behavior of the F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ce-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 it is sufficient to check for a stronger condition viz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≥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: Defini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an alphabe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ssume Σ contains special symbol 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tuple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,I,δ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Q: finite set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: 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δ: transition relation over Q X Σ X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2666880"/>
            <a:ext cx="6324840" cy="3048120"/>
            <a:chOff x="1066680" y="2666880"/>
            <a:chExt cx="6324840" cy="3048120"/>
          </a:xfrm>
        </p:grpSpPr>
        <p:sp>
          <p:nvSpPr>
            <p:cNvPr id="132" name=""/>
            <p:cNvSpPr/>
            <p:nvPr/>
          </p:nvSpPr>
          <p:spPr>
            <a:xfrm>
              <a:off x="1600200" y="342900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3352680"/>
              <a:ext cx="83844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48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48769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9680" y="4191120"/>
              <a:ext cx="533520" cy="7617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441972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3886200"/>
              <a:ext cx="5335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2666880"/>
              <a:ext cx="83808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362320" y="3200400"/>
              <a:ext cx="160020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9960" y="297180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3124080"/>
              <a:ext cx="1752480" cy="533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44197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00600" y="4038480"/>
              <a:ext cx="1828800" cy="7621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1760" y="426708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361960" y="4038120"/>
              <a:ext cx="1600200" cy="6858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800" y="3962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TSs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1,I1,δ1&gt;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2,I2,δ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Relation ≥ Q1 X Q2 is simulation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Ini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For all t Є I2 exists s Є I1 s.t. s ≥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e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a,t’) Є δ2 =&gt; exists s’ s.t. (s,a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ut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ε,t’) Є δ2 =&gt; s ≥ t’ OR exists s’ s.t. (s,ε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verall metho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 relation R that satisfies conditions 2 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at R satisfies condition 1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 = Q1 X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teratively r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using condition 2 and 3 till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,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Є R and if (t,a,t’) Є δ2 then remove (s,t) if there does not exist s’ s.t. (s,a,s’) Є δ1 and (s’,t’) Є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7440" y="2971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178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11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44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exist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l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a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vs. Trace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are lik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77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5920" y="28954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310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 from C modu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 on a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of the FLTS consists of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rol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 module and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akest pre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 pr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comput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5181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3429000" cy="4572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Packets == nPacketsOl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52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6095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5146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809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019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8288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47000" y="1828800"/>
            <a:ext cx="26964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71600" y="2209680"/>
            <a:ext cx="1036800" cy="533520"/>
            <a:chOff x="1371600" y="2209680"/>
            <a:chExt cx="1036800" cy="533520"/>
          </a:xfrm>
        </p:grpSpPr>
        <p:sp>
          <p:nvSpPr>
            <p:cNvPr id="349" name=""/>
            <p:cNvSpPr/>
            <p:nvPr/>
          </p:nvSpPr>
          <p:spPr>
            <a:xfrm>
              <a:off x="1371600" y="228600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3560" y="22096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953480" y="2286000"/>
            <a:ext cx="1036800" cy="533520"/>
            <a:chOff x="7953480" y="2286000"/>
            <a:chExt cx="1036800" cy="533520"/>
          </a:xfrm>
        </p:grpSpPr>
        <p:sp>
          <p:nvSpPr>
            <p:cNvPr id="352" name=""/>
            <p:cNvSpPr/>
            <p:nvPr/>
          </p:nvSpPr>
          <p:spPr>
            <a:xfrm>
              <a:off x="7953480" y="2362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35440" y="22860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71600" y="27432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274320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12408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320040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71600" y="3505320"/>
            <a:ext cx="1020600" cy="532800"/>
            <a:chOff x="1371600" y="3505320"/>
            <a:chExt cx="1020600" cy="532800"/>
          </a:xfrm>
        </p:grpSpPr>
        <p:sp>
          <p:nvSpPr>
            <p:cNvPr id="359" name=""/>
            <p:cNvSpPr/>
            <p:nvPr/>
          </p:nvSpPr>
          <p:spPr>
            <a:xfrm>
              <a:off x="13716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42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001000" y="3505320"/>
            <a:ext cx="1020600" cy="532800"/>
            <a:chOff x="8001000" y="3505320"/>
            <a:chExt cx="1020600" cy="532800"/>
          </a:xfrm>
        </p:grpSpPr>
        <p:sp>
          <p:nvSpPr>
            <p:cNvPr id="362" name=""/>
            <p:cNvSpPr/>
            <p:nvPr/>
          </p:nvSpPr>
          <p:spPr>
            <a:xfrm>
              <a:off x="80010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36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371600" y="396252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0384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371600" y="4038480"/>
            <a:ext cx="5943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4197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44956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48769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1828800"/>
            <a:ext cx="458640" cy="3124080"/>
          </a:xfrm>
          <a:custGeom>
            <a:avLst/>
            <a:gdLst/>
            <a:ahLst/>
            <a:rect l="l" t="t" r="r" b="b"/>
            <a:pathLst>
              <a:path w="289" h="1968">
                <a:moveTo>
                  <a:pt x="288" y="1968"/>
                </a:moveTo>
                <a:cubicBezTo>
                  <a:pt x="240" y="1795"/>
                  <a:pt x="0" y="1255"/>
                  <a:pt x="0" y="927"/>
                </a:cubicBezTo>
                <a:cubicBezTo>
                  <a:pt x="0" y="599"/>
                  <a:pt x="229" y="193"/>
                  <a:pt x="289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71600" y="5257800"/>
            <a:ext cx="1020600" cy="533520"/>
            <a:chOff x="1371600" y="5257800"/>
            <a:chExt cx="1020600" cy="533520"/>
          </a:xfrm>
        </p:grpSpPr>
        <p:sp>
          <p:nvSpPr>
            <p:cNvPr id="372" name=""/>
            <p:cNvSpPr/>
            <p:nvPr/>
          </p:nvSpPr>
          <p:spPr>
            <a:xfrm>
              <a:off x="13716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42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001000" y="5257800"/>
            <a:ext cx="1020600" cy="533520"/>
            <a:chOff x="8001000" y="5257800"/>
            <a:chExt cx="1020600" cy="533520"/>
          </a:xfrm>
        </p:grpSpPr>
        <p:sp>
          <p:nvSpPr>
            <p:cNvPr id="375" name=""/>
            <p:cNvSpPr/>
            <p:nvPr/>
          </p:nvSpPr>
          <p:spPr>
            <a:xfrm>
              <a:off x="80010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36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5715000"/>
            <a:ext cx="986400" cy="533520"/>
            <a:chOff x="1371600" y="5715000"/>
            <a:chExt cx="986400" cy="533520"/>
          </a:xfrm>
        </p:grpSpPr>
        <p:sp>
          <p:nvSpPr>
            <p:cNvPr id="378" name=""/>
            <p:cNvSpPr/>
            <p:nvPr/>
          </p:nvSpPr>
          <p:spPr>
            <a:xfrm>
              <a:off x="13716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535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001000" y="5715000"/>
            <a:ext cx="986400" cy="533520"/>
            <a:chOff x="8001000" y="5715000"/>
            <a:chExt cx="986400" cy="533520"/>
          </a:xfrm>
        </p:grpSpPr>
        <p:sp>
          <p:nvSpPr>
            <p:cNvPr id="381" name=""/>
            <p:cNvSpPr/>
            <p:nvPr/>
          </p:nvSpPr>
          <p:spPr>
            <a:xfrm>
              <a:off x="80010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29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n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agnostic 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ase simulation is not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ynamic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dicates and Property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(nPackets =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to be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U simulates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dditional Inf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at call to KeAcquireSpinLock() represents a loc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AcquireSpinLock = 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 for KeReleaseSpin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ReleaseSpinLock = un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sing Static Analysi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or alia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: (x ==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: *y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: ((y == &amp;x)&amp;&amp;(5 == 4)) || ((y != &amp;x)&amp;&amp;(x==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analysis could tell us whether (y == &amp;x) before this assign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*y)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cedures could y potentially poi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Java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-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itise the state, perhaps by imposing a upper bound on the sta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loader obtain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and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refinement really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nly if the check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Finite Labeled Transition Systems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tax to describe FL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: State Models and Java Programs – Jeff Magee, Jeff Kramer - Wi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jus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et the load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loader just has to check i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this for the Linux process 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fu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lated Wor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 &amp; Saidi, Dill et.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ork wit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desir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unwant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er et. al., 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ajor Differenc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ngler et.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w-sensitive,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-the-f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boolea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 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Ban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LockUnloc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(lock -&gt; L | return -&gt; 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(unlock -&gt; 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884760"/>
            <a:ext cx="1981440" cy="155520"/>
          </a:xfrm>
          <a:custGeom>
            <a:avLst/>
            <a:gdLst/>
            <a:ahLst/>
            <a:rect l="l" t="t" r="r" b="b"/>
            <a:pathLst>
              <a:path w="1248" h="98">
                <a:moveTo>
                  <a:pt x="0" y="97"/>
                </a:moveTo>
                <a:cubicBezTo>
                  <a:pt x="99" y="81"/>
                  <a:pt x="387" y="0"/>
                  <a:pt x="595" y="0"/>
                </a:cubicBezTo>
                <a:cubicBezTo>
                  <a:pt x="803" y="0"/>
                  <a:pt x="1112" y="78"/>
                  <a:pt x="1248" y="9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495680"/>
            <a:ext cx="2057400" cy="130320"/>
          </a:xfrm>
          <a:custGeom>
            <a:avLst/>
            <a:gdLst/>
            <a:ahLst/>
            <a:rect l="l" t="t" r="r" b="b"/>
            <a:pathLst>
              <a:path w="1296" h="82">
                <a:moveTo>
                  <a:pt x="1296" y="0"/>
                </a:moveTo>
                <a:cubicBezTo>
                  <a:pt x="1194" y="14"/>
                  <a:pt x="899" y="82"/>
                  <a:pt x="683" y="82"/>
                </a:cubicBezTo>
                <a:cubicBezTo>
                  <a:pt x="467" y="82"/>
                  <a:pt x="142" y="18"/>
                  <a:pt x="0" y="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80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552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1814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5720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8006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Device driver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ur Goal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that Driver refines LockU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keep track of the predicat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nPackets == nPacket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insensitive analysis will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agnostic feedback in case the simulation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POSIX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thread_mutex_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count on lock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non-zer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4100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419720"/>
            <a:ext cx="1905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638680"/>
            <a:ext cx="4343400" cy="457200"/>
          </a:xfrm>
          <a:custGeom>
            <a:avLst/>
            <a:gdLst/>
            <a:ahLst/>
            <a:rect l="l" t="t" r="r" b="b"/>
            <a:pathLst>
              <a:path w="2736" h="288">
                <a:moveTo>
                  <a:pt x="0" y="0"/>
                </a:moveTo>
                <a:cubicBezTo>
                  <a:pt x="230" y="44"/>
                  <a:pt x="927" y="240"/>
                  <a:pt x="1383" y="264"/>
                </a:cubicBezTo>
                <a:cubicBezTo>
                  <a:pt x="1839" y="288"/>
                  <a:pt x="2454" y="169"/>
                  <a:pt x="2736" y="144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6019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er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164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z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12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029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c_cou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7242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78" y="366"/>
                  <a:pt x="323" y="340"/>
                  <a:pt x="467" y="276"/>
                </a:cubicBezTo>
                <a:cubicBezTo>
                  <a:pt x="611" y="212"/>
                  <a:pt x="781" y="57"/>
                  <a:pt x="864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419720"/>
            <a:ext cx="1295640" cy="60948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384"/>
                </a:moveTo>
                <a:cubicBezTo>
                  <a:pt x="55" y="343"/>
                  <a:pt x="196" y="202"/>
                  <a:pt x="332" y="138"/>
                </a:cubicBezTo>
                <a:cubicBezTo>
                  <a:pt x="468" y="74"/>
                  <a:pt x="715" y="29"/>
                  <a:pt x="816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Glibc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thread_mutex_lock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PTHREAD_MUTEX_RECURSIVE_N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= thread_self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mutex-&gt;__m_owner == self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++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_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lock(&amp;mutex-&gt;__m_lock, self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owner = sel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C procedur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_mutex_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interested in behavior observed during an invocation of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gar Jyoti Chaki</cp:lastModifiedBy>
  <dcterms:modified xsi:type="dcterms:W3CDTF">2002-02-05T20:01:32Z</dcterms:modified>
  <cp:revision>279</cp:revision>
  <dc:subject/>
  <dc:title>PowerPoint Presentation</dc:title>
</cp:coreProperties>
</file>