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0C0-4133-4632-9AF9-23C6F198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3C6-2B4A-49CF-840B-0CF886B0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B51-9C26-4BEB-9717-FDE5E473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076-C086-4072-B951-CA7F512C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9A55-25F9-4B57-B82D-2EAD6BC0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711C-D285-413F-866E-22666492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C340-1FB6-4B10-96F4-849D6283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32DB-259F-4A25-A003-80C3AF7E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A30E-0DED-4239-854D-DB5E169A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50AF-229A-4EAE-9A0E-712D3FC3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537F-BD93-46F6-8F3B-3D68D677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FB5-BA2D-4BEA-B7A9-956316B3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3F84-4C11-4655-B4BF-9B2252AA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BEE2-5351-412F-A5EB-0D030318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3CD3-DCE2-42D3-BB6E-F9182FA1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C0BB-2277-4081-8DC6-28038EEC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4D02-229A-4E7B-BA78-2A5602D7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CF2-E47A-4DB8-B075-B4C1B56C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8E5-36DE-4172-BCA6-FA198C8B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CF2-0D9B-4890-8CE5-CE0D1047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466-1E88-4A78-B85C-B22E0E0C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34A-C0EE-4363-B9B5-B64AB8E6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B2E-70A5-46D3-A26F-A1FE2C57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B8D-5B85-42B1-93A8-A5AB3455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D50D-825B-4C82-ADFE-6E0585773DB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sdlogo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D245-531C-4ECC-95FC-3E7C73457C7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sdlogo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oftware Verification via Refinement Checking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5027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gar Chaki, Edmund Clarke, Alex Groce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sh Jha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iscon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cedure called, one of two things must b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havior obser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invocation of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Verifica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at every possible behavior of ma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lso a behavior of the F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ce-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actice it is sufficient to check for a stronger condition viz.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T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ahoma"/>
              </a:rPr>
              <a:t>≥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LTS: Defini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 an alphabe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ssume Σ contains special symbol 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tuple: 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Q,I,δ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Q: finite set of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: 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δ: transition relation over Q X Σ X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66680" y="2666880"/>
            <a:ext cx="6324840" cy="3048120"/>
            <a:chOff x="1066680" y="2666880"/>
            <a:chExt cx="6324840" cy="3048120"/>
          </a:xfrm>
        </p:grpSpPr>
        <p:sp>
          <p:nvSpPr>
            <p:cNvPr id="132" name=""/>
            <p:cNvSpPr/>
            <p:nvPr/>
          </p:nvSpPr>
          <p:spPr>
            <a:xfrm>
              <a:off x="1600200" y="3429000"/>
              <a:ext cx="838080" cy="83808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’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3352680"/>
              <a:ext cx="838440" cy="83844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4480" y="28954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k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0920" y="4876920"/>
              <a:ext cx="838080" cy="83808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’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09680" y="4191120"/>
              <a:ext cx="533520" cy="7617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00200" y="4419720"/>
              <a:ext cx="91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6680" y="3886200"/>
              <a:ext cx="5335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62520" y="2666880"/>
              <a:ext cx="838080" cy="83844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’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362320" y="3200400"/>
              <a:ext cx="1600200" cy="4572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39960" y="2971800"/>
              <a:ext cx="35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ε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00600" y="3124080"/>
              <a:ext cx="1752480" cy="53352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2520" y="4419720"/>
              <a:ext cx="838080" cy="83808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’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00600" y="4038480"/>
              <a:ext cx="1828800" cy="76212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11760" y="4267080"/>
              <a:ext cx="35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ε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2361960" y="4038120"/>
              <a:ext cx="1600200" cy="6858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24800" y="3962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imula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TSs: 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Q1,I1,δ1&gt;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Q2,I2,δ2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Relation ≥ Q1 X Q2 is simulation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ahoma"/>
              </a:rPr>
              <a:t>Ini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For all t Є I2 exists s Є I1 s.t. s ≥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ahoma"/>
              </a:rPr>
              <a:t>Step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s ≥ t and (t,a,t’) Є δ2 =&gt; exists s’ s.t. (s,a,s’) Є δ1 and s’ ≥ 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ahoma"/>
              </a:rPr>
              <a:t>Stutt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s ≥ t and (t,ε,t’) Є δ2 =&gt; s ≥ t’ OR exists s’ s.t. (s,ε,s’) Є δ1 and s’ ≥ 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Overall method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e relation R that satisfies conditions 2 an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ck that R satisfies condition 1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 = Q1 X Q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teratively ref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using condition 2 and 3 till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xed 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,t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Є R and if (t,a,t’) Є δ2 then remove (s,t) if there does not exist s’ s.t. (s,a,s’) Є δ1 and (s’,t’) Є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342900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3352680"/>
            <a:ext cx="83844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48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911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44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886200"/>
            <a:ext cx="5335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362320" y="3200400"/>
            <a:ext cx="16002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39960" y="297180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3124080"/>
            <a:ext cx="17524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4197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800600" y="403848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11760" y="426708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361960" y="40381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800" y="3962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7440" y="29718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6080" y="22096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6640" y="28954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12040" y="52578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40440" y="57150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9280" y="13716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553080" y="1549440"/>
            <a:ext cx="1981440" cy="1173240"/>
            <a:chOff x="6553080" y="1549440"/>
            <a:chExt cx="1981440" cy="1173240"/>
          </a:xfrm>
        </p:grpSpPr>
        <p:sp>
          <p:nvSpPr>
            <p:cNvPr id="178" name=""/>
            <p:cNvSpPr/>
            <p:nvPr/>
          </p:nvSpPr>
          <p:spPr>
            <a:xfrm>
              <a:off x="681048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132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13680" y="1670040"/>
              <a:ext cx="954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176960" y="1913040"/>
              <a:ext cx="9907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6640" y="18288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97640" y="227808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04240" y="1954080"/>
              <a:ext cx="366480" cy="3636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32280" y="19810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53080" y="1792440"/>
              <a:ext cx="2574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342900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3352680"/>
            <a:ext cx="83844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48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4191120"/>
            <a:ext cx="533520" cy="7617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44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886200"/>
            <a:ext cx="5335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362320" y="3200400"/>
            <a:ext cx="16002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39960" y="297180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3124080"/>
            <a:ext cx="17524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44197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00600" y="403848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1760" y="426708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361960" y="4038120"/>
            <a:ext cx="1600200" cy="6858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800" y="3962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7440" y="29718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6080" y="22096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6640" y="28954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12040" y="52578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40440" y="57150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9280" y="13716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553080" y="1549440"/>
            <a:ext cx="1981440" cy="1173240"/>
            <a:chOff x="6553080" y="1549440"/>
            <a:chExt cx="1981440" cy="1173240"/>
          </a:xfrm>
        </p:grpSpPr>
        <p:sp>
          <p:nvSpPr>
            <p:cNvPr id="211" name=""/>
            <p:cNvSpPr/>
            <p:nvPr/>
          </p:nvSpPr>
          <p:spPr>
            <a:xfrm>
              <a:off x="681048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3132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13680" y="1670040"/>
              <a:ext cx="954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76960" y="1913040"/>
              <a:ext cx="9907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16640" y="18288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97640" y="227808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04240" y="1954080"/>
              <a:ext cx="366480" cy="3636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32280" y="19810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3080" y="1792440"/>
              <a:ext cx="2574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342900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53080" y="3352680"/>
            <a:ext cx="83844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48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191120"/>
            <a:ext cx="533520" cy="7617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4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3886200"/>
            <a:ext cx="5335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362320" y="3200400"/>
            <a:ext cx="16002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39960" y="297180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3124080"/>
            <a:ext cx="17524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44197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800600" y="403848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1760" y="426708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2361960" y="4038120"/>
            <a:ext cx="1600200" cy="6858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800" y="3962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7440" y="29718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6080" y="220968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6640" y="28954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2040" y="52578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40440" y="57150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69280" y="13716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553080" y="1549440"/>
            <a:ext cx="1981440" cy="1173240"/>
            <a:chOff x="6553080" y="1549440"/>
            <a:chExt cx="1981440" cy="1173240"/>
          </a:xfrm>
        </p:grpSpPr>
        <p:sp>
          <p:nvSpPr>
            <p:cNvPr id="244" name=""/>
            <p:cNvSpPr/>
            <p:nvPr/>
          </p:nvSpPr>
          <p:spPr>
            <a:xfrm>
              <a:off x="681048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3132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13680" y="1670040"/>
              <a:ext cx="954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176960" y="1913040"/>
              <a:ext cx="9907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16640" y="18288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7640" y="227808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04240" y="1954080"/>
              <a:ext cx="366480" cy="3636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32280" y="19810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53080" y="1792440"/>
              <a:ext cx="2574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otiva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 mappings exist betwee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al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l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a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model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vs. Trace 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 mappings are lik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00200" y="342900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3352680"/>
            <a:ext cx="83844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48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909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4191120"/>
            <a:ext cx="533520" cy="7617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0200" y="44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886200"/>
            <a:ext cx="5335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362320" y="3200400"/>
            <a:ext cx="16002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39960" y="297180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3124080"/>
            <a:ext cx="17524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44197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800600" y="403848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1760" y="426708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2361960" y="4038120"/>
            <a:ext cx="1600200" cy="6858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800" y="3962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97440" y="29718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6080" y="220968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26640" y="28954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1320" y="525780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L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40440" y="57150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469280" y="13716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553080" y="1549440"/>
            <a:ext cx="1981440" cy="1173240"/>
            <a:chOff x="6553080" y="1549440"/>
            <a:chExt cx="1981440" cy="1173240"/>
          </a:xfrm>
        </p:grpSpPr>
        <p:sp>
          <p:nvSpPr>
            <p:cNvPr id="277" name=""/>
            <p:cNvSpPr/>
            <p:nvPr/>
          </p:nvSpPr>
          <p:spPr>
            <a:xfrm>
              <a:off x="681048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3132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13680" y="1670040"/>
              <a:ext cx="954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176960" y="1913040"/>
              <a:ext cx="9907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16640" y="18288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97640" y="227808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04240" y="1954080"/>
              <a:ext cx="366480" cy="3636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32280" y="19810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1792440"/>
              <a:ext cx="2574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42900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3352680"/>
            <a:ext cx="83844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448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4191120"/>
            <a:ext cx="533520" cy="7617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44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3886200"/>
            <a:ext cx="5335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362320" y="3200400"/>
            <a:ext cx="16002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39960" y="297180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0600" y="3124080"/>
            <a:ext cx="17524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44197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800600" y="403848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1760" y="426708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2361960" y="4038120"/>
            <a:ext cx="1600200" cy="6858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800" y="3962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7440" y="29718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6080" y="220968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25920" y="28954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L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11320" y="525780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L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0440" y="57150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9280" y="13716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553080" y="1549440"/>
            <a:ext cx="1981440" cy="1173240"/>
            <a:chOff x="6553080" y="1549440"/>
            <a:chExt cx="1981440" cy="1173240"/>
          </a:xfrm>
        </p:grpSpPr>
        <p:sp>
          <p:nvSpPr>
            <p:cNvPr id="310" name=""/>
            <p:cNvSpPr/>
            <p:nvPr/>
          </p:nvSpPr>
          <p:spPr>
            <a:xfrm>
              <a:off x="681048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3132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13680" y="1670040"/>
              <a:ext cx="954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76960" y="1913040"/>
              <a:ext cx="9907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16640" y="18288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7640" y="227808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04240" y="1954080"/>
              <a:ext cx="366480" cy="3636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32280" y="19810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1792440"/>
              <a:ext cx="2574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LTS from C modu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 on a set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of the FLTS consists of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rol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C module and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ntext-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akest pre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orem pro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used to comput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tion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09680" y="1142640"/>
            <a:ext cx="5181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example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AcquireSpinLoc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ackets = nPacketsO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(cond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eleaseSpinLoc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acket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while(nPackets != nPacketsOl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eleaseSpinLoc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6172200"/>
            <a:ext cx="3429000" cy="45720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Packets == nPacketsOl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16765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21337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15200" y="25909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15200" y="29718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34290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47242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15200" y="42670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15200" y="38862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15200" y="51814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15200" y="56386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60958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6765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21337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25146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" y="29718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34290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38098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42670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47242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51814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56386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60199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1828800"/>
            <a:ext cx="368280" cy="457200"/>
          </a:xfrm>
          <a:custGeom>
            <a:avLst/>
            <a:gdLst/>
            <a:ahLst/>
            <a:rect l="l" t="t" r="r" b="b"/>
            <a:pathLst>
              <a:path w="232" h="288">
                <a:moveTo>
                  <a:pt x="0" y="0"/>
                </a:moveTo>
                <a:cubicBezTo>
                  <a:pt x="39" y="20"/>
                  <a:pt x="232" y="71"/>
                  <a:pt x="232" y="119"/>
                </a:cubicBezTo>
                <a:cubicBezTo>
                  <a:pt x="232" y="167"/>
                  <a:pt x="49" y="253"/>
                  <a:pt x="1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47000" y="1828800"/>
            <a:ext cx="269640" cy="457200"/>
          </a:xfrm>
          <a:custGeom>
            <a:avLst/>
            <a:gdLst/>
            <a:ahLst/>
            <a:rect l="l" t="t" r="r" b="b"/>
            <a:pathLst>
              <a:path w="170" h="288">
                <a:moveTo>
                  <a:pt x="169" y="0"/>
                </a:moveTo>
                <a:cubicBezTo>
                  <a:pt x="141" y="21"/>
                  <a:pt x="0" y="78"/>
                  <a:pt x="0" y="126"/>
                </a:cubicBezTo>
                <a:cubicBezTo>
                  <a:pt x="0" y="174"/>
                  <a:pt x="135" y="254"/>
                  <a:pt x="170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71600" y="2209680"/>
            <a:ext cx="1036800" cy="533520"/>
            <a:chOff x="1371600" y="2209680"/>
            <a:chExt cx="1036800" cy="533520"/>
          </a:xfrm>
        </p:grpSpPr>
        <p:sp>
          <p:nvSpPr>
            <p:cNvPr id="349" name=""/>
            <p:cNvSpPr/>
            <p:nvPr/>
          </p:nvSpPr>
          <p:spPr>
            <a:xfrm>
              <a:off x="1371600" y="228600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53560" y="220968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7953480" y="2286000"/>
            <a:ext cx="1036800" cy="533520"/>
            <a:chOff x="7953480" y="2286000"/>
            <a:chExt cx="1036800" cy="533520"/>
          </a:xfrm>
        </p:grpSpPr>
        <p:sp>
          <p:nvSpPr>
            <p:cNvPr id="352" name=""/>
            <p:cNvSpPr/>
            <p:nvPr/>
          </p:nvSpPr>
          <p:spPr>
            <a:xfrm>
              <a:off x="7953480" y="236232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35440" y="228600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371600" y="2743200"/>
            <a:ext cx="368280" cy="457200"/>
          </a:xfrm>
          <a:custGeom>
            <a:avLst/>
            <a:gdLst/>
            <a:ahLst/>
            <a:rect l="l" t="t" r="r" b="b"/>
            <a:pathLst>
              <a:path w="232" h="288">
                <a:moveTo>
                  <a:pt x="0" y="0"/>
                </a:moveTo>
                <a:cubicBezTo>
                  <a:pt x="39" y="20"/>
                  <a:pt x="232" y="71"/>
                  <a:pt x="232" y="119"/>
                </a:cubicBezTo>
                <a:cubicBezTo>
                  <a:pt x="232" y="167"/>
                  <a:pt x="49" y="253"/>
                  <a:pt x="1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2743200"/>
            <a:ext cx="5943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3124080"/>
            <a:ext cx="368280" cy="457200"/>
          </a:xfrm>
          <a:custGeom>
            <a:avLst/>
            <a:gdLst/>
            <a:ahLst/>
            <a:rect l="l" t="t" r="r" b="b"/>
            <a:pathLst>
              <a:path w="232" h="288">
                <a:moveTo>
                  <a:pt x="0" y="0"/>
                </a:moveTo>
                <a:cubicBezTo>
                  <a:pt x="39" y="20"/>
                  <a:pt x="232" y="71"/>
                  <a:pt x="232" y="119"/>
                </a:cubicBezTo>
                <a:cubicBezTo>
                  <a:pt x="232" y="167"/>
                  <a:pt x="49" y="253"/>
                  <a:pt x="1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86600" y="3200400"/>
            <a:ext cx="270000" cy="457200"/>
          </a:xfrm>
          <a:custGeom>
            <a:avLst/>
            <a:gdLst/>
            <a:ahLst/>
            <a:rect l="l" t="t" r="r" b="b"/>
            <a:pathLst>
              <a:path w="170" h="288">
                <a:moveTo>
                  <a:pt x="169" y="0"/>
                </a:moveTo>
                <a:cubicBezTo>
                  <a:pt x="141" y="21"/>
                  <a:pt x="0" y="78"/>
                  <a:pt x="0" y="126"/>
                </a:cubicBezTo>
                <a:cubicBezTo>
                  <a:pt x="0" y="174"/>
                  <a:pt x="135" y="254"/>
                  <a:pt x="170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371600" y="3505320"/>
            <a:ext cx="1020600" cy="532800"/>
            <a:chOff x="1371600" y="3505320"/>
            <a:chExt cx="1020600" cy="532800"/>
          </a:xfrm>
        </p:grpSpPr>
        <p:sp>
          <p:nvSpPr>
            <p:cNvPr id="359" name=""/>
            <p:cNvSpPr/>
            <p:nvPr/>
          </p:nvSpPr>
          <p:spPr>
            <a:xfrm>
              <a:off x="1371600" y="3581280"/>
              <a:ext cx="368280" cy="45684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4280" y="3505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8001000" y="3505320"/>
            <a:ext cx="1020600" cy="532800"/>
            <a:chOff x="8001000" y="3505320"/>
            <a:chExt cx="1020600" cy="532800"/>
          </a:xfrm>
        </p:grpSpPr>
        <p:sp>
          <p:nvSpPr>
            <p:cNvPr id="362" name=""/>
            <p:cNvSpPr/>
            <p:nvPr/>
          </p:nvSpPr>
          <p:spPr>
            <a:xfrm>
              <a:off x="8001000" y="3581280"/>
              <a:ext cx="368280" cy="45684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83680" y="3505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371600" y="3962520"/>
            <a:ext cx="5943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10280" y="4038480"/>
            <a:ext cx="270000" cy="457200"/>
          </a:xfrm>
          <a:custGeom>
            <a:avLst/>
            <a:gdLst/>
            <a:ahLst/>
            <a:rect l="l" t="t" r="r" b="b"/>
            <a:pathLst>
              <a:path w="170" h="288">
                <a:moveTo>
                  <a:pt x="169" y="0"/>
                </a:moveTo>
                <a:cubicBezTo>
                  <a:pt x="141" y="21"/>
                  <a:pt x="0" y="78"/>
                  <a:pt x="0" y="126"/>
                </a:cubicBezTo>
                <a:cubicBezTo>
                  <a:pt x="0" y="174"/>
                  <a:pt x="135" y="254"/>
                  <a:pt x="170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371600" y="4038480"/>
            <a:ext cx="59436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4419720"/>
            <a:ext cx="368280" cy="457200"/>
          </a:xfrm>
          <a:custGeom>
            <a:avLst/>
            <a:gdLst/>
            <a:ahLst/>
            <a:rect l="l" t="t" r="r" b="b"/>
            <a:pathLst>
              <a:path w="232" h="288">
                <a:moveTo>
                  <a:pt x="0" y="0"/>
                </a:moveTo>
                <a:cubicBezTo>
                  <a:pt x="39" y="20"/>
                  <a:pt x="232" y="71"/>
                  <a:pt x="232" y="119"/>
                </a:cubicBezTo>
                <a:cubicBezTo>
                  <a:pt x="232" y="167"/>
                  <a:pt x="49" y="253"/>
                  <a:pt x="1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4495680"/>
            <a:ext cx="270000" cy="457200"/>
          </a:xfrm>
          <a:custGeom>
            <a:avLst/>
            <a:gdLst/>
            <a:ahLst/>
            <a:rect l="l" t="t" r="r" b="b"/>
            <a:pathLst>
              <a:path w="170" h="288">
                <a:moveTo>
                  <a:pt x="169" y="0"/>
                </a:moveTo>
                <a:cubicBezTo>
                  <a:pt x="141" y="21"/>
                  <a:pt x="0" y="78"/>
                  <a:pt x="0" y="126"/>
                </a:cubicBezTo>
                <a:cubicBezTo>
                  <a:pt x="0" y="174"/>
                  <a:pt x="135" y="254"/>
                  <a:pt x="170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4876920"/>
            <a:ext cx="368280" cy="457200"/>
          </a:xfrm>
          <a:custGeom>
            <a:avLst/>
            <a:gdLst/>
            <a:ahLst/>
            <a:rect l="l" t="t" r="r" b="b"/>
            <a:pathLst>
              <a:path w="232" h="288">
                <a:moveTo>
                  <a:pt x="0" y="0"/>
                </a:moveTo>
                <a:cubicBezTo>
                  <a:pt x="39" y="20"/>
                  <a:pt x="232" y="71"/>
                  <a:pt x="232" y="119"/>
                </a:cubicBezTo>
                <a:cubicBezTo>
                  <a:pt x="232" y="167"/>
                  <a:pt x="49" y="253"/>
                  <a:pt x="1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1828800"/>
            <a:ext cx="458640" cy="3124080"/>
          </a:xfrm>
          <a:custGeom>
            <a:avLst/>
            <a:gdLst/>
            <a:ahLst/>
            <a:rect l="l" t="t" r="r" b="b"/>
            <a:pathLst>
              <a:path w="289" h="1968">
                <a:moveTo>
                  <a:pt x="288" y="1968"/>
                </a:moveTo>
                <a:cubicBezTo>
                  <a:pt x="240" y="1795"/>
                  <a:pt x="0" y="1255"/>
                  <a:pt x="0" y="927"/>
                </a:cubicBezTo>
                <a:cubicBezTo>
                  <a:pt x="0" y="599"/>
                  <a:pt x="229" y="193"/>
                  <a:pt x="289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371600" y="5257800"/>
            <a:ext cx="1020600" cy="533520"/>
            <a:chOff x="1371600" y="5257800"/>
            <a:chExt cx="1020600" cy="533520"/>
          </a:xfrm>
        </p:grpSpPr>
        <p:sp>
          <p:nvSpPr>
            <p:cNvPr id="372" name=""/>
            <p:cNvSpPr/>
            <p:nvPr/>
          </p:nvSpPr>
          <p:spPr>
            <a:xfrm>
              <a:off x="1371600" y="533412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54280" y="5257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8001000" y="5257800"/>
            <a:ext cx="1020600" cy="533520"/>
            <a:chOff x="8001000" y="5257800"/>
            <a:chExt cx="1020600" cy="533520"/>
          </a:xfrm>
        </p:grpSpPr>
        <p:sp>
          <p:nvSpPr>
            <p:cNvPr id="375" name=""/>
            <p:cNvSpPr/>
            <p:nvPr/>
          </p:nvSpPr>
          <p:spPr>
            <a:xfrm>
              <a:off x="8001000" y="533412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83680" y="5257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371600" y="5715000"/>
            <a:ext cx="986400" cy="533520"/>
            <a:chOff x="1371600" y="5715000"/>
            <a:chExt cx="986400" cy="533520"/>
          </a:xfrm>
        </p:grpSpPr>
        <p:sp>
          <p:nvSpPr>
            <p:cNvPr id="378" name=""/>
            <p:cNvSpPr/>
            <p:nvPr/>
          </p:nvSpPr>
          <p:spPr>
            <a:xfrm>
              <a:off x="1371600" y="579132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53560" y="57150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8001000" y="5715000"/>
            <a:ext cx="986400" cy="533520"/>
            <a:chOff x="8001000" y="5715000"/>
            <a:chExt cx="986400" cy="533520"/>
          </a:xfrm>
        </p:grpSpPr>
        <p:sp>
          <p:nvSpPr>
            <p:cNvPr id="381" name=""/>
            <p:cNvSpPr/>
            <p:nvPr/>
          </p:nvSpPr>
          <p:spPr>
            <a:xfrm>
              <a:off x="8001000" y="579132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82960" y="57150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ent 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C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agnostic feed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case simulation is not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in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ynamic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mory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-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redicates and Property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pecif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ic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ate (nPackets == nPacketsOl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pecify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m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ion to be 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 U simulates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dditional Info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at call to KeAcquireSpinLock() represents a locking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call KeAcquireSpinLock = lo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ly for KeReleaseSpinLo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call KeReleaseSpinLock = unlo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sing Static Analysi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for alia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ate : (x ==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: *y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: ((y == &amp;x)&amp;&amp;(5 == 4)) || ((y != &amp;x)&amp;&amp;(x==4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analysis could tell us whether (y == &amp;x) before this assignmen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*y)(1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ocedures could y potentially poin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Java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-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finitise the state, perhaps by imposing a upper bound on the stack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efinements as Proof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loader obtain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yte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fin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ion and set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he refinement really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the 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only if the check p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pecification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ed as Finite Labeled Transition Systems (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L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ing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tax to describe FL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: State Models and Java Programs – Jeff Magee, Jeff Kramer - Wi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efinements as Proof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off betwee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ndwid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jus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dic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let the loade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fin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fin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that loader just has to check it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l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do this for the Linux process 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tfu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elated Work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icate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 &amp; Saidi, Dill et. 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work wit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M, Band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desired behavior a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ter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unwanted behavior a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n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er et. al., SLAM, Band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ajor Difference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Engler et. 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w-sensitive,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pre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bitr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ula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-the-f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 boolea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t context-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Band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bitr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ula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pecification: LockUnlock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(lock -&gt; L | return -&gt; 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= (unlock -&gt; 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3809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3809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884760"/>
            <a:ext cx="1981440" cy="155520"/>
          </a:xfrm>
          <a:custGeom>
            <a:avLst/>
            <a:gdLst/>
            <a:ahLst/>
            <a:rect l="l" t="t" r="r" b="b"/>
            <a:pathLst>
              <a:path w="1248" h="98">
                <a:moveTo>
                  <a:pt x="0" y="97"/>
                </a:moveTo>
                <a:cubicBezTo>
                  <a:pt x="99" y="81"/>
                  <a:pt x="387" y="0"/>
                  <a:pt x="595" y="0"/>
                </a:cubicBezTo>
                <a:cubicBezTo>
                  <a:pt x="803" y="0"/>
                  <a:pt x="1112" y="78"/>
                  <a:pt x="1248" y="9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495680"/>
            <a:ext cx="2057400" cy="130320"/>
          </a:xfrm>
          <a:custGeom>
            <a:avLst/>
            <a:gdLst/>
            <a:ahLst/>
            <a:rect l="l" t="t" r="r" b="b"/>
            <a:pathLst>
              <a:path w="1296" h="82">
                <a:moveTo>
                  <a:pt x="1296" y="0"/>
                </a:moveTo>
                <a:cubicBezTo>
                  <a:pt x="1194" y="14"/>
                  <a:pt x="899" y="82"/>
                  <a:pt x="683" y="82"/>
                </a:cubicBezTo>
                <a:cubicBezTo>
                  <a:pt x="467" y="82"/>
                  <a:pt x="142" y="18"/>
                  <a:pt x="0" y="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800" y="3429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5520" y="45720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51814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457200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48006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mplementation: Device driver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example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AcquireSpinLock(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even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ackets = nPacketsOl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(con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eleaseSpinLock(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even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ackets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while(nPackets != nPacketsOl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eleaseSpinLock(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even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Our Goal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ow that Driver refines LockUn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keep track of the predicat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nPackets == nPackets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-insensitive analysis will 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diagnostic feedback in case the simulation does not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pecification: POSIX pthread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thread_mutex_lo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re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urn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 count on lock an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urn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non-zero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9625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54100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39625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419720"/>
            <a:ext cx="19051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638680"/>
            <a:ext cx="4343400" cy="457200"/>
          </a:xfrm>
          <a:custGeom>
            <a:avLst/>
            <a:gdLst/>
            <a:ahLst/>
            <a:rect l="l" t="t" r="r" b="b"/>
            <a:pathLst>
              <a:path w="2736" h="288">
                <a:moveTo>
                  <a:pt x="0" y="0"/>
                </a:moveTo>
                <a:cubicBezTo>
                  <a:pt x="230" y="44"/>
                  <a:pt x="927" y="240"/>
                  <a:pt x="1383" y="264"/>
                </a:cubicBezTo>
                <a:cubicBezTo>
                  <a:pt x="1839" y="288"/>
                  <a:pt x="2454" y="169"/>
                  <a:pt x="2736" y="144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520" y="60199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t_er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1640" y="43434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t_zer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812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5029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c_cou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4724280"/>
            <a:ext cx="1371600" cy="60984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384"/>
                </a:moveTo>
                <a:cubicBezTo>
                  <a:pt x="78" y="366"/>
                  <a:pt x="323" y="340"/>
                  <a:pt x="467" y="276"/>
                </a:cubicBezTo>
                <a:cubicBezTo>
                  <a:pt x="611" y="212"/>
                  <a:pt x="781" y="57"/>
                  <a:pt x="864" y="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4419720"/>
            <a:ext cx="1295640" cy="60948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384"/>
                </a:moveTo>
                <a:cubicBezTo>
                  <a:pt x="55" y="343"/>
                  <a:pt x="196" y="202"/>
                  <a:pt x="332" y="138"/>
                </a:cubicBezTo>
                <a:cubicBezTo>
                  <a:pt x="468" y="74"/>
                  <a:pt x="715" y="29"/>
                  <a:pt x="816" y="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mplementation: Glibc pthread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pthread_mutex_lock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PTHREAD_MUTEX_RECURSIVE_N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= thread_self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mutex-&gt;__m_owner == self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-&gt;__m_count++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_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t_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hread_lock(&amp;mutex-&gt;__m_lock, self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-&gt;__m_owner = sel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-&gt;__m_coun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0; 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t_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C procedure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h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at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hread_mutex_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interested in behavior observed during an invocation of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gar Jyoti Chaki</cp:lastModifiedBy>
  <dcterms:modified xsi:type="dcterms:W3CDTF">2002-02-05T20:01:32Z</dcterms:modified>
  <cp:revision>279</cp:revision>
  <dc:subject/>
  <dc:title>PowerPoint Presentation</dc:title>
</cp:coreProperties>
</file>