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85C-2C63-46B3-B47E-62A87C2E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A40-35AA-4147-BA4A-A375CE2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3C3-745F-4BC8-98EE-34C287E9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0A1-4436-4ADB-B7F5-5E78BE8C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523-17B9-462A-9AC6-0713CAC9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D94-0228-425D-9B27-D7482CF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C945-BC07-4DC2-B8AD-24E46E58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683-EA46-42ED-8CEA-69D0B87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902-7EB9-498F-B2B2-0BE6C8E0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A1AD-439F-4F6C-B5D6-52EBF99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46CB-7C2A-410F-BF56-71A1355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0A3-E3F2-451E-9065-94AE0C4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9805-28F8-48EF-AED6-62D4D41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BB6-4562-43B8-B549-DA368C0E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0ED-D38A-4461-BA9A-3C0B5914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3D58-049D-4F83-BF8E-43594194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C4A8-7C07-4A49-8C4F-98AB7F00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D8B-3A39-45FF-B68C-A8997707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A3C-B1F6-4F77-B41C-1A216E76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6EB-636B-4264-8278-2BFB499D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45E-9082-4DCF-8259-C568DACB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3ED-1713-42F5-B39B-3284325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EB1-5C46-4EF7-94D4-98E273D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970-0C7A-4BD2-83C4-1A19EF6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BE6-FC07-4469-9EF9-D21B2E88F31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B08-6018-4CC4-92D4-E753431DB9D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sdlogo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ftware Verification via Refinement Checking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502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gar Chaki, Edmund Clarke, Alex Groce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sh Jha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cedure called, one of two things must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 obser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invocation of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Verific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every possible behavior of 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a behavior of the F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ce-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 it is sufficient to check for a stronger condition viz.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≥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: Defini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an alphabe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ssume Σ contains special symbol 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tuple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,I,δ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Q: finite set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: 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δ: transition relation over Q X Σ X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2666880"/>
            <a:ext cx="6324840" cy="3048120"/>
            <a:chOff x="1066680" y="2666880"/>
            <a:chExt cx="6324840" cy="3048120"/>
          </a:xfrm>
        </p:grpSpPr>
        <p:sp>
          <p:nvSpPr>
            <p:cNvPr id="132" name=""/>
            <p:cNvSpPr/>
            <p:nvPr/>
          </p:nvSpPr>
          <p:spPr>
            <a:xfrm>
              <a:off x="1600200" y="342900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3352680"/>
              <a:ext cx="83844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480" y="289548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48769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09680" y="4191120"/>
              <a:ext cx="533520" cy="7617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441972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3886200"/>
              <a:ext cx="5335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520" y="2666880"/>
              <a:ext cx="838080" cy="83844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362320" y="3200400"/>
              <a:ext cx="160020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9960" y="297180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3124080"/>
              <a:ext cx="1752480" cy="533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4419720"/>
              <a:ext cx="838080" cy="83808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00600" y="4038480"/>
              <a:ext cx="1828800" cy="7621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1760" y="426708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ε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2361960" y="4038120"/>
              <a:ext cx="1600200" cy="6858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4800" y="39625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TSs: 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1,I1,δ1&gt;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Q2,I2,δ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Relation ≥ Q1 X Q2 is simulation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Ini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For all t Є I2 exists s Є I1 s.t. s ≥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e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a,t’) Є δ2 =&gt; exists s’ s.t. (s,a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ahoma"/>
              </a:rPr>
              <a:t>Stutt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s ≥ t and (t,ε,t’) Є δ2 =&gt; s ≥ t’ OR exists s’ s.t. (s,ε,s’) Є δ1 and s’ ≥ 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verall metho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 relation R that satisfies conditions 2 an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at R satisfies condition 1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 = Q1 X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teratively r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using condition 2 and 3 till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,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Є R and if (t,a,t’) Є δ2 then remove (s,t) if there does not exist s’ s.t. (s,a,s’) Є δ1 and (s’,t’) Є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7440" y="2971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178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6080" y="22096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11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2040" y="52578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44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tiv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exist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al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ap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vs. Trace 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mappings are lik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26640" y="28954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277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42900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352680"/>
            <a:ext cx="83844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480" y="2895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4191120"/>
            <a:ext cx="533520" cy="7617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4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3886200"/>
            <a:ext cx="5335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666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3200400"/>
            <a:ext cx="160020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39960" y="297180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3124080"/>
            <a:ext cx="175248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4197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800600" y="403848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1760" y="4267080"/>
            <a:ext cx="3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361960" y="4038120"/>
            <a:ext cx="1600200" cy="6858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800" y="3962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7440" y="297180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6080" y="220968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25920" y="28954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11320" y="5257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L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0440" y="571500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,L,S}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137160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553080" y="1549440"/>
            <a:ext cx="1981440" cy="1173240"/>
            <a:chOff x="6553080" y="1549440"/>
            <a:chExt cx="1981440" cy="1173240"/>
          </a:xfrm>
        </p:grpSpPr>
        <p:sp>
          <p:nvSpPr>
            <p:cNvPr id="310" name=""/>
            <p:cNvSpPr/>
            <p:nvPr/>
          </p:nvSpPr>
          <p:spPr>
            <a:xfrm>
              <a:off x="681048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31320" y="154944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13680" y="1670040"/>
              <a:ext cx="954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76960" y="1913040"/>
              <a:ext cx="9907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6640" y="18288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lock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7640" y="2278080"/>
              <a:ext cx="403200" cy="444600"/>
            </a:xfrm>
            <a:prstGeom prst="ellipse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04240" y="1954080"/>
              <a:ext cx="366480" cy="3636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2280" y="1981080"/>
              <a:ext cx="6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1792440"/>
              <a:ext cx="2574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LTS from C modu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 on a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of the FLTS consists of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rol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C module and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-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akest pre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 pro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to comput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ition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680" y="1142640"/>
            <a:ext cx="5181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3429000" cy="4572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Packets == nPacketsOl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2590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15200" y="38862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52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6095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6765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21337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5146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29718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342900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8098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42670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7242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1814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638680"/>
            <a:ext cx="685800" cy="30492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6019920"/>
            <a:ext cx="685800" cy="3045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Θ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8288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47000" y="1828800"/>
            <a:ext cx="26964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71600" y="2209680"/>
            <a:ext cx="1036800" cy="533520"/>
            <a:chOff x="1371600" y="2209680"/>
            <a:chExt cx="1036800" cy="533520"/>
          </a:xfrm>
        </p:grpSpPr>
        <p:sp>
          <p:nvSpPr>
            <p:cNvPr id="349" name=""/>
            <p:cNvSpPr/>
            <p:nvPr/>
          </p:nvSpPr>
          <p:spPr>
            <a:xfrm>
              <a:off x="1371600" y="228600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3560" y="22096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7953480" y="2286000"/>
            <a:ext cx="1036800" cy="533520"/>
            <a:chOff x="7953480" y="2286000"/>
            <a:chExt cx="1036800" cy="533520"/>
          </a:xfrm>
        </p:grpSpPr>
        <p:sp>
          <p:nvSpPr>
            <p:cNvPr id="352" name=""/>
            <p:cNvSpPr/>
            <p:nvPr/>
          </p:nvSpPr>
          <p:spPr>
            <a:xfrm>
              <a:off x="7953480" y="2362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35440" y="22860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71600" y="274320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274320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312408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320040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371600" y="3505320"/>
            <a:ext cx="1020600" cy="532800"/>
            <a:chOff x="1371600" y="3505320"/>
            <a:chExt cx="1020600" cy="532800"/>
          </a:xfrm>
        </p:grpSpPr>
        <p:sp>
          <p:nvSpPr>
            <p:cNvPr id="359" name=""/>
            <p:cNvSpPr/>
            <p:nvPr/>
          </p:nvSpPr>
          <p:spPr>
            <a:xfrm>
              <a:off x="13716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42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001000" y="3505320"/>
            <a:ext cx="1020600" cy="532800"/>
            <a:chOff x="8001000" y="3505320"/>
            <a:chExt cx="1020600" cy="532800"/>
          </a:xfrm>
        </p:grpSpPr>
        <p:sp>
          <p:nvSpPr>
            <p:cNvPr id="362" name=""/>
            <p:cNvSpPr/>
            <p:nvPr/>
          </p:nvSpPr>
          <p:spPr>
            <a:xfrm>
              <a:off x="8001000" y="3581280"/>
              <a:ext cx="368280" cy="45684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83680" y="3505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371600" y="3962520"/>
            <a:ext cx="5943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0384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371600" y="4038480"/>
            <a:ext cx="5943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4197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4495680"/>
            <a:ext cx="270000" cy="457200"/>
          </a:xfrm>
          <a:custGeom>
            <a:avLst/>
            <a:gdLst/>
            <a:ahLst/>
            <a:rect l="l" t="t" r="r" b="b"/>
            <a:pathLst>
              <a:path w="170" h="288">
                <a:moveTo>
                  <a:pt x="169" y="0"/>
                </a:moveTo>
                <a:cubicBezTo>
                  <a:pt x="141" y="21"/>
                  <a:pt x="0" y="78"/>
                  <a:pt x="0" y="126"/>
                </a:cubicBezTo>
                <a:cubicBezTo>
                  <a:pt x="0" y="174"/>
                  <a:pt x="135" y="254"/>
                  <a:pt x="170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4876920"/>
            <a:ext cx="368280" cy="457200"/>
          </a:xfrm>
          <a:custGeom>
            <a:avLst/>
            <a:gdLst/>
            <a:ahLst/>
            <a:rect l="l" t="t" r="r" b="b"/>
            <a:pathLst>
              <a:path w="232" h="288">
                <a:moveTo>
                  <a:pt x="0" y="0"/>
                </a:moveTo>
                <a:cubicBezTo>
                  <a:pt x="39" y="20"/>
                  <a:pt x="232" y="71"/>
                  <a:pt x="232" y="119"/>
                </a:cubicBezTo>
                <a:cubicBezTo>
                  <a:pt x="232" y="167"/>
                  <a:pt x="49" y="253"/>
                  <a:pt x="1" y="28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1828800"/>
            <a:ext cx="458640" cy="3124080"/>
          </a:xfrm>
          <a:custGeom>
            <a:avLst/>
            <a:gdLst/>
            <a:ahLst/>
            <a:rect l="l" t="t" r="r" b="b"/>
            <a:pathLst>
              <a:path w="289" h="1968">
                <a:moveTo>
                  <a:pt x="288" y="1968"/>
                </a:moveTo>
                <a:cubicBezTo>
                  <a:pt x="240" y="1795"/>
                  <a:pt x="0" y="1255"/>
                  <a:pt x="0" y="927"/>
                </a:cubicBezTo>
                <a:cubicBezTo>
                  <a:pt x="0" y="599"/>
                  <a:pt x="229" y="193"/>
                  <a:pt x="289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71600" y="5257800"/>
            <a:ext cx="1020600" cy="533520"/>
            <a:chOff x="1371600" y="5257800"/>
            <a:chExt cx="1020600" cy="533520"/>
          </a:xfrm>
        </p:grpSpPr>
        <p:sp>
          <p:nvSpPr>
            <p:cNvPr id="372" name=""/>
            <p:cNvSpPr/>
            <p:nvPr/>
          </p:nvSpPr>
          <p:spPr>
            <a:xfrm>
              <a:off x="13716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42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001000" y="5257800"/>
            <a:ext cx="1020600" cy="533520"/>
            <a:chOff x="8001000" y="5257800"/>
            <a:chExt cx="1020600" cy="533520"/>
          </a:xfrm>
        </p:grpSpPr>
        <p:sp>
          <p:nvSpPr>
            <p:cNvPr id="375" name=""/>
            <p:cNvSpPr/>
            <p:nvPr/>
          </p:nvSpPr>
          <p:spPr>
            <a:xfrm>
              <a:off x="8001000" y="53341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83680" y="5257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l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5715000"/>
            <a:ext cx="986400" cy="533520"/>
            <a:chOff x="1371600" y="5715000"/>
            <a:chExt cx="986400" cy="533520"/>
          </a:xfrm>
        </p:grpSpPr>
        <p:sp>
          <p:nvSpPr>
            <p:cNvPr id="378" name=""/>
            <p:cNvSpPr/>
            <p:nvPr/>
          </p:nvSpPr>
          <p:spPr>
            <a:xfrm>
              <a:off x="13716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535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001000" y="5715000"/>
            <a:ext cx="986400" cy="533520"/>
            <a:chOff x="8001000" y="5715000"/>
            <a:chExt cx="986400" cy="533520"/>
          </a:xfrm>
        </p:grpSpPr>
        <p:sp>
          <p:nvSpPr>
            <p:cNvPr id="381" name=""/>
            <p:cNvSpPr/>
            <p:nvPr/>
          </p:nvSpPr>
          <p:spPr>
            <a:xfrm>
              <a:off x="8001000" y="5791320"/>
              <a:ext cx="368280" cy="457200"/>
            </a:xfrm>
            <a:custGeom>
              <a:avLst/>
              <a:gdLst/>
              <a:ahLst/>
              <a:rect l="l" t="t" r="r" b="b"/>
              <a:pathLst>
                <a:path w="232" h="288">
                  <a:moveTo>
                    <a:pt x="0" y="0"/>
                  </a:moveTo>
                  <a:cubicBezTo>
                    <a:pt x="39" y="20"/>
                    <a:pt x="232" y="71"/>
                    <a:pt x="232" y="119"/>
                  </a:cubicBezTo>
                  <a:cubicBezTo>
                    <a:pt x="232" y="167"/>
                    <a:pt x="49" y="253"/>
                    <a:pt x="1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2960" y="5715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en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agnostic 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ase simulation is not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ynamic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edicates and Property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(nPackets == nPacketsO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pecify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to be 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U simulates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dditional Info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at call to KeAcquireSpinLock() represents a loc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AcquireSpinLock = 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 for KeReleaseSpin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all KeReleaseSpinLock = un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sing Static Analysi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or alia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ate : (x ==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: *y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: ((y == &amp;x)&amp;&amp;(5 == 4)) || ((y != &amp;x)&amp;&amp;(x==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analysis could tell us whether (y == &amp;x) before this assignmen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*y)(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cedures could y potentially poi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Java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-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itise the state, perhaps by imposing a upper bound on the sta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loader obtain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te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on and set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refinement really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nly if the check 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Finite Labeled Transition Systems (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tax to describe FL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: State Models and Java Programs – Jeff Magee, Jeff Kramer - Wi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finements as Proof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nd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jus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dic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et the load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loader just has to check it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do this for the Linux process 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fu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elated Wor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edicate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 &amp; Saidi, Dill et.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work wit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desir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unwanted behavior a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er et. al., SLAM, Ban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ajor Differenc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ngler et.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w-sensitive,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n-the-f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boolea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 context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Ban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bit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LockUnlock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(lock -&gt; L | return -&gt; 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(unlock -&gt; 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8098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884760"/>
            <a:ext cx="1981440" cy="155520"/>
          </a:xfrm>
          <a:custGeom>
            <a:avLst/>
            <a:gdLst/>
            <a:ahLst/>
            <a:rect l="l" t="t" r="r" b="b"/>
            <a:pathLst>
              <a:path w="1248" h="98">
                <a:moveTo>
                  <a:pt x="0" y="97"/>
                </a:moveTo>
                <a:cubicBezTo>
                  <a:pt x="99" y="81"/>
                  <a:pt x="387" y="0"/>
                  <a:pt x="595" y="0"/>
                </a:cubicBezTo>
                <a:cubicBezTo>
                  <a:pt x="803" y="0"/>
                  <a:pt x="1112" y="78"/>
                  <a:pt x="1248" y="9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495680"/>
            <a:ext cx="2057400" cy="130320"/>
          </a:xfrm>
          <a:custGeom>
            <a:avLst/>
            <a:gdLst/>
            <a:ahLst/>
            <a:rect l="l" t="t" r="r" b="b"/>
            <a:pathLst>
              <a:path w="1296" h="82">
                <a:moveTo>
                  <a:pt x="1296" y="0"/>
                </a:moveTo>
                <a:cubicBezTo>
                  <a:pt x="1194" y="14"/>
                  <a:pt x="899" y="82"/>
                  <a:pt x="683" y="82"/>
                </a:cubicBezTo>
                <a:cubicBezTo>
                  <a:pt x="467" y="82"/>
                  <a:pt x="142" y="18"/>
                  <a:pt x="0" y="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780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552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1814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5720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8006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Device driver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example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Acquir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 = nPacketsOl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con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ackets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hile(nPackets != nPacketsOl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eleaseSpinLock(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eve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ur Goal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that Driver refines LockUn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keep track of the predicat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nPackets == nPackets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insensitive analysis will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diagnostic feedback in case the simulation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pecification: POSIX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thread_mutex_lo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re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count on lock an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urn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non-zer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8769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410080"/>
            <a:ext cx="838080" cy="83844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962520"/>
            <a:ext cx="838080" cy="838080"/>
          </a:xfrm>
          <a:prstGeom prst="ellipse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419720"/>
            <a:ext cx="1905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638680"/>
            <a:ext cx="4343400" cy="457200"/>
          </a:xfrm>
          <a:custGeom>
            <a:avLst/>
            <a:gdLst/>
            <a:ahLst/>
            <a:rect l="l" t="t" r="r" b="b"/>
            <a:pathLst>
              <a:path w="2736" h="288">
                <a:moveTo>
                  <a:pt x="0" y="0"/>
                </a:moveTo>
                <a:cubicBezTo>
                  <a:pt x="230" y="44"/>
                  <a:pt x="927" y="240"/>
                  <a:pt x="1383" y="264"/>
                </a:cubicBezTo>
                <a:cubicBezTo>
                  <a:pt x="1839" y="288"/>
                  <a:pt x="2454" y="169"/>
                  <a:pt x="2736" y="144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520" y="60199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er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164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t_z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812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lo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029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c_cou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724280"/>
            <a:ext cx="1371600" cy="60984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384"/>
                </a:moveTo>
                <a:cubicBezTo>
                  <a:pt x="78" y="366"/>
                  <a:pt x="323" y="340"/>
                  <a:pt x="467" y="276"/>
                </a:cubicBezTo>
                <a:cubicBezTo>
                  <a:pt x="611" y="212"/>
                  <a:pt x="781" y="57"/>
                  <a:pt x="864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419720"/>
            <a:ext cx="1295640" cy="60948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384"/>
                </a:moveTo>
                <a:cubicBezTo>
                  <a:pt x="55" y="343"/>
                  <a:pt x="196" y="202"/>
                  <a:pt x="332" y="138"/>
                </a:cubicBezTo>
                <a:cubicBezTo>
                  <a:pt x="468" y="74"/>
                  <a:pt x="715" y="29"/>
                  <a:pt x="816" y="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: Glibc pthread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thread_mutex_lock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PTHREAD_MUTEX_RECURSIVE_N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= thread_self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mutex-&gt;__m_owner == self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++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_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hread_lock(&amp;mutex-&gt;__m_lock, self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owner = sel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ex-&gt;__m_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_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C procedur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at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hread_mutex_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interested in behavior observed during an invocation of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gar Jyoti Chaki</cp:lastModifiedBy>
  <dcterms:modified xsi:type="dcterms:W3CDTF">2002-02-05T20:01:32Z</dcterms:modified>
  <cp:revision>279</cp:revision>
  <dc:subject/>
  <dc:title>PowerPoint Presentation</dc:title>
</cp:coreProperties>
</file>