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44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8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8592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39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85920" y="87339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509CE4C-B233-4ED9-AED7-7D3AAA9C9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*)  Provided that the verification process can be formulated as a sequence of explicitly defined transformations, and the intermediate results can be adequately represented as a sequent of a special form.  In our experience, this is the case for many problem domains in formal ver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22076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ward reference to “sharing graphs”—described in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dering algorithms are: one based on kernighan lin heuristics and another a hill-climbing algorithm to minimize the metric sum_{(u,v) \in E}w(u,v).|order(v)-order(v)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of hill climbing and simulated annealing are use to minimiz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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22076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ordering algorithm uses graph sepa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is the weight function of we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lin algorithm will find a good separator with small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22076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ordering algorithm uses graph sepa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is the weight function of we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lin algorithm will find a good separator with small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22076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ward reference to “sharing graphs”—described in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dering algorithms are: one based on kernighan lin heuristics and another a hill-climbing algorithm to minimize the metric sum_{(u,v) \in E}w(u,v).|order(v)-order(v)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of hill climbing and simulated annealing are use to minimiz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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22076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ward reference to “sharing graphs”—described in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dering algorithms are: one based on kernighan lin heuristics and another a hill-climbing algorithm to minimize the metric sum_{(u,v) \in E}w(u,v).|order(v)-order(v)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of hill climbing and simulated annealing are use to minimiz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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22076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different column of equations to show the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DCD3-B2D0-412B-8144-2B9B2C4D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9560" y="4130640"/>
            <a:ext cx="82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38D8-81B1-430A-AA0B-E53E2668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9560" y="4130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4130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7D12-4C8F-44CA-B2E8-BFF6AF38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98108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98108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9560" y="413064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413064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413064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193B-D282-468E-A834-C5426AD9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8DD2-A7AB-49DF-971C-8AFDB832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BC35-0987-490F-B5CA-90A909A7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404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04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D688-B67C-40BB-B671-C4A1F659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8863-54DF-4668-B937-9C5F73D8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4360" y="609120"/>
            <a:ext cx="8315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8A40-B36D-4B87-A3EB-43EA71A1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04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9560" y="4130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952F-B736-4A0C-B745-FC36B268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404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4130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5D17-AAE9-4A44-9030-EA8B6D9C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9560" y="4130640"/>
            <a:ext cx="82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BE73-5D76-4D4A-B44C-9C8D7C06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E0A7-0CE9-4D2B-BD3A-65A419B9C711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B01A-EA06-4B6A-A11A-4CA350DE6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ynthesis and Verification</a:t>
            </a:r>
            <a:br>
              <a:rPr sz="40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rmal and Semi-Formal Verificatio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8600" y="1890720"/>
          <a:ext cx="8763120" cy="4470480"/>
        </p:xfrm>
        <a:graphic>
          <a:graphicData uri="http://schemas.openxmlformats.org/drawingml/2006/table">
            <a:tbl>
              <a:tblPr/>
              <a:tblGrid>
                <a:gridCol w="2362320"/>
                <a:gridCol w="1531800"/>
                <a:gridCol w="1592280"/>
                <a:gridCol w="3276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is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84.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traction in Model Chec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an Lu, Pankaj Chauhan, Anubhav Gup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mund Clar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en German, IB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 Gerth, In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l Pixley, Motor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nath Viswanath, A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udong Xhao, Richard Ra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84.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ing Model Checking with Theorem Prov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gey Berez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mund Clar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 Gerth, In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ard Raimi, Motor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udong Zhao, In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84.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Checking without BD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ubhav Gupta, Pankaj Chauh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mund Clar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dy Eisner, IBM Hai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l Pixley, Motor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ew 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icient Image Computation Algorith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kaj Chauh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mund Clar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Kukula, Synops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358200" y="137160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act #: TJ-6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0196-C555-4195-BA67-90CFFE4429D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8D4DA-7149-4721-94E9-B05516721204}" type="datetime3">
              <a:rPr lang="en-US"/>
              <a:t>July 30, 20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Existential Abstraction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30240" y="4954680"/>
            <a:ext cx="4648320" cy="1143000"/>
          </a:xfrm>
          <a:prstGeom prst="flowChartInputOutpu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49560" y="3049560"/>
            <a:ext cx="3047760" cy="914400"/>
          </a:xfrm>
          <a:prstGeom prst="flowChartInputOutpu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54320" y="58690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835360" y="3125520"/>
            <a:ext cx="1371600" cy="533160"/>
            <a:chOff x="2835360" y="3125520"/>
            <a:chExt cx="1371600" cy="533160"/>
          </a:xfrm>
        </p:grpSpPr>
        <p:sp>
          <p:nvSpPr>
            <p:cNvPr id="82" name=""/>
            <p:cNvSpPr/>
            <p:nvPr/>
          </p:nvSpPr>
          <p:spPr>
            <a:xfrm flipV="1">
              <a:off x="4054320" y="3506760"/>
              <a:ext cx="152640" cy="151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835360" y="3278160"/>
              <a:ext cx="152280" cy="151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53753" dir="2700000" blurRad="0" rotWithShape="0">
                <a:srgbClr val="98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3673440" y="31251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616040" y="3277800"/>
            <a:ext cx="3123720" cy="2590920"/>
            <a:chOff x="1616040" y="3277800"/>
            <a:chExt cx="3123720" cy="2590920"/>
          </a:xfrm>
        </p:grpSpPr>
        <p:sp>
          <p:nvSpPr>
            <p:cNvPr id="86" name=""/>
            <p:cNvSpPr/>
            <p:nvPr/>
          </p:nvSpPr>
          <p:spPr>
            <a:xfrm flipV="1">
              <a:off x="1616040" y="3430080"/>
              <a:ext cx="1219320" cy="205740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759040" y="3430440"/>
              <a:ext cx="152280" cy="220968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2911320" y="3277800"/>
              <a:ext cx="762120" cy="1981080"/>
            </a:xfrm>
            <a:prstGeom prst="line">
              <a:avLst/>
            </a:prstGeom>
            <a:ln w="28440">
              <a:solidFill>
                <a:srgbClr val="00cc99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3749760" y="3277800"/>
              <a:ext cx="304560" cy="2057400"/>
            </a:xfrm>
            <a:prstGeom prst="line">
              <a:avLst/>
            </a:prstGeom>
            <a:ln w="28440">
              <a:solidFill>
                <a:srgbClr val="00cc99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673440" y="3658680"/>
              <a:ext cx="380880" cy="2133720"/>
            </a:xfrm>
            <a:prstGeom prst="line">
              <a:avLst/>
            </a:prstGeom>
            <a:ln w="28440">
              <a:solidFill>
                <a:srgbClr val="0066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206600" y="3659040"/>
              <a:ext cx="533160" cy="2209680"/>
            </a:xfrm>
            <a:prstGeom prst="line">
              <a:avLst/>
            </a:prstGeom>
            <a:ln w="28440">
              <a:solidFill>
                <a:srgbClr val="0066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839520" y="499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52920" y="2967120"/>
            <a:ext cx="53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808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6280" y="164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01640"/>
            <a:ext cx="7391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n abstraction function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h : S </a:t>
            </a:r>
            <a:r>
              <a:rPr b="0" lang="en-US" sz="2000" spc="-1" strike="noStrike">
                <a:solidFill>
                  <a:srgbClr val="00808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808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concrete states are grouped and mapped into abstrac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600200" y="4338720"/>
            <a:ext cx="3216240" cy="1681920"/>
            <a:chOff x="1600200" y="4338720"/>
            <a:chExt cx="3216240" cy="1681920"/>
          </a:xfrm>
        </p:grpSpPr>
        <p:sp>
          <p:nvSpPr>
            <p:cNvPr id="97" name=""/>
            <p:cNvSpPr/>
            <p:nvPr/>
          </p:nvSpPr>
          <p:spPr>
            <a:xfrm>
              <a:off x="2248200" y="4338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18040" y="4338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77000" y="4338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600200" y="5106960"/>
              <a:ext cx="3216240" cy="913680"/>
              <a:chOff x="1600200" y="5106960"/>
              <a:chExt cx="3216240" cy="913680"/>
            </a:xfrm>
          </p:grpSpPr>
          <p:sp>
            <p:nvSpPr>
              <p:cNvPr id="101" name=""/>
              <p:cNvSpPr/>
              <p:nvPr/>
            </p:nvSpPr>
            <p:spPr>
              <a:xfrm>
                <a:off x="2911320" y="5106960"/>
                <a:ext cx="1143000" cy="380520"/>
              </a:xfrm>
              <a:custGeom>
                <a:avLst/>
                <a:gdLst>
                  <a:gd name="textAreaLeft" fmla="*/ 257040 w 1143000"/>
                  <a:gd name="textAreaRight" fmla="*/ 885960 w 1143000"/>
                  <a:gd name="textAreaTop" fmla="*/ 85680 h 380520"/>
                  <a:gd name="textAreaBottom" fmla="*/ 29484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54" y="12403"/>
                    </a:lnTo>
                    <a:lnTo>
                      <a:pt x="786" y="14846"/>
                    </a:lnTo>
                    <a:lnTo>
                      <a:pt x="3755" y="15375"/>
                    </a:lnTo>
                    <a:lnTo>
                      <a:pt x="3163" y="18437"/>
                    </a:lnTo>
                    <a:lnTo>
                      <a:pt x="6103" y="17764"/>
                    </a:lnTo>
                    <a:lnTo>
                      <a:pt x="6580" y="20741"/>
                    </a:lnTo>
                    <a:lnTo>
                      <a:pt x="9054" y="19016"/>
                    </a:lnTo>
                    <a:lnTo>
                      <a:pt x="10800" y="21600"/>
                    </a:lnTo>
                    <a:lnTo>
                      <a:pt x="12403" y="19046"/>
                    </a:lnTo>
                    <a:lnTo>
                      <a:pt x="14846" y="20814"/>
                    </a:lnTo>
                    <a:lnTo>
                      <a:pt x="15375" y="17845"/>
                    </a:lnTo>
                    <a:lnTo>
                      <a:pt x="18437" y="18437"/>
                    </a:lnTo>
                    <a:lnTo>
                      <a:pt x="17764" y="15497"/>
                    </a:lnTo>
                    <a:lnTo>
                      <a:pt x="20741" y="15020"/>
                    </a:lnTo>
                    <a:lnTo>
                      <a:pt x="19016" y="12546"/>
                    </a:lnTo>
                    <a:lnTo>
                      <a:pt x="21600" y="10800"/>
                    </a:lnTo>
                    <a:lnTo>
                      <a:pt x="19046" y="9197"/>
                    </a:lnTo>
                    <a:lnTo>
                      <a:pt x="20814" y="6754"/>
                    </a:lnTo>
                    <a:lnTo>
                      <a:pt x="17845" y="6225"/>
                    </a:lnTo>
                    <a:lnTo>
                      <a:pt x="18437" y="3163"/>
                    </a:lnTo>
                    <a:lnTo>
                      <a:pt x="15497" y="3836"/>
                    </a:lnTo>
                    <a:lnTo>
                      <a:pt x="15020" y="859"/>
                    </a:lnTo>
                    <a:lnTo>
                      <a:pt x="12546" y="2584"/>
                    </a:lnTo>
                    <a:lnTo>
                      <a:pt x="10800" y="0"/>
                    </a:lnTo>
                    <a:lnTo>
                      <a:pt x="9197" y="2554"/>
                    </a:lnTo>
                    <a:lnTo>
                      <a:pt x="6754" y="786"/>
                    </a:lnTo>
                    <a:lnTo>
                      <a:pt x="6225" y="3755"/>
                    </a:lnTo>
                    <a:lnTo>
                      <a:pt x="3163" y="3163"/>
                    </a:lnTo>
                    <a:lnTo>
                      <a:pt x="3836" y="6103"/>
                    </a:lnTo>
                    <a:lnTo>
                      <a:pt x="859" y="6580"/>
                    </a:lnTo>
                    <a:lnTo>
                      <a:pt x="2584" y="905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673440" y="5639760"/>
                <a:ext cx="1143000" cy="380880"/>
              </a:xfrm>
              <a:custGeom>
                <a:avLst/>
                <a:gdLst>
                  <a:gd name="textAreaLeft" fmla="*/ 257040 w 1143000"/>
                  <a:gd name="textAreaRight" fmla="*/ 885960 w 1143000"/>
                  <a:gd name="textAreaTop" fmla="*/ 85680 h 380880"/>
                  <a:gd name="textAreaBottom" fmla="*/ 2952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54" y="12403"/>
                    </a:lnTo>
                    <a:lnTo>
                      <a:pt x="786" y="14846"/>
                    </a:lnTo>
                    <a:lnTo>
                      <a:pt x="3755" y="15375"/>
                    </a:lnTo>
                    <a:lnTo>
                      <a:pt x="3163" y="18437"/>
                    </a:lnTo>
                    <a:lnTo>
                      <a:pt x="6103" y="17764"/>
                    </a:lnTo>
                    <a:lnTo>
                      <a:pt x="6580" y="20741"/>
                    </a:lnTo>
                    <a:lnTo>
                      <a:pt x="9054" y="19016"/>
                    </a:lnTo>
                    <a:lnTo>
                      <a:pt x="10800" y="21600"/>
                    </a:lnTo>
                    <a:lnTo>
                      <a:pt x="12403" y="19046"/>
                    </a:lnTo>
                    <a:lnTo>
                      <a:pt x="14846" y="20814"/>
                    </a:lnTo>
                    <a:lnTo>
                      <a:pt x="15375" y="17845"/>
                    </a:lnTo>
                    <a:lnTo>
                      <a:pt x="18437" y="18437"/>
                    </a:lnTo>
                    <a:lnTo>
                      <a:pt x="17764" y="15497"/>
                    </a:lnTo>
                    <a:lnTo>
                      <a:pt x="20741" y="15020"/>
                    </a:lnTo>
                    <a:lnTo>
                      <a:pt x="19016" y="12546"/>
                    </a:lnTo>
                    <a:lnTo>
                      <a:pt x="21600" y="10800"/>
                    </a:lnTo>
                    <a:lnTo>
                      <a:pt x="19046" y="9197"/>
                    </a:lnTo>
                    <a:lnTo>
                      <a:pt x="20814" y="6754"/>
                    </a:lnTo>
                    <a:lnTo>
                      <a:pt x="17845" y="6225"/>
                    </a:lnTo>
                    <a:lnTo>
                      <a:pt x="18437" y="3163"/>
                    </a:lnTo>
                    <a:lnTo>
                      <a:pt x="15497" y="3836"/>
                    </a:lnTo>
                    <a:lnTo>
                      <a:pt x="15020" y="859"/>
                    </a:lnTo>
                    <a:lnTo>
                      <a:pt x="12546" y="2584"/>
                    </a:lnTo>
                    <a:lnTo>
                      <a:pt x="10800" y="0"/>
                    </a:lnTo>
                    <a:lnTo>
                      <a:pt x="9197" y="2554"/>
                    </a:lnTo>
                    <a:lnTo>
                      <a:pt x="6754" y="786"/>
                    </a:lnTo>
                    <a:lnTo>
                      <a:pt x="6225" y="3755"/>
                    </a:lnTo>
                    <a:lnTo>
                      <a:pt x="3163" y="3163"/>
                    </a:lnTo>
                    <a:lnTo>
                      <a:pt x="3836" y="6103"/>
                    </a:lnTo>
                    <a:lnTo>
                      <a:pt x="859" y="6580"/>
                    </a:lnTo>
                    <a:lnTo>
                      <a:pt x="2584" y="905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600200" y="5411160"/>
                <a:ext cx="1143000" cy="380880"/>
              </a:xfrm>
              <a:custGeom>
                <a:avLst/>
                <a:gdLst>
                  <a:gd name="textAreaLeft" fmla="*/ 257040 w 1143000"/>
                  <a:gd name="textAreaRight" fmla="*/ 885960 w 1143000"/>
                  <a:gd name="textAreaTop" fmla="*/ 85680 h 380880"/>
                  <a:gd name="textAreaBottom" fmla="*/ 2952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54" y="12403"/>
                    </a:lnTo>
                    <a:lnTo>
                      <a:pt x="786" y="14846"/>
                    </a:lnTo>
                    <a:lnTo>
                      <a:pt x="3755" y="15375"/>
                    </a:lnTo>
                    <a:lnTo>
                      <a:pt x="3163" y="18437"/>
                    </a:lnTo>
                    <a:lnTo>
                      <a:pt x="6103" y="17764"/>
                    </a:lnTo>
                    <a:lnTo>
                      <a:pt x="6580" y="20741"/>
                    </a:lnTo>
                    <a:lnTo>
                      <a:pt x="9054" y="19016"/>
                    </a:lnTo>
                    <a:lnTo>
                      <a:pt x="10800" y="21600"/>
                    </a:lnTo>
                    <a:lnTo>
                      <a:pt x="12403" y="19046"/>
                    </a:lnTo>
                    <a:lnTo>
                      <a:pt x="14846" y="20814"/>
                    </a:lnTo>
                    <a:lnTo>
                      <a:pt x="15375" y="17845"/>
                    </a:lnTo>
                    <a:lnTo>
                      <a:pt x="18437" y="18437"/>
                    </a:lnTo>
                    <a:lnTo>
                      <a:pt x="17764" y="15497"/>
                    </a:lnTo>
                    <a:lnTo>
                      <a:pt x="20741" y="15020"/>
                    </a:lnTo>
                    <a:lnTo>
                      <a:pt x="19016" y="12546"/>
                    </a:lnTo>
                    <a:lnTo>
                      <a:pt x="21600" y="10800"/>
                    </a:lnTo>
                    <a:lnTo>
                      <a:pt x="19046" y="9197"/>
                    </a:lnTo>
                    <a:lnTo>
                      <a:pt x="20814" y="6754"/>
                    </a:lnTo>
                    <a:lnTo>
                      <a:pt x="17845" y="6225"/>
                    </a:lnTo>
                    <a:lnTo>
                      <a:pt x="18437" y="3163"/>
                    </a:lnTo>
                    <a:lnTo>
                      <a:pt x="15497" y="3836"/>
                    </a:lnTo>
                    <a:lnTo>
                      <a:pt x="15020" y="859"/>
                    </a:lnTo>
                    <a:lnTo>
                      <a:pt x="12546" y="2584"/>
                    </a:lnTo>
                    <a:lnTo>
                      <a:pt x="10800" y="0"/>
                    </a:lnTo>
                    <a:lnTo>
                      <a:pt x="9197" y="2554"/>
                    </a:lnTo>
                    <a:lnTo>
                      <a:pt x="6754" y="786"/>
                    </a:lnTo>
                    <a:lnTo>
                      <a:pt x="6225" y="3755"/>
                    </a:lnTo>
                    <a:lnTo>
                      <a:pt x="3163" y="3163"/>
                    </a:lnTo>
                    <a:lnTo>
                      <a:pt x="3836" y="6103"/>
                    </a:lnTo>
                    <a:lnTo>
                      <a:pt x="859" y="6580"/>
                    </a:lnTo>
                    <a:lnTo>
                      <a:pt x="2584" y="905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2362320" y="55641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33720" y="54878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5564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514600" y="533520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52592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51832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57927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57927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52592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733560" y="533556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5869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514600" y="3201480"/>
            <a:ext cx="1158840" cy="2362320"/>
            <a:chOff x="2514600" y="3201480"/>
            <a:chExt cx="1158840" cy="2362320"/>
          </a:xfrm>
        </p:grpSpPr>
        <p:sp>
          <p:nvSpPr>
            <p:cNvPr id="116" name=""/>
            <p:cNvSpPr/>
            <p:nvPr/>
          </p:nvSpPr>
          <p:spPr>
            <a:xfrm flipV="1">
              <a:off x="2987640" y="3201480"/>
              <a:ext cx="68580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514600" y="5335200"/>
              <a:ext cx="6858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733560" y="3277800"/>
            <a:ext cx="396720" cy="2514960"/>
            <a:chOff x="3733560" y="3277800"/>
            <a:chExt cx="396720" cy="2514960"/>
          </a:xfrm>
        </p:grpSpPr>
        <p:sp>
          <p:nvSpPr>
            <p:cNvPr id="119" name=""/>
            <p:cNvSpPr/>
            <p:nvPr/>
          </p:nvSpPr>
          <p:spPr>
            <a:xfrm flipH="1" flipV="1">
              <a:off x="3825360" y="327780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3733560" y="5335560"/>
              <a:ext cx="2286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114800" y="3278160"/>
            <a:ext cx="396720" cy="2590560"/>
            <a:chOff x="4114800" y="3278160"/>
            <a:chExt cx="396720" cy="2590560"/>
          </a:xfrm>
        </p:grpSpPr>
        <p:sp>
          <p:nvSpPr>
            <p:cNvPr id="122" name=""/>
            <p:cNvSpPr/>
            <p:nvPr/>
          </p:nvSpPr>
          <p:spPr>
            <a:xfrm>
              <a:off x="4206960" y="3278160"/>
              <a:ext cx="304560" cy="36648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3950" y="1870"/>
                  </a:moveTo>
                  <a:arcTo wR="-9469" hR="-9469" stAng="-4234202" swAng="-17360483"/>
                  <a:lnTo>
                    <a:pt x="0" y="10783"/>
                  </a:lnTo>
                  <a:arcTo wR="10800" hR="10800" stAng="-10794685" swAng="17360483"/>
                  <a:lnTo>
                    <a:pt x="6309" y="23531"/>
                  </a:lnTo>
                  <a:lnTo>
                    <a:pt x="4255" y="19238"/>
                  </a:lnTo>
                  <a:lnTo>
                    <a:pt x="8548" y="1718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14800" y="586872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14600" y="5640480"/>
            <a:ext cx="14479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514600" y="3430440"/>
            <a:ext cx="1447920" cy="2438280"/>
            <a:chOff x="2514600" y="3430440"/>
            <a:chExt cx="1447920" cy="2438280"/>
          </a:xfrm>
        </p:grpSpPr>
        <p:sp>
          <p:nvSpPr>
            <p:cNvPr id="126" name=""/>
            <p:cNvSpPr/>
            <p:nvPr/>
          </p:nvSpPr>
          <p:spPr>
            <a:xfrm>
              <a:off x="2514600" y="5640120"/>
              <a:ext cx="1447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71800" y="3430440"/>
              <a:ext cx="9907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5410080" y="3705120"/>
            <a:ext cx="2301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M 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 M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 |= </a:t>
            </a:r>
            <a:r>
              <a:rPr b="0" lang="en-US" sz="2000" spc="-1" strike="noStrike">
                <a:solidFill>
                  <a:srgbClr val="008080"/>
                </a:solidFill>
                <a:latin typeface="Symbol"/>
                <a:ea typeface="Symbol"/>
              </a:rPr>
              <a:t>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8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 M |= </a:t>
            </a:r>
            <a:r>
              <a:rPr b="0" lang="en-US" sz="2000" spc="-1" strike="noStrike">
                <a:solidFill>
                  <a:srgbClr val="008080"/>
                </a:solidFill>
                <a:latin typeface="Symbol"/>
                <a:ea typeface="Symbol"/>
              </a:rPr>
              <a:t>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9F4C-237B-4053-A9C6-173788E430C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7DF23-4FFE-4E9F-8F52-A95CDEEB2CCD}" type="datetime3">
              <a:rPr lang="en-US"/>
              <a:t>July 30, 20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Our Abstraction Methodology (CAV’2000)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23320" y="5129280"/>
            <a:ext cx="2153160" cy="1136880"/>
            <a:chOff x="6223320" y="5129280"/>
            <a:chExt cx="2153160" cy="1136880"/>
          </a:xfrm>
        </p:grpSpPr>
        <p:sp>
          <p:nvSpPr>
            <p:cNvPr id="131" name=""/>
            <p:cNvSpPr/>
            <p:nvPr/>
          </p:nvSpPr>
          <p:spPr>
            <a:xfrm>
              <a:off x="6227640" y="58147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7370640" y="5129280"/>
              <a:ext cx="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23320" y="5756040"/>
              <a:ext cx="215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s not spuri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41640" y="5113440"/>
            <a:ext cx="2286000" cy="1082160"/>
            <a:chOff x="3941640" y="5113440"/>
            <a:chExt cx="2286000" cy="1082160"/>
          </a:xfrm>
        </p:grpSpPr>
        <p:sp>
          <p:nvSpPr>
            <p:cNvPr id="135" name=""/>
            <p:cNvSpPr/>
            <p:nvPr/>
          </p:nvSpPr>
          <p:spPr>
            <a:xfrm>
              <a:off x="3941640" y="5510160"/>
              <a:ext cx="2286000" cy="68544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eck spuri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unterexa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84640" y="51289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03800" y="511344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227640" y="3079800"/>
            <a:ext cx="1447920" cy="2049480"/>
            <a:chOff x="6227640" y="3079800"/>
            <a:chExt cx="1447920" cy="2049480"/>
          </a:xfrm>
        </p:grpSpPr>
        <p:sp>
          <p:nvSpPr>
            <p:cNvPr id="139" name=""/>
            <p:cNvSpPr/>
            <p:nvPr/>
          </p:nvSpPr>
          <p:spPr>
            <a:xfrm>
              <a:off x="6989760" y="4443480"/>
              <a:ext cx="685800" cy="68580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27640" y="36817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70640" y="36817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43200" y="3079800"/>
              <a:ext cx="997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|=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941640" y="3949560"/>
            <a:ext cx="2286000" cy="1179360"/>
            <a:chOff x="3941640" y="3949560"/>
            <a:chExt cx="2286000" cy="1179360"/>
          </a:xfrm>
        </p:grpSpPr>
        <p:sp>
          <p:nvSpPr>
            <p:cNvPr id="144" name=""/>
            <p:cNvSpPr/>
            <p:nvPr/>
          </p:nvSpPr>
          <p:spPr>
            <a:xfrm>
              <a:off x="3941640" y="4443120"/>
              <a:ext cx="2286000" cy="6858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ener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unterexampl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84640" y="40622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5125320" y="3949560"/>
              <a:ext cx="1066320" cy="510120"/>
              <a:chOff x="5125320" y="3949560"/>
              <a:chExt cx="1066320" cy="510120"/>
            </a:xfrm>
          </p:grpSpPr>
          <p:sp>
            <p:nvSpPr>
              <p:cNvPr id="147" name=""/>
              <p:cNvSpPr/>
              <p:nvPr/>
            </p:nvSpPr>
            <p:spPr>
              <a:xfrm>
                <a:off x="5125320" y="3949560"/>
                <a:ext cx="106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|=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5743440" y="413856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3941640" y="2989440"/>
            <a:ext cx="2286000" cy="1072440"/>
            <a:chOff x="3941640" y="2989440"/>
            <a:chExt cx="2286000" cy="1072440"/>
          </a:xfrm>
        </p:grpSpPr>
        <p:sp>
          <p:nvSpPr>
            <p:cNvPr id="150" name=""/>
            <p:cNvSpPr/>
            <p:nvPr/>
          </p:nvSpPr>
          <p:spPr>
            <a:xfrm>
              <a:off x="3941640" y="3376440"/>
              <a:ext cx="2286000" cy="68544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del che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84640" y="2995560"/>
              <a:ext cx="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66640" y="2989440"/>
              <a:ext cx="54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941640" y="1746360"/>
            <a:ext cx="2401560" cy="1248840"/>
            <a:chOff x="3941640" y="1746360"/>
            <a:chExt cx="2401560" cy="1248840"/>
          </a:xfrm>
        </p:grpSpPr>
        <p:sp>
          <p:nvSpPr>
            <p:cNvPr id="154" name=""/>
            <p:cNvSpPr/>
            <p:nvPr/>
          </p:nvSpPr>
          <p:spPr>
            <a:xfrm>
              <a:off x="3941640" y="2309760"/>
              <a:ext cx="2286000" cy="68544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enerate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it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bstr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57640" y="20048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24600" y="1746360"/>
              <a:ext cx="121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 and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866880" y="3079800"/>
            <a:ext cx="3608280" cy="3112200"/>
            <a:chOff x="866880" y="3079800"/>
            <a:chExt cx="3608280" cy="3112200"/>
          </a:xfrm>
        </p:grpSpPr>
        <p:sp>
          <p:nvSpPr>
            <p:cNvPr id="158" name=""/>
            <p:cNvSpPr/>
            <p:nvPr/>
          </p:nvSpPr>
          <p:spPr>
            <a:xfrm>
              <a:off x="866880" y="4451400"/>
              <a:ext cx="2133360" cy="6858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fin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933560" y="30798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33560" y="3079800"/>
              <a:ext cx="254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19080" y="542772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13720" y="57931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s spuri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933200" y="58230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933560" y="513684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75160" y="30798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86C5-E876-4782-A2C4-0935A992357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85DCD-5D45-4BB5-8F54-C3626B17075A}" type="datetime3">
              <a:rPr lang="en-US"/>
              <a:t>July 30, 20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Highlights of Our Methodology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essive results, on average, 3.5x time, 17x space improvemen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rge Fujitsu multimedia processor  ver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s all ACTL* loop/path counter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ut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n-loop/non-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nterexamp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feas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heck validity of counterexamp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1A2C-E62A-4726-827F-A06FB6B07AF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3019A-E467-4B1B-B874-ABD72727CEB0}" type="datetime3">
              <a:rPr lang="en-US"/>
              <a:t>July 30, 20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eneral Counterexamples for ACTL*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 the counterexamples in ACTL* 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ath or loo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fine the abstraction when a counterexample is not lin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counterexamp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generate “readable” counterexamp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E60B-6F2E-46B2-9A01-FC45F4BD0A4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CD586-E004-44F0-87EF-4F062B7DB3A7}" type="datetime3">
              <a:rPr lang="en-US"/>
              <a:t>July 30, 20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ree-like Counterexample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79440" y="1758960"/>
            <a:ext cx="6569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e counterexampl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(AG </a:t>
            </a:r>
            <a:r>
              <a:rPr b="0" lang="en-US" sz="2800" spc="-1" strike="noStrike">
                <a:solidFill>
                  <a:srgbClr val="00808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p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 (AF </a:t>
            </a:r>
            <a:r>
              <a:rPr b="0" lang="en-US" sz="2800" spc="-1" strike="noStrike">
                <a:solidFill>
                  <a:srgbClr val="00808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q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k li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(AG </a:t>
            </a:r>
            <a:r>
              <a:rPr b="0" lang="en-US" sz="2400" spc="-1" strike="noStrike">
                <a:solidFill>
                  <a:srgbClr val="00808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(AF </a:t>
            </a:r>
            <a:r>
              <a:rPr b="0" lang="en-US" sz="2400" spc="-1" strike="noStrike">
                <a:solidFill>
                  <a:srgbClr val="00808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132920" y="3611520"/>
            <a:ext cx="2794680" cy="2599560"/>
            <a:chOff x="1132920" y="3611520"/>
            <a:chExt cx="2794680" cy="2599560"/>
          </a:xfrm>
        </p:grpSpPr>
        <p:sp>
          <p:nvSpPr>
            <p:cNvPr id="173" name=""/>
            <p:cNvSpPr/>
            <p:nvPr/>
          </p:nvSpPr>
          <p:spPr>
            <a:xfrm>
              <a:off x="2176560" y="4303440"/>
              <a:ext cx="14760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08280" y="4836960"/>
              <a:ext cx="14760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65120" y="5370480"/>
              <a:ext cx="14760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32920" y="537048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881360" y="4456080"/>
              <a:ext cx="2952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1512360" y="4989240"/>
              <a:ext cx="29556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03320" y="361152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Arial"/>
                </a:rPr>
                <a:t>EF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56040" y="4303440"/>
              <a:ext cx="14760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76720" y="4760640"/>
              <a:ext cx="14760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71920" y="5217840"/>
              <a:ext cx="14760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03640" y="5675040"/>
              <a:ext cx="14760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03640" y="4456080"/>
              <a:ext cx="147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24320" y="4913280"/>
              <a:ext cx="147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350880" y="5370480"/>
              <a:ext cx="2206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276720" y="4913280"/>
              <a:ext cx="7452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17960" y="396864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76800" y="453204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59320" y="521784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17960" y="575136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17440" y="36115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Arial"/>
                </a:rPr>
                <a:t>EG 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171400" y="3576600"/>
            <a:ext cx="2562840" cy="2634480"/>
            <a:chOff x="5171400" y="3576600"/>
            <a:chExt cx="2562840" cy="2634480"/>
          </a:xfrm>
        </p:grpSpPr>
        <p:sp>
          <p:nvSpPr>
            <p:cNvPr id="194" name=""/>
            <p:cNvSpPr/>
            <p:nvPr/>
          </p:nvSpPr>
          <p:spPr>
            <a:xfrm>
              <a:off x="6510240" y="4303440"/>
              <a:ext cx="19044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96080" y="4760640"/>
              <a:ext cx="18900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75520" y="5217840"/>
              <a:ext cx="19044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00680" y="5675040"/>
              <a:ext cx="18900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00680" y="4456080"/>
              <a:ext cx="1890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85080" y="4913280"/>
              <a:ext cx="19044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889680" y="5370480"/>
              <a:ext cx="2858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796080" y="4913280"/>
              <a:ext cx="9360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94480" y="396864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4600" y="453204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4360" y="521784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93040" y="575136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10240" y="4303440"/>
              <a:ext cx="19044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35760" y="4836960"/>
              <a:ext cx="1904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65880" y="5370480"/>
              <a:ext cx="1904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71400" y="537048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6130800" y="4456080"/>
              <a:ext cx="379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656320" y="4989240"/>
              <a:ext cx="37944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33920" y="3576600"/>
              <a:ext cx="22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Arial"/>
                </a:rPr>
                <a:t>(EF p) </a:t>
              </a:r>
              <a:r>
                <a:rPr b="0" lang="en-US" sz="2400" spc="-1" strike="noStrike">
                  <a:solidFill>
                    <a:srgbClr val="008080"/>
                  </a:solidFill>
                  <a:latin typeface="Symbol"/>
                  <a:ea typeface="Symbol"/>
                </a:rPr>
                <a:t></a:t>
              </a:r>
              <a:r>
                <a:rPr b="0" lang="en-US" sz="2400" spc="-1" strike="noStrike">
                  <a:solidFill>
                    <a:srgbClr val="008080"/>
                  </a:solidFill>
                  <a:latin typeface="Arial"/>
                </a:rPr>
                <a:t> (EG q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4645440" y="3008160"/>
            <a:ext cx="25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(EF p) </a:t>
            </a:r>
            <a:r>
              <a:rPr b="0" lang="en-US" sz="2400" spc="-1" strike="noStrike">
                <a:solidFill>
                  <a:srgbClr val="00808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(EG 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DB84-D3BC-4059-8380-B5A412A85FDF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FBCA8-AFB5-4C0F-A491-89E08DAE9418}" type="datetime3">
              <a:rPr lang="en-US"/>
              <a:t>July 30, 20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unterexamples for ACTL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6280" y="1874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 ACTL formulas have tree-like counterexamp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ree-like counterexampl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diagn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mposable to simple paths and l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78E7-C598-41EC-92FF-11B14795EA9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65B07-E65A-40E2-9309-ED38961D9946}" type="datetime3">
              <a:rPr lang="en-US"/>
              <a:t>July 30, 20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Generate Counterexamples for ACTL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6280" y="1874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propose an algorithm to generate tree-like counterexamples for ACT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8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erse the parse tree of the formula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F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8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path or loop counterexamples 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a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in the parse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8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 the sub-counterexamples for the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51200" y="55818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ymbolic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81DB-2103-4566-9E06-977EAE910CB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15980-1FD1-423A-B142-2B7999A6CCB2}" type="datetime3">
              <a:rPr lang="en-US"/>
              <a:t>July 30, 20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Using SAT for Abstraction Refinemen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39200" y="1981080"/>
            <a:ext cx="40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Domain: Hardware circuits with more than 5000 latch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/loop counterexample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: Primary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: Visibl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Invisibl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R U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R| &lt;&lt; |V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05680" y="2155680"/>
            <a:ext cx="1519200" cy="1143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65840" y="4000680"/>
            <a:ext cx="473040" cy="1077840"/>
          </a:xfrm>
          <a:custGeom>
            <a:avLst/>
            <a:gdLst>
              <a:gd name="textAreaLeft" fmla="*/ 23040 w 473040"/>
              <a:gd name="textAreaRight" fmla="*/ 450000 w 473040"/>
              <a:gd name="textAreaTop" fmla="*/ 23040 h 1077840"/>
              <a:gd name="textAreaBottom" fmla="*/ 1054800 h 1077840"/>
            </a:gdLst>
            <a:ahLst/>
            <a:rect l="textAreaLeft" t="textAreaTop" r="textAreaRight" b="textAreaBottom"/>
            <a:pathLst>
              <a:path w="21600" h="49195">
                <a:moveTo>
                  <a:pt x="3600" y="0"/>
                </a:moveTo>
                <a:arcTo wR="3600" hR="3600" stAng="16200000" swAng="-5400000"/>
                <a:lnTo>
                  <a:pt x="0" y="45595"/>
                </a:lnTo>
                <a:arcTo wR="3600" hR="3600" stAng="10800000" swAng="-5400000"/>
                <a:lnTo>
                  <a:pt x="18000" y="491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83240" y="3021120"/>
            <a:ext cx="1160640" cy="1208160"/>
          </a:xfrm>
          <a:custGeom>
            <a:avLst/>
            <a:gdLst/>
            <a:ahLst/>
            <a:rect l="l" t="t" r="r" b="b"/>
            <a:pathLst>
              <a:path w="669" h="761">
                <a:moveTo>
                  <a:pt x="669" y="761"/>
                </a:moveTo>
                <a:lnTo>
                  <a:pt x="0" y="761"/>
                </a:lnTo>
                <a:lnTo>
                  <a:pt x="0" y="0"/>
                </a:lnTo>
                <a:lnTo>
                  <a:pt x="319" y="0"/>
                </a:lnTo>
              </a:path>
            </a:pathLst>
          </a:custGeom>
          <a:noFill/>
          <a:ln w="7632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34200" y="3005280"/>
            <a:ext cx="881280" cy="1224000"/>
          </a:xfrm>
          <a:custGeom>
            <a:avLst/>
            <a:gdLst/>
            <a:ahLst/>
            <a:rect l="l" t="t" r="r" b="b"/>
            <a:pathLst>
              <a:path w="555" h="771">
                <a:moveTo>
                  <a:pt x="318" y="0"/>
                </a:moveTo>
                <a:lnTo>
                  <a:pt x="545" y="0"/>
                </a:lnTo>
                <a:lnTo>
                  <a:pt x="555" y="771"/>
                </a:lnTo>
                <a:lnTo>
                  <a:pt x="0" y="771"/>
                </a:lnTo>
              </a:path>
            </a:pathLst>
          </a:custGeom>
          <a:noFill/>
          <a:ln w="7632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56160" y="2465280"/>
            <a:ext cx="1649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06840" y="2023920"/>
            <a:ext cx="4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86560" y="485460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37320" y="48592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35760" y="355284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89720" y="35542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6520" y="2817720"/>
            <a:ext cx="1579320" cy="1995480"/>
          </a:xfrm>
          <a:custGeom>
            <a:avLst/>
            <a:gdLst/>
            <a:ahLst/>
            <a:rect l="l" t="t" r="r" b="b"/>
            <a:pathLst>
              <a:path w="995" h="1257">
                <a:moveTo>
                  <a:pt x="995" y="1257"/>
                </a:moveTo>
                <a:lnTo>
                  <a:pt x="0" y="1257"/>
                </a:lnTo>
                <a:lnTo>
                  <a:pt x="0" y="0"/>
                </a:lnTo>
                <a:lnTo>
                  <a:pt x="650" y="5"/>
                </a:lnTo>
              </a:path>
            </a:pathLst>
          </a:custGeom>
          <a:noFill/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48600" y="2535120"/>
            <a:ext cx="1297080" cy="2293920"/>
          </a:xfrm>
          <a:custGeom>
            <a:avLst/>
            <a:gdLst/>
            <a:ahLst/>
            <a:rect l="l" t="t" r="r" b="b"/>
            <a:pathLst>
              <a:path w="817" h="1445">
                <a:moveTo>
                  <a:pt x="0" y="1440"/>
                </a:moveTo>
                <a:lnTo>
                  <a:pt x="812" y="1445"/>
                </a:lnTo>
                <a:lnTo>
                  <a:pt x="817" y="0"/>
                </a:lnTo>
                <a:lnTo>
                  <a:pt x="293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927E-98B6-4648-95C0-F2318B1D2BB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980EC-1D61-4FC5-8A3B-12240BB60A69}" type="datetime3">
              <a:rPr lang="en-US"/>
              <a:t>July 30, 20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Spurious Path Counterexample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5410080"/>
            <a:ext cx="3276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808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pur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657600"/>
            <a:ext cx="42696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80960" y="3657600"/>
            <a:ext cx="42732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06520" y="3657600"/>
            <a:ext cx="42732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30640" y="3657600"/>
            <a:ext cx="42696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0120" y="3745080"/>
            <a:ext cx="141120" cy="177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0120" y="4102200"/>
            <a:ext cx="141120" cy="177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0120" y="4457880"/>
            <a:ext cx="141120" cy="177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745080"/>
            <a:ext cx="142920" cy="177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48000" y="4457880"/>
            <a:ext cx="142920" cy="177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4457880"/>
            <a:ext cx="142920" cy="177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23880" y="4102200"/>
            <a:ext cx="142920" cy="177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48000" y="4102200"/>
            <a:ext cx="142920" cy="177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48000" y="3745080"/>
            <a:ext cx="142920" cy="177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73560" y="4102200"/>
            <a:ext cx="141120" cy="1778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73560" y="3745080"/>
            <a:ext cx="141120" cy="177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73560" y="4457880"/>
            <a:ext cx="141120" cy="177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1240" y="3835440"/>
            <a:ext cx="782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1240" y="4546440"/>
            <a:ext cx="782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41240" y="3835440"/>
            <a:ext cx="782640" cy="35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66800" y="3835440"/>
            <a:ext cx="781200" cy="62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66800" y="4189320"/>
            <a:ext cx="781200" cy="35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90920" y="3835440"/>
            <a:ext cx="782640" cy="62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0120" y="2855880"/>
            <a:ext cx="141120" cy="177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23880" y="2855880"/>
            <a:ext cx="142920" cy="177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48000" y="2855880"/>
            <a:ext cx="142920" cy="177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73560" y="2855880"/>
            <a:ext cx="141120" cy="177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41240" y="2944800"/>
            <a:ext cx="78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66800" y="2944800"/>
            <a:ext cx="781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90920" y="2944800"/>
            <a:ext cx="78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56840" y="3033720"/>
            <a:ext cx="142920" cy="6238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380600" y="3033720"/>
            <a:ext cx="142920" cy="6238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306160" y="3033720"/>
            <a:ext cx="141480" cy="6238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230280" y="3033720"/>
            <a:ext cx="142920" cy="6238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1240" y="3033720"/>
            <a:ext cx="142920" cy="6238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66800" y="3033720"/>
            <a:ext cx="141480" cy="6238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90920" y="3033720"/>
            <a:ext cx="142920" cy="6238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14680" y="3033720"/>
            <a:ext cx="142920" cy="6238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994400" y="2438280"/>
            <a:ext cx="1344960" cy="2274480"/>
            <a:chOff x="1994400" y="2438280"/>
            <a:chExt cx="1344960" cy="2274480"/>
          </a:xfrm>
        </p:grpSpPr>
        <p:sp>
          <p:nvSpPr>
            <p:cNvPr id="275" name=""/>
            <p:cNvSpPr/>
            <p:nvPr/>
          </p:nvSpPr>
          <p:spPr>
            <a:xfrm>
              <a:off x="1994400" y="243828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failure 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13720" y="3646080"/>
              <a:ext cx="426240" cy="10666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4191120" y="2438280"/>
            <a:ext cx="47242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crete states mapped to the failure state are partitioned in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508720" y="4648320"/>
          <a:ext cx="2949480" cy="114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4648320"/>
                    <a:ext cx="2949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4343400" y="4648320"/>
          <a:ext cx="1165320" cy="1143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4648320"/>
                    <a:ext cx="1165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2286000" y="403848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434340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B59F-98DF-4FB9-BC69-9A5630270D9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3FB75-DD28-4547-A4C3-881A8D4E7DB0}" type="datetime3">
              <a:rPr lang="en-US"/>
              <a:t>July 30, 20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hecking the Validity of Counterexampl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abstract counterexample using proposition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 the formula to SAT che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of SAT problem is linear in the circui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spurious trace, dead end stat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,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ob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dad states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be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098960" y="4888080"/>
                <a:ext cx="409104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∃</m:t>
                        </m:r>
                        <m:r>
                          <m:t xml:space="preserve">s</m:t>
                        </m:r>
                        <m:r>
                          <m:t xml:space="preserve">'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∃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3CF5-A7AC-4CFE-9C99-78AD430BA6F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175F3-A61D-4447-B7E1-77DFF6FF9DCE}" type="datetime3">
              <a:rPr lang="en-US"/>
              <a:t>July 30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ccomplishments!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20920" y="2751120"/>
            <a:ext cx="649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Yuan L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w at BroadComm Inc.) and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Marius Mine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w PostDoc at Berkeley) graduated in the year 2000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2CEB-2DF8-4DE5-B6A0-F21EB0EB38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4E682-5AB3-4C69-A3D8-FABA30EA0F80}" type="datetime3">
              <a:rPr lang="en-US"/>
              <a:t>July 30, 20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xample of Approximation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826920" y="2300400"/>
                <a:ext cx="2560680" cy="29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∧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¬</m:t>
                        </m:r>
                        <m:r>
                          <m:t xml:space="preserve">w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¬</m:t>
                        </m:r>
                        <m:r>
                          <m:t xml:space="preserve">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G</m:t>
                        </m:r>
                        <m:r>
                          <m:t xml:space="preserve">(</m:t>
                        </m:r>
                        <m:r>
                          <m:t xml:space="preserve">¬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0,0,1,0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5092560" y="3005280"/>
            <a:ext cx="557280" cy="121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278320" y="3105000"/>
            <a:ext cx="185760" cy="201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78320" y="3916440"/>
            <a:ext cx="185760" cy="201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80200" y="2994120"/>
            <a:ext cx="557280" cy="121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65960" y="3094200"/>
            <a:ext cx="185760" cy="201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65960" y="3905280"/>
            <a:ext cx="185760" cy="201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78640" y="2982960"/>
            <a:ext cx="557280" cy="121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64400" y="3083040"/>
            <a:ext cx="185760" cy="201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64400" y="3894120"/>
            <a:ext cx="185760" cy="201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52920" y="3249720"/>
            <a:ext cx="1028880" cy="71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35440" y="3070080"/>
            <a:ext cx="3657600" cy="244800"/>
          </a:xfrm>
          <a:prstGeom prst="rect">
            <a:avLst/>
          </a:prstGeom>
          <a:noFill/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26080" y="3908520"/>
            <a:ext cx="3657600" cy="244440"/>
          </a:xfrm>
          <a:prstGeom prst="rect">
            <a:avLst/>
          </a:prstGeom>
          <a:noFill/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3965400" y="3046320"/>
                <a:ext cx="6019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4008600" y="3900600"/>
                <a:ext cx="5601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5041800" y="4340160"/>
                <a:ext cx="6606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,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450200" y="4378320"/>
                <a:ext cx="6206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,1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6211800" y="4354560"/>
                <a:ext cx="6606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,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6CF8-B3FE-4C40-82FE-0E59C5AE8E90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86E46-7C32-4991-8AEA-9ED8311C5D6E}" type="datetime3">
              <a:rPr lang="en-US"/>
              <a:t>July 30, 20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14360" y="21240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Modified Refinement Methodology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941640" y="920880"/>
            <a:ext cx="2849040" cy="1248840"/>
            <a:chOff x="3941640" y="920880"/>
            <a:chExt cx="2849040" cy="1248840"/>
          </a:xfrm>
        </p:grpSpPr>
        <p:sp>
          <p:nvSpPr>
            <p:cNvPr id="308" name=""/>
            <p:cNvSpPr/>
            <p:nvPr/>
          </p:nvSpPr>
          <p:spPr>
            <a:xfrm>
              <a:off x="3941640" y="1484280"/>
              <a:ext cx="2286000" cy="68544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del Che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|=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057640" y="117936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130000" y="920880"/>
              <a:ext cx="166068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, M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941640" y="4287960"/>
            <a:ext cx="2286000" cy="1082160"/>
            <a:chOff x="3941640" y="4287960"/>
            <a:chExt cx="2286000" cy="1082160"/>
          </a:xfrm>
        </p:grpSpPr>
        <p:sp>
          <p:nvSpPr>
            <p:cNvPr id="312" name=""/>
            <p:cNvSpPr/>
            <p:nvPr/>
          </p:nvSpPr>
          <p:spPr>
            <a:xfrm>
              <a:off x="3941640" y="4684680"/>
              <a:ext cx="2286000" cy="68544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T for BadSta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84640" y="4303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03800" y="428796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245280" y="1306440"/>
            <a:ext cx="1430280" cy="2997360"/>
            <a:chOff x="6245280" y="1306440"/>
            <a:chExt cx="1430280" cy="2997360"/>
          </a:xfrm>
        </p:grpSpPr>
        <p:sp>
          <p:nvSpPr>
            <p:cNvPr id="316" name=""/>
            <p:cNvSpPr/>
            <p:nvPr/>
          </p:nvSpPr>
          <p:spPr>
            <a:xfrm>
              <a:off x="6989760" y="3618000"/>
              <a:ext cx="685800" cy="68580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45280" y="18097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354800" y="1795320"/>
              <a:ext cx="15840" cy="182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311520" y="1306440"/>
              <a:ext cx="997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|=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941640" y="3236760"/>
            <a:ext cx="3686400" cy="1567440"/>
            <a:chOff x="3941640" y="3236760"/>
            <a:chExt cx="3686400" cy="1567440"/>
          </a:xfrm>
        </p:grpSpPr>
        <p:sp>
          <p:nvSpPr>
            <p:cNvPr id="321" name=""/>
            <p:cNvSpPr/>
            <p:nvPr/>
          </p:nvSpPr>
          <p:spPr>
            <a:xfrm>
              <a:off x="6227640" y="3957480"/>
              <a:ext cx="76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38240" y="4294080"/>
              <a:ext cx="1189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s re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41640" y="3618000"/>
              <a:ext cx="2286000" cy="6858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eck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with S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84640" y="32367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941640" y="2144880"/>
            <a:ext cx="2299320" cy="1091880"/>
            <a:chOff x="3941640" y="2144880"/>
            <a:chExt cx="2299320" cy="1091880"/>
          </a:xfrm>
        </p:grpSpPr>
        <p:grpSp>
          <p:nvGrpSpPr>
            <p:cNvPr id="326" name=""/>
            <p:cNvGrpSpPr/>
            <p:nvPr/>
          </p:nvGrpSpPr>
          <p:grpSpPr>
            <a:xfrm>
              <a:off x="5174640" y="2144880"/>
              <a:ext cx="1066320" cy="510120"/>
              <a:chOff x="5174640" y="2144880"/>
              <a:chExt cx="1066320" cy="510120"/>
            </a:xfrm>
          </p:grpSpPr>
          <p:sp>
            <p:nvSpPr>
              <p:cNvPr id="327" name=""/>
              <p:cNvSpPr/>
              <p:nvPr/>
            </p:nvSpPr>
            <p:spPr>
              <a:xfrm>
                <a:off x="5174640" y="2144880"/>
                <a:ext cx="106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|=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5792760" y="233388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3941640" y="2550960"/>
              <a:ext cx="2286000" cy="6858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ener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unterexampl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84640" y="21700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889280" y="4952520"/>
            <a:ext cx="4654440" cy="1494360"/>
            <a:chOff x="1889280" y="4952520"/>
            <a:chExt cx="4654440" cy="1494360"/>
          </a:xfrm>
        </p:grpSpPr>
        <p:sp>
          <p:nvSpPr>
            <p:cNvPr id="332" name=""/>
            <p:cNvSpPr/>
            <p:nvPr/>
          </p:nvSpPr>
          <p:spPr>
            <a:xfrm flipH="1">
              <a:off x="1933200" y="6060960"/>
              <a:ext cx="1785960" cy="1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718080" y="5761080"/>
              <a:ext cx="2825640" cy="6858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T for Bad &amp; DeadE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75280" y="5380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1889280" y="4952520"/>
              <a:ext cx="15840" cy="112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927080" y="1822320"/>
            <a:ext cx="2003040" cy="1797120"/>
            <a:chOff x="1927080" y="1822320"/>
            <a:chExt cx="2003040" cy="1797120"/>
          </a:xfrm>
        </p:grpSpPr>
        <p:sp>
          <p:nvSpPr>
            <p:cNvPr id="337" name=""/>
            <p:cNvSpPr/>
            <p:nvPr/>
          </p:nvSpPr>
          <p:spPr>
            <a:xfrm flipH="1">
              <a:off x="1949040" y="18288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1927080" y="1822320"/>
              <a:ext cx="16200" cy="179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866880" y="3625920"/>
            <a:ext cx="3036960" cy="1730880"/>
            <a:chOff x="866880" y="3625920"/>
            <a:chExt cx="3036960" cy="1730880"/>
          </a:xfrm>
        </p:grpSpPr>
        <p:sp>
          <p:nvSpPr>
            <p:cNvPr id="340" name=""/>
            <p:cNvSpPr/>
            <p:nvPr/>
          </p:nvSpPr>
          <p:spPr>
            <a:xfrm>
              <a:off x="866880" y="3625920"/>
              <a:ext cx="2133360" cy="6858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fin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1933560" y="431136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153160" y="4653000"/>
              <a:ext cx="1608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dStates 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mp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1922400" y="5018040"/>
              <a:ext cx="198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6F42-081F-4EEB-BFD0-B0CD35070FE1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4C90A-EAA7-461A-B22F-1017C0F098C4}" type="datetime3">
              <a:rPr lang="en-US"/>
              <a:t>July 30, 20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Heuristics for Refinemen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GRASP (Sakellah et. al.)/Chaff(Mallik et.al.) for checking validity of counter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these procedures to identify importa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backtracked to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st transitive fanout in implication graph(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Implication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from conflicting cl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6204-972D-4A4F-A4A3-444B97C095F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54A3C-C59B-4F71-AE11-A9246873969E}" type="datetime3">
              <a:rPr lang="en-US"/>
              <a:t>July 30, 20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54040" y="1797120"/>
            <a:ext cx="2697120" cy="1158840"/>
          </a:xfrm>
          <a:prstGeom prst="flowChartDocument">
            <a:avLst/>
          </a:prstGeom>
          <a:solidFill>
            <a:srgbClr val="66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sible boolean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3400" y="3787920"/>
            <a:ext cx="1974960" cy="112716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 NuS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43360" y="3776760"/>
            <a:ext cx="1974960" cy="112716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583320" y="3770280"/>
            <a:ext cx="1974960" cy="112716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SP/Ch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452600" y="2938320"/>
            <a:ext cx="311040" cy="866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81200" y="4915080"/>
            <a:ext cx="0" cy="898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792520" y="4114800"/>
            <a:ext cx="1060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808000" y="4605480"/>
            <a:ext cx="1012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13280" y="4111560"/>
            <a:ext cx="766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784480" y="4565520"/>
            <a:ext cx="80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76400" y="5437080"/>
            <a:ext cx="1255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693880" y="4767120"/>
            <a:ext cx="119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98920" y="3564000"/>
            <a:ext cx="1255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73680" y="2884320"/>
            <a:ext cx="1697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M, Bad, Dead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057720" y="3527280"/>
            <a:ext cx="261720" cy="538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92880" y="503388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?, Auxiliary 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E0F3-3E85-45F2-988A-3B427AB0F9AB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E0E64-A5AF-4C52-AFCE-08BE0D7A763A}" type="datetime3">
              <a:rPr lang="en-US"/>
              <a:t>July 30, 20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non-path/non-loop counter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 using those counter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ize and evaluate the heuristics for picking up visible variables using GRASP/Ch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12F-0A10-46EB-973D-0FA9CF6B2A1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31E52-C249-4B69-9E47-E308044368FF}" type="datetime3">
              <a:rPr lang="en-US"/>
              <a:t>July 30, 20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Model Checking and Theorem Proving: 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A Unified Framework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gey Berez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mund M. Clar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5: Combining Model Checking with Theorem Proving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pproach to unifying Model Checking and Theorem Proving in a single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 framework to combine new state-of-the-art model checking and theorem proving techniques effici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 tool that supports this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930E-C9F9-444B-AFA9-AD7BAE3E3F9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091F8-6F8E-4FFB-AE3B-09BF0288FE7F}" type="datetime3">
              <a:rPr lang="en-US"/>
              <a:t>July 30, 20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5: Combining Model Checking with Theorem Proving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and directions for the current year (2000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a large hardware example (like PCI b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how the combination of model checking and theorem proving improves both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the development of the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6D05-1AF3-475C-830E-0D8E1388572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9D8C9-965D-4C55-BACC-BAC272F8EC67}" type="datetime3">
              <a:rPr lang="en-US"/>
              <a:t>July 30, 20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5: Combining Model Checking with Theorem Proving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mplishments for the current year (2000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ulated a framework that unifies model checking and theorem proving in a very general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e up with a new methodology for efficient specialization of theorem proving to particular problem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a "prover generator" as a new version of SyMP based on the above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the necessary components of the proof system for combining model checking and theorem proving as an instance of a prover generated by Sy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ed an example of an IBM cache coherence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CDD2-0FCA-41ED-9212-81803BC90D1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63943-54F1-4CED-8C99-9777563A1F36}" type="datetime3">
              <a:rPr lang="en-US"/>
              <a:t>July 30, 20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5: Combining Model Checking with Theorem Proving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and directions for the next year (200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several powerful reduction rules into the default proof-system of SyMP (like various forms of abstraction, compositional reasoning technique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a few more examples using these reduc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one or more other proof systems (either completely different or specialized and more automated versions of the default system) in the tool and demonstrate that it works as a prover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A413-A10F-47F1-B2A2-DF2883E6E47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D2577-9604-4B0C-A97E-5F3028EA76CD}" type="datetime3">
              <a:rPr lang="en-US"/>
              <a:t>July 30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Automatic Abstraction by Counterexample-guided Refinement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2120" y="2514600"/>
            <a:ext cx="7619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mund M. Clar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uan 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kaj Chau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ubhav Gup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Joint work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Orna Grumberg, Somesh Jha, Helmut Ve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5: Combining Model Checking with Theorem Proving</a:t>
            </a:r>
            <a:br>
              <a:rPr sz="36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leston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the tool's core, detailed tool design, preliminary experiments on known hardware examples like Tomasulo's algorithm (30-Sep-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alpha release of the too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31-Dec-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s to the verification methodology and experiments on larger exampl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30-Jun-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s to the theorem prover and the model checking back-end (30-Jun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C662-E850-405A-9E6E-80B035D54EB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7AA55-0F06-41D4-9357-606B758F2C2D}" type="datetime3">
              <a:rPr lang="en-US"/>
              <a:t>July 30, 20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5: Combining Model Checking with Theorem Proving</a:t>
            </a:r>
            <a:br>
              <a:rPr sz="36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eliverabl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 of the tool for combining model checking and theorem proving (Completed: 16-Feb-2000), Related Publication(s):P000258 , P0002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 of tool for combining model checking and theorem proving (Completed: 10-Jan-2001), P0018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toral dissertation on combining model checking and theorem proving for hardware verification (Planned: 30-Aug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on verification methodology for complex hardware using model checking and theorem proving (Planned: 31-Dec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A31F-5D33-4820-B861-8F1583C1174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581B4-C3AF-45FE-92A5-7055A13B03AD}" type="datetime3">
              <a:rPr lang="en-US"/>
              <a:t>July 30, 20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Model Checking and Theorem Proving: 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A Unified Framework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gey Berez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Science De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xample: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BM Cache Coherence Protocol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23880" y="3112920"/>
            <a:ext cx="1524240" cy="619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81280" y="4495680"/>
            <a:ext cx="1981440" cy="801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72080" y="3103560"/>
            <a:ext cx="1523880" cy="619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19920" y="3117960"/>
            <a:ext cx="1523880" cy="618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572000" y="3733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19720" y="3733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724280" y="3733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2361960" y="3733920"/>
            <a:ext cx="1523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90920" y="3733920"/>
            <a:ext cx="1523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33720" y="3733920"/>
            <a:ext cx="14475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219640" y="3733920"/>
            <a:ext cx="15242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028840" y="3733920"/>
            <a:ext cx="1523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562360" y="365760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2895480"/>
            <a:ext cx="5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49960" y="54100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002680" y="2424600"/>
            <a:ext cx="482400" cy="5101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09680" y="28954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98360" y="2424600"/>
            <a:ext cx="482400" cy="5101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81680" y="28954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88680" y="2424600"/>
            <a:ext cx="482400" cy="5101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495680" y="28954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971080" y="579132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lGrant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648320" y="5486400"/>
            <a:ext cx="30456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52880" y="5486400"/>
            <a:ext cx="30492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15000" y="5486400"/>
            <a:ext cx="30492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48320" y="5867280"/>
            <a:ext cx="30456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57800" y="52578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23880" y="3112920"/>
            <a:ext cx="1524240" cy="6192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648320" y="5486400"/>
            <a:ext cx="304560" cy="22860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15000" y="5486400"/>
            <a:ext cx="304920" cy="22860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648320" y="5867280"/>
            <a:ext cx="304560" cy="228600"/>
          </a:xfrm>
          <a:prstGeom prst="rect">
            <a:avLst/>
          </a:prstGeom>
          <a:solidFill>
            <a:srgbClr val="ff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394400" y="380988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0000"/>
                </a:solidFill>
                <a:latin typeface="Arial"/>
              </a:rPr>
              <a:t>reqEx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394040" y="42670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Arial"/>
              </a:rPr>
              <a:t>grantEx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395840" y="472428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invali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94400" y="51814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inv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028840" y="3733920"/>
            <a:ext cx="1523880" cy="76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238720" y="3733920"/>
            <a:ext cx="1523880" cy="76176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238720" y="3733920"/>
            <a:ext cx="1523880" cy="7617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562360" y="3657600"/>
            <a:ext cx="1600200" cy="838080"/>
          </a:xfrm>
          <a:prstGeom prst="line">
            <a:avLst/>
          </a:prstGeom>
          <a:ln w="25560">
            <a:solidFill>
              <a:srgbClr val="7e5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19920" y="3117960"/>
            <a:ext cx="1523880" cy="618840"/>
          </a:xfrm>
          <a:prstGeom prst="ellipse">
            <a:avLst/>
          </a:prstGeom>
          <a:solidFill>
            <a:srgbClr val="ff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36760" y="41148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qSh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82600" y="44956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Arial"/>
              </a:rPr>
              <a:t>grantSh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33720" y="3733920"/>
            <a:ext cx="1447560" cy="76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2361960" y="3733920"/>
            <a:ext cx="1523880" cy="76176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19920" y="3119400"/>
            <a:ext cx="1523880" cy="619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15000" y="5486400"/>
            <a:ext cx="30492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48320" y="5867280"/>
            <a:ext cx="30456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1C30-C86E-431B-BEBE-65C98D684B19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BBA60-3AA0-4A13-8D1D-B79C2B276448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herence Property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994320" y="1550880"/>
            <a:ext cx="6912000" cy="16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ny point in ti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cache is </a:t>
            </a:r>
            <a:r>
              <a:rPr b="0" i="1" lang="en-US" sz="2400" spc="-1" strike="noStrike">
                <a:solidFill>
                  <a:srgbClr val="ff00ff"/>
                </a:solidFill>
                <a:latin typeface="Arial"/>
              </a:rPr>
              <a:t>Exclu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all the other caches are </a:t>
            </a: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Inval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e5400"/>
                </a:solidFill>
                <a:latin typeface="Arial"/>
              </a:rPr>
              <a:t>AG</a:t>
            </a:r>
            <a:r>
              <a:rPr b="0" lang="en-US" sz="2000" spc="-1" strike="noStrike">
                <a:solidFill>
                  <a:srgbClr val="7e54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e54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7e54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7e54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7e5400"/>
                </a:solidFill>
                <a:latin typeface="Arial"/>
              </a:rPr>
              <a:t>,c</a:t>
            </a:r>
            <a:r>
              <a:rPr b="0" i="1" lang="en-US" sz="2000" spc="-1" strike="noStrike" baseline="-25000">
                <a:solidFill>
                  <a:srgbClr val="7e54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7e54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7e54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7e54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7e54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e5400"/>
                </a:solidFill>
                <a:latin typeface="Arial"/>
              </a:rPr>
              <a:t>!= </a:t>
            </a:r>
            <a:r>
              <a:rPr b="0" i="1" lang="en-US" sz="2000" spc="-1" strike="noStrike">
                <a:solidFill>
                  <a:srgbClr val="7e54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7e54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7e5400"/>
                </a:solidFill>
                <a:latin typeface="Arial"/>
              </a:rPr>
              <a:t>&amp; c</a:t>
            </a:r>
            <a:r>
              <a:rPr b="0" i="1" lang="en-US" sz="2000" spc="-1" strike="noStrike" baseline="-25000">
                <a:solidFill>
                  <a:srgbClr val="7e54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7e5400"/>
                </a:solidFill>
                <a:latin typeface="Arial"/>
              </a:rPr>
              <a:t>.state = Exclusive </a:t>
            </a:r>
            <a:r>
              <a:rPr b="0" lang="en-US" sz="2000" spc="-1" strike="noStrike">
                <a:solidFill>
                  <a:srgbClr val="7e54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7e54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7e54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7e54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7e5400"/>
                </a:solidFill>
                <a:latin typeface="Arial"/>
              </a:rPr>
              <a:t>.state = Inva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146320" y="3239640"/>
            <a:ext cx="3886200" cy="2666160"/>
            <a:chOff x="2146320" y="3239640"/>
            <a:chExt cx="3886200" cy="2666160"/>
          </a:xfrm>
        </p:grpSpPr>
        <p:sp>
          <p:nvSpPr>
            <p:cNvPr id="432" name=""/>
            <p:cNvSpPr/>
            <p:nvPr/>
          </p:nvSpPr>
          <p:spPr>
            <a:xfrm>
              <a:off x="2146320" y="3687840"/>
              <a:ext cx="984240" cy="426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75080" y="4640400"/>
              <a:ext cx="1278000" cy="550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me N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97120" y="3681360"/>
              <a:ext cx="984240" cy="425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48280" y="3691080"/>
              <a:ext cx="984240" cy="426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4113360" y="4114800"/>
              <a:ext cx="1440" cy="5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16520" y="4114800"/>
              <a:ext cx="0" cy="5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11640" y="4114800"/>
              <a:ext cx="1440" cy="5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2687760" y="4114800"/>
              <a:ext cx="984240" cy="5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835360" y="4114800"/>
              <a:ext cx="984240" cy="5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40160" y="4114800"/>
              <a:ext cx="934920" cy="5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4532400" y="4114800"/>
              <a:ext cx="984240" cy="5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4408560" y="4114800"/>
              <a:ext cx="984240" cy="5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4753080" y="4062240"/>
              <a:ext cx="1033200" cy="57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633920" y="3692520"/>
              <a:ext cx="3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453840" y="5367240"/>
              <a:ext cx="71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ared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445480" y="3239640"/>
              <a:ext cx="331560" cy="301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589120" y="3538440"/>
              <a:ext cx="1800" cy="157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347440" y="3239640"/>
              <a:ext cx="331560" cy="301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40400" y="3538440"/>
              <a:ext cx="1440" cy="157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920400" y="3239640"/>
              <a:ext cx="331560" cy="301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65480" y="3538440"/>
              <a:ext cx="0" cy="157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82680" y="5629320"/>
              <a:ext cx="106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clGranted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62320" y="5321160"/>
              <a:ext cx="196920" cy="157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359240" y="5321160"/>
              <a:ext cx="196920" cy="157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51360" y="5321160"/>
              <a:ext cx="196920" cy="157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62320" y="5583240"/>
              <a:ext cx="196920" cy="157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42120" y="5310360"/>
              <a:ext cx="30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46320" y="3687840"/>
              <a:ext cx="984240" cy="42696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a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62320" y="5321160"/>
              <a:ext cx="196920" cy="157320"/>
            </a:xfrm>
            <a:prstGeom prst="rect">
              <a:avLst/>
            </a:prstGeom>
            <a:solidFill>
              <a:srgbClr val="99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51360" y="5321160"/>
              <a:ext cx="196920" cy="157320"/>
            </a:xfrm>
            <a:prstGeom prst="rect">
              <a:avLst/>
            </a:prstGeom>
            <a:solidFill>
              <a:srgbClr val="99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62320" y="5583240"/>
              <a:ext cx="196920" cy="157320"/>
            </a:xfrm>
            <a:prstGeom prst="rect">
              <a:avLst/>
            </a:prstGeom>
            <a:solidFill>
              <a:srgbClr val="ff969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4408560" y="4114800"/>
              <a:ext cx="984240" cy="525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4545000" y="4114800"/>
              <a:ext cx="982800" cy="52560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4545000" y="4114800"/>
              <a:ext cx="982800" cy="52560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4753080" y="4062240"/>
              <a:ext cx="1033200" cy="578160"/>
            </a:xfrm>
            <a:prstGeom prst="line">
              <a:avLst/>
            </a:prstGeom>
            <a:ln w="25560">
              <a:solidFill>
                <a:srgbClr val="7e5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48280" y="3691080"/>
              <a:ext cx="984240" cy="426960"/>
            </a:xfrm>
            <a:prstGeom prst="ellipse">
              <a:avLst/>
            </a:prstGeom>
            <a:solidFill>
              <a:srgbClr val="ff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c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40160" y="4114800"/>
              <a:ext cx="934920" cy="525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2687760" y="4114800"/>
              <a:ext cx="984240" cy="52560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48280" y="3692520"/>
              <a:ext cx="984240" cy="425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51360" y="5321160"/>
              <a:ext cx="196920" cy="157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62320" y="5583240"/>
              <a:ext cx="196920" cy="157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7610-A4D7-4686-A66C-8B03350A73F1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E39DC-7E09-4B53-9C4E-74A62C9445BC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ding the Model in </a:t>
            </a:r>
            <a:r>
              <a:rPr b="0" i="1" lang="en-US" sz="4400" spc="-1" strike="noStrike">
                <a:solidFill>
                  <a:srgbClr val="0000ff"/>
                </a:solidFill>
                <a:latin typeface="Arial"/>
              </a:rPr>
              <a:t>SyMP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19320" y="838080"/>
            <a:ext cx="6967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odule</a:t>
            </a: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[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ex]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ta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 = Invalid | Shared | Ex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ateV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ache: Index -&gt; State), (channel: Index -&gt; Message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clGranted: bool), (Shared: Index -&gt; boo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ache) :=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n</a:t>
            </a: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 =&gt; Inval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clGranted) := 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ho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7e5400"/>
                </a:solidFill>
                <a:latin typeface="Arial"/>
              </a:rPr>
              <a:t>channel(i) = Invalidate =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ache) := (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=&gt;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=i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th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valid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che x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nd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7e54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e5400"/>
                </a:solidFill>
                <a:latin typeface="Arial"/>
              </a:rPr>
              <a:t>| !exclGranted &amp; channel(i) = reqExcl 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annel i) := grantEx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clGranted) := 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......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ndcho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eor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herence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l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=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r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,j: i!=j &amp; cache(i) = Excl -&gt; cache(j) = Inval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890720" y="749160"/>
            <a:ext cx="5591880" cy="525600"/>
            <a:chOff x="1890720" y="749160"/>
            <a:chExt cx="5591880" cy="525600"/>
          </a:xfrm>
        </p:grpSpPr>
        <p:sp>
          <p:nvSpPr>
            <p:cNvPr id="476" name=""/>
            <p:cNvSpPr/>
            <p:nvPr/>
          </p:nvSpPr>
          <p:spPr>
            <a:xfrm>
              <a:off x="1890720" y="776160"/>
              <a:ext cx="1995480" cy="498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3844800" y="934560"/>
              <a:ext cx="1017720" cy="135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982400" y="749160"/>
              <a:ext cx="25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Module with parame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1204920" y="1703520"/>
            <a:ext cx="7004160" cy="1326960"/>
            <a:chOff x="1204920" y="1703520"/>
            <a:chExt cx="7004160" cy="1326960"/>
          </a:xfrm>
        </p:grpSpPr>
        <p:sp>
          <p:nvSpPr>
            <p:cNvPr id="480" name=""/>
            <p:cNvSpPr/>
            <p:nvPr/>
          </p:nvSpPr>
          <p:spPr>
            <a:xfrm>
              <a:off x="1204920" y="1703520"/>
              <a:ext cx="7004160" cy="873000"/>
            </a:xfrm>
            <a:prstGeom prst="ellipse">
              <a:avLst/>
            </a:prstGeom>
            <a:noFill/>
            <a:ln w="2556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873680" y="2567160"/>
              <a:ext cx="372960" cy="279360"/>
            </a:xfrm>
            <a:prstGeom prst="line">
              <a:avLst/>
            </a:prstGeom>
            <a:ln w="2556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03520" y="26622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66"/>
                  </a:solidFill>
                  <a:latin typeface="Arial"/>
                </a:rPr>
                <a:t>State variab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09760" y="2244600"/>
            <a:ext cx="7574400" cy="2887920"/>
            <a:chOff x="509760" y="2244600"/>
            <a:chExt cx="7574400" cy="2887920"/>
          </a:xfrm>
        </p:grpSpPr>
        <p:sp>
          <p:nvSpPr>
            <p:cNvPr id="484" name=""/>
            <p:cNvSpPr/>
            <p:nvPr/>
          </p:nvSpPr>
          <p:spPr>
            <a:xfrm>
              <a:off x="509760" y="2244600"/>
              <a:ext cx="4633920" cy="28879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821120" y="4425840"/>
              <a:ext cx="1163880" cy="416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114240" y="4687920"/>
              <a:ext cx="196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ransition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736560" y="4200480"/>
            <a:ext cx="8025840" cy="2158920"/>
            <a:chOff x="736560" y="4200480"/>
            <a:chExt cx="8025840" cy="2158920"/>
          </a:xfrm>
        </p:grpSpPr>
        <p:sp>
          <p:nvSpPr>
            <p:cNvPr id="488" name=""/>
            <p:cNvSpPr/>
            <p:nvPr/>
          </p:nvSpPr>
          <p:spPr>
            <a:xfrm>
              <a:off x="736560" y="5060880"/>
              <a:ext cx="7066080" cy="12985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7034040" y="4530600"/>
              <a:ext cx="571680" cy="789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19120" y="420048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Proper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CD66-5C20-40B1-BF88-05A6CFCDEE4C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CF751-9597-483B-9430-CD22F032C087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ormal Verification Option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228600" y="1828800"/>
          <a:ext cx="8686800" cy="3913200"/>
        </p:xfrm>
        <a:graphic>
          <a:graphicData uri="http://schemas.openxmlformats.org/drawingml/2006/table">
            <a:tbl>
              <a:tblPr/>
              <a:tblGrid>
                <a:gridCol w="3962520"/>
                <a:gridCol w="4724280"/>
              </a:tblGrid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Chec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orem Pro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|=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is true in 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=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must be valid in gener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9966"/>
                        </a:buClr>
                        <a:buFont typeface="Times New Roman"/>
                        <a:buChar char="+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and property are cleanly separated: 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 M 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|=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66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has to be encoded as a formula:       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|= Enc(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) 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 Enc(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9966"/>
                        </a:buClr>
                        <a:buFont typeface="Times New Roman"/>
                        <a:buChar char="+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reduction techniq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9966"/>
                        </a:buClr>
                        <a:buFont typeface="Times New Roman"/>
                        <a:buChar char="+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analyze extremely complex behavi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66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structure lost, hard to apply similar reduc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3" name=""/>
          <p:cNvSpPr/>
          <p:nvPr/>
        </p:nvSpPr>
        <p:spPr>
          <a:xfrm>
            <a:off x="457200" y="4910040"/>
            <a:ext cx="77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have strong and weak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53960" y="5415120"/>
            <a:ext cx="59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ff"/>
                </a:solidFill>
                <a:latin typeface="Arial"/>
              </a:rPr>
              <a:t>Can we combine best features of the tw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4EAA-F218-4B28-BD82-7E266B9D3F10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0C6D6-A121-4ABD-9F07-3171FCE26AA4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mbining MC &amp; TP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Add expressive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fficient decision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ancel out drawbac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both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haps,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find something n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middle ground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C1AB-DCCF-4199-8205-7596AC539536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BFDD7E-7639-4510-8F3F-6B53BD28BB34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Modifying Gentzen’s Sequen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97800" y="2055960"/>
            <a:ext cx="69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em proving uses </a:t>
            </a: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Gentzen’s Sequ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312360" y="2741760"/>
            <a:ext cx="329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, A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,…</a:t>
            </a: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  =&gt;  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, B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19320" y="32767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del from model checking has to be translated into HOL to fit into this seq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e can </a:t>
            </a: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add the model to the sequ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023280" y="4570560"/>
            <a:ext cx="371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;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 A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, A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,…</a:t>
            </a: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  =&gt;  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, B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80520" y="5221440"/>
            <a:ext cx="61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, make the logic temporal, not just H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91CE-F6F5-4DAB-AB9A-D074A05D7332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5CD9C-CC4D-4862-BA17-DEC1F95B1FEC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dding Model Checking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1200" y="1905120"/>
            <a:ext cx="59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ing becomes just another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828800" y="2590920"/>
          <a:ext cx="5638680" cy="852480"/>
        </p:xfrm>
        <a:graphic>
          <a:graphicData uri="http://schemas.openxmlformats.org/drawingml/2006/table">
            <a:tbl>
              <a:tblPr/>
              <a:tblGrid>
                <a:gridCol w="4952880"/>
                <a:gridCol w="685800"/>
              </a:tblGrid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ModelCheck(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M,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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) = 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M;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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 =&gt;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06" name=""/>
          <p:cNvSpPr/>
          <p:nvPr/>
        </p:nvSpPr>
        <p:spPr>
          <a:xfrm>
            <a:off x="762120" y="3733920"/>
            <a:ext cx="748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transformations from model checking are added as rules, e.g. </a:t>
            </a: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Cone of Influ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d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295280" y="4724280"/>
          <a:ext cx="6172200" cy="790560"/>
        </p:xfrm>
        <a:graphic>
          <a:graphicData uri="http://schemas.openxmlformats.org/drawingml/2006/table">
            <a:tbl>
              <a:tblPr/>
              <a:tblGrid>
                <a:gridCol w="5257800"/>
                <a:gridCol w="9144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V = COI(M,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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)    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M|</a:t>
                      </a:r>
                      <a:r>
                        <a:rPr b="0" i="1" lang="en-US" sz="2000" spc="-1" strike="noStrike" baseline="-25000">
                          <a:solidFill>
                            <a:srgbClr val="7e5400"/>
                          </a:solidFill>
                          <a:latin typeface="Arial"/>
                        </a:rPr>
                        <a:t>V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;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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 =&gt;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M;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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 =&gt;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ACC0-F0B6-44CF-A16D-E7ABF387383A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7375A-20BF-48DC-BAE9-4DA69DA5491B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4: Abstraction in Model Checking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773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example-guided Abstraction Refi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ide a new abstraction technique to verify large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A26C-C75F-4ED6-9123-3219DE0D8090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C9DA-72D6-4B23-BD13-1BDF29946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04A3-F852-4654-8515-9F775FB0BD0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5D74D-6A79-4232-8CE5-098135802341}" type="datetime3">
              <a:rPr lang="en-US"/>
              <a:t>July 30, 20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ther Types of Rule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762120" y="3086280"/>
          <a:ext cx="7543800" cy="833400"/>
        </p:xfrm>
        <a:graphic>
          <a:graphicData uri="http://schemas.openxmlformats.org/drawingml/2006/table">
            <a:tbl>
              <a:tblPr/>
              <a:tblGrid>
                <a:gridCol w="6095880"/>
                <a:gridCol w="144792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M;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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 =&gt;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, A      M’; A =&gt; </a:t>
                      </a:r>
                      <a:r>
                        <a:rPr b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AX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 A, </a:t>
                      </a:r>
                      <a:r>
                        <a:rPr b="0" i="1" lang="en-US" sz="16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where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 M’=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S, 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, S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M;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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 =&gt;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AG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0" name=""/>
          <p:cNvSpPr/>
          <p:nvPr/>
        </p:nvSpPr>
        <p:spPr>
          <a:xfrm>
            <a:off x="535320" y="214956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 on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996F-1D5E-45EF-A514-B64096928543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31AD4-F119-42C6-89F5-95516553E51F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Verifying Cache Coherenc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perty in First-Order CT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7e5400"/>
                </a:solidFill>
                <a:latin typeface="Arial"/>
              </a:rPr>
              <a:t>AG</a:t>
            </a: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7e54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,c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:     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!= 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2  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&amp; 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.state = Excl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                                            </a:t>
            </a:r>
            <a:r>
              <a:rPr b="0" lang="en-US" sz="2400" spc="-1" strike="noStrike">
                <a:solidFill>
                  <a:srgbClr val="7e54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.state = Inval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pro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a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ductive in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duction on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G Ind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kolemize, split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choos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tatement, abstract-split (eliminate skolem constants), compute cone of influence, model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ed in our too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3B3E-5FF5-4381-99A1-E861141CC8B9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C8757-4843-4F01-9699-0DAE36E37D28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74640" y="46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ew Methodology: Feature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44400" y="1544400"/>
            <a:ext cx="777240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quate representation for the problem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level of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perform exactly the transformations we have in mind while doing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ed rules for tempor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use of model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checking and theorem proving at the same prom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ve proof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user control with possibility of auto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231D-A676-499B-86E7-ECB9CE9EC0ED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D4CB9-1CCF-4AF8-A913-70B48FC27656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garfield-saw" descr=""/>
          <p:cNvPicPr/>
          <p:nvPr/>
        </p:nvPicPr>
        <p:blipFill>
          <a:blip r:embed="rId1"/>
          <a:stretch/>
        </p:blipFill>
        <p:spPr>
          <a:xfrm>
            <a:off x="5200560" y="4502160"/>
            <a:ext cx="1170000" cy="127332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92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verall Pictur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08080" y="1402560"/>
            <a:ext cx="1506600" cy="1164600"/>
            <a:chOff x="1108080" y="1402560"/>
            <a:chExt cx="1506600" cy="1164600"/>
          </a:xfrm>
        </p:grpSpPr>
        <p:sp>
          <p:nvSpPr>
            <p:cNvPr id="518" name=""/>
            <p:cNvSpPr/>
            <p:nvPr/>
          </p:nvSpPr>
          <p:spPr>
            <a:xfrm>
              <a:off x="1108080" y="1593000"/>
              <a:ext cx="381240" cy="1634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r>
                <a:rPr b="0" lang="en-US" sz="3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22880" y="1958040"/>
              <a:ext cx="495720" cy="211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Home Nod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70760" y="1590480"/>
              <a:ext cx="381240" cy="1634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r>
                <a:rPr b="0" lang="en-US" sz="3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233440" y="1594080"/>
              <a:ext cx="381240" cy="1634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r>
                <a:rPr b="0" lang="en-US" sz="3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1870920" y="1756800"/>
              <a:ext cx="360" cy="20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832760" y="1756800"/>
              <a:ext cx="360" cy="20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909080" y="1756800"/>
              <a:ext cx="360" cy="20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 flipV="1">
              <a:off x="1317240" y="1756800"/>
              <a:ext cx="381240" cy="20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374840" y="1756800"/>
              <a:ext cx="381240" cy="20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260720" y="1756800"/>
              <a:ext cx="362160" cy="20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2032920" y="1756800"/>
              <a:ext cx="381240" cy="20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1985040" y="1756800"/>
              <a:ext cx="381240" cy="20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2118960" y="1736640"/>
              <a:ext cx="400320" cy="22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44800" y="1535040"/>
              <a:ext cx="2109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14960" y="2327400"/>
              <a:ext cx="3150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Shared: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77200" y="1404000"/>
              <a:ext cx="218880" cy="1458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3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79440" y="1535400"/>
              <a:ext cx="360" cy="6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01120" y="1404000"/>
              <a:ext cx="218880" cy="1458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3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423880" y="1535400"/>
              <a:ext cx="360" cy="6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48520" y="1402560"/>
              <a:ext cx="218880" cy="1458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3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51840" y="1535400"/>
              <a:ext cx="360" cy="6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476360" y="2427480"/>
              <a:ext cx="4032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ExclGranted: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90000" y="2219760"/>
              <a:ext cx="75960" cy="601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966320" y="2219760"/>
              <a:ext cx="76320" cy="601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57120" y="2219760"/>
              <a:ext cx="76320" cy="601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890000" y="2320560"/>
              <a:ext cx="75960" cy="601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89720" y="2306520"/>
              <a:ext cx="2127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08080" y="1593000"/>
              <a:ext cx="381240" cy="16344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Shared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90000" y="2219760"/>
              <a:ext cx="75960" cy="60120"/>
            </a:xfrm>
            <a:prstGeom prst="rect">
              <a:avLst/>
            </a:prstGeom>
            <a:solidFill>
              <a:srgbClr val="99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57120" y="2219760"/>
              <a:ext cx="76320" cy="60120"/>
            </a:xfrm>
            <a:prstGeom prst="rect">
              <a:avLst/>
            </a:prstGeom>
            <a:solidFill>
              <a:srgbClr val="99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90000" y="2320560"/>
              <a:ext cx="75960" cy="60120"/>
            </a:xfrm>
            <a:prstGeom prst="rect">
              <a:avLst/>
            </a:prstGeom>
            <a:solidFill>
              <a:srgbClr val="ff969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1985040" y="1756800"/>
              <a:ext cx="381240" cy="20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2037600" y="1756800"/>
              <a:ext cx="381240" cy="20088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2037600" y="1756800"/>
              <a:ext cx="381240" cy="20088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2118960" y="1736640"/>
              <a:ext cx="400320" cy="221040"/>
            </a:xfrm>
            <a:prstGeom prst="line">
              <a:avLst/>
            </a:prstGeom>
            <a:ln w="25560">
              <a:solidFill>
                <a:srgbClr val="7e5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233440" y="1594080"/>
              <a:ext cx="381240" cy="163440"/>
            </a:xfrm>
            <a:prstGeom prst="ellipse">
              <a:avLst/>
            </a:prstGeom>
            <a:solidFill>
              <a:srgbClr val="ff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Exc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260720" y="1756800"/>
              <a:ext cx="362160" cy="20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 flipV="1">
              <a:off x="1317240" y="1756800"/>
              <a:ext cx="381240" cy="20088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33440" y="1594440"/>
              <a:ext cx="381240" cy="1634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r>
                <a:rPr b="0" lang="en-US" sz="3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57120" y="2219760"/>
              <a:ext cx="76320" cy="601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890000" y="2320560"/>
              <a:ext cx="75960" cy="601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509760" y="1017720"/>
            <a:ext cx="2835000" cy="1569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64840" y="1006560"/>
            <a:ext cx="27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tion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801960" y="1660680"/>
            <a:ext cx="3470400" cy="1217520"/>
            <a:chOff x="3801960" y="1660680"/>
            <a:chExt cx="3470400" cy="1217520"/>
          </a:xfrm>
        </p:grpSpPr>
        <p:sp>
          <p:nvSpPr>
            <p:cNvPr id="562" name=""/>
            <p:cNvSpPr/>
            <p:nvPr/>
          </p:nvSpPr>
          <p:spPr>
            <a:xfrm>
              <a:off x="3914640" y="2476800"/>
              <a:ext cx="1620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8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8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8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</a:t>
              </a:r>
              <a:r>
                <a:rPr b="0" lang="en-US" sz="800" spc="-1" strike="noStrike">
                  <a:solidFill>
                    <a:srgbClr val="7e5400"/>
                  </a:solidFill>
                  <a:latin typeface="Arial"/>
                </a:rPr>
                <a:t>, </a:t>
              </a:r>
              <a:r>
                <a:rPr b="0" i="1" lang="en-US" sz="8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800" spc="-1" strike="noStrike" baseline="-25000">
                  <a:solidFill>
                    <a:srgbClr val="7e5400"/>
                  </a:solidFill>
                  <a:latin typeface="Arial"/>
                </a:rPr>
                <a:t>1</a:t>
              </a:r>
              <a:r>
                <a:rPr b="0" lang="en-US" sz="8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lang="en-US" sz="8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</a:t>
              </a:r>
              <a:r>
                <a:rPr b="0" lang="en-US" sz="8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8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800" spc="-1" strike="noStrike" baseline="-25000">
                  <a:solidFill>
                    <a:srgbClr val="7e54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535360" y="2227320"/>
              <a:ext cx="30024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914640" y="2227320"/>
              <a:ext cx="1620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8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8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8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</a:t>
              </a:r>
              <a:r>
                <a:rPr b="0" lang="en-US" sz="800" spc="-1" strike="noStrike">
                  <a:solidFill>
                    <a:srgbClr val="7e5400"/>
                  </a:solidFill>
                  <a:latin typeface="Arial"/>
                </a:rPr>
                <a:t>, </a:t>
              </a:r>
              <a:r>
                <a:rPr b="0" i="1" lang="en-US" sz="8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800" spc="-1" strike="noStrike" baseline="-25000">
                  <a:solidFill>
                    <a:srgbClr val="7e5400"/>
                  </a:solidFill>
                  <a:latin typeface="Arial"/>
                </a:rPr>
                <a:t>1</a:t>
              </a:r>
              <a:r>
                <a:rPr b="0" lang="en-US" sz="800" spc="-1" strike="noStrike">
                  <a:solidFill>
                    <a:srgbClr val="7e5400"/>
                  </a:solidFill>
                  <a:latin typeface="Times New Roman"/>
                </a:rPr>
                <a:t>                 </a:t>
              </a:r>
              <a:r>
                <a:rPr b="0" lang="en-US" sz="8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8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8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8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</a:t>
              </a:r>
              <a:r>
                <a:rPr b="0" lang="en-US" sz="800" spc="-1" strike="noStrike">
                  <a:solidFill>
                    <a:srgbClr val="7e5400"/>
                  </a:solidFill>
                  <a:latin typeface="Arial"/>
                </a:rPr>
                <a:t>,</a:t>
              </a:r>
              <a:r>
                <a:rPr b="0" lang="en-US" sz="8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8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800" spc="-1" strike="noStrike" baseline="-25000">
                  <a:solidFill>
                    <a:srgbClr val="7e54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914640" y="2227320"/>
              <a:ext cx="1620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914640" y="2476800"/>
              <a:ext cx="162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14640" y="2689560"/>
              <a:ext cx="1620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914640" y="2227320"/>
              <a:ext cx="0" cy="249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35600" y="2227320"/>
              <a:ext cx="0" cy="462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35360" y="2227320"/>
              <a:ext cx="300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914640" y="2476800"/>
              <a:ext cx="0" cy="212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35360" y="2689560"/>
              <a:ext cx="300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979960" y="2444760"/>
              <a:ext cx="74124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800" spc="-1" strike="noStrike">
                  <a:solidFill>
                    <a:srgbClr val="7e54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7e5400"/>
                  </a:solidFill>
                  <a:latin typeface="Arial"/>
                </a:rPr>
                <a:t>=&gt; </a:t>
              </a:r>
              <a:r>
                <a:rPr b="0" lang="en-US" sz="8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</a:t>
              </a:r>
              <a:r>
                <a:rPr b="0" lang="en-US" sz="800" spc="-1" strike="noStrike">
                  <a:solidFill>
                    <a:srgbClr val="7e5400"/>
                  </a:solidFill>
                  <a:latin typeface="Arial"/>
                </a:rPr>
                <a:t>tru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721200" y="2232360"/>
              <a:ext cx="527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xi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79960" y="2232360"/>
              <a:ext cx="74124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79960" y="2232360"/>
              <a:ext cx="741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79960" y="2444760"/>
              <a:ext cx="74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79960" y="2732400"/>
              <a:ext cx="741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79960" y="2232360"/>
              <a:ext cx="0" cy="212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248240" y="2232360"/>
              <a:ext cx="0" cy="500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721200" y="2232360"/>
              <a:ext cx="5270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979960" y="2444760"/>
              <a:ext cx="0" cy="287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721200" y="2732400"/>
              <a:ext cx="5270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976920" y="1660680"/>
              <a:ext cx="301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ecialized proof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1960" y="1673280"/>
              <a:ext cx="3470400" cy="12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1486080" y="3449520"/>
            <a:ext cx="2638080" cy="1766880"/>
            <a:chOff x="1486080" y="3449520"/>
            <a:chExt cx="2638080" cy="1766880"/>
          </a:xfrm>
        </p:grpSpPr>
        <p:sp>
          <p:nvSpPr>
            <p:cNvPr id="587" name=""/>
            <p:cNvSpPr/>
            <p:nvPr/>
          </p:nvSpPr>
          <p:spPr>
            <a:xfrm>
              <a:off x="2144880" y="4897440"/>
              <a:ext cx="1145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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x. x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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x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&gt;0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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x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+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x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=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39920" y="4900680"/>
              <a:ext cx="957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197800" y="4722840"/>
              <a:ext cx="1034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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&gt;0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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+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=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317680" y="4737240"/>
              <a:ext cx="80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236680" y="4540320"/>
              <a:ext cx="939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&gt;0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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+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=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087640" y="4518000"/>
              <a:ext cx="13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998720" y="4321080"/>
              <a:ext cx="631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&gt;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834280" y="4343400"/>
              <a:ext cx="726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+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=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087640" y="432576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928960" y="4325760"/>
              <a:ext cx="53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186000" y="4822920"/>
              <a:ext cx="27828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7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124800" y="4640400"/>
              <a:ext cx="28728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7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504240" y="4413240"/>
              <a:ext cx="24444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0" lang="en-US" sz="7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437280" y="4191120"/>
              <a:ext cx="46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Repla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514240" y="4016520"/>
              <a:ext cx="426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xio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047680" y="4154400"/>
              <a:ext cx="631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&gt;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087640" y="413532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511720" y="4219560"/>
              <a:ext cx="46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Repla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873520" y="4154400"/>
              <a:ext cx="726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+2=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928960" y="4135320"/>
              <a:ext cx="53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449160" y="4022640"/>
              <a:ext cx="426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xio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54200" y="3571920"/>
              <a:ext cx="234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of 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486080" y="3449520"/>
              <a:ext cx="2638080" cy="176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4890600" y="424656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62520" y="4270320"/>
            <a:ext cx="1785960" cy="157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335400" y="1922400"/>
            <a:ext cx="468360" cy="260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3564000" y="2878200"/>
            <a:ext cx="644400" cy="582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125960" y="4560840"/>
            <a:ext cx="72720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01D6-519C-4391-A833-9E7D6D34FABD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0C1A8-C430-4103-97AF-38626BCB6D01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eneralizing Further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ade it possible to integrate Model Checking and Theorem Prov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ized sequent and proof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quate representation for the problem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bout other problem domains?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urity protocols, Software verification, highly specialized hardware, et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me guidelines should work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(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 I have to code it all from scratch ag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certainly some common core that can be re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75A3-C237-49A9-86CB-97108296D5D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7C278-0C09-4B1B-BBB2-AF74E688EB73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92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rchitecture with Shared Cor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6094800" y="903240"/>
            <a:ext cx="2969640" cy="1581120"/>
            <a:chOff x="6094800" y="903240"/>
            <a:chExt cx="2969640" cy="1581120"/>
          </a:xfrm>
        </p:grpSpPr>
        <p:grpSp>
          <p:nvGrpSpPr>
            <p:cNvPr id="619" name=""/>
            <p:cNvGrpSpPr/>
            <p:nvPr/>
          </p:nvGrpSpPr>
          <p:grpSpPr>
            <a:xfrm>
              <a:off x="6750000" y="1299240"/>
              <a:ext cx="1506600" cy="1164600"/>
              <a:chOff x="6750000" y="1299240"/>
              <a:chExt cx="1506600" cy="1164600"/>
            </a:xfrm>
          </p:grpSpPr>
          <p:sp>
            <p:nvSpPr>
              <p:cNvPr id="620" name=""/>
              <p:cNvSpPr/>
              <p:nvPr/>
            </p:nvSpPr>
            <p:spPr>
              <a:xfrm>
                <a:off x="6750000" y="1489680"/>
                <a:ext cx="381240" cy="163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Cache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264800" y="1854720"/>
                <a:ext cx="495720" cy="211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Home Nod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312680" y="1487160"/>
                <a:ext cx="381240" cy="163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Cache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875360" y="1490760"/>
                <a:ext cx="381240" cy="163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Cache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7512840" y="1653480"/>
                <a:ext cx="36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474680" y="1653480"/>
                <a:ext cx="36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551000" y="1653480"/>
                <a:ext cx="36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 flipV="1">
                <a:off x="6959160" y="1653480"/>
                <a:ext cx="38124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016760" y="1653480"/>
                <a:ext cx="38124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902640" y="1653480"/>
                <a:ext cx="36216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7674840" y="1653480"/>
                <a:ext cx="38124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7626960" y="1653480"/>
                <a:ext cx="38124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7760880" y="1633320"/>
                <a:ext cx="400320" cy="22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686720" y="1431720"/>
                <a:ext cx="2109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256880" y="2224080"/>
                <a:ext cx="3150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hared: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819120" y="1300680"/>
                <a:ext cx="218880" cy="14580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921360" y="1432080"/>
                <a:ext cx="360" cy="60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943040" y="1300680"/>
                <a:ext cx="218880" cy="14580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065800" y="1432080"/>
                <a:ext cx="360" cy="60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390440" y="1299240"/>
                <a:ext cx="218880" cy="14580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493760" y="1432080"/>
                <a:ext cx="360" cy="60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18280" y="2324160"/>
                <a:ext cx="4032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ExclGranted: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531920" y="2116440"/>
                <a:ext cx="7596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608240" y="2116440"/>
                <a:ext cx="7632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799040" y="2116440"/>
                <a:ext cx="7632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531920" y="2217240"/>
                <a:ext cx="7596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631640" y="2203200"/>
                <a:ext cx="2127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750000" y="1489680"/>
                <a:ext cx="381240" cy="163440"/>
              </a:xfrm>
              <a:prstGeom prst="ellipse">
                <a:avLst/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hare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531920" y="2116440"/>
                <a:ext cx="75960" cy="60120"/>
              </a:xfrm>
              <a:prstGeom prst="rect">
                <a:avLst/>
              </a:prstGeom>
              <a:solidFill>
                <a:srgbClr val="99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799040" y="2116440"/>
                <a:ext cx="76320" cy="60120"/>
              </a:xfrm>
              <a:prstGeom prst="rect">
                <a:avLst/>
              </a:prstGeom>
              <a:solidFill>
                <a:srgbClr val="99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531920" y="2217240"/>
                <a:ext cx="75960" cy="60120"/>
              </a:xfrm>
              <a:prstGeom prst="rect">
                <a:avLst/>
              </a:prstGeom>
              <a:solidFill>
                <a:srgbClr val="ff969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7626960" y="1653480"/>
                <a:ext cx="381240" cy="20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7679520" y="1653480"/>
                <a:ext cx="381240" cy="20088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7679520" y="1653480"/>
                <a:ext cx="381240" cy="200880"/>
              </a:xfrm>
              <a:prstGeom prst="line">
                <a:avLst/>
              </a:prstGeom>
              <a:ln w="255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>
                <a:off x="7760880" y="1633320"/>
                <a:ext cx="400320" cy="221040"/>
              </a:xfrm>
              <a:prstGeom prst="line">
                <a:avLst/>
              </a:prstGeom>
              <a:ln w="25560">
                <a:solidFill>
                  <a:srgbClr val="7e5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875360" y="1490760"/>
                <a:ext cx="381240" cy="163440"/>
              </a:xfrm>
              <a:prstGeom prst="ellipse">
                <a:avLst/>
              </a:prstGeom>
              <a:solidFill>
                <a:srgbClr val="ff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Exc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902640" y="1653480"/>
                <a:ext cx="362160" cy="20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 flipV="1">
                <a:off x="6959160" y="1653480"/>
                <a:ext cx="381240" cy="20088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875360" y="1491120"/>
                <a:ext cx="381240" cy="163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Cache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799040" y="2116440"/>
                <a:ext cx="7632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531920" y="2217240"/>
                <a:ext cx="7596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>
              <a:off x="6149880" y="914400"/>
              <a:ext cx="2835360" cy="1569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094800" y="903240"/>
              <a:ext cx="296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ecification language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6524640" y="3587760"/>
            <a:ext cx="1168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524640" y="4049640"/>
            <a:ext cx="1168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524640" y="3587760"/>
            <a:ext cx="0" cy="249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910640" y="3587760"/>
            <a:ext cx="0" cy="461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93200" y="3587760"/>
            <a:ext cx="21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524640" y="3836880"/>
            <a:ext cx="0" cy="212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693200" y="4049640"/>
            <a:ext cx="21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013600" y="3592440"/>
            <a:ext cx="534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8013600" y="4092480"/>
            <a:ext cx="534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013600" y="3592440"/>
            <a:ext cx="0" cy="212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928000" y="3592440"/>
            <a:ext cx="0" cy="500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548560" y="3592440"/>
            <a:ext cx="379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013600" y="3805200"/>
            <a:ext cx="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548560" y="4092480"/>
            <a:ext cx="379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6537240" y="3021120"/>
            <a:ext cx="2408400" cy="1217520"/>
            <a:chOff x="6537240" y="3021120"/>
            <a:chExt cx="2408400" cy="1217520"/>
          </a:xfrm>
        </p:grpSpPr>
        <p:sp>
          <p:nvSpPr>
            <p:cNvPr id="678" name=""/>
            <p:cNvSpPr/>
            <p:nvPr/>
          </p:nvSpPr>
          <p:spPr>
            <a:xfrm>
              <a:off x="6615000" y="3836880"/>
              <a:ext cx="11246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,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500" spc="-1" strike="noStrike" baseline="-25000">
                  <a:solidFill>
                    <a:srgbClr val="7e5400"/>
                  </a:solidFill>
                  <a:latin typeface="Arial"/>
                </a:rPr>
                <a:t>1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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500" spc="-1" strike="noStrike" baseline="-25000">
                  <a:solidFill>
                    <a:srgbClr val="7e54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740000" y="3587760"/>
              <a:ext cx="20916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0" lang="en-US" sz="5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615000" y="3587760"/>
              <a:ext cx="11246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,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500" spc="-1" strike="noStrike" baseline="-25000">
                  <a:solidFill>
                    <a:srgbClr val="7e5400"/>
                  </a:solidFill>
                  <a:latin typeface="Arial"/>
                </a:rPr>
                <a:t>1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               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,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500" spc="-1" strike="noStrike" baseline="-25000">
                  <a:solidFill>
                    <a:srgbClr val="7e54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615000" y="3836880"/>
              <a:ext cx="112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48160" y="3805200"/>
              <a:ext cx="5148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 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=&gt;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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tru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563320" y="3592440"/>
              <a:ext cx="365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xio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048160" y="3592440"/>
              <a:ext cx="514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048160" y="3805200"/>
              <a:ext cx="51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657840" y="3021120"/>
              <a:ext cx="200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of system -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537240" y="3033720"/>
              <a:ext cx="2408400" cy="12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3602160" y="4713120"/>
            <a:ext cx="1809000" cy="1603440"/>
            <a:chOff x="3602160" y="4713120"/>
            <a:chExt cx="1809000" cy="1603440"/>
          </a:xfrm>
        </p:grpSpPr>
        <p:pic>
          <p:nvPicPr>
            <p:cNvPr id="689" name="garfield-saw" descr=""/>
            <p:cNvPicPr/>
            <p:nvPr/>
          </p:nvPicPr>
          <p:blipFill>
            <a:blip r:embed="rId1"/>
            <a:stretch/>
          </p:blipFill>
          <p:spPr>
            <a:xfrm>
              <a:off x="3940200" y="4968720"/>
              <a:ext cx="1170000" cy="12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>
              <a:off x="3630240" y="4713120"/>
              <a:ext cx="178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s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602160" y="4736880"/>
              <a:ext cx="1785960" cy="157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7738920" y="2494080"/>
            <a:ext cx="22320" cy="520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5902200" y="3645000"/>
            <a:ext cx="625680" cy="1569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193680" y="969840"/>
            <a:ext cx="3022200" cy="1581120"/>
            <a:chOff x="193680" y="969840"/>
            <a:chExt cx="3022200" cy="1581120"/>
          </a:xfrm>
        </p:grpSpPr>
        <p:grpSp>
          <p:nvGrpSpPr>
            <p:cNvPr id="695" name=""/>
            <p:cNvGrpSpPr/>
            <p:nvPr/>
          </p:nvGrpSpPr>
          <p:grpSpPr>
            <a:xfrm>
              <a:off x="833400" y="1365840"/>
              <a:ext cx="1605960" cy="1164600"/>
              <a:chOff x="833400" y="1365840"/>
              <a:chExt cx="1605960" cy="1164600"/>
            </a:xfrm>
          </p:grpSpPr>
          <p:sp>
            <p:nvSpPr>
              <p:cNvPr id="696" name=""/>
              <p:cNvSpPr/>
              <p:nvPr/>
            </p:nvSpPr>
            <p:spPr>
              <a:xfrm>
                <a:off x="833400" y="1556280"/>
                <a:ext cx="406440" cy="163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Cache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382040" y="1921320"/>
                <a:ext cx="528480" cy="211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Home Nod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433160" y="1553760"/>
                <a:ext cx="406440" cy="163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Cache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032920" y="1557360"/>
                <a:ext cx="406440" cy="163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Cache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1646640" y="1720080"/>
                <a:ext cx="36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605960" y="1720080"/>
                <a:ext cx="36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687320" y="1720080"/>
                <a:ext cx="36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 flipV="1">
                <a:off x="1056600" y="1720080"/>
                <a:ext cx="40644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117800" y="1720080"/>
                <a:ext cx="40644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995760" y="1720080"/>
                <a:ext cx="38592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1819440" y="1720080"/>
                <a:ext cx="40644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1768320" y="1720080"/>
                <a:ext cx="40644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1910880" y="1699920"/>
                <a:ext cx="426960" cy="22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832040" y="1498320"/>
                <a:ext cx="22464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373760" y="2290680"/>
                <a:ext cx="3150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hared: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13320" y="1367280"/>
                <a:ext cx="218880" cy="14580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16280" y="1498680"/>
                <a:ext cx="360" cy="60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112480" y="1367280"/>
                <a:ext cx="218880" cy="14580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235960" y="1498680"/>
                <a:ext cx="360" cy="60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523160" y="1365840"/>
                <a:ext cx="218880" cy="14580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626120" y="1498680"/>
                <a:ext cx="360" cy="60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237320" y="2390760"/>
                <a:ext cx="4032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ExclGranted: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666800" y="2183040"/>
                <a:ext cx="8100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748160" y="2183040"/>
                <a:ext cx="8100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951560" y="2183040"/>
                <a:ext cx="8100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666800" y="2283840"/>
                <a:ext cx="8100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780200" y="2269800"/>
                <a:ext cx="2127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33400" y="1556280"/>
                <a:ext cx="406440" cy="163440"/>
              </a:xfrm>
              <a:prstGeom prst="ellipse">
                <a:avLst/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hare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666800" y="2183040"/>
                <a:ext cx="81000" cy="60120"/>
              </a:xfrm>
              <a:prstGeom prst="rect">
                <a:avLst/>
              </a:prstGeom>
              <a:solidFill>
                <a:srgbClr val="99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951560" y="2183040"/>
                <a:ext cx="81000" cy="60120"/>
              </a:xfrm>
              <a:prstGeom prst="rect">
                <a:avLst/>
              </a:prstGeom>
              <a:solidFill>
                <a:srgbClr val="99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666800" y="2283840"/>
                <a:ext cx="81000" cy="60120"/>
              </a:xfrm>
              <a:prstGeom prst="rect">
                <a:avLst/>
              </a:prstGeom>
              <a:solidFill>
                <a:srgbClr val="ff969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1768320" y="1720080"/>
                <a:ext cx="406440" cy="20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1824480" y="1720080"/>
                <a:ext cx="406440" cy="20088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1824480" y="1720080"/>
                <a:ext cx="406440" cy="200880"/>
              </a:xfrm>
              <a:prstGeom prst="line">
                <a:avLst/>
              </a:prstGeom>
              <a:ln w="255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1910880" y="1699920"/>
                <a:ext cx="426960" cy="221040"/>
              </a:xfrm>
              <a:prstGeom prst="line">
                <a:avLst/>
              </a:prstGeom>
              <a:ln w="25560">
                <a:solidFill>
                  <a:srgbClr val="7e5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032920" y="1557360"/>
                <a:ext cx="406440" cy="163440"/>
              </a:xfrm>
              <a:prstGeom prst="ellipse">
                <a:avLst/>
              </a:prstGeom>
              <a:solidFill>
                <a:srgbClr val="ff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Exc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95760" y="1720080"/>
                <a:ext cx="385920" cy="20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 flipV="1">
                <a:off x="1056600" y="1720080"/>
                <a:ext cx="406440" cy="20088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032920" y="1557720"/>
                <a:ext cx="406440" cy="163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Cache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951560" y="2183040"/>
                <a:ext cx="8100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666800" y="2283840"/>
                <a:ext cx="8100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193680" y="981000"/>
              <a:ext cx="3022200" cy="1569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31840" y="969840"/>
              <a:ext cx="296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ecification language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 flipH="1" flipV="1">
            <a:off x="2577600" y="3679560"/>
            <a:ext cx="675000" cy="142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1587240" y="2577960"/>
            <a:ext cx="126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174600" y="3027240"/>
            <a:ext cx="2408400" cy="1217520"/>
            <a:chOff x="174600" y="3027240"/>
            <a:chExt cx="2408400" cy="1217520"/>
          </a:xfrm>
        </p:grpSpPr>
        <p:sp>
          <p:nvSpPr>
            <p:cNvPr id="742" name=""/>
            <p:cNvSpPr/>
            <p:nvPr/>
          </p:nvSpPr>
          <p:spPr>
            <a:xfrm>
              <a:off x="252360" y="3843000"/>
              <a:ext cx="11246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,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500" spc="-1" strike="noStrike" baseline="-25000">
                  <a:solidFill>
                    <a:srgbClr val="7e5400"/>
                  </a:solidFill>
                  <a:latin typeface="Arial"/>
                </a:rPr>
                <a:t>1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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500" spc="-1" strike="noStrike" baseline="-25000">
                  <a:solidFill>
                    <a:srgbClr val="7e54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377360" y="3593880"/>
              <a:ext cx="20916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0" lang="en-US" sz="5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2360" y="3593880"/>
              <a:ext cx="11246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,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500" spc="-1" strike="noStrike" baseline="-25000">
                  <a:solidFill>
                    <a:srgbClr val="7e5400"/>
                  </a:solidFill>
                  <a:latin typeface="Arial"/>
                </a:rPr>
                <a:t>1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               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,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500" spc="-1" strike="noStrike" baseline="-25000">
                  <a:solidFill>
                    <a:srgbClr val="7e54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2360" y="3843000"/>
              <a:ext cx="112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85520" y="3811320"/>
              <a:ext cx="5148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 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=&gt;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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tru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200680" y="3598560"/>
              <a:ext cx="365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xio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685520" y="3598560"/>
              <a:ext cx="514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685520" y="3811320"/>
              <a:ext cx="51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95200" y="3027240"/>
              <a:ext cx="200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of system -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74600" y="3039840"/>
              <a:ext cx="2408400" cy="12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3262320" y="2933640"/>
            <a:ext cx="2638080" cy="1766880"/>
            <a:chOff x="3262320" y="2933640"/>
            <a:chExt cx="2638080" cy="1766880"/>
          </a:xfrm>
        </p:grpSpPr>
        <p:sp>
          <p:nvSpPr>
            <p:cNvPr id="753" name=""/>
            <p:cNvSpPr/>
            <p:nvPr/>
          </p:nvSpPr>
          <p:spPr>
            <a:xfrm>
              <a:off x="3921120" y="4381560"/>
              <a:ext cx="1145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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x. x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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x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&gt;0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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x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+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x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=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016160" y="4384800"/>
              <a:ext cx="957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974040" y="4206960"/>
              <a:ext cx="1034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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&gt;0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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+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=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093920" y="4221360"/>
              <a:ext cx="80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012920" y="4024440"/>
              <a:ext cx="939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&gt;0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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+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=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863880" y="4002120"/>
              <a:ext cx="13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774960" y="3805200"/>
              <a:ext cx="631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&gt;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10520" y="3827520"/>
              <a:ext cx="726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+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=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863880" y="380988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05200" y="3809880"/>
              <a:ext cx="53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962240" y="4307040"/>
              <a:ext cx="27828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7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901040" y="4124520"/>
              <a:ext cx="28728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7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280480" y="3897360"/>
              <a:ext cx="24444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0" lang="en-US" sz="7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213520" y="3675240"/>
              <a:ext cx="46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Repla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290480" y="3500640"/>
              <a:ext cx="426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xio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823920" y="3638520"/>
              <a:ext cx="631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&gt;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63880" y="361944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287960" y="3703680"/>
              <a:ext cx="46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Repla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649760" y="3638520"/>
              <a:ext cx="726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+2=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705200" y="3619440"/>
              <a:ext cx="53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225400" y="3506760"/>
              <a:ext cx="426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xio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30440" y="3056040"/>
              <a:ext cx="234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of 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262320" y="2933640"/>
              <a:ext cx="2638080" cy="176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9C74-1FC2-4FF2-8931-E476ADA574F4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A7A9CA-9C53-4257-B56F-0FF5A6387ECA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yMP: </a:t>
            </a:r>
            <a:r>
              <a:rPr b="0" i="1" lang="en-US" sz="4400" spc="-1" strike="noStrike">
                <a:solidFill>
                  <a:srgbClr val="0000ff"/>
                </a:solidFill>
                <a:latin typeface="Arial"/>
              </a:rPr>
              <a:t>Symbolic Model Prover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em prover genera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proof management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interactive 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-in proof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to custom proof system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roof system defines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ustom sequ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ustom set of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implemented proof sys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mbines MC &amp; 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Ath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ecurity protocol verification (in progr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300F-B1AA-460E-B6BF-6B966AEA8E7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47AAB-19B4-4264-9E38-F4EC6F1936E7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Verified Example: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BM Cache Coherenc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d in Default proof system in SyM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ed coherence of the Home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lemmas are still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: 139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element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eps (proof ru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half of them ar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model ch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C6A2-39D7-4BDB-A9E5-064FC5379A72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F23B0-7E0B-4E9C-8FB2-9C1B7FA1EA7B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538280"/>
            <a:ext cx="784872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ethodology for combining model checking and theorem pr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ramework for specializing theorem proving to various problem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articular, MC + TP is one such problem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o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M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mplements the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MC + TP system in the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existing methodologies can be expressed in the framework and implemented in Sy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2343-3B55-42BF-A31D-C10CDA780614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1D13D-37C7-41E8-B821-5A21201030BD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 the default proof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ly, it should include all basic theorem proving for FO temporal logic and most of known model checking trans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more proof systems for other problem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th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being implemented for security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s for software verific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s for toy systems: natural deduction, CFG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proof search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C29C-C374-4B77-8092-17EAD3EA429B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59721-FAB1-4FF9-BAD4-13494A6DD191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4: Abstraction in Model Checking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852560"/>
            <a:ext cx="8077320" cy="37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and directions for the current year (2000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 with other abstraction refinement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 on benchmark and industrial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ion in the context of bounded model checking Experiment on industrial designs (PCI bus protoc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6FC8-EA0E-4469-B238-825FE1BE021F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867B-1D5C-4DC9-936D-BB550525D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46A5-FEB1-494A-ACF4-0C60124D857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37BED-5ACB-4506-8604-74B45C15CF16}" type="datetime3">
              <a:rPr lang="en-US"/>
              <a:t>July 30, 2026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Using Fourier Analysis for Abstraction-Refinement in Model Checking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ubhav Gup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mund M. Clar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7: Model Checking Without BDD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ic model checking without BDDs using alternative data structures and algorith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velop an alternative method of doing model checking without BD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A563-96D4-43E0-9156-2E21614B1B94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C03C7-1BE8-4FE4-901D-E2751D34D5FE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7: Model Checking Without BDD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and directions for the current year (2000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the use of SAT procedures and BEDs for fixpoint compu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9AC8-187E-4E06-836E-68EDD52E6ED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67850-8066-4AEB-AA70-B96C1541D01D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7: Model Checking Without BDD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ments for the current year (2000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a full CTL model checker that combines SAT procedures with BEDs for fixpoint compu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a new methodology that uses “learning algorithms” for identifying important variables in hardware circu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 up with a new approach for counterexample-guided abstraction-refinement that views refinement as the standard “AI classification problem”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9F28-67EB-47BF-B4CD-4531C4BC5A6D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C1C94-1559-4F3C-A5B3-CE3DF08A2F24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7: Model Checking Without BDD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and directions for the next year (200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a tool that identifies important variables in a circuit and uses this information to generate good BDD and SAT-split orde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ize a counterexample-guided abstraction-refinement framework based on the Fourier Trans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a counterexample-guided abstraction-refinement framework based on the Fourier Transform and other learning algorith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A04-57C7-4C95-BF1D-4690EECA843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5C0FD-1486-4EBF-9A6E-5F72422E13BB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7: Model Checking Without BDDs 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Milestone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er that combines fixed point computation for mode checking with a sat-solver (31-Jan-200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ize counterexample-guided abstraction-refinement framework based on the Fourier Transform (15-May-200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counterexample-guided abstraction-refinement framework based on the Fourier Transform and other learning algorithms and perform experiments (31-Nov-200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good BDD and SAT splitting-orders based on important variables in the circuit (31-Mar-200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1782-EC37-4654-8712-C2676587B9C1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C2E31-C520-4C3C-9134-DB4479B282FC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7: Model Checking Without BDDs 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Deliverable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er that combines fixed point computation for mode checking with a sat-solver (Completed : 31-Jan-2001), Related Publication(s): P001653, P0007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 that formalizes counterexample-guided abstraction-refinement framework based on the Fourier Transform (31-May-200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 that implements counterexample-guided abstraction-refinement framework based on the Fourier Transform and other learning algorithms (31-Dec-200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 that generates good BDD and SAT splitting-orders based on important variables in the circuit (31-Apr-200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ACF1-7A5C-4DF0-8FCE-4F7ED5CBD7E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BE881-193D-45BD-9BFA-0F0C20746556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230480" y="2919240"/>
            <a:ext cx="68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echnical presentation for this task follows in PDF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A5A6-FC90-4035-A4ED-D65E2AEAFCC3}" type="slidenum">
              <a:t>5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8B6F5-7BFA-4ADD-91A0-22892E3F8A3E}" type="datetime3">
              <a:rPr lang="en-US"/>
              <a:t>July 30, 20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Efficient Image Computation Algorithm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1371240" y="2923920"/>
            <a:ext cx="644364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kaj Chau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g W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mund M. Clar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Joint work with Somesh Jha, Jim Kukula, Helmut Ve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Efficient Image Computation Algorithm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techniques for faster image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llection of algorithms for efficient image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algorithms in NuSMV model checker and extensive experimental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6D1D-27E8-42A6-AEEB-2F9697386BF2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A3556-AB8F-469B-B80F-66FD27B23E83}" type="datetime3">
              <a:rPr lang="en-US"/>
              <a:t>July 30, 20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4: Abstraction in Model Checking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ments for the current year (2000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uan Lu graduat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abstraction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 of aSMV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experimentation with impressiv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FCE7-8F1A-44F0-819F-BC5FCC682E6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E73D3-50C8-4F27-8D73-5CD111C1F120}" type="datetime3">
              <a:rPr lang="en-US"/>
              <a:t>July 30, 202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Efficient Image Computation Algorithm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and directions for the current year (2000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existing techniques and understand their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alternate metrics for predicting image computa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, evaluate and tune algorithms that improve these metrics to aid image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1DDE-7690-4934-B33E-9D2747539AE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BDDE7-AB0A-49BE-8C23-ACD41E0C6C3D}" type="datetime3">
              <a:rPr lang="en-US"/>
              <a:t>July 30, 2026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Efficient Image Computation Algorithm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ments for the current year (2000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llection of algorithms based on combinatorial optimization for various 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se techniques are made available in NuSMV model checker and built an evalua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4FD8-5E9A-436B-A69F-FF644A381E90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85920-F019-4A9C-8C51-30FC2C8FA4A6}" type="datetime3">
              <a:rPr lang="en-US"/>
              <a:t>July 30, 2026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Efficient Image Computation Algorithm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and directions for the next year (200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the implementation to include even mor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algorithms on more strength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the use of efficient partitioning schemes for image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techniques for other applications, including efficient abstraction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0A05-BA01-4E5E-BAE7-54AAC258855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9C265-7950-432C-A856-07C354EF68B9}" type="datetime3">
              <a:rPr lang="en-US"/>
              <a:t>July 30, 2026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Efficient Image Computation Algorithms </a:t>
            </a:r>
            <a:br>
              <a:rPr sz="36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leston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evaluation of combinatorial optimization based methods (31-Jan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 on efficient image computation using combinatorial optimization methods (31-June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 on VarScore algorithm and improved version of Kernighan-Lin based heuristics (31-Sept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partitioning method for image compuation (31-Dec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techniques to abstraction and non BDD based image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23B0-17ED-417D-9AF0-AE347187D0D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0902E-7793-4D38-82C0-FE4599BE4DD7}" type="datetime3">
              <a:rPr lang="en-US"/>
              <a:t>July 30, 2026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mage Compu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heart of Symbolic Model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artitioned Transition rela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required for all “real world desig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njunctive and Disjunctive Partitio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 fundamental partitioning techn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4506-E420-4070-B276-8D0D1388EE96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728A5-E835-48B7-8946-24D00EA28FEE}" type="datetime3">
              <a:rPr lang="en-US"/>
              <a:t>July 30, 2026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he Problem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is to reduce the size of intermediate BD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 Computation depend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luster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the clust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derived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rder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the clusters are ordered in the formula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m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s are NP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B074-08B6-4327-86BE-55FDA1A1D46C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5B2D5-5278-4AA4-BF2A-759862260BA0}" type="datetime3">
              <a:rPr lang="en-US"/>
              <a:t>July 30, 2026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urrent State of the Ar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39200" y="1981080"/>
            <a:ext cx="513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uristic score based (Ranjan et. al., IWLS’95, Yang’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y matrices (Somenzi, Moon et.al. DAC’00, FMCAD’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+BDD (Gupta, FMCAD’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6248520" y="2558880"/>
          <a:ext cx="19303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558880"/>
                    <a:ext cx="19303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9" name=""/>
          <p:cNvSpPr/>
          <p:nvPr/>
        </p:nvSpPr>
        <p:spPr>
          <a:xfrm>
            <a:off x="6172200" y="1949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994D-59E5-4F07-9D28-AD504DE32FBC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6E9EB-8BB5-4228-A071-A358209D34E3}" type="datetime3">
              <a:rPr lang="en-US"/>
              <a:t>July 30, 202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ependency Matrice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40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ws correspond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…,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lumns correspond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…,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[i,j]=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the suppor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verage active life-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4952880" y="2381400"/>
          <a:ext cx="3810240" cy="1825560"/>
        </p:xfrm>
        <a:graphic>
          <a:graphicData uri="http://schemas.openxmlformats.org/drawingml/2006/table">
            <a:tbl>
              <a:tblPr/>
              <a:tblGrid>
                <a:gridCol w="546120"/>
                <a:gridCol w="542880"/>
                <a:gridCol w="544680"/>
                <a:gridCol w="542880"/>
                <a:gridCol w="544680"/>
                <a:gridCol w="542880"/>
                <a:gridCol w="54612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’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’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’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sp>
        <p:nvSpPr>
          <p:cNvPr id="823" name=""/>
          <p:cNvSpPr/>
          <p:nvPr/>
        </p:nvSpPr>
        <p:spPr>
          <a:xfrm>
            <a:off x="4876920" y="44290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ency matrix for 3-bit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1157400" y="4878360"/>
                <a:ext cx="24001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A618-4437-4A65-BEBF-F6E13BA89162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1E9B5-913D-4CA2-BAD0-DFFA14C636BD}" type="datetime3">
              <a:rPr lang="en-US"/>
              <a:t>July 30, 2026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4473720" y="2028960"/>
            <a:ext cx="41907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verview of </a:t>
            </a:r>
            <a:r>
              <a:rPr b="0" i="1" lang="en-US" sz="44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Technique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230360" y="1981080"/>
            <a:ext cx="450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ing Algorithms based on sharing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ing algorithms based on minimization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Score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914400" y="17049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9" name=""/>
          <p:cNvGraphicFramePr/>
          <p:nvPr/>
        </p:nvGraphicFramePr>
        <p:xfrm>
          <a:off x="1746360" y="2314440"/>
          <a:ext cx="160632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2314440"/>
                    <a:ext cx="160632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FD36-C745-405F-9ADB-59D1D1E7AAB0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B88A9-FC44-4AAC-A2DE-04B8E0BDF04A}" type="datetime3">
              <a:rPr lang="en-US"/>
              <a:t>July 30, 2026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haring Graph based Ordering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a “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haring gra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whose vertices correspond to conjun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eight of the edg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(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igh weight </a:t>
            </a:r>
            <a:r>
              <a:rPr b="0" lang="en-US" sz="2000" spc="-1" strike="noStrike">
                <a:solidFill>
                  <a:srgbClr val="ff6600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strong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 two algorithms to order the vertices of this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3" name=""/>
              <p:cNvSpPr txBox="1"/>
              <p:nvPr/>
            </p:nvSpPr>
            <p:spPr>
              <a:xfrm>
                <a:off x="1905120" y="3494160"/>
                <a:ext cx="571176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up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∩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p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up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p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ddSize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∧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ddSize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ddSize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re parameter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A93C-5979-46AB-9F70-09E9369B2F95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7B6C1-50D0-4226-A7DC-54725970FDB1}" type="datetime3">
              <a:rPr lang="en-US"/>
              <a:t>July 30, 20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4: Abstraction in Model Checking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952280"/>
            <a:ext cx="8119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and directions for the next year (200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ing the methodology to include all ACTL countert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AT for refinement of large state 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0B04-EBE8-4CE2-A81B-D79D31391633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7A51-BE24-44EA-B14D-F40EF6BDC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75BD-6ACE-4904-A3CA-CB8BE91534A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3A4DB-D3ED-4BC1-8B81-33B42C5EAEAD}" type="datetime3">
              <a:rPr lang="en-US"/>
              <a:t>July 30, 2026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rdering Algorithm KLin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990720" y="1911240"/>
            <a:ext cx="4114800" cy="406044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LinOrder(G(V,E),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lit V into L,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nd 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d a good split L,R with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Kernighan-L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Heu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 and Ri are vertices adjacent to the other half (interface vertic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cursively order L-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nd R-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rder the vertices as L-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 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 R-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5257800" y="2235240"/>
            <a:ext cx="3352680" cy="3276720"/>
            <a:chOff x="5257800" y="2235240"/>
            <a:chExt cx="3352680" cy="3276720"/>
          </a:xfrm>
        </p:grpSpPr>
        <p:sp>
          <p:nvSpPr>
            <p:cNvPr id="837" name=""/>
            <p:cNvSpPr/>
            <p:nvPr/>
          </p:nvSpPr>
          <p:spPr>
            <a:xfrm>
              <a:off x="5257800" y="2235240"/>
              <a:ext cx="3352680" cy="32767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781680" y="254016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5362560" y="2698920"/>
            <a:ext cx="3086280" cy="2431800"/>
            <a:chOff x="5362560" y="2698920"/>
            <a:chExt cx="3086280" cy="2431800"/>
          </a:xfrm>
        </p:grpSpPr>
        <p:sp>
          <p:nvSpPr>
            <p:cNvPr id="840" name=""/>
            <p:cNvSpPr/>
            <p:nvPr/>
          </p:nvSpPr>
          <p:spPr>
            <a:xfrm>
              <a:off x="5362560" y="2698920"/>
              <a:ext cx="1338120" cy="2261880"/>
            </a:xfrm>
            <a:prstGeom prst="ellipse">
              <a:avLst/>
            </a:prstGeom>
            <a:solidFill>
              <a:srgbClr val="99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110360" y="2868480"/>
              <a:ext cx="1338480" cy="2262240"/>
            </a:xfrm>
            <a:prstGeom prst="ellipse">
              <a:avLst/>
            </a:prstGeom>
            <a:solidFill>
              <a:srgbClr val="99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551560" y="312120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837560" y="3951360"/>
              <a:ext cx="44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6010200" y="3005280"/>
            <a:ext cx="1773360" cy="1780920"/>
            <a:chOff x="6010200" y="3005280"/>
            <a:chExt cx="1773360" cy="1780920"/>
          </a:xfrm>
        </p:grpSpPr>
        <p:sp>
          <p:nvSpPr>
            <p:cNvPr id="845" name=""/>
            <p:cNvSpPr/>
            <p:nvPr/>
          </p:nvSpPr>
          <p:spPr>
            <a:xfrm>
              <a:off x="6018120" y="3005280"/>
              <a:ext cx="665280" cy="15541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18280" y="3232080"/>
              <a:ext cx="665280" cy="15541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010200" y="3638520"/>
              <a:ext cx="447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269120" y="4097520"/>
              <a:ext cx="447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6259680" y="3405240"/>
            <a:ext cx="1263600" cy="815400"/>
            <a:chOff x="6259680" y="3405240"/>
            <a:chExt cx="1263600" cy="815400"/>
          </a:xfrm>
        </p:grpSpPr>
        <p:sp>
          <p:nvSpPr>
            <p:cNvPr id="850" name=""/>
            <p:cNvSpPr/>
            <p:nvPr/>
          </p:nvSpPr>
          <p:spPr>
            <a:xfrm>
              <a:off x="6392880" y="3995280"/>
              <a:ext cx="110484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259680" y="3405240"/>
              <a:ext cx="1245960" cy="15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6392880" y="3787560"/>
              <a:ext cx="1130400" cy="207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400800" y="3655800"/>
              <a:ext cx="1114560" cy="14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6375240" y="3571560"/>
              <a:ext cx="1122480" cy="64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63EF-5DFC-40CA-9B15-88D8C4DA1210}" type="slidenum">
              <a:t>7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51A4E8-BF8A-4DEC-87A1-D4CD4B3AF7B5}" type="datetime3">
              <a:rPr lang="en-US"/>
              <a:t>July 30, 2026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rdering Algorithm METI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39200" y="1981080"/>
            <a:ext cx="40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partitioning a smaller graph, consider othe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eplaced vert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node weight 0 to preplaced nodes, while retain edge we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tion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tices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pth-fir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sh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818240" y="2567160"/>
            <a:ext cx="3790800" cy="151740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757920" y="2565360"/>
            <a:ext cx="0" cy="153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067600" y="2781360"/>
            <a:ext cx="0" cy="109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149960" y="2576520"/>
            <a:ext cx="0" cy="1496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13640" y="2665440"/>
            <a:ext cx="0" cy="134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316560" y="2568600"/>
            <a:ext cx="0" cy="151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335560" y="2787480"/>
            <a:ext cx="0" cy="107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870520" y="2644920"/>
            <a:ext cx="0" cy="136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2C12-CD94-48EF-8EB4-A1077839EC32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EEB07-9CB7-445E-98F3-144028A0F154}" type="datetime3">
              <a:rPr lang="en-US"/>
              <a:t>July 30, 2026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4484520" y="3262320"/>
            <a:ext cx="41911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verview of </a:t>
            </a:r>
            <a:r>
              <a:rPr b="0" i="1" lang="en-US" sz="44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Technique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230360" y="1981080"/>
            <a:ext cx="450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ing Algorithms based on sharing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ing algorithms based on minimization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Score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914400" y="17049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9" name=""/>
          <p:cNvGraphicFramePr/>
          <p:nvPr/>
        </p:nvGraphicFramePr>
        <p:xfrm>
          <a:off x="1746360" y="2314440"/>
          <a:ext cx="160632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2314440"/>
                    <a:ext cx="160632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9A49-9F9B-4090-8999-999C86976963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41928-5051-4417-AB95-59C69C712BF3}" type="datetime3">
              <a:rPr lang="en-US"/>
              <a:t>July 30, 2026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rdering by Minimization of </a:t>
            </a:r>
            <a:r>
              <a:rPr b="0" lang="en-US" sz="4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active life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cates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ter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ong various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wer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relatively disjoin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ant t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inimize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ws and columns of dependency matrix are permuted to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mprove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et.al. (FMCAD’00) use an indirect method (P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ncy matrix is restricted to the variables that are to be qua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3429000" y="2711520"/>
                <a:ext cx="24004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5342-C34C-439F-8BDF-DEFDB3DCB5DF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1E9C68-AC8A-4343-A02F-5E5269958A7D}" type="datetime3">
              <a:rPr lang="en-US"/>
              <a:t>July 30, 2026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ptimization of </a:t>
            </a:r>
            <a:r>
              <a:rPr b="0" lang="en-US" sz="4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mbinatorial optmization to reorder conjuncts to get bett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(eg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ill climb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imulated Anneal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carefu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u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many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good performance as long the metric being optimized relates directly to image computa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F086-A73D-40F1-92BD-B0BC85DC66D6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A00EA-3210-4760-947F-B701F128A698}" type="datetime3">
              <a:rPr lang="en-US"/>
              <a:t>July 30, 2026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imulated Annealing Algorithm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914400" y="1806480"/>
            <a:ext cx="8001000" cy="39625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mAnnealOrder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u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f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i=1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umStart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Courier New"/>
              </a:rPr>
              <a:t>t</a:t>
            </a:r>
            <a:r>
              <a:rPr b="1" i="1" lang="en-US" sz="2000" spc="-1" strike="noStrike" baseline="-25000">
                <a:solidFill>
                  <a:srgbClr val="ff3300"/>
                </a:solidFill>
                <a:latin typeface="Courier New"/>
              </a:rPr>
              <a:t>i</a:t>
            </a:r>
            <a:r>
              <a:rPr b="1" i="1" lang="en-US" sz="2000" spc="-1" strike="noStrike">
                <a:solidFill>
                  <a:srgbClr val="ff3300"/>
                </a:solidFill>
                <a:latin typeface="Courier New"/>
              </a:rPr>
              <a:t>=t</a:t>
            </a:r>
            <a:r>
              <a:rPr b="1" i="1" lang="en-US" sz="2000" spc="-1" strike="noStrike" baseline="-25000">
                <a:solidFill>
                  <a:srgbClr val="ff3300"/>
                </a:solidFill>
                <a:latin typeface="Courier New"/>
              </a:rPr>
              <a:t>0</a:t>
            </a:r>
            <a:r>
              <a:rPr b="1" i="1" lang="en-US" sz="2000" spc="-1" strike="noStrike">
                <a:solidFill>
                  <a:srgbClr val="ff3300"/>
                </a:solidFill>
                <a:latin typeface="Courier New"/>
              </a:rPr>
              <a:t>r</a:t>
            </a:r>
            <a:r>
              <a:rPr b="1" i="1" lang="en-US" sz="2000" spc="-1" strike="noStrike" baseline="30000">
                <a:solidFill>
                  <a:srgbClr val="ff3300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j=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umStarts2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mute two random rows of D to get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 probabilit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exp(-(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Courier New"/>
              </a:rPr>
              <a:t>i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-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3300"/>
                </a:solidFill>
                <a:latin typeface="Courier New"/>
              </a:rPr>
              <a:t>)</a:t>
            </a:r>
            <a:r>
              <a:rPr b="1" i="1" lang="en-US" sz="2000" spc="-1" strike="noStrike">
                <a:solidFill>
                  <a:srgbClr val="ff3300"/>
                </a:solidFill>
                <a:latin typeface="Courier New"/>
              </a:rPr>
              <a:t>/t</a:t>
            </a:r>
            <a:r>
              <a:rPr b="1" i="1" lang="en-US" sz="2000" spc="-1" strike="noStrike" baseline="-25000">
                <a:solidFill>
                  <a:srgbClr val="ff3300"/>
                </a:solidFill>
                <a:latin typeface="Courier New"/>
              </a:rPr>
              <a:t>i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3F4A-AE2A-47C3-94EA-2694ABAB0770}" type="slidenum">
              <a:t>7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E3BC2-4807-47FC-9E3A-86A94E588D42}" type="datetime3">
              <a:rPr lang="en-US"/>
              <a:t>July 30, 2026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4473720" y="4351320"/>
            <a:ext cx="41907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verview of </a:t>
            </a:r>
            <a:r>
              <a:rPr b="0" i="1" lang="en-US" sz="44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Technique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230360" y="1981080"/>
            <a:ext cx="450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ing Algorithms based on sharing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ing algorithms based on minimization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Score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914400" y="17049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2" name=""/>
          <p:cNvGraphicFramePr/>
          <p:nvPr/>
        </p:nvGraphicFramePr>
        <p:xfrm>
          <a:off x="1746360" y="2314440"/>
          <a:ext cx="160632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2314440"/>
                    <a:ext cx="160632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9435-2524-42E3-BCBA-FD9739B8CE3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D6BBA-2545-48F1-8E8F-FDE9EB22A820}" type="datetime3">
              <a:rPr lang="en-US"/>
              <a:t>July 30, 202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 computation eq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seen as building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rse t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m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earing other subtrees can be quantified away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ordering the conjuncts linearly, build a tree so that intermediate BDDs are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VarScore Algorithm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2508120" y="2768760"/>
                <a:ext cx="43862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m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∃</m:t>
                    </m:r>
                    <m:r>
                      <m:t xml:space="preserve">C</m:t>
                    </m:r>
                    <m:r>
                      <m:t xml:space="preserve">∃</m:t>
                    </m:r>
                    <m:r>
                      <m:t xml:space="preserve">W</m:t>
                    </m:r>
                    <m:r>
                      <m:t xml:space="preserve">∃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∧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1C24-D11E-43F3-952C-2DE178F5AC97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2FFC3-85FE-4CB5-BEA1-2356EE47A448}" type="datetime3">
              <a:rPr lang="en-US"/>
              <a:t>July 30, 2026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VarScore Algorithm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propose two versions of VarScore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version builds the parse tree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ach image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 version builds the parse tre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lbeit with some inaccura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 is very similar to or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EDFE-7217-4B11-BE01-B9C682B33C7A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1C827-31AB-41DC-B221-46CFB151FCAF}" type="datetime3">
              <a:rPr lang="en-US"/>
              <a:t>July 30, 2026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VarScore (Dynamic Version)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93720" y="4616280"/>
            <a:ext cx="446040" cy="490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92280" y="3855960"/>
            <a:ext cx="446040" cy="49068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87240" y="3075120"/>
            <a:ext cx="446400" cy="490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90480" y="2279520"/>
            <a:ext cx="446040" cy="49068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243080" y="2352600"/>
            <a:ext cx="8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255680" y="3151080"/>
            <a:ext cx="8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266840" y="3927600"/>
            <a:ext cx="11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Ex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285920" y="4700520"/>
            <a:ext cx="10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jun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5786280" y="2473200"/>
            <a:ext cx="2284560" cy="2098800"/>
            <a:chOff x="5786280" y="2473200"/>
            <a:chExt cx="2284560" cy="2098800"/>
          </a:xfrm>
        </p:grpSpPr>
        <p:sp>
          <p:nvSpPr>
            <p:cNvPr id="899" name=""/>
            <p:cNvSpPr/>
            <p:nvPr/>
          </p:nvSpPr>
          <p:spPr>
            <a:xfrm>
              <a:off x="6246720" y="2473200"/>
              <a:ext cx="446040" cy="4906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0" name=""/>
            <p:cNvCxnSpPr>
              <a:stCxn id="901" idx="0"/>
              <a:endCxn id="899" idx="5"/>
            </p:cNvCxnSpPr>
            <p:nvPr/>
          </p:nvCxnSpPr>
          <p:spPr>
            <a:xfrm flipH="1" flipV="1">
              <a:off x="6627600" y="2904840"/>
              <a:ext cx="1443600" cy="16675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902" name=""/>
            <p:cNvCxnSpPr>
              <a:stCxn id="903" idx="7"/>
              <a:endCxn id="899" idx="3"/>
            </p:cNvCxnSpPr>
            <p:nvPr/>
          </p:nvCxnSpPr>
          <p:spPr>
            <a:xfrm flipV="1">
              <a:off x="5786280" y="2904480"/>
              <a:ext cx="526320" cy="58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</p:grpSp>
      <p:sp>
        <p:nvSpPr>
          <p:cNvPr id="904" name=""/>
          <p:cNvSpPr/>
          <p:nvPr/>
        </p:nvSpPr>
        <p:spPr>
          <a:xfrm>
            <a:off x="3648240" y="4870440"/>
            <a:ext cx="44575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565440" y="3616200"/>
            <a:ext cx="4469040" cy="1160640"/>
          </a:xfrm>
          <a:custGeom>
            <a:avLst/>
            <a:gdLst/>
            <a:ahLst/>
            <a:rect l="l" t="t" r="r" b="b"/>
            <a:pathLst>
              <a:path w="2815" h="731">
                <a:moveTo>
                  <a:pt x="0" y="654"/>
                </a:moveTo>
                <a:lnTo>
                  <a:pt x="1314" y="0"/>
                </a:lnTo>
                <a:lnTo>
                  <a:pt x="2815" y="731"/>
                </a:ln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3462480" y="2712960"/>
            <a:ext cx="2989080" cy="1889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2862360" y="4584600"/>
            <a:ext cx="5646600" cy="949320"/>
            <a:chOff x="2862360" y="4584600"/>
            <a:chExt cx="5646600" cy="949320"/>
          </a:xfrm>
        </p:grpSpPr>
        <p:sp>
          <p:nvSpPr>
            <p:cNvPr id="908" name=""/>
            <p:cNvSpPr/>
            <p:nvPr/>
          </p:nvSpPr>
          <p:spPr>
            <a:xfrm>
              <a:off x="3144960" y="4616280"/>
              <a:ext cx="446040" cy="490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564080" y="4613400"/>
              <a:ext cx="446040" cy="490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249960" y="4587840"/>
              <a:ext cx="446040" cy="49068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846920" y="4584600"/>
              <a:ext cx="446040" cy="490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1" name=""/>
                <p:cNvSpPr txBox="1"/>
                <p:nvPr/>
              </p:nvSpPr>
              <p:spPr>
                <a:xfrm>
                  <a:off x="2862360" y="5216400"/>
                  <a:ext cx="1306440" cy="2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'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↔</m:t>
                      </m:r>
                      <m:r>
                        <m:t xml:space="preserve">¬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2" name=""/>
                <p:cNvSpPr txBox="1"/>
                <p:nvPr/>
              </p:nvSpPr>
              <p:spPr>
                <a:xfrm>
                  <a:off x="5700600" y="5248440"/>
                  <a:ext cx="190368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'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↔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∧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⊕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3" name=""/>
                <p:cNvSpPr txBox="1"/>
                <p:nvPr/>
              </p:nvSpPr>
              <p:spPr>
                <a:xfrm>
                  <a:off x="4294080" y="5243400"/>
                  <a:ext cx="1306800" cy="2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'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↔</m:t>
                      </m:r>
                      <m:r>
                        <m:t xml:space="preserve">¬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4" name=""/>
                <p:cNvSpPr txBox="1"/>
                <p:nvPr/>
              </p:nvSpPr>
              <p:spPr>
                <a:xfrm>
                  <a:off x="7791480" y="5221440"/>
                  <a:ext cx="717480" cy="31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>
                        <m:t xml:space="preserve">¬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5861160" y="4533840"/>
                <a:ext cx="3286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16" name=""/>
          <p:cNvGrpSpPr/>
          <p:nvPr/>
        </p:nvGrpSpPr>
        <p:grpSpPr>
          <a:xfrm>
            <a:off x="4788000" y="3432240"/>
            <a:ext cx="1685880" cy="1168200"/>
            <a:chOff x="4788000" y="3432240"/>
            <a:chExt cx="1685880" cy="1168200"/>
          </a:xfrm>
        </p:grpSpPr>
        <p:sp>
          <p:nvSpPr>
            <p:cNvPr id="903" name=""/>
            <p:cNvSpPr/>
            <p:nvPr/>
          </p:nvSpPr>
          <p:spPr>
            <a:xfrm>
              <a:off x="5405400" y="3432240"/>
              <a:ext cx="446040" cy="4903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17" name=""/>
            <p:cNvCxnSpPr>
              <a:stCxn id="909" idx="0"/>
              <a:endCxn id="903" idx="3"/>
            </p:cNvCxnSpPr>
            <p:nvPr/>
          </p:nvCxnSpPr>
          <p:spPr>
            <a:xfrm flipV="1">
              <a:off x="4788000" y="3863520"/>
              <a:ext cx="682920" cy="737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918" name=""/>
            <p:cNvCxnSpPr>
              <a:stCxn id="910" idx="0"/>
              <a:endCxn id="903" idx="5"/>
            </p:cNvCxnSpPr>
            <p:nvPr/>
          </p:nvCxnSpPr>
          <p:spPr>
            <a:xfrm flipH="1" flipV="1">
              <a:off x="5786280" y="3863520"/>
              <a:ext cx="687960" cy="712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mc:AlternateContent>
          <mc:Choice xmlns:a14="http://schemas.microsoft.com/office/drawing/2010/main" Requires="a14">
            <p:sp>
              <p:nvSpPr>
                <p:cNvPr id="919" name=""/>
                <p:cNvSpPr txBox="1"/>
                <p:nvPr/>
              </p:nvSpPr>
              <p:spPr>
                <a:xfrm>
                  <a:off x="4989600" y="3533760"/>
                  <a:ext cx="35568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∃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0" name=""/>
          <p:cNvGrpSpPr/>
          <p:nvPr/>
        </p:nvGrpSpPr>
        <p:grpSpPr>
          <a:xfrm>
            <a:off x="3368520" y="1670040"/>
            <a:ext cx="2943360" cy="2933640"/>
            <a:chOff x="3368520" y="1670040"/>
            <a:chExt cx="2943360" cy="2933640"/>
          </a:xfrm>
        </p:grpSpPr>
        <p:sp>
          <p:nvSpPr>
            <p:cNvPr id="921" name=""/>
            <p:cNvSpPr/>
            <p:nvPr/>
          </p:nvSpPr>
          <p:spPr>
            <a:xfrm>
              <a:off x="4487760" y="1670040"/>
              <a:ext cx="446040" cy="4906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2" name=""/>
            <p:cNvCxnSpPr>
              <a:stCxn id="899" idx="1"/>
              <a:endCxn id="921" idx="6"/>
            </p:cNvCxnSpPr>
            <p:nvPr/>
          </p:nvCxnSpPr>
          <p:spPr>
            <a:xfrm flipH="1" flipV="1">
              <a:off x="4946400" y="1915560"/>
              <a:ext cx="1365840" cy="6166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923" name=""/>
            <p:cNvCxnSpPr>
              <a:stCxn id="908" idx="0"/>
              <a:endCxn id="921" idx="3"/>
            </p:cNvCxnSpPr>
            <p:nvPr/>
          </p:nvCxnSpPr>
          <p:spPr>
            <a:xfrm flipV="1">
              <a:off x="3368520" y="2101320"/>
              <a:ext cx="1185120" cy="2502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mc:AlternateContent>
          <mc:Choice xmlns:a14="http://schemas.microsoft.com/office/drawing/2010/main" Requires="a14">
            <p:sp>
              <p:nvSpPr>
                <p:cNvPr id="924" name=""/>
                <p:cNvSpPr txBox="1"/>
                <p:nvPr/>
              </p:nvSpPr>
              <p:spPr>
                <a:xfrm>
                  <a:off x="3940200" y="1743120"/>
                  <a:ext cx="35892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∃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DCD1-D219-40B5-B349-BA3B809C3621}" type="slidenum">
              <a:t>7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6F036-2D92-4734-A4B2-2091C828D6B3}" type="datetime3">
              <a:rPr lang="en-US"/>
              <a:t>July 30, 20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4: Abstraction in Model Checking</a:t>
            </a:r>
            <a:br>
              <a:rPr sz="36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ileston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abstraction function generation (31-Dec-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hierarchical verification algorithms (31-Dec-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ing the methodology to include all ACTL* counterexamples and implementation (31-Dec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AT based techniques for refinement of large state spaces (31-March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0E51-989A-41B9-A1AB-43C8CB04E417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4995-9455-4EF6-B14B-A7021E314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CF66-83C9-40D7-91A6-6E940908786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E6854-C1DA-4AE3-B907-BC584EF57E25}" type="datetime3">
              <a:rPr lang="en-US"/>
              <a:t>July 30, 2026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VarScore (Static Version)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versio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eats lots of same oper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ross image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 psuedo-tree withou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sum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all variables in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of BDDs are estimated from some function of number of suppor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ubtre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ath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root can be evaluated in the beg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state variables can’t be qua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A6C4-0D67-423A-A0B1-B4DCE53A29CF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0D94D-7119-403E-B3DE-865CBCF00909}" type="datetime3">
              <a:rPr lang="en-US"/>
              <a:t>July 30, 2026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nitial Experimental Result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get about 30-40% average space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2x speedup, average 30-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mplete 4 examples which FMCAD’00 couldn’t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 BDDs yield better running time for larger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A52C-AEA0-4AC0-9FEA-55A57E8E88ED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50457-E289-410F-9258-B242C33F98AA}" type="datetime3">
              <a:rPr lang="en-US"/>
              <a:t>July 30, 2026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ed Annealing performs well on large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ing graph based techniques show promise, though not as good as simulated anne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nding more time in initial ordering phase speeds up image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364E-51B2-4F78-A64E-7E5E50E5C069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00ABF-78D7-4CB9-8FB6-660BF6FEC617}" type="datetime3">
              <a:rPr lang="en-US"/>
              <a:t>July 30, 2026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experimentation,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algorithms for part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evaluation of VarScore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these techniques to other areas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C113-B1D4-4AB5-948D-B0BC8460E698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AE645-9BD6-435B-B3FB-B39D4F7CCCC0}" type="datetime3">
              <a:rPr lang="en-US"/>
              <a:t>July 30, 2026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14360" y="28573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46C9-C013-44E1-8755-170412CD2B73}" type="slidenum">
              <a:t>8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E58F9-22A6-4493-A3E1-56F6B86398CE}" type="datetime3">
              <a:rPr lang="en-US"/>
              <a:t>July 30, 2026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1219320" y="3505320"/>
            <a:ext cx="7010280" cy="28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ition relation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(V,W,V’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ypically given as a conj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, each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transition relation for one stat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of variables on which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denoted b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upp(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artitioned Transition Relation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600200" y="5257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576440" y="1986120"/>
            <a:ext cx="5029200" cy="1629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current stat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’= v’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’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next stat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input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={V U W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3649680" y="3952800"/>
                <a:ext cx="31543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W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∧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W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334A-AF80-41D8-B289-1EE2068C433D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19B99-38D5-445C-BB41-A172E4B1D95A}" type="datetime3">
              <a:rPr lang="en-US"/>
              <a:t>July 30, 2026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mage Computation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asible in practice as the BDD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o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1928880" y="2890800"/>
                <a:ext cx="56404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m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∃</m:t>
                    </m:r>
                    <m:r>
                      <m:t xml:space="preserve">W</m:t>
                    </m:r>
                    <m:r>
                      <m:t xml:space="preserve">∃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W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166-6413-43D9-ACEA-128300272FDD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B8ABD-6E9C-446B-962E-859B3D6E54D6}" type="datetime3">
              <a:rPr lang="en-US"/>
              <a:t>July 30, 202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arly Quantification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of early quantif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: Smaller intermediat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1461960" y="2657520"/>
                <a:ext cx="6524640" cy="24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∃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t xml:space="preserve">∃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∃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ppear only in </m:t>
                        </m:r>
                        <m:r>
                          <m:rPr>
                            <m:lit/>
                            <m:nor/>
                          </m:rPr>
                          <m:t xml:space="preserve">Sup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ppear only in </m:t>
                        </m:r>
                        <m:r>
                          <m:rPr>
                            <m:lit/>
                            <m:nor/>
                          </m:rPr>
                          <m:t xml:space="preserve">Sup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∪</m:t>
                        </m:r>
                        <m:r>
                          <m:rPr>
                            <m:lit/>
                            <m:nor/>
                          </m:rPr>
                          <m:t xml:space="preserve">Sup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18C7-8EF6-4552-8AF7-E8896A60677B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8AED4-C84C-46CB-999B-41309CFB1D8E}" type="datetime3">
              <a:rPr lang="en-US"/>
              <a:t>July 30, 2026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 Toy Exampl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3-bit cou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1535040" y="2981160"/>
                <a:ext cx="3178080" cy="272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V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v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↔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↔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⊕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↔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⊕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ll even number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5419800" y="3048120"/>
                <a:ext cx="26398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up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p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p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C67F-750E-4BA7-82FA-F38F79A6B4E4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56C4C-A0D6-49D4-930E-01B7F1AA4E4D}" type="datetime3">
              <a:rPr lang="en-US"/>
              <a:t>July 30, 2026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utpoints for Finer Partitioning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ing helps when the circuit is finely partitio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the partition is too coarse (in other words, to large to be represented by a single BD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Introduce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cut-poi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circuit of the next state function of a variable [Burch, Singhal ICCAD‘9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ed to introduce a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conjunct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ut-poi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ing a sub-circuit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f33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two conjuncts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[c]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ff3300"/>
                </a:solidFill>
                <a:latin typeface="Wingdings 3"/>
                <a:ea typeface="Wingdings 3"/>
              </a:rPr>
              <a:t>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 f</a:t>
            </a:r>
            <a:r>
              <a:rPr b="0" i="1" lang="en-US" sz="2000" spc="-1" strike="noStrike" baseline="-25000">
                <a:solidFill>
                  <a:srgbClr val="ff33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uantify away cut-poi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le computing the image, no need to introduce a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bd04924_" descr=""/>
          <p:cNvPicPr/>
          <p:nvPr/>
        </p:nvPicPr>
        <p:blipFill>
          <a:blip r:embed="rId1"/>
          <a:stretch/>
        </p:blipFill>
        <p:spPr>
          <a:xfrm>
            <a:off x="176040" y="3255840"/>
            <a:ext cx="762120" cy="51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0CE-A73D-454C-BB22-7B0234D2D977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E5D17-A4F4-4937-A762-EE7366FAA5B4}" type="datetime3">
              <a:rPr lang="en-US"/>
              <a:t>July 30, 20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4: Abstraction in Model Checking</a:t>
            </a:r>
            <a:br>
              <a:rPr sz="36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liverab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 on hierarchical model checking without flattening for hierarchical circuit descriptions (Planned 31-Dec-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 on model checking of hierarchically structured SMV and StateCharts for embedded systems and mixed hardware designs (Planned 31-Dec-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/Paper on Extension of methodology for all counterexamples (Planned 31-Dec-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version of aSMV with this feature (Planned 30-March-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/Paper on refinement using large state spaces (Planned 31-June-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version of aSMV with SAT based refinement (Planned 31-Dec-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A941-6B21-467E-9130-61B7EA9C8D04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5ED3-1C4E-4D13-9758-7B7D0C490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EAAC-7662-4947-A7C6-4A7BF67C1BE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06FBD-2C77-4CA2-A5E4-D34837D0B3A7}" type="datetime3">
              <a:rPr lang="en-US"/>
              <a:t>July 30, 2026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14360" y="853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Benchmark Characteristic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954" name=""/>
          <p:cNvGraphicFramePr/>
          <p:nvPr/>
        </p:nvGraphicFramePr>
        <p:xfrm>
          <a:off x="990720" y="1924200"/>
          <a:ext cx="3352680" cy="2840040"/>
        </p:xfrm>
        <a:graphic>
          <a:graphicData uri="http://schemas.openxmlformats.org/drawingml/2006/table">
            <a:tbl>
              <a:tblPr/>
              <a:tblGrid>
                <a:gridCol w="582480"/>
                <a:gridCol w="685800"/>
                <a:gridCol w="838080"/>
                <a:gridCol w="124632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FF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inpu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#reac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7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5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5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5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5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5" name=""/>
          <p:cNvGraphicFramePr/>
          <p:nvPr/>
        </p:nvGraphicFramePr>
        <p:xfrm>
          <a:off x="5029200" y="1920960"/>
          <a:ext cx="3429000" cy="2441520"/>
        </p:xfrm>
        <a:graphic>
          <a:graphicData uri="http://schemas.openxmlformats.org/drawingml/2006/table">
            <a:tbl>
              <a:tblPr/>
              <a:tblGrid>
                <a:gridCol w="582480"/>
                <a:gridCol w="685800"/>
                <a:gridCol w="838440"/>
                <a:gridCol w="132228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FF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inpu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#reac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.8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2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537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71 (after 8 step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8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2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.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3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feist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.7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4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41 (after 16 step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B911-FF60-4311-9A45-578918916974}" type="slidenum">
              <a:t>9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6A7B7-AC21-4CCB-9D61-01085F1B6D40}" type="datetime3">
              <a:rPr lang="en-US"/>
              <a:t>July 30, 2026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hich  </a:t>
            </a:r>
            <a:r>
              <a:rPr b="0" lang="en-US" sz="4400" spc="-1" strike="noStrike">
                <a:solidFill>
                  <a:srgbClr val="0000ff"/>
                </a:solidFill>
                <a:latin typeface="Symbol"/>
                <a:ea typeface="Symbol"/>
              </a:rPr>
              <a:t>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o use?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version of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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either tak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tal life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tive life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an iu40 with getting different values of various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and found the following correlation coeffic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8" name=""/>
          <p:cNvGraphicFramePr/>
          <p:nvPr/>
        </p:nvGraphicFramePr>
        <p:xfrm>
          <a:off x="2070000" y="4435560"/>
          <a:ext cx="5110200" cy="113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0000" y="4435560"/>
                    <a:ext cx="511020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4B6B-3A6E-4F2C-8FED-7C16DFCAEB37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303DF-D590-43A7-8D3D-24E233E0EBAC}" type="datetime3">
              <a:rPr lang="en-US"/>
              <a:t>July 30, 2026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434880" y="3257640"/>
            <a:ext cx="1828800" cy="8380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shown that this problem is NP-Compl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1 : Use standard AI heuristic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ht be slower, but definitely better then indirect approach, experiments support this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ropose using variations of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ill climb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imulated anne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rdering by Minimization of </a:t>
            </a:r>
            <a:r>
              <a:rPr b="0" lang="en-US" sz="4400" spc="-1" strike="noStrike">
                <a:solidFill>
                  <a:srgbClr val="0000ff"/>
                </a:solidFill>
                <a:latin typeface="Symbol"/>
                <a:ea typeface="Symbol"/>
              </a:rPr>
              <a:t>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(contd.)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10C3-AB45-4163-89D7-22702708ADB6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DE3FB-DD96-4B29-A55E-7573577732C2}" type="datetime3">
              <a:rPr lang="en-US"/>
              <a:t>July 30, 2026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rdering by Minimization of </a:t>
            </a:r>
            <a:r>
              <a:rPr b="0" lang="en-US" sz="4400" spc="-1" strike="noStrike">
                <a:solidFill>
                  <a:srgbClr val="0000ff"/>
                </a:solidFill>
                <a:latin typeface="Symbol"/>
                <a:ea typeface="Symbol"/>
              </a:rPr>
              <a:t>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(contd.)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ic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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defined does not take into account relative sizes of conjun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 new metric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weighs each conjunct by the size of it’s B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2971800" y="4165560"/>
                <a:ext cx="304632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z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≤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≤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ddSiz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num>
                      <m:den>
                        <m:r>
                          <m:t xml:space="preserve">m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dSize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2CA5-F35B-48B8-964D-E934D6FE0B41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77767-53EF-457D-83CF-E664634FB48A}" type="datetime3">
              <a:rPr lang="en-US"/>
              <a:t>July 30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hauhan</cp:lastModifiedBy>
  <cp:lastPrinted>2001-02-26T19:11:52Z</cp:lastPrinted>
  <dcterms:modified xsi:type="dcterms:W3CDTF">2001-03-20T21:42:16Z</dcterms:modified>
  <cp:revision>394</cp:revision>
  <dc:subject/>
  <dc:title>PowerPoint Presentation</dc:title>
</cp:coreProperties>
</file>