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592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39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5920" y="87339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A975E4B-A52A-4B8B-918C-A59DA7847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*)  Provided that the verification process can be formulated as a sequence of explicitly defined transformations, and the intermediate results can be adequately represented as a sequent of a special form.  In our experience, this is the case for many problem domains in formal ver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22076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ward reference to “sharing graphs”—described in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dering algorithms are: one based on kernighan lin heuristics and another a hill-climbing algorithm to minimize the metric sum_{(u,v) \in E}w(u,v).|order(v)-order(v)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of hill climbing and simulated annealing are use to minimiz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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22076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rdering algorithm uses graph sepa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is the weight function of we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in algorithm will find a good separator with small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22076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rdering algorithm uses graph sepa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is the weight function of we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in algorithm will find a good separator with small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22076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ward reference to “sharing graphs”—described in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dering algorithms are: one based on kernighan lin heuristics and another a hill-climbing algorithm to minimize the metric sum_{(u,v) \in E}w(u,v).|order(v)-order(v)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of hill climbing and simulated annealing are use to minimiz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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22076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ward reference to “sharing graphs”—described in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dering algorithms are: one based on kernighan lin heuristics and another a hill-climbing algorithm to minimize the metric sum_{(u,v) \in E}w(u,v).|order(v)-order(v)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of hill climbing and simulated annealing are use to minimiz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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22076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different column of equations to show the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A87-3698-44BB-8B6B-D64E1B60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9560" y="413064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A9D-2BE5-4FBE-A828-689E81AA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9560" y="4130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BC2-C095-43EA-9A0A-F5312A02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98108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98108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9560" y="4130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4130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4130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C420-40FC-475C-AF80-9A791F37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728B-7CF3-439E-BF65-90B30A20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239-80F8-42CE-874C-51D7B882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5707-11A8-40A5-BE5E-2F17EE97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50D-C1DF-44D8-9FE4-5924A29C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360" y="609120"/>
            <a:ext cx="8315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C58D-0D71-47EA-87FA-55675D55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9560" y="4130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169-9D31-4578-8797-D3BA220E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F91-5A89-4ED7-8AE0-791B961D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9560" y="413064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3F35-190A-45D3-B34C-9B2C1983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E5BD-9DED-4B71-A25C-410C090AD564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332E-31C7-4796-A2EE-3BD5DAC92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ynthesis and Verification</a:t>
            </a:r>
            <a:br>
              <a:rPr sz="40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mal and Semi-Formal Verific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1890720"/>
          <a:ext cx="8763120" cy="4470480"/>
        </p:xfrm>
        <a:graphic>
          <a:graphicData uri="http://schemas.openxmlformats.org/drawingml/2006/table">
            <a:tbl>
              <a:tblPr/>
              <a:tblGrid>
                <a:gridCol w="2362320"/>
                <a:gridCol w="1531800"/>
                <a:gridCol w="1592280"/>
                <a:gridCol w="3276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84.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traction in Model Chec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an Lu, Pankaj Chauhan, Anubhav Gup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mund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 German, I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 Gerth, In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l Pixley, Motor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nath Viswanath, A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udong Xhao, Richard Ra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84.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ing Model Checking with Theorem Prov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gey Berez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mund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 Gerth, In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 Raimi, Motor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udong Zhao, In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84.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Checking without BD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ubhav Gupta, Pankaj Chauh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mund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dy Eisner, IBM Hai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l Pixley, Motor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ew 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Image Computation Algorith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kaj Chauh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mund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Kukula, Synops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58200" y="137160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act #: TJ-6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675-97A7-45EC-AF09-545EF893A9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CC214-989D-496C-899A-178B17F6CDB0}" type="datetime3">
              <a:rPr lang="en-US"/>
              <a:t>July 30, 20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xistential Abstraction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30240" y="4954680"/>
            <a:ext cx="4648320" cy="1143000"/>
          </a:xfrm>
          <a:prstGeom prst="flowChartInputOutpu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49560" y="3049560"/>
            <a:ext cx="3047760" cy="914400"/>
          </a:xfrm>
          <a:prstGeom prst="flowChartInputOutpu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54320" y="58690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835360" y="3125520"/>
            <a:ext cx="1371600" cy="533160"/>
            <a:chOff x="2835360" y="3125520"/>
            <a:chExt cx="1371600" cy="533160"/>
          </a:xfrm>
        </p:grpSpPr>
        <p:sp>
          <p:nvSpPr>
            <p:cNvPr id="82" name=""/>
            <p:cNvSpPr/>
            <p:nvPr/>
          </p:nvSpPr>
          <p:spPr>
            <a:xfrm flipV="1">
              <a:off x="4054320" y="3506760"/>
              <a:ext cx="152640" cy="151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835360" y="3278160"/>
              <a:ext cx="152280" cy="151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53753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673440" y="31251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616040" y="3277800"/>
            <a:ext cx="3123720" cy="2590920"/>
            <a:chOff x="1616040" y="3277800"/>
            <a:chExt cx="3123720" cy="2590920"/>
          </a:xfrm>
        </p:grpSpPr>
        <p:sp>
          <p:nvSpPr>
            <p:cNvPr id="86" name=""/>
            <p:cNvSpPr/>
            <p:nvPr/>
          </p:nvSpPr>
          <p:spPr>
            <a:xfrm flipV="1">
              <a:off x="1616040" y="3430080"/>
              <a:ext cx="1219320" cy="205740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759040" y="3430440"/>
              <a:ext cx="152280" cy="220968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911320" y="3277800"/>
              <a:ext cx="762120" cy="1981080"/>
            </a:xfrm>
            <a:prstGeom prst="line">
              <a:avLst/>
            </a:prstGeom>
            <a:ln w="28440">
              <a:solidFill>
                <a:srgbClr val="00cc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3749760" y="3277800"/>
              <a:ext cx="304560" cy="2057400"/>
            </a:xfrm>
            <a:prstGeom prst="line">
              <a:avLst/>
            </a:prstGeom>
            <a:ln w="28440">
              <a:solidFill>
                <a:srgbClr val="00cc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673440" y="3658680"/>
              <a:ext cx="380880" cy="2133720"/>
            </a:xfrm>
            <a:prstGeom prst="line">
              <a:avLst/>
            </a:prstGeom>
            <a:ln w="28440">
              <a:solidFill>
                <a:srgbClr val="0066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206600" y="3659040"/>
              <a:ext cx="533160" cy="2209680"/>
            </a:xfrm>
            <a:prstGeom prst="line">
              <a:avLst/>
            </a:prstGeom>
            <a:ln w="28440">
              <a:solidFill>
                <a:srgbClr val="0066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39520" y="499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52920" y="2967120"/>
            <a:ext cx="53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808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6280" y="164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01640"/>
            <a:ext cx="7391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 abstraction function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h : S </a:t>
            </a:r>
            <a:r>
              <a:rPr b="0" lang="en-US" sz="2000" spc="-1" strike="noStrike">
                <a:solidFill>
                  <a:srgbClr val="00808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808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concrete states are grouped and mapped into abstrac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00200" y="4338720"/>
            <a:ext cx="3216240" cy="1681920"/>
            <a:chOff x="1600200" y="4338720"/>
            <a:chExt cx="3216240" cy="1681920"/>
          </a:xfrm>
        </p:grpSpPr>
        <p:sp>
          <p:nvSpPr>
            <p:cNvPr id="97" name=""/>
            <p:cNvSpPr/>
            <p:nvPr/>
          </p:nvSpPr>
          <p:spPr>
            <a:xfrm>
              <a:off x="2248200" y="433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18040" y="433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77000" y="433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00200" y="5106960"/>
              <a:ext cx="3216240" cy="913680"/>
              <a:chOff x="1600200" y="5106960"/>
              <a:chExt cx="3216240" cy="913680"/>
            </a:xfrm>
          </p:grpSpPr>
          <p:sp>
            <p:nvSpPr>
              <p:cNvPr id="101" name=""/>
              <p:cNvSpPr/>
              <p:nvPr/>
            </p:nvSpPr>
            <p:spPr>
              <a:xfrm>
                <a:off x="2911320" y="5106960"/>
                <a:ext cx="1143000" cy="380520"/>
              </a:xfrm>
              <a:custGeom>
                <a:avLst/>
                <a:gdLst>
                  <a:gd name="textAreaLeft" fmla="*/ 257040 w 1143000"/>
                  <a:gd name="textAreaRight" fmla="*/ 885960 w 1143000"/>
                  <a:gd name="textAreaTop" fmla="*/ 85680 h 380520"/>
                  <a:gd name="textAreaBottom" fmla="*/ 29484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54" y="12403"/>
                    </a:lnTo>
                    <a:lnTo>
                      <a:pt x="786" y="14846"/>
                    </a:lnTo>
                    <a:lnTo>
                      <a:pt x="3755" y="15375"/>
                    </a:lnTo>
                    <a:lnTo>
                      <a:pt x="3163" y="18437"/>
                    </a:lnTo>
                    <a:lnTo>
                      <a:pt x="6103" y="17764"/>
                    </a:lnTo>
                    <a:lnTo>
                      <a:pt x="6580" y="20741"/>
                    </a:lnTo>
                    <a:lnTo>
                      <a:pt x="9054" y="19016"/>
                    </a:lnTo>
                    <a:lnTo>
                      <a:pt x="10800" y="21600"/>
                    </a:lnTo>
                    <a:lnTo>
                      <a:pt x="12403" y="19046"/>
                    </a:lnTo>
                    <a:lnTo>
                      <a:pt x="14846" y="20814"/>
                    </a:lnTo>
                    <a:lnTo>
                      <a:pt x="15375" y="17845"/>
                    </a:lnTo>
                    <a:lnTo>
                      <a:pt x="18437" y="18437"/>
                    </a:lnTo>
                    <a:lnTo>
                      <a:pt x="17764" y="15497"/>
                    </a:lnTo>
                    <a:lnTo>
                      <a:pt x="20741" y="15020"/>
                    </a:lnTo>
                    <a:lnTo>
                      <a:pt x="19016" y="12546"/>
                    </a:lnTo>
                    <a:lnTo>
                      <a:pt x="21600" y="10800"/>
                    </a:lnTo>
                    <a:lnTo>
                      <a:pt x="19046" y="9197"/>
                    </a:lnTo>
                    <a:lnTo>
                      <a:pt x="20814" y="6754"/>
                    </a:lnTo>
                    <a:lnTo>
                      <a:pt x="17845" y="6225"/>
                    </a:lnTo>
                    <a:lnTo>
                      <a:pt x="18437" y="3163"/>
                    </a:lnTo>
                    <a:lnTo>
                      <a:pt x="15497" y="3836"/>
                    </a:lnTo>
                    <a:lnTo>
                      <a:pt x="15020" y="859"/>
                    </a:lnTo>
                    <a:lnTo>
                      <a:pt x="12546" y="2584"/>
                    </a:lnTo>
                    <a:lnTo>
                      <a:pt x="10800" y="0"/>
                    </a:lnTo>
                    <a:lnTo>
                      <a:pt x="9197" y="2554"/>
                    </a:lnTo>
                    <a:lnTo>
                      <a:pt x="6754" y="786"/>
                    </a:lnTo>
                    <a:lnTo>
                      <a:pt x="6225" y="3755"/>
                    </a:lnTo>
                    <a:lnTo>
                      <a:pt x="3163" y="3163"/>
                    </a:lnTo>
                    <a:lnTo>
                      <a:pt x="3836" y="6103"/>
                    </a:lnTo>
                    <a:lnTo>
                      <a:pt x="859" y="6580"/>
                    </a:lnTo>
                    <a:lnTo>
                      <a:pt x="2584" y="905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673440" y="5639760"/>
                <a:ext cx="1143000" cy="380880"/>
              </a:xfrm>
              <a:custGeom>
                <a:avLst/>
                <a:gdLst>
                  <a:gd name="textAreaLeft" fmla="*/ 257040 w 1143000"/>
                  <a:gd name="textAreaRight" fmla="*/ 885960 w 1143000"/>
                  <a:gd name="textAreaTop" fmla="*/ 85680 h 380880"/>
                  <a:gd name="textAreaBottom" fmla="*/ 2952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54" y="12403"/>
                    </a:lnTo>
                    <a:lnTo>
                      <a:pt x="786" y="14846"/>
                    </a:lnTo>
                    <a:lnTo>
                      <a:pt x="3755" y="15375"/>
                    </a:lnTo>
                    <a:lnTo>
                      <a:pt x="3163" y="18437"/>
                    </a:lnTo>
                    <a:lnTo>
                      <a:pt x="6103" y="17764"/>
                    </a:lnTo>
                    <a:lnTo>
                      <a:pt x="6580" y="20741"/>
                    </a:lnTo>
                    <a:lnTo>
                      <a:pt x="9054" y="19016"/>
                    </a:lnTo>
                    <a:lnTo>
                      <a:pt x="10800" y="21600"/>
                    </a:lnTo>
                    <a:lnTo>
                      <a:pt x="12403" y="19046"/>
                    </a:lnTo>
                    <a:lnTo>
                      <a:pt x="14846" y="20814"/>
                    </a:lnTo>
                    <a:lnTo>
                      <a:pt x="15375" y="17845"/>
                    </a:lnTo>
                    <a:lnTo>
                      <a:pt x="18437" y="18437"/>
                    </a:lnTo>
                    <a:lnTo>
                      <a:pt x="17764" y="15497"/>
                    </a:lnTo>
                    <a:lnTo>
                      <a:pt x="20741" y="15020"/>
                    </a:lnTo>
                    <a:lnTo>
                      <a:pt x="19016" y="12546"/>
                    </a:lnTo>
                    <a:lnTo>
                      <a:pt x="21600" y="10800"/>
                    </a:lnTo>
                    <a:lnTo>
                      <a:pt x="19046" y="9197"/>
                    </a:lnTo>
                    <a:lnTo>
                      <a:pt x="20814" y="6754"/>
                    </a:lnTo>
                    <a:lnTo>
                      <a:pt x="17845" y="6225"/>
                    </a:lnTo>
                    <a:lnTo>
                      <a:pt x="18437" y="3163"/>
                    </a:lnTo>
                    <a:lnTo>
                      <a:pt x="15497" y="3836"/>
                    </a:lnTo>
                    <a:lnTo>
                      <a:pt x="15020" y="859"/>
                    </a:lnTo>
                    <a:lnTo>
                      <a:pt x="12546" y="2584"/>
                    </a:lnTo>
                    <a:lnTo>
                      <a:pt x="10800" y="0"/>
                    </a:lnTo>
                    <a:lnTo>
                      <a:pt x="9197" y="2554"/>
                    </a:lnTo>
                    <a:lnTo>
                      <a:pt x="6754" y="786"/>
                    </a:lnTo>
                    <a:lnTo>
                      <a:pt x="6225" y="3755"/>
                    </a:lnTo>
                    <a:lnTo>
                      <a:pt x="3163" y="3163"/>
                    </a:lnTo>
                    <a:lnTo>
                      <a:pt x="3836" y="6103"/>
                    </a:lnTo>
                    <a:lnTo>
                      <a:pt x="859" y="6580"/>
                    </a:lnTo>
                    <a:lnTo>
                      <a:pt x="2584" y="905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600200" y="5411160"/>
                <a:ext cx="1143000" cy="380880"/>
              </a:xfrm>
              <a:custGeom>
                <a:avLst/>
                <a:gdLst>
                  <a:gd name="textAreaLeft" fmla="*/ 257040 w 1143000"/>
                  <a:gd name="textAreaRight" fmla="*/ 885960 w 1143000"/>
                  <a:gd name="textAreaTop" fmla="*/ 85680 h 380880"/>
                  <a:gd name="textAreaBottom" fmla="*/ 2952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54" y="12403"/>
                    </a:lnTo>
                    <a:lnTo>
                      <a:pt x="786" y="14846"/>
                    </a:lnTo>
                    <a:lnTo>
                      <a:pt x="3755" y="15375"/>
                    </a:lnTo>
                    <a:lnTo>
                      <a:pt x="3163" y="18437"/>
                    </a:lnTo>
                    <a:lnTo>
                      <a:pt x="6103" y="17764"/>
                    </a:lnTo>
                    <a:lnTo>
                      <a:pt x="6580" y="20741"/>
                    </a:lnTo>
                    <a:lnTo>
                      <a:pt x="9054" y="19016"/>
                    </a:lnTo>
                    <a:lnTo>
                      <a:pt x="10800" y="21600"/>
                    </a:lnTo>
                    <a:lnTo>
                      <a:pt x="12403" y="19046"/>
                    </a:lnTo>
                    <a:lnTo>
                      <a:pt x="14846" y="20814"/>
                    </a:lnTo>
                    <a:lnTo>
                      <a:pt x="15375" y="17845"/>
                    </a:lnTo>
                    <a:lnTo>
                      <a:pt x="18437" y="18437"/>
                    </a:lnTo>
                    <a:lnTo>
                      <a:pt x="17764" y="15497"/>
                    </a:lnTo>
                    <a:lnTo>
                      <a:pt x="20741" y="15020"/>
                    </a:lnTo>
                    <a:lnTo>
                      <a:pt x="19016" y="12546"/>
                    </a:lnTo>
                    <a:lnTo>
                      <a:pt x="21600" y="10800"/>
                    </a:lnTo>
                    <a:lnTo>
                      <a:pt x="19046" y="9197"/>
                    </a:lnTo>
                    <a:lnTo>
                      <a:pt x="20814" y="6754"/>
                    </a:lnTo>
                    <a:lnTo>
                      <a:pt x="17845" y="6225"/>
                    </a:lnTo>
                    <a:lnTo>
                      <a:pt x="18437" y="3163"/>
                    </a:lnTo>
                    <a:lnTo>
                      <a:pt x="15497" y="3836"/>
                    </a:lnTo>
                    <a:lnTo>
                      <a:pt x="15020" y="859"/>
                    </a:lnTo>
                    <a:lnTo>
                      <a:pt x="12546" y="2584"/>
                    </a:lnTo>
                    <a:lnTo>
                      <a:pt x="10800" y="0"/>
                    </a:lnTo>
                    <a:lnTo>
                      <a:pt x="9197" y="2554"/>
                    </a:lnTo>
                    <a:lnTo>
                      <a:pt x="6754" y="786"/>
                    </a:lnTo>
                    <a:lnTo>
                      <a:pt x="6225" y="3755"/>
                    </a:lnTo>
                    <a:lnTo>
                      <a:pt x="3163" y="3163"/>
                    </a:lnTo>
                    <a:lnTo>
                      <a:pt x="3836" y="6103"/>
                    </a:lnTo>
                    <a:lnTo>
                      <a:pt x="859" y="6580"/>
                    </a:lnTo>
                    <a:lnTo>
                      <a:pt x="2584" y="905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2362320" y="55641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5487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5564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514600" y="53352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52592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1832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57927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7927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52592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733560" y="533556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5869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14600" y="3201480"/>
            <a:ext cx="1158840" cy="2362320"/>
            <a:chOff x="2514600" y="3201480"/>
            <a:chExt cx="1158840" cy="2362320"/>
          </a:xfrm>
        </p:grpSpPr>
        <p:sp>
          <p:nvSpPr>
            <p:cNvPr id="116" name=""/>
            <p:cNvSpPr/>
            <p:nvPr/>
          </p:nvSpPr>
          <p:spPr>
            <a:xfrm flipV="1">
              <a:off x="2987640" y="3201480"/>
              <a:ext cx="68580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514600" y="5335200"/>
              <a:ext cx="6858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733560" y="3277800"/>
            <a:ext cx="396720" cy="2514960"/>
            <a:chOff x="3733560" y="3277800"/>
            <a:chExt cx="396720" cy="2514960"/>
          </a:xfrm>
        </p:grpSpPr>
        <p:sp>
          <p:nvSpPr>
            <p:cNvPr id="119" name=""/>
            <p:cNvSpPr/>
            <p:nvPr/>
          </p:nvSpPr>
          <p:spPr>
            <a:xfrm flipH="1" flipV="1">
              <a:off x="3825360" y="327780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3733560" y="5335560"/>
              <a:ext cx="2286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14800" y="3278160"/>
            <a:ext cx="396720" cy="2590560"/>
            <a:chOff x="4114800" y="3278160"/>
            <a:chExt cx="396720" cy="2590560"/>
          </a:xfrm>
        </p:grpSpPr>
        <p:sp>
          <p:nvSpPr>
            <p:cNvPr id="122" name=""/>
            <p:cNvSpPr/>
            <p:nvPr/>
          </p:nvSpPr>
          <p:spPr>
            <a:xfrm>
              <a:off x="4206960" y="3278160"/>
              <a:ext cx="304560" cy="36648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950" y="1870"/>
                  </a:moveTo>
                  <a:arcTo wR="-9469" hR="-9469" stAng="-4234202" swAng="-17360483"/>
                  <a:lnTo>
                    <a:pt x="0" y="10783"/>
                  </a:lnTo>
                  <a:arcTo wR="10800" hR="10800" stAng="-10794685" swAng="17360483"/>
                  <a:lnTo>
                    <a:pt x="6309" y="23531"/>
                  </a:lnTo>
                  <a:lnTo>
                    <a:pt x="4255" y="19238"/>
                  </a:lnTo>
                  <a:lnTo>
                    <a:pt x="8548" y="1718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14800" y="586872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14600" y="5640480"/>
            <a:ext cx="1447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514600" y="3430440"/>
            <a:ext cx="1447920" cy="2438280"/>
            <a:chOff x="2514600" y="3430440"/>
            <a:chExt cx="1447920" cy="2438280"/>
          </a:xfrm>
        </p:grpSpPr>
        <p:sp>
          <p:nvSpPr>
            <p:cNvPr id="126" name=""/>
            <p:cNvSpPr/>
            <p:nvPr/>
          </p:nvSpPr>
          <p:spPr>
            <a:xfrm>
              <a:off x="2514600" y="5640120"/>
              <a:ext cx="1447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3430440"/>
              <a:ext cx="9907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5410080" y="3705120"/>
            <a:ext cx="2301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M 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M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|= </a:t>
            </a:r>
            <a:r>
              <a:rPr b="0" lang="en-US" sz="2000" spc="-1" strike="noStrike">
                <a:solidFill>
                  <a:srgbClr val="008080"/>
                </a:solidFill>
                <a:latin typeface="Symbol"/>
                <a:ea typeface="Symbol"/>
              </a:rPr>
              <a:t>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8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M |= </a:t>
            </a:r>
            <a:r>
              <a:rPr b="0" lang="en-US" sz="2000" spc="-1" strike="noStrike">
                <a:solidFill>
                  <a:srgbClr val="008080"/>
                </a:solidFill>
                <a:latin typeface="Symbol"/>
                <a:ea typeface="Symbol"/>
              </a:rPr>
              <a:t>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6F88-E501-4739-8E67-56C257AFA22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9B05A-AFD0-44EE-B54C-D66481085CE3}" type="datetime3">
              <a:rPr lang="en-US"/>
              <a:t>July 30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Our Abstraction Methodology (CAV’2000)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23320" y="5129280"/>
            <a:ext cx="2153160" cy="1136880"/>
            <a:chOff x="6223320" y="5129280"/>
            <a:chExt cx="2153160" cy="1136880"/>
          </a:xfrm>
        </p:grpSpPr>
        <p:sp>
          <p:nvSpPr>
            <p:cNvPr id="131" name=""/>
            <p:cNvSpPr/>
            <p:nvPr/>
          </p:nvSpPr>
          <p:spPr>
            <a:xfrm>
              <a:off x="6227640" y="58147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370640" y="512928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23320" y="5756040"/>
              <a:ext cx="215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 not spuri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41640" y="5113440"/>
            <a:ext cx="2286000" cy="1082160"/>
            <a:chOff x="3941640" y="5113440"/>
            <a:chExt cx="2286000" cy="1082160"/>
          </a:xfrm>
        </p:grpSpPr>
        <p:sp>
          <p:nvSpPr>
            <p:cNvPr id="135" name=""/>
            <p:cNvSpPr/>
            <p:nvPr/>
          </p:nvSpPr>
          <p:spPr>
            <a:xfrm>
              <a:off x="3941640" y="5510160"/>
              <a:ext cx="2286000" cy="6854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eck spuri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unterex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84640" y="51289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03800" y="51134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227640" y="3079800"/>
            <a:ext cx="1447920" cy="2049480"/>
            <a:chOff x="6227640" y="3079800"/>
            <a:chExt cx="1447920" cy="2049480"/>
          </a:xfrm>
        </p:grpSpPr>
        <p:sp>
          <p:nvSpPr>
            <p:cNvPr id="139" name=""/>
            <p:cNvSpPr/>
            <p:nvPr/>
          </p:nvSpPr>
          <p:spPr>
            <a:xfrm>
              <a:off x="6989760" y="4443480"/>
              <a:ext cx="685800" cy="68580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27640" y="36817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70640" y="36817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3200" y="3079800"/>
              <a:ext cx="99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|=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941640" y="3949560"/>
            <a:ext cx="2286000" cy="1179360"/>
            <a:chOff x="3941640" y="3949560"/>
            <a:chExt cx="2286000" cy="1179360"/>
          </a:xfrm>
        </p:grpSpPr>
        <p:sp>
          <p:nvSpPr>
            <p:cNvPr id="144" name=""/>
            <p:cNvSpPr/>
            <p:nvPr/>
          </p:nvSpPr>
          <p:spPr>
            <a:xfrm>
              <a:off x="3941640" y="4443120"/>
              <a:ext cx="2286000" cy="685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unterexampl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84640" y="40622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5125320" y="3949560"/>
              <a:ext cx="1066320" cy="510120"/>
              <a:chOff x="5125320" y="3949560"/>
              <a:chExt cx="1066320" cy="510120"/>
            </a:xfrm>
          </p:grpSpPr>
          <p:sp>
            <p:nvSpPr>
              <p:cNvPr id="147" name=""/>
              <p:cNvSpPr/>
              <p:nvPr/>
            </p:nvSpPr>
            <p:spPr>
              <a:xfrm>
                <a:off x="5125320" y="3949560"/>
                <a:ext cx="106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|=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743440" y="413856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3941640" y="2989440"/>
            <a:ext cx="2286000" cy="1072440"/>
            <a:chOff x="3941640" y="2989440"/>
            <a:chExt cx="2286000" cy="1072440"/>
          </a:xfrm>
        </p:grpSpPr>
        <p:sp>
          <p:nvSpPr>
            <p:cNvPr id="150" name=""/>
            <p:cNvSpPr/>
            <p:nvPr/>
          </p:nvSpPr>
          <p:spPr>
            <a:xfrm>
              <a:off x="3941640" y="3376440"/>
              <a:ext cx="2286000" cy="6854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el che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4640" y="299556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66640" y="2989440"/>
              <a:ext cx="54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941640" y="1746360"/>
            <a:ext cx="2401560" cy="1248840"/>
            <a:chOff x="3941640" y="1746360"/>
            <a:chExt cx="2401560" cy="1248840"/>
          </a:xfrm>
        </p:grpSpPr>
        <p:sp>
          <p:nvSpPr>
            <p:cNvPr id="154" name=""/>
            <p:cNvSpPr/>
            <p:nvPr/>
          </p:nvSpPr>
          <p:spPr>
            <a:xfrm>
              <a:off x="3941640" y="2309760"/>
              <a:ext cx="2286000" cy="6854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rate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bst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57640" y="20048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24600" y="174636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 and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866880" y="3079800"/>
            <a:ext cx="3608280" cy="3112200"/>
            <a:chOff x="866880" y="3079800"/>
            <a:chExt cx="3608280" cy="3112200"/>
          </a:xfrm>
        </p:grpSpPr>
        <p:sp>
          <p:nvSpPr>
            <p:cNvPr id="158" name=""/>
            <p:cNvSpPr/>
            <p:nvPr/>
          </p:nvSpPr>
          <p:spPr>
            <a:xfrm>
              <a:off x="866880" y="4451400"/>
              <a:ext cx="2133360" cy="685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933560" y="30798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33560" y="3079800"/>
              <a:ext cx="254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19080" y="542772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13720" y="57931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 spuri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933200" y="58230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933560" y="513684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75160" y="3079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E24-8816-4322-A1D4-9770D2526A0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788D5-0AED-4908-9DB4-D62B274F685F}" type="datetime3">
              <a:rPr lang="en-US"/>
              <a:t>July 30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Highlights of Our Methodology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essive results, on average, 3.5x time, 17x space improvem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Fujitsu multimedia processor  ve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s all ACTL* loop/path counter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u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n-loop/non-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nterexamp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fea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heck validity of counterexamp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51D-5213-4C1E-9B32-579EB308A7C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15337-0BC3-4D1F-94CC-D79151464929}" type="datetime3">
              <a:rPr lang="en-US"/>
              <a:t>July 30, 20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eneral Counterexamples for ACTL*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the counterexamples in ACTL*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ath or loo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fine the abstraction when a counterexample is not lin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counterexamp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generate “readable” counterexamp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354B-7910-4202-B92C-006CAF99B24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71A3E-E35D-4179-B6F6-39A3BDEDFBC7}" type="datetime3">
              <a:rPr lang="en-US"/>
              <a:t>July 30, 20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ree-like Counterexampl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79440" y="1758960"/>
            <a:ext cx="6569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counterexampl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(AG </a:t>
            </a:r>
            <a:r>
              <a:rPr b="0" lang="en-US" sz="2800" spc="-1" strike="noStrike">
                <a:solidFill>
                  <a:srgbClr val="00808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p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(AF </a:t>
            </a:r>
            <a:r>
              <a:rPr b="0" lang="en-US" sz="2800" spc="-1" strike="noStrike">
                <a:solidFill>
                  <a:srgbClr val="00808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q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k li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(AG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(AF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132920" y="3611520"/>
            <a:ext cx="2794680" cy="2599560"/>
            <a:chOff x="1132920" y="3611520"/>
            <a:chExt cx="2794680" cy="2599560"/>
          </a:xfrm>
        </p:grpSpPr>
        <p:sp>
          <p:nvSpPr>
            <p:cNvPr id="173" name=""/>
            <p:cNvSpPr/>
            <p:nvPr/>
          </p:nvSpPr>
          <p:spPr>
            <a:xfrm>
              <a:off x="2176560" y="4303440"/>
              <a:ext cx="1476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08280" y="4836960"/>
              <a:ext cx="14760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65120" y="5370480"/>
              <a:ext cx="14760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32920" y="53704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881360" y="4456080"/>
              <a:ext cx="2952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512360" y="4989240"/>
              <a:ext cx="29556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03320" y="361152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Arial"/>
                </a:rPr>
                <a:t>EF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6040" y="4303440"/>
              <a:ext cx="1476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76720" y="4760640"/>
              <a:ext cx="1476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1920" y="5217840"/>
              <a:ext cx="1476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03640" y="5675040"/>
              <a:ext cx="1476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3640" y="4456080"/>
              <a:ext cx="147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24320" y="4913280"/>
              <a:ext cx="147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350880" y="5370480"/>
              <a:ext cx="2206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276720" y="4913280"/>
              <a:ext cx="7452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17960" y="39686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76800" y="45320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59320" y="52178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17960" y="5751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17440" y="36115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Arial"/>
                </a:rPr>
                <a:t>EG 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171400" y="3576600"/>
            <a:ext cx="2562840" cy="2634480"/>
            <a:chOff x="5171400" y="3576600"/>
            <a:chExt cx="2562840" cy="2634480"/>
          </a:xfrm>
        </p:grpSpPr>
        <p:sp>
          <p:nvSpPr>
            <p:cNvPr id="194" name=""/>
            <p:cNvSpPr/>
            <p:nvPr/>
          </p:nvSpPr>
          <p:spPr>
            <a:xfrm>
              <a:off x="6510240" y="4303440"/>
              <a:ext cx="1904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96080" y="4760640"/>
              <a:ext cx="1890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75520" y="5217840"/>
              <a:ext cx="1904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00680" y="5675040"/>
              <a:ext cx="1890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00680" y="4456080"/>
              <a:ext cx="1890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85080" y="4913280"/>
              <a:ext cx="19044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889680" y="5370480"/>
              <a:ext cx="2858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796080" y="4913280"/>
              <a:ext cx="9360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94480" y="39686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4600" y="45320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4360" y="52178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93040" y="5751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10240" y="4303440"/>
              <a:ext cx="1904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35760" y="4836960"/>
              <a:ext cx="1904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65880" y="5370480"/>
              <a:ext cx="1904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71400" y="53704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6130800" y="4456080"/>
              <a:ext cx="379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56320" y="4989240"/>
              <a:ext cx="37944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33920" y="3576600"/>
              <a:ext cx="22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Arial"/>
                </a:rPr>
                <a:t>(EF p) </a:t>
              </a:r>
              <a:r>
                <a:rPr b="0" lang="en-US" sz="2400" spc="-1" strike="noStrike">
                  <a:solidFill>
                    <a:srgbClr val="008080"/>
                  </a:solidFill>
                  <a:latin typeface="Symbol"/>
                  <a:ea typeface="Symbol"/>
                </a:rPr>
                <a:t></a:t>
              </a:r>
              <a:r>
                <a:rPr b="0" lang="en-US" sz="2400" spc="-1" strike="noStrike">
                  <a:solidFill>
                    <a:srgbClr val="008080"/>
                  </a:solidFill>
                  <a:latin typeface="Arial"/>
                </a:rPr>
                <a:t> (EG q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645440" y="3008160"/>
            <a:ext cx="25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(EF p)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(EG 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DA3-A2F7-472D-8D3C-27DB1BF77ED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E6A1A-5C2A-42C5-9A13-2A4A4443835B}" type="datetime3">
              <a:rPr lang="en-US"/>
              <a:t>July 30, 20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unterexamples for ACTL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6280" y="1874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ACTL formulas have tree-like counterexam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ree-like counterexampl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diagn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mposable to simple paths and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443-EE98-4889-8B45-2A4CF54D179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D9A3F-8FC0-4EA7-BA2A-B880648A6480}" type="datetime3">
              <a:rPr lang="en-US"/>
              <a:t>July 30, 20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Generate Counterexamples for ACTL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6280" y="1874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ropose an algorithm to generate tree-like counterexamples for AC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rse the parse tree of the formula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path or loop counterexamples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in the parse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the sub-counterexamples for the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51200" y="55818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ymboli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59C-5846-4AD2-BF65-F3B73A8464A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C0D0F-B05A-430F-842E-A379E17E57C8}" type="datetime3">
              <a:rPr lang="en-US"/>
              <a:t>July 30, 20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Using SAT for Abstraction Refinemen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39200" y="1981080"/>
            <a:ext cx="40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Domain: Hardware circuits with more than 5000 latch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/loop counterexample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: Primary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: Visibl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Invisibl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R U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R| &lt;&lt; |V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05680" y="2155680"/>
            <a:ext cx="1519200" cy="1143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65840" y="4000680"/>
            <a:ext cx="473040" cy="1077840"/>
          </a:xfrm>
          <a:custGeom>
            <a:avLst/>
            <a:gdLst>
              <a:gd name="textAreaLeft" fmla="*/ 23040 w 473040"/>
              <a:gd name="textAreaRight" fmla="*/ 450000 w 473040"/>
              <a:gd name="textAreaTop" fmla="*/ 23040 h 1077840"/>
              <a:gd name="textAreaBottom" fmla="*/ 1054800 h 1077840"/>
            </a:gdLst>
            <a:ahLst/>
            <a:rect l="textAreaLeft" t="textAreaTop" r="textAreaRight" b="textAreaBottom"/>
            <a:pathLst>
              <a:path w="21600" h="49195">
                <a:moveTo>
                  <a:pt x="3600" y="0"/>
                </a:moveTo>
                <a:arcTo wR="3600" hR="3600" stAng="16200000" swAng="-5400000"/>
                <a:lnTo>
                  <a:pt x="0" y="45595"/>
                </a:lnTo>
                <a:arcTo wR="3600" hR="3600" stAng="10800000" swAng="-5400000"/>
                <a:lnTo>
                  <a:pt x="18000" y="49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83240" y="3021120"/>
            <a:ext cx="1160640" cy="1208160"/>
          </a:xfrm>
          <a:custGeom>
            <a:avLst/>
            <a:gdLst/>
            <a:ahLst/>
            <a:rect l="l" t="t" r="r" b="b"/>
            <a:pathLst>
              <a:path w="669" h="761">
                <a:moveTo>
                  <a:pt x="669" y="761"/>
                </a:moveTo>
                <a:lnTo>
                  <a:pt x="0" y="761"/>
                </a:lnTo>
                <a:lnTo>
                  <a:pt x="0" y="0"/>
                </a:lnTo>
                <a:lnTo>
                  <a:pt x="319" y="0"/>
                </a:lnTo>
              </a:path>
            </a:pathLst>
          </a:custGeom>
          <a:noFill/>
          <a:ln w="7632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4200" y="3005280"/>
            <a:ext cx="881280" cy="1224000"/>
          </a:xfrm>
          <a:custGeom>
            <a:avLst/>
            <a:gdLst/>
            <a:ahLst/>
            <a:rect l="l" t="t" r="r" b="b"/>
            <a:pathLst>
              <a:path w="555" h="771">
                <a:moveTo>
                  <a:pt x="318" y="0"/>
                </a:moveTo>
                <a:lnTo>
                  <a:pt x="545" y="0"/>
                </a:lnTo>
                <a:lnTo>
                  <a:pt x="555" y="771"/>
                </a:lnTo>
                <a:lnTo>
                  <a:pt x="0" y="771"/>
                </a:lnTo>
              </a:path>
            </a:pathLst>
          </a:custGeom>
          <a:noFill/>
          <a:ln w="7632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56160" y="2465280"/>
            <a:ext cx="1649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06840" y="2023920"/>
            <a:ext cx="4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86560" y="485460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37320" y="4859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5760" y="355284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89720" y="35542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6520" y="2817720"/>
            <a:ext cx="1579320" cy="1995480"/>
          </a:xfrm>
          <a:custGeom>
            <a:avLst/>
            <a:gdLst/>
            <a:ahLst/>
            <a:rect l="l" t="t" r="r" b="b"/>
            <a:pathLst>
              <a:path w="995" h="1257">
                <a:moveTo>
                  <a:pt x="995" y="1257"/>
                </a:moveTo>
                <a:lnTo>
                  <a:pt x="0" y="1257"/>
                </a:lnTo>
                <a:lnTo>
                  <a:pt x="0" y="0"/>
                </a:lnTo>
                <a:lnTo>
                  <a:pt x="650" y="5"/>
                </a:ln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48600" y="2535120"/>
            <a:ext cx="1297080" cy="2293920"/>
          </a:xfrm>
          <a:custGeom>
            <a:avLst/>
            <a:gdLst/>
            <a:ahLst/>
            <a:rect l="l" t="t" r="r" b="b"/>
            <a:pathLst>
              <a:path w="817" h="1445">
                <a:moveTo>
                  <a:pt x="0" y="1440"/>
                </a:moveTo>
                <a:lnTo>
                  <a:pt x="812" y="1445"/>
                </a:lnTo>
                <a:lnTo>
                  <a:pt x="817" y="0"/>
                </a:lnTo>
                <a:lnTo>
                  <a:pt x="293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CEA-89EA-4A95-A59D-4C250980ED9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20C21-01C2-46AA-B08D-F98195B03AB6}" type="datetime3">
              <a:rPr lang="en-US"/>
              <a:t>July 30, 20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purious Path Counterexample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410080"/>
            <a:ext cx="3276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808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pur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657600"/>
            <a:ext cx="42696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80960" y="3657600"/>
            <a:ext cx="42732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6520" y="3657600"/>
            <a:ext cx="42732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30640" y="3657600"/>
            <a:ext cx="42696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0120" y="3745080"/>
            <a:ext cx="141120" cy="17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0120" y="4102200"/>
            <a:ext cx="141120" cy="177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0120" y="4457880"/>
            <a:ext cx="141120" cy="17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745080"/>
            <a:ext cx="142920" cy="17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48000" y="4457880"/>
            <a:ext cx="142920" cy="17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4457880"/>
            <a:ext cx="142920" cy="17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4102200"/>
            <a:ext cx="142920" cy="177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48000" y="4102200"/>
            <a:ext cx="142920" cy="177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48000" y="3745080"/>
            <a:ext cx="142920" cy="177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73560" y="4102200"/>
            <a:ext cx="141120" cy="177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73560" y="3745080"/>
            <a:ext cx="141120" cy="177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73560" y="4457880"/>
            <a:ext cx="141120" cy="177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1240" y="3835440"/>
            <a:ext cx="782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1240" y="4546440"/>
            <a:ext cx="782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1240" y="3835440"/>
            <a:ext cx="782640" cy="35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66800" y="3835440"/>
            <a:ext cx="781200" cy="62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66800" y="4189320"/>
            <a:ext cx="781200" cy="35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3835440"/>
            <a:ext cx="782640" cy="62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0120" y="2855880"/>
            <a:ext cx="141120" cy="177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2855880"/>
            <a:ext cx="142920" cy="177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48000" y="2855880"/>
            <a:ext cx="142920" cy="177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73560" y="2855880"/>
            <a:ext cx="141120" cy="177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41240" y="294480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66800" y="2944800"/>
            <a:ext cx="78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90920" y="294480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56840" y="3033720"/>
            <a:ext cx="14292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380600" y="3033720"/>
            <a:ext cx="14292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306160" y="3033720"/>
            <a:ext cx="14148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230280" y="3033720"/>
            <a:ext cx="14292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1240" y="3033720"/>
            <a:ext cx="14292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66800" y="3033720"/>
            <a:ext cx="14148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3033720"/>
            <a:ext cx="14292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14680" y="3033720"/>
            <a:ext cx="14292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994400" y="2438280"/>
            <a:ext cx="1344960" cy="2274480"/>
            <a:chOff x="1994400" y="2438280"/>
            <a:chExt cx="1344960" cy="2274480"/>
          </a:xfrm>
        </p:grpSpPr>
        <p:sp>
          <p:nvSpPr>
            <p:cNvPr id="275" name=""/>
            <p:cNvSpPr/>
            <p:nvPr/>
          </p:nvSpPr>
          <p:spPr>
            <a:xfrm>
              <a:off x="1994400" y="243828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failure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3720" y="3646080"/>
              <a:ext cx="426240" cy="10666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191120" y="2438280"/>
            <a:ext cx="4724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crete states mapped to the failure state are partitioned in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508720" y="4648320"/>
          <a:ext cx="2949480" cy="114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4648320"/>
                    <a:ext cx="2949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4343400" y="4648320"/>
          <a:ext cx="1165320" cy="1143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648320"/>
                    <a:ext cx="1165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2286000" y="40384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434340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BA7-4D83-4275-A667-4F5B020FD27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1C886-FCA1-417A-B9B8-FC290EE55CCE}" type="datetime3">
              <a:rPr lang="en-US"/>
              <a:t>July 30, 20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hecking the Validity of Counterexampl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abstract counterexample using proposition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 the formula to SAT che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SAT problem is linear in the circui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purious trace, dead end stat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,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ob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dad states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098960" y="4888080"/>
                <a:ext cx="40910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∃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∃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51BD-CEB2-4DD8-A9BA-37CAC0453AD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0B5C0-3749-4469-B7BF-B83EEE14FB45}" type="datetime3">
              <a:rPr lang="en-US"/>
              <a:t>July 30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ccomplishments!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20920" y="2751120"/>
            <a:ext cx="649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Yuan L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w at BroadComm Inc.) and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Marius Min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w PostDoc at Berkeley) graduated in the year 2000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2D1-61BA-4A0F-BDC5-4DE7695E4B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209C6-5383-445E-B30D-9C3B2AB403B6}" type="datetime3">
              <a:rPr lang="en-US"/>
              <a:t>July 30, 20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ample of Approximat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826920" y="2300400"/>
                <a:ext cx="2560680" cy="29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∧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¬</m:t>
                        </m:r>
                        <m:r>
                          <m:t xml:space="preserve">w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¬</m:t>
                        </m:r>
                        <m:r>
                          <m:t xml:space="preserve">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  <m:r>
                          <m:t xml:space="preserve">(</m:t>
                        </m:r>
                        <m:r>
                          <m:t xml:space="preserve">¬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0,0,1,0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5092560" y="3005280"/>
            <a:ext cx="557280" cy="121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78320" y="3105000"/>
            <a:ext cx="185760" cy="20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78320" y="3916440"/>
            <a:ext cx="185760" cy="20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80200" y="2994120"/>
            <a:ext cx="557280" cy="121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65960" y="3094200"/>
            <a:ext cx="185760" cy="20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65960" y="3905280"/>
            <a:ext cx="185760" cy="20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78640" y="2982960"/>
            <a:ext cx="557280" cy="121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64400" y="3083040"/>
            <a:ext cx="185760" cy="20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64400" y="3894120"/>
            <a:ext cx="185760" cy="20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52920" y="3249720"/>
            <a:ext cx="1028880" cy="71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35440" y="3070080"/>
            <a:ext cx="3657600" cy="244800"/>
          </a:xfrm>
          <a:prstGeom prst="rect">
            <a:avLst/>
          </a:prstGeom>
          <a:noFill/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6080" y="3908520"/>
            <a:ext cx="3657600" cy="244440"/>
          </a:xfrm>
          <a:prstGeom prst="rect">
            <a:avLst/>
          </a:prstGeom>
          <a:noFill/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965400" y="3046320"/>
                <a:ext cx="6019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008600" y="3900600"/>
                <a:ext cx="5601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041800" y="4340160"/>
                <a:ext cx="6606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450200" y="4378320"/>
                <a:ext cx="6206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1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211800" y="4354560"/>
                <a:ext cx="6606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5C0E-D1A6-4A27-8368-922B2B96E7C8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72339-93BB-431C-A5ED-BB537EF2EA87}" type="datetime3">
              <a:rPr lang="en-US"/>
              <a:t>July 30, 20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14360" y="21240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odified Refinement Methodology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941640" y="920880"/>
            <a:ext cx="2849040" cy="1248840"/>
            <a:chOff x="3941640" y="920880"/>
            <a:chExt cx="2849040" cy="1248840"/>
          </a:xfrm>
        </p:grpSpPr>
        <p:sp>
          <p:nvSpPr>
            <p:cNvPr id="308" name=""/>
            <p:cNvSpPr/>
            <p:nvPr/>
          </p:nvSpPr>
          <p:spPr>
            <a:xfrm>
              <a:off x="3941640" y="1484280"/>
              <a:ext cx="2286000" cy="6854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el Che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|=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57640" y="117936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30000" y="920880"/>
              <a:ext cx="16606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, M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941640" y="4287960"/>
            <a:ext cx="2286000" cy="1082160"/>
            <a:chOff x="3941640" y="4287960"/>
            <a:chExt cx="2286000" cy="1082160"/>
          </a:xfrm>
        </p:grpSpPr>
        <p:sp>
          <p:nvSpPr>
            <p:cNvPr id="312" name=""/>
            <p:cNvSpPr/>
            <p:nvPr/>
          </p:nvSpPr>
          <p:spPr>
            <a:xfrm>
              <a:off x="3941640" y="4684680"/>
              <a:ext cx="2286000" cy="6854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T for BadSt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84640" y="4303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03800" y="428796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245280" y="1306440"/>
            <a:ext cx="1430280" cy="2997360"/>
            <a:chOff x="6245280" y="1306440"/>
            <a:chExt cx="1430280" cy="2997360"/>
          </a:xfrm>
        </p:grpSpPr>
        <p:sp>
          <p:nvSpPr>
            <p:cNvPr id="316" name=""/>
            <p:cNvSpPr/>
            <p:nvPr/>
          </p:nvSpPr>
          <p:spPr>
            <a:xfrm>
              <a:off x="6989760" y="3618000"/>
              <a:ext cx="685800" cy="68580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45280" y="18097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54800" y="1795320"/>
              <a:ext cx="15840" cy="182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11520" y="1306440"/>
              <a:ext cx="99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|=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941640" y="3236760"/>
            <a:ext cx="3686400" cy="1567440"/>
            <a:chOff x="3941640" y="3236760"/>
            <a:chExt cx="3686400" cy="1567440"/>
          </a:xfrm>
        </p:grpSpPr>
        <p:sp>
          <p:nvSpPr>
            <p:cNvPr id="321" name=""/>
            <p:cNvSpPr/>
            <p:nvPr/>
          </p:nvSpPr>
          <p:spPr>
            <a:xfrm>
              <a:off x="6227640" y="3957480"/>
              <a:ext cx="76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38240" y="4294080"/>
              <a:ext cx="1189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 re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41640" y="3618000"/>
              <a:ext cx="2286000" cy="685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eck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with S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84640" y="32367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941640" y="2144880"/>
            <a:ext cx="2299320" cy="1091880"/>
            <a:chOff x="3941640" y="2144880"/>
            <a:chExt cx="2299320" cy="1091880"/>
          </a:xfrm>
        </p:grpSpPr>
        <p:grpSp>
          <p:nvGrpSpPr>
            <p:cNvPr id="326" name=""/>
            <p:cNvGrpSpPr/>
            <p:nvPr/>
          </p:nvGrpSpPr>
          <p:grpSpPr>
            <a:xfrm>
              <a:off x="5174640" y="2144880"/>
              <a:ext cx="1066320" cy="510120"/>
              <a:chOff x="5174640" y="2144880"/>
              <a:chExt cx="1066320" cy="510120"/>
            </a:xfrm>
          </p:grpSpPr>
          <p:sp>
            <p:nvSpPr>
              <p:cNvPr id="327" name=""/>
              <p:cNvSpPr/>
              <p:nvPr/>
            </p:nvSpPr>
            <p:spPr>
              <a:xfrm>
                <a:off x="5174640" y="2144880"/>
                <a:ext cx="106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|=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5792760" y="233388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3941640" y="2550960"/>
              <a:ext cx="2286000" cy="685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unterexampl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84640" y="2170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889280" y="4952520"/>
            <a:ext cx="4654440" cy="1494360"/>
            <a:chOff x="1889280" y="4952520"/>
            <a:chExt cx="4654440" cy="1494360"/>
          </a:xfrm>
        </p:grpSpPr>
        <p:sp>
          <p:nvSpPr>
            <p:cNvPr id="332" name=""/>
            <p:cNvSpPr/>
            <p:nvPr/>
          </p:nvSpPr>
          <p:spPr>
            <a:xfrm flipH="1">
              <a:off x="1933200" y="6060960"/>
              <a:ext cx="1785960" cy="1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18080" y="5761080"/>
              <a:ext cx="2825640" cy="685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T for Bad &amp; Dead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75280" y="5380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1889280" y="4952520"/>
              <a:ext cx="15840" cy="112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927080" y="1822320"/>
            <a:ext cx="2003040" cy="1797120"/>
            <a:chOff x="1927080" y="1822320"/>
            <a:chExt cx="2003040" cy="1797120"/>
          </a:xfrm>
        </p:grpSpPr>
        <p:sp>
          <p:nvSpPr>
            <p:cNvPr id="337" name=""/>
            <p:cNvSpPr/>
            <p:nvPr/>
          </p:nvSpPr>
          <p:spPr>
            <a:xfrm flipH="1">
              <a:off x="1949040" y="18288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927080" y="1822320"/>
              <a:ext cx="16200" cy="179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866880" y="3625920"/>
            <a:ext cx="3036960" cy="1730880"/>
            <a:chOff x="866880" y="3625920"/>
            <a:chExt cx="3036960" cy="1730880"/>
          </a:xfrm>
        </p:grpSpPr>
        <p:sp>
          <p:nvSpPr>
            <p:cNvPr id="340" name=""/>
            <p:cNvSpPr/>
            <p:nvPr/>
          </p:nvSpPr>
          <p:spPr>
            <a:xfrm>
              <a:off x="866880" y="3625920"/>
              <a:ext cx="2133360" cy="685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933560" y="431136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53160" y="4653000"/>
              <a:ext cx="160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dStates 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p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1922400" y="5018040"/>
              <a:ext cx="198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B6F-F044-4FDC-87CB-ED7A2E55B70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8B753-877B-4245-BFE6-232D3A05533A}" type="datetime3">
              <a:rPr lang="en-US"/>
              <a:t>July 30, 20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Heuristics for Refinemen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RASP (Sakellah et. al.)/Chaff(Mallik et.al.) for checking validity of counter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se procedures to identify importa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backtracked to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transitive fanout in implication graph(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Implication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from conflicting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965-F748-4EDB-81FE-5808723629D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E7CD8-1F3A-4E2D-8FA3-66FB0389AAA6}" type="datetime3">
              <a:rPr lang="en-US"/>
              <a:t>July 30, 20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4040" y="1797120"/>
            <a:ext cx="2697120" cy="1158840"/>
          </a:xfrm>
          <a:prstGeom prst="flowChartDocument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sible boolean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3400" y="3787920"/>
            <a:ext cx="1974960" cy="112716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NuS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43360" y="3776760"/>
            <a:ext cx="1974960" cy="112716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83320" y="3770280"/>
            <a:ext cx="1974960" cy="112716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SP/Ch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452600" y="2938320"/>
            <a:ext cx="311040" cy="86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81200" y="4915080"/>
            <a:ext cx="0" cy="898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92520" y="4114800"/>
            <a:ext cx="106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808000" y="4605480"/>
            <a:ext cx="1012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13280" y="4111560"/>
            <a:ext cx="766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784480" y="4565520"/>
            <a:ext cx="80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76400" y="5437080"/>
            <a:ext cx="1255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93880" y="4767120"/>
            <a:ext cx="11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98920" y="3564000"/>
            <a:ext cx="125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73680" y="2884320"/>
            <a:ext cx="1697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M, Bad, Dead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057720" y="3527280"/>
            <a:ext cx="261720" cy="538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92880" y="503388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?, Auxiliary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CCF-DD82-47CA-8082-97FD4C5491E7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934E1-7215-4CB5-BCFF-0A48F838816D}" type="datetime3">
              <a:rPr lang="en-US"/>
              <a:t>July 30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non-path/non-loop counter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 using those counter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ize and evaluate the heuristics for picking up visible variables using GRASP/Ch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0A7-E489-4457-9DAC-D154B19A973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9AE95-C5D8-49D7-A6C9-92AAE5CF502C}" type="datetime3">
              <a:rPr lang="en-US"/>
              <a:t>July 30, 20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odel Checking and Theorem Proving: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A Unified Framework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gey Berez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mund M. Cla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5: Combining Model Checking with Theorem Prov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proach to unifying Model Checking and Theorem Proving in a single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 framework to combine new state-of-the-art model checking and theorem proving techniques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tool that supports this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E3E-584F-4A3E-A6AA-A463F8E4BF0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F73B0-CAB8-4C64-A930-26C242BA4F03}" type="datetime3">
              <a:rPr lang="en-US"/>
              <a:t>July 30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5: Combining Model Checking with Theorem Prov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a large hardware example (like PCI b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how the combination of model checking and theorem proving improves both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he development of th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C11-F05B-49C5-AABE-C0CD85AAABC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FA9A1-FEEF-45E8-A431-0CDDF0266F41}" type="datetime3">
              <a:rPr lang="en-US"/>
              <a:t>July 30, 20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5: Combining Model Checking with Theorem Prov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lishments for the current year (200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ted a framework that unifies model checking and theorem proving in a very general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 up with a new methodology for efficient specialization of theorem proving to particular problem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a "prover generator" as a new version of SyMP based on the above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the necessary components of the proof system for combining model checking and theorem proving as an instance of a prover generated by Sy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ed an example of an IBM cache coherence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418-F104-4CE0-B962-EC114D1F817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FE591-79AE-4DF2-A71F-E4DC9687D676}" type="datetime3">
              <a:rPr lang="en-US"/>
              <a:t>July 30, 20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5: Combining Model Checking with Theorem Prov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next year (200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several powerful reduction rules into the default proof-system of SyMP (like various forms of abstraction, compositional reasoning techniqu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a few more examples using these reduc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one or more other proof systems (either completely different or specialized and more automated versions of the default system) in the tool and demonstrate that it works as a prover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444-DBF4-4C05-B7D8-60E3F9514F1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70116-CC81-43AE-B7A8-37E6155BB90F}" type="datetime3">
              <a:rPr lang="en-US"/>
              <a:t>July 30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Automatic Abstraction by Counterexample-guided Refinement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1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mund M. Clar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an 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kaj Chau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ubhav Gu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Joint work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Orna Grumberg, Somesh Jha, Helmut Ve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5: Combining Model Checking with Theorem Proving</a:t>
            </a:r>
            <a:br>
              <a:rPr sz="36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leston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the tool's core, detailed tool design, preliminary experiments on known hardware examples like Tomasulo's algorithm (30-Sep-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alpha release of the too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31-Dec-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to the verification methodology and experiments on larger exampl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30-Jun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to the theorem prover and the model checking back-end (30-Jun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288-91F1-42C7-BEB3-0BE0BA253F9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B04E8-F443-450A-AD71-18A15EEBE69F}" type="datetime3">
              <a:rPr lang="en-US"/>
              <a:t>July 30, 20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5: Combining Model Checking with Theorem Proving</a:t>
            </a:r>
            <a:br>
              <a:rPr sz="36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liverabl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of the tool for combining model checking and theorem proving (Completed: 16-Feb-2000), Related Publication(s):P000258 , P0002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of tool for combining model checking and theorem proving (Completed: 10-Jan-2001), P0018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toral dissertation on combining model checking and theorem proving for hardware verification (Planned: 30-Aug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on verification methodology for complex hardware using model checking and theorem proving (Planned: 31-Dec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EEA-2083-42C1-9AEE-718F59A82BA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DF293-1033-468B-9CB2-00F8381A05DC}" type="datetime3">
              <a:rPr lang="en-US"/>
              <a:t>July 30, 20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odel Checking and Theorem Proving: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A Unified Framework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gey Berez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ample: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BM Cache Coherence Protocol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23880" y="3112920"/>
            <a:ext cx="1524240" cy="619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4495680"/>
            <a:ext cx="1981440" cy="801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72080" y="3103560"/>
            <a:ext cx="1523880" cy="619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19920" y="3117960"/>
            <a:ext cx="1523880" cy="618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572000" y="3733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19720" y="3733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724280" y="3733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2361960" y="37339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90920" y="37339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3733920"/>
            <a:ext cx="14475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219640" y="3733920"/>
            <a:ext cx="15242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028840" y="37339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562360" y="365760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289548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49960" y="54100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02680" y="2424600"/>
            <a:ext cx="482400" cy="510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9680" y="2895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98360" y="2424600"/>
            <a:ext cx="482400" cy="510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2895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88680" y="2424600"/>
            <a:ext cx="482400" cy="510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2895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71080" y="579132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Grant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48320" y="5486400"/>
            <a:ext cx="30456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52880" y="5486400"/>
            <a:ext cx="30492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15000" y="5486400"/>
            <a:ext cx="30492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5867280"/>
            <a:ext cx="30456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52578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23880" y="3112920"/>
            <a:ext cx="1524240" cy="6192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5486400"/>
            <a:ext cx="304560" cy="22860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15000" y="5486400"/>
            <a:ext cx="304920" cy="22860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48320" y="5867280"/>
            <a:ext cx="304560" cy="228600"/>
          </a:xfrm>
          <a:prstGeom prst="rect">
            <a:avLst/>
          </a:prstGeom>
          <a:solidFill>
            <a:srgbClr val="ff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94400" y="380988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0000"/>
                </a:solidFill>
                <a:latin typeface="Arial"/>
              </a:rPr>
              <a:t>reqEx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94040" y="42670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grantEx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395840" y="472428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inval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94400" y="51814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inv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028840" y="3733920"/>
            <a:ext cx="152388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238720" y="3733920"/>
            <a:ext cx="1523880" cy="7617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238720" y="3733920"/>
            <a:ext cx="1523880" cy="7617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562360" y="3657600"/>
            <a:ext cx="1600200" cy="838080"/>
          </a:xfrm>
          <a:prstGeom prst="line">
            <a:avLst/>
          </a:prstGeom>
          <a:ln w="25560">
            <a:solidFill>
              <a:srgbClr val="7e5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19920" y="3117960"/>
            <a:ext cx="1523880" cy="618840"/>
          </a:xfrm>
          <a:prstGeom prst="ellipse">
            <a:avLst/>
          </a:prstGeom>
          <a:solidFill>
            <a:srgbClr val="ff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6760" y="41148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q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2600" y="44956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grant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33720" y="3733920"/>
            <a:ext cx="144756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2361960" y="3733920"/>
            <a:ext cx="1523880" cy="7617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19920" y="3119400"/>
            <a:ext cx="1523880" cy="619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5486400"/>
            <a:ext cx="30492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5867280"/>
            <a:ext cx="30456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D4F-4A12-4E66-853E-D7367E7A46A6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E025F-EFC0-4880-BA1D-1CE1D6C0092B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herence Property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994320" y="1550880"/>
            <a:ext cx="691200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point in ti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cache is </a:t>
            </a:r>
            <a:r>
              <a:rPr b="0" i="1" lang="en-US" sz="2400" spc="-1" strike="noStrike">
                <a:solidFill>
                  <a:srgbClr val="ff00ff"/>
                </a:solidFill>
                <a:latin typeface="Arial"/>
              </a:rPr>
              <a:t>Excl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all the other caches are 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Inval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e5400"/>
                </a:solidFill>
                <a:latin typeface="Arial"/>
              </a:rPr>
              <a:t>AG</a:t>
            </a:r>
            <a:r>
              <a:rPr b="0" lang="en-US" sz="20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e54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,c</a:t>
            </a:r>
            <a:r>
              <a:rPr b="0" i="1" lang="en-US" sz="20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7e54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e5400"/>
                </a:solidFill>
                <a:latin typeface="Arial"/>
              </a:rPr>
              <a:t>!= 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7e54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&amp; c</a:t>
            </a:r>
            <a:r>
              <a:rPr b="0" i="1" lang="en-US" sz="20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7e5400"/>
                </a:solidFill>
                <a:latin typeface="Arial"/>
              </a:rPr>
              <a:t>.state = Exclusive </a:t>
            </a:r>
            <a:r>
              <a:rPr b="0" lang="en-US" sz="2000" spc="-1" strike="noStrike">
                <a:solidFill>
                  <a:srgbClr val="7e54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7e5400"/>
                </a:solidFill>
                <a:latin typeface="Arial"/>
              </a:rPr>
              <a:t>.state = In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146320" y="3239640"/>
            <a:ext cx="3886200" cy="2666160"/>
            <a:chOff x="2146320" y="3239640"/>
            <a:chExt cx="3886200" cy="2666160"/>
          </a:xfrm>
        </p:grpSpPr>
        <p:sp>
          <p:nvSpPr>
            <p:cNvPr id="432" name=""/>
            <p:cNvSpPr/>
            <p:nvPr/>
          </p:nvSpPr>
          <p:spPr>
            <a:xfrm>
              <a:off x="2146320" y="3687840"/>
              <a:ext cx="984240" cy="426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75080" y="4640400"/>
              <a:ext cx="1278000" cy="550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me 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97120" y="3681360"/>
              <a:ext cx="984240" cy="425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48280" y="3691080"/>
              <a:ext cx="984240" cy="426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113360" y="4114800"/>
              <a:ext cx="144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16520" y="4114800"/>
              <a:ext cx="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11640" y="4114800"/>
              <a:ext cx="144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2687760" y="4114800"/>
              <a:ext cx="98424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35360" y="4114800"/>
              <a:ext cx="98424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40160" y="4114800"/>
              <a:ext cx="93492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4532400" y="4114800"/>
              <a:ext cx="98424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4408560" y="4114800"/>
              <a:ext cx="98424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4753080" y="4062240"/>
              <a:ext cx="1033200" cy="57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33920" y="3692520"/>
              <a:ext cx="3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53840" y="536724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ared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45480" y="3239640"/>
              <a:ext cx="331560" cy="301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89120" y="3538440"/>
              <a:ext cx="1800" cy="15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47440" y="3239640"/>
              <a:ext cx="331560" cy="301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40400" y="3538440"/>
              <a:ext cx="1440" cy="15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20400" y="3239640"/>
              <a:ext cx="331560" cy="301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65480" y="3538440"/>
              <a:ext cx="0" cy="15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82680" y="562932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lGranted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62320" y="5321160"/>
              <a:ext cx="196920" cy="157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59240" y="5321160"/>
              <a:ext cx="196920" cy="157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51360" y="5321160"/>
              <a:ext cx="196920" cy="157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62320" y="5583240"/>
              <a:ext cx="196920" cy="157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42120" y="531036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46320" y="3687840"/>
              <a:ext cx="984240" cy="42696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a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62320" y="5321160"/>
              <a:ext cx="196920" cy="157320"/>
            </a:xfrm>
            <a:prstGeom prst="rect">
              <a:avLst/>
            </a:prstGeom>
            <a:solidFill>
              <a:srgbClr val="99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51360" y="5321160"/>
              <a:ext cx="196920" cy="157320"/>
            </a:xfrm>
            <a:prstGeom prst="rect">
              <a:avLst/>
            </a:prstGeom>
            <a:solidFill>
              <a:srgbClr val="99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62320" y="5583240"/>
              <a:ext cx="196920" cy="157320"/>
            </a:xfrm>
            <a:prstGeom prst="rect">
              <a:avLst/>
            </a:prstGeom>
            <a:solidFill>
              <a:srgbClr val="ff969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4408560" y="4114800"/>
              <a:ext cx="984240" cy="525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545000" y="4114800"/>
              <a:ext cx="982800" cy="5256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545000" y="4114800"/>
              <a:ext cx="982800" cy="52560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753080" y="4062240"/>
              <a:ext cx="1033200" cy="578160"/>
            </a:xfrm>
            <a:prstGeom prst="line">
              <a:avLst/>
            </a:prstGeom>
            <a:ln w="25560">
              <a:solidFill>
                <a:srgbClr val="7e5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48280" y="3691080"/>
              <a:ext cx="984240" cy="426960"/>
            </a:xfrm>
            <a:prstGeom prst="ellipse">
              <a:avLst/>
            </a:prstGeom>
            <a:solidFill>
              <a:srgbClr val="ff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40160" y="4114800"/>
              <a:ext cx="934920" cy="525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2687760" y="4114800"/>
              <a:ext cx="984240" cy="5256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48280" y="3692520"/>
              <a:ext cx="984240" cy="425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51360" y="5321160"/>
              <a:ext cx="196920" cy="157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62320" y="5583240"/>
              <a:ext cx="196920" cy="157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46D-F12B-47BE-9FAE-93BD521D7E8B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CBBB5-B2FE-49F8-A3C4-25F272CA8351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ding the Model in </a:t>
            </a: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SyMP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19320" y="838080"/>
            <a:ext cx="6967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dule</a:t>
            </a: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[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ex]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ta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 = Invalid | Shared | Ex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ateV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ache: Index -&gt; State), (channel: Index -&gt; Messag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clGranted: bool), (Shared: Index -&gt; bo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ache) :=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n</a:t>
            </a: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 =&gt; Inval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clGranted) := 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ho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7e5400"/>
                </a:solidFill>
                <a:latin typeface="Arial"/>
              </a:rPr>
              <a:t>channel(i) = Invalidate =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ache) := (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=&gt;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=i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alid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che x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d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e5400"/>
                </a:solidFill>
                <a:latin typeface="Arial"/>
              </a:rPr>
              <a:t>| !exclGranted &amp; channel(i) = reqExcl 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annel i) := grantEx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clGranted) :=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.....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dcho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or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herenc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=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,j: i!=j &amp; cache(i) = Excl -&gt; cache(j) = Inval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890720" y="749160"/>
            <a:ext cx="5591880" cy="525600"/>
            <a:chOff x="1890720" y="749160"/>
            <a:chExt cx="5591880" cy="525600"/>
          </a:xfrm>
        </p:grpSpPr>
        <p:sp>
          <p:nvSpPr>
            <p:cNvPr id="476" name=""/>
            <p:cNvSpPr/>
            <p:nvPr/>
          </p:nvSpPr>
          <p:spPr>
            <a:xfrm>
              <a:off x="1890720" y="776160"/>
              <a:ext cx="1995480" cy="49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3844800" y="934560"/>
              <a:ext cx="1017720" cy="135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82400" y="749160"/>
              <a:ext cx="25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odule with parame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1204920" y="1703520"/>
            <a:ext cx="7004160" cy="1326960"/>
            <a:chOff x="1204920" y="1703520"/>
            <a:chExt cx="7004160" cy="1326960"/>
          </a:xfrm>
        </p:grpSpPr>
        <p:sp>
          <p:nvSpPr>
            <p:cNvPr id="480" name=""/>
            <p:cNvSpPr/>
            <p:nvPr/>
          </p:nvSpPr>
          <p:spPr>
            <a:xfrm>
              <a:off x="1204920" y="1703520"/>
              <a:ext cx="7004160" cy="873000"/>
            </a:xfrm>
            <a:prstGeom prst="ellipse">
              <a:avLst/>
            </a:prstGeom>
            <a:noFill/>
            <a:ln w="255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73680" y="2567160"/>
              <a:ext cx="372960" cy="279360"/>
            </a:xfrm>
            <a:prstGeom prst="line">
              <a:avLst/>
            </a:prstGeom>
            <a:ln w="255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03520" y="26622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Arial"/>
                </a:rPr>
                <a:t>State vari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09760" y="2244600"/>
            <a:ext cx="7574400" cy="2887920"/>
            <a:chOff x="509760" y="2244600"/>
            <a:chExt cx="7574400" cy="2887920"/>
          </a:xfrm>
        </p:grpSpPr>
        <p:sp>
          <p:nvSpPr>
            <p:cNvPr id="484" name=""/>
            <p:cNvSpPr/>
            <p:nvPr/>
          </p:nvSpPr>
          <p:spPr>
            <a:xfrm>
              <a:off x="509760" y="2244600"/>
              <a:ext cx="4633920" cy="28879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21120" y="4425840"/>
              <a:ext cx="1163880" cy="416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114240" y="4687920"/>
              <a:ext cx="196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ransition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36560" y="4200480"/>
            <a:ext cx="8025840" cy="2158920"/>
            <a:chOff x="736560" y="4200480"/>
            <a:chExt cx="8025840" cy="2158920"/>
          </a:xfrm>
        </p:grpSpPr>
        <p:sp>
          <p:nvSpPr>
            <p:cNvPr id="488" name=""/>
            <p:cNvSpPr/>
            <p:nvPr/>
          </p:nvSpPr>
          <p:spPr>
            <a:xfrm>
              <a:off x="736560" y="5060880"/>
              <a:ext cx="7066080" cy="12985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7034040" y="4530600"/>
              <a:ext cx="571680" cy="789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19120" y="420048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Proper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050-0B6B-4381-A56E-5F77685BD353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3F165-01C1-4B45-9C7C-8E7F224E984A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ormal Verification Option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228600" y="1828800"/>
          <a:ext cx="8686800" cy="3913200"/>
        </p:xfrm>
        <a:graphic>
          <a:graphicData uri="http://schemas.openxmlformats.org/drawingml/2006/table">
            <a:tbl>
              <a:tblPr/>
              <a:tblGrid>
                <a:gridCol w="3962520"/>
                <a:gridCol w="4724280"/>
              </a:tblGrid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Chec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em Pro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|=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is true in 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=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must be valid in gener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9966"/>
                        </a:buClr>
                        <a:buFont typeface="Times New Roman"/>
                        <a:buChar char="+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and property are cleanly separated: 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M 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|=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66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has to be encoded as a formula:       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|= Enc(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) 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Enc(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9966"/>
                        </a:buClr>
                        <a:buFont typeface="Times New Roman"/>
                        <a:buChar char="+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reduction techn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9966"/>
                        </a:buClr>
                        <a:buFont typeface="Times New Roman"/>
                        <a:buChar char="+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analyze extremely complex behav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66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structure lost, hard to apply similar redu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457200" y="4910040"/>
            <a:ext cx="77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have strong and weak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53960" y="541512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ff"/>
                </a:solidFill>
                <a:latin typeface="Arial"/>
              </a:rPr>
              <a:t>Can we combine best features of the tw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055C-F35C-48F2-AD65-5D794B7621D3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D5DDC-769B-408B-B98B-298F17FB5E73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mbining MC &amp; TP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dd expressiv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fficient decision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ancel out drawba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oth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ps,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find something n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middle ground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90D3-1000-4C97-B24A-8FE435C6495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92BE5-B3FE-44DF-92EF-BE4FFC6E4CE2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Modifying Gentzen’s Sequen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97800" y="205596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m proving uses 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Gentzen’s Sequ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312360" y="2741760"/>
            <a:ext cx="329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 A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…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  =&gt; 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 B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19320" y="3276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from model checking has to be translated into HOL to fit into this seq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can 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add the model to the sequ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023280" y="4570560"/>
            <a:ext cx="371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;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 A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 A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…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  =&gt; 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 B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80520" y="5221440"/>
            <a:ext cx="61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, make the logic temporal, not just H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A9D-3F95-4869-92D9-C800A07D5000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B1FFE-AA0C-495E-94E4-BADBEB80782E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dding Model Checking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1200" y="1905120"/>
            <a:ext cx="59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ing becomes just another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828800" y="2590920"/>
          <a:ext cx="5638680" cy="852480"/>
        </p:xfrm>
        <a:graphic>
          <a:graphicData uri="http://schemas.openxmlformats.org/drawingml/2006/table">
            <a:tbl>
              <a:tblPr/>
              <a:tblGrid>
                <a:gridCol w="4952880"/>
                <a:gridCol w="685800"/>
              </a:tblGrid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odelCheck(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,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) = 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=&gt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6" name=""/>
          <p:cNvSpPr/>
          <p:nvPr/>
        </p:nvSpPr>
        <p:spPr>
          <a:xfrm>
            <a:off x="762120" y="3733920"/>
            <a:ext cx="74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ransformations from model checking are added as rules, e.g. 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Cone of Influ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295280" y="4724280"/>
          <a:ext cx="6172200" cy="790560"/>
        </p:xfrm>
        <a:graphic>
          <a:graphicData uri="http://schemas.openxmlformats.org/drawingml/2006/table">
            <a:tbl>
              <a:tblPr/>
              <a:tblGrid>
                <a:gridCol w="5257800"/>
                <a:gridCol w="9144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V = COI(M,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)    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|</a:t>
                      </a:r>
                      <a:r>
                        <a:rPr b="0" i="1" lang="en-US" sz="2000" spc="-1" strike="noStrike" baseline="-25000">
                          <a:solidFill>
                            <a:srgbClr val="7e5400"/>
                          </a:solidFill>
                          <a:latin typeface="Arial"/>
                        </a:rPr>
                        <a:t>V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=&gt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=&gt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67D-B2D6-4487-975E-5D79EEF1056B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5A00C-05E2-4E65-BD5E-6D669E356A41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4: Abstraction in Model Check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example-guided Abstraction Re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a new abstraction technique to verify large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0102-83A4-4DB4-AC08-A54D266CF1D7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EC35-801B-4CCB-89A6-E7B1B7AFF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268-7CA8-4D9E-8F14-0825210D67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019E7-580A-4AC9-8E7B-597AD358AF21}" type="datetime3">
              <a:rPr lang="en-US"/>
              <a:t>July 30, 20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ther Types of Rul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762120" y="3086280"/>
          <a:ext cx="7543800" cy="833400"/>
        </p:xfrm>
        <a:graphic>
          <a:graphicData uri="http://schemas.openxmlformats.org/drawingml/2006/table">
            <a:tbl>
              <a:tblPr/>
              <a:tblGrid>
                <a:gridCol w="6095880"/>
                <a:gridCol w="144792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=&gt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, A      M’; A =&gt; </a:t>
                      </a:r>
                      <a:r>
                        <a:rPr b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AX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A, </a:t>
                      </a:r>
                      <a:r>
                        <a:rPr b="0" i="1" lang="en-US" sz="16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where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M’=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S, 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, S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=&gt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AG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0" name=""/>
          <p:cNvSpPr/>
          <p:nvPr/>
        </p:nvSpPr>
        <p:spPr>
          <a:xfrm>
            <a:off x="535320" y="21495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 on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8E3-8329-4218-9EF9-E8F5BB9C1F59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21D69-805A-4230-9124-6FCBEB82C690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erifying Cache Coherenc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perty in First-Order CT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7e5400"/>
                </a:solidFill>
                <a:latin typeface="Arial"/>
              </a:rPr>
              <a:t>AG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7e54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c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:    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!=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 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&amp;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.state = Ex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                                            </a:t>
            </a:r>
            <a:r>
              <a:rPr b="0" lang="en-US" sz="2400" spc="-1" strike="noStrike">
                <a:solidFill>
                  <a:srgbClr val="7e54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.state = Inval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pr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ductive in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duction o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G Ind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kolemize, split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choos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tatement, abstract-split (eliminate skolem constants), compute cone of influence, model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d in our too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4BE-777F-4DDC-A684-7C5BCBD13B4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DD81C-EC31-4282-A495-665A9FD3A658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74640" y="46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ew Methodology: Featur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44400" y="1544400"/>
            <a:ext cx="777240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representation for the problem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level of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perform exactly the transformations we have in mind while doing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rules for tempor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use of model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checking and theorem proving at the same pro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proof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user control with possibility of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DCE-3C92-4051-BB2D-DFDD332E4B7B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AB31C-BCE3-4DF2-9C9A-0645B521EF99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garfield-saw" descr=""/>
          <p:cNvPicPr/>
          <p:nvPr/>
        </p:nvPicPr>
        <p:blipFill>
          <a:blip r:embed="rId1"/>
          <a:stretch/>
        </p:blipFill>
        <p:spPr>
          <a:xfrm>
            <a:off x="5200560" y="4502160"/>
            <a:ext cx="1170000" cy="12733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92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verall Pictur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08080" y="1402560"/>
            <a:ext cx="1506600" cy="1164600"/>
            <a:chOff x="1108080" y="1402560"/>
            <a:chExt cx="1506600" cy="1164600"/>
          </a:xfrm>
        </p:grpSpPr>
        <p:sp>
          <p:nvSpPr>
            <p:cNvPr id="518" name=""/>
            <p:cNvSpPr/>
            <p:nvPr/>
          </p:nvSpPr>
          <p:spPr>
            <a:xfrm>
              <a:off x="1108080" y="1593000"/>
              <a:ext cx="381240" cy="163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22880" y="1958040"/>
              <a:ext cx="495720" cy="211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Home No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70760" y="1590480"/>
              <a:ext cx="381240" cy="163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233440" y="1594080"/>
              <a:ext cx="381240" cy="163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1870920" y="1756800"/>
              <a:ext cx="36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832760" y="1756800"/>
              <a:ext cx="36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09080" y="1756800"/>
              <a:ext cx="36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flipV="1">
              <a:off x="1317240" y="1756800"/>
              <a:ext cx="38124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74840" y="1756800"/>
              <a:ext cx="38124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60720" y="1756800"/>
              <a:ext cx="36216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2032920" y="1756800"/>
              <a:ext cx="38124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1985040" y="1756800"/>
              <a:ext cx="38124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2118960" y="1736640"/>
              <a:ext cx="40032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44800" y="1535040"/>
              <a:ext cx="210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14960" y="2327400"/>
              <a:ext cx="3150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Shared: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77200" y="1404000"/>
              <a:ext cx="218880" cy="1458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79440" y="1535400"/>
              <a:ext cx="36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01120" y="1404000"/>
              <a:ext cx="218880" cy="1458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23880" y="1535400"/>
              <a:ext cx="36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48520" y="1402560"/>
              <a:ext cx="218880" cy="1458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51840" y="1535400"/>
              <a:ext cx="36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76360" y="2427480"/>
              <a:ext cx="4032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xclGranted: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90000" y="2219760"/>
              <a:ext cx="75960" cy="601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66320" y="2219760"/>
              <a:ext cx="76320" cy="601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57120" y="2219760"/>
              <a:ext cx="76320" cy="601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90000" y="2320560"/>
              <a:ext cx="75960" cy="601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89720" y="2306520"/>
              <a:ext cx="2127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08080" y="1593000"/>
              <a:ext cx="381240" cy="16344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Shared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90000" y="2219760"/>
              <a:ext cx="75960" cy="60120"/>
            </a:xfrm>
            <a:prstGeom prst="rect">
              <a:avLst/>
            </a:prstGeom>
            <a:solidFill>
              <a:srgbClr val="99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57120" y="2219760"/>
              <a:ext cx="76320" cy="60120"/>
            </a:xfrm>
            <a:prstGeom prst="rect">
              <a:avLst/>
            </a:prstGeom>
            <a:solidFill>
              <a:srgbClr val="99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90000" y="2320560"/>
              <a:ext cx="75960" cy="60120"/>
            </a:xfrm>
            <a:prstGeom prst="rect">
              <a:avLst/>
            </a:prstGeom>
            <a:solidFill>
              <a:srgbClr val="ff969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1985040" y="1756800"/>
              <a:ext cx="381240" cy="20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037600" y="1756800"/>
              <a:ext cx="381240" cy="20088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2037600" y="1756800"/>
              <a:ext cx="381240" cy="20088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2118960" y="1736640"/>
              <a:ext cx="400320" cy="221040"/>
            </a:xfrm>
            <a:prstGeom prst="line">
              <a:avLst/>
            </a:prstGeom>
            <a:ln w="25560">
              <a:solidFill>
                <a:srgbClr val="7e5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233440" y="1594080"/>
              <a:ext cx="381240" cy="163440"/>
            </a:xfrm>
            <a:prstGeom prst="ellipse">
              <a:avLst/>
            </a:prstGeom>
            <a:solidFill>
              <a:srgbClr val="ff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xc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60720" y="1756800"/>
              <a:ext cx="362160" cy="20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1317240" y="1756800"/>
              <a:ext cx="381240" cy="20088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33440" y="1594440"/>
              <a:ext cx="381240" cy="163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57120" y="2219760"/>
              <a:ext cx="76320" cy="601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890000" y="2320560"/>
              <a:ext cx="75960" cy="601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509760" y="1017720"/>
            <a:ext cx="2835000" cy="156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64840" y="1006560"/>
            <a:ext cx="27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01960" y="1660680"/>
            <a:ext cx="3470400" cy="1217520"/>
            <a:chOff x="3801960" y="1660680"/>
            <a:chExt cx="3470400" cy="1217520"/>
          </a:xfrm>
        </p:grpSpPr>
        <p:sp>
          <p:nvSpPr>
            <p:cNvPr id="562" name=""/>
            <p:cNvSpPr/>
            <p:nvPr/>
          </p:nvSpPr>
          <p:spPr>
            <a:xfrm>
              <a:off x="3914640" y="2476800"/>
              <a:ext cx="1620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800" spc="-1" strike="noStrike">
                  <a:solidFill>
                    <a:srgbClr val="7e5400"/>
                  </a:solidFill>
                  <a:latin typeface="Arial"/>
                </a:rPr>
                <a:t>,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800" spc="-1" strike="noStrike" baseline="-25000">
                  <a:solidFill>
                    <a:srgbClr val="7e5400"/>
                  </a:solidFill>
                  <a:latin typeface="Arial"/>
                </a:rPr>
                <a:t>1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800" spc="-1" strike="noStrike" baseline="-25000">
                  <a:solidFill>
                    <a:srgbClr val="7e54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35360" y="2227320"/>
              <a:ext cx="30024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914640" y="2227320"/>
              <a:ext cx="1620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800" spc="-1" strike="noStrike">
                  <a:solidFill>
                    <a:srgbClr val="7e5400"/>
                  </a:solidFill>
                  <a:latin typeface="Arial"/>
                </a:rPr>
                <a:t>,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800" spc="-1" strike="noStrike" baseline="-25000">
                  <a:solidFill>
                    <a:srgbClr val="7e5400"/>
                  </a:solidFill>
                  <a:latin typeface="Arial"/>
                </a:rPr>
                <a:t>1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                </a:t>
              </a: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800" spc="-1" strike="noStrike">
                  <a:solidFill>
                    <a:srgbClr val="7e5400"/>
                  </a:solidFill>
                  <a:latin typeface="Arial"/>
                </a:rPr>
                <a:t>,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800" spc="-1" strike="noStrike" baseline="-25000">
                  <a:solidFill>
                    <a:srgbClr val="7e54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914640" y="2227320"/>
              <a:ext cx="162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14640" y="2476800"/>
              <a:ext cx="162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14640" y="2689560"/>
              <a:ext cx="162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14640" y="2227320"/>
              <a:ext cx="0" cy="249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35600" y="2227320"/>
              <a:ext cx="0" cy="462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35360" y="2227320"/>
              <a:ext cx="300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14640" y="2476800"/>
              <a:ext cx="0" cy="212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35360" y="2689560"/>
              <a:ext cx="300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979960" y="2444760"/>
              <a:ext cx="7412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800" spc="-1" strike="noStrike">
                  <a:solidFill>
                    <a:srgbClr val="7e54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7e5400"/>
                  </a:solidFill>
                  <a:latin typeface="Arial"/>
                </a:rPr>
                <a:t>=&gt; </a:t>
              </a: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</a:t>
              </a:r>
              <a:r>
                <a:rPr b="0" lang="en-US" sz="800" spc="-1" strike="noStrike">
                  <a:solidFill>
                    <a:srgbClr val="7e5400"/>
                  </a:solidFill>
                  <a:latin typeface="Arial"/>
                </a:rPr>
                <a:t>tru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21200" y="2232360"/>
              <a:ext cx="527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xi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79960" y="2232360"/>
              <a:ext cx="7412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79960" y="2232360"/>
              <a:ext cx="741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79960" y="2444760"/>
              <a:ext cx="74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79960" y="2732400"/>
              <a:ext cx="741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79960" y="2232360"/>
              <a:ext cx="0" cy="212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48240" y="2232360"/>
              <a:ext cx="0" cy="500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21200" y="2232360"/>
              <a:ext cx="527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79960" y="2444760"/>
              <a:ext cx="0" cy="287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721200" y="2732400"/>
              <a:ext cx="527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76920" y="1660680"/>
              <a:ext cx="301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ialized proof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1960" y="1673280"/>
              <a:ext cx="3470400" cy="12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1486080" y="3449520"/>
            <a:ext cx="2638080" cy="1766880"/>
            <a:chOff x="1486080" y="3449520"/>
            <a:chExt cx="2638080" cy="1766880"/>
          </a:xfrm>
        </p:grpSpPr>
        <p:sp>
          <p:nvSpPr>
            <p:cNvPr id="587" name=""/>
            <p:cNvSpPr/>
            <p:nvPr/>
          </p:nvSpPr>
          <p:spPr>
            <a:xfrm>
              <a:off x="2144880" y="4897440"/>
              <a:ext cx="1145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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. x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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39920" y="4900680"/>
              <a:ext cx="95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97800" y="4722840"/>
              <a:ext cx="1034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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317680" y="473724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36680" y="4540320"/>
              <a:ext cx="939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87640" y="4518000"/>
              <a:ext cx="13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98720" y="4321080"/>
              <a:ext cx="631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34280" y="4343400"/>
              <a:ext cx="726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87640" y="43257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28960" y="4325760"/>
              <a:ext cx="53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186000" y="4822920"/>
              <a:ext cx="27828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7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4800" y="4640400"/>
              <a:ext cx="28728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7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04240" y="4413240"/>
              <a:ext cx="2444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37280" y="4191120"/>
              <a:ext cx="46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Repla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14240" y="401652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xi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047680" y="4154400"/>
              <a:ext cx="631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&gt;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087640" y="413532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11720" y="4219560"/>
              <a:ext cx="46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Repla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73520" y="4154400"/>
              <a:ext cx="726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+2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28960" y="4135320"/>
              <a:ext cx="53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449160" y="402264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xi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54200" y="3571920"/>
              <a:ext cx="234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of 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86080" y="3449520"/>
              <a:ext cx="2638080" cy="176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4890600" y="424656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62520" y="4270320"/>
            <a:ext cx="1785960" cy="157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335400" y="1922400"/>
            <a:ext cx="468360" cy="260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3564000" y="2878200"/>
            <a:ext cx="644400" cy="582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125960" y="4560840"/>
            <a:ext cx="7272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ED0-1F1A-4EC7-8E67-1D655C16064F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2FAEE-26F8-4F19-938A-27A233327623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eneralizing Further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de it possible to integrate Model Checking and Theorem Pro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ized sequent and proof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representation for the problem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 other problem domains?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urity protocols, Software verification, highly specialized hardware, et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e guidelines should work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 I have to code it all from scratch ag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certainly some common core that can 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FAC-81B5-4D2B-8A96-D3EE27D7749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01CC7-503A-4C72-A61E-0269DC955835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92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rchitecture with Shared Cor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094800" y="903240"/>
            <a:ext cx="2969640" cy="1581120"/>
            <a:chOff x="6094800" y="903240"/>
            <a:chExt cx="2969640" cy="1581120"/>
          </a:xfrm>
        </p:grpSpPr>
        <p:grpSp>
          <p:nvGrpSpPr>
            <p:cNvPr id="619" name=""/>
            <p:cNvGrpSpPr/>
            <p:nvPr/>
          </p:nvGrpSpPr>
          <p:grpSpPr>
            <a:xfrm>
              <a:off x="6750000" y="1299240"/>
              <a:ext cx="1506600" cy="1164600"/>
              <a:chOff x="6750000" y="1299240"/>
              <a:chExt cx="1506600" cy="1164600"/>
            </a:xfrm>
          </p:grpSpPr>
          <p:sp>
            <p:nvSpPr>
              <p:cNvPr id="620" name=""/>
              <p:cNvSpPr/>
              <p:nvPr/>
            </p:nvSpPr>
            <p:spPr>
              <a:xfrm>
                <a:off x="6750000" y="1489680"/>
                <a:ext cx="3812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264800" y="1854720"/>
                <a:ext cx="495720" cy="21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Home Nod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312680" y="1487160"/>
                <a:ext cx="3812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875360" y="1490760"/>
                <a:ext cx="3812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7512840" y="1653480"/>
                <a:ext cx="3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474680" y="1653480"/>
                <a:ext cx="3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551000" y="1653480"/>
                <a:ext cx="3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 flipV="1">
                <a:off x="6959160" y="1653480"/>
                <a:ext cx="3812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016760" y="1653480"/>
                <a:ext cx="3812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902640" y="1653480"/>
                <a:ext cx="3621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7674840" y="1653480"/>
                <a:ext cx="3812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7626960" y="1653480"/>
                <a:ext cx="3812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760880" y="1633320"/>
                <a:ext cx="400320" cy="22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686720" y="1431720"/>
                <a:ext cx="2109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256880" y="2224080"/>
                <a:ext cx="3150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hared: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19120" y="1300680"/>
                <a:ext cx="218880" cy="14580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21360" y="1432080"/>
                <a:ext cx="360" cy="6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943040" y="1300680"/>
                <a:ext cx="218880" cy="14580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65800" y="1432080"/>
                <a:ext cx="360" cy="6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390440" y="1299240"/>
                <a:ext cx="218880" cy="14580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493760" y="1432080"/>
                <a:ext cx="360" cy="6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18280" y="2324160"/>
                <a:ext cx="4032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ExclGranted: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531920" y="2116440"/>
                <a:ext cx="7596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608240" y="2116440"/>
                <a:ext cx="7632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799040" y="2116440"/>
                <a:ext cx="7632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531920" y="2217240"/>
                <a:ext cx="7596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631640" y="2203200"/>
                <a:ext cx="2127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750000" y="1489680"/>
                <a:ext cx="381240" cy="16344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hare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531920" y="2116440"/>
                <a:ext cx="75960" cy="6012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799040" y="2116440"/>
                <a:ext cx="76320" cy="6012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531920" y="2217240"/>
                <a:ext cx="75960" cy="60120"/>
              </a:xfrm>
              <a:prstGeom prst="rect">
                <a:avLst/>
              </a:prstGeom>
              <a:solidFill>
                <a:srgbClr val="ff969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7626960" y="1653480"/>
                <a:ext cx="381240" cy="20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7679520" y="1653480"/>
                <a:ext cx="381240" cy="2008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7679520" y="1653480"/>
                <a:ext cx="381240" cy="20088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7760880" y="1633320"/>
                <a:ext cx="400320" cy="221040"/>
              </a:xfrm>
              <a:prstGeom prst="line">
                <a:avLst/>
              </a:prstGeom>
              <a:ln w="25560">
                <a:solidFill>
                  <a:srgbClr val="7e5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875360" y="1490760"/>
                <a:ext cx="381240" cy="163440"/>
              </a:xfrm>
              <a:prstGeom prst="ellipse">
                <a:avLst/>
              </a:prstGeom>
              <a:solidFill>
                <a:srgbClr val="ff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Exc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902640" y="1653480"/>
                <a:ext cx="362160" cy="20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 flipV="1">
                <a:off x="6959160" y="1653480"/>
                <a:ext cx="381240" cy="2008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875360" y="1491120"/>
                <a:ext cx="3812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799040" y="2116440"/>
                <a:ext cx="7632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531920" y="2217240"/>
                <a:ext cx="7596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6149880" y="914400"/>
              <a:ext cx="2835360" cy="156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094800" y="903240"/>
              <a:ext cx="29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ification language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6524640" y="3587760"/>
            <a:ext cx="1168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524640" y="4049640"/>
            <a:ext cx="1168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524640" y="3587760"/>
            <a:ext cx="0" cy="249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910640" y="3587760"/>
            <a:ext cx="0" cy="461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93200" y="3587760"/>
            <a:ext cx="21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524640" y="383688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93200" y="4049640"/>
            <a:ext cx="21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013600" y="3592440"/>
            <a:ext cx="534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013600" y="4092480"/>
            <a:ext cx="534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013600" y="359244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928000" y="3592440"/>
            <a:ext cx="0" cy="50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548560" y="3592440"/>
            <a:ext cx="379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013600" y="3805200"/>
            <a:ext cx="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548560" y="4092480"/>
            <a:ext cx="379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6537240" y="3021120"/>
            <a:ext cx="2408400" cy="1217520"/>
            <a:chOff x="6537240" y="3021120"/>
            <a:chExt cx="2408400" cy="1217520"/>
          </a:xfrm>
        </p:grpSpPr>
        <p:sp>
          <p:nvSpPr>
            <p:cNvPr id="678" name=""/>
            <p:cNvSpPr/>
            <p:nvPr/>
          </p:nvSpPr>
          <p:spPr>
            <a:xfrm>
              <a:off x="6615000" y="3836880"/>
              <a:ext cx="11246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,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1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740000" y="3587760"/>
              <a:ext cx="2091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5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15000" y="3587760"/>
              <a:ext cx="11246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,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1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               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,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615000" y="3836880"/>
              <a:ext cx="112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48160" y="3805200"/>
              <a:ext cx="514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 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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tru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563320" y="3592440"/>
              <a:ext cx="365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xi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48160" y="3592440"/>
              <a:ext cx="514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048160" y="3805200"/>
              <a:ext cx="51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657840" y="3021120"/>
              <a:ext cx="200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of system -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37240" y="3033720"/>
              <a:ext cx="2408400" cy="12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602160" y="4713120"/>
            <a:ext cx="1809000" cy="1603440"/>
            <a:chOff x="3602160" y="4713120"/>
            <a:chExt cx="1809000" cy="1603440"/>
          </a:xfrm>
        </p:grpSpPr>
        <p:pic>
          <p:nvPicPr>
            <p:cNvPr id="689" name="garfield-saw" descr=""/>
            <p:cNvPicPr/>
            <p:nvPr/>
          </p:nvPicPr>
          <p:blipFill>
            <a:blip r:embed="rId1"/>
            <a:stretch/>
          </p:blipFill>
          <p:spPr>
            <a:xfrm>
              <a:off x="3940200" y="4968720"/>
              <a:ext cx="117000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3630240" y="4713120"/>
              <a:ext cx="178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602160" y="4736880"/>
              <a:ext cx="1785960" cy="157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7738920" y="2494080"/>
            <a:ext cx="22320" cy="520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5902200" y="3645000"/>
            <a:ext cx="625680" cy="156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93680" y="969840"/>
            <a:ext cx="3022200" cy="1581120"/>
            <a:chOff x="193680" y="969840"/>
            <a:chExt cx="3022200" cy="1581120"/>
          </a:xfrm>
        </p:grpSpPr>
        <p:grpSp>
          <p:nvGrpSpPr>
            <p:cNvPr id="695" name=""/>
            <p:cNvGrpSpPr/>
            <p:nvPr/>
          </p:nvGrpSpPr>
          <p:grpSpPr>
            <a:xfrm>
              <a:off x="833400" y="1365840"/>
              <a:ext cx="1605960" cy="1164600"/>
              <a:chOff x="833400" y="1365840"/>
              <a:chExt cx="1605960" cy="1164600"/>
            </a:xfrm>
          </p:grpSpPr>
          <p:sp>
            <p:nvSpPr>
              <p:cNvPr id="696" name=""/>
              <p:cNvSpPr/>
              <p:nvPr/>
            </p:nvSpPr>
            <p:spPr>
              <a:xfrm>
                <a:off x="833400" y="1556280"/>
                <a:ext cx="4064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82040" y="1921320"/>
                <a:ext cx="528480" cy="21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Home Nod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433160" y="1553760"/>
                <a:ext cx="4064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32920" y="1557360"/>
                <a:ext cx="4064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1646640" y="1720080"/>
                <a:ext cx="3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605960" y="1720080"/>
                <a:ext cx="3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687320" y="1720080"/>
                <a:ext cx="3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flipV="1">
                <a:off x="1056600" y="1720080"/>
                <a:ext cx="4064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117800" y="1720080"/>
                <a:ext cx="4064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995760" y="1720080"/>
                <a:ext cx="38592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1819440" y="1720080"/>
                <a:ext cx="4064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1768320" y="1720080"/>
                <a:ext cx="4064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1910880" y="1699920"/>
                <a:ext cx="426960" cy="22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32040" y="1498320"/>
                <a:ext cx="224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73760" y="2290680"/>
                <a:ext cx="3150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hared: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13320" y="1367280"/>
                <a:ext cx="218880" cy="14580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16280" y="1498680"/>
                <a:ext cx="360" cy="6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112480" y="1367280"/>
                <a:ext cx="218880" cy="14580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235960" y="1498680"/>
                <a:ext cx="360" cy="6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523160" y="1365840"/>
                <a:ext cx="218880" cy="14580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626120" y="1498680"/>
                <a:ext cx="360" cy="6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237320" y="2390760"/>
                <a:ext cx="4032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ExclGranted: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666800" y="2183040"/>
                <a:ext cx="8100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748160" y="2183040"/>
                <a:ext cx="8100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951560" y="2183040"/>
                <a:ext cx="8100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666800" y="2283840"/>
                <a:ext cx="8100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780200" y="2269800"/>
                <a:ext cx="2127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33400" y="1556280"/>
                <a:ext cx="406440" cy="16344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hare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666800" y="2183040"/>
                <a:ext cx="81000" cy="6012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951560" y="2183040"/>
                <a:ext cx="81000" cy="6012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666800" y="2283840"/>
                <a:ext cx="81000" cy="60120"/>
              </a:xfrm>
              <a:prstGeom prst="rect">
                <a:avLst/>
              </a:prstGeom>
              <a:solidFill>
                <a:srgbClr val="ff969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1768320" y="1720080"/>
                <a:ext cx="406440" cy="20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1824480" y="1720080"/>
                <a:ext cx="406440" cy="2008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1824480" y="1720080"/>
                <a:ext cx="406440" cy="20088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1910880" y="1699920"/>
                <a:ext cx="426960" cy="221040"/>
              </a:xfrm>
              <a:prstGeom prst="line">
                <a:avLst/>
              </a:prstGeom>
              <a:ln w="25560">
                <a:solidFill>
                  <a:srgbClr val="7e5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032920" y="1557360"/>
                <a:ext cx="406440" cy="163440"/>
              </a:xfrm>
              <a:prstGeom prst="ellipse">
                <a:avLst/>
              </a:prstGeom>
              <a:solidFill>
                <a:srgbClr val="ff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Exc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95760" y="1720080"/>
                <a:ext cx="385920" cy="20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>
                <a:off x="1056600" y="1720080"/>
                <a:ext cx="406440" cy="2008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032920" y="1557720"/>
                <a:ext cx="4064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951560" y="2183040"/>
                <a:ext cx="8100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666800" y="2283840"/>
                <a:ext cx="8100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193680" y="981000"/>
              <a:ext cx="3022200" cy="156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1840" y="969840"/>
              <a:ext cx="29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ification language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 flipH="1" flipV="1">
            <a:off x="2577600" y="3679560"/>
            <a:ext cx="675000" cy="142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1587240" y="2577960"/>
            <a:ext cx="126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174600" y="3027240"/>
            <a:ext cx="2408400" cy="1217520"/>
            <a:chOff x="174600" y="3027240"/>
            <a:chExt cx="2408400" cy="1217520"/>
          </a:xfrm>
        </p:grpSpPr>
        <p:sp>
          <p:nvSpPr>
            <p:cNvPr id="742" name=""/>
            <p:cNvSpPr/>
            <p:nvPr/>
          </p:nvSpPr>
          <p:spPr>
            <a:xfrm>
              <a:off x="252360" y="3843000"/>
              <a:ext cx="11246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,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1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77360" y="3593880"/>
              <a:ext cx="2091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5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2360" y="3593880"/>
              <a:ext cx="11246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,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1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               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,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2360" y="3843000"/>
              <a:ext cx="112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85520" y="3811320"/>
              <a:ext cx="514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 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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tru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200680" y="3598560"/>
              <a:ext cx="365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xi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685520" y="3598560"/>
              <a:ext cx="514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85520" y="3811320"/>
              <a:ext cx="51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95200" y="3027240"/>
              <a:ext cx="200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of system -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74600" y="3039840"/>
              <a:ext cx="2408400" cy="12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3262320" y="2933640"/>
            <a:ext cx="2638080" cy="1766880"/>
            <a:chOff x="3262320" y="2933640"/>
            <a:chExt cx="2638080" cy="1766880"/>
          </a:xfrm>
        </p:grpSpPr>
        <p:sp>
          <p:nvSpPr>
            <p:cNvPr id="753" name=""/>
            <p:cNvSpPr/>
            <p:nvPr/>
          </p:nvSpPr>
          <p:spPr>
            <a:xfrm>
              <a:off x="3921120" y="4381560"/>
              <a:ext cx="1145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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. x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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016160" y="4384800"/>
              <a:ext cx="95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974040" y="4206960"/>
              <a:ext cx="1034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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093920" y="422136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12920" y="4024440"/>
              <a:ext cx="939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63880" y="4002120"/>
              <a:ext cx="13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774960" y="3805200"/>
              <a:ext cx="631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10520" y="3827520"/>
              <a:ext cx="726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863880" y="380988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05200" y="3809880"/>
              <a:ext cx="53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62240" y="4307040"/>
              <a:ext cx="27828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7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901040" y="4124520"/>
              <a:ext cx="28728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7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80480" y="3897360"/>
              <a:ext cx="2444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213520" y="3675240"/>
              <a:ext cx="46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Repla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290480" y="350064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xi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823920" y="3638520"/>
              <a:ext cx="631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&gt;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63880" y="361944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87960" y="3703680"/>
              <a:ext cx="46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Repla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649760" y="3638520"/>
              <a:ext cx="726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+2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705200" y="3619440"/>
              <a:ext cx="53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225400" y="350676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xi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30440" y="3056040"/>
              <a:ext cx="234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of 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262320" y="2933640"/>
              <a:ext cx="2638080" cy="176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1F6-FF81-4A45-A917-2B1445C40503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6858F-3AFF-4D2A-BB23-EF8BC441F2A9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yMP: </a:t>
            </a: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Symbolic Model Prover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 prover genera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roof management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interactive 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-in proof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to custom proof system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roof system define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ustom sequ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ustom set of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implemented proof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mbines MC &amp; 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Ath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ecurity protocol verification (in prog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598-C3EE-4008-B510-38BB86E070E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E53F9-E3FC-46AD-8CA5-C56FC340B832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erified Example: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BM Cache Coherenc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 in Default proof system in SyM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ed coherence of the Home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lemmas are still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: 139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lement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eps (proof ru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half of them ar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odel 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2A4-1C9A-4A59-A566-6F02F6BE9AA8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03D42-17BF-43CE-92EB-1DA1DEC0AD9A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538280"/>
            <a:ext cx="784872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ethodology for combining model checking and theorem pr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ramework for specializing theorem proving to various problem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ticular, MC + TP is one such problem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o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M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mplements the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MC + TP system in the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existing methodologies can be expressed in the framework and implemented in Sy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1CF-DCAD-4052-B3CD-C7F86EC74DCB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E3D06-0152-4A60-A2CF-6813512DF2FB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the default proof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, it should include all basic theorem proving for FO temporal logic and most of known model checking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more proof systems for other problem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h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being implemented for security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s for software verific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s for toy systems: natural deduction, CF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proof search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F17-3626-4013-AF9E-FA79FFD9E47C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B1222-B341-426A-87AE-274E0B929BBF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4: Abstraction in Model Check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852560"/>
            <a:ext cx="8077320" cy="37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 with other abstraction refinement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 on benchmark and industrial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ion in the context of bounded model checking Experiment on industrial designs (PCI bus protoc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20EC-2AE2-4761-B411-569E58C68A3A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669D-3652-4CEF-BD57-06F38587C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755-1FCA-4CDD-91DC-1CA783D7FB5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5F98A-6AFC-45FD-831F-D262B38B126D}" type="datetime3">
              <a:rPr lang="en-US"/>
              <a:t>July 30, 2026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Using Fourier Analysis for Abstraction-Refinement in Model Check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ubhav Gu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mund M. Cla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7: Model Checking Without BDD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ic model checking without BDDs using alternative data structures and algorith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 alternative method of doing model checking without BD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E61-7FE2-40C9-B35A-871DE3C532DB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FE067-8B73-4187-ABA9-68DFFA695407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7: Model Checking Without BDD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the use of SAT procedures and BEDs for fixpoint compu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C93-DC9B-4E6B-BBEF-E22FA153BAF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4E065-4276-4574-8BBC-B73AD53562DF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7: Model Checking Without BDD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 full CTL model checker that combines SAT procedures with BEDs for fixpoint compu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a new methodology that uses “learning algorithms” for identifying important variables in hardware circu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up with a new approach for counterexample-guided abstraction-refinement that views refinement as the standard “AI classification problem”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5F5-C04A-495E-A2C5-0598809D2DF9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A3280-A907-4359-90D3-6A1D8B718F54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7: Model Checking Without BDD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next year (200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a tool that identifies important variables in a circuit and uses this information to generate good BDD and SAT-split orde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ze a counterexample-guided abstraction-refinement framework based on the Fourier Trans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a counterexample-guided abstraction-refinement framework based on the Fourier Transform and other learning algorith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0E82-B4D9-4451-B40F-2210631FBB3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DAF58-FB22-4B49-A904-2657029993D4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7: Model Checking Without BDDs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ilestone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r that combines fixed point computation for mode checking with a sat-solver (31-Jan-200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ze counterexample-guided abstraction-refinement framework based on the Fourier Transform (15-May-200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counterexample-guided abstraction-refinement framework based on the Fourier Transform and other learning algorithms and perform experiments (31-Nov-200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good BDD and SAT splitting-orders based on important variables in the circuit (31-Mar-200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E42-251A-477F-9C0A-C053217D0717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304EE-160A-434F-B410-09AA234672F8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7: Model Checking Without BDDs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Deliverable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er that combines fixed point computation for mode checking with a sat-solver (Completed : 31-Jan-2001), Related Publication(s): P001653, P0007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that formalizes counterexample-guided abstraction-refinement framework based on the Fourier Transform (31-May-200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 that implements counterexample-guided abstraction-refinement framework based on the Fourier Transform and other learning algorithms (31-Dec-200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 that generates good BDD and SAT splitting-orders based on important variables in the circuit (31-Apr-200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2D3-A871-4F86-B749-FE83A03E3A8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F9C0E-F723-4C13-9079-DF8F84B264A7}" type="datetime3">
              <a:rPr lang="en-US"/>
              <a:t>July 30, 2026</a:t>
            </a:fld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230480" y="2919240"/>
            <a:ext cx="68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chnical presentation for this task follows in PDF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CF28-820F-4326-A140-2FB93AAB2C4D}" type="slidenum">
              <a:t>5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C4135-4C6A-434A-A359-5A386DB61A7F}" type="datetime3">
              <a:rPr lang="en-US"/>
              <a:t>July 30, 20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fficient Image Computation Algorithm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1371240" y="2923920"/>
            <a:ext cx="644364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kaj Chau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g W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mund M. Cla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Joint work with Somesh Jha, Jim Kukula, Helmut Ve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fficient Image Computation Algorithm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techniques for faster image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llection of algorithms for efficient image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algorithms in NuSMV model checker and extensive experimental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3C3-3D4B-4121-9DAE-C328016BD316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EC305-B105-4B6C-9868-C9BB87148EF1}" type="datetime3">
              <a:rPr lang="en-US"/>
              <a:t>July 30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4: Abstraction in Model Check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an Lu gradua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abstraction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of aSMV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experimentation with impressiv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7D8-8D2C-4057-910E-886C8A9B7A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614AB-B9C0-4D2B-89CE-7E13A6711454}" type="datetime3">
              <a:rPr lang="en-US"/>
              <a:t>July 30, 202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fficient Image Computation Algorithm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existing techniques and understand their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alternate metrics for predicting image comput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, evaluate and tune algorithms that improve these metrics to aid image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C13-F82C-4163-A158-FCD87A25335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90905-1CE7-4E45-8E8C-2D063188A755}" type="datetime3">
              <a:rPr lang="en-US"/>
              <a:t>July 30, 20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fficient Image Computation Algorithm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llection of algorithms based on combinatorial optimization for various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se techniques are made available in NuSMV model checker and built an evalua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BD3B-A437-4378-8DC0-8BDDD3C6925A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275D3-55EF-4FAC-9330-ABC97BFAF636}" type="datetime3">
              <a:rPr lang="en-US"/>
              <a:t>July 30, 20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fficient Image Computation Algorithm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next year (200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he implementation to include even mor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algorithms on more strength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the use of efficient partitioning schemes for image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techniques for other applications, including efficient abstraction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54C-A22E-4DC7-ACBB-497387DF934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D8746-F18B-4E79-9C79-AE75D0E28087}" type="datetime3">
              <a:rPr lang="en-US"/>
              <a:t>July 30, 20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fficient Image Computation Algorithms </a:t>
            </a:r>
            <a:br>
              <a:rPr sz="36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leston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evaluation of combinatorial optimization based methods (31-Jan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on efficient image computation using combinatorial optimization methods (31-June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on VarScore algorithm and improved version of Kernighan-Lin based heuristics (31-Sept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partitioning method for image compuation (31-Dec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techniques to abstraction and non BDD based image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138C-E4FB-4A21-9DA1-E1422B435D1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5D384-71F7-4AC8-9123-CD534A46D2F6}" type="datetime3">
              <a:rPr lang="en-US"/>
              <a:t>July 30, 20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mage Compu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heart of Symbolic Model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artitioned Transition rel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equired for all “real world desig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njunctive and Disjunctive Partitio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fundamental partitioning techn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B244-C1F6-403D-94E1-2EAA290009DC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4CC3E-C63E-4873-A6F5-6149F7520775}" type="datetime3">
              <a:rPr lang="en-US"/>
              <a:t>July 30, 20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he Problem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is to reduce the size of intermediate BD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 Computation depend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uster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the clus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derived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rder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the clusters are ordered in the formula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s are NP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B3A-AFF0-4B36-99D8-7F571A80D49B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061F2-D4B6-48D5-8E6E-8BCC854F9F36}" type="datetime3">
              <a:rPr lang="en-US"/>
              <a:t>July 30, 20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urrent State of the Ar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39200" y="1981080"/>
            <a:ext cx="513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uristic score based (Ranjan et. al., IWLS’95, Yang’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matrices (Somenzi, Moon et.al. DAC’00, FMCAD’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+BDD (Gupta, FMCAD’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6248520" y="2558880"/>
          <a:ext cx="19303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558880"/>
                    <a:ext cx="19303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6172200" y="1949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31A-0F1B-49BC-BC16-17C0019403EF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280E7-C2DA-4071-BD2F-D75BD4DB9411}" type="datetime3">
              <a:rPr lang="en-US"/>
              <a:t>July 30, 20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ependency Matric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40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s correspond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…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lumns correspond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…,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[i,j]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suppor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erage active life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4952880" y="2381400"/>
          <a:ext cx="3810240" cy="1825560"/>
        </p:xfrm>
        <a:graphic>
          <a:graphicData uri="http://schemas.openxmlformats.org/drawingml/2006/table">
            <a:tbl>
              <a:tblPr/>
              <a:tblGrid>
                <a:gridCol w="546120"/>
                <a:gridCol w="542880"/>
                <a:gridCol w="544680"/>
                <a:gridCol w="542880"/>
                <a:gridCol w="544680"/>
                <a:gridCol w="542880"/>
                <a:gridCol w="54612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’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’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’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823" name=""/>
          <p:cNvSpPr/>
          <p:nvPr/>
        </p:nvSpPr>
        <p:spPr>
          <a:xfrm>
            <a:off x="4876920" y="44290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ency matrix for 3-bit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157400" y="4878360"/>
                <a:ext cx="24001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BE4-E12A-4586-B51B-10066C1E86F5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B7346-35BC-4D9B-AF31-16BD3BEA1311}" type="datetime3">
              <a:rPr lang="en-US"/>
              <a:t>July 30, 20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4473720" y="2028960"/>
            <a:ext cx="41907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verview of </a:t>
            </a: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Techniqu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230360" y="1981080"/>
            <a:ext cx="450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lgorithms based on sharing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lgorithms based on minimiza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Score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914400" y="17049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1746360" y="2314440"/>
          <a:ext cx="160632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2314440"/>
                    <a:ext cx="160632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1BCF-8BDE-4349-9A19-FD60595E243B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46FBD-198A-4823-8FA3-C122FE5C5ED8}" type="datetime3">
              <a:rPr lang="en-US"/>
              <a:t>July 30, 20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haring Graph based Ordering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 “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haring 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whose vertices correspond to conjun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eight of the ed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igh weight </a:t>
            </a:r>
            <a:r>
              <a:rPr b="0" lang="en-US" sz="2000" spc="-1" strike="noStrike">
                <a:solidFill>
                  <a:srgbClr val="ff66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strong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 two algorithms to order the vertices of this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1905120" y="3494160"/>
                <a:ext cx="571176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up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∩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p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up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p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ddSize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∧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ddSize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ddSize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re paramete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CAD6-5A18-4B99-9303-FC278A83CA91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738E2-1596-47DD-82CC-C76E0D3184C4}" type="datetime3">
              <a:rPr lang="en-US"/>
              <a:t>July 30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4: Abstraction in Model Check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952280"/>
            <a:ext cx="8119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next year (200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ing the methodology to include all ACTL countert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AT for refinement of large state 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E41A-E095-4F86-8592-05CE94B23EA2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6002-6356-452C-86FB-37A1A3740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926-383E-479D-A755-EF914F92532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CD02A-EBB4-48D5-B4DC-5E05526039F1}" type="datetime3">
              <a:rPr lang="en-US"/>
              <a:t>July 30, 2026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rdering Algorithm KLi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90720" y="1911240"/>
            <a:ext cx="4114800" cy="406044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LinOrder(G(V,E),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 V into L,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nd 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d a good split L,R with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Kernighan-L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Heu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 and Ri are vertices adjacent to the other half (interface verti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cursively order L-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nd R-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rder the vertices as L-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 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 R-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257800" y="2235240"/>
            <a:ext cx="3352680" cy="3276720"/>
            <a:chOff x="5257800" y="2235240"/>
            <a:chExt cx="3352680" cy="3276720"/>
          </a:xfrm>
        </p:grpSpPr>
        <p:sp>
          <p:nvSpPr>
            <p:cNvPr id="837" name=""/>
            <p:cNvSpPr/>
            <p:nvPr/>
          </p:nvSpPr>
          <p:spPr>
            <a:xfrm>
              <a:off x="5257800" y="2235240"/>
              <a:ext cx="3352680" cy="32767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81680" y="254016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5362560" y="2698920"/>
            <a:ext cx="3086280" cy="2431800"/>
            <a:chOff x="5362560" y="2698920"/>
            <a:chExt cx="3086280" cy="2431800"/>
          </a:xfrm>
        </p:grpSpPr>
        <p:sp>
          <p:nvSpPr>
            <p:cNvPr id="840" name=""/>
            <p:cNvSpPr/>
            <p:nvPr/>
          </p:nvSpPr>
          <p:spPr>
            <a:xfrm>
              <a:off x="5362560" y="2698920"/>
              <a:ext cx="1338120" cy="2261880"/>
            </a:xfrm>
            <a:prstGeom prst="ellipse">
              <a:avLst/>
            </a:prstGeom>
            <a:solidFill>
              <a:srgbClr val="99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110360" y="2868480"/>
              <a:ext cx="1338480" cy="2262240"/>
            </a:xfrm>
            <a:prstGeom prst="ellipse">
              <a:avLst/>
            </a:prstGeom>
            <a:solidFill>
              <a:srgbClr val="99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551560" y="312120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837560" y="3951360"/>
              <a:ext cx="44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010200" y="3005280"/>
            <a:ext cx="1773360" cy="1780920"/>
            <a:chOff x="6010200" y="3005280"/>
            <a:chExt cx="1773360" cy="1780920"/>
          </a:xfrm>
        </p:grpSpPr>
        <p:sp>
          <p:nvSpPr>
            <p:cNvPr id="845" name=""/>
            <p:cNvSpPr/>
            <p:nvPr/>
          </p:nvSpPr>
          <p:spPr>
            <a:xfrm>
              <a:off x="6018120" y="3005280"/>
              <a:ext cx="665280" cy="15541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18280" y="3232080"/>
              <a:ext cx="665280" cy="15541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010200" y="3638520"/>
              <a:ext cx="447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269120" y="4097520"/>
              <a:ext cx="447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6259680" y="3405240"/>
            <a:ext cx="1263600" cy="815400"/>
            <a:chOff x="6259680" y="3405240"/>
            <a:chExt cx="1263600" cy="815400"/>
          </a:xfrm>
        </p:grpSpPr>
        <p:sp>
          <p:nvSpPr>
            <p:cNvPr id="850" name=""/>
            <p:cNvSpPr/>
            <p:nvPr/>
          </p:nvSpPr>
          <p:spPr>
            <a:xfrm>
              <a:off x="6392880" y="3995280"/>
              <a:ext cx="110484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59680" y="3405240"/>
              <a:ext cx="1245960" cy="15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6392880" y="3787560"/>
              <a:ext cx="1130400" cy="207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00800" y="3655800"/>
              <a:ext cx="1114560" cy="14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375240" y="3571560"/>
              <a:ext cx="112248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4E7-0847-4858-9EE6-46F3E18FD221}" type="slidenum">
              <a:t>7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59C28-4697-4E4F-896C-61AD6C118264}" type="datetime3">
              <a:rPr lang="en-US"/>
              <a:t>July 30, 20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rdering Algorithm METI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39200" y="1981080"/>
            <a:ext cx="40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partitioning a smaller graph, consider oth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placed vert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node weight 0 to preplaced nodes, while retain edge 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tion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tices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pth-fir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818240" y="2567160"/>
            <a:ext cx="3790800" cy="151740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757920" y="2565360"/>
            <a:ext cx="0" cy="153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067600" y="2781360"/>
            <a:ext cx="0" cy="10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149960" y="2576520"/>
            <a:ext cx="0" cy="149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13640" y="2665440"/>
            <a:ext cx="0" cy="134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316560" y="2568600"/>
            <a:ext cx="0" cy="151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335560" y="2787480"/>
            <a:ext cx="0" cy="107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70520" y="2644920"/>
            <a:ext cx="0" cy="13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0814-5230-4616-816C-6C81DD7AC7C0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48606-AA3B-4E17-A478-2FAF160EFC65}" type="datetime3">
              <a:rPr lang="en-US"/>
              <a:t>July 30, 20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4484520" y="3262320"/>
            <a:ext cx="41911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verview of </a:t>
            </a: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Techniqu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230360" y="1981080"/>
            <a:ext cx="450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lgorithms based on sharing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lgorithms based on minimiza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Score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914400" y="17049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9" name=""/>
          <p:cNvGraphicFramePr/>
          <p:nvPr/>
        </p:nvGraphicFramePr>
        <p:xfrm>
          <a:off x="1746360" y="2314440"/>
          <a:ext cx="160632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2314440"/>
                    <a:ext cx="160632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279-64A6-4E43-A36F-AF4316881228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EB559-AC6D-4B2A-AE60-FB1567D13C3F}" type="datetime3">
              <a:rPr lang="en-US"/>
              <a:t>July 30, 20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rdering by Minimization of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active lif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ong various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wer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relatively disjoi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ant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inimize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s and columns of dependency matrix are permuted 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mprove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et.al. (FMCAD’00) use an indirect method (P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cy matrix is restricted to the variables that are to be qua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3429000" y="2711520"/>
                <a:ext cx="24004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0A89-D593-40D7-BBF5-B66A015B7A68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B2859-F0B1-4639-88B4-9471FE2F73E2}" type="datetime3">
              <a:rPr lang="en-US"/>
              <a:t>July 30, 20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ptimization of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binatorial optmization to reorder conjuncts to get bett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(eg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ill climb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imulated Annea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carefu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u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many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good performance as long the metric being optimized relates directly to image comput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179-1E8E-4E43-A684-4C61DE7B23F5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3F9B0-5034-47D2-9F4E-C39666D0D767}" type="datetime3">
              <a:rPr lang="en-US"/>
              <a:t>July 30, 20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imulated Annealing Algorithm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914400" y="1806480"/>
            <a:ext cx="8001000" cy="39625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mAnnealOrder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u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f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i=1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umStart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t</a:t>
            </a:r>
            <a:r>
              <a:rPr b="1" i="1" lang="en-US" sz="20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=t</a:t>
            </a:r>
            <a:r>
              <a:rPr b="1" i="1" lang="en-US" sz="2000" spc="-1" strike="noStrike" baseline="-25000">
                <a:solidFill>
                  <a:srgbClr val="ff3300"/>
                </a:solidFill>
                <a:latin typeface="Courier New"/>
              </a:rPr>
              <a:t>0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r>
              <a:rPr b="1" i="1" lang="en-US" sz="2000" spc="-1" strike="noStrike" baseline="30000">
                <a:solidFill>
                  <a:srgbClr val="ff33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j=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umStarts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mute two random rows of D to get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 probabilit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exp(-(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)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/t</a:t>
            </a:r>
            <a:r>
              <a:rPr b="1" i="1" lang="en-US" sz="20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90C-E119-40B4-B5E9-971213AD7324}" type="slidenum">
              <a:t>7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49A6A-24C4-44EA-94A6-09FAEB7A0B9D}" type="datetime3">
              <a:rPr lang="en-US"/>
              <a:t>July 30, 20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4473720" y="4351320"/>
            <a:ext cx="41907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verview of </a:t>
            </a: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Techniqu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230360" y="1981080"/>
            <a:ext cx="450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lgorithms based on sharing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lgorithms based on minimiza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Score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914400" y="17049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2" name=""/>
          <p:cNvGraphicFramePr/>
          <p:nvPr/>
        </p:nvGraphicFramePr>
        <p:xfrm>
          <a:off x="1746360" y="2314440"/>
          <a:ext cx="160632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2314440"/>
                    <a:ext cx="160632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F36-B0CC-4320-82DA-A6FC624DACC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D8220-AC79-47DF-B103-EE6F57149FAF}" type="datetime3">
              <a:rPr lang="en-US"/>
              <a:t>July 30, 20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 computation eq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en as building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se t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m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earing other subtrees can be quantified away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ordering the conjuncts linearly, build a tree so that intermediate BDDs are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arScore Algorithm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2508120" y="2768760"/>
                <a:ext cx="43862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∃</m:t>
                    </m:r>
                    <m:r>
                      <m:t xml:space="preserve">C</m:t>
                    </m:r>
                    <m:r>
                      <m:t xml:space="preserve">∃</m:t>
                    </m:r>
                    <m:r>
                      <m:t xml:space="preserve">W</m:t>
                    </m:r>
                    <m:r>
                      <m:t xml:space="preserve">∃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075-FF71-49C8-9F9E-8473E35E7415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7B220-8DAC-41E3-AAA8-3F2E7B33D801}" type="datetime3">
              <a:rPr lang="en-US"/>
              <a:t>July 30, 20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arScore Algorithm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ropose two versions of VarScor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version builds the parse tree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ach image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version builds the parse tre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beit with some inaccura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 is very similar to 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538A-3B46-4F24-91D0-E2F14F23DA95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223B0-E451-4A85-85FC-64213CDB4EF3}" type="datetime3">
              <a:rPr lang="en-US"/>
              <a:t>July 30, 20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arScore (Dynamic Version)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93720" y="4616280"/>
            <a:ext cx="446040" cy="490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92280" y="3855960"/>
            <a:ext cx="446040" cy="49068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87240" y="3075120"/>
            <a:ext cx="446400" cy="490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90480" y="2279520"/>
            <a:ext cx="446040" cy="49068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243080" y="2352600"/>
            <a:ext cx="8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255680" y="3151080"/>
            <a:ext cx="8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266840" y="3927600"/>
            <a:ext cx="11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Ex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285920" y="4700520"/>
            <a:ext cx="10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jun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5786280" y="2473200"/>
            <a:ext cx="2284560" cy="2098800"/>
            <a:chOff x="5786280" y="2473200"/>
            <a:chExt cx="2284560" cy="2098800"/>
          </a:xfrm>
        </p:grpSpPr>
        <p:sp>
          <p:nvSpPr>
            <p:cNvPr id="899" name=""/>
            <p:cNvSpPr/>
            <p:nvPr/>
          </p:nvSpPr>
          <p:spPr>
            <a:xfrm>
              <a:off x="6246720" y="2473200"/>
              <a:ext cx="446040" cy="490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0" name=""/>
            <p:cNvCxnSpPr>
              <a:stCxn id="901" idx="0"/>
              <a:endCxn id="899" idx="5"/>
            </p:cNvCxnSpPr>
            <p:nvPr/>
          </p:nvCxnSpPr>
          <p:spPr>
            <a:xfrm flipH="1" flipV="1">
              <a:off x="6627600" y="2904840"/>
              <a:ext cx="1443600" cy="1667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902" name=""/>
            <p:cNvCxnSpPr>
              <a:stCxn id="903" idx="7"/>
              <a:endCxn id="899" idx="3"/>
            </p:cNvCxnSpPr>
            <p:nvPr/>
          </p:nvCxnSpPr>
          <p:spPr>
            <a:xfrm flipV="1">
              <a:off x="5786280" y="2904480"/>
              <a:ext cx="526320" cy="58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904" name=""/>
          <p:cNvSpPr/>
          <p:nvPr/>
        </p:nvSpPr>
        <p:spPr>
          <a:xfrm>
            <a:off x="3648240" y="4870440"/>
            <a:ext cx="44575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565440" y="3616200"/>
            <a:ext cx="4469040" cy="1160640"/>
          </a:xfrm>
          <a:custGeom>
            <a:avLst/>
            <a:gdLst/>
            <a:ahLst/>
            <a:rect l="l" t="t" r="r" b="b"/>
            <a:pathLst>
              <a:path w="2815" h="731">
                <a:moveTo>
                  <a:pt x="0" y="654"/>
                </a:moveTo>
                <a:lnTo>
                  <a:pt x="1314" y="0"/>
                </a:lnTo>
                <a:lnTo>
                  <a:pt x="2815" y="731"/>
                </a:ln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3462480" y="2712960"/>
            <a:ext cx="2989080" cy="1889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862360" y="4584600"/>
            <a:ext cx="5646600" cy="949320"/>
            <a:chOff x="2862360" y="4584600"/>
            <a:chExt cx="5646600" cy="949320"/>
          </a:xfrm>
        </p:grpSpPr>
        <p:sp>
          <p:nvSpPr>
            <p:cNvPr id="908" name=""/>
            <p:cNvSpPr/>
            <p:nvPr/>
          </p:nvSpPr>
          <p:spPr>
            <a:xfrm>
              <a:off x="3144960" y="4616280"/>
              <a:ext cx="446040" cy="490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64080" y="4613400"/>
              <a:ext cx="446040" cy="490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49960" y="4587840"/>
              <a:ext cx="446040" cy="49068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846920" y="4584600"/>
              <a:ext cx="446040" cy="490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1" name=""/>
                <p:cNvSpPr txBox="1"/>
                <p:nvPr/>
              </p:nvSpPr>
              <p:spPr>
                <a:xfrm>
                  <a:off x="2862360" y="5216400"/>
                  <a:ext cx="130644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'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↔</m:t>
                      </m:r>
                      <m:r>
                        <m:t xml:space="preserve">¬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2" name=""/>
                <p:cNvSpPr txBox="1"/>
                <p:nvPr/>
              </p:nvSpPr>
              <p:spPr>
                <a:xfrm>
                  <a:off x="5700600" y="5248440"/>
                  <a:ext cx="190368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'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↔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∧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⊕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3" name=""/>
                <p:cNvSpPr txBox="1"/>
                <p:nvPr/>
              </p:nvSpPr>
              <p:spPr>
                <a:xfrm>
                  <a:off x="4294080" y="5243400"/>
                  <a:ext cx="130680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'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↔</m:t>
                      </m:r>
                      <m:r>
                        <m:t xml:space="preserve">¬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4" name=""/>
                <p:cNvSpPr txBox="1"/>
                <p:nvPr/>
              </p:nvSpPr>
              <p:spPr>
                <a:xfrm>
                  <a:off x="7791480" y="5221440"/>
                  <a:ext cx="717480" cy="31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¬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5861160" y="4533840"/>
                <a:ext cx="3286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16" name=""/>
          <p:cNvGrpSpPr/>
          <p:nvPr/>
        </p:nvGrpSpPr>
        <p:grpSpPr>
          <a:xfrm>
            <a:off x="4788000" y="3432240"/>
            <a:ext cx="1685880" cy="1168200"/>
            <a:chOff x="4788000" y="3432240"/>
            <a:chExt cx="1685880" cy="1168200"/>
          </a:xfrm>
        </p:grpSpPr>
        <p:sp>
          <p:nvSpPr>
            <p:cNvPr id="903" name=""/>
            <p:cNvSpPr/>
            <p:nvPr/>
          </p:nvSpPr>
          <p:spPr>
            <a:xfrm>
              <a:off x="5405400" y="3432240"/>
              <a:ext cx="446040" cy="4903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7" name=""/>
            <p:cNvCxnSpPr>
              <a:stCxn id="909" idx="0"/>
              <a:endCxn id="903" idx="3"/>
            </p:cNvCxnSpPr>
            <p:nvPr/>
          </p:nvCxnSpPr>
          <p:spPr>
            <a:xfrm flipV="1">
              <a:off x="4788000" y="3863520"/>
              <a:ext cx="682920" cy="737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918" name=""/>
            <p:cNvCxnSpPr>
              <a:stCxn id="910" idx="0"/>
              <a:endCxn id="903" idx="5"/>
            </p:cNvCxnSpPr>
            <p:nvPr/>
          </p:nvCxnSpPr>
          <p:spPr>
            <a:xfrm flipH="1" flipV="1">
              <a:off x="5786280" y="3863520"/>
              <a:ext cx="687960" cy="712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4989600" y="3533760"/>
                  <a:ext cx="35568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∃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0" name=""/>
          <p:cNvGrpSpPr/>
          <p:nvPr/>
        </p:nvGrpSpPr>
        <p:grpSpPr>
          <a:xfrm>
            <a:off x="3368520" y="1670040"/>
            <a:ext cx="2943360" cy="2933640"/>
            <a:chOff x="3368520" y="1670040"/>
            <a:chExt cx="2943360" cy="2933640"/>
          </a:xfrm>
        </p:grpSpPr>
        <p:sp>
          <p:nvSpPr>
            <p:cNvPr id="921" name=""/>
            <p:cNvSpPr/>
            <p:nvPr/>
          </p:nvSpPr>
          <p:spPr>
            <a:xfrm>
              <a:off x="4487760" y="1670040"/>
              <a:ext cx="446040" cy="4906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2" name=""/>
            <p:cNvCxnSpPr>
              <a:stCxn id="899" idx="1"/>
              <a:endCxn id="921" idx="6"/>
            </p:cNvCxnSpPr>
            <p:nvPr/>
          </p:nvCxnSpPr>
          <p:spPr>
            <a:xfrm flipH="1" flipV="1">
              <a:off x="4946400" y="1915560"/>
              <a:ext cx="1365840" cy="616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923" name=""/>
            <p:cNvCxnSpPr>
              <a:stCxn id="908" idx="0"/>
              <a:endCxn id="921" idx="3"/>
            </p:cNvCxnSpPr>
            <p:nvPr/>
          </p:nvCxnSpPr>
          <p:spPr>
            <a:xfrm flipV="1">
              <a:off x="3368520" y="2101320"/>
              <a:ext cx="1185120" cy="2502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mc:AlternateContent>
          <mc:Choice xmlns:a14="http://schemas.microsoft.com/office/drawing/2010/main" Requires="a14">
            <p:sp>
              <p:nvSpPr>
                <p:cNvPr id="924" name=""/>
                <p:cNvSpPr txBox="1"/>
                <p:nvPr/>
              </p:nvSpPr>
              <p:spPr>
                <a:xfrm>
                  <a:off x="3940200" y="1743120"/>
                  <a:ext cx="35892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∃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0F8-4C7B-4B90-A89A-7797F831C745}" type="slidenum">
              <a:t>7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82F36-E719-4547-A212-E2CFC68A0515}" type="datetime3">
              <a:rPr lang="en-US"/>
              <a:t>July 30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4: Abstraction in Model Checking</a:t>
            </a:r>
            <a:br>
              <a:rPr sz="36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leston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abstraction function generation (31-Dec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hierarchical verification algorithms (31-Dec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ing the methodology to include all ACTL* counterexamples and implementation (31-Dec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AT based techniques for refinement of large state spaces (31-March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66DE-F3C6-4BBE-B038-241D89895C3A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3C1D-5FC5-4082-AD7C-16F6C9B08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471-5602-447D-8FC9-9471497D3D0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87239-ABA5-4E2D-AB52-DC5B47B4A15B}" type="datetime3">
              <a:rPr lang="en-US"/>
              <a:t>July 30, 2026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arScore (Static Version)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vers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eats lots of same oper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image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psuedo-tree withou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sum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all variables i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BDDs are estimated from some function of number of suppor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ubtre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ath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oot can be evaluated in the beg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state variables can’t be qua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771F-B353-446B-8EAC-DAD2650EB73D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D0C57-F83A-4598-AFB8-24A8EF88ADF0}" type="datetime3">
              <a:rPr lang="en-US"/>
              <a:t>July 30, 20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itial Experimental Result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et about 30-40% average space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2x speedup, average 30-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mplete 4 examples which FMCAD’00 couldn’t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BDDs yield better running time for larger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5EA-1F32-4FDC-B05B-76C787A80E25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46080-8DF1-4B76-AD1E-5BCDE85CE881}" type="datetime3">
              <a:rPr lang="en-US"/>
              <a:t>July 30, 20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ed Annealing performs well on large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ing graph based techniques show promise, though not as good as simulated ann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ing more time in initial ordering phase speeds up image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7ED-11ED-4BE8-B481-ECE874E406B4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3A200-706A-4BE6-BB72-E9C49C037F6B}" type="datetime3">
              <a:rPr lang="en-US"/>
              <a:t>July 30, 20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xperimentation,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algorithms for part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evaluation of VarScor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these techniques to other area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150-A05B-4A11-B2D1-D3E05C71E793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67A16-25E3-42FB-86DD-82640D5C1958}" type="datetime3">
              <a:rPr lang="en-US"/>
              <a:t>July 30, 20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4360" y="28573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A68-848E-42E6-9D80-FC8C8454F1DC}" type="slidenum">
              <a:t>8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79AD2-FE35-466C-BD3B-80E7AE3ED1E4}" type="datetime3">
              <a:rPr lang="en-US"/>
              <a:t>July 30, 2026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1219320" y="3505320"/>
            <a:ext cx="7010280" cy="28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relatio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(V,W,V’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ypically given as a conj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, eac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transition relation for one sta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of variables on whic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denoted b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upp(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artitioned Transition Relation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600200" y="5257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576440" y="1986120"/>
            <a:ext cx="5029200" cy="1629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current stat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’= v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ext stat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input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={V U W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3649680" y="3952800"/>
                <a:ext cx="31543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∧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17B-F55A-4191-A72B-AFFD8C2D51E8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C343B-E6C0-4456-A44E-0FE4708A489D}" type="datetime3">
              <a:rPr lang="en-US"/>
              <a:t>July 30, 20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Computat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asible in practice as the BDD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o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1928880" y="2890800"/>
                <a:ext cx="5640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∃</m:t>
                    </m:r>
                    <m:r>
                      <m:t xml:space="preserve">W</m:t>
                    </m:r>
                    <m:r>
                      <m:t xml:space="preserve">∃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51A-B26D-4E81-9DEA-3E5DD6296BE6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80A15-1BF1-4D4A-87DF-B5192B3DB815}" type="datetime3">
              <a:rPr lang="en-US"/>
              <a:t>July 30, 20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arly Quantificat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of early quantif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: Smaller intermedi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1461960" y="2657520"/>
                <a:ext cx="6524640" cy="24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∃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t xml:space="preserve">∃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∃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ppear only in </m:t>
                        </m:r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ppear only in </m:t>
                        </m:r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∪</m:t>
                        </m:r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18C-3BD3-4D17-9305-906276F05323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3B655-C6B0-4BF7-81A6-D712F00B1FFF}" type="datetime3">
              <a:rPr lang="en-US"/>
              <a:t>July 30, 20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 Toy Exampl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3-bit 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1535040" y="2981160"/>
                <a:ext cx="3178080" cy="272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↔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↔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⊕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↔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⊕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ll even number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5419800" y="3048120"/>
                <a:ext cx="26398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C42-04DC-4351-9210-F3E8B717FDEA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05755-9971-48DB-B9E7-EDDD8C9973CA}" type="datetime3">
              <a:rPr lang="en-US"/>
              <a:t>July 30, 20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utpoints for Finer Partitioning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 helps when the circuit is finely partitio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the partition is too coarse (in other words, to large to be represented by a single BD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Introduce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cut-po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circuit of the next state function of a variable [Burch, Singhal ICCAD‘9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to introduce a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conjunct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ut-poi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ing a sub-circuit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33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two conjuncts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[c]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ff3300"/>
                </a:solidFill>
                <a:latin typeface="Wingdings 3"/>
                <a:ea typeface="Wingdings 3"/>
              </a:rPr>
              <a:t>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 f</a:t>
            </a:r>
            <a:r>
              <a:rPr b="0" i="1" lang="en-US" sz="2000" spc="-1" strike="noStrike" baseline="-25000">
                <a:solidFill>
                  <a:srgbClr val="ff33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uantify away cut-poi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le computing the image, no need to introduce a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bd04924_" descr=""/>
          <p:cNvPicPr/>
          <p:nvPr/>
        </p:nvPicPr>
        <p:blipFill>
          <a:blip r:embed="rId1"/>
          <a:stretch/>
        </p:blipFill>
        <p:spPr>
          <a:xfrm>
            <a:off x="176040" y="3255840"/>
            <a:ext cx="762120" cy="5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898-40F3-4335-AFF4-85EC38D15498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0DDF8-3644-4492-B8BB-D3E59850F6BB}" type="datetime3">
              <a:rPr lang="en-US"/>
              <a:t>July 30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4: Abstraction in Model Checking</a:t>
            </a:r>
            <a:br>
              <a:rPr sz="36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iverab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on hierarchical model checking without flattening for hierarchical circuit descriptions (Planned 31-Dec-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on model checking of hierarchically structured SMV and StateCharts for embedded systems and mixed hardware designs (Planned 31-Dec-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/Paper on Extension of methodology for all counterexamples (Planned 31-Dec-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ersion of aSMV with this feature (Planned 30-March-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/Paper on refinement using large state spaces (Planned 31-June-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ersion of aSMV with SAT based refinement (Planned 31-Dec-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0900-C1DA-4152-8DB9-0E1288B19A8F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D39C-2372-4AC8-81E3-3C9E21328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2185-AD19-42F7-BBBD-1DAB1823684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472E6-1E3D-4977-BC69-5E82AD10CD1B}" type="datetime3">
              <a:rPr lang="en-US"/>
              <a:t>July 30, 2026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14360" y="853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Benchmark Characteristic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990720" y="1924200"/>
          <a:ext cx="3352680" cy="2840040"/>
        </p:xfrm>
        <a:graphic>
          <a:graphicData uri="http://schemas.openxmlformats.org/drawingml/2006/table">
            <a:tbl>
              <a:tblPr/>
              <a:tblGrid>
                <a:gridCol w="582480"/>
                <a:gridCol w="685800"/>
                <a:gridCol w="838080"/>
                <a:gridCol w="124632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F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inpu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#reac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5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5" name=""/>
          <p:cNvGraphicFramePr/>
          <p:nvPr/>
        </p:nvGraphicFramePr>
        <p:xfrm>
          <a:off x="5029200" y="1920960"/>
          <a:ext cx="3429000" cy="2441520"/>
        </p:xfrm>
        <a:graphic>
          <a:graphicData uri="http://schemas.openxmlformats.org/drawingml/2006/table">
            <a:tbl>
              <a:tblPr/>
              <a:tblGrid>
                <a:gridCol w="582480"/>
                <a:gridCol w="685800"/>
                <a:gridCol w="838440"/>
                <a:gridCol w="13222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F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inpu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#reac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.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2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53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71 (after 8 step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8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2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3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feist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.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4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41 (after 16 step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659-E0C3-4626-9B11-3DE2A16C2340}" type="slidenum">
              <a:t>9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09CD9-C976-4AD3-B2CD-EAE85F99FABE}" type="datetime3">
              <a:rPr lang="en-US"/>
              <a:t>July 30, 20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hich 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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o use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version of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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either tak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tal life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ve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an iu40 with getting different values of variou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nd found the following correlation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2070000" y="4435560"/>
          <a:ext cx="5110200" cy="113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0000" y="4435560"/>
                    <a:ext cx="511020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620-3750-477C-B086-A9F1021C5FE0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1DD75-E9E7-49B6-B73B-CFFF28190146}" type="datetime3">
              <a:rPr lang="en-US"/>
              <a:t>July 30, 20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434880" y="3257640"/>
            <a:ext cx="1828800" cy="8380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shown that this problem is NP-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1 : Use standard AI heuristic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be slower, but definitely better then indirect approach, experiments support this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using variations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ll climb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mulated anne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rdering by Minimization of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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(contd.)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202-ED6F-4B9E-8A83-7FEA0CF1B90F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B1A5E-19FF-4EF4-8643-20E5A483208E}" type="datetime3">
              <a:rPr lang="en-US"/>
              <a:t>July 30, 20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rdering by Minimization of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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(contd.)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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defined does not take into account relative sizes of conjun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 new metric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weighs each conjunct by the size of it’s B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971800" y="4165560"/>
                <a:ext cx="30463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z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≤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≤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dSiz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m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dSize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691-FD81-4781-9924-94F7BA81897F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E0E96-9E8A-4498-ACA6-505599F3CC74}" type="datetime3">
              <a:rPr lang="en-US"/>
              <a:t>July 30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hauhan</cp:lastModifiedBy>
  <cp:lastPrinted>2001-02-26T19:11:52Z</cp:lastPrinted>
  <dcterms:modified xsi:type="dcterms:W3CDTF">2001-03-20T21:42:16Z</dcterms:modified>
  <cp:revision>394</cp:revision>
  <dc:subject/>
  <dc:title>PowerPoint Presentation</dc:title>
</cp:coreProperties>
</file>