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673C-326F-43C1-BD6F-6EDE44F98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B2C0-88B6-43A1-95A2-214718E67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FD38-2F8B-4316-A989-228C2EE98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74D7-9D5F-4420-B496-FD912362C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8B91A-E441-4A96-9FDE-08659E2C7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3614D-86E6-4A4F-9C9D-8C9A4A5F9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35CB7-0269-4156-842B-6A68758FB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349C4-9C29-49BF-A543-9067ED0A6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67491-2C40-4C41-A0D2-DEA4BF59F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F6D89-7EE8-4C02-AF0D-633F66BC0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2086D-1884-42B6-B14C-0F525D2AB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49AD-FFC3-4A4C-A7F9-6D4076E40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215AE-49F7-4123-9030-DE4A46578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62B83-CDA3-4F0D-8B00-335816758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FDB0B-3645-4601-AFA0-0A13E0D44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743EA-E190-4067-ACA3-FE906D997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A91CF-F9F5-4D7B-9EB2-6D5C6CE95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7022-E302-479F-9E29-D8E5E76B4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58ED-5705-4E1A-8128-F30567558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0E54-E267-41AC-BB16-93B061ADB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AC63-AB57-42A9-956C-8613D7409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7376-C7BE-4600-AF84-F9DC37352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6054-BB1E-45F1-A6EC-6C8194813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87CE-E5C6-4BC1-B239-149EBD1FD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1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1d1d2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1d1d2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1d1d27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1d1d27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1d1d27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1d1d27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3396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1d1d2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109DE-A448-4E16-AD96-BA2074163CBB}" type="slidenum">
              <a:rPr b="0" lang="he-IL" sz="1400" spc="-1" strike="noStrike">
                <a:solidFill>
                  <a:srgbClr val="1d1d2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csdlogo" descr=""/>
          <p:cNvPicPr/>
          <p:nvPr/>
        </p:nvPicPr>
        <p:blipFill>
          <a:blip r:embed="rId2"/>
          <a:stretch/>
        </p:blipFill>
        <p:spPr>
          <a:xfrm>
            <a:off x="0" y="0"/>
            <a:ext cx="1295280" cy="1079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1d1d27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1d1d27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1d1d27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1d1d27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1d1d2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11723-1089-4CE2-A0B8-0B2BC871D033}" type="slidenum">
              <a:rPr b="0" lang="he-IL" sz="1400" spc="-1" strike="noStrike">
                <a:solidFill>
                  <a:srgbClr val="1d1d2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csdlogo" descr=""/>
          <p:cNvPicPr/>
          <p:nvPr/>
        </p:nvPicPr>
        <p:blipFill>
          <a:blip r:embed="rId2"/>
          <a:stretch/>
        </p:blipFill>
        <p:spPr>
          <a:xfrm>
            <a:off x="0" y="0"/>
            <a:ext cx="1295280" cy="10796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SzPct val="70000"/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1d1d2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1d1d2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17e9"/>
                </a:solidFill>
                <a:latin typeface="Arial"/>
              </a:rPr>
              <a:t>A propositional world</a:t>
            </a: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523880" y="3200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Ofer Strichman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10000"/>
                </a:solidFill>
                <a:latin typeface="Arial"/>
              </a:rPr>
              <a:t>Joint work with</a:t>
            </a: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Randal Bryant and Sanjit Seshia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Arial"/>
              </a:rPr>
              <a:t>School of Computer Science, Carnegie Mellon University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D4A13-F94D-4206-B07D-FE4F34932ACC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SAT vs. infinite-state decision procedures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1296360" y="3124080"/>
            <a:ext cx="5492520" cy="1831320"/>
            <a:chOff x="1296360" y="3124080"/>
            <a:chExt cx="5492520" cy="1831320"/>
          </a:xfrm>
        </p:grpSpPr>
        <p:sp>
          <p:nvSpPr>
            <p:cNvPr id="137" name=""/>
            <p:cNvSpPr/>
            <p:nvPr/>
          </p:nvSpPr>
          <p:spPr>
            <a:xfrm>
              <a:off x="1296360" y="3124080"/>
              <a:ext cx="1604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2400" spc="-1" strike="noStrike">
                  <a:solidFill>
                    <a:srgbClr val="0000ff"/>
                  </a:solidFill>
                  <a:latin typeface="Times New Roman"/>
                </a:rPr>
                <a:t>1. </a:t>
              </a: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Pruning. </a:t>
              </a:r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523520" y="3809880"/>
              <a:ext cx="1739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2400" spc="-1" strike="noStrike">
                  <a:solidFill>
                    <a:srgbClr val="0000ff"/>
                  </a:solidFill>
                  <a:latin typeface="Times New Roman"/>
                </a:rPr>
                <a:t>2. </a:t>
              </a: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Learning. </a:t>
              </a:r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703880" y="4495680"/>
              <a:ext cx="5085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2400" spc="-1" strike="noStrike">
                  <a:solidFill>
                    <a:srgbClr val="0000ff"/>
                  </a:solidFill>
                  <a:latin typeface="Times New Roman"/>
                </a:rPr>
                <a:t>3. </a:t>
              </a: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Guidance (prioritizing internal steps) </a:t>
              </a:r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428760" y="2133720"/>
            <a:ext cx="723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Three mechanisms, crucial for efficient decision making: 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59840" y="5680080"/>
            <a:ext cx="559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1d1d27"/>
                </a:solidFill>
                <a:uFillTx/>
                <a:latin typeface="Times New Roman"/>
              </a:rPr>
              <a:t>SAT has a significant advantage in all three.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9F23-790F-4D86-A209-BC43FA29FFE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SAT vs. infinite-state decision procedures (1/4)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81960" y="2057400"/>
            <a:ext cx="152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 u="sng">
                <a:solidFill>
                  <a:srgbClr val="0000ff"/>
                </a:solidFill>
                <a:uFillTx/>
                <a:latin typeface="Times New Roman"/>
              </a:rPr>
              <a:t>1.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</a:rPr>
              <a:t>Pruning</a:t>
            </a:r>
            <a:r>
              <a:rPr b="0" lang="en-US" sz="2400" spc="-1" strike="noStrike">
                <a:solidFill>
                  <a:srgbClr val="c7c7d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79440" y="2749680"/>
            <a:ext cx="349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SAT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: each clause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prunes 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up to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|v|-|</a:t>
            </a:r>
            <a:r>
              <a:rPr b="0" i="1" lang="en-US" sz="2400" spc="-1" strike="noStrike" baseline="30000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| 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states.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50360" y="6172200"/>
            <a:ext cx="599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Others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: ? (stops when finds a satisfiable clause)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5334120" y="2111400"/>
            <a:ext cx="3282480" cy="2588040"/>
            <a:chOff x="5334120" y="2111400"/>
            <a:chExt cx="3282480" cy="2588040"/>
          </a:xfrm>
        </p:grpSpPr>
        <p:sp>
          <p:nvSpPr>
            <p:cNvPr id="147" name=""/>
            <p:cNvSpPr/>
            <p:nvPr/>
          </p:nvSpPr>
          <p:spPr>
            <a:xfrm rot="19500000">
              <a:off x="5948280" y="3351600"/>
              <a:ext cx="1476000" cy="1015920"/>
            </a:xfrm>
            <a:prstGeom prst="rect">
              <a:avLst/>
            </a:prstGeom>
            <a:solidFill>
              <a:srgbClr val="9797b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2400" spc="-1" strike="noStrike">
                  <a:solidFill>
                    <a:srgbClr val="09090d"/>
                  </a:solidFill>
                  <a:latin typeface="Times New Roman"/>
                </a:rPr>
                <a:t>                 </a:t>
              </a:r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2400" spc="-1" strike="noStrike">
                  <a:solidFill>
                    <a:srgbClr val="09090d"/>
                  </a:solidFill>
                  <a:latin typeface="Times New Roman"/>
                </a:rPr>
                <a:t>    </a:t>
              </a:r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638680" y="2362320"/>
              <a:ext cx="304920" cy="457200"/>
            </a:xfrm>
            <a:prstGeom prst="line">
              <a:avLst/>
            </a:prstGeom>
            <a:ln w="9360">
              <a:solidFill>
                <a:srgbClr val="1d1d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031080" y="2949480"/>
              <a:ext cx="304560" cy="457200"/>
            </a:xfrm>
            <a:prstGeom prst="line">
              <a:avLst/>
            </a:prstGeom>
            <a:ln w="9360">
              <a:solidFill>
                <a:srgbClr val="1d1d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694480" y="2978280"/>
              <a:ext cx="271440" cy="455400"/>
            </a:xfrm>
            <a:custGeom>
              <a:avLst/>
              <a:gdLst/>
              <a:ahLst/>
              <a:rect l="l" t="t" r="r" b="b"/>
              <a:pathLst>
                <a:path w="171" h="287">
                  <a:moveTo>
                    <a:pt x="171" y="0"/>
                  </a:moveTo>
                  <a:lnTo>
                    <a:pt x="0" y="287"/>
                  </a:lnTo>
                </a:path>
              </a:pathLst>
            </a:custGeom>
            <a:noFill/>
            <a:ln w="9360">
              <a:solidFill>
                <a:srgbClr val="1d1d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334120" y="2362320"/>
              <a:ext cx="271440" cy="455400"/>
            </a:xfrm>
            <a:custGeom>
              <a:avLst/>
              <a:gdLst/>
              <a:ahLst/>
              <a:rect l="l" t="t" r="r" b="b"/>
              <a:pathLst>
                <a:path w="171" h="287">
                  <a:moveTo>
                    <a:pt x="171" y="0"/>
                  </a:moveTo>
                  <a:lnTo>
                    <a:pt x="0" y="287"/>
                  </a:lnTo>
                </a:path>
              </a:pathLst>
            </a:custGeom>
            <a:noFill/>
            <a:ln w="9360">
              <a:solidFill>
                <a:srgbClr val="1d1d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940000" y="26892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imes New Roman"/>
                </a:rPr>
                <a:t>y</a:t>
              </a:r>
              <a:endParaRPr b="0" lang="en-US" sz="16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574960" y="21114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16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792400" y="22860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1600" spc="-1" strike="noStrike">
                  <a:solidFill>
                    <a:srgbClr val="09090d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173280" y="29401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1600" spc="-1" strike="noStrike">
                  <a:solidFill>
                    <a:srgbClr val="09090d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735160" y="29401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1600" spc="-1" strike="noStrike">
                  <a:solidFill>
                    <a:srgbClr val="09090d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397120" y="229716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1600" spc="-1" strike="noStrike">
                  <a:solidFill>
                    <a:srgbClr val="09090d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369120" y="3451320"/>
              <a:ext cx="304560" cy="457200"/>
            </a:xfrm>
            <a:prstGeom prst="line">
              <a:avLst/>
            </a:prstGeom>
            <a:ln w="9360">
              <a:solidFill>
                <a:srgbClr val="1d1d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095880" y="2971800"/>
              <a:ext cx="495360" cy="457200"/>
            </a:xfrm>
            <a:custGeom>
              <a:avLst/>
              <a:gdLst/>
              <a:ahLst/>
              <a:rect l="l" t="t" r="r" b="b"/>
              <a:pathLst>
                <a:path w="312" h="288">
                  <a:moveTo>
                    <a:pt x="144" y="288"/>
                  </a:moveTo>
                  <a:cubicBezTo>
                    <a:pt x="228" y="192"/>
                    <a:pt x="312" y="96"/>
                    <a:pt x="288" y="48"/>
                  </a:cubicBezTo>
                  <a:cubicBezTo>
                    <a:pt x="264" y="0"/>
                    <a:pt x="132" y="0"/>
                    <a:pt x="0" y="0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prstDash val="lgDash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735520" y="2973240"/>
              <a:ext cx="1319400" cy="920880"/>
            </a:xfrm>
            <a:custGeom>
              <a:avLst/>
              <a:gdLst/>
              <a:ahLst/>
              <a:rect l="l" t="t" r="r" b="b"/>
              <a:pathLst>
                <a:path w="831" h="580">
                  <a:moveTo>
                    <a:pt x="0" y="580"/>
                  </a:moveTo>
                  <a:lnTo>
                    <a:pt x="831" y="0"/>
                  </a:lnTo>
                </a:path>
              </a:pathLst>
            </a:custGeom>
            <a:noFill/>
            <a:ln w="9360">
              <a:solidFill>
                <a:srgbClr val="1d1d27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387840" y="2652840"/>
              <a:ext cx="1003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Times New Roman"/>
                </a:rPr>
                <a:t>Backtrack</a:t>
              </a:r>
              <a:endParaRPr b="0" lang="en-US" sz="16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327000" y="3733920"/>
              <a:ext cx="823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Times New Roman"/>
                </a:rPr>
                <a:t>Pruned!</a:t>
              </a:r>
              <a:endParaRPr b="0" lang="en-US" sz="16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053040" y="3429000"/>
              <a:ext cx="271440" cy="455760"/>
            </a:xfrm>
            <a:custGeom>
              <a:avLst/>
              <a:gdLst/>
              <a:ahLst/>
              <a:rect l="l" t="t" r="r" b="b"/>
              <a:pathLst>
                <a:path w="171" h="287">
                  <a:moveTo>
                    <a:pt x="171" y="0"/>
                  </a:moveTo>
                  <a:lnTo>
                    <a:pt x="0" y="287"/>
                  </a:lnTo>
                </a:path>
              </a:pathLst>
            </a:custGeom>
            <a:noFill/>
            <a:ln w="9360">
              <a:solidFill>
                <a:srgbClr val="1d1d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930080" y="2367000"/>
              <a:ext cx="6865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1600" spc="-1" strike="noStrike">
                  <a:solidFill>
                    <a:srgbClr val="ff0000"/>
                  </a:solidFill>
                  <a:latin typeface="Times New Roman"/>
                </a:rPr>
                <a:t>     </a:t>
              </a:r>
              <a:r>
                <a:rPr b="0" lang="he-IL" sz="16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1d1d27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16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0" lang="en-US" sz="1600" spc="-1" strike="noStrike">
                  <a:solidFill>
                    <a:srgbClr val="ff0000"/>
                  </a:solidFill>
                  <a:latin typeface="Times New Roman"/>
                </a:rPr>
                <a:t>x </a:t>
              </a:r>
              <a:r>
                <a:rPr b="0" lang="en-US" sz="1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</a:t>
              </a:r>
              <a:r>
                <a:rPr b="0" lang="en-US" sz="1600" spc="-1" strike="noStrike">
                  <a:solidFill>
                    <a:srgbClr val="ff0000"/>
                  </a:solidFill>
                  <a:latin typeface="Times New Roman"/>
                </a:rPr>
                <a:t> y)</a:t>
              </a:r>
              <a:endParaRPr b="0" lang="en-US" sz="1600" spc="-1" strike="noStrike">
                <a:solidFill>
                  <a:srgbClr val="1d1d27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imes New Roman"/>
                </a:rPr>
                <a:t>     </a:t>
              </a:r>
              <a:r>
                <a:rPr b="0" lang="en-US" sz="16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1d1d27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imes New Roman"/>
                </a:rPr>
                <a:t>     </a:t>
              </a:r>
              <a:r>
                <a:rPr b="0" lang="en-US" sz="16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3070440" y="4343400"/>
            <a:ext cx="2364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0000"/>
                </a:solidFill>
                <a:latin typeface="Times New Roman"/>
              </a:rPr>
              <a:t>|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v|=1000, |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| =2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090d"/>
                </a:solidFill>
                <a:latin typeface="Times New Roman"/>
              </a:rPr>
              <a:t>Pruning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998</a:t>
            </a:r>
            <a:r>
              <a:rPr b="0" lang="en-US" sz="2400" spc="-1" strike="noStrike" baseline="30000">
                <a:solidFill>
                  <a:srgbClr val="09090d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9090d"/>
                </a:solidFill>
                <a:latin typeface="Times New Roman"/>
              </a:rPr>
              <a:t>states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2C46-323B-4C0C-9804-C81EE93AA543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SAT vs. infinite-state decision procedures (2/4)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04920" y="2057400"/>
            <a:ext cx="166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 u="sng">
                <a:solidFill>
                  <a:srgbClr val="0000ff"/>
                </a:solidFill>
                <a:uFillTx/>
                <a:latin typeface="Times New Roman"/>
              </a:rPr>
              <a:t>2.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</a:rPr>
              <a:t>Learning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44960" y="2819520"/>
            <a:ext cx="824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SAT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Partial assignments that </a:t>
            </a:r>
            <a:r>
              <a:rPr b="0" i="1" lang="en-US" sz="2400" spc="-1" strike="noStrike">
                <a:solidFill>
                  <a:srgbClr val="1d1d27"/>
                </a:solidFill>
                <a:latin typeface="Times New Roman"/>
              </a:rPr>
              <a:t>lead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to a conflict are recorded and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hence not repeated.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76560" y="4114800"/>
            <a:ext cx="833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Others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:  (depends on decision procedure)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- Adding proved sub-goals as antecedents to new sub-goals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- …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A1A4-F1B4-4334-8CCE-0E22C3368106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SAT vs. infinite-state decision procedures (3/4)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97360" y="2057400"/>
            <a:ext cx="516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 u="sng">
                <a:solidFill>
                  <a:srgbClr val="0000ff"/>
                </a:solidFill>
                <a:uFillTx/>
                <a:latin typeface="Times New Roman"/>
              </a:rPr>
              <a:t>3.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</a:rPr>
              <a:t>Guidance (prioritizing internal steps) </a:t>
            </a:r>
            <a:r>
              <a:rPr b="0" lang="en-US" sz="2400" spc="-1" strike="noStrike">
                <a:solidFill>
                  <a:srgbClr val="c7c7d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69080" y="4102200"/>
            <a:ext cx="501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Guidance requires efficient estimation: 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9480" y="2565360"/>
            <a:ext cx="8350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Consider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, wher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is </a:t>
            </a:r>
            <a:r>
              <a:rPr b="0" i="1" lang="en-US" sz="2400" spc="-1" strike="noStrike">
                <a:solidFill>
                  <a:srgbClr val="1d1d27"/>
                </a:solidFill>
                <a:latin typeface="Times New Roman"/>
              </a:rPr>
              <a:t>unsat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and hard, and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is </a:t>
            </a:r>
            <a:r>
              <a:rPr b="0" i="1" lang="en-US" sz="2400" spc="-1" strike="noStrike">
                <a:solidFill>
                  <a:srgbClr val="1d1d27"/>
                </a:solidFill>
                <a:latin typeface="Times New Roman"/>
              </a:rPr>
              <a:t>sat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and easy.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54320" y="3276720"/>
            <a:ext cx="7671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With proper guidance, a theorem prover should start from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30240" y="4908600"/>
            <a:ext cx="54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1d1d27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How hard it is to solve each sub-formula?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04320" y="5486400"/>
            <a:ext cx="67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1d1d27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To what extent will it simplify the rest of the proof?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BF73-A1EF-409F-9ADF-DF290AADAFA7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SAT vs. infinite-state decision procedures (4/4)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03480" y="1981080"/>
            <a:ext cx="27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 u="sng">
                <a:solidFill>
                  <a:srgbClr val="0000ff"/>
                </a:solidFill>
                <a:uFillTx/>
                <a:latin typeface="Times New Roman"/>
              </a:rPr>
              <a:t>3.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</a:rPr>
              <a:t>Guidance (cont’d)</a:t>
            </a:r>
            <a:r>
              <a:rPr b="0" lang="en-US" sz="2400" spc="-1" strike="noStrike">
                <a:solidFill>
                  <a:srgbClr val="c7c7d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0440" y="2521080"/>
            <a:ext cx="695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1d1d27"/>
                </a:solidFill>
                <a:latin typeface="Times New Roman"/>
              </a:rPr>
              <a:t>“</a:t>
            </a:r>
            <a:r>
              <a:rPr b="0" lang="he-IL" sz="2400" spc="-1" strike="noStrike">
                <a:solidFill>
                  <a:srgbClr val="1d1d27"/>
                </a:solidFill>
                <a:latin typeface="Times New Roman"/>
              </a:rPr>
              <a:t>..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To what extent will it simplify the rest of the proof?”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68360" y="3200400"/>
            <a:ext cx="700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SAT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: Guidance through decision heuristics (e.g. DLIS).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16880" y="5943600"/>
            <a:ext cx="40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Others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: Expression ordering, ...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212160" y="3774960"/>
            <a:ext cx="126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 </a:t>
            </a: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y </a:t>
            </a: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z)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x </a:t>
            </a: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v)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~x </a:t>
            </a: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~z)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38000" y="3782880"/>
            <a:ext cx="48549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090d"/>
                </a:solidFill>
                <a:latin typeface="Times New Roman"/>
              </a:rPr>
              <a:t>Estimating simplification by counting literals </a:t>
            </a:r>
            <a:endParaRPr b="0" lang="en-US" sz="20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090d"/>
                </a:solidFill>
                <a:latin typeface="Times New Roman"/>
              </a:rPr>
              <a:t>in each phase</a:t>
            </a:r>
            <a:r>
              <a:rPr b="0" lang="en-US" sz="2400" spc="-1" strike="noStrike">
                <a:solidFill>
                  <a:srgbClr val="09090d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41FA-D31B-45F0-91CB-9D35C8A3ADF1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Example: Equality Logic with Uninterpreted Functions (1/3)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82240" y="1920960"/>
            <a:ext cx="675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Equality Logic with Uninterpreted Functions: 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719280" y="2901960"/>
                <a:ext cx="808812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∧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∧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→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698400" y="4054320"/>
            <a:ext cx="8262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1d1d27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Uninterpreted functions are reducible to equality logic. Thus, we 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can concentrate on equality logic)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Traditional infinite-state decision procedure: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Congruence Closure</a:t>
            </a:r>
            <a:r>
              <a:rPr b="0" i="1" lang="en-US" sz="2400" spc="-1" strike="noStrike">
                <a:solidFill>
                  <a:srgbClr val="1d1d27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with case splitting.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0B31-A49F-41AA-9ACF-C2ED4E0E68F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Example: Equality Logic (2/3)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19240" y="2057400"/>
            <a:ext cx="8798760" cy="36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Since 1998, several groups devised finite-state decision procedures 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for this theory: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lnSpc>
                <a:spcPct val="170000"/>
              </a:lnSpc>
              <a:buClr>
                <a:srgbClr val="1d1d2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Goel et. al.    (CAV’98) – Boolean encoding and BDD</a:t>
            </a:r>
            <a:r>
              <a:rPr b="0" lang="he-IL" sz="2400" spc="-1" strike="noStrike">
                <a:solidFill>
                  <a:srgbClr val="1d1d27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lnSpc>
                <a:spcPct val="170000"/>
              </a:lnSpc>
              <a:buClr>
                <a:srgbClr val="1d1d2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Bryant et. al.</a:t>
            </a:r>
            <a:r>
              <a:rPr b="0" lang="en-US" sz="2400" spc="-1" strike="noStrike">
                <a:solidFill>
                  <a:srgbClr val="0717e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(CAV’99) – Positive-equality + finite instantiation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lnSpc>
                <a:spcPct val="170000"/>
              </a:lnSpc>
              <a:buClr>
                <a:srgbClr val="1d1d2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Pnueli et. al.  (CAV’99) – Small domains instantiation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lnSpc>
                <a:spcPct val="170000"/>
              </a:lnSpc>
              <a:buClr>
                <a:srgbClr val="1d1d2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Bryant et. al.</a:t>
            </a:r>
            <a:r>
              <a:rPr b="0" lang="en-US" sz="2400" spc="-1" strike="noStrike">
                <a:solidFill>
                  <a:srgbClr val="0717e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(CAV’00) – </a:t>
            </a:r>
            <a:r>
              <a:rPr b="0" lang="en-US" sz="2400" spc="-1" strike="noStrike">
                <a:solidFill>
                  <a:srgbClr val="0717e9"/>
                </a:solidFill>
                <a:latin typeface="Times New Roman"/>
              </a:rPr>
              <a:t>Boolean encoding with explicit constraints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CB24-94E8-4E16-B075-3804C570BE1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Example: Equality Logic (3/4)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61320" y="1969920"/>
            <a:ext cx="7347960" cy="20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Goel et. al (CAV’98): 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1d1d2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Encode each equality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i=j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with a new Boolean variable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ij</a:t>
            </a:r>
            <a:r>
              <a:rPr b="0" i="1" lang="en-US" sz="2400" spc="-1" strike="noStrike" baseline="-25000">
                <a:solidFill>
                  <a:srgbClr val="1d1d27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1d1d2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Construct BDD of encoded formula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1d1d2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Search BDD for a </a:t>
            </a:r>
            <a:r>
              <a:rPr b="0" i="1" lang="en-US" sz="2400" spc="-1" strike="noStrike">
                <a:solidFill>
                  <a:srgbClr val="1d1d27"/>
                </a:solidFill>
                <a:latin typeface="Times New Roman"/>
              </a:rPr>
              <a:t>consistent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path leading to ‘1’.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93640" y="4572000"/>
            <a:ext cx="75596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E.g. an assignment to three variables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xy 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yz 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,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xz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is consistent iff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137040" y="5257800"/>
            <a:ext cx="2171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xy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+ e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yz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xz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2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2A54-FD11-4ABD-B583-AEA11436408D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Example: Equality Logic (</a:t>
            </a:r>
            <a:r>
              <a:rPr b="0" lang="he-IL" sz="2800" spc="-1" strike="noStrike">
                <a:solidFill>
                  <a:srgbClr val="ff33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/3)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54200" y="2895480"/>
            <a:ext cx="64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Let (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x=y</a:t>
            </a:r>
            <a:r>
              <a:rPr b="0" i="1" lang="en-US" sz="2400" spc="-1" strike="noStrike">
                <a:solidFill>
                  <a:srgbClr val="1d1d27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y=z</a:t>
            </a:r>
            <a:r>
              <a:rPr b="0" i="1" lang="en-US" sz="2400" spc="-1" strike="noStrike">
                <a:solidFill>
                  <a:srgbClr val="1d1d27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x=z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) be the equality predicates in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6486840" y="3429000"/>
            <a:ext cx="1596960" cy="1627560"/>
            <a:chOff x="6486840" y="3429000"/>
            <a:chExt cx="1596960" cy="1627560"/>
          </a:xfrm>
        </p:grpSpPr>
        <p:sp>
          <p:nvSpPr>
            <p:cNvPr id="197" name=""/>
            <p:cNvSpPr/>
            <p:nvPr/>
          </p:nvSpPr>
          <p:spPr>
            <a:xfrm>
              <a:off x="6876720" y="3844800"/>
              <a:ext cx="0" cy="837720"/>
            </a:xfrm>
            <a:prstGeom prst="line">
              <a:avLst/>
            </a:prstGeom>
            <a:ln w="9360">
              <a:solidFill>
                <a:srgbClr val="1d1d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876720" y="4682880"/>
              <a:ext cx="914040" cy="0"/>
            </a:xfrm>
            <a:prstGeom prst="line">
              <a:avLst/>
            </a:prstGeom>
            <a:ln w="9360">
              <a:solidFill>
                <a:srgbClr val="1d1d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876720" y="3844800"/>
              <a:ext cx="914040" cy="837720"/>
            </a:xfrm>
            <a:prstGeom prst="line">
              <a:avLst/>
            </a:prstGeom>
            <a:ln w="9360">
              <a:solidFill>
                <a:srgbClr val="1d1d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700680" y="3429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716520" y="45306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784280" y="4492440"/>
              <a:ext cx="29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z</a:t>
              </a:r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486840" y="3997080"/>
              <a:ext cx="47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0" i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xy</a:t>
              </a:r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315920" y="3844800"/>
              <a:ext cx="462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0" i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xz</a:t>
              </a:r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163640" y="4546440"/>
              <a:ext cx="462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0" i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yz</a:t>
              </a:r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1594440" y="4343400"/>
            <a:ext cx="41691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1d1d27"/>
                </a:solidFill>
                <a:latin typeface="Times New Roman"/>
              </a:rPr>
              <a:t>2. 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Impose transitivity on cycles: 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xy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+ e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yz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xz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2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596240" y="3733920"/>
            <a:ext cx="40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1d1d27"/>
                </a:solidFill>
                <a:latin typeface="Times New Roman"/>
              </a:rPr>
              <a:t>1. 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Construct the equality graph.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966600" y="5908680"/>
            <a:ext cx="74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The resulting formula is </a:t>
            </a:r>
            <a:r>
              <a:rPr b="0" i="1" lang="en-US" sz="2400" spc="-1" strike="noStrike">
                <a:solidFill>
                  <a:srgbClr val="1d1d27"/>
                </a:solidFill>
                <a:latin typeface="Times New Roman"/>
              </a:rPr>
              <a:t>propositional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d1d27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BDDs , SAT, etc.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94120" y="1676520"/>
            <a:ext cx="84589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Bryant et. al. (CAV’00): Add transitivity constraints to the formula.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E539-A84B-47C3-9AF1-527FE9A5435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Example: Equality Logic (cont’d)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02280" y="2057400"/>
            <a:ext cx="789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The number of simple cycles can be exponential. Bryant et. al. 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Suggested to first make the graph chordal: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5911920" y="3317760"/>
            <a:ext cx="2614680" cy="1992600"/>
            <a:chOff x="5911920" y="3317760"/>
            <a:chExt cx="2614680" cy="1992600"/>
          </a:xfrm>
        </p:grpSpPr>
        <p:sp>
          <p:nvSpPr>
            <p:cNvPr id="213" name=""/>
            <p:cNvSpPr/>
            <p:nvPr/>
          </p:nvSpPr>
          <p:spPr>
            <a:xfrm>
              <a:off x="6361200" y="3809880"/>
              <a:ext cx="1828800" cy="1143000"/>
            </a:xfrm>
            <a:prstGeom prst="rect">
              <a:avLst/>
            </a:prstGeom>
            <a:noFill/>
            <a:ln w="9360">
              <a:solidFill>
                <a:srgbClr val="1d1d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>
              <a:off x="6361200" y="3809520"/>
              <a:ext cx="1828800" cy="1143000"/>
            </a:xfrm>
            <a:prstGeom prst="line">
              <a:avLst/>
            </a:prstGeom>
            <a:ln w="9360">
              <a:solidFill>
                <a:srgbClr val="1d1d2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015320" y="3317760"/>
              <a:ext cx="405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1d1d27"/>
                  </a:solidFill>
                  <a:latin typeface="Times New Roman"/>
                </a:rPr>
                <a:t>e</a:t>
              </a:r>
              <a:r>
                <a:rPr b="0" i="1" lang="en-US" sz="2400" spc="-1" strike="noStrike" baseline="-25000">
                  <a:solidFill>
                    <a:srgbClr val="1d1d27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911920" y="4114440"/>
              <a:ext cx="405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1d1d27"/>
                  </a:solidFill>
                  <a:latin typeface="Times New Roman"/>
                </a:rPr>
                <a:t>e</a:t>
              </a:r>
              <a:r>
                <a:rPr b="0" i="1" lang="en-US" sz="2400" spc="-1" strike="noStrike" baseline="-25000">
                  <a:solidFill>
                    <a:srgbClr val="1d1d27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054920" y="4800240"/>
              <a:ext cx="405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1d1d27"/>
                  </a:solidFill>
                  <a:latin typeface="Times New Roman"/>
                </a:rPr>
                <a:t>e</a:t>
              </a:r>
              <a:r>
                <a:rPr b="0" i="1" lang="en-US" sz="2400" spc="-1" strike="noStrike" baseline="-25000">
                  <a:solidFill>
                    <a:srgbClr val="1d1d27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8121600" y="4114440"/>
              <a:ext cx="405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1d1d27"/>
                  </a:solidFill>
                  <a:latin typeface="Times New Roman"/>
                </a:rPr>
                <a:t>e</a:t>
              </a:r>
              <a:r>
                <a:rPr b="0" i="1" lang="en-US" sz="2400" spc="-1" strike="noStrike" baseline="-25000">
                  <a:solidFill>
                    <a:srgbClr val="1d1d27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947640" y="3962160"/>
              <a:ext cx="394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1d1d27"/>
                  </a:solidFill>
                  <a:latin typeface="Times New Roman"/>
                </a:rPr>
                <a:t>e</a:t>
              </a:r>
              <a:r>
                <a:rPr b="0" i="1" lang="en-US" sz="2400" spc="-1" strike="noStrike" baseline="-25000">
                  <a:solidFill>
                    <a:srgbClr val="1d1d27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817920" y="3394080"/>
            <a:ext cx="4767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In a chordal graph, every assignment 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that violates transitivity, 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also violates transitivity of a triangle.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Hence – it is sufficient to impose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Transitivity over triangles. 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F397-06F4-4641-ADCB-B21AECBDCC7D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Integrated decision procedures in </a:t>
            </a:r>
            <a:br>
              <a:rPr sz="2800"/>
            </a:b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Theorem-Provers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41280" y="2022480"/>
            <a:ext cx="7904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Deciding a combination of theories is the key for automation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in Theorem Provers: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1d1d27"/>
                </a:solidFill>
                <a:latin typeface="Times New Roman"/>
              </a:rPr>
              <a:t>Boolean operators, Bit-vector,  Sets, </a:t>
            </a:r>
            <a:r>
              <a:rPr b="0" i="1" lang="en-US" sz="2400" spc="-1" strike="noStrike">
                <a:solidFill>
                  <a:srgbClr val="0717e9"/>
                </a:solidFill>
                <a:latin typeface="Times New Roman"/>
              </a:rPr>
              <a:t>Linear-Arithmetic,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717e9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1d1d27"/>
                </a:solidFill>
                <a:latin typeface="Times New Roman"/>
              </a:rPr>
              <a:t>Uninterpreted functions, More …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935000" y="4495680"/>
            <a:ext cx="55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f(f(x)-f(y)) != f(z) &amp; y &lt;=x + 2 | b &amp; 3 &gt; 10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176560" y="3809880"/>
            <a:ext cx="1371600" cy="533520"/>
          </a:xfrm>
          <a:prstGeom prst="wedgeRectCallout">
            <a:avLst>
              <a:gd name="adj1" fmla="val -5208"/>
              <a:gd name="adj2" fmla="val 98513"/>
            </a:avLst>
          </a:prstGeom>
          <a:solidFill>
            <a:srgbClr val="c7c7df"/>
          </a:solidFill>
          <a:ln w="9360">
            <a:solidFill>
              <a:srgbClr val="1d1d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d1d27"/>
                </a:solidFill>
                <a:latin typeface="Times New Roman"/>
              </a:rPr>
              <a:t>Uninterpreted functions</a:t>
            </a:r>
            <a:endParaRPr b="0" lang="en-US" sz="16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309920" y="3733920"/>
            <a:ext cx="1371600" cy="533160"/>
          </a:xfrm>
          <a:prstGeom prst="wedgeRectCallout">
            <a:avLst>
              <a:gd name="adj1" fmla="val -5208"/>
              <a:gd name="adj2" fmla="val 98513"/>
            </a:avLst>
          </a:prstGeom>
          <a:solidFill>
            <a:srgbClr val="c7c7df"/>
          </a:solidFill>
          <a:ln w="9360">
            <a:solidFill>
              <a:srgbClr val="1d1d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d1d27"/>
                </a:solidFill>
                <a:latin typeface="Times New Roman"/>
              </a:rPr>
              <a:t>Linear Arithmetic</a:t>
            </a:r>
            <a:endParaRPr b="0" lang="en-US" sz="16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138720" y="3505320"/>
            <a:ext cx="1371600" cy="533160"/>
          </a:xfrm>
          <a:prstGeom prst="wedgeRectCallout">
            <a:avLst>
              <a:gd name="adj1" fmla="val -38541"/>
              <a:gd name="adj2" fmla="val 141370"/>
            </a:avLst>
          </a:prstGeom>
          <a:solidFill>
            <a:srgbClr val="c7c7df"/>
          </a:solidFill>
          <a:ln w="9360">
            <a:solidFill>
              <a:srgbClr val="1d1d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d1d27"/>
                </a:solidFill>
                <a:latin typeface="Times New Roman"/>
              </a:rPr>
              <a:t>Bit-Vector</a:t>
            </a:r>
            <a:endParaRPr b="0" lang="en-US" sz="1600" spc="-1" strike="noStrike">
              <a:solidFill>
                <a:srgbClr val="1d1d27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d1d27"/>
                </a:solidFill>
                <a:latin typeface="Times New Roman"/>
              </a:rPr>
              <a:t>operators</a:t>
            </a:r>
            <a:endParaRPr b="0" lang="en-US" sz="16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72600" y="5349960"/>
            <a:ext cx="856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Normally, each theory is solved with </a:t>
            </a:r>
            <a:r>
              <a:rPr b="0" lang="he-IL" sz="2400" spc="-1" strike="noStrike">
                <a:solidFill>
                  <a:srgbClr val="1d1d27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t</a:t>
            </a:r>
            <a:r>
              <a:rPr b="0" lang="he-IL" sz="2400" spc="-1" strike="noStrike">
                <a:solidFill>
                  <a:srgbClr val="1d1d27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own decision procedure and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the results are combine</a:t>
            </a:r>
            <a:r>
              <a:rPr b="0" lang="he-IL" sz="2400" spc="-1" strike="noStrike">
                <a:solidFill>
                  <a:srgbClr val="1d1d27"/>
                </a:solidFill>
                <a:latin typeface="Times New Roman"/>
              </a:rPr>
              <a:t>d (</a:t>
            </a:r>
            <a:r>
              <a:rPr b="0" i="1" lang="he-IL" sz="2400" spc="-1" strike="noStrike">
                <a:solidFill>
                  <a:srgbClr val="1d1d27"/>
                </a:solidFill>
                <a:latin typeface="Times New Roman"/>
              </a:rPr>
              <a:t>Shostak</a:t>
            </a:r>
            <a:r>
              <a:rPr b="0" lang="he-IL" sz="2400" spc="-1" strike="noStrike">
                <a:solidFill>
                  <a:srgbClr val="1d1d27"/>
                </a:solidFill>
                <a:latin typeface="Times New Roman"/>
              </a:rPr>
              <a:t>, </a:t>
            </a:r>
            <a:r>
              <a:rPr b="0" i="1" lang="he-IL" sz="2400" spc="-1" strike="noStrike">
                <a:solidFill>
                  <a:srgbClr val="1d1d27"/>
                </a:solidFill>
                <a:latin typeface="Times New Roman"/>
              </a:rPr>
              <a:t>Nelson</a:t>
            </a:r>
            <a:r>
              <a:rPr b="0" lang="he-IL" sz="2400" spc="-1" strike="noStrike">
                <a:solidFill>
                  <a:srgbClr val="1d1d27"/>
                </a:solidFill>
                <a:latin typeface="Times New Roman"/>
              </a:rPr>
              <a:t>..)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F076-ABFF-4E18-AC2D-333F9D97125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This work 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54000" y="2565360"/>
            <a:ext cx="4821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 marL="457200" indent="-457200">
              <a:buClr>
                <a:srgbClr val="1d1d27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Separation predicates: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 marL="457200" indent="-457200">
              <a:buClr>
                <a:srgbClr val="1d1d27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 marL="457200" indent="-457200">
              <a:buClr>
                <a:srgbClr val="1d1d27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Separation predicates for integers: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 marL="457200" indent="-457200">
              <a:buClr>
                <a:srgbClr val="1d1d27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 marL="457200" indent="-457200">
              <a:buClr>
                <a:srgbClr val="1d1d27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Linear arithmetic: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 marL="457200" indent="-457200">
              <a:buClr>
                <a:srgbClr val="1d1d27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 marL="457200" indent="-457200">
              <a:buClr>
                <a:srgbClr val="1d1d27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Integer linear arithmetic: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4876920" y="4800600"/>
                <a:ext cx="355428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real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⊳</m:t>
                    </m:r>
                    <m:r>
                      <m:t xml:space="preserve">3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z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5975280" y="3340080"/>
                <a:ext cx="250848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real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⊳</m:t>
                    </m:r>
                    <m:r>
                      <m:t xml:space="preserve">y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6068880" y="4102200"/>
                <a:ext cx="237672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int;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⊳</m:t>
                    </m:r>
                    <m:r>
                      <m:t xml:space="preserve">y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5068800" y="5549760"/>
                <a:ext cx="340704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int;</m:t>
                    </m:r>
                    <m:r>
                      <m:t xml:space="preserve"> 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⊳</m:t>
                    </m:r>
                    <m:r>
                      <m:t xml:space="preserve">3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z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7" name=""/>
          <p:cNvSpPr/>
          <p:nvPr/>
        </p:nvSpPr>
        <p:spPr>
          <a:xfrm>
            <a:off x="600120" y="1828800"/>
            <a:ext cx="810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Extends the results of Bryant et.al. to </a:t>
            </a:r>
            <a:r>
              <a:rPr b="0" i="1" lang="en-US" sz="2400" spc="-1" strike="noStrike">
                <a:solidFill>
                  <a:srgbClr val="1d1d27"/>
                </a:solidFill>
                <a:latin typeface="Times New Roman"/>
              </a:rPr>
              <a:t>a Boolean combination of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914400" y="3429000"/>
            <a:ext cx="76320" cy="914400"/>
          </a:xfrm>
          <a:custGeom>
            <a:avLst/>
            <a:gdLst>
              <a:gd name="textAreaLeft" fmla="*/ 48960 w 76320"/>
              <a:gd name="textAreaRight" fmla="*/ 76320 w 7632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1d1d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18600" y="371484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1d1d27"/>
                </a:solidFill>
                <a:latin typeface="Times New Roman"/>
              </a:rPr>
              <a:t>Done</a:t>
            </a:r>
            <a:endParaRPr b="0" lang="en-US" sz="1400" spc="-1" strike="noStrike">
              <a:solidFill>
                <a:srgbClr val="1d1d27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6993000" y="2583000"/>
                <a:ext cx="138888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⊳</m:t>
                    </m:r>
                    <m:r>
                      <m:t xml:space="preserve"> </m:t>
                    </m:r>
                    <m:r>
                      <m:t xml:space="preserve">∈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79C3-0E2D-4392-9692-7365E9C319A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Usability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898560" y="1870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882000" y="1793880"/>
            <a:ext cx="7102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Separation predicates: 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Most verification conditions involving inequalities are 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separation predicates” [Pratt, 1973]: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 </a:t>
            </a:r>
            <a:r>
              <a:rPr b="0" i="1" lang="en-US" sz="2000" spc="-1" strike="noStrike">
                <a:solidFill>
                  <a:srgbClr val="1d1d27"/>
                </a:solidFill>
                <a:latin typeface="Times New Roman"/>
              </a:rPr>
              <a:t>Array bounds checks, tests on index variables, timing constraints, </a:t>
            </a:r>
            <a:endParaRPr b="0" lang="en-US" sz="20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e-IL" sz="2000" spc="-1" strike="noStrike">
                <a:solidFill>
                  <a:srgbClr val="1d1d27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1d1d27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1d1d27"/>
                </a:solidFill>
                <a:latin typeface="Times New Roman"/>
              </a:rPr>
              <a:t>worst execution time analysis, etc.</a:t>
            </a:r>
            <a:r>
              <a:rPr b="0" i="1" lang="en-US" sz="2400" spc="-1" strike="noStrike">
                <a:solidFill>
                  <a:srgbClr val="1d1d27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906840" y="4648320"/>
            <a:ext cx="5060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Linear arithmetic: All of the above + …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+ Linear programming, 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+ Integer Linear programming.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3EBB-1217-4021-BB53-7ECC29EFC28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Reducing separation predicates to propositional logic (1/6)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898560" y="1870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30280" y="2286000"/>
            <a:ext cx="21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0000"/>
                </a:solidFill>
                <a:latin typeface="Symbol"/>
                <a:ea typeface="Symbol"/>
              </a:rPr>
              <a:t></a:t>
            </a:r>
            <a:r>
              <a:rPr b="0" lang="he-IL" sz="2400" spc="-1" strike="noStrike">
                <a:solidFill>
                  <a:srgbClr val="ff0000"/>
                </a:solidFill>
                <a:latin typeface="Times New Roman"/>
              </a:rPr>
              <a:t>:  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&gt;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+1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66720" y="4114800"/>
            <a:ext cx="0" cy="533520"/>
          </a:xfrm>
          <a:prstGeom prst="line">
            <a:avLst/>
          </a:prstGeom>
          <a:ln w="9360">
            <a:solidFill>
              <a:srgbClr val="1d1d27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97960" y="3505320"/>
            <a:ext cx="3617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0000"/>
                </a:solidFill>
                <a:latin typeface="Symbol"/>
                <a:ea typeface="Symbol"/>
              </a:rPr>
              <a:t></a:t>
            </a:r>
            <a:r>
              <a:rPr b="0" lang="he-IL" sz="2400" spc="-1" strike="noStrike">
                <a:solidFill>
                  <a:srgbClr val="ff0000"/>
                </a:solidFill>
                <a:latin typeface="Times New Roman"/>
              </a:rPr>
              <a:t>:   </a:t>
            </a:r>
            <a:r>
              <a:rPr b="0" lang="he-IL" sz="2400" spc="-1" strike="noStrike">
                <a:solidFill>
                  <a:srgbClr val="1d1d27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x=y+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d1d27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d1d27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&gt;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7280" y="1681200"/>
            <a:ext cx="33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A. Normalize (example):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72120" y="4800600"/>
            <a:ext cx="5797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0000"/>
                </a:solidFill>
                <a:latin typeface="Symbol"/>
                <a:ea typeface="Symbol"/>
              </a:rPr>
              <a:t></a:t>
            </a:r>
            <a:r>
              <a:rPr b="0" lang="he-IL" sz="2400" spc="-1" strike="noStrike">
                <a:solidFill>
                  <a:srgbClr val="ff0000"/>
                </a:solidFill>
                <a:latin typeface="Times New Roman"/>
              </a:rPr>
              <a:t>:   </a:t>
            </a:r>
            <a:r>
              <a:rPr b="0" lang="he-IL" sz="2400" spc="-1" strike="noStrike">
                <a:solidFill>
                  <a:srgbClr val="1d1d27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x&gt;y+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d1d27"/>
                </a:solidFill>
                <a:latin typeface="Symbol"/>
                <a:ea typeface="Symbol"/>
              </a:rPr>
              <a:t>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y&gt;x-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1d1d27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1d1d27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)) </a:t>
            </a:r>
            <a:r>
              <a:rPr b="0" lang="en-US" sz="2400" spc="-1" strike="noStrike">
                <a:solidFill>
                  <a:srgbClr val="1d1d27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&gt;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675960" y="2895480"/>
            <a:ext cx="460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1d1d27"/>
                </a:solidFill>
                <a:latin typeface="Times New Roman"/>
              </a:rPr>
              <a:t>1.</a:t>
            </a:r>
            <a:r>
              <a:rPr b="0" i="1" lang="he-IL" sz="2000" spc="-1" strike="noStrike">
                <a:solidFill>
                  <a:srgbClr val="1d1d27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1d1d27"/>
                </a:solidFill>
                <a:latin typeface="Times New Roman"/>
              </a:rPr>
              <a:t>Uninterpreted functions </a:t>
            </a:r>
            <a:r>
              <a:rPr b="0" i="1" lang="en-US" sz="2000" spc="-1" strike="noStrike">
                <a:solidFill>
                  <a:srgbClr val="1d1d27"/>
                </a:solidFill>
                <a:latin typeface="Symbol"/>
                <a:ea typeface="Symbol"/>
              </a:rPr>
              <a:t></a:t>
            </a:r>
            <a:r>
              <a:rPr b="0" i="1" lang="en-US" sz="2000" spc="-1" strike="noStrike">
                <a:solidFill>
                  <a:srgbClr val="1d1d27"/>
                </a:solidFill>
                <a:latin typeface="Times New Roman"/>
              </a:rPr>
              <a:t> equality logic</a:t>
            </a:r>
            <a:endParaRPr b="0" lang="en-US" sz="20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rot="5400000">
            <a:off x="2057400" y="3962520"/>
            <a:ext cx="76320" cy="1752480"/>
          </a:xfrm>
          <a:custGeom>
            <a:avLst/>
            <a:gdLst>
              <a:gd name="textAreaLeft" fmla="*/ 48960 w 76320"/>
              <a:gd name="textAreaRight" fmla="*/ 76320 w 7632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175"/>
                </a:lnTo>
                <a:cubicBezTo>
                  <a:pt x="10800" y="9075"/>
                  <a:pt x="5400" y="9975"/>
                  <a:pt x="0" y="9975"/>
                </a:cubicBezTo>
                <a:cubicBezTo>
                  <a:pt x="5400" y="9975"/>
                  <a:pt x="10800" y="10875"/>
                  <a:pt x="10800" y="11775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1d1d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rot="5400000">
            <a:off x="4305240" y="4076640"/>
            <a:ext cx="76320" cy="1524240"/>
          </a:xfrm>
          <a:custGeom>
            <a:avLst/>
            <a:gdLst>
              <a:gd name="textAreaLeft" fmla="*/ 48960 w 76320"/>
              <a:gd name="textAreaRight" fmla="*/ 76320 w 76320"/>
              <a:gd name="textAreaTop" fmla="*/ 39600 h 1524240"/>
              <a:gd name="textAreaBottom" fmla="*/ 1484640 h 1524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175"/>
                </a:lnTo>
                <a:cubicBezTo>
                  <a:pt x="10800" y="9075"/>
                  <a:pt x="5400" y="9975"/>
                  <a:pt x="0" y="9975"/>
                </a:cubicBezTo>
                <a:cubicBezTo>
                  <a:pt x="5400" y="9975"/>
                  <a:pt x="10800" y="10875"/>
                  <a:pt x="10800" y="11775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1d1d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935360" y="4487760"/>
            <a:ext cx="83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1d1d27"/>
                </a:solidFill>
                <a:latin typeface="Times New Roman"/>
              </a:rPr>
              <a:t>x</a:t>
            </a:r>
            <a:r>
              <a:rPr b="0" i="1" lang="en-US" sz="1800" spc="-1" strike="noStrike">
                <a:solidFill>
                  <a:srgbClr val="1d1d27"/>
                </a:solidFill>
                <a:latin typeface="Symbol"/>
                <a:ea typeface="Symbol"/>
              </a:rPr>
              <a:t></a:t>
            </a:r>
            <a:r>
              <a:rPr b="0" i="1" lang="en-US" sz="1800" spc="-1" strike="noStrike">
                <a:solidFill>
                  <a:srgbClr val="1d1d27"/>
                </a:solidFill>
                <a:latin typeface="Times New Roman"/>
              </a:rPr>
              <a:t>y+</a:t>
            </a:r>
            <a:r>
              <a:rPr b="0" lang="en-US" sz="1800" spc="-1" strike="noStrike">
                <a:solidFill>
                  <a:srgbClr val="1d1d27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023000" y="4492800"/>
            <a:ext cx="572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1d1d27"/>
                </a:solidFill>
                <a:latin typeface="Times New Roman"/>
              </a:rPr>
              <a:t>f</a:t>
            </a:r>
            <a:r>
              <a:rPr b="0" lang="en-US" sz="1800" spc="-1" strike="noStrike" baseline="-25000">
                <a:solidFill>
                  <a:srgbClr val="1d1d27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1d1d27"/>
                </a:solidFill>
                <a:latin typeface="Times New Roman"/>
              </a:rPr>
              <a:t>=</a:t>
            </a:r>
            <a:r>
              <a:rPr b="0" i="1" lang="en-US" sz="1800" spc="-1" strike="noStrike">
                <a:solidFill>
                  <a:srgbClr val="1d1d27"/>
                </a:solidFill>
                <a:latin typeface="Times New Roman"/>
              </a:rPr>
              <a:t>f</a:t>
            </a:r>
            <a:r>
              <a:rPr b="0" lang="en-US" sz="1800" spc="-1" strike="noStrike" baseline="-25000">
                <a:solidFill>
                  <a:srgbClr val="1d1d27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85800" y="2895480"/>
            <a:ext cx="0" cy="533520"/>
          </a:xfrm>
          <a:prstGeom prst="line">
            <a:avLst/>
          </a:prstGeom>
          <a:ln w="9360">
            <a:solidFill>
              <a:srgbClr val="1d1d27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36600" y="5638680"/>
            <a:ext cx="858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Now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has no negations and only the ‘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’ and ‘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’ predicate symbols.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447160" y="4164120"/>
            <a:ext cx="176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1d1d27"/>
                </a:solidFill>
                <a:latin typeface="Times New Roman"/>
              </a:rPr>
              <a:t>2. </a:t>
            </a:r>
            <a:r>
              <a:rPr b="0" i="1" lang="en-US" sz="2000" spc="-1" strike="noStrike">
                <a:solidFill>
                  <a:srgbClr val="1d1d27"/>
                </a:solidFill>
                <a:latin typeface="Times New Roman"/>
              </a:rPr>
              <a:t>Normal form</a:t>
            </a:r>
            <a:endParaRPr b="0" lang="en-US" sz="20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150B-A949-45E1-BDC0-B157FE73A0E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Reducing separation predicates to propositional logic (2/6)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898560" y="1870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-10080" y="2438280"/>
            <a:ext cx="9259200" cy="38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ff"/>
                </a:solidFill>
                <a:latin typeface="Times New Roman"/>
              </a:rPr>
              <a:t>1.</a:t>
            </a:r>
            <a:r>
              <a:rPr b="0" lang="he-IL" sz="2400" spc="-1" strike="noStrike">
                <a:solidFill>
                  <a:srgbClr val="1d1d27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Reduce Uninterpreted Functions to equalities.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2.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Rewrite equalities as conjunction of inequalities, 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e.g. rewrite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x=y+c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as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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y+c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y+c 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3.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Transform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to Negation Normal Form, and eliminate negations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by reversing inequality signs.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4.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Rewrite ‘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’ and ‘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’ predicates as ‘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’ and ‘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’, e.g.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rewrite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&lt;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y + c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as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&gt;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x – c 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70080" y="1793880"/>
            <a:ext cx="33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A. Normalize (procedure)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F84C-29A9-4FDE-807D-FCDB5E81D2E0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Reducing separation predicates to propositional logic (2/6)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898560" y="1870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85360" y="2590920"/>
            <a:ext cx="455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0000"/>
                </a:solidFill>
                <a:latin typeface="Symbol"/>
                <a:ea typeface="Symbol"/>
              </a:rPr>
              <a:t></a:t>
            </a:r>
            <a:r>
              <a:rPr b="0" lang="he-IL" sz="2400" spc="-1" strike="noStrike">
                <a:solidFill>
                  <a:srgbClr val="ff0000"/>
                </a:solidFill>
                <a:latin typeface="Times New Roman"/>
              </a:rPr>
              <a:t>:  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&lt;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-3 </a:t>
            </a:r>
            <a:r>
              <a:rPr b="0" lang="en-US" sz="2400" spc="-1" strike="noStrike">
                <a:solidFill>
                  <a:srgbClr val="1d1d27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d1d27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–1  </a:t>
            </a:r>
            <a:r>
              <a:rPr b="0" lang="en-US" sz="2400" spc="-1" strike="noStrike">
                <a:solidFill>
                  <a:srgbClr val="1d1d27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&gt; y-1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3200400"/>
            <a:ext cx="0" cy="533520"/>
          </a:xfrm>
          <a:prstGeom prst="line">
            <a:avLst/>
          </a:prstGeom>
          <a:ln w="9360">
            <a:solidFill>
              <a:srgbClr val="1d1d27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971800" y="3200400"/>
            <a:ext cx="0" cy="533520"/>
          </a:xfrm>
          <a:prstGeom prst="line">
            <a:avLst/>
          </a:prstGeom>
          <a:ln w="9360">
            <a:solidFill>
              <a:srgbClr val="1d1d27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419720" y="3200400"/>
            <a:ext cx="0" cy="533520"/>
          </a:xfrm>
          <a:prstGeom prst="line">
            <a:avLst/>
          </a:prstGeom>
          <a:ln w="9360">
            <a:solidFill>
              <a:srgbClr val="1d1d27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74560" y="3809880"/>
            <a:ext cx="46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0000"/>
                </a:solidFill>
                <a:latin typeface="Symbol"/>
                <a:ea typeface="Symbol"/>
              </a:rPr>
              <a:t></a:t>
            </a:r>
            <a:r>
              <a:rPr b="0" lang="he-IL" sz="2400" spc="-1" strike="noStrike">
                <a:solidFill>
                  <a:srgbClr val="ff0000"/>
                </a:solidFill>
                <a:latin typeface="Times New Roman"/>
              </a:rPr>
              <a:t>:  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&gt;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+3 </a:t>
            </a:r>
            <a:r>
              <a:rPr b="0" lang="en-US" sz="2400" spc="-1" strike="noStrike">
                <a:solidFill>
                  <a:srgbClr val="1d1d27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  (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&gt;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–1  </a:t>
            </a:r>
            <a:r>
              <a:rPr b="0" lang="en-US" sz="2400" spc="-1" strike="noStrike">
                <a:solidFill>
                  <a:srgbClr val="1d1d27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+1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77640" y="1986120"/>
            <a:ext cx="336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A. Normalizing example: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7655-BD77-4D69-9261-48BC6847E479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898560" y="1870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2496960" y="4724280"/>
            <a:ext cx="1501920" cy="1601640"/>
            <a:chOff x="2496960" y="4724280"/>
            <a:chExt cx="1501920" cy="1601640"/>
          </a:xfrm>
        </p:grpSpPr>
        <p:sp>
          <p:nvSpPr>
            <p:cNvPr id="264" name=""/>
            <p:cNvSpPr/>
            <p:nvPr/>
          </p:nvSpPr>
          <p:spPr>
            <a:xfrm>
              <a:off x="2792160" y="5140080"/>
              <a:ext cx="0" cy="838080"/>
            </a:xfrm>
            <a:prstGeom prst="line">
              <a:avLst/>
            </a:prstGeom>
            <a:ln w="9360">
              <a:solidFill>
                <a:srgbClr val="1d1d27"/>
              </a:solidFill>
              <a:prstDash val="dash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792160" y="5978160"/>
              <a:ext cx="914400" cy="0"/>
            </a:xfrm>
            <a:prstGeom prst="line">
              <a:avLst/>
            </a:prstGeom>
            <a:ln w="9360">
              <a:solidFill>
                <a:srgbClr val="1d1d27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792160" y="5140080"/>
              <a:ext cx="914400" cy="838080"/>
            </a:xfrm>
            <a:prstGeom prst="line">
              <a:avLst/>
            </a:prstGeom>
            <a:ln w="9360">
              <a:solidFill>
                <a:srgbClr val="1d1d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616480" y="47242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652840" y="58194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699360" y="5787720"/>
              <a:ext cx="29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z</a:t>
              </a:r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242880" y="52545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1800" spc="-1" strike="noStrike">
                  <a:solidFill>
                    <a:srgbClr val="1d1d27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96960" y="54100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1800" spc="-1" strike="noStrike">
                  <a:solidFill>
                    <a:srgbClr val="1d1d27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106440" y="5957640"/>
              <a:ext cx="37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1800" spc="-1" strike="noStrike">
                  <a:solidFill>
                    <a:srgbClr val="1d1d27"/>
                  </a:solidFill>
                  <a:latin typeface="Times New Roman"/>
                </a:rPr>
                <a:t>-1</a:t>
              </a:r>
              <a:endParaRPr b="0" lang="en-US" sz="18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</p:grpSp>
      <p:sp>
        <p:nvSpPr>
          <p:cNvPr id="273" name=""/>
          <p:cNvSpPr/>
          <p:nvPr/>
        </p:nvSpPr>
        <p:spPr>
          <a:xfrm>
            <a:off x="1523880" y="3397320"/>
            <a:ext cx="0" cy="533160"/>
          </a:xfrm>
          <a:prstGeom prst="line">
            <a:avLst/>
          </a:prstGeom>
          <a:ln w="9360">
            <a:solidFill>
              <a:srgbClr val="1d1d27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971800" y="3397320"/>
            <a:ext cx="0" cy="533160"/>
          </a:xfrm>
          <a:prstGeom prst="line">
            <a:avLst/>
          </a:prstGeom>
          <a:ln w="9360">
            <a:solidFill>
              <a:srgbClr val="1d1d27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343400" y="3397320"/>
            <a:ext cx="0" cy="533160"/>
          </a:xfrm>
          <a:prstGeom prst="line">
            <a:avLst/>
          </a:prstGeom>
          <a:ln w="9360">
            <a:solidFill>
              <a:srgbClr val="1d1d27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Reducing separation predicates to propositional logic (3/6)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39440" y="2898720"/>
            <a:ext cx="452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0000"/>
                </a:solidFill>
                <a:latin typeface="Symbol"/>
                <a:ea typeface="Symbol"/>
              </a:rPr>
              <a:t></a:t>
            </a:r>
            <a:r>
              <a:rPr b="0" lang="he-IL" sz="2400" spc="-1" strike="noStrike">
                <a:solidFill>
                  <a:srgbClr val="ff0000"/>
                </a:solidFill>
                <a:latin typeface="Times New Roman"/>
              </a:rPr>
              <a:t>:  </a:t>
            </a:r>
            <a:r>
              <a:rPr b="0" lang="he-IL" sz="2400" spc="-1" strike="noStrike">
                <a:solidFill>
                  <a:srgbClr val="1d1d27"/>
                </a:solidFill>
                <a:latin typeface="Times New Roman"/>
              </a:rPr>
              <a:t>(</a:t>
            </a:r>
            <a:r>
              <a:rPr b="0" lang="he-IL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&gt;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+3 </a:t>
            </a:r>
            <a:r>
              <a:rPr b="0" lang="en-US" sz="2400" spc="-1" strike="noStrike">
                <a:solidFill>
                  <a:srgbClr val="1d1d27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(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&gt;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–1 </a:t>
            </a:r>
            <a:r>
              <a:rPr b="0" lang="en-US" sz="2400" spc="-1" strike="noStrike">
                <a:solidFill>
                  <a:srgbClr val="1d1d27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+1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))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2762280" y="3962520"/>
                <a:ext cx="59040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z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</m:sub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&gt;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4038480" y="3987720"/>
                <a:ext cx="5349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y</m:t>
                        </m:r>
                        <m:r>
                          <m:t xml:space="preserve">,</m:t>
                        </m:r>
                        <m:r>
                          <m:t xml:space="preserve">x</m:t>
                        </m:r>
                      </m:sub>
                      <m:sup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≥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280" name=""/>
          <p:cNvSpPr/>
          <p:nvPr/>
        </p:nvSpPr>
        <p:spPr>
          <a:xfrm>
            <a:off x="675000" y="4038480"/>
            <a:ext cx="62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0000"/>
                </a:solidFill>
                <a:latin typeface="Symbol"/>
                <a:ea typeface="Symbol"/>
              </a:rPr>
              <a:t></a:t>
            </a:r>
            <a:r>
              <a:rPr b="0" lang="he-IL" sz="2400" spc="-1" strike="noStrike">
                <a:solidFill>
                  <a:srgbClr val="ff0000"/>
                </a:solidFill>
                <a:latin typeface="Times New Roman"/>
              </a:rPr>
              <a:t>’</a:t>
            </a:r>
            <a:r>
              <a:rPr b="0" lang="he-IL" sz="2400" spc="-1" strike="noStrike">
                <a:solidFill>
                  <a:srgbClr val="ff0000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537520" y="3930480"/>
            <a:ext cx="129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Times New Roman"/>
              </a:rPr>
              <a:t>Transitivity </a:t>
            </a:r>
            <a:endParaRPr b="0" lang="en-US" sz="18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Times New Roman"/>
              </a:rPr>
              <a:t>constraints</a:t>
            </a:r>
            <a:endParaRPr b="0" lang="en-US" sz="1800" spc="-1" strike="noStrike">
              <a:solidFill>
                <a:srgbClr val="1d1d27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1317600" y="3987720"/>
                <a:ext cx="50184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z</m:t>
                        </m:r>
                      </m:sub>
                      <m:sup>
                        <m:r>
                          <m:t xml:space="preserve">3</m:t>
                        </m:r>
                        <m:r>
                          <m:t xml:space="preserve">,</m:t>
                        </m:r>
                        <m:r>
                          <m:t xml:space="preserve">&gt;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283" name=""/>
          <p:cNvSpPr/>
          <p:nvPr/>
        </p:nvSpPr>
        <p:spPr>
          <a:xfrm>
            <a:off x="2417400" y="40384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1d1d27"/>
                </a:solidFill>
                <a:latin typeface="Symbol"/>
                <a:ea typeface="Symbol"/>
              </a:rPr>
              <a:t>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789000" y="40384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1d1d27"/>
                </a:solidFill>
                <a:latin typeface="Symbol"/>
                <a:ea typeface="Symbol"/>
              </a:rPr>
              <a:t>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300280" y="40068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1d1d27"/>
                </a:solidFill>
                <a:latin typeface="Symbol"/>
                <a:ea typeface="Symbol"/>
              </a:rPr>
              <a:t>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128240" y="40356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1d1d27"/>
                </a:solidFill>
                <a:latin typeface="Times New Roman"/>
              </a:rPr>
              <a:t>(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878000" y="402588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1d1d27"/>
                </a:solidFill>
                <a:latin typeface="Times New Roman"/>
              </a:rPr>
              <a:t>))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611080" y="404172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1d1d27"/>
                </a:solidFill>
                <a:latin typeface="Times New Roman"/>
              </a:rPr>
              <a:t>(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75840" y="198108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B. Encode + construct graph (example):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6124680" y="4724280"/>
            <a:ext cx="1501920" cy="1602000"/>
            <a:chOff x="6124680" y="4724280"/>
            <a:chExt cx="1501920" cy="1602000"/>
          </a:xfrm>
        </p:grpSpPr>
        <p:sp>
          <p:nvSpPr>
            <p:cNvPr id="291" name=""/>
            <p:cNvSpPr/>
            <p:nvPr/>
          </p:nvSpPr>
          <p:spPr>
            <a:xfrm>
              <a:off x="6419880" y="5140440"/>
              <a:ext cx="0" cy="838080"/>
            </a:xfrm>
            <a:prstGeom prst="line">
              <a:avLst/>
            </a:prstGeom>
            <a:ln w="9360">
              <a:solidFill>
                <a:srgbClr val="1d1d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19880" y="5978520"/>
              <a:ext cx="914400" cy="0"/>
            </a:xfrm>
            <a:prstGeom prst="line">
              <a:avLst/>
            </a:prstGeom>
            <a:ln w="9360">
              <a:solidFill>
                <a:srgbClr val="1d1d27"/>
              </a:solidFill>
              <a:prstDash val="dash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419880" y="5140440"/>
              <a:ext cx="914400" cy="838080"/>
            </a:xfrm>
            <a:prstGeom prst="line">
              <a:avLst/>
            </a:prstGeom>
            <a:ln w="9360">
              <a:solidFill>
                <a:srgbClr val="1d1d27"/>
              </a:solidFill>
              <a:prstDash val="dash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244200" y="47242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280560" y="581976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327080" y="5788080"/>
              <a:ext cx="29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z</a:t>
              </a:r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870600" y="5254560"/>
              <a:ext cx="37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1800" spc="-1" strike="noStrike">
                  <a:solidFill>
                    <a:srgbClr val="1d1d27"/>
                  </a:solidFill>
                  <a:latin typeface="Times New Roman"/>
                </a:rPr>
                <a:t>-3</a:t>
              </a:r>
              <a:endParaRPr b="0" lang="en-US" sz="18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124680" y="5410080"/>
              <a:ext cx="37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1800" spc="-1" strike="noStrike">
                  <a:solidFill>
                    <a:srgbClr val="1d1d27"/>
                  </a:solidFill>
                  <a:latin typeface="Times New Roman"/>
                </a:rPr>
                <a:t>-1</a:t>
              </a:r>
              <a:endParaRPr b="0" lang="en-US" sz="18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734160" y="59580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1800" spc="-1" strike="noStrike">
                  <a:solidFill>
                    <a:srgbClr val="1d1d27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</p:grpSp>
      <p:sp>
        <p:nvSpPr>
          <p:cNvPr id="300" name=""/>
          <p:cNvSpPr/>
          <p:nvPr/>
        </p:nvSpPr>
        <p:spPr>
          <a:xfrm>
            <a:off x="837720" y="5197320"/>
            <a:ext cx="14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Separation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graph: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727880" y="5121360"/>
            <a:ext cx="98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and its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dual: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4B18-E373-440E-95EE-D7DFF93AD67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898560" y="1870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701280" y="3962520"/>
            <a:ext cx="7485480" cy="825480"/>
            <a:chOff x="701280" y="3962520"/>
            <a:chExt cx="7485480" cy="825480"/>
          </a:xfrm>
        </p:grpSpPr>
        <p:sp>
          <p:nvSpPr>
            <p:cNvPr id="304" name=""/>
            <p:cNvSpPr/>
            <p:nvPr/>
          </p:nvSpPr>
          <p:spPr>
            <a:xfrm>
              <a:off x="701280" y="3962520"/>
              <a:ext cx="7485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2400" spc="-1" strike="noStrike">
                  <a:solidFill>
                    <a:srgbClr val="0000ff"/>
                  </a:solidFill>
                  <a:latin typeface="Times New Roman"/>
                </a:rPr>
                <a:t>2.</a:t>
              </a:r>
              <a:r>
                <a:rPr b="0" lang="he-IL" sz="2400" spc="-1" strike="noStrike">
                  <a:solidFill>
                    <a:srgbClr val="c7c7df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1d1d27"/>
                  </a:solidFill>
                  <a:latin typeface="Times New Roman"/>
                </a:rPr>
                <a:t>Substitute each predicate in </a:t>
              </a:r>
              <a:r>
                <a:rPr b="0" lang="en-US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</a:t>
              </a:r>
              <a:r>
                <a:rPr b="0" lang="en-US" sz="2400" spc="-1" strike="noStrike">
                  <a:solidFill>
                    <a:srgbClr val="1d1d27"/>
                  </a:solidFill>
                  <a:latin typeface="Times New Roman"/>
                </a:rPr>
                <a:t> of the form 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x &gt; y+c</a:t>
              </a:r>
              <a:r>
                <a:rPr b="0" lang="en-US" sz="2400" spc="-1" strike="noStrike">
                  <a:solidFill>
                    <a:srgbClr val="1d1d27"/>
                  </a:solidFill>
                  <a:latin typeface="Times New Roman"/>
                </a:rPr>
                <a:t> with a </a:t>
              </a:r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1d1d27"/>
                  </a:solidFill>
                  <a:latin typeface="Times New Roman"/>
                </a:rPr>
                <a:t>    </a:t>
              </a:r>
              <a:r>
                <a:rPr b="0" lang="en-US" sz="2400" spc="-1" strike="noStrike">
                  <a:solidFill>
                    <a:srgbClr val="1d1d27"/>
                  </a:solidFill>
                  <a:latin typeface="Times New Roman"/>
                </a:rPr>
                <a:t>Boolean variable       , and add an edge 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(x,y,c,&gt;)</a:t>
              </a:r>
              <a:r>
                <a:rPr b="0" lang="en-US" sz="2400" spc="-1" strike="noStrike">
                  <a:solidFill>
                    <a:srgbClr val="1d1d27"/>
                  </a:solidFill>
                  <a:latin typeface="Times New Roman"/>
                </a:rPr>
                <a:t> to 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5" name=""/>
                <p:cNvSpPr txBox="1"/>
                <p:nvPr/>
              </p:nvSpPr>
              <p:spPr>
                <a:xfrm>
                  <a:off x="3137040" y="4267080"/>
                  <a:ext cx="520560" cy="520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x</m:t>
                          </m:r>
                          <m:r>
                            <m:t xml:space="preserve">,</m:t>
                          </m:r>
                          <m:r>
                            <m:t xml:space="preserve">y</m:t>
                          </m:r>
                        </m:sub>
                        <m:sup>
                          <m:r>
                            <m:t xml:space="preserve">c</m:t>
                          </m:r>
                          <m:r>
                            <m:t xml:space="preserve">,</m:t>
                          </m:r>
                          <m:r>
                            <m:t xml:space="preserve">&gt;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06" name=""/>
          <p:cNvSpPr/>
          <p:nvPr/>
        </p:nvSpPr>
        <p:spPr>
          <a:xfrm>
            <a:off x="702360" y="2717640"/>
            <a:ext cx="717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ff"/>
                </a:solidFill>
                <a:latin typeface="Times New Roman"/>
              </a:rPr>
              <a:t>1.</a:t>
            </a:r>
            <a:r>
              <a:rPr b="0" lang="he-IL" sz="2400" spc="-1" strike="noStrike">
                <a:solidFill>
                  <a:srgbClr val="1d1d27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Construct a graph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V,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, where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= variables in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Each edg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e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is a 4-tupl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(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to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weight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, {&gt;,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})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3124080" y="5410080"/>
                <a:ext cx="52092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</m:sub>
                      <m:sup>
                        <m:r>
                          <m:t xml:space="preserve">c</m:t>
                        </m:r>
                        <m:r>
                          <m:t xml:space="preserve">,</m:t>
                        </m:r>
                        <m:r>
                          <m:t xml:space="preserve">≥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Reducing separation predicates to propositional logic (4/6)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65400" y="1798560"/>
            <a:ext cx="696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B. Encode predicates and construct a graph (procedure)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38640" y="5105520"/>
            <a:ext cx="755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ff"/>
                </a:solidFill>
                <a:latin typeface="Times New Roman"/>
              </a:rPr>
              <a:t>3.</a:t>
            </a:r>
            <a:r>
              <a:rPr b="0" lang="he-IL" sz="2400" spc="-1" strike="noStrike">
                <a:solidFill>
                  <a:srgbClr val="c7c7d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Substitute each predicate in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of the form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y+c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with a 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Boolean variable       , and add an edg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x,y,c,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B3E8-FAD2-419D-91CA-BF6F45361971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898560" y="1870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2192400" y="4724280"/>
            <a:ext cx="1501920" cy="1601640"/>
            <a:chOff x="2192400" y="4724280"/>
            <a:chExt cx="1501920" cy="1601640"/>
          </a:xfrm>
        </p:grpSpPr>
        <p:sp>
          <p:nvSpPr>
            <p:cNvPr id="313" name=""/>
            <p:cNvSpPr/>
            <p:nvPr/>
          </p:nvSpPr>
          <p:spPr>
            <a:xfrm>
              <a:off x="2487600" y="5140080"/>
              <a:ext cx="0" cy="838080"/>
            </a:xfrm>
            <a:prstGeom prst="line">
              <a:avLst/>
            </a:prstGeom>
            <a:ln w="9360">
              <a:solidFill>
                <a:srgbClr val="1d1d27"/>
              </a:solidFill>
              <a:prstDash val="dash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487600" y="5978160"/>
              <a:ext cx="914400" cy="0"/>
            </a:xfrm>
            <a:prstGeom prst="line">
              <a:avLst/>
            </a:prstGeom>
            <a:ln w="9360">
              <a:solidFill>
                <a:srgbClr val="1d1d27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487600" y="5140080"/>
              <a:ext cx="914400" cy="838080"/>
            </a:xfrm>
            <a:prstGeom prst="line">
              <a:avLst/>
            </a:prstGeom>
            <a:ln w="9360">
              <a:solidFill>
                <a:srgbClr val="1d1d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311920" y="47242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348280" y="58194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394800" y="5787720"/>
              <a:ext cx="29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z</a:t>
              </a:r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938320" y="52545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1800" spc="-1" strike="noStrike">
                  <a:solidFill>
                    <a:srgbClr val="1d1d27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192400" y="54100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1800" spc="-1" strike="noStrike">
                  <a:solidFill>
                    <a:srgbClr val="1d1d27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801880" y="5957640"/>
              <a:ext cx="37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1800" spc="-1" strike="noStrike">
                  <a:solidFill>
                    <a:srgbClr val="1d1d27"/>
                  </a:solidFill>
                  <a:latin typeface="Times New Roman"/>
                </a:rPr>
                <a:t>-1</a:t>
              </a:r>
              <a:endParaRPr b="0" lang="en-US" sz="18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</p:grp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Reducing separation predicates to propositional logic (5/6)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2209680" y="2486160"/>
                <a:ext cx="5907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z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</m:sub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&gt;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3048120" y="2476440"/>
                <a:ext cx="5349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y</m:t>
                        </m:r>
                        <m:r>
                          <m:t xml:space="preserve">,</m:t>
                        </m:r>
                        <m:r>
                          <m:t xml:space="preserve">x</m:t>
                        </m:r>
                      </m:sub>
                      <m:sup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≥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325" name=""/>
          <p:cNvSpPr/>
          <p:nvPr/>
        </p:nvSpPr>
        <p:spPr>
          <a:xfrm>
            <a:off x="686160" y="2581200"/>
            <a:ext cx="62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0000"/>
                </a:solidFill>
                <a:latin typeface="Symbol"/>
                <a:ea typeface="Symbol"/>
              </a:rPr>
              <a:t></a:t>
            </a:r>
            <a:r>
              <a:rPr b="0" lang="he-IL" sz="2400" spc="-1" strike="noStrike">
                <a:solidFill>
                  <a:srgbClr val="ff0000"/>
                </a:solidFill>
                <a:latin typeface="Times New Roman"/>
              </a:rPr>
              <a:t>’</a:t>
            </a:r>
            <a:r>
              <a:rPr b="0" lang="he-IL" sz="2400" spc="-1" strike="noStrike">
                <a:solidFill>
                  <a:srgbClr val="ff0000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089600" y="2438280"/>
            <a:ext cx="129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Times New Roman"/>
              </a:rPr>
              <a:t>Transitivity </a:t>
            </a:r>
            <a:endParaRPr b="0" lang="en-US" sz="18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Times New Roman"/>
              </a:rPr>
              <a:t>constraints</a:t>
            </a:r>
            <a:endParaRPr b="0" lang="en-US" sz="1800" spc="-1" strike="noStrike">
              <a:solidFill>
                <a:srgbClr val="1d1d27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1371600" y="2492280"/>
                <a:ext cx="50148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z</m:t>
                        </m:r>
                      </m:sub>
                      <m:sup>
                        <m:r>
                          <m:t xml:space="preserve">3</m:t>
                        </m:r>
                        <m:r>
                          <m:t xml:space="preserve">,</m:t>
                        </m:r>
                        <m:r>
                          <m:t xml:space="preserve">&gt;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328" name=""/>
          <p:cNvSpPr/>
          <p:nvPr/>
        </p:nvSpPr>
        <p:spPr>
          <a:xfrm>
            <a:off x="1960200" y="25462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1d1d27"/>
                </a:solidFill>
                <a:latin typeface="Symbol"/>
                <a:ea typeface="Symbol"/>
              </a:rPr>
              <a:t>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874600" y="25462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1d1d27"/>
                </a:solidFill>
                <a:latin typeface="Symbol"/>
                <a:ea typeface="Symbol"/>
              </a:rPr>
              <a:t>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865320" y="254952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1d1d27"/>
                </a:solidFill>
                <a:latin typeface="Symbol"/>
                <a:ea typeface="Symbol"/>
              </a:rPr>
              <a:t>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280880" y="254304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1d1d27"/>
                </a:solidFill>
                <a:latin typeface="Times New Roman"/>
              </a:rPr>
              <a:t>(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506400" y="253368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1d1d27"/>
                </a:solidFill>
                <a:latin typeface="Times New Roman"/>
              </a:rPr>
              <a:t>))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153880" y="254952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1d1d27"/>
                </a:solidFill>
                <a:latin typeface="Times New Roman"/>
              </a:rPr>
              <a:t>(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68280" y="1681200"/>
            <a:ext cx="80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C. Add transitivity constraints for each simple cycle (example): 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648320" y="3124080"/>
            <a:ext cx="0" cy="533520"/>
          </a:xfrm>
          <a:prstGeom prst="line">
            <a:avLst/>
          </a:prstGeom>
          <a:ln w="9360">
            <a:solidFill>
              <a:srgbClr val="1d1d27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86160" y="3724200"/>
            <a:ext cx="62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0000"/>
                </a:solidFill>
                <a:latin typeface="Symbol"/>
                <a:ea typeface="Symbol"/>
              </a:rPr>
              <a:t></a:t>
            </a:r>
            <a:r>
              <a:rPr b="0" lang="he-IL" sz="2400" spc="-1" strike="noStrike">
                <a:solidFill>
                  <a:srgbClr val="ff0000"/>
                </a:solidFill>
                <a:latin typeface="Times New Roman"/>
              </a:rPr>
              <a:t>’</a:t>
            </a:r>
            <a:r>
              <a:rPr b="0" lang="he-IL" sz="2400" spc="-1" strike="noStrike">
                <a:solidFill>
                  <a:srgbClr val="ff0000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049280" y="3684600"/>
            <a:ext cx="58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1d1d27"/>
                </a:solidFill>
                <a:latin typeface="Times New Roman"/>
              </a:rPr>
              <a:t>(</a:t>
            </a:r>
            <a:r>
              <a:rPr b="0" lang="he-IL" sz="2400" spc="-1" strike="noStrike">
                <a:solidFill>
                  <a:srgbClr val="1d1d27"/>
                </a:solidFill>
                <a:latin typeface="Symbol"/>
                <a:ea typeface="Symbol"/>
              </a:rPr>
              <a:t></a:t>
            </a:r>
            <a:r>
              <a:rPr b="0" lang="he-IL" sz="2400" spc="-1" strike="noStrike">
                <a:solidFill>
                  <a:srgbClr val="1d1d27"/>
                </a:solidFill>
                <a:latin typeface="Times New Roman"/>
              </a:rPr>
              <a:t>(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471720" y="369108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1d1d27"/>
                </a:solidFill>
                <a:latin typeface="Times New Roman"/>
              </a:rPr>
              <a:t>))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9" name=""/>
              <p:cNvSpPr txBox="1"/>
              <p:nvPr/>
            </p:nvSpPr>
            <p:spPr>
              <a:xfrm>
                <a:off x="4456080" y="3652920"/>
                <a:ext cx="50184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z</m:t>
                        </m:r>
                      </m:sub>
                      <m:sup>
                        <m:r>
                          <m:t xml:space="preserve">3</m:t>
                        </m:r>
                        <m:r>
                          <m:t xml:space="preserve">,</m:t>
                        </m:r>
                        <m:r>
                          <m:t xml:space="preserve">&gt;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0" name=""/>
              <p:cNvSpPr txBox="1"/>
              <p:nvPr/>
            </p:nvSpPr>
            <p:spPr>
              <a:xfrm>
                <a:off x="5218200" y="3652920"/>
                <a:ext cx="59040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z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</m:sub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&gt;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1" name=""/>
              <p:cNvSpPr txBox="1"/>
              <p:nvPr/>
            </p:nvSpPr>
            <p:spPr>
              <a:xfrm>
                <a:off x="5979960" y="3652920"/>
                <a:ext cx="53532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y</m:t>
                        </m:r>
                        <m:r>
                          <m:t xml:space="preserve">,</m:t>
                        </m:r>
                        <m:r>
                          <m:t xml:space="preserve">x</m:t>
                        </m:r>
                      </m:sub>
                      <m:sup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≥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342" name=""/>
          <p:cNvSpPr/>
          <p:nvPr/>
        </p:nvSpPr>
        <p:spPr>
          <a:xfrm>
            <a:off x="5032080" y="37288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1d1d27"/>
                </a:solidFill>
                <a:latin typeface="Symbol"/>
                <a:ea typeface="Symbol"/>
              </a:rPr>
              <a:t>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803560" y="37288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1d1d27"/>
                </a:solidFill>
                <a:latin typeface="Symbol"/>
                <a:ea typeface="Symbol"/>
              </a:rPr>
              <a:t>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4" name=""/>
              <p:cNvSpPr txBox="1"/>
              <p:nvPr/>
            </p:nvSpPr>
            <p:spPr>
              <a:xfrm>
                <a:off x="2197080" y="3646440"/>
                <a:ext cx="59040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z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</m:sub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&gt;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" name=""/>
              <p:cNvSpPr txBox="1"/>
              <p:nvPr/>
            </p:nvSpPr>
            <p:spPr>
              <a:xfrm>
                <a:off x="3035160" y="3637080"/>
                <a:ext cx="5349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y</m:t>
                        </m:r>
                        <m:r>
                          <m:t xml:space="preserve">,</m:t>
                        </m:r>
                        <m:r>
                          <m:t xml:space="preserve">x</m:t>
                        </m:r>
                      </m:sub>
                      <m:sup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≥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" name=""/>
              <p:cNvSpPr txBox="1"/>
              <p:nvPr/>
            </p:nvSpPr>
            <p:spPr>
              <a:xfrm>
                <a:off x="1359000" y="3652920"/>
                <a:ext cx="50148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z</m:t>
                        </m:r>
                      </m:sub>
                      <m:sup>
                        <m:r>
                          <m:t xml:space="preserve">3</m:t>
                        </m:r>
                        <m:r>
                          <m:t xml:space="preserve">,</m:t>
                        </m:r>
                        <m:r>
                          <m:t xml:space="preserve">&gt;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347" name=""/>
          <p:cNvSpPr/>
          <p:nvPr/>
        </p:nvSpPr>
        <p:spPr>
          <a:xfrm>
            <a:off x="1947600" y="370692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1d1d27"/>
                </a:solidFill>
                <a:latin typeface="Symbol"/>
                <a:ea typeface="Symbol"/>
              </a:rPr>
              <a:t>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862000" y="370692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1d1d27"/>
                </a:solidFill>
                <a:latin typeface="Symbol"/>
                <a:ea typeface="Symbol"/>
              </a:rPr>
              <a:t>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852720" y="371016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1d1d27"/>
                </a:solidFill>
                <a:latin typeface="Symbol"/>
                <a:ea typeface="Symbol"/>
              </a:rPr>
              <a:t>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267920" y="37036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1d1d27"/>
                </a:solidFill>
                <a:latin typeface="Times New Roman"/>
              </a:rPr>
              <a:t>(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493800" y="369396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1d1d27"/>
                </a:solidFill>
                <a:latin typeface="Times New Roman"/>
              </a:rPr>
              <a:t>))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41280" y="371016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1d1d27"/>
                </a:solidFill>
                <a:latin typeface="Times New Roman"/>
              </a:rPr>
              <a:t>(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5468760" y="4724280"/>
            <a:ext cx="1501920" cy="1602000"/>
            <a:chOff x="5468760" y="4724280"/>
            <a:chExt cx="1501920" cy="1602000"/>
          </a:xfrm>
        </p:grpSpPr>
        <p:sp>
          <p:nvSpPr>
            <p:cNvPr id="354" name=""/>
            <p:cNvSpPr/>
            <p:nvPr/>
          </p:nvSpPr>
          <p:spPr>
            <a:xfrm>
              <a:off x="5763960" y="5140440"/>
              <a:ext cx="0" cy="838080"/>
            </a:xfrm>
            <a:prstGeom prst="line">
              <a:avLst/>
            </a:prstGeom>
            <a:ln w="9360">
              <a:solidFill>
                <a:srgbClr val="1d1d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763960" y="5978520"/>
              <a:ext cx="914400" cy="0"/>
            </a:xfrm>
            <a:prstGeom prst="line">
              <a:avLst/>
            </a:prstGeom>
            <a:ln w="9360">
              <a:solidFill>
                <a:srgbClr val="1d1d27"/>
              </a:solidFill>
              <a:prstDash val="dash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763960" y="5140440"/>
              <a:ext cx="914400" cy="838080"/>
            </a:xfrm>
            <a:prstGeom prst="line">
              <a:avLst/>
            </a:prstGeom>
            <a:ln w="9360">
              <a:solidFill>
                <a:srgbClr val="1d1d27"/>
              </a:solidFill>
              <a:prstDash val="dash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588280" y="47242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624640" y="581976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71160" y="5788080"/>
              <a:ext cx="29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z</a:t>
              </a:r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214680" y="5254560"/>
              <a:ext cx="37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1800" spc="-1" strike="noStrike">
                  <a:solidFill>
                    <a:srgbClr val="1d1d27"/>
                  </a:solidFill>
                  <a:latin typeface="Times New Roman"/>
                </a:rPr>
                <a:t>-3</a:t>
              </a:r>
              <a:endParaRPr b="0" lang="en-US" sz="18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468760" y="5410080"/>
              <a:ext cx="37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1800" spc="-1" strike="noStrike">
                  <a:solidFill>
                    <a:srgbClr val="1d1d27"/>
                  </a:solidFill>
                  <a:latin typeface="Times New Roman"/>
                </a:rPr>
                <a:t>-1</a:t>
              </a:r>
              <a:endParaRPr b="0" lang="en-US" sz="18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078240" y="59580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1800" spc="-1" strike="noStrike">
                  <a:solidFill>
                    <a:srgbClr val="1d1d27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</p:grpSp>
      <p:sp>
        <p:nvSpPr>
          <p:cNvPr id="363" name=""/>
          <p:cNvSpPr/>
          <p:nvPr/>
        </p:nvSpPr>
        <p:spPr>
          <a:xfrm>
            <a:off x="1523880" y="4648320"/>
            <a:ext cx="2590920" cy="1828800"/>
          </a:xfrm>
          <a:prstGeom prst="ellipse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V="1">
            <a:off x="3962520" y="4343040"/>
            <a:ext cx="685800" cy="762120"/>
          </a:xfrm>
          <a:prstGeom prst="line">
            <a:avLst/>
          </a:prstGeom>
          <a:ln w="9360">
            <a:solidFill>
              <a:srgbClr val="1d1d2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E3F5-6C7C-415C-BBE1-EC31E4F7BBB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898560" y="1870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424800" y="3200400"/>
            <a:ext cx="1224720" cy="1223280"/>
            <a:chOff x="424800" y="3200400"/>
            <a:chExt cx="1224720" cy="1223280"/>
          </a:xfrm>
        </p:grpSpPr>
        <p:sp>
          <p:nvSpPr>
            <p:cNvPr id="367" name=""/>
            <p:cNvSpPr/>
            <p:nvPr/>
          </p:nvSpPr>
          <p:spPr>
            <a:xfrm>
              <a:off x="735120" y="3200400"/>
              <a:ext cx="0" cy="838080"/>
            </a:xfrm>
            <a:prstGeom prst="line">
              <a:avLst/>
            </a:prstGeom>
            <a:ln w="9360">
              <a:solidFill>
                <a:srgbClr val="1d1d27"/>
              </a:solidFill>
              <a:prstDash val="dash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35120" y="4038480"/>
              <a:ext cx="914400" cy="0"/>
            </a:xfrm>
            <a:prstGeom prst="line">
              <a:avLst/>
            </a:prstGeom>
            <a:ln w="9360">
              <a:solidFill>
                <a:srgbClr val="1d1d27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35120" y="3200400"/>
              <a:ext cx="914400" cy="838080"/>
            </a:xfrm>
            <a:prstGeom prst="line">
              <a:avLst/>
            </a:prstGeom>
            <a:ln w="9360">
              <a:solidFill>
                <a:srgbClr val="1d1d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190160" y="3314880"/>
              <a:ext cx="3499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0" lang="en-US" sz="1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24800" y="3470400"/>
              <a:ext cx="3499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0" lang="en-US" sz="1800" spc="-1" strike="noStrike" baseline="-25000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034640" y="4017960"/>
              <a:ext cx="3499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0" lang="en-US" sz="18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>
            <a:off x="1502280" y="2673360"/>
            <a:ext cx="476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ff"/>
                </a:solidFill>
                <a:latin typeface="Times New Roman"/>
              </a:rPr>
              <a:t>1.</a:t>
            </a:r>
            <a:r>
              <a:rPr b="0" lang="he-IL" sz="2400" spc="-1" strike="noStrike">
                <a:solidFill>
                  <a:srgbClr val="1d1d27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If there are mixed edges: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If total weight is not negative: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569960" y="5257800"/>
            <a:ext cx="31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ff"/>
                </a:solidFill>
                <a:latin typeface="Times New Roman"/>
              </a:rPr>
              <a:t>2.</a:t>
            </a:r>
            <a:r>
              <a:rPr b="0" lang="he-IL" sz="2400" spc="-1" strike="noStrike">
                <a:solidFill>
                  <a:srgbClr val="1d1d27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If all edges are ‘</a:t>
            </a:r>
            <a:r>
              <a:rPr b="0" lang="en-US" sz="2400" spc="-1" strike="noStrike">
                <a:solidFill>
                  <a:srgbClr val="1d1d27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’: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549080" y="5715000"/>
            <a:ext cx="313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ff"/>
                </a:solidFill>
                <a:latin typeface="Times New Roman"/>
              </a:rPr>
              <a:t>3.</a:t>
            </a:r>
            <a:r>
              <a:rPr b="0" lang="he-IL" sz="2400" spc="-1" strike="noStrike">
                <a:solidFill>
                  <a:srgbClr val="1d1d27"/>
                </a:solidFill>
                <a:latin typeface="Times New Roman"/>
              </a:rPr>
              <a:t> If all edges are ‘&gt;’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: ...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grpSp>
        <p:nvGrpSpPr>
          <p:cNvPr id="376" name=""/>
          <p:cNvGrpSpPr/>
          <p:nvPr/>
        </p:nvGrpSpPr>
        <p:grpSpPr>
          <a:xfrm>
            <a:off x="6324480" y="3276720"/>
            <a:ext cx="1789200" cy="837720"/>
            <a:chOff x="6324480" y="3276720"/>
            <a:chExt cx="1789200" cy="837720"/>
          </a:xfrm>
        </p:grpSpPr>
        <mc:AlternateContent>
          <mc:Choice xmlns:a14="http://schemas.microsoft.com/office/drawing/2010/main" Requires="a14">
            <p:sp>
              <p:nvSpPr>
                <p:cNvPr id="377" name=""/>
                <p:cNvSpPr txBox="1"/>
                <p:nvPr/>
              </p:nvSpPr>
              <p:spPr>
                <a:xfrm>
                  <a:off x="6866640" y="3379680"/>
                  <a:ext cx="1247040" cy="398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i</m:t>
                          </m:r>
                          <m:r>
                            <m:t xml:space="preserve">,</m:t>
                          </m:r>
                          <m:r>
                            <m:t xml:space="preserve">j</m:t>
                          </m:r>
                        </m:sub>
                        <m:sup>
                          <m:r>
                            <m:t xml:space="preserve">c</m:t>
                          </m:r>
                          <m:r>
                            <m:t xml:space="preserve">,</m:t>
                          </m:r>
                          <m:r>
                            <m:t xml:space="preserve">&gt;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False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78" name=""/>
                <p:cNvSpPr txBox="1"/>
                <p:nvPr/>
              </p:nvSpPr>
              <p:spPr>
                <a:xfrm>
                  <a:off x="6324480" y="3714840"/>
                  <a:ext cx="745200" cy="399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i</m:t>
                          </m:r>
                          <m:r>
                            <m:t xml:space="preserve">,</m:t>
                          </m:r>
                          <m:r>
                            <m:t xml:space="preserve">j</m:t>
                          </m:r>
                        </m:sub>
                        <m:sup>
                          <m:r>
                            <m:t xml:space="preserve">c</m:t>
                          </m:r>
                          <m:r>
                            <m:t xml:space="preserve">,</m:t>
                          </m:r>
                          <m:r>
                            <m:t xml:space="preserve">&gt;</m:t>
                          </m:r>
                          <m:r>
                            <m:t xml:space="preserve">∈</m:t>
                          </m:r>
                          <m:r>
                            <m:t xml:space="preserve">C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79" name=""/>
                <p:cNvSpPr txBox="1"/>
                <p:nvPr/>
              </p:nvSpPr>
              <p:spPr>
                <a:xfrm>
                  <a:off x="6372360" y="3276720"/>
                  <a:ext cx="561960" cy="563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Λ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80" name=""/>
          <p:cNvSpPr/>
          <p:nvPr/>
        </p:nvSpPr>
        <p:spPr>
          <a:xfrm>
            <a:off x="2404080" y="4191120"/>
            <a:ext cx="378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If total weight is not positive: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6280200" y="4114800"/>
            <a:ext cx="1787040" cy="837720"/>
            <a:chOff x="6280200" y="4114800"/>
            <a:chExt cx="1787040" cy="837720"/>
          </a:xfrm>
        </p:grpSpPr>
        <mc:AlternateContent>
          <mc:Choice xmlns:a14="http://schemas.microsoft.com/office/drawing/2010/main" Requires="a14">
            <p:sp>
              <p:nvSpPr>
                <p:cNvPr id="382" name=""/>
                <p:cNvSpPr txBox="1"/>
                <p:nvPr/>
              </p:nvSpPr>
              <p:spPr>
                <a:xfrm>
                  <a:off x="6350400" y="4114800"/>
                  <a:ext cx="631800" cy="621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83" name=""/>
                <p:cNvSpPr txBox="1"/>
                <p:nvPr/>
              </p:nvSpPr>
              <p:spPr>
                <a:xfrm>
                  <a:off x="6905880" y="4198680"/>
                  <a:ext cx="1161360" cy="408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i</m:t>
                          </m:r>
                          <m:r>
                            <m:t xml:space="preserve">,</m:t>
                          </m:r>
                          <m:r>
                            <m:t xml:space="preserve">j</m:t>
                          </m:r>
                        </m:sub>
                        <m:sup>
                          <m:r>
                            <m:t xml:space="preserve">c</m:t>
                          </m:r>
                          <m:r>
                            <m:t xml:space="preserve">,</m:t>
                          </m:r>
                          <m:r>
                            <m:t xml:space="preserve">&gt;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True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84" name=""/>
                <p:cNvSpPr txBox="1"/>
                <p:nvPr/>
              </p:nvSpPr>
              <p:spPr>
                <a:xfrm>
                  <a:off x="6280200" y="4543200"/>
                  <a:ext cx="771840" cy="409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i</m:t>
                          </m:r>
                          <m:r>
                            <m:t xml:space="preserve">,</m:t>
                          </m:r>
                          <m:r>
                            <m:t xml:space="preserve">j</m:t>
                          </m:r>
                        </m:sub>
                        <m:sup>
                          <m:r>
                            <m:t xml:space="preserve">c</m:t>
                          </m:r>
                          <m:r>
                            <m:t xml:space="preserve">,</m:t>
                          </m:r>
                          <m:r>
                            <m:t xml:space="preserve">&gt;</m:t>
                          </m:r>
                          <m:r>
                            <m:t xml:space="preserve">∈</m:t>
                          </m:r>
                          <m:r>
                            <m:t xml:space="preserve">C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85" name=""/>
          <p:cNvSpPr/>
          <p:nvPr/>
        </p:nvSpPr>
        <p:spPr>
          <a:xfrm>
            <a:off x="365040" y="1741320"/>
            <a:ext cx="593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C. Add transitivity constraints for each cycle</a:t>
            </a:r>
            <a:r>
              <a:rPr b="0" i="1" lang="en-US" sz="2400" spc="-1" strike="noStrike">
                <a:solidFill>
                  <a:srgbClr val="1d1d27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Reducing separation predicates to propositional logic (6/6)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4723-7E4F-4D86-A2E1-969FD9B9FDE1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Compact representation of constraints (1/4)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822240" y="1717560"/>
            <a:ext cx="33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4572000" y="2057040"/>
            <a:ext cx="3868560" cy="1029240"/>
            <a:chOff x="4572000" y="2057040"/>
            <a:chExt cx="3868560" cy="1029240"/>
          </a:xfrm>
        </p:grpSpPr>
        <p:sp>
          <p:nvSpPr>
            <p:cNvPr id="390" name=""/>
            <p:cNvSpPr/>
            <p:nvPr/>
          </p:nvSpPr>
          <p:spPr>
            <a:xfrm flipH="1" flipV="1">
              <a:off x="7032240" y="2437920"/>
              <a:ext cx="360000" cy="360360"/>
            </a:xfrm>
            <a:prstGeom prst="line">
              <a:avLst/>
            </a:prstGeom>
            <a:ln w="9360">
              <a:solidFill>
                <a:srgbClr val="1d1d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 flipV="1">
              <a:off x="7413480" y="2057040"/>
              <a:ext cx="360000" cy="360360"/>
            </a:xfrm>
            <a:prstGeom prst="line">
              <a:avLst/>
            </a:prstGeom>
            <a:ln w="9360">
              <a:solidFill>
                <a:srgbClr val="1d1d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H="1">
              <a:off x="7413480" y="2437560"/>
              <a:ext cx="360000" cy="360360"/>
            </a:xfrm>
            <a:prstGeom prst="line">
              <a:avLst/>
            </a:prstGeom>
            <a:ln w="9360">
              <a:solidFill>
                <a:srgbClr val="1d1d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>
              <a:off x="7032240" y="2075760"/>
              <a:ext cx="360000" cy="360360"/>
            </a:xfrm>
            <a:prstGeom prst="line">
              <a:avLst/>
            </a:prstGeom>
            <a:ln w="9360">
              <a:solidFill>
                <a:srgbClr val="1d1d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grpSp>
          <p:nvGrpSpPr>
            <p:cNvPr id="394" name=""/>
            <p:cNvGrpSpPr/>
            <p:nvPr/>
          </p:nvGrpSpPr>
          <p:grpSpPr>
            <a:xfrm>
              <a:off x="6270480" y="2057040"/>
              <a:ext cx="740520" cy="741240"/>
              <a:chOff x="6270480" y="2057040"/>
              <a:chExt cx="740520" cy="741240"/>
            </a:xfrm>
          </p:grpSpPr>
          <p:sp>
            <p:nvSpPr>
              <p:cNvPr id="395" name=""/>
              <p:cNvSpPr/>
              <p:nvPr/>
            </p:nvSpPr>
            <p:spPr>
              <a:xfrm flipH="1" flipV="1">
                <a:off x="6270480" y="2437920"/>
                <a:ext cx="360000" cy="360360"/>
              </a:xfrm>
              <a:prstGeom prst="line">
                <a:avLst/>
              </a:prstGeom>
              <a:ln w="9360">
                <a:solidFill>
                  <a:srgbClr val="1d1d2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d1d27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flipH="1" flipV="1">
                <a:off x="6651000" y="2057040"/>
                <a:ext cx="360000" cy="360360"/>
              </a:xfrm>
              <a:prstGeom prst="line">
                <a:avLst/>
              </a:prstGeom>
              <a:ln w="9360">
                <a:solidFill>
                  <a:srgbClr val="1d1d2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d1d27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flipH="1">
                <a:off x="6651000" y="2437560"/>
                <a:ext cx="360000" cy="360360"/>
              </a:xfrm>
              <a:prstGeom prst="line">
                <a:avLst/>
              </a:prstGeom>
              <a:ln w="9360">
                <a:solidFill>
                  <a:srgbClr val="1d1d2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d1d27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flipH="1">
                <a:off x="6270480" y="2075760"/>
                <a:ext cx="360000" cy="360360"/>
              </a:xfrm>
              <a:prstGeom prst="line">
                <a:avLst/>
              </a:prstGeom>
              <a:ln w="9360">
                <a:solidFill>
                  <a:srgbClr val="1d1d2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d1d27"/>
                  </a:solidFill>
                  <a:latin typeface="Times New Roman"/>
                </a:endParaRPr>
              </a:p>
            </p:txBody>
          </p:sp>
        </p:grpSp>
        <p:sp>
          <p:nvSpPr>
            <p:cNvPr id="399" name=""/>
            <p:cNvSpPr/>
            <p:nvPr/>
          </p:nvSpPr>
          <p:spPr>
            <a:xfrm>
              <a:off x="5783040" y="2133720"/>
              <a:ext cx="56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2400" spc="-1" strike="noStrike">
                  <a:solidFill>
                    <a:srgbClr val="1d1d27"/>
                  </a:solidFill>
                  <a:latin typeface="Times New Roman"/>
                </a:rPr>
                <a:t>.....</a:t>
              </a:r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grpSp>
          <p:nvGrpSpPr>
            <p:cNvPr id="400" name=""/>
            <p:cNvGrpSpPr/>
            <p:nvPr/>
          </p:nvGrpSpPr>
          <p:grpSpPr>
            <a:xfrm>
              <a:off x="4974840" y="2057040"/>
              <a:ext cx="740880" cy="741240"/>
              <a:chOff x="4974840" y="2057040"/>
              <a:chExt cx="740880" cy="741240"/>
            </a:xfrm>
          </p:grpSpPr>
          <p:sp>
            <p:nvSpPr>
              <p:cNvPr id="401" name=""/>
              <p:cNvSpPr/>
              <p:nvPr/>
            </p:nvSpPr>
            <p:spPr>
              <a:xfrm flipH="1" flipV="1">
                <a:off x="4974840" y="2437920"/>
                <a:ext cx="360000" cy="360360"/>
              </a:xfrm>
              <a:prstGeom prst="line">
                <a:avLst/>
              </a:prstGeom>
              <a:ln w="9360">
                <a:solidFill>
                  <a:srgbClr val="1d1d2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d1d27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flipH="1" flipV="1">
                <a:off x="5355720" y="2057040"/>
                <a:ext cx="360000" cy="360360"/>
              </a:xfrm>
              <a:prstGeom prst="line">
                <a:avLst/>
              </a:prstGeom>
              <a:ln w="9360">
                <a:solidFill>
                  <a:srgbClr val="1d1d2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d1d27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flipH="1">
                <a:off x="5355720" y="2437560"/>
                <a:ext cx="360000" cy="360360"/>
              </a:xfrm>
              <a:prstGeom prst="line">
                <a:avLst/>
              </a:prstGeom>
              <a:ln w="9360">
                <a:solidFill>
                  <a:srgbClr val="1d1d2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d1d27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flipH="1">
                <a:off x="4974840" y="2075760"/>
                <a:ext cx="360000" cy="360360"/>
              </a:xfrm>
              <a:prstGeom prst="line">
                <a:avLst/>
              </a:prstGeom>
              <a:ln w="9360">
                <a:solidFill>
                  <a:srgbClr val="1d1d2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d1d27"/>
                  </a:solidFill>
                  <a:latin typeface="Times New Roman"/>
                </a:endParaRPr>
              </a:p>
            </p:txBody>
          </p:sp>
        </p:grpSp>
        <p:sp>
          <p:nvSpPr>
            <p:cNvPr id="405" name=""/>
            <p:cNvSpPr/>
            <p:nvPr/>
          </p:nvSpPr>
          <p:spPr>
            <a:xfrm>
              <a:off x="4572000" y="2409840"/>
              <a:ext cx="3868560" cy="676440"/>
            </a:xfrm>
            <a:custGeom>
              <a:avLst/>
              <a:gdLst/>
              <a:ahLst/>
              <a:rect l="l" t="t" r="r" b="b"/>
              <a:pathLst>
                <a:path w="2437" h="426">
                  <a:moveTo>
                    <a:pt x="254" y="18"/>
                  </a:moveTo>
                  <a:cubicBezTo>
                    <a:pt x="227" y="26"/>
                    <a:pt x="122" y="0"/>
                    <a:pt x="92" y="66"/>
                  </a:cubicBezTo>
                  <a:cubicBezTo>
                    <a:pt x="62" y="132"/>
                    <a:pt x="0" y="309"/>
                    <a:pt x="338" y="360"/>
                  </a:cubicBezTo>
                  <a:cubicBezTo>
                    <a:pt x="666" y="416"/>
                    <a:pt x="1806" y="426"/>
                    <a:pt x="2120" y="372"/>
                  </a:cubicBezTo>
                  <a:cubicBezTo>
                    <a:pt x="2437" y="348"/>
                    <a:pt x="2297" y="137"/>
                    <a:pt x="2282" y="78"/>
                  </a:cubicBezTo>
                  <a:cubicBezTo>
                    <a:pt x="2267" y="19"/>
                    <a:pt x="2082" y="30"/>
                    <a:pt x="2030" y="18"/>
                  </a:cubicBezTo>
                </a:path>
              </a:pathLst>
            </a:custGeom>
            <a:noFill/>
            <a:ln w="9360">
              <a:solidFill>
                <a:srgbClr val="1d1d27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504360" y="2971800"/>
            <a:ext cx="8571240" cy="152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In most cases - yes.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e.g. If the diamonds are ‘balanced’ (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Times New Roman"/>
              </a:rPr>
              <a:t>1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Times New Roman"/>
              </a:rPr>
              <a:t>2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Times New Roman"/>
              </a:rPr>
              <a:t>3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1d1d27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O(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) constraints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4495680" y="4838760"/>
            <a:ext cx="3868920" cy="1028160"/>
            <a:chOff x="4495680" y="4838760"/>
            <a:chExt cx="3868920" cy="1028160"/>
          </a:xfrm>
        </p:grpSpPr>
        <p:sp>
          <p:nvSpPr>
            <p:cNvPr id="408" name=""/>
            <p:cNvSpPr/>
            <p:nvPr/>
          </p:nvSpPr>
          <p:spPr>
            <a:xfrm flipH="1" flipV="1">
              <a:off x="6955920" y="5219280"/>
              <a:ext cx="360360" cy="360000"/>
            </a:xfrm>
            <a:prstGeom prst="line">
              <a:avLst/>
            </a:prstGeom>
            <a:ln w="9360">
              <a:solidFill>
                <a:srgbClr val="1d1d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 flipV="1">
              <a:off x="7337160" y="4838760"/>
              <a:ext cx="360360" cy="360000"/>
            </a:xfrm>
            <a:prstGeom prst="line">
              <a:avLst/>
            </a:prstGeom>
            <a:ln w="9360">
              <a:solidFill>
                <a:srgbClr val="1d1d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H="1">
              <a:off x="7337160" y="5219280"/>
              <a:ext cx="360360" cy="360000"/>
            </a:xfrm>
            <a:prstGeom prst="line">
              <a:avLst/>
            </a:prstGeom>
            <a:ln w="9360">
              <a:solidFill>
                <a:srgbClr val="1d1d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H="1">
              <a:off x="6955920" y="4857480"/>
              <a:ext cx="360360" cy="360000"/>
            </a:xfrm>
            <a:prstGeom prst="line">
              <a:avLst/>
            </a:prstGeom>
            <a:ln w="9360">
              <a:solidFill>
                <a:srgbClr val="1d1d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grpSp>
          <p:nvGrpSpPr>
            <p:cNvPr id="412" name=""/>
            <p:cNvGrpSpPr/>
            <p:nvPr/>
          </p:nvGrpSpPr>
          <p:grpSpPr>
            <a:xfrm>
              <a:off x="6194520" y="4838760"/>
              <a:ext cx="740880" cy="740520"/>
              <a:chOff x="6194520" y="4838760"/>
              <a:chExt cx="740880" cy="740520"/>
            </a:xfrm>
          </p:grpSpPr>
          <p:sp>
            <p:nvSpPr>
              <p:cNvPr id="413" name=""/>
              <p:cNvSpPr/>
              <p:nvPr/>
            </p:nvSpPr>
            <p:spPr>
              <a:xfrm flipH="1" flipV="1">
                <a:off x="6194520" y="5219280"/>
                <a:ext cx="360000" cy="360000"/>
              </a:xfrm>
              <a:prstGeom prst="line">
                <a:avLst/>
              </a:prstGeom>
              <a:ln w="9360">
                <a:solidFill>
                  <a:srgbClr val="1d1d2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d1d27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 flipH="1" flipV="1">
                <a:off x="6575400" y="4838760"/>
                <a:ext cx="360000" cy="360000"/>
              </a:xfrm>
              <a:prstGeom prst="line">
                <a:avLst/>
              </a:prstGeom>
              <a:ln w="9360">
                <a:solidFill>
                  <a:srgbClr val="1d1d2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d1d27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 flipH="1">
                <a:off x="6575400" y="5219280"/>
                <a:ext cx="360000" cy="360000"/>
              </a:xfrm>
              <a:prstGeom prst="line">
                <a:avLst/>
              </a:prstGeom>
              <a:ln w="9360">
                <a:solidFill>
                  <a:srgbClr val="1d1d2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d1d27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flipH="1">
                <a:off x="6194520" y="4857480"/>
                <a:ext cx="360000" cy="360000"/>
              </a:xfrm>
              <a:prstGeom prst="line">
                <a:avLst/>
              </a:prstGeom>
              <a:ln w="9360">
                <a:solidFill>
                  <a:srgbClr val="1d1d2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d1d27"/>
                  </a:solidFill>
                  <a:latin typeface="Times New Roman"/>
                </a:endParaRPr>
              </a:p>
            </p:txBody>
          </p:sp>
        </p:grpSp>
        <p:sp>
          <p:nvSpPr>
            <p:cNvPr id="417" name=""/>
            <p:cNvSpPr/>
            <p:nvPr/>
          </p:nvSpPr>
          <p:spPr>
            <a:xfrm>
              <a:off x="5707080" y="4914720"/>
              <a:ext cx="56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2400" spc="-1" strike="noStrike">
                  <a:solidFill>
                    <a:srgbClr val="1d1d27"/>
                  </a:solidFill>
                  <a:latin typeface="Times New Roman"/>
                </a:rPr>
                <a:t>.....</a:t>
              </a:r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grpSp>
          <p:nvGrpSpPr>
            <p:cNvPr id="418" name=""/>
            <p:cNvGrpSpPr/>
            <p:nvPr/>
          </p:nvGrpSpPr>
          <p:grpSpPr>
            <a:xfrm>
              <a:off x="4898520" y="4838760"/>
              <a:ext cx="741600" cy="740520"/>
              <a:chOff x="4898520" y="4838760"/>
              <a:chExt cx="741600" cy="740520"/>
            </a:xfrm>
          </p:grpSpPr>
          <p:sp>
            <p:nvSpPr>
              <p:cNvPr id="419" name=""/>
              <p:cNvSpPr/>
              <p:nvPr/>
            </p:nvSpPr>
            <p:spPr>
              <a:xfrm flipH="1" flipV="1">
                <a:off x="4898520" y="5219280"/>
                <a:ext cx="360360" cy="360000"/>
              </a:xfrm>
              <a:prstGeom prst="line">
                <a:avLst/>
              </a:prstGeom>
              <a:ln w="9360">
                <a:solidFill>
                  <a:srgbClr val="1d1d2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d1d27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 flipH="1" flipV="1">
                <a:off x="5279760" y="4838760"/>
                <a:ext cx="360360" cy="360000"/>
              </a:xfrm>
              <a:prstGeom prst="line">
                <a:avLst/>
              </a:prstGeom>
              <a:ln w="9360">
                <a:solidFill>
                  <a:srgbClr val="1d1d2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d1d27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flipH="1">
                <a:off x="5279760" y="5219280"/>
                <a:ext cx="360360" cy="360000"/>
              </a:xfrm>
              <a:prstGeom prst="line">
                <a:avLst/>
              </a:prstGeom>
              <a:ln w="9360">
                <a:solidFill>
                  <a:srgbClr val="1d1d2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d1d27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flipH="1">
                <a:off x="4898520" y="4857480"/>
                <a:ext cx="360360" cy="360000"/>
              </a:xfrm>
              <a:prstGeom prst="line">
                <a:avLst/>
              </a:prstGeom>
              <a:ln w="9360">
                <a:solidFill>
                  <a:srgbClr val="1d1d2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d1d27"/>
                  </a:solidFill>
                  <a:latin typeface="Times New Roman"/>
                </a:endParaRPr>
              </a:p>
            </p:txBody>
          </p:sp>
        </p:grpSp>
        <p:sp>
          <p:nvSpPr>
            <p:cNvPr id="423" name=""/>
            <p:cNvSpPr/>
            <p:nvPr/>
          </p:nvSpPr>
          <p:spPr>
            <a:xfrm>
              <a:off x="4495680" y="5190840"/>
              <a:ext cx="3868920" cy="676080"/>
            </a:xfrm>
            <a:custGeom>
              <a:avLst/>
              <a:gdLst/>
              <a:ahLst/>
              <a:rect l="l" t="t" r="r" b="b"/>
              <a:pathLst>
                <a:path w="2437" h="426">
                  <a:moveTo>
                    <a:pt x="254" y="18"/>
                  </a:moveTo>
                  <a:cubicBezTo>
                    <a:pt x="227" y="26"/>
                    <a:pt x="122" y="0"/>
                    <a:pt x="92" y="66"/>
                  </a:cubicBezTo>
                  <a:cubicBezTo>
                    <a:pt x="62" y="132"/>
                    <a:pt x="0" y="309"/>
                    <a:pt x="338" y="360"/>
                  </a:cubicBezTo>
                  <a:cubicBezTo>
                    <a:pt x="666" y="416"/>
                    <a:pt x="1806" y="426"/>
                    <a:pt x="2120" y="372"/>
                  </a:cubicBezTo>
                  <a:cubicBezTo>
                    <a:pt x="2437" y="348"/>
                    <a:pt x="2297" y="137"/>
                    <a:pt x="2282" y="78"/>
                  </a:cubicBezTo>
                  <a:cubicBezTo>
                    <a:pt x="2267" y="19"/>
                    <a:pt x="2082" y="30"/>
                    <a:pt x="2030" y="18"/>
                  </a:cubicBezTo>
                </a:path>
              </a:pathLst>
            </a:custGeom>
            <a:noFill/>
            <a:ln w="9360">
              <a:solidFill>
                <a:srgbClr val="1d1d27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</p:grpSp>
      <p:sp>
        <p:nvSpPr>
          <p:cNvPr id="424" name=""/>
          <p:cNvSpPr/>
          <p:nvPr/>
        </p:nvSpPr>
        <p:spPr>
          <a:xfrm flipH="1">
            <a:off x="7009920" y="5219640"/>
            <a:ext cx="685800" cy="0"/>
          </a:xfrm>
          <a:prstGeom prst="line">
            <a:avLst/>
          </a:prstGeom>
          <a:ln w="9360">
            <a:solidFill>
              <a:srgbClr val="ff0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flipH="1">
            <a:off x="6248160" y="5219640"/>
            <a:ext cx="685800" cy="0"/>
          </a:xfrm>
          <a:prstGeom prst="line">
            <a:avLst/>
          </a:prstGeom>
          <a:ln w="9360">
            <a:solidFill>
              <a:srgbClr val="ff0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4952520" y="5219640"/>
            <a:ext cx="685800" cy="0"/>
          </a:xfrm>
          <a:prstGeom prst="line">
            <a:avLst/>
          </a:prstGeom>
          <a:ln w="9360">
            <a:solidFill>
              <a:srgbClr val="ff0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509600" y="4686480"/>
            <a:ext cx="3301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i="1" lang="en-US" sz="1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946920" y="4686480"/>
            <a:ext cx="3301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i="1" lang="en-US" sz="1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7083000" y="4911840"/>
            <a:ext cx="5878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i="1" lang="en-US" sz="1600" spc="-1" strike="noStrike" baseline="-25000">
                <a:solidFill>
                  <a:srgbClr val="ff0000"/>
                </a:solidFill>
                <a:latin typeface="Times New Roman"/>
              </a:rPr>
              <a:t>1+ </a:t>
            </a:r>
            <a:r>
              <a:rPr b="0" i="1" lang="en-US" sz="16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i="1" lang="en-US" sz="1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89960" y="1981080"/>
            <a:ext cx="40122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diamonds </a:t>
            </a:r>
            <a:r>
              <a:rPr b="0" lang="en-US" sz="2400" spc="-1" strike="noStrike">
                <a:solidFill>
                  <a:srgbClr val="1d1d27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0" i="1" lang="en-US" sz="2400" spc="-1" strike="noStrike" baseline="30000">
                <a:solidFill>
                  <a:srgbClr val="1d1d27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simple cycles.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Can we do better than that ?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7525440" y="5257800"/>
            <a:ext cx="3301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i="1" lang="en-US" sz="16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915960" y="5257800"/>
            <a:ext cx="3301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i="1" lang="en-US" sz="1600" spc="-1" strike="noStrike" baseline="-25000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D232-1357-4F23-9B04-AFF1F31A5FF1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Integrated decision procedures in </a:t>
            </a:r>
            <a:br>
              <a:rPr sz="2800"/>
            </a:b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Theorem-Provers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94120" y="2022480"/>
            <a:ext cx="7322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All of these theories, except linear arithmetic, have known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efficient direct reduction</a:t>
            </a:r>
            <a:r>
              <a:rPr b="0" lang="he-IL" sz="2400" spc="-1" strike="noStrike">
                <a:solidFill>
                  <a:srgbClr val="1d1d27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to propositional logic.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67560" y="3645000"/>
            <a:ext cx="8070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Thus, reducing linear arithmetic t</a:t>
            </a:r>
            <a:r>
              <a:rPr b="0" lang="he-IL" sz="2400" spc="-1" strike="noStrike">
                <a:solidFill>
                  <a:srgbClr val="1d1d27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propositional logic will: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1. Enable integration of theories </a:t>
            </a:r>
            <a:r>
              <a:rPr b="0" lang="he-IL" sz="2400" spc="-1" strike="noStrike">
                <a:solidFill>
                  <a:srgbClr val="1d1d27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n the propositional logic level. 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2.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Potentially </a:t>
            </a:r>
            <a:r>
              <a:rPr b="0" lang="he-IL" sz="2400" spc="-1" strike="noStrike">
                <a:solidFill>
                  <a:srgbClr val="0000ff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e faster than known techniques.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CAD6-6345-4C37-8357-CC85C11144ED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Compact representation of constraints (2/4)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7000" y="1793880"/>
            <a:ext cx="803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d1d27"/>
                </a:solidFill>
                <a:latin typeface="Times New Roman"/>
              </a:rPr>
              <a:t>Chordal graphs: 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each cycle of size greater than 3, has a ‘chord’.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67120" y="2708280"/>
            <a:ext cx="7630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In the </a:t>
            </a:r>
            <a:r>
              <a:rPr b="0" i="1" lang="en-US" sz="2400" spc="-1" strike="noStrike">
                <a:solidFill>
                  <a:srgbClr val="1d1d27"/>
                </a:solidFill>
                <a:latin typeface="Times New Roman"/>
              </a:rPr>
              <a:t>equality predicates 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case: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be a cycle in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Let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be an assignment that violates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’s transitivity (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|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d1d27"/>
                </a:solidFill>
                <a:latin typeface="Times New Roman"/>
              </a:rPr>
              <a:t>Theorem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: there exists a cycle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of size 3 in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s.t.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|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827280" y="5089680"/>
            <a:ext cx="723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d1d27"/>
                </a:solidFill>
                <a:latin typeface="Times New Roman"/>
              </a:rPr>
              <a:t>Conclusion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: add transitivity constraints only for triangles.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Now only a polynomial no. of constraints is required.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grpSp>
        <p:nvGrpSpPr>
          <p:cNvPr id="437" name=""/>
          <p:cNvGrpSpPr/>
          <p:nvPr/>
        </p:nvGrpSpPr>
        <p:grpSpPr>
          <a:xfrm>
            <a:off x="7615080" y="2286000"/>
            <a:ext cx="1071720" cy="1069920"/>
            <a:chOff x="7615080" y="2286000"/>
            <a:chExt cx="1071720" cy="1069920"/>
          </a:xfrm>
        </p:grpSpPr>
        <p:sp>
          <p:nvSpPr>
            <p:cNvPr id="438" name=""/>
            <p:cNvSpPr/>
            <p:nvPr/>
          </p:nvSpPr>
          <p:spPr>
            <a:xfrm>
              <a:off x="7615080" y="2816280"/>
              <a:ext cx="532080" cy="527040"/>
            </a:xfrm>
            <a:custGeom>
              <a:avLst/>
              <a:gdLst/>
              <a:ahLst/>
              <a:rect l="l" t="t" r="r" b="b"/>
              <a:pathLst>
                <a:path w="335" h="332">
                  <a:moveTo>
                    <a:pt x="335" y="332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1d1d2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flipH="1" flipV="1">
              <a:off x="8156520" y="2286000"/>
              <a:ext cx="519120" cy="519120"/>
            </a:xfrm>
            <a:prstGeom prst="line">
              <a:avLst/>
            </a:prstGeom>
            <a:ln w="9360">
              <a:solidFill>
                <a:srgbClr val="1d1d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8147160" y="2827440"/>
              <a:ext cx="536400" cy="528480"/>
            </a:xfrm>
            <a:custGeom>
              <a:avLst/>
              <a:gdLst/>
              <a:ahLst/>
              <a:rect l="l" t="t" r="r" b="b"/>
              <a:pathLst>
                <a:path w="338" h="333">
                  <a:moveTo>
                    <a:pt x="338" y="0"/>
                  </a:moveTo>
                  <a:lnTo>
                    <a:pt x="0" y="333"/>
                  </a:lnTo>
                </a:path>
              </a:pathLst>
            </a:custGeom>
            <a:noFill/>
            <a:ln w="9360">
              <a:solidFill>
                <a:srgbClr val="1d1d2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618320" y="2290680"/>
              <a:ext cx="528840" cy="528840"/>
            </a:xfrm>
            <a:custGeom>
              <a:avLst/>
              <a:gdLst/>
              <a:ahLst/>
              <a:rect l="l" t="t" r="r" b="b"/>
              <a:pathLst>
                <a:path w="333" h="333">
                  <a:moveTo>
                    <a:pt x="333" y="0"/>
                  </a:moveTo>
                  <a:lnTo>
                    <a:pt x="0" y="333"/>
                  </a:lnTo>
                </a:path>
              </a:pathLst>
            </a:custGeom>
            <a:noFill/>
            <a:ln w="9360">
              <a:solidFill>
                <a:srgbClr val="1d1d2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620120" y="2817720"/>
              <a:ext cx="1066680" cy="0"/>
            </a:xfrm>
            <a:prstGeom prst="line">
              <a:avLst/>
            </a:prstGeom>
            <a:ln w="9360">
              <a:solidFill>
                <a:srgbClr val="1d1d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</p:grpSp>
      <p:sp>
        <p:nvSpPr>
          <p:cNvPr id="443" name=""/>
          <p:cNvSpPr/>
          <p:nvPr/>
        </p:nvSpPr>
        <p:spPr>
          <a:xfrm>
            <a:off x="7217640" y="25462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9BFE-9B3D-41C7-8945-0B8D5177AB07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Compact representation of constraints (3/4)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822240" y="1717560"/>
            <a:ext cx="33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75840" y="1828800"/>
            <a:ext cx="3896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Our case is more complicated: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buClr>
                <a:srgbClr val="1d1d2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is directed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buClr>
                <a:srgbClr val="1d1d2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is a multi-graph 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buClr>
                <a:srgbClr val="1d1d2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Edges have weights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buClr>
                <a:srgbClr val="1d1d2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There are two types of edges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974880" y="4079880"/>
            <a:ext cx="7711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is chordal iff: 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Every directed cycle of size greater than 3 has a chord    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     which ‘accumulates’ the weight of the path between its ends.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grpSp>
        <p:nvGrpSpPr>
          <p:cNvPr id="448" name=""/>
          <p:cNvGrpSpPr/>
          <p:nvPr/>
        </p:nvGrpSpPr>
        <p:grpSpPr>
          <a:xfrm>
            <a:off x="6839640" y="2092320"/>
            <a:ext cx="1504080" cy="1218600"/>
            <a:chOff x="6839640" y="2092320"/>
            <a:chExt cx="1504080" cy="1218600"/>
          </a:xfrm>
        </p:grpSpPr>
        <p:sp>
          <p:nvSpPr>
            <p:cNvPr id="449" name=""/>
            <p:cNvSpPr/>
            <p:nvPr/>
          </p:nvSpPr>
          <p:spPr>
            <a:xfrm>
              <a:off x="6859440" y="2641680"/>
              <a:ext cx="532080" cy="527040"/>
            </a:xfrm>
            <a:custGeom>
              <a:avLst/>
              <a:gdLst/>
              <a:ahLst/>
              <a:rect l="l" t="t" r="r" b="b"/>
              <a:pathLst>
                <a:path w="335" h="332">
                  <a:moveTo>
                    <a:pt x="335" y="332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1d1d27"/>
              </a:solidFill>
              <a:prstDash val="dashDot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flipH="1" flipV="1">
              <a:off x="7378560" y="2102040"/>
              <a:ext cx="519120" cy="519120"/>
            </a:xfrm>
            <a:prstGeom prst="line">
              <a:avLst/>
            </a:prstGeom>
            <a:ln w="9360">
              <a:solidFill>
                <a:srgbClr val="1d1d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391520" y="2640240"/>
              <a:ext cx="536400" cy="528480"/>
            </a:xfrm>
            <a:custGeom>
              <a:avLst/>
              <a:gdLst/>
              <a:ahLst/>
              <a:rect l="l" t="t" r="r" b="b"/>
              <a:pathLst>
                <a:path w="338" h="333">
                  <a:moveTo>
                    <a:pt x="338" y="0"/>
                  </a:moveTo>
                  <a:lnTo>
                    <a:pt x="0" y="333"/>
                  </a:lnTo>
                </a:path>
              </a:pathLst>
            </a:custGeom>
            <a:noFill/>
            <a:ln w="9360">
              <a:solidFill>
                <a:srgbClr val="1d1d27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862680" y="2121120"/>
              <a:ext cx="500040" cy="504720"/>
            </a:xfrm>
            <a:custGeom>
              <a:avLst/>
              <a:gdLst/>
              <a:ahLst/>
              <a:rect l="l" t="t" r="r" b="b"/>
              <a:pathLst>
                <a:path w="315" h="318">
                  <a:moveTo>
                    <a:pt x="315" y="0"/>
                  </a:moveTo>
                  <a:lnTo>
                    <a:pt x="0" y="318"/>
                  </a:lnTo>
                </a:path>
              </a:pathLst>
            </a:custGeom>
            <a:noFill/>
            <a:ln w="9360">
              <a:solidFill>
                <a:srgbClr val="1d1d27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886440" y="2641680"/>
              <a:ext cx="1028880" cy="3240"/>
            </a:xfrm>
            <a:custGeom>
              <a:avLst/>
              <a:gdLst/>
              <a:ahLst/>
              <a:rect l="l" t="t" r="r" b="b"/>
              <a:pathLst>
                <a:path w="648" h="2">
                  <a:moveTo>
                    <a:pt x="0" y="2"/>
                  </a:moveTo>
                  <a:lnTo>
                    <a:pt x="648" y="0"/>
                  </a:lnTo>
                </a:path>
              </a:pathLst>
            </a:custGeom>
            <a:noFill/>
            <a:ln w="9360">
              <a:solidFill>
                <a:srgbClr val="1d1d27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78080" y="2092320"/>
              <a:ext cx="3301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0" i="1" lang="en-US" sz="16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839640" y="2092320"/>
              <a:ext cx="3301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0" i="1" lang="en-US" sz="16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839640" y="2778120"/>
              <a:ext cx="3301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0" i="1" lang="en-US" sz="1600" spc="-1" strike="noStrike" baseline="-25000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601760" y="2778120"/>
              <a:ext cx="3301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0" i="1" lang="en-US" sz="1600" spc="-1" strike="noStrike" baseline="-25000">
                  <a:solidFill>
                    <a:srgbClr val="ff0000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102080" y="2320920"/>
              <a:ext cx="5878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0" i="1" lang="en-US" sz="1600" spc="-1" strike="noStrike" baseline="-25000">
                  <a:solidFill>
                    <a:srgbClr val="ff0000"/>
                  </a:solidFill>
                  <a:latin typeface="Times New Roman"/>
                </a:rPr>
                <a:t>1+ </a:t>
              </a:r>
              <a:r>
                <a:rPr b="0" i="1" lang="en-US" sz="16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0" i="1" lang="en-US" sz="16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400880" y="2635200"/>
              <a:ext cx="682560" cy="623880"/>
            </a:xfrm>
            <a:custGeom>
              <a:avLst/>
              <a:gdLst/>
              <a:ahLst/>
              <a:rect l="l" t="t" r="r" b="b"/>
              <a:pathLst>
                <a:path w="430" h="393">
                  <a:moveTo>
                    <a:pt x="0" y="342"/>
                  </a:moveTo>
                  <a:cubicBezTo>
                    <a:pt x="62" y="341"/>
                    <a:pt x="314" y="393"/>
                    <a:pt x="372" y="336"/>
                  </a:cubicBezTo>
                  <a:cubicBezTo>
                    <a:pt x="430" y="279"/>
                    <a:pt x="353" y="70"/>
                    <a:pt x="348" y="0"/>
                  </a:cubicBezTo>
                </a:path>
              </a:pathLst>
            </a:custGeom>
            <a:noFill/>
            <a:ln w="9360">
              <a:solidFill>
                <a:srgbClr val="1d1d27"/>
              </a:solidFill>
              <a:prstDash val="dash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013600" y="2940120"/>
              <a:ext cx="3301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0" i="1" lang="en-US" sz="1600" spc="-1" strike="noStrike" baseline="-25000">
                  <a:solidFill>
                    <a:srgbClr val="ff0000"/>
                  </a:solidFill>
                  <a:latin typeface="Times New Roman"/>
                </a:rPr>
                <a:t>5</a:t>
              </a:r>
              <a:endParaRPr b="0" lang="en-US" sz="16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E23E-FDE4-4704-9D6B-DB7C0F73E9F0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Compact representation of constraints (4/4)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822240" y="1717560"/>
            <a:ext cx="33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50720" y="2209680"/>
            <a:ext cx="52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Complexity of making the graph chordal: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20840" y="2963880"/>
            <a:ext cx="65937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1d1d27"/>
                </a:solidFill>
                <a:latin typeface="Times New Roman"/>
              </a:rPr>
              <a:t>1. 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If the diamonds are ‘balanced’ </a:t>
            </a:r>
            <a:r>
              <a:rPr b="0" lang="en-US" sz="2400" spc="-1" strike="noStrike">
                <a:solidFill>
                  <a:srgbClr val="1d1d27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O(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) constraints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89960" y="5638680"/>
            <a:ext cx="28983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1d1d27"/>
                </a:solidFill>
                <a:latin typeface="Times New Roman"/>
              </a:rPr>
              <a:t>3. 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Worst case </a:t>
            </a:r>
            <a:r>
              <a:rPr b="0" lang="en-US" sz="2400" spc="-1" strike="noStrike">
                <a:solidFill>
                  <a:srgbClr val="1d1d27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O(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grpSp>
        <p:nvGrpSpPr>
          <p:cNvPr id="466" name=""/>
          <p:cNvGrpSpPr/>
          <p:nvPr/>
        </p:nvGrpSpPr>
        <p:grpSpPr>
          <a:xfrm>
            <a:off x="403560" y="3914640"/>
            <a:ext cx="8300160" cy="1876320"/>
            <a:chOff x="403560" y="3914640"/>
            <a:chExt cx="8300160" cy="1876320"/>
          </a:xfrm>
        </p:grpSpPr>
        <p:grpSp>
          <p:nvGrpSpPr>
            <p:cNvPr id="467" name=""/>
            <p:cNvGrpSpPr/>
            <p:nvPr/>
          </p:nvGrpSpPr>
          <p:grpSpPr>
            <a:xfrm>
              <a:off x="4479840" y="4648320"/>
              <a:ext cx="3868560" cy="1142640"/>
              <a:chOff x="4479840" y="4648320"/>
              <a:chExt cx="3868560" cy="1142640"/>
            </a:xfrm>
          </p:grpSpPr>
          <p:grpSp>
            <p:nvGrpSpPr>
              <p:cNvPr id="468" name=""/>
              <p:cNvGrpSpPr/>
              <p:nvPr/>
            </p:nvGrpSpPr>
            <p:grpSpPr>
              <a:xfrm>
                <a:off x="4479840" y="4762800"/>
                <a:ext cx="3868560" cy="1028160"/>
                <a:chOff x="4479840" y="4762800"/>
                <a:chExt cx="3868560" cy="1028160"/>
              </a:xfrm>
            </p:grpSpPr>
            <p:sp>
              <p:nvSpPr>
                <p:cNvPr id="469" name=""/>
                <p:cNvSpPr/>
                <p:nvPr/>
              </p:nvSpPr>
              <p:spPr>
                <a:xfrm flipH="1" flipV="1">
                  <a:off x="6940080" y="5143320"/>
                  <a:ext cx="360000" cy="360000"/>
                </a:xfrm>
                <a:prstGeom prst="line">
                  <a:avLst/>
                </a:prstGeom>
                <a:ln w="9360">
                  <a:solidFill>
                    <a:srgbClr val="1d1d27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1d1d27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 flipH="1" flipV="1">
                  <a:off x="7321320" y="4762800"/>
                  <a:ext cx="360000" cy="360000"/>
                </a:xfrm>
                <a:prstGeom prst="line">
                  <a:avLst/>
                </a:prstGeom>
                <a:ln w="9360">
                  <a:solidFill>
                    <a:srgbClr val="1d1d27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1d1d27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 flipH="1">
                  <a:off x="7321320" y="5143320"/>
                  <a:ext cx="360000" cy="360000"/>
                </a:xfrm>
                <a:prstGeom prst="line">
                  <a:avLst/>
                </a:prstGeom>
                <a:ln w="9360">
                  <a:solidFill>
                    <a:srgbClr val="1d1d27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1d1d27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 flipH="1">
                  <a:off x="6940080" y="4781520"/>
                  <a:ext cx="360000" cy="360000"/>
                </a:xfrm>
                <a:prstGeom prst="line">
                  <a:avLst/>
                </a:prstGeom>
                <a:ln w="9360">
                  <a:solidFill>
                    <a:srgbClr val="1d1d27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1d1d27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73" name=""/>
                <p:cNvGrpSpPr/>
                <p:nvPr/>
              </p:nvGrpSpPr>
              <p:grpSpPr>
                <a:xfrm>
                  <a:off x="6178320" y="4762800"/>
                  <a:ext cx="740520" cy="740520"/>
                  <a:chOff x="6178320" y="4762800"/>
                  <a:chExt cx="740520" cy="740520"/>
                </a:xfrm>
              </p:grpSpPr>
              <p:sp>
                <p:nvSpPr>
                  <p:cNvPr id="474" name=""/>
                  <p:cNvSpPr/>
                  <p:nvPr/>
                </p:nvSpPr>
                <p:spPr>
                  <a:xfrm flipH="1" flipV="1">
                    <a:off x="6178320" y="5143320"/>
                    <a:ext cx="360000" cy="360000"/>
                  </a:xfrm>
                  <a:prstGeom prst="line">
                    <a:avLst/>
                  </a:prstGeom>
                  <a:ln w="9360">
                    <a:solidFill>
                      <a:srgbClr val="1d1d27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1d1d27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" name=""/>
                  <p:cNvSpPr/>
                  <p:nvPr/>
                </p:nvSpPr>
                <p:spPr>
                  <a:xfrm flipH="1" flipV="1">
                    <a:off x="6558840" y="4762800"/>
                    <a:ext cx="360000" cy="360000"/>
                  </a:xfrm>
                  <a:prstGeom prst="line">
                    <a:avLst/>
                  </a:prstGeom>
                  <a:ln w="9360">
                    <a:solidFill>
                      <a:srgbClr val="1d1d27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1d1d27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" name=""/>
                  <p:cNvSpPr/>
                  <p:nvPr/>
                </p:nvSpPr>
                <p:spPr>
                  <a:xfrm flipH="1">
                    <a:off x="6558840" y="5143320"/>
                    <a:ext cx="360000" cy="360000"/>
                  </a:xfrm>
                  <a:prstGeom prst="line">
                    <a:avLst/>
                  </a:prstGeom>
                  <a:ln w="9360">
                    <a:solidFill>
                      <a:srgbClr val="1d1d27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1d1d27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7" name=""/>
                  <p:cNvSpPr/>
                  <p:nvPr/>
                </p:nvSpPr>
                <p:spPr>
                  <a:xfrm flipH="1">
                    <a:off x="6178320" y="4781520"/>
                    <a:ext cx="360000" cy="360000"/>
                  </a:xfrm>
                  <a:prstGeom prst="line">
                    <a:avLst/>
                  </a:prstGeom>
                  <a:ln w="9360">
                    <a:solidFill>
                      <a:srgbClr val="1d1d27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1d1d27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78" name=""/>
                <p:cNvSpPr/>
                <p:nvPr/>
              </p:nvSpPr>
              <p:spPr>
                <a:xfrm>
                  <a:off x="5690880" y="4838760"/>
                  <a:ext cx="561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e-IL" sz="2400" spc="-1" strike="noStrike">
                      <a:solidFill>
                        <a:srgbClr val="1d1d27"/>
                      </a:solidFill>
                      <a:latin typeface="Times New Roman"/>
                    </a:rPr>
                    <a:t>.....</a:t>
                  </a:r>
                  <a:endParaRPr b="0" lang="en-US" sz="2400" spc="-1" strike="noStrike">
                    <a:solidFill>
                      <a:srgbClr val="1d1d27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79" name=""/>
                <p:cNvGrpSpPr/>
                <p:nvPr/>
              </p:nvGrpSpPr>
              <p:grpSpPr>
                <a:xfrm>
                  <a:off x="4882680" y="4762800"/>
                  <a:ext cx="740880" cy="740520"/>
                  <a:chOff x="4882680" y="4762800"/>
                  <a:chExt cx="740880" cy="740520"/>
                </a:xfrm>
              </p:grpSpPr>
              <p:sp>
                <p:nvSpPr>
                  <p:cNvPr id="480" name=""/>
                  <p:cNvSpPr/>
                  <p:nvPr/>
                </p:nvSpPr>
                <p:spPr>
                  <a:xfrm flipH="1" flipV="1">
                    <a:off x="4882680" y="5143320"/>
                    <a:ext cx="360000" cy="360000"/>
                  </a:xfrm>
                  <a:prstGeom prst="line">
                    <a:avLst/>
                  </a:prstGeom>
                  <a:ln w="9360">
                    <a:solidFill>
                      <a:srgbClr val="1d1d27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1d1d27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1" name=""/>
                  <p:cNvSpPr/>
                  <p:nvPr/>
                </p:nvSpPr>
                <p:spPr>
                  <a:xfrm flipH="1" flipV="1">
                    <a:off x="5263560" y="4762800"/>
                    <a:ext cx="360000" cy="360000"/>
                  </a:xfrm>
                  <a:prstGeom prst="line">
                    <a:avLst/>
                  </a:prstGeom>
                  <a:ln w="9360">
                    <a:solidFill>
                      <a:srgbClr val="1d1d27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1d1d27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2" name=""/>
                  <p:cNvSpPr/>
                  <p:nvPr/>
                </p:nvSpPr>
                <p:spPr>
                  <a:xfrm flipH="1">
                    <a:off x="5263560" y="5143320"/>
                    <a:ext cx="360000" cy="360000"/>
                  </a:xfrm>
                  <a:prstGeom prst="line">
                    <a:avLst/>
                  </a:prstGeom>
                  <a:ln w="9360">
                    <a:solidFill>
                      <a:srgbClr val="1d1d27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1d1d27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3" name=""/>
                  <p:cNvSpPr/>
                  <p:nvPr/>
                </p:nvSpPr>
                <p:spPr>
                  <a:xfrm flipH="1">
                    <a:off x="4882680" y="4781520"/>
                    <a:ext cx="360000" cy="360000"/>
                  </a:xfrm>
                  <a:prstGeom prst="line">
                    <a:avLst/>
                  </a:prstGeom>
                  <a:ln w="9360">
                    <a:solidFill>
                      <a:srgbClr val="1d1d27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1d1d27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84" name=""/>
                <p:cNvSpPr/>
                <p:nvPr/>
              </p:nvSpPr>
              <p:spPr>
                <a:xfrm>
                  <a:off x="4479840" y="5114880"/>
                  <a:ext cx="3868560" cy="676080"/>
                </a:xfrm>
                <a:custGeom>
                  <a:avLst/>
                  <a:gdLst/>
                  <a:ahLst/>
                  <a:rect l="l" t="t" r="r" b="b"/>
                  <a:pathLst>
                    <a:path w="2437" h="426">
                      <a:moveTo>
                        <a:pt x="254" y="18"/>
                      </a:moveTo>
                      <a:cubicBezTo>
                        <a:pt x="227" y="26"/>
                        <a:pt x="122" y="0"/>
                        <a:pt x="92" y="66"/>
                      </a:cubicBezTo>
                      <a:cubicBezTo>
                        <a:pt x="62" y="132"/>
                        <a:pt x="0" y="309"/>
                        <a:pt x="338" y="360"/>
                      </a:cubicBezTo>
                      <a:cubicBezTo>
                        <a:pt x="666" y="416"/>
                        <a:pt x="1806" y="426"/>
                        <a:pt x="2120" y="372"/>
                      </a:cubicBezTo>
                      <a:cubicBezTo>
                        <a:pt x="2437" y="348"/>
                        <a:pt x="2297" y="137"/>
                        <a:pt x="2282" y="78"/>
                      </a:cubicBezTo>
                      <a:cubicBezTo>
                        <a:pt x="2267" y="19"/>
                        <a:pt x="2082" y="30"/>
                        <a:pt x="2030" y="18"/>
                      </a:cubicBezTo>
                    </a:path>
                  </a:pathLst>
                </a:custGeom>
                <a:noFill/>
                <a:ln w="9360">
                  <a:solidFill>
                    <a:srgbClr val="1d1d27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1d1d27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85" name=""/>
              <p:cNvSpPr/>
              <p:nvPr/>
            </p:nvSpPr>
            <p:spPr>
              <a:xfrm>
                <a:off x="7446240" y="4648320"/>
                <a:ext cx="3301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0000"/>
                    </a:solidFill>
                    <a:latin typeface="Times New Roman"/>
                  </a:rPr>
                  <a:t>c</a:t>
                </a:r>
                <a:r>
                  <a:rPr b="0" i="1" lang="en-US" sz="16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1600" spc="-1" strike="noStrike">
                  <a:solidFill>
                    <a:srgbClr val="1d1d27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6936480" y="4648320"/>
                <a:ext cx="3301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0000"/>
                    </a:solidFill>
                    <a:latin typeface="Times New Roman"/>
                  </a:rPr>
                  <a:t>c</a:t>
                </a:r>
                <a:r>
                  <a:rPr b="0" i="1" lang="en-US" sz="16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1600" spc="-1" strike="noStrike">
                  <a:solidFill>
                    <a:srgbClr val="1d1d27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6690600" y="4648320"/>
                <a:ext cx="3301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0000"/>
                    </a:solidFill>
                    <a:latin typeface="Times New Roman"/>
                  </a:rPr>
                  <a:t>c</a:t>
                </a:r>
                <a:r>
                  <a:rPr b="0" i="1" lang="en-US" sz="16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1600" spc="-1" strike="noStrike">
                  <a:solidFill>
                    <a:srgbClr val="1d1d27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6176160" y="4648320"/>
                <a:ext cx="3301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0000"/>
                    </a:solidFill>
                    <a:latin typeface="Times New Roman"/>
                  </a:rPr>
                  <a:t>c</a:t>
                </a:r>
                <a:r>
                  <a:rPr b="0" i="1" lang="en-US" sz="16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1600" spc="-1" strike="noStrike">
                  <a:solidFill>
                    <a:srgbClr val="1d1d27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7463520" y="5181840"/>
                <a:ext cx="3301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0000"/>
                    </a:solidFill>
                    <a:latin typeface="Times New Roman"/>
                  </a:rPr>
                  <a:t>c</a:t>
                </a:r>
                <a:r>
                  <a:rPr b="0" i="1" lang="en-US" sz="1600" spc="-1" strike="noStrike" baseline="-25000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1d1d27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6954120" y="5181840"/>
                <a:ext cx="3301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0000"/>
                    </a:solidFill>
                    <a:latin typeface="Times New Roman"/>
                  </a:rPr>
                  <a:t>c</a:t>
                </a:r>
                <a:r>
                  <a:rPr b="0" i="1" lang="en-US" sz="1600" spc="-1" strike="noStrike" baseline="-25000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1d1d27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6707880" y="5181840"/>
                <a:ext cx="3301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0000"/>
                    </a:solidFill>
                    <a:latin typeface="Times New Roman"/>
                  </a:rPr>
                  <a:t>c</a:t>
                </a:r>
                <a:r>
                  <a:rPr b="0" i="1" lang="en-US" sz="1600" spc="-1" strike="noStrike" baseline="-25000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1d1d27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6193440" y="5181840"/>
                <a:ext cx="3301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0000"/>
                    </a:solidFill>
                    <a:latin typeface="Times New Roman"/>
                  </a:rPr>
                  <a:t>c</a:t>
                </a:r>
                <a:r>
                  <a:rPr b="0" i="1" lang="en-US" sz="1600" spc="-1" strike="noStrike" baseline="-25000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1d1d27"/>
                  </a:solidFill>
                  <a:latin typeface="Times New Roman"/>
                </a:endParaRPr>
              </a:p>
            </p:txBody>
          </p:sp>
        </p:grpSp>
        <p:sp>
          <p:nvSpPr>
            <p:cNvPr id="493" name=""/>
            <p:cNvSpPr/>
            <p:nvPr/>
          </p:nvSpPr>
          <p:spPr>
            <a:xfrm>
              <a:off x="403560" y="3914640"/>
              <a:ext cx="8300160" cy="11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2400" spc="-1" strike="noStrike">
                  <a:solidFill>
                    <a:srgbClr val="1d1d27"/>
                  </a:solidFill>
                  <a:latin typeface="Times New Roman"/>
                </a:rPr>
                <a:t>2. </a:t>
              </a:r>
              <a:r>
                <a:rPr b="0" lang="en-US" sz="2400" spc="-1" strike="noStrike">
                  <a:solidFill>
                    <a:srgbClr val="1d1d27"/>
                  </a:solidFill>
                  <a:latin typeface="Times New Roman"/>
                </a:rPr>
                <a:t>If there are uniform weights 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0" i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1d1d27"/>
                  </a:solidFill>
                  <a:latin typeface="Times New Roman"/>
                </a:rPr>
                <a:t> and 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0" i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1d1d27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0" i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400" spc="-1" strike="noStrike" baseline="-25000">
                  <a:solidFill>
                    <a:srgbClr val="1d1d27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1d1d27"/>
                  </a:solidFill>
                  <a:latin typeface="Symbol"/>
                  <a:ea typeface="Symbol"/>
                </a:rPr>
                <a:t>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0" i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1d1d27"/>
                  </a:solidFill>
                  <a:latin typeface="Times New Roman"/>
                </a:rPr>
                <a:t> on top and bottom </a:t>
              </a:r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1d1d27"/>
                  </a:solidFill>
                  <a:latin typeface="Times New Roman"/>
                </a:rPr>
                <a:t>    </a:t>
              </a:r>
              <a:r>
                <a:rPr b="0" lang="en-US" sz="2400" spc="-1" strike="noStrike">
                  <a:solidFill>
                    <a:srgbClr val="1d1d27"/>
                  </a:solidFill>
                  <a:latin typeface="Times New Roman"/>
                </a:rPr>
                <a:t>paths </a:t>
              </a:r>
              <a:r>
                <a:rPr b="0" lang="en-US" sz="2400" spc="-1" strike="noStrike">
                  <a:solidFill>
                    <a:srgbClr val="1d1d27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1d1d27"/>
                  </a:solidFill>
                  <a:latin typeface="Times New Roman"/>
                </a:rPr>
                <a:t> O(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r>
                <a:rPr b="0" i="1" lang="en-US" sz="2400" spc="-1" strike="noStrike" baseline="30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1d1d27"/>
                  </a:solidFill>
                  <a:latin typeface="Times New Roman"/>
                </a:rPr>
                <a:t>) constraints</a:t>
              </a:r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3C91-2374-4998-B996-40E56A2A953D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Extension to integer variables (1/2)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822240" y="1717560"/>
            <a:ext cx="33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6" name=""/>
              <p:cNvSpPr txBox="1"/>
              <p:nvPr/>
            </p:nvSpPr>
            <p:spPr>
              <a:xfrm>
                <a:off x="533520" y="1828800"/>
                <a:ext cx="237636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int;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⊳</m:t>
                    </m:r>
                    <m:r>
                      <m:t xml:space="preserve">y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7" name=""/>
          <p:cNvSpPr/>
          <p:nvPr/>
        </p:nvSpPr>
        <p:spPr>
          <a:xfrm>
            <a:off x="533160" y="2279520"/>
            <a:ext cx="675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Given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with integer separation predicates, derive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49720" y="2936880"/>
            <a:ext cx="7046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d1d2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1d1d27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Declare all variables as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al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buClr>
                <a:srgbClr val="1d1d2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Replace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y + c, x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y + c 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is not an integer, 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with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y +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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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buClr>
                <a:srgbClr val="1d1d2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For each predicate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y + c,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add a constraint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&gt;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y  + c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+ 1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1297440" y="5029200"/>
            <a:ext cx="553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Theorem: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is satisfiable iff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R 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is satisfiable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2602-9344-425F-8978-B9527A1C46A8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Extension to integer variables (1/2)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822240" y="1717560"/>
            <a:ext cx="33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2" name=""/>
              <p:cNvSpPr txBox="1"/>
              <p:nvPr/>
            </p:nvSpPr>
            <p:spPr>
              <a:xfrm>
                <a:off x="533520" y="1828800"/>
                <a:ext cx="237636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int;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⊳</m:t>
                    </m:r>
                    <m:r>
                      <m:t xml:space="preserve">y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3" name=""/>
          <p:cNvSpPr/>
          <p:nvPr/>
        </p:nvSpPr>
        <p:spPr>
          <a:xfrm>
            <a:off x="609480" y="2895480"/>
            <a:ext cx="675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Given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with integer separation predicates, derive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64200" y="3546360"/>
            <a:ext cx="38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d1d2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1d1d27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Declare all variables as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al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348200" y="5334120"/>
            <a:ext cx="553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Theorem: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is satisfiable iff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R 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is satisfiable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1000" y="2209680"/>
            <a:ext cx="209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1d1d27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is an integer)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78960" y="4191120"/>
            <a:ext cx="587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d1d2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1d1d27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For each predicate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y + c,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add a constraint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&gt;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y  + c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+ 1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9740-790B-4217-995C-3A9114EADE66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Extension to integer variables (2/2)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822240" y="1717560"/>
            <a:ext cx="33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5040" y="2438280"/>
            <a:ext cx="3496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0000"/>
                </a:solidFill>
                <a:latin typeface="Symbol"/>
                <a:ea typeface="Symbol"/>
              </a:rPr>
              <a:t></a:t>
            </a:r>
            <a:r>
              <a:rPr b="0" lang="he-IL" sz="2400" spc="-1" strike="noStrike">
                <a:solidFill>
                  <a:srgbClr val="ff0000"/>
                </a:solidFill>
                <a:latin typeface="Times New Roman"/>
              </a:rPr>
              <a:t>:  </a:t>
            </a:r>
            <a:r>
              <a:rPr b="0" lang="he-IL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: int;  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&gt;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+ 1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&lt;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+ 2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68880" y="164160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37200" y="3629160"/>
            <a:ext cx="409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0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: real;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&gt;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+ 1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&gt;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- 2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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&gt;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+ 1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+ 2)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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&gt;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- 2 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– 1)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C6C0-CC05-490F-A5EC-E591C57FB783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Experimental results (1/3)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822240" y="1717560"/>
            <a:ext cx="33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 flipH="1" flipV="1">
            <a:off x="6324120" y="2437920"/>
            <a:ext cx="360360" cy="360360"/>
          </a:xfrm>
          <a:prstGeom prst="line">
            <a:avLst/>
          </a:prstGeom>
          <a:ln w="9360">
            <a:solidFill>
              <a:srgbClr val="1d1d2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 flipH="1" flipV="1">
            <a:off x="6705360" y="2057040"/>
            <a:ext cx="360360" cy="360360"/>
          </a:xfrm>
          <a:prstGeom prst="line">
            <a:avLst/>
          </a:prstGeom>
          <a:ln w="9360">
            <a:solidFill>
              <a:srgbClr val="1d1d2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 flipH="1">
            <a:off x="6705360" y="2437560"/>
            <a:ext cx="360360" cy="360360"/>
          </a:xfrm>
          <a:prstGeom prst="line">
            <a:avLst/>
          </a:prstGeom>
          <a:ln w="9360">
            <a:solidFill>
              <a:srgbClr val="1d1d2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 flipH="1">
            <a:off x="6324120" y="2075760"/>
            <a:ext cx="360360" cy="360360"/>
          </a:xfrm>
          <a:prstGeom prst="line">
            <a:avLst/>
          </a:prstGeom>
          <a:ln w="9360">
            <a:solidFill>
              <a:srgbClr val="1d1d2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grpSp>
        <p:nvGrpSpPr>
          <p:cNvPr id="519" name=""/>
          <p:cNvGrpSpPr/>
          <p:nvPr/>
        </p:nvGrpSpPr>
        <p:grpSpPr>
          <a:xfrm>
            <a:off x="5562720" y="2057040"/>
            <a:ext cx="740880" cy="741240"/>
            <a:chOff x="5562720" y="2057040"/>
            <a:chExt cx="740880" cy="741240"/>
          </a:xfrm>
        </p:grpSpPr>
        <p:sp>
          <p:nvSpPr>
            <p:cNvPr id="520" name=""/>
            <p:cNvSpPr/>
            <p:nvPr/>
          </p:nvSpPr>
          <p:spPr>
            <a:xfrm flipH="1" flipV="1">
              <a:off x="5562720" y="2437920"/>
              <a:ext cx="360000" cy="360360"/>
            </a:xfrm>
            <a:prstGeom prst="line">
              <a:avLst/>
            </a:prstGeom>
            <a:ln w="9360">
              <a:solidFill>
                <a:srgbClr val="1d1d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flipH="1" flipV="1">
              <a:off x="5943600" y="2057040"/>
              <a:ext cx="360000" cy="360360"/>
            </a:xfrm>
            <a:prstGeom prst="line">
              <a:avLst/>
            </a:prstGeom>
            <a:ln w="9360">
              <a:solidFill>
                <a:srgbClr val="1d1d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flipH="1">
              <a:off x="5943600" y="2437560"/>
              <a:ext cx="360000" cy="360360"/>
            </a:xfrm>
            <a:prstGeom prst="line">
              <a:avLst/>
            </a:prstGeom>
            <a:ln w="9360">
              <a:solidFill>
                <a:srgbClr val="1d1d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 flipH="1">
              <a:off x="5562720" y="2075760"/>
              <a:ext cx="360000" cy="360360"/>
            </a:xfrm>
            <a:prstGeom prst="line">
              <a:avLst/>
            </a:prstGeom>
            <a:ln w="9360">
              <a:solidFill>
                <a:srgbClr val="1d1d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</p:grpSp>
      <p:sp>
        <p:nvSpPr>
          <p:cNvPr id="524" name=""/>
          <p:cNvSpPr/>
          <p:nvPr/>
        </p:nvSpPr>
        <p:spPr>
          <a:xfrm>
            <a:off x="5075280" y="213372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1d1d27"/>
                </a:solidFill>
                <a:latin typeface="Times New Roman"/>
              </a:rPr>
              <a:t>.....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grpSp>
        <p:nvGrpSpPr>
          <p:cNvPr id="525" name=""/>
          <p:cNvGrpSpPr/>
          <p:nvPr/>
        </p:nvGrpSpPr>
        <p:grpSpPr>
          <a:xfrm>
            <a:off x="4266720" y="2057040"/>
            <a:ext cx="741600" cy="741240"/>
            <a:chOff x="4266720" y="2057040"/>
            <a:chExt cx="741600" cy="741240"/>
          </a:xfrm>
        </p:grpSpPr>
        <p:sp>
          <p:nvSpPr>
            <p:cNvPr id="526" name=""/>
            <p:cNvSpPr/>
            <p:nvPr/>
          </p:nvSpPr>
          <p:spPr>
            <a:xfrm flipH="1" flipV="1">
              <a:off x="4266720" y="2437920"/>
              <a:ext cx="360360" cy="360360"/>
            </a:xfrm>
            <a:prstGeom prst="line">
              <a:avLst/>
            </a:prstGeom>
            <a:ln w="9360">
              <a:solidFill>
                <a:srgbClr val="1d1d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 flipH="1" flipV="1">
              <a:off x="4647960" y="2057040"/>
              <a:ext cx="360360" cy="360360"/>
            </a:xfrm>
            <a:prstGeom prst="line">
              <a:avLst/>
            </a:prstGeom>
            <a:ln w="9360">
              <a:solidFill>
                <a:srgbClr val="1d1d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 flipH="1">
              <a:off x="4647960" y="2437560"/>
              <a:ext cx="360360" cy="360360"/>
            </a:xfrm>
            <a:prstGeom prst="line">
              <a:avLst/>
            </a:prstGeom>
            <a:ln w="9360">
              <a:solidFill>
                <a:srgbClr val="1d1d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 flipH="1">
              <a:off x="4266720" y="2075760"/>
              <a:ext cx="360360" cy="360360"/>
            </a:xfrm>
            <a:prstGeom prst="line">
              <a:avLst/>
            </a:prstGeom>
            <a:ln w="9360">
              <a:solidFill>
                <a:srgbClr val="1d1d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</p:grpSp>
      <p:sp>
        <p:nvSpPr>
          <p:cNvPr id="530" name=""/>
          <p:cNvSpPr/>
          <p:nvPr/>
        </p:nvSpPr>
        <p:spPr>
          <a:xfrm>
            <a:off x="3863880" y="2409840"/>
            <a:ext cx="3868920" cy="676440"/>
          </a:xfrm>
          <a:custGeom>
            <a:avLst/>
            <a:gdLst/>
            <a:ahLst/>
            <a:rect l="l" t="t" r="r" b="b"/>
            <a:pathLst>
              <a:path w="2437" h="426">
                <a:moveTo>
                  <a:pt x="254" y="18"/>
                </a:moveTo>
                <a:cubicBezTo>
                  <a:pt x="227" y="26"/>
                  <a:pt x="122" y="0"/>
                  <a:pt x="92" y="66"/>
                </a:cubicBezTo>
                <a:cubicBezTo>
                  <a:pt x="62" y="132"/>
                  <a:pt x="0" y="309"/>
                  <a:pt x="338" y="360"/>
                </a:cubicBezTo>
                <a:cubicBezTo>
                  <a:pt x="666" y="416"/>
                  <a:pt x="1806" y="426"/>
                  <a:pt x="2120" y="372"/>
                </a:cubicBezTo>
                <a:cubicBezTo>
                  <a:pt x="2437" y="348"/>
                  <a:pt x="2297" y="137"/>
                  <a:pt x="2282" y="78"/>
                </a:cubicBezTo>
                <a:cubicBezTo>
                  <a:pt x="2267" y="19"/>
                  <a:pt x="2082" y="30"/>
                  <a:pt x="2030" y="18"/>
                </a:cubicBezTo>
              </a:path>
            </a:pathLst>
          </a:custGeom>
          <a:noFill/>
          <a:ln w="9360">
            <a:solidFill>
              <a:srgbClr val="1d1d27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25600" y="2778120"/>
            <a:ext cx="7337160" cy="31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diamonds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Each diamond has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edges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Top and bottom paths in each diamond are disjuncted.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There ar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400" spc="-1" strike="noStrike" baseline="30000">
                <a:solidFill>
                  <a:srgbClr val="1d1d27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conjuncted cycles.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By adjusting the weights, we ensured that there is a sing</a:t>
            </a:r>
            <a:r>
              <a:rPr b="0" lang="he-IL" sz="2400" spc="-1" strike="noStrike">
                <a:solidFill>
                  <a:srgbClr val="1d1d27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e 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satisfying assignment.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 rot="16200000">
            <a:off x="6629400" y="1752120"/>
            <a:ext cx="228600" cy="381240"/>
          </a:xfrm>
          <a:custGeom>
            <a:avLst/>
            <a:gdLst>
              <a:gd name="textAreaLeft" fmla="*/ 0 w 228600"/>
              <a:gd name="textAreaRight" fmla="*/ 82440 w 22860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909"/>
                </a:lnTo>
                <a:cubicBezTo>
                  <a:pt x="10800" y="9809"/>
                  <a:pt x="16200" y="10709"/>
                  <a:pt x="21600" y="10709"/>
                </a:cubicBezTo>
                <a:cubicBezTo>
                  <a:pt x="16200" y="10709"/>
                  <a:pt x="10800" y="11609"/>
                  <a:pt x="10800" y="12509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554160" y="1568520"/>
            <a:ext cx="49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=2</a:t>
            </a:r>
            <a:endParaRPr b="0" lang="en-US" sz="16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942840" y="4572000"/>
            <a:ext cx="381240" cy="152280"/>
          </a:xfrm>
          <a:prstGeom prst="rightArrow">
            <a:avLst>
              <a:gd name="adj1" fmla="val 50000"/>
              <a:gd name="adj2" fmla="val 62589"/>
            </a:avLst>
          </a:prstGeom>
          <a:solidFill>
            <a:srgbClr val="0717e9"/>
          </a:solidFill>
          <a:ln w="9360">
            <a:solidFill>
              <a:srgbClr val="1d1d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20E2-872A-4B71-8861-85FC4245F496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Experimental results (2/3)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822240" y="1717560"/>
            <a:ext cx="33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graphicFrame>
        <p:nvGraphicFramePr>
          <p:cNvPr id="537" name=""/>
          <p:cNvGraphicFramePr/>
          <p:nvPr/>
        </p:nvGraphicFramePr>
        <p:xfrm>
          <a:off x="2209680" y="2352600"/>
          <a:ext cx="4714920" cy="2143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2352600"/>
                    <a:ext cx="4714920" cy="21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9" name=""/>
          <p:cNvSpPr/>
          <p:nvPr/>
        </p:nvSpPr>
        <p:spPr>
          <a:xfrm>
            <a:off x="6174720" y="4724280"/>
            <a:ext cx="164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1d1d27"/>
                </a:solidFill>
                <a:latin typeface="Times New Roman"/>
              </a:rPr>
              <a:t>To be continued...</a:t>
            </a:r>
            <a:endParaRPr b="0" lang="en-US" sz="16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DEFC-A1FA-4673-AC66-371588F10105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Experimental results (3/3)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822240" y="1717560"/>
            <a:ext cx="33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graphicFrame>
        <p:nvGraphicFramePr>
          <p:cNvPr id="542" name=""/>
          <p:cNvGraphicFramePr/>
          <p:nvPr/>
        </p:nvGraphicFramePr>
        <p:xfrm>
          <a:off x="2664000" y="2062080"/>
          <a:ext cx="6022800" cy="2327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4000" y="2062080"/>
                    <a:ext cx="6022800" cy="232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4" name=""/>
          <p:cNvSpPr/>
          <p:nvPr/>
        </p:nvSpPr>
        <p:spPr>
          <a:xfrm>
            <a:off x="6158160" y="4557600"/>
            <a:ext cx="164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1d1d27"/>
                </a:solidFill>
                <a:latin typeface="Times New Roman"/>
              </a:rPr>
              <a:t>To be continued...</a:t>
            </a:r>
            <a:endParaRPr b="0" lang="en-US" sz="16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93840" y="5273640"/>
            <a:ext cx="830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The procedure has recently been integrated into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SyMP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and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Euclid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We currently experiment with real software verification problems.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DA44-18DE-4220-A352-A1C3791DD42C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Experimental results (1/2)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822240" y="1717560"/>
            <a:ext cx="33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flipH="1" flipV="1">
            <a:off x="6324120" y="2437920"/>
            <a:ext cx="360360" cy="360360"/>
          </a:xfrm>
          <a:prstGeom prst="line">
            <a:avLst/>
          </a:prstGeom>
          <a:ln w="9360">
            <a:solidFill>
              <a:srgbClr val="1d1d2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H="1" flipV="1">
            <a:off x="6705360" y="2057040"/>
            <a:ext cx="360360" cy="360360"/>
          </a:xfrm>
          <a:prstGeom prst="line">
            <a:avLst/>
          </a:prstGeom>
          <a:ln w="9360">
            <a:solidFill>
              <a:srgbClr val="1d1d2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 flipH="1">
            <a:off x="6705360" y="2437560"/>
            <a:ext cx="360360" cy="360360"/>
          </a:xfrm>
          <a:prstGeom prst="line">
            <a:avLst/>
          </a:prstGeom>
          <a:ln w="9360">
            <a:solidFill>
              <a:srgbClr val="1d1d2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 flipH="1">
            <a:off x="6324120" y="2075760"/>
            <a:ext cx="360360" cy="360360"/>
          </a:xfrm>
          <a:prstGeom prst="line">
            <a:avLst/>
          </a:prstGeom>
          <a:ln w="9360">
            <a:solidFill>
              <a:srgbClr val="1d1d2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grpSp>
        <p:nvGrpSpPr>
          <p:cNvPr id="552" name=""/>
          <p:cNvGrpSpPr/>
          <p:nvPr/>
        </p:nvGrpSpPr>
        <p:grpSpPr>
          <a:xfrm>
            <a:off x="5562720" y="2057040"/>
            <a:ext cx="740880" cy="741240"/>
            <a:chOff x="5562720" y="2057040"/>
            <a:chExt cx="740880" cy="741240"/>
          </a:xfrm>
        </p:grpSpPr>
        <p:sp>
          <p:nvSpPr>
            <p:cNvPr id="553" name=""/>
            <p:cNvSpPr/>
            <p:nvPr/>
          </p:nvSpPr>
          <p:spPr>
            <a:xfrm flipH="1" flipV="1">
              <a:off x="5562720" y="2437920"/>
              <a:ext cx="360000" cy="360360"/>
            </a:xfrm>
            <a:prstGeom prst="line">
              <a:avLst/>
            </a:prstGeom>
            <a:ln w="9360">
              <a:solidFill>
                <a:srgbClr val="1d1d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 flipH="1" flipV="1">
              <a:off x="5943600" y="2057040"/>
              <a:ext cx="360000" cy="360360"/>
            </a:xfrm>
            <a:prstGeom prst="line">
              <a:avLst/>
            </a:prstGeom>
            <a:ln w="9360">
              <a:solidFill>
                <a:srgbClr val="1d1d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 flipH="1">
              <a:off x="5943600" y="2437560"/>
              <a:ext cx="360000" cy="360360"/>
            </a:xfrm>
            <a:prstGeom prst="line">
              <a:avLst/>
            </a:prstGeom>
            <a:ln w="9360">
              <a:solidFill>
                <a:srgbClr val="1d1d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 flipH="1">
              <a:off x="5562720" y="2075760"/>
              <a:ext cx="360000" cy="360360"/>
            </a:xfrm>
            <a:prstGeom prst="line">
              <a:avLst/>
            </a:prstGeom>
            <a:ln w="9360">
              <a:solidFill>
                <a:srgbClr val="1d1d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</p:grpSp>
      <p:sp>
        <p:nvSpPr>
          <p:cNvPr id="557" name=""/>
          <p:cNvSpPr/>
          <p:nvPr/>
        </p:nvSpPr>
        <p:spPr>
          <a:xfrm>
            <a:off x="5075280" y="213372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1d1d27"/>
                </a:solidFill>
                <a:latin typeface="Times New Roman"/>
              </a:rPr>
              <a:t>.....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grpSp>
        <p:nvGrpSpPr>
          <p:cNvPr id="558" name=""/>
          <p:cNvGrpSpPr/>
          <p:nvPr/>
        </p:nvGrpSpPr>
        <p:grpSpPr>
          <a:xfrm>
            <a:off x="4266720" y="2057040"/>
            <a:ext cx="741600" cy="741240"/>
            <a:chOff x="4266720" y="2057040"/>
            <a:chExt cx="741600" cy="741240"/>
          </a:xfrm>
        </p:grpSpPr>
        <p:sp>
          <p:nvSpPr>
            <p:cNvPr id="559" name=""/>
            <p:cNvSpPr/>
            <p:nvPr/>
          </p:nvSpPr>
          <p:spPr>
            <a:xfrm flipH="1" flipV="1">
              <a:off x="4266720" y="2437920"/>
              <a:ext cx="360360" cy="360360"/>
            </a:xfrm>
            <a:prstGeom prst="line">
              <a:avLst/>
            </a:prstGeom>
            <a:ln w="9360">
              <a:solidFill>
                <a:srgbClr val="1d1d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 flipV="1">
              <a:off x="4647960" y="2057040"/>
              <a:ext cx="360360" cy="360360"/>
            </a:xfrm>
            <a:prstGeom prst="line">
              <a:avLst/>
            </a:prstGeom>
            <a:ln w="9360">
              <a:solidFill>
                <a:srgbClr val="1d1d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 flipH="1">
              <a:off x="4647960" y="2437560"/>
              <a:ext cx="360360" cy="360360"/>
            </a:xfrm>
            <a:prstGeom prst="line">
              <a:avLst/>
            </a:prstGeom>
            <a:ln w="9360">
              <a:solidFill>
                <a:srgbClr val="1d1d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 flipH="1">
              <a:off x="4266720" y="2075760"/>
              <a:ext cx="360360" cy="360360"/>
            </a:xfrm>
            <a:prstGeom prst="line">
              <a:avLst/>
            </a:prstGeom>
            <a:ln w="9360">
              <a:solidFill>
                <a:srgbClr val="1d1d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</p:grpSp>
      <p:sp>
        <p:nvSpPr>
          <p:cNvPr id="563" name=""/>
          <p:cNvSpPr/>
          <p:nvPr/>
        </p:nvSpPr>
        <p:spPr>
          <a:xfrm>
            <a:off x="3863880" y="2409840"/>
            <a:ext cx="3868920" cy="676440"/>
          </a:xfrm>
          <a:custGeom>
            <a:avLst/>
            <a:gdLst/>
            <a:ahLst/>
            <a:rect l="l" t="t" r="r" b="b"/>
            <a:pathLst>
              <a:path w="2437" h="426">
                <a:moveTo>
                  <a:pt x="254" y="18"/>
                </a:moveTo>
                <a:cubicBezTo>
                  <a:pt x="227" y="26"/>
                  <a:pt x="122" y="0"/>
                  <a:pt x="92" y="66"/>
                </a:cubicBezTo>
                <a:cubicBezTo>
                  <a:pt x="62" y="132"/>
                  <a:pt x="0" y="309"/>
                  <a:pt x="338" y="360"/>
                </a:cubicBezTo>
                <a:cubicBezTo>
                  <a:pt x="666" y="416"/>
                  <a:pt x="1806" y="426"/>
                  <a:pt x="2120" y="372"/>
                </a:cubicBezTo>
                <a:cubicBezTo>
                  <a:pt x="2437" y="348"/>
                  <a:pt x="2297" y="137"/>
                  <a:pt x="2282" y="78"/>
                </a:cubicBezTo>
                <a:cubicBezTo>
                  <a:pt x="2267" y="19"/>
                  <a:pt x="2082" y="30"/>
                  <a:pt x="2030" y="18"/>
                </a:cubicBezTo>
              </a:path>
            </a:pathLst>
          </a:custGeom>
          <a:noFill/>
          <a:ln w="9360">
            <a:solidFill>
              <a:srgbClr val="1d1d27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525600" y="2778120"/>
            <a:ext cx="7337160" cy="31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diamonds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Each diamond has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edges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Top and bottom paths in each diamond are disjuncted.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There ar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400" spc="-1" strike="noStrike" baseline="30000">
                <a:solidFill>
                  <a:srgbClr val="1d1d27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conjuncted cycles.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By adjusting the weights, we ensured that there is a sing</a:t>
            </a:r>
            <a:r>
              <a:rPr b="0" lang="he-IL" sz="2400" spc="-1" strike="noStrike">
                <a:solidFill>
                  <a:srgbClr val="1d1d27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e 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satisfying assignment.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 rot="16200000">
            <a:off x="6629400" y="1752120"/>
            <a:ext cx="228600" cy="381240"/>
          </a:xfrm>
          <a:custGeom>
            <a:avLst/>
            <a:gdLst>
              <a:gd name="textAreaLeft" fmla="*/ 0 w 228600"/>
              <a:gd name="textAreaRight" fmla="*/ 82440 w 22860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909"/>
                </a:lnTo>
                <a:cubicBezTo>
                  <a:pt x="10800" y="9809"/>
                  <a:pt x="16200" y="10709"/>
                  <a:pt x="21600" y="10709"/>
                </a:cubicBezTo>
                <a:cubicBezTo>
                  <a:pt x="16200" y="10709"/>
                  <a:pt x="10800" y="11609"/>
                  <a:pt x="10800" y="12509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6554160" y="1568520"/>
            <a:ext cx="49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=2</a:t>
            </a:r>
            <a:endParaRPr b="0" lang="en-US" sz="16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942840" y="4572000"/>
            <a:ext cx="381240" cy="152280"/>
          </a:xfrm>
          <a:prstGeom prst="rightArrow">
            <a:avLst>
              <a:gd name="adj1" fmla="val 50000"/>
              <a:gd name="adj2" fmla="val 62589"/>
            </a:avLst>
          </a:prstGeom>
          <a:solidFill>
            <a:srgbClr val="0717e9"/>
          </a:solidFill>
          <a:ln w="9360">
            <a:solidFill>
              <a:srgbClr val="1d1d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23E0-8FBD-4DE9-A67B-DD97906C0E7A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Linear Arithmetic and its sub-theories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2268360" y="1979640"/>
                <a:ext cx="367524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⊳</m:t>
                        </m:r>
                        <m:r>
                          <m:t xml:space="preserve">c</m:t>
                        </m:r>
                      </m:e>
                    </m:nary>
                    <m:r>
                      <m:t xml:space="preserve"> </m:t>
                    </m:r>
                    <m:r>
                      <m:t xml:space="preserve">⊳</m:t>
                    </m:r>
                    <m:r>
                      <m:t xml:space="preserve"> </m:t>
                    </m:r>
                    <m:r>
                      <m:t xml:space="preserve">∈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8" name=""/>
          <p:cNvSpPr/>
          <p:nvPr/>
        </p:nvSpPr>
        <p:spPr>
          <a:xfrm>
            <a:off x="1829160" y="2666880"/>
            <a:ext cx="198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–3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+5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&lt; 0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+ 2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2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3581280"/>
            <a:ext cx="79405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Some useful methods for solving a </a:t>
            </a:r>
            <a:r>
              <a:rPr b="0" i="1" lang="en-US" sz="2400" spc="-1" strike="noStrike">
                <a:solidFill>
                  <a:srgbClr val="1d1d27"/>
                </a:solidFill>
                <a:latin typeface="Times New Roman"/>
              </a:rPr>
              <a:t>conjunction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of linear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arithmetic expressions: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 marL="457200" indent="-457200">
              <a:buClr>
                <a:srgbClr val="1d1d27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Simplex, Elliptic curve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 marL="457200" indent="-457200">
              <a:buClr>
                <a:srgbClr val="1d1d27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Variable Elimination Methods (Hodes, Fourier-Motzkin,..)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 marL="457200" indent="-457200">
              <a:buClr>
                <a:srgbClr val="0717e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17e9"/>
                </a:solidFill>
                <a:latin typeface="Times New Roman"/>
              </a:rPr>
              <a:t>Shostak’s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717e9"/>
                </a:solidFill>
                <a:latin typeface="Times New Roman"/>
              </a:rPr>
              <a:t>loop residues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 marL="457200" indent="-457200"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Separation theory: Bellman / Pratt ...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 marL="457200" indent="-457200">
              <a:buClr>
                <a:srgbClr val="1d1d27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2023200" y="2057400"/>
            <a:ext cx="248400" cy="266760"/>
            <a:chOff x="2023200" y="2057400"/>
            <a:chExt cx="248400" cy="266760"/>
          </a:xfrm>
        </p:grpSpPr>
        <p:sp>
          <p:nvSpPr>
            <p:cNvPr id="101" name=""/>
            <p:cNvSpPr/>
            <p:nvPr/>
          </p:nvSpPr>
          <p:spPr>
            <a:xfrm>
              <a:off x="2133720" y="2057400"/>
              <a:ext cx="137880" cy="266760"/>
            </a:xfrm>
            <a:custGeom>
              <a:avLst/>
              <a:gdLst/>
              <a:ahLst/>
              <a:rect l="l" t="t" r="r" b="b"/>
              <a:pathLst>
                <a:path w="87" h="168">
                  <a:moveTo>
                    <a:pt x="87" y="168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2023200" y="2064600"/>
              <a:ext cx="121680" cy="246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FA03-63EE-4A19-963B-89493A0C45E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Next: Linear Arithmetic (1/2)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822240" y="1717560"/>
            <a:ext cx="33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914040" y="2571840"/>
            <a:ext cx="123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&gt;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200400" y="2895480"/>
            <a:ext cx="990720" cy="0"/>
          </a:xfrm>
          <a:prstGeom prst="line">
            <a:avLst/>
          </a:prstGeom>
          <a:ln w="9360">
            <a:solidFill>
              <a:srgbClr val="1d1d2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032280" y="2479680"/>
            <a:ext cx="33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2993040" y="26100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4202640" y="26002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3576960" y="25146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grpSp>
        <p:nvGrpSpPr>
          <p:cNvPr id="576" name=""/>
          <p:cNvGrpSpPr/>
          <p:nvPr/>
        </p:nvGrpSpPr>
        <p:grpSpPr>
          <a:xfrm>
            <a:off x="653400" y="4454640"/>
            <a:ext cx="1224360" cy="1223280"/>
            <a:chOff x="653400" y="4454640"/>
            <a:chExt cx="1224360" cy="1223280"/>
          </a:xfrm>
        </p:grpSpPr>
        <p:sp>
          <p:nvSpPr>
            <p:cNvPr id="577" name=""/>
            <p:cNvSpPr/>
            <p:nvPr/>
          </p:nvSpPr>
          <p:spPr>
            <a:xfrm>
              <a:off x="963360" y="4454640"/>
              <a:ext cx="0" cy="838080"/>
            </a:xfrm>
            <a:prstGeom prst="line">
              <a:avLst/>
            </a:prstGeom>
            <a:ln w="9360">
              <a:solidFill>
                <a:srgbClr val="1d1d27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963360" y="5292720"/>
              <a:ext cx="914400" cy="0"/>
            </a:xfrm>
            <a:prstGeom prst="line">
              <a:avLst/>
            </a:prstGeom>
            <a:ln w="9360">
              <a:solidFill>
                <a:srgbClr val="1d1d27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963360" y="4454640"/>
              <a:ext cx="914400" cy="838080"/>
            </a:xfrm>
            <a:prstGeom prst="line">
              <a:avLst/>
            </a:prstGeom>
            <a:ln w="9360">
              <a:solidFill>
                <a:srgbClr val="1d1d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1418760" y="4568760"/>
              <a:ext cx="3499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0" lang="en-US" sz="1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53400" y="4724280"/>
              <a:ext cx="3499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0" lang="en-US" sz="1800" spc="-1" strike="noStrike" baseline="-25000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262880" y="5272200"/>
              <a:ext cx="3499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0" lang="en-US" sz="18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</p:grpSp>
      <p:sp>
        <p:nvSpPr>
          <p:cNvPr id="583" name=""/>
          <p:cNvSpPr/>
          <p:nvPr/>
        </p:nvSpPr>
        <p:spPr>
          <a:xfrm>
            <a:off x="904320" y="3581280"/>
            <a:ext cx="74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Adding constraints according to accumulated cycle weight: 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377440" y="4343400"/>
            <a:ext cx="6346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The test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+ c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+ c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&gt;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results in a yes/no answer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970920" y="1793880"/>
            <a:ext cx="288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1d1d27"/>
                </a:solidFill>
                <a:uFillTx/>
                <a:latin typeface="Times New Roman"/>
              </a:rPr>
              <a:t>Separation predicates: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7B4E-B502-4DE5-BD0F-B9F9E8A02582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Next: Linear Arithmetic (2/2)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822240" y="1717560"/>
            <a:ext cx="33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989280" y="2133720"/>
            <a:ext cx="18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&gt;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489480" y="2438280"/>
            <a:ext cx="1387440" cy="0"/>
          </a:xfrm>
          <a:prstGeom prst="line">
            <a:avLst/>
          </a:prstGeom>
          <a:ln w="9360">
            <a:solidFill>
              <a:srgbClr val="1d1d2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281760" y="21528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4948560" y="21430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733920" y="2057400"/>
            <a:ext cx="92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z + c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grpSp>
        <p:nvGrpSpPr>
          <p:cNvPr id="593" name=""/>
          <p:cNvGrpSpPr/>
          <p:nvPr/>
        </p:nvGrpSpPr>
        <p:grpSpPr>
          <a:xfrm>
            <a:off x="76320" y="2560680"/>
            <a:ext cx="1612800" cy="1593000"/>
            <a:chOff x="76320" y="2560680"/>
            <a:chExt cx="1612800" cy="1593000"/>
          </a:xfrm>
        </p:grpSpPr>
        <p:sp>
          <p:nvSpPr>
            <p:cNvPr id="594" name=""/>
            <p:cNvSpPr/>
            <p:nvPr/>
          </p:nvSpPr>
          <p:spPr>
            <a:xfrm>
              <a:off x="506160" y="2935440"/>
              <a:ext cx="0" cy="838080"/>
            </a:xfrm>
            <a:prstGeom prst="line">
              <a:avLst/>
            </a:prstGeom>
            <a:ln w="9360">
              <a:solidFill>
                <a:srgbClr val="1d1d27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06160" y="3773520"/>
              <a:ext cx="914040" cy="0"/>
            </a:xfrm>
            <a:prstGeom prst="line">
              <a:avLst/>
            </a:prstGeom>
            <a:ln w="9360">
              <a:solidFill>
                <a:srgbClr val="1d1d27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506160" y="2935440"/>
              <a:ext cx="914040" cy="838080"/>
            </a:xfrm>
            <a:prstGeom prst="line">
              <a:avLst/>
            </a:prstGeom>
            <a:ln w="9360">
              <a:solidFill>
                <a:srgbClr val="1d1d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 rot="2700000">
              <a:off x="601560" y="3010680"/>
              <a:ext cx="75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he-IL" sz="18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i="1" lang="en-US" sz="1800" spc="-1" strike="noStrike">
                  <a:solidFill>
                    <a:srgbClr val="ff0000"/>
                  </a:solidFill>
                  <a:latin typeface="Times New Roman"/>
                </a:rPr>
                <a:t>z + c</a:t>
              </a:r>
              <a:endParaRPr b="0" lang="en-US" sz="18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6320" y="3200400"/>
              <a:ext cx="533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he-IL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</a:t>
              </a:r>
              <a:r>
                <a:rPr b="0" i="1" lang="he-IL" sz="18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0" lang="he-IL" sz="1800" spc="-1" strike="noStrike" baseline="-25000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767880" y="3747960"/>
              <a:ext cx="4428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he-IL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</a:t>
              </a:r>
              <a:r>
                <a:rPr b="0" i="1" lang="he-IL" sz="18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0" lang="he-IL" sz="18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05640" y="25606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372680" y="358632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</p:grpSp>
      <p:sp>
        <p:nvSpPr>
          <p:cNvPr id="602" name=""/>
          <p:cNvSpPr/>
          <p:nvPr/>
        </p:nvSpPr>
        <p:spPr>
          <a:xfrm>
            <a:off x="2022840" y="3281400"/>
            <a:ext cx="6419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The test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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0" i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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0" i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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&gt;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results in a new predicate!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178200" y="4724280"/>
            <a:ext cx="889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Shostak[81]: ‘</a:t>
            </a:r>
            <a:r>
              <a:rPr b="0" i="1" lang="en-US" sz="2400" spc="-1" strike="noStrike">
                <a:solidFill>
                  <a:srgbClr val="1d1d27"/>
                </a:solidFill>
                <a:latin typeface="Times New Roman"/>
              </a:rPr>
              <a:t>Deciding linear inequalities by computing loop residues’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- Determine a fixed variable order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- Represent each predicate by its two ‘highest’ variables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This procedure guarantees termination.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757800" y="1676520"/>
            <a:ext cx="246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1d1d27"/>
                </a:solidFill>
                <a:uFillTx/>
                <a:latin typeface="Times New Roman"/>
              </a:rPr>
              <a:t>Linear Arithmetic: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E6C6-C353-40A2-B972-83EADFC542CF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A decision procedure for separation theory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30160" y="1981080"/>
            <a:ext cx="590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d1d27"/>
                </a:solidFill>
                <a:latin typeface="Times New Roman"/>
              </a:rPr>
              <a:t>Separation predicates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have the form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&gt;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are real variables, and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is a constant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22240" y="3013200"/>
            <a:ext cx="7864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090d"/>
                </a:solidFill>
                <a:latin typeface="Times New Roman"/>
              </a:rPr>
              <a:t>Pratt [73] (/Bellman[57]): 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 marL="282600" indent="-28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090d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9090d"/>
                </a:solidFill>
                <a:latin typeface="Times New Roman"/>
              </a:rPr>
              <a:t>Given a set of conjuncted separation predicates </a:t>
            </a:r>
            <a:r>
              <a:rPr b="0" lang="he-IL" sz="2400" spc="-1" strike="noStrike">
                <a:solidFill>
                  <a:srgbClr val="ff0000"/>
                </a:solidFill>
                <a:latin typeface="Symbol"/>
                <a:ea typeface="Symbol"/>
              </a:rPr>
              <a:t>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 marL="282600" indent="-28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090d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9090d"/>
                </a:solidFill>
                <a:latin typeface="Times New Roman"/>
              </a:rPr>
              <a:t>1. Construct the `inequality graph’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 marL="282600" indent="-28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090d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9090d"/>
                </a:solidFill>
                <a:latin typeface="Times New Roman"/>
              </a:rPr>
              <a:t>2. </a:t>
            </a:r>
            <a:r>
              <a:rPr b="0" lang="he-IL" sz="2400" spc="-1" strike="noStrike">
                <a:solidFill>
                  <a:srgbClr val="ff0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>
                <a:solidFill>
                  <a:srgbClr val="09090d"/>
                </a:solidFill>
                <a:latin typeface="Times New Roman"/>
              </a:rPr>
              <a:t> is satisfiable iff there is no cycle with non-negative </a:t>
            </a:r>
            <a:br>
              <a:rPr sz="2400"/>
            </a:br>
            <a:r>
              <a:rPr b="0" lang="en-US" sz="2400" spc="-1" strike="noStrike">
                <a:solidFill>
                  <a:srgbClr val="09090d"/>
                </a:solidFill>
                <a:latin typeface="Times New Roman"/>
              </a:rPr>
              <a:t>  accumulated weight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64280" y="5410080"/>
            <a:ext cx="425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0000"/>
                </a:solidFill>
                <a:latin typeface="Symbol"/>
                <a:ea typeface="Symbol"/>
              </a:rPr>
              <a:t></a:t>
            </a:r>
            <a:r>
              <a:rPr b="0" lang="he-IL" sz="2400" spc="-1" strike="noStrike">
                <a:solidFill>
                  <a:srgbClr val="ff0000"/>
                </a:solidFill>
                <a:latin typeface="Times New Roman"/>
              </a:rPr>
              <a:t>:  </a:t>
            </a:r>
            <a:r>
              <a:rPr b="0" lang="he-IL" sz="2400" spc="-1" strike="noStrike">
                <a:solidFill>
                  <a:srgbClr val="1d1d27"/>
                </a:solidFill>
                <a:latin typeface="Times New Roman"/>
              </a:rPr>
              <a:t>(</a:t>
            </a:r>
            <a:r>
              <a:rPr b="0" lang="he-IL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&gt;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+3 </a:t>
            </a:r>
            <a:r>
              <a:rPr b="0" lang="en-US" sz="2400" spc="-1" strike="noStrike">
                <a:solidFill>
                  <a:srgbClr val="1d1d27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&gt;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–1 </a:t>
            </a:r>
            <a:r>
              <a:rPr b="0" lang="en-US" sz="2400" spc="-1" strike="noStrike">
                <a:solidFill>
                  <a:srgbClr val="1d1d27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&gt;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+1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154560" y="4800600"/>
            <a:ext cx="1502280" cy="1601640"/>
            <a:chOff x="6154560" y="4800600"/>
            <a:chExt cx="1502280" cy="1601640"/>
          </a:xfrm>
        </p:grpSpPr>
        <p:sp>
          <p:nvSpPr>
            <p:cNvPr id="108" name=""/>
            <p:cNvSpPr/>
            <p:nvPr/>
          </p:nvSpPr>
          <p:spPr>
            <a:xfrm>
              <a:off x="6450120" y="5216400"/>
              <a:ext cx="0" cy="838440"/>
            </a:xfrm>
            <a:prstGeom prst="line">
              <a:avLst/>
            </a:prstGeom>
            <a:ln w="9360">
              <a:solidFill>
                <a:srgbClr val="1d1d27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450120" y="6054840"/>
              <a:ext cx="914400" cy="0"/>
            </a:xfrm>
            <a:prstGeom prst="line">
              <a:avLst/>
            </a:prstGeom>
            <a:ln w="9360">
              <a:solidFill>
                <a:srgbClr val="1d1d27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450120" y="5216400"/>
              <a:ext cx="914400" cy="838440"/>
            </a:xfrm>
            <a:prstGeom prst="line">
              <a:avLst/>
            </a:prstGeom>
            <a:ln w="9360">
              <a:solidFill>
                <a:srgbClr val="1d1d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274440" y="48006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10800" y="58960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357320" y="5864400"/>
              <a:ext cx="29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z</a:t>
              </a:r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900840" y="53308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1800" spc="-1" strike="noStrike">
                  <a:solidFill>
                    <a:srgbClr val="1d1d27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154560" y="54864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1800" spc="-1" strike="noStrike">
                  <a:solidFill>
                    <a:srgbClr val="1d1d27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764400" y="6033960"/>
              <a:ext cx="37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1800" spc="-1" strike="noStrike">
                  <a:solidFill>
                    <a:srgbClr val="1d1d27"/>
                  </a:solidFill>
                  <a:latin typeface="Times New Roman"/>
                </a:rPr>
                <a:t>-1</a:t>
              </a:r>
              <a:endParaRPr b="0" lang="en-US" sz="18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041E-B6F8-42F9-B978-765755BA8C8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Handling </a:t>
            </a:r>
            <a:r>
              <a:rPr b="0" lang="he-IL" sz="2800" spc="-1" strike="noStrike">
                <a:solidFill>
                  <a:srgbClr val="ff3300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isjunctions through case splitting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99040" y="2098800"/>
            <a:ext cx="81694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All previously mentioned algorithms handle disjunctions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by splitting the formula. 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This can be thought of as a two stage process: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1d1d27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  <a:ea typeface="Times New Roman (Hebrew)"/>
              </a:rPr>
              <a:t>Convert formula to Disjunctive Normal Form (DNF)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1d1d27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  <a:ea typeface="Times New Roman (Hebrew)"/>
              </a:rPr>
              <a:t>Solve each clause separately, until satisfying one of them.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55280" y="4952880"/>
            <a:ext cx="60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1d1d27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A common improvement: split ‘when needed’)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82840" y="5680080"/>
            <a:ext cx="73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Case splitting is frequently the bottleneck of the procedure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BC2E-BB8A-427E-94FC-A774BDC6DEE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So what can be done against case-splitting ?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0720" y="2987640"/>
            <a:ext cx="875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Given a formula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, this transformation can be done if 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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s.t. |</a:t>
            </a:r>
            <a:r>
              <a:rPr b="0" lang="en-US" sz="2400" spc="-1" strike="noStrike" baseline="-2000">
                <a:solidFill>
                  <a:srgbClr val="1d1d27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d1d27"/>
                </a:solidFill>
                <a:latin typeface="Symbol"/>
                <a:ea typeface="Symbol"/>
              </a:rPr>
              <a:t>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|</a:t>
            </a:r>
            <a:r>
              <a:rPr b="0" lang="en-US" sz="2400" spc="-1" strike="noStrike" baseline="-2000">
                <a:solidFill>
                  <a:srgbClr val="1d1d27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, and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’ 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is decidable under a finite domain.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08280" y="4038480"/>
            <a:ext cx="5221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When is this possible?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buClr>
                <a:srgbClr val="1d1d2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enjoys the ‘Small model property’, or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buClr>
                <a:srgbClr val="1d1d2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Tailor-made reduction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97840" y="2209680"/>
            <a:ext cx="570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Answer: </a:t>
            </a:r>
            <a:r>
              <a:rPr b="1" lang="en-US" sz="2400" spc="-1" strike="noStrike">
                <a:solidFill>
                  <a:srgbClr val="1d1d27"/>
                </a:solidFill>
                <a:latin typeface="Times New Roman"/>
              </a:rPr>
              <a:t>Split the domain, not the formula</a:t>
            </a:r>
            <a:r>
              <a:rPr b="0" lang="he-IL" sz="2400" spc="-1" strike="noStrike">
                <a:solidFill>
                  <a:srgbClr val="1d1d27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4702-9F45-4D16-807F-C7A9A0DCD98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SAT vs. infinite-state decision procedures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71880" y="1828800"/>
            <a:ext cx="7246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With finite instantiation (e.g. SAT), we split the </a:t>
            </a:r>
            <a:r>
              <a:rPr b="1" lang="en-US" sz="2400" spc="-1" strike="noStrike">
                <a:solidFill>
                  <a:srgbClr val="1d1d27"/>
                </a:solidFill>
                <a:latin typeface="Times New Roman"/>
              </a:rPr>
              <a:t>domain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Infinite state decision procedures split the </a:t>
            </a:r>
            <a:r>
              <a:rPr b="1" lang="en-US" sz="2400" spc="-1" strike="noStrike">
                <a:solidFill>
                  <a:srgbClr val="1d1d27"/>
                </a:solidFill>
                <a:latin typeface="Times New Roman"/>
              </a:rPr>
              <a:t>formula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So what’s the big difference ? 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8323-7DF6-474A-B9B3-4DBB8AFD4C9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SAT vs. infinite-state decision procedures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70080" y="1828800"/>
            <a:ext cx="772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SAT splits the domain. Infinite state decision procedures split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the formula. So what’s the big difference ? 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458280" y="3352680"/>
            <a:ext cx="5492520" cy="1831320"/>
            <a:chOff x="458280" y="3352680"/>
            <a:chExt cx="5492520" cy="1831320"/>
          </a:xfrm>
        </p:grpSpPr>
        <p:sp>
          <p:nvSpPr>
            <p:cNvPr id="130" name=""/>
            <p:cNvSpPr/>
            <p:nvPr/>
          </p:nvSpPr>
          <p:spPr>
            <a:xfrm>
              <a:off x="458280" y="3352680"/>
              <a:ext cx="1604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2400" spc="-1" strike="noStrike">
                  <a:solidFill>
                    <a:srgbClr val="0000ff"/>
                  </a:solidFill>
                  <a:latin typeface="Times New Roman"/>
                </a:rPr>
                <a:t>1. </a:t>
              </a: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Pruning. </a:t>
              </a:r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85800" y="4038480"/>
              <a:ext cx="1739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2400" spc="-1" strike="noStrike">
                  <a:solidFill>
                    <a:srgbClr val="0000ff"/>
                  </a:solidFill>
                  <a:latin typeface="Times New Roman"/>
                </a:rPr>
                <a:t>2. </a:t>
              </a: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Learning. </a:t>
              </a:r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865800" y="4724280"/>
              <a:ext cx="5085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2400" spc="-1" strike="noStrike">
                  <a:solidFill>
                    <a:srgbClr val="0000ff"/>
                  </a:solidFill>
                  <a:latin typeface="Times New Roman"/>
                </a:rPr>
                <a:t>3. </a:t>
              </a: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Guidance (prioritizing internal steps) </a:t>
              </a:r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428760" y="2708280"/>
            <a:ext cx="723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Three mechanisms, crucial for efficient decision making: 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10480" y="5680080"/>
            <a:ext cx="559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1d1d27"/>
                </a:solidFill>
                <a:uFillTx/>
                <a:latin typeface="Times New Roman"/>
              </a:rPr>
              <a:t>SAT has a significant advantage in all three.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DFA7-DEB0-44E9-B76D-E0434D4C16C6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9T17:11:39Z</dcterms:created>
  <dc:creator>ofer strichman</dc:creator>
  <dc:description/>
  <dc:language>en-US</dc:language>
  <cp:lastModifiedBy>ofer strichman</cp:lastModifiedBy>
  <dcterms:modified xsi:type="dcterms:W3CDTF">2002-01-29T19:55:17Z</dcterms:modified>
  <cp:revision>60</cp:revision>
  <dc:subject/>
  <dc:title>A propositional world</dc:title>
</cp:coreProperties>
</file>