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27C-BDD2-4FB0-BB90-ECFA19EE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21F-5709-42E9-835D-BFE3D63F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193-41AE-4224-AAB4-CA0EC462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98B-180B-47B8-955F-194EBA8A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387-A37B-4E2E-B637-B044CEF9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F781-BBDC-41B0-B573-2F6747BA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BF77-A553-42E2-8371-911850E2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A8D-DA5B-415F-B5D9-56E99054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21C9-1644-47E2-ADE2-08667A9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73BF-CC8E-4015-94E5-BBF5C667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0DF2-1CD6-4F72-A7C0-A94FDA0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75B-845D-4518-B950-DC767013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8750-A0FB-4DD4-AFBE-6FC83F5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80A1-9987-435D-AACF-311A667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2C4A-30BF-4289-9E62-46C2A654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D59A-17BB-45BD-B2AF-2DED11FD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2C9E-4DCC-4B70-919E-46D5FD06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313-10E8-4359-9B9C-2F2927FE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325-D72C-4268-872E-AFB2AC35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4C9-0280-44AD-B04E-7EFEDF7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938-71E6-485E-8EDB-AE0C78E7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927-44AC-46EE-AB65-624A639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EDA-15BF-45FD-93B1-D423685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DD6-FECB-469A-8C0C-8C695139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5504-307C-4A07-A157-85764E8A8A75}" type="slidenum"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0B83-94F4-4AD7-83F4-D5B0E2C0CCD6}" type="slidenum"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17e9"/>
                </a:solidFill>
                <a:latin typeface="Arial"/>
              </a:rPr>
              <a:t>A propositional worl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fer Strichma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Arial"/>
              </a:rPr>
              <a:t>Joint work with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andal Bryant and Sanjit Seshia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chool of Computer Science, Carnegie Mellon University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3C3-8B9C-4E56-9AE7-2717DDF701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6360" y="3124080"/>
            <a:ext cx="5492520" cy="1831320"/>
            <a:chOff x="1296360" y="3124080"/>
            <a:chExt cx="5492520" cy="1831320"/>
          </a:xfrm>
        </p:grpSpPr>
        <p:sp>
          <p:nvSpPr>
            <p:cNvPr id="137" name=""/>
            <p:cNvSpPr/>
            <p:nvPr/>
          </p:nvSpPr>
          <p:spPr>
            <a:xfrm>
              <a:off x="1296360" y="312408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1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u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520" y="38098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ar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03880" y="4495680"/>
              <a:ext cx="508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3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uidance (prioritizing internal steps)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28760" y="213372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ree mechanisms, crucial for efficient decision making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9840" y="568008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AT has a significant advantage in all thre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264-5E23-4865-952A-306EEA7DD2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1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1960" y="20574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runing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440" y="2749680"/>
            <a:ext cx="349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each claus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runes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up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|v|-|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tates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" y="617220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? (stops when finds a satisfiable claus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4120" y="2111400"/>
            <a:ext cx="3282480" cy="2588040"/>
            <a:chOff x="5334120" y="2111400"/>
            <a:chExt cx="3282480" cy="2588040"/>
          </a:xfrm>
        </p:grpSpPr>
        <p:sp>
          <p:nvSpPr>
            <p:cNvPr id="147" name=""/>
            <p:cNvSpPr/>
            <p:nvPr/>
          </p:nvSpPr>
          <p:spPr>
            <a:xfrm rot="19500000">
              <a:off x="5948280" y="3351600"/>
              <a:ext cx="1476000" cy="1015920"/>
            </a:xfrm>
            <a:prstGeom prst="rect">
              <a:avLst/>
            </a:prstGeom>
            <a:solidFill>
              <a:srgbClr val="9797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9090d"/>
                  </a:solidFill>
                  <a:latin typeface="Times New Roman"/>
                </a:rPr>
                <a:t>                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9090d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38680" y="2362320"/>
              <a:ext cx="30492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1080" y="2949480"/>
              <a:ext cx="30456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4480" y="2978280"/>
              <a:ext cx="271440" cy="45540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4120" y="2362320"/>
              <a:ext cx="271440" cy="45540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0000" y="2689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74960" y="2111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2400" y="2286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3280" y="2940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35160" y="2940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7120" y="2297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69120" y="3451320"/>
              <a:ext cx="30456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971800"/>
              <a:ext cx="495360" cy="457200"/>
            </a:xfrm>
            <a:custGeom>
              <a:avLst/>
              <a:gdLst/>
              <a:ahLst/>
              <a:rect l="l" t="t" r="r" b="b"/>
              <a:pathLst>
                <a:path w="312" h="288">
                  <a:moveTo>
                    <a:pt x="144" y="288"/>
                  </a:moveTo>
                  <a:cubicBezTo>
                    <a:pt x="228" y="192"/>
                    <a:pt x="312" y="96"/>
                    <a:pt x="288" y="48"/>
                  </a:cubicBezTo>
                  <a:cubicBezTo>
                    <a:pt x="264" y="0"/>
                    <a:pt x="132" y="0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35520" y="2973240"/>
              <a:ext cx="1319400" cy="920880"/>
            </a:xfrm>
            <a:custGeom>
              <a:avLst/>
              <a:gdLst/>
              <a:ahLst/>
              <a:rect l="l" t="t" r="r" b="b"/>
              <a:pathLst>
                <a:path w="831" h="580">
                  <a:moveTo>
                    <a:pt x="0" y="580"/>
                  </a:moveTo>
                  <a:lnTo>
                    <a:pt x="831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87840" y="265284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acktrack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7000" y="3733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Pruned!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53040" y="3429000"/>
              <a:ext cx="271440" cy="45576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0080" y="2367000"/>
              <a:ext cx="686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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y)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070440" y="4343400"/>
            <a:ext cx="23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|=1000, 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| =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998</a:t>
            </a:r>
            <a:r>
              <a:rPr b="0" lang="en-US" sz="2400" spc="-1" strike="noStrike" baseline="30000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777-24D9-4FC2-886A-2D78E4C065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2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0574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earnin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4960" y="281952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Partial assignments that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lea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a conflict are recorded an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ence not repea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6560" y="4114800"/>
            <a:ext cx="83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 (depends on decision 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Adding proved sub-goals as antecedents to new sub-goal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…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C9F-16C2-44D5-AD2C-707C1C0956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360" y="20574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uidance (prioritizing internal steps) 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9080" y="410220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uidance requires efficient estimation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9480" y="2565360"/>
            <a:ext cx="835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un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hard, 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easy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320" y="3276720"/>
            <a:ext cx="767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proper guidance, a theorem prover should start fro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30240" y="49086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ow hard it is to solve each sub-formula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4320" y="548640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 what extent will it simplify the rest of the proof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B79-FD92-45F3-9887-4106F85A10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4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480" y="19810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uidance (cont’d)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440" y="252108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“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 what extent will it simplify the rest of the proof?”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20040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Guidance through decision heuristics (e.g. DLIS)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" y="5943600"/>
            <a:ext cx="4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Expression ordering,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12160" y="3774960"/>
            <a:ext cx="12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z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v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~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~z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8000" y="3782880"/>
            <a:ext cx="4854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Estimating simplification by counting literals 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in each phase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991-1440-4651-BEFC-6AF11768B1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with Uninterpreted Functions (1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2240" y="1920960"/>
            <a:ext cx="67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quality Logic with Uninterpreted Function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19280" y="2901960"/>
                <a:ext cx="8088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98400" y="4054320"/>
            <a:ext cx="82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Uninterpreted functions are reducible to equality logic. Thus, w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n concentrate on equality logic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raditional infinite-state decision procedur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gruence Closure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case splittin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B64-23F3-4287-AD86-7632E82C6C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2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240" y="2057400"/>
            <a:ext cx="879876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nce 1998, several groups devised finite-state decision procedures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this theory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oel et. al.    (CAV’98) – Boolean encoding and BDD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CAV’99) – Positive-equality + finite instanti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Pnueli et. al.  (CAV’99) – Small domains instanti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CAV’00) – 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Boolean encoding with explicit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BDA-0366-498F-A9E3-10367B88F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1320" y="1969920"/>
            <a:ext cx="734796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oel et. al (CAV’98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ncode each equalit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=j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a new Boolean variab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BDD of encoded formula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arch BDD for a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sisten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ath leading to ‘1’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3640" y="4572000"/>
            <a:ext cx="755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an assignment to three variabl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consistent iff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7040" y="5257800"/>
            <a:ext cx="21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5CF-FA19-4A06-8018-755F5EB726D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</a:t>
            </a:r>
            <a:r>
              <a:rPr b="0" lang="he-IL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200" y="2895480"/>
            <a:ext cx="64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=z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=z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be the equality predicates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486840" y="3429000"/>
            <a:ext cx="1596960" cy="1627560"/>
            <a:chOff x="6486840" y="3429000"/>
            <a:chExt cx="1596960" cy="1627560"/>
          </a:xfrm>
        </p:grpSpPr>
        <p:sp>
          <p:nvSpPr>
            <p:cNvPr id="197" name=""/>
            <p:cNvSpPr/>
            <p:nvPr/>
          </p:nvSpPr>
          <p:spPr>
            <a:xfrm>
              <a:off x="6876720" y="3844800"/>
              <a:ext cx="0" cy="8377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6720" y="4682880"/>
              <a:ext cx="91404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6720" y="3844800"/>
              <a:ext cx="914040" cy="8377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0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6520" y="453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84280" y="44924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6840" y="3997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5920" y="3844800"/>
              <a:ext cx="46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3640" y="4546440"/>
              <a:ext cx="46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594440" y="4343400"/>
            <a:ext cx="4169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mpose transitivity on cycle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6240" y="3733920"/>
            <a:ext cx="40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the equality graph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6600" y="590868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resulting formula 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proposition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DDs , SAT, etc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4120" y="1676520"/>
            <a:ext cx="8458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 (CAV’00): Add transitivity constraints to the formula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1CD-C4B7-4791-A08B-841465BAEF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cont’d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2280" y="2057400"/>
            <a:ext cx="78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number of simple cycles can be exponential. Bryant et. al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uggested to first make the graph chord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911920" y="3317760"/>
            <a:ext cx="2614680" cy="1992600"/>
            <a:chOff x="5911920" y="3317760"/>
            <a:chExt cx="2614680" cy="1992600"/>
          </a:xfrm>
        </p:grpSpPr>
        <p:sp>
          <p:nvSpPr>
            <p:cNvPr id="213" name=""/>
            <p:cNvSpPr/>
            <p:nvPr/>
          </p:nvSpPr>
          <p:spPr>
            <a:xfrm>
              <a:off x="6361200" y="3809880"/>
              <a:ext cx="1828800" cy="1143000"/>
            </a:xfrm>
            <a:prstGeom prst="rect">
              <a:avLst/>
            </a:pr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361200" y="3809520"/>
              <a:ext cx="1828800" cy="1143000"/>
            </a:xfrm>
            <a:prstGeom prst="line">
              <a:avLst/>
            </a:prstGeom>
            <a:ln w="9360">
              <a:solidFill>
                <a:srgbClr val="1d1d2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5320" y="33177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1920" y="41144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54920" y="48002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21600" y="41144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7640" y="396216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17920" y="3394080"/>
            <a:ext cx="47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a chordal graph, every assignment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at violates transitivity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so violates transitivity of a triangl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ence – it is sufficient to impos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ransitivity over triangles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4CE-3D03-4571-A92A-6A8E94E6D6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egrated decision procedures i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orem-Pro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280" y="2022480"/>
            <a:ext cx="79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iding a combination of theories is the key for autom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Theorem Prover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Boolean operators, Bit-vector,  Sets, </a:t>
            </a:r>
            <a:r>
              <a:rPr b="0" i="1" lang="en-US" sz="2400" spc="-1" strike="noStrike">
                <a:solidFill>
                  <a:srgbClr val="0717e9"/>
                </a:solidFill>
                <a:latin typeface="Times New Roman"/>
              </a:rPr>
              <a:t>Linear-Arithmetic,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17e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Uninterpreted functions, More …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5000" y="44956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(f(x)-f(y)) != f(z) &amp; y &lt;=x + 2 | b &amp; 3 &gt; 10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6560" y="3809880"/>
            <a:ext cx="1371600" cy="533520"/>
          </a:xfrm>
          <a:prstGeom prst="wedgeRectCallout">
            <a:avLst>
              <a:gd name="adj1" fmla="val -5208"/>
              <a:gd name="adj2" fmla="val 98513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Uninterpreted functions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09920" y="3733920"/>
            <a:ext cx="1371600" cy="533160"/>
          </a:xfrm>
          <a:prstGeom prst="wedgeRectCallout">
            <a:avLst>
              <a:gd name="adj1" fmla="val -5208"/>
              <a:gd name="adj2" fmla="val 98513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Linear Arithmetic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8720" y="3505320"/>
            <a:ext cx="1371600" cy="533160"/>
          </a:xfrm>
          <a:prstGeom prst="wedgeRectCallout">
            <a:avLst>
              <a:gd name="adj1" fmla="val -38541"/>
              <a:gd name="adj2" fmla="val 141370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Bit-Vector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operators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2600" y="5349960"/>
            <a:ext cx="85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rmally, each theory is solved with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wn decision procedure an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results are combine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d (</a:t>
            </a:r>
            <a:r>
              <a:rPr b="0" i="1" lang="he-IL" sz="2400" spc="-1" strike="noStrike">
                <a:solidFill>
                  <a:srgbClr val="1d1d27"/>
                </a:solidFill>
                <a:latin typeface="Times New Roman"/>
              </a:rPr>
              <a:t>Shostak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, </a:t>
            </a:r>
            <a:r>
              <a:rPr b="0" i="1" lang="he-IL" sz="2400" spc="-1" strike="noStrike">
                <a:solidFill>
                  <a:srgbClr val="1d1d27"/>
                </a:solidFill>
                <a:latin typeface="Times New Roman"/>
              </a:rPr>
              <a:t>Nelson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992-CB2E-4B08-BA79-5ADC9D22BA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is work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54000" y="2565360"/>
            <a:ext cx="482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 for integer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teger 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876920" y="4800600"/>
                <a:ext cx="3554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975280" y="3340080"/>
                <a:ext cx="2508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68880" y="4102200"/>
                <a:ext cx="2376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68800" y="5549760"/>
                <a:ext cx="3407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0120" y="182880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xtends the results of Bryant et.al. to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a Boolean combination o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429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8600" y="37148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d1d27"/>
                </a:solidFill>
                <a:latin typeface="Times New Roman"/>
              </a:rPr>
              <a:t>Done</a:t>
            </a:r>
            <a:endParaRPr b="0" lang="en-US" sz="1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93000" y="2583000"/>
                <a:ext cx="1388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⊳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134-80F0-4D61-92A8-5352D08961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82000" y="1793880"/>
            <a:ext cx="71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Most verification conditions involving inequalities ar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” [Pratt, 1973]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Array bounds checks, tests on index variables, timing constraints, 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worst execution time analysis, etc.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06840" y="4648320"/>
            <a:ext cx="50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inear arithmetic: All of the above + …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+ Linear programming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+ Integer Linear programmin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34C-F577-465E-A710-946E0A0FF0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1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0280" y="228600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6720" y="41148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7960" y="3505320"/>
            <a:ext cx="361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7280" y="1681200"/>
            <a:ext cx="33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. Normalize (example)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4800600"/>
            <a:ext cx="57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&gt;y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&gt;x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)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75960" y="2895480"/>
            <a:ext cx="46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1d1d27"/>
                </a:solidFill>
                <a:latin typeface="Times New Roman"/>
              </a:rPr>
              <a:t>1.</a:t>
            </a:r>
            <a:r>
              <a:rPr b="0" i="1" lang="he-IL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Uninterpreted functions </a:t>
            </a:r>
            <a:r>
              <a:rPr b="0" i="1" lang="en-US" sz="20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 equality logic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2057400" y="396252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75"/>
                </a:lnTo>
                <a:cubicBezTo>
                  <a:pt x="10800" y="9075"/>
                  <a:pt x="5400" y="9975"/>
                  <a:pt x="0" y="9975"/>
                </a:cubicBezTo>
                <a:cubicBezTo>
                  <a:pt x="5400" y="9975"/>
                  <a:pt x="10800" y="10875"/>
                  <a:pt x="10800" y="117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305240" y="4076640"/>
            <a:ext cx="76320" cy="152424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75"/>
                </a:lnTo>
                <a:cubicBezTo>
                  <a:pt x="10800" y="9075"/>
                  <a:pt x="5400" y="9975"/>
                  <a:pt x="0" y="9975"/>
                </a:cubicBezTo>
                <a:cubicBezTo>
                  <a:pt x="5400" y="9975"/>
                  <a:pt x="10800" y="10875"/>
                  <a:pt x="10800" y="117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35360" y="4487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1d1d27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y+</a:t>
            </a:r>
            <a:r>
              <a:rPr b="0" lang="en-US" sz="1800" spc="-1" strike="noStrike">
                <a:solidFill>
                  <a:srgbClr val="1d1d27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3000" y="4492800"/>
            <a:ext cx="57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1d1d27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1d1d27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1d1d27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89548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600" y="5638680"/>
            <a:ext cx="85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has no negations and only the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predicate symbol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7160" y="416412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Normal form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254-4A38-4D23-B086-AA8B9ABAAF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2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10080" y="2438280"/>
            <a:ext cx="92592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duce Uninterpreted Functions to equaliti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Rewrite equalities as conjunction of inequalities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rewri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+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+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+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ransfor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Negation Normal Form, and eliminate negation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reversing inequality sign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Rewrite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predicates as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, e.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wri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– 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080" y="17938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. Normalize (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7B4-03E3-4F09-AC67-82BF9653B5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2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5360" y="2590920"/>
            <a:ext cx="45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y-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4560" y="3809880"/>
            <a:ext cx="46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7640" y="19861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. Normalizing example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9E2-1190-4CC1-B4C8-9642101D136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96960" y="4724280"/>
            <a:ext cx="1501920" cy="1601640"/>
            <a:chOff x="2496960" y="4724280"/>
            <a:chExt cx="1501920" cy="1601640"/>
          </a:xfrm>
        </p:grpSpPr>
        <p:sp>
          <p:nvSpPr>
            <p:cNvPr id="264" name=""/>
            <p:cNvSpPr/>
            <p:nvPr/>
          </p:nvSpPr>
          <p:spPr>
            <a:xfrm>
              <a:off x="2792160" y="514008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92160" y="597816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92160" y="514008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1648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52840" y="5819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99360" y="5787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2880" y="525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96960" y="541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6440" y="5957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52388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3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9440" y="2898720"/>
            <a:ext cx="45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762280" y="396252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038480" y="398772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75000" y="403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37520" y="393048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ransitivity 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3987720"/>
                <a:ext cx="501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1740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900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00280" y="4006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28240" y="4035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8000" y="40258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11080" y="40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5840" y="19810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. Encode + construct graph (example)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24680" y="4724280"/>
            <a:ext cx="1501920" cy="1602000"/>
            <a:chOff x="6124680" y="4724280"/>
            <a:chExt cx="1501920" cy="1602000"/>
          </a:xfrm>
        </p:grpSpPr>
        <p:sp>
          <p:nvSpPr>
            <p:cNvPr id="291" name=""/>
            <p:cNvSpPr/>
            <p:nvPr/>
          </p:nvSpPr>
          <p:spPr>
            <a:xfrm>
              <a:off x="6419880" y="5140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19880" y="59785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19880" y="51404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420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0560" y="58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27080" y="5788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70600" y="5254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24680" y="541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34160" y="595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837720" y="51973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raph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7880" y="5121360"/>
            <a:ext cx="9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nd i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u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DA4-A69B-42E7-96D9-AAD4E055EB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01280" y="3962520"/>
            <a:ext cx="7485480" cy="825480"/>
            <a:chOff x="701280" y="3962520"/>
            <a:chExt cx="7485480" cy="825480"/>
          </a:xfrm>
        </p:grpSpPr>
        <p:sp>
          <p:nvSpPr>
            <p:cNvPr id="304" name=""/>
            <p:cNvSpPr/>
            <p:nvPr/>
          </p:nvSpPr>
          <p:spPr>
            <a:xfrm>
              <a:off x="701280" y="3962520"/>
              <a:ext cx="748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</a:t>
              </a:r>
              <a:r>
                <a:rPr b="0" lang="he-IL" sz="2400" spc="-1" strike="noStrike">
                  <a:solidFill>
                    <a:srgbClr val="c7c7d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Substitute each predicate in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f the form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x &gt; y+c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with a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Boolean variable       , and add an edge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x,y,c,&gt;)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to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137040" y="4267080"/>
                  <a:ext cx="52056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6" name=""/>
          <p:cNvSpPr/>
          <p:nvPr/>
        </p:nvSpPr>
        <p:spPr>
          <a:xfrm>
            <a:off x="702360" y="2717640"/>
            <a:ext cx="71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a grap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,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= variables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ed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a 4-tup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{&gt;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124080" y="5410080"/>
                <a:ext cx="520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4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400" y="179856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. Encode predicates and construct a graph (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8640" y="5105520"/>
            <a:ext cx="755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he-IL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ubstitute each predicate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the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y+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a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oolean variable       , and add an edg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x,y,c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FA8-0D44-4226-9A4D-30C328B424B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192400" y="4724280"/>
            <a:ext cx="1501920" cy="1601640"/>
            <a:chOff x="2192400" y="4724280"/>
            <a:chExt cx="1501920" cy="1601640"/>
          </a:xfrm>
        </p:grpSpPr>
        <p:sp>
          <p:nvSpPr>
            <p:cNvPr id="313" name=""/>
            <p:cNvSpPr/>
            <p:nvPr/>
          </p:nvSpPr>
          <p:spPr>
            <a:xfrm>
              <a:off x="2487600" y="514008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7600" y="597816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87600" y="514008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1192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5819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94800" y="5787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38320" y="525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2400" y="541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01880" y="5957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5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09680" y="2486160"/>
                <a:ext cx="590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048120" y="247644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686160" y="2581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89600" y="243828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ransitivity 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71600" y="2492280"/>
                <a:ext cx="501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9602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746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65320" y="254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0880" y="2543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6400" y="2533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53880" y="254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8280" y="16812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. Add transitivity constraints for each simple cycle (example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312408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6160" y="3724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49280" y="36846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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71720" y="3691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456080" y="3652920"/>
                <a:ext cx="501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18200" y="365292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79960" y="3652920"/>
                <a:ext cx="535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032080" y="372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03560" y="372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97080" y="364644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035160" y="363708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359000" y="3652920"/>
                <a:ext cx="501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947600" y="3706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62000" y="3706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52720" y="3710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67920" y="3703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93800" y="36939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41280" y="3710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68760" y="4724280"/>
            <a:ext cx="1501920" cy="1602000"/>
            <a:chOff x="5468760" y="4724280"/>
            <a:chExt cx="1501920" cy="1602000"/>
          </a:xfrm>
        </p:grpSpPr>
        <p:sp>
          <p:nvSpPr>
            <p:cNvPr id="354" name=""/>
            <p:cNvSpPr/>
            <p:nvPr/>
          </p:nvSpPr>
          <p:spPr>
            <a:xfrm>
              <a:off x="5763960" y="5140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63960" y="59785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3960" y="51404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8828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4640" y="58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71160" y="5788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14680" y="5254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68760" y="541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78240" y="595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523880" y="4648320"/>
            <a:ext cx="2590920" cy="182880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962520" y="4343040"/>
            <a:ext cx="685800" cy="76212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4A4-A20D-4565-9D77-017A038EC2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24800" y="3200400"/>
            <a:ext cx="1224720" cy="1223280"/>
            <a:chOff x="424800" y="3200400"/>
            <a:chExt cx="1224720" cy="1223280"/>
          </a:xfrm>
        </p:grpSpPr>
        <p:sp>
          <p:nvSpPr>
            <p:cNvPr id="367" name=""/>
            <p:cNvSpPr/>
            <p:nvPr/>
          </p:nvSpPr>
          <p:spPr>
            <a:xfrm>
              <a:off x="735120" y="320040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5120" y="403848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5120" y="320040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90160" y="33148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800" y="34704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34640" y="40179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502280" y="2673360"/>
            <a:ext cx="47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here are mixed edg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otal weight is not negativ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9960" y="525780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all edges are ‘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49080" y="5715000"/>
            <a:ext cx="31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If all edges are ‘&gt;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324480" y="3276720"/>
            <a:ext cx="1789200" cy="837720"/>
            <a:chOff x="6324480" y="3276720"/>
            <a:chExt cx="1789200" cy="8377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866640" y="3379680"/>
                  <a:ext cx="124704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False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6324480" y="3714840"/>
                  <a:ext cx="74520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∈</m:t>
                          </m:r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6372360" y="3276720"/>
                  <a:ext cx="56196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0" name=""/>
          <p:cNvSpPr/>
          <p:nvPr/>
        </p:nvSpPr>
        <p:spPr>
          <a:xfrm>
            <a:off x="2404080" y="41911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otal weight is not positiv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280200" y="4114800"/>
            <a:ext cx="1787040" cy="837720"/>
            <a:chOff x="6280200" y="4114800"/>
            <a:chExt cx="1787040" cy="837720"/>
          </a:xfrm>
        </p:grpSpPr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6350400" y="4114800"/>
                  <a:ext cx="63180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6905880" y="4198680"/>
                  <a:ext cx="116136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e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6280200" y="4543200"/>
                  <a:ext cx="7718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∈</m:t>
                          </m:r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365040" y="1741320"/>
            <a:ext cx="59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. Add transitivity constraints for each cycle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6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B57-9809-44D8-A8D0-D80DB938363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1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0" y="2057040"/>
            <a:ext cx="3868560" cy="1029240"/>
            <a:chOff x="4572000" y="2057040"/>
            <a:chExt cx="3868560" cy="1029240"/>
          </a:xfrm>
        </p:grpSpPr>
        <p:sp>
          <p:nvSpPr>
            <p:cNvPr id="390" name=""/>
            <p:cNvSpPr/>
            <p:nvPr/>
          </p:nvSpPr>
          <p:spPr>
            <a:xfrm flipH="1" flipV="1">
              <a:off x="703224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741348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41348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03224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270480" y="2057040"/>
              <a:ext cx="740520" cy="741240"/>
              <a:chOff x="6270480" y="2057040"/>
              <a:chExt cx="740520" cy="74124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6270480" y="243792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6651000" y="205704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651000" y="24375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270480" y="20757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783040" y="2133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.....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4974840" y="2057040"/>
              <a:ext cx="740880" cy="741240"/>
              <a:chOff x="4974840" y="2057040"/>
              <a:chExt cx="740880" cy="741240"/>
            </a:xfrm>
          </p:grpSpPr>
          <p:sp>
            <p:nvSpPr>
              <p:cNvPr id="401" name=""/>
              <p:cNvSpPr/>
              <p:nvPr/>
            </p:nvSpPr>
            <p:spPr>
              <a:xfrm flipH="1" flipV="1">
                <a:off x="4974840" y="243792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5355720" y="205704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355720" y="24375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4974840" y="20757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572000" y="2409840"/>
              <a:ext cx="3868560" cy="676440"/>
            </a:xfrm>
            <a:custGeom>
              <a:avLst/>
              <a:gdLst/>
              <a:ahLst/>
              <a:rect l="l" t="t" r="r" b="b"/>
              <a:pathLst>
                <a:path w="2437" h="426">
                  <a:moveTo>
                    <a:pt x="254" y="18"/>
                  </a:moveTo>
                  <a:cubicBezTo>
                    <a:pt x="227" y="26"/>
                    <a:pt x="122" y="0"/>
                    <a:pt x="92" y="66"/>
                  </a:cubicBezTo>
                  <a:cubicBezTo>
                    <a:pt x="62" y="132"/>
                    <a:pt x="0" y="309"/>
                    <a:pt x="338" y="360"/>
                  </a:cubicBezTo>
                  <a:cubicBezTo>
                    <a:pt x="666" y="416"/>
                    <a:pt x="1806" y="426"/>
                    <a:pt x="2120" y="372"/>
                  </a:cubicBezTo>
                  <a:cubicBezTo>
                    <a:pt x="2437" y="348"/>
                    <a:pt x="2297" y="137"/>
                    <a:pt x="2282" y="78"/>
                  </a:cubicBezTo>
                  <a:cubicBezTo>
                    <a:pt x="2267" y="19"/>
                    <a:pt x="2082" y="30"/>
                    <a:pt x="2030" y="18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04360" y="2971800"/>
            <a:ext cx="85712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most cases - y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If the diamonds are ‘balanced’ 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495680" y="4838760"/>
            <a:ext cx="3868920" cy="1028160"/>
            <a:chOff x="4495680" y="4838760"/>
            <a:chExt cx="3868920" cy="1028160"/>
          </a:xfrm>
        </p:grpSpPr>
        <p:sp>
          <p:nvSpPr>
            <p:cNvPr id="408" name=""/>
            <p:cNvSpPr/>
            <p:nvPr/>
          </p:nvSpPr>
          <p:spPr>
            <a:xfrm flipH="1" flipV="1">
              <a:off x="6955920" y="52192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7337160" y="483876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337160" y="52192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955920" y="48574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194520" y="4838760"/>
              <a:ext cx="740880" cy="740520"/>
              <a:chOff x="6194520" y="4838760"/>
              <a:chExt cx="740880" cy="740520"/>
            </a:xfrm>
          </p:grpSpPr>
          <p:sp>
            <p:nvSpPr>
              <p:cNvPr id="413" name=""/>
              <p:cNvSpPr/>
              <p:nvPr/>
            </p:nvSpPr>
            <p:spPr>
              <a:xfrm flipH="1" flipV="1">
                <a:off x="6194520" y="52192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6575400" y="483876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575400" y="52192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194520" y="48574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5707080" y="4914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.....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4898520" y="4838760"/>
              <a:ext cx="741600" cy="740520"/>
              <a:chOff x="4898520" y="4838760"/>
              <a:chExt cx="741600" cy="74052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4898520" y="52192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5279760" y="483876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279760" y="52192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4898520" y="48574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495680" y="5190840"/>
              <a:ext cx="3868920" cy="676080"/>
            </a:xfrm>
            <a:custGeom>
              <a:avLst/>
              <a:gdLst/>
              <a:ahLst/>
              <a:rect l="l" t="t" r="r" b="b"/>
              <a:pathLst>
                <a:path w="2437" h="426">
                  <a:moveTo>
                    <a:pt x="254" y="18"/>
                  </a:moveTo>
                  <a:cubicBezTo>
                    <a:pt x="227" y="26"/>
                    <a:pt x="122" y="0"/>
                    <a:pt x="92" y="66"/>
                  </a:cubicBezTo>
                  <a:cubicBezTo>
                    <a:pt x="62" y="132"/>
                    <a:pt x="0" y="309"/>
                    <a:pt x="338" y="360"/>
                  </a:cubicBezTo>
                  <a:cubicBezTo>
                    <a:pt x="666" y="416"/>
                    <a:pt x="1806" y="426"/>
                    <a:pt x="2120" y="372"/>
                  </a:cubicBezTo>
                  <a:cubicBezTo>
                    <a:pt x="2437" y="348"/>
                    <a:pt x="2297" y="137"/>
                    <a:pt x="2282" y="78"/>
                  </a:cubicBezTo>
                  <a:cubicBezTo>
                    <a:pt x="2267" y="19"/>
                    <a:pt x="2082" y="30"/>
                    <a:pt x="2030" y="18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H="1">
            <a:off x="700992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24816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95252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09600" y="468648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46920" y="468648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83000" y="4911840"/>
            <a:ext cx="58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1+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9960" y="1981080"/>
            <a:ext cx="401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mple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n we do better than that 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25440" y="525780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15960" y="525780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ECD-8079-4C19-B555-9FB3BD42930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egrated decision procedures i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orem-Pro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120" y="2022480"/>
            <a:ext cx="732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l of these theories, except linear arithmetic, have know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fficient direct reduction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propositional logic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7560" y="3645000"/>
            <a:ext cx="807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us, reducing linear arithmetic t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ropositional logic wil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1. Enable integration of theories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 the propositional logic level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tentially </a:t>
            </a: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faster than known techniqu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862-3E73-4A48-8F0B-FBC4C530F9B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2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7000" y="1793880"/>
            <a:ext cx="80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hordal graphs: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cycle of size greater than 3, has a ‘chord’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7120" y="2708280"/>
            <a:ext cx="763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the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equality predicates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s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e a cycle 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e an assignment that violat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s transitivity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there exists a cyc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size 3 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s.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7280" y="5089680"/>
            <a:ext cx="723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clusio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add transitivity constraints only for triang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w only a polynomial no. of constraints is requir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615080" y="2286000"/>
            <a:ext cx="1071720" cy="1069920"/>
            <a:chOff x="7615080" y="2286000"/>
            <a:chExt cx="1071720" cy="1069920"/>
          </a:xfrm>
        </p:grpSpPr>
        <p:sp>
          <p:nvSpPr>
            <p:cNvPr id="438" name=""/>
            <p:cNvSpPr/>
            <p:nvPr/>
          </p:nvSpPr>
          <p:spPr>
            <a:xfrm>
              <a:off x="7615080" y="2816280"/>
              <a:ext cx="532080" cy="527040"/>
            </a:xfrm>
            <a:custGeom>
              <a:avLst/>
              <a:gdLst/>
              <a:ahLst/>
              <a:rect l="l" t="t" r="r" b="b"/>
              <a:pathLst>
                <a:path w="335" h="332">
                  <a:moveTo>
                    <a:pt x="335" y="33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8156520" y="2286000"/>
              <a:ext cx="519120" cy="5191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47160" y="2827440"/>
              <a:ext cx="536400" cy="528480"/>
            </a:xfrm>
            <a:custGeom>
              <a:avLst/>
              <a:gdLst/>
              <a:ahLst/>
              <a:rect l="l" t="t" r="r" b="b"/>
              <a:pathLst>
                <a:path w="338" h="333">
                  <a:moveTo>
                    <a:pt x="338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8320" y="229068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0120" y="2817720"/>
              <a:ext cx="106668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217640" y="254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A20-81AB-489E-B17D-23EE9E3B7FA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5840" y="1828800"/>
            <a:ext cx="389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Our case is more complicated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directe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 multi-graph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dges have weigh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two types of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74880" y="4079880"/>
            <a:ext cx="771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chordal iff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very directed cycle of size greater than 3 has a chord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  which ‘accumulates’ the weight of the path between its end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839640" y="2092320"/>
            <a:ext cx="1504080" cy="1218600"/>
            <a:chOff x="6839640" y="2092320"/>
            <a:chExt cx="1504080" cy="1218600"/>
          </a:xfrm>
        </p:grpSpPr>
        <p:sp>
          <p:nvSpPr>
            <p:cNvPr id="449" name=""/>
            <p:cNvSpPr/>
            <p:nvPr/>
          </p:nvSpPr>
          <p:spPr>
            <a:xfrm>
              <a:off x="6859440" y="2641680"/>
              <a:ext cx="532080" cy="527040"/>
            </a:xfrm>
            <a:custGeom>
              <a:avLst/>
              <a:gdLst/>
              <a:ahLst/>
              <a:rect l="l" t="t" r="r" b="b"/>
              <a:pathLst>
                <a:path w="335" h="332">
                  <a:moveTo>
                    <a:pt x="335" y="33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378560" y="2102040"/>
              <a:ext cx="519120" cy="5191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91520" y="2640240"/>
              <a:ext cx="536400" cy="528480"/>
            </a:xfrm>
            <a:custGeom>
              <a:avLst/>
              <a:gdLst/>
              <a:ahLst/>
              <a:rect l="l" t="t" r="r" b="b"/>
              <a:pathLst>
                <a:path w="338" h="333">
                  <a:moveTo>
                    <a:pt x="338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62680" y="2121120"/>
              <a:ext cx="500040" cy="504720"/>
            </a:xfrm>
            <a:custGeom>
              <a:avLst/>
              <a:gdLst/>
              <a:ahLst/>
              <a:rect l="l" t="t" r="r" b="b"/>
              <a:pathLst>
                <a:path w="315" h="318">
                  <a:moveTo>
                    <a:pt x="315" y="0"/>
                  </a:moveTo>
                  <a:lnTo>
                    <a:pt x="0" y="318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6440" y="2641680"/>
              <a:ext cx="1028880" cy="3240"/>
            </a:xfrm>
            <a:custGeom>
              <a:avLst/>
              <a:gdLst/>
              <a:ahLst/>
              <a:rect l="l" t="t" r="r" b="b"/>
              <a:pathLst>
                <a:path w="648" h="2">
                  <a:moveTo>
                    <a:pt x="0" y="2"/>
                  </a:moveTo>
                  <a:lnTo>
                    <a:pt x="648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78080" y="2092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9640" y="2092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39640" y="2778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01760" y="2778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02080" y="2320920"/>
              <a:ext cx="587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1+ 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00880" y="2635200"/>
              <a:ext cx="682560" cy="623880"/>
            </a:xfrm>
            <a:custGeom>
              <a:avLst/>
              <a:gdLst/>
              <a:ahLst/>
              <a:rect l="l" t="t" r="r" b="b"/>
              <a:pathLst>
                <a:path w="430" h="393">
                  <a:moveTo>
                    <a:pt x="0" y="342"/>
                  </a:moveTo>
                  <a:cubicBezTo>
                    <a:pt x="62" y="341"/>
                    <a:pt x="314" y="393"/>
                    <a:pt x="372" y="336"/>
                  </a:cubicBezTo>
                  <a:cubicBezTo>
                    <a:pt x="430" y="279"/>
                    <a:pt x="353" y="70"/>
                    <a:pt x="348" y="0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13600" y="2940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5B9-0115-4355-BC92-A4F4D9DB116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4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720" y="22096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mplexity of making the graph chord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0840" y="2963880"/>
            <a:ext cx="659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he diamonds are ‘balanced’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9960" y="5638680"/>
            <a:ext cx="289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orst case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03560" y="3914640"/>
            <a:ext cx="8300160" cy="1876320"/>
            <a:chOff x="403560" y="3914640"/>
            <a:chExt cx="8300160" cy="1876320"/>
          </a:xfrm>
        </p:grpSpPr>
        <p:grpSp>
          <p:nvGrpSpPr>
            <p:cNvPr id="467" name=""/>
            <p:cNvGrpSpPr/>
            <p:nvPr/>
          </p:nvGrpSpPr>
          <p:grpSpPr>
            <a:xfrm>
              <a:off x="4479840" y="4648320"/>
              <a:ext cx="3868560" cy="1142640"/>
              <a:chOff x="4479840" y="4648320"/>
              <a:chExt cx="3868560" cy="11426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4479840" y="4762800"/>
                <a:ext cx="3868560" cy="1028160"/>
                <a:chOff x="4479840" y="4762800"/>
                <a:chExt cx="3868560" cy="1028160"/>
              </a:xfrm>
            </p:grpSpPr>
            <p:sp>
              <p:nvSpPr>
                <p:cNvPr id="469" name=""/>
                <p:cNvSpPr/>
                <p:nvPr/>
              </p:nvSpPr>
              <p:spPr>
                <a:xfrm flipH="1" flipV="1">
                  <a:off x="6940080" y="51433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7321320" y="476280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7321320" y="51433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940080" y="47815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6178320" y="4762800"/>
                  <a:ext cx="740520" cy="740520"/>
                  <a:chOff x="6178320" y="4762800"/>
                  <a:chExt cx="740520" cy="740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flipV="1">
                    <a:off x="617832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flipV="1">
                    <a:off x="6558840" y="476280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>
                    <a:off x="655884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6178320" y="47815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>
                  <a:off x="5690880" y="48387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400" spc="-1" strike="noStrike">
                      <a:solidFill>
                        <a:srgbClr val="1d1d27"/>
                      </a:solidFill>
                      <a:latin typeface="Times New Roman"/>
                    </a:rPr>
                    <a:t>.....</a:t>
                  </a:r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4882680" y="4762800"/>
                  <a:ext cx="740880" cy="740520"/>
                  <a:chOff x="4882680" y="4762800"/>
                  <a:chExt cx="740880" cy="7405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flipV="1">
                    <a:off x="488268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flipV="1">
                    <a:off x="5263560" y="476280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526356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4882680" y="47815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>
                  <a:off x="4479840" y="5114880"/>
                  <a:ext cx="3868560" cy="676080"/>
                </a:xfrm>
                <a:custGeom>
                  <a:avLst/>
                  <a:gdLst/>
                  <a:ahLst/>
                  <a:rect l="l" t="t" r="r" b="b"/>
                  <a:pathLst>
                    <a:path w="2437" h="426">
                      <a:moveTo>
                        <a:pt x="254" y="18"/>
                      </a:moveTo>
                      <a:cubicBezTo>
                        <a:pt x="227" y="26"/>
                        <a:pt x="122" y="0"/>
                        <a:pt x="92" y="66"/>
                      </a:cubicBezTo>
                      <a:cubicBezTo>
                        <a:pt x="62" y="132"/>
                        <a:pt x="0" y="309"/>
                        <a:pt x="338" y="360"/>
                      </a:cubicBezTo>
                      <a:cubicBezTo>
                        <a:pt x="666" y="416"/>
                        <a:pt x="1806" y="426"/>
                        <a:pt x="2120" y="372"/>
                      </a:cubicBezTo>
                      <a:cubicBezTo>
                        <a:pt x="2437" y="348"/>
                        <a:pt x="2297" y="137"/>
                        <a:pt x="2282" y="78"/>
                      </a:cubicBezTo>
                      <a:cubicBezTo>
                        <a:pt x="2267" y="19"/>
                        <a:pt x="2082" y="30"/>
                        <a:pt x="2030" y="18"/>
                      </a:cubicBezTo>
                    </a:path>
                  </a:pathLst>
                </a:custGeom>
                <a:noFill/>
                <a:ln w="9360">
                  <a:solidFill>
                    <a:srgbClr val="1d1d27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744624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648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9060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7616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46352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5412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0788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44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03560" y="3914640"/>
              <a:ext cx="830016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If there are uniform weight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1d1d27"/>
                  </a:solidFill>
                  <a:latin typeface="Symbol"/>
                  <a:ea typeface="Symbol"/>
                </a:rPr>
                <a:t>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n top and bottom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paths </a:t>
              </a:r>
              <a:r>
                <a:rPr b="0" lang="en-US" sz="2400" spc="-1" strike="noStrike">
                  <a:solidFill>
                    <a:srgbClr val="1d1d27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) constraints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D62-DD51-4FE7-85AA-5B1F9700B6C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1828800"/>
                <a:ext cx="2376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533160" y="227952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integer separation predicates, deriv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9720" y="29368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lare all variabl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pla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 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not an integer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each predic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dd a constrai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 +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+ 1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7440" y="502920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orem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 if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417-EB8C-4144-B241-85F87FD8C61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33520" y="1828800"/>
                <a:ext cx="2376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609480" y="289548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integer separation predicates, deriv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4200" y="3546360"/>
            <a:ext cx="38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lare all variabl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48200" y="533412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orem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 if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1000" y="220968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n integer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960" y="4191120"/>
            <a:ext cx="58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each predic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dd a constrai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 +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+ 1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AEE-85E5-490D-8D66-4F90EC9B8A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2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5040" y="2438280"/>
            <a:ext cx="34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int; 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888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7200" y="3629160"/>
            <a:ext cx="409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real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2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D81-BA01-4E5B-95FD-A02C9CACBB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1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6324120" y="243792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6705360" y="205704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705360" y="24375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324120" y="20757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562720" y="2057040"/>
            <a:ext cx="740880" cy="741240"/>
            <a:chOff x="5562720" y="2057040"/>
            <a:chExt cx="740880" cy="741240"/>
          </a:xfrm>
        </p:grpSpPr>
        <p:sp>
          <p:nvSpPr>
            <p:cNvPr id="520" name=""/>
            <p:cNvSpPr/>
            <p:nvPr/>
          </p:nvSpPr>
          <p:spPr>
            <a:xfrm flipH="1" flipV="1">
              <a:off x="556272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94360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94360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56272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07528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266720" y="2057040"/>
            <a:ext cx="741600" cy="741240"/>
            <a:chOff x="4266720" y="2057040"/>
            <a:chExt cx="741600" cy="741240"/>
          </a:xfrm>
        </p:grpSpPr>
        <p:sp>
          <p:nvSpPr>
            <p:cNvPr id="526" name=""/>
            <p:cNvSpPr/>
            <p:nvPr/>
          </p:nvSpPr>
          <p:spPr>
            <a:xfrm flipH="1" flipV="1">
              <a:off x="4266720" y="243792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647960" y="205704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647960" y="24375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266720" y="20757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863880" y="2409840"/>
            <a:ext cx="3868920" cy="676440"/>
          </a:xfrm>
          <a:custGeom>
            <a:avLst/>
            <a:gdLst/>
            <a:ahLst/>
            <a:rect l="l" t="t" r="r" b="b"/>
            <a:pathLst>
              <a:path w="2437" h="426">
                <a:moveTo>
                  <a:pt x="254" y="18"/>
                </a:moveTo>
                <a:cubicBezTo>
                  <a:pt x="227" y="26"/>
                  <a:pt x="122" y="0"/>
                  <a:pt x="92" y="66"/>
                </a:cubicBezTo>
                <a:cubicBezTo>
                  <a:pt x="62" y="132"/>
                  <a:pt x="0" y="309"/>
                  <a:pt x="338" y="360"/>
                </a:cubicBezTo>
                <a:cubicBezTo>
                  <a:pt x="666" y="416"/>
                  <a:pt x="1806" y="426"/>
                  <a:pt x="2120" y="372"/>
                </a:cubicBezTo>
                <a:cubicBezTo>
                  <a:pt x="2437" y="348"/>
                  <a:pt x="2297" y="137"/>
                  <a:pt x="2282" y="78"/>
                </a:cubicBezTo>
                <a:cubicBezTo>
                  <a:pt x="2267" y="19"/>
                  <a:pt x="2082" y="30"/>
                  <a:pt x="2030" y="18"/>
                </a:cubicBezTo>
              </a:path>
            </a:pathLst>
          </a:custGeom>
          <a:noFill/>
          <a:ln w="9360">
            <a:solidFill>
              <a:srgbClr val="1d1d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600" y="2778120"/>
            <a:ext cx="7337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diamond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p and bottom paths in each diamond are disjunc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juncted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adjusting the weights, we ensured that there is a sing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isfying assignment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6629400" y="175212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16200" y="10709"/>
                  <a:pt x="21600" y="10709"/>
                </a:cubicBezTo>
                <a:cubicBezTo>
                  <a:pt x="162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4160" y="15685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42840" y="45720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717e9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1CF-F66E-4A64-90DB-A7D85A722D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2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09680" y="2352600"/>
          <a:ext cx="471492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52600"/>
                    <a:ext cx="47149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6174720" y="47242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d1d27"/>
                </a:solidFill>
                <a:latin typeface="Times New Roman"/>
              </a:rPr>
              <a:t>To be continued...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FE0-0DC4-49F8-BC1E-A2C685B880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3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664000" y="2062080"/>
          <a:ext cx="6022800" cy="23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2062080"/>
                    <a:ext cx="60228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6158160" y="45576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d1d27"/>
                </a:solidFill>
                <a:latin typeface="Times New Roman"/>
              </a:rPr>
              <a:t>To be continued...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3840" y="5273640"/>
            <a:ext cx="83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procedure has recently been integrated into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MP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ucli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e currently experiment with real software verification problem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569-C554-4DA8-9235-F89A4F138A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6324120" y="243792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6705360" y="205704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05360" y="24375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324120" y="20757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562720" y="2057040"/>
            <a:ext cx="740880" cy="741240"/>
            <a:chOff x="5562720" y="2057040"/>
            <a:chExt cx="740880" cy="741240"/>
          </a:xfrm>
        </p:grpSpPr>
        <p:sp>
          <p:nvSpPr>
            <p:cNvPr id="553" name=""/>
            <p:cNvSpPr/>
            <p:nvPr/>
          </p:nvSpPr>
          <p:spPr>
            <a:xfrm flipH="1" flipV="1">
              <a:off x="556272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594360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94360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56272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07528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266720" y="2057040"/>
            <a:ext cx="741600" cy="741240"/>
            <a:chOff x="4266720" y="2057040"/>
            <a:chExt cx="741600" cy="741240"/>
          </a:xfrm>
        </p:grpSpPr>
        <p:sp>
          <p:nvSpPr>
            <p:cNvPr id="559" name=""/>
            <p:cNvSpPr/>
            <p:nvPr/>
          </p:nvSpPr>
          <p:spPr>
            <a:xfrm flipH="1" flipV="1">
              <a:off x="4266720" y="243792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4647960" y="205704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7960" y="24375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266720" y="20757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863880" y="2409840"/>
            <a:ext cx="3868920" cy="676440"/>
          </a:xfrm>
          <a:custGeom>
            <a:avLst/>
            <a:gdLst/>
            <a:ahLst/>
            <a:rect l="l" t="t" r="r" b="b"/>
            <a:pathLst>
              <a:path w="2437" h="426">
                <a:moveTo>
                  <a:pt x="254" y="18"/>
                </a:moveTo>
                <a:cubicBezTo>
                  <a:pt x="227" y="26"/>
                  <a:pt x="122" y="0"/>
                  <a:pt x="92" y="66"/>
                </a:cubicBezTo>
                <a:cubicBezTo>
                  <a:pt x="62" y="132"/>
                  <a:pt x="0" y="309"/>
                  <a:pt x="338" y="360"/>
                </a:cubicBezTo>
                <a:cubicBezTo>
                  <a:pt x="666" y="416"/>
                  <a:pt x="1806" y="426"/>
                  <a:pt x="2120" y="372"/>
                </a:cubicBezTo>
                <a:cubicBezTo>
                  <a:pt x="2437" y="348"/>
                  <a:pt x="2297" y="137"/>
                  <a:pt x="2282" y="78"/>
                </a:cubicBezTo>
                <a:cubicBezTo>
                  <a:pt x="2267" y="19"/>
                  <a:pt x="2082" y="30"/>
                  <a:pt x="2030" y="18"/>
                </a:cubicBezTo>
              </a:path>
            </a:pathLst>
          </a:custGeom>
          <a:noFill/>
          <a:ln w="9360">
            <a:solidFill>
              <a:srgbClr val="1d1d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25600" y="2778120"/>
            <a:ext cx="7337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diamond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p and bottom paths in each diamond are disjunc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juncted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adjusting the weights, we ensured that there is a sing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isfying assignment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6629400" y="175212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16200" y="10709"/>
                  <a:pt x="21600" y="10709"/>
                </a:cubicBezTo>
                <a:cubicBezTo>
                  <a:pt x="162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4160" y="15685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42840" y="45720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717e9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566-E279-41E2-91A1-36D3F33BCEE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inear Arithmetic and its sub-theori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68360" y="1979640"/>
                <a:ext cx="3675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⊳</m:t>
                        </m:r>
                        <m:r>
                          <m:t xml:space="preserve">c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⊳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829160" y="2666880"/>
            <a:ext cx="19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581280"/>
            <a:ext cx="794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ome useful methods for solving a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junctio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linea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rithmetic expression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mplex, Elliptic curv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Variable Elimination Methods (Hodes, Fourier-Motzkin,..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0717e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Shostak’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loop residu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paration theory: Bellman / Pratt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023200" y="2057400"/>
            <a:ext cx="248400" cy="266760"/>
            <a:chOff x="2023200" y="2057400"/>
            <a:chExt cx="248400" cy="266760"/>
          </a:xfrm>
        </p:grpSpPr>
        <p:sp>
          <p:nvSpPr>
            <p:cNvPr id="101" name=""/>
            <p:cNvSpPr/>
            <p:nvPr/>
          </p:nvSpPr>
          <p:spPr>
            <a:xfrm>
              <a:off x="2133720" y="2057400"/>
              <a:ext cx="137880" cy="26676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16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23200" y="2064600"/>
              <a:ext cx="121680" cy="24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0A9-D8A2-46AF-B2BD-B974C7183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xt: Linear Arithmetic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040" y="2571840"/>
            <a:ext cx="12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0400" y="2895480"/>
            <a:ext cx="990720" cy="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2280" y="247968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93040" y="2610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02640" y="260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76960" y="251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53400" y="4454640"/>
            <a:ext cx="1224360" cy="1223280"/>
            <a:chOff x="653400" y="4454640"/>
            <a:chExt cx="1224360" cy="1223280"/>
          </a:xfrm>
        </p:grpSpPr>
        <p:sp>
          <p:nvSpPr>
            <p:cNvPr id="577" name=""/>
            <p:cNvSpPr/>
            <p:nvPr/>
          </p:nvSpPr>
          <p:spPr>
            <a:xfrm>
              <a:off x="963360" y="44546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63360" y="52927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63360" y="44546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18760" y="45687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" y="47242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62880" y="52722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904320" y="358128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dding constraints according to accumulated cycle weight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77440" y="4343400"/>
            <a:ext cx="634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sults in a yes/no answe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70920" y="17938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eparation predicat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EA8-7F11-4839-B1E8-CD4B160230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xt: Linear Arithmetic (2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89280" y="2133720"/>
            <a:ext cx="18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89480" y="2438280"/>
            <a:ext cx="1387440" cy="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1760" y="2152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48560" y="2143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33920" y="2057400"/>
            <a:ext cx="9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+ 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6320" y="2560680"/>
            <a:ext cx="1612800" cy="1593000"/>
            <a:chOff x="76320" y="2560680"/>
            <a:chExt cx="1612800" cy="1593000"/>
          </a:xfrm>
        </p:grpSpPr>
        <p:sp>
          <p:nvSpPr>
            <p:cNvPr id="594" name=""/>
            <p:cNvSpPr/>
            <p:nvPr/>
          </p:nvSpPr>
          <p:spPr>
            <a:xfrm>
              <a:off x="506160" y="2935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6160" y="3773520"/>
              <a:ext cx="91404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6160" y="2935440"/>
              <a:ext cx="91404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700000">
              <a:off x="601560" y="30106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z + c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320" y="32004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he-IL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7880" y="3747960"/>
              <a:ext cx="44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he-IL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5640" y="2560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2680" y="358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022840" y="3281400"/>
            <a:ext cx="64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sults in a new predicate!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8200" y="4724280"/>
            <a:ext cx="88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hostak[81]: ‘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Deciding linear inequalities by computing loop residues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Determine a fixed variable orde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Represent each predicate by its two ‘highest’ variabl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is procedure guarantees termination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57800" y="1676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744-10EC-4C2F-8514-EE40A662BE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decision procedure for separation theo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0160" y="198108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Separation predicate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have the for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re real variables,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 consta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240" y="3013200"/>
            <a:ext cx="786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Pratt [73] (/Bellman[57]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Given a set of conjuncted separation predicates </a:t>
            </a: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1. Construct the `inequality graph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2. </a:t>
            </a: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is satisfiable iff there is no cycle with non-negative </a:t>
            </a:r>
            <a:br>
              <a:rPr sz="2400"/>
            </a:b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accumulated weigh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4280" y="5410080"/>
            <a:ext cx="42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54560" y="4800600"/>
            <a:ext cx="1502280" cy="1601640"/>
            <a:chOff x="6154560" y="4800600"/>
            <a:chExt cx="1502280" cy="1601640"/>
          </a:xfrm>
        </p:grpSpPr>
        <p:sp>
          <p:nvSpPr>
            <p:cNvPr id="108" name=""/>
            <p:cNvSpPr/>
            <p:nvPr/>
          </p:nvSpPr>
          <p:spPr>
            <a:xfrm>
              <a:off x="6450120" y="5216400"/>
              <a:ext cx="0" cy="83844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0120" y="605484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50120" y="5216400"/>
              <a:ext cx="914400" cy="83844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4440" y="480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10800" y="589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57320" y="5864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00840" y="5330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4560" y="5486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64400" y="60339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C9A-2F8E-4C7D-814B-111D207A2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andling </a:t>
            </a:r>
            <a:r>
              <a:rPr b="0" lang="he-IL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sjunctions through case splitt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9040" y="2098800"/>
            <a:ext cx="816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l previously mentioned algorithms handle disjunction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splitting the formula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is can be thought of as a two stage proces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1d1d2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  <a:ea typeface="Times New Roman (Hebrew)"/>
              </a:rPr>
              <a:t>Convert formula to Disjunctive Normal Form (DNF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1d1d2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  <a:ea typeface="Times New Roman (Hebrew)"/>
              </a:rPr>
              <a:t>Solve each clause separately, until satisfying one of them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280" y="4952880"/>
            <a:ext cx="60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 common improvement: split ‘when needed’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840" y="568008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 splitting is frequently the bottleneck of the procedur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162-DA0C-485D-9692-D7E6C9FC4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 what can be done against case-splitting ?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720" y="2987640"/>
            <a:ext cx="87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a formul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this transformation can be done if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.t. |</a:t>
            </a:r>
            <a:r>
              <a:rPr b="0" lang="en-US" sz="2400" spc="-1" strike="noStrike" baseline="-2000">
                <a:solidFill>
                  <a:srgbClr val="1d1d27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|</a:t>
            </a:r>
            <a:r>
              <a:rPr b="0" lang="en-US" sz="2400" spc="-1" strike="noStrike" baseline="-2000">
                <a:solidFill>
                  <a:srgbClr val="1d1d27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decidable under a finite domain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8280" y="4038480"/>
            <a:ext cx="52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n is this possible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njoys the ‘Small model property’, o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ailor-made reduc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7840" y="2209680"/>
            <a:ext cx="57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Split the domain, not the formula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238-D7BF-4969-9694-0709359EA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880" y="1828800"/>
            <a:ext cx="724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finite instantiation (e.g. SAT), we split the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domai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finite state decision procedures split the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o what’s the big difference ?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FE1-9753-462F-80F8-3A216C1EFB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080" y="182880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 splits the domain. Infinite state decision procedures spli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formula. So what’s the big difference ?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8280" y="3352680"/>
            <a:ext cx="5492520" cy="1831320"/>
            <a:chOff x="458280" y="3352680"/>
            <a:chExt cx="5492520" cy="1831320"/>
          </a:xfrm>
        </p:grpSpPr>
        <p:sp>
          <p:nvSpPr>
            <p:cNvPr id="130" name=""/>
            <p:cNvSpPr/>
            <p:nvPr/>
          </p:nvSpPr>
          <p:spPr>
            <a:xfrm>
              <a:off x="458280" y="335268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1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u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40384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ar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5800" y="4724280"/>
              <a:ext cx="508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3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uidance (prioritizing internal steps)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28760" y="270828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ree mechanisms, crucial for efficient decision making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480" y="568008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AT has a significant advantage in all thre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60B-C66E-4DDE-AD33-BF9148A513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7:11:39Z</dcterms:created>
  <dc:creator>ofer strichman</dc:creator>
  <dc:description/>
  <dc:language>en-US</dc:language>
  <cp:lastModifiedBy>ofer strichman</cp:lastModifiedBy>
  <dcterms:modified xsi:type="dcterms:W3CDTF">2002-01-29T19:55:17Z</dcterms:modified>
  <cp:revision>60</cp:revision>
  <dc:subject/>
  <dc:title>A propositional world</dc:title>
</cp:coreProperties>
</file>