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27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29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34213" cy="7707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113-4804-4F1E-A733-D733FD74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77D-764C-4096-85DC-41DA7F4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3EC-69BA-4967-ACD1-3A90479B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881-5D03-4812-831B-3FAE121B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EA9-3B78-4E44-8D9E-69D1C6FA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7D6-AD1D-45C5-B72C-189D1099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451-CDE1-49E3-97C6-03E02793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9B2-C7B2-4758-B488-401D4EED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62A-E997-4AC4-8EE1-F0596C28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859-2C7B-4C58-8300-4F5D254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07B-C29C-4C9F-8903-130107A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BF1-046E-4E7C-85A6-6925CC6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E0B7-9F5B-4CD2-B374-2088ED469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Model Checking Large-Scale Softwa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asha Shary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: An Executable OO Model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371600"/>
          <a:ext cx="4114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4114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267080" y="1371600"/>
            <a:ext cx="4876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able dialect of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ystem consists of interacting sequential programs (class instan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class hierarch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instances communicate mainly through asynchronous event passing with buff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class instances is defined as Stat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Models are extended with stat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ction is run-to-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s are enabled by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A89-6914-4CB6-9759-7DAF93E59F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ecutable OO Model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textual xU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447920"/>
            <a:ext cx="8305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xUML system is a parallel composition of individual sequential progra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 … ||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590920"/>
            <a:ext cx="7924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ample  commands of xUML progra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: = ex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 := any{ex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, …, ex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munic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enerate 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ID,exp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ceive 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ID,x)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Event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ounds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if then else, while do od,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BDB-D963-4CC5-85FC-95CE164520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26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Sample xUML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2209680"/>
            <a:ext cx="2210040" cy="533520"/>
          </a:xfrm>
          <a:prstGeom prst="wedgeRoundRectCallout">
            <a:avLst>
              <a:gd name="adj1" fmla="val -40731"/>
              <a:gd name="adj2" fmla="val 81250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160" y="28195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4495680"/>
            <a:ext cx="990360" cy="457200"/>
          </a:xfrm>
          <a:prstGeom prst="wedgeRoundRectCallout">
            <a:avLst>
              <a:gd name="adj1" fmla="val 38462"/>
              <a:gd name="adj2" fmla="val -111458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9960" y="3809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752480"/>
            <a:ext cx="2210040" cy="533520"/>
          </a:xfrm>
          <a:prstGeom prst="wedgeRoundRectCallout">
            <a:avLst>
              <a:gd name="adj1" fmla="val 40805"/>
              <a:gd name="adj2" fmla="val 97319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3920" y="243828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00400"/>
            <a:ext cx="838080" cy="457200"/>
          </a:xfrm>
          <a:prstGeom prst="wedgeRoundRectCallout">
            <a:avLst>
              <a:gd name="adj1" fmla="val 46023"/>
              <a:gd name="adj2" fmla="val 79861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7560" y="37339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sag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055-E8DD-4BBD-AD85-B0B261504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xUML Program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UT-Bell Labs Project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98108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048120"/>
            <a:ext cx="358128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98108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198108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98108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8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-to-S/R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505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505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181480"/>
            <a:ext cx="685800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5181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Checking with COSPAN Model Ch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572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572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114800"/>
            <a:ext cx="289584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PAN Error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048120"/>
            <a:ext cx="289584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0481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Report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400440" y="350496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400440" y="45716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81080"/>
            <a:ext cx="289584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Level Error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40044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6095880"/>
            <a:ext cx="1219320" cy="3812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6095880"/>
            <a:ext cx="1523880" cy="38124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562360" y="5942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7238880" y="59432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200" y="60199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040" y="60199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160" y="5994360"/>
            <a:ext cx="109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07A-4F48-4754-AE8C-510CEF5AF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PAN Model Checker and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/R Automaton Languag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9714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PAN is 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utomata-based model checker and input models and queries are formulated in S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/R, a system is a synchronous parallel composition of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9F5-1436-4A9A-9CDE-4F0BDE1E4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-to-S/R Mode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676520"/>
            <a:ext cx="80010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xUML class instances to S/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synchrony with synchro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S/R process as global execution 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buffers by separate S/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s dynamic creation of class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 infinite state spaces of xUM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s modules from SDLCheck [Kurshan, Levin’01], such as optimization modules that conduct Static Partial Order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64E-FF4B-428B-9D52-FDBA09531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50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 Level Query Formul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84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Joint_2_in_Move_EE &lt;&lt;Joint 2&gt;&gt; $Move_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Recovery_Called &lt;&lt;Recovery 1&gt;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recovery_status =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(Joint_2_in_Move_EE AND Recovery_Call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666880"/>
            <a:ext cx="2438640" cy="457200"/>
          </a:xfrm>
          <a:prstGeom prst="wedgeRoundRectCallout">
            <a:avLst>
              <a:gd name="adj1" fmla="val -35157"/>
              <a:gd name="adj2" fmla="val -120486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9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962520"/>
            <a:ext cx="7162560" cy="609480"/>
          </a:xfrm>
          <a:prstGeom prst="wedgeRoundRectCallout">
            <a:avLst>
              <a:gd name="adj1" fmla="val -8865"/>
              <a:gd name="adj2" fmla="val 152342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1240" y="541008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stantiation of Temporal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666880"/>
            <a:ext cx="1600200" cy="457200"/>
          </a:xfrm>
          <a:prstGeom prst="wedgeRoundRectCallout">
            <a:avLst>
              <a:gd name="adj1" fmla="val -23513"/>
              <a:gd name="adj2" fmla="val -129861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3680" y="190512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ntic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s of xUM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D99-EF46-4C22-928F-BE6B36166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572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419720"/>
            <a:ext cx="24130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4" idx="2"/>
            <a:endCxn id="161" idx="0"/>
          </p:cNvCxnSpPr>
          <p:nvPr/>
        </p:nvCxnSpPr>
        <p:spPr>
          <a:xfrm flipV="1" rot="10800000">
            <a:off x="2056680" y="3152520"/>
            <a:ext cx="1080" cy="415080"/>
          </a:xfrm>
          <a:prstGeom prst="bentConnector2">
            <a:avLst/>
          </a:prstGeom>
          <a:ln w="0">
            <a:noFill/>
          </a:ln>
        </p:spPr>
      </p:cxnSp>
      <p:grpSp>
        <p:nvGrpSpPr>
          <p:cNvPr id="162" name=""/>
          <p:cNvGrpSpPr/>
          <p:nvPr/>
        </p:nvGrpSpPr>
        <p:grpSpPr>
          <a:xfrm>
            <a:off x="5653080" y="2095200"/>
            <a:ext cx="1967400" cy="1472040"/>
            <a:chOff x="5653080" y="2095200"/>
            <a:chExt cx="1967400" cy="1472040"/>
          </a:xfrm>
        </p:grpSpPr>
        <p:cxnSp>
          <p:nvCxnSpPr>
            <p:cNvPr id="163" name=""/>
            <p:cNvCxnSpPr>
              <a:stCxn id="164" idx="3"/>
              <a:endCxn id="156" idx="0"/>
            </p:cNvCxnSpPr>
            <p:nvPr/>
          </p:nvCxnSpPr>
          <p:spPr>
            <a:xfrm>
              <a:off x="5653080" y="2095200"/>
              <a:ext cx="196776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stealth" w="med"/>
            </a:ln>
          </p:spPr>
        </p:cxnSp>
        <p:cxnSp>
          <p:nvCxnSpPr>
            <p:cNvPr id="165" name=""/>
            <p:cNvCxnSpPr/>
            <p:nvPr/>
          </p:nvCxnSpPr>
          <p:spPr>
            <a:xfrm flipV="1" rot="10800000">
              <a:off x="761940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1447920" y="3962520"/>
            <a:ext cx="4343400" cy="1676160"/>
            <a:chOff x="1447920" y="3962520"/>
            <a:chExt cx="4343400" cy="1676160"/>
          </a:xfrm>
        </p:grpSpPr>
        <p:sp>
          <p:nvSpPr>
            <p:cNvPr id="167" name=""/>
            <p:cNvSpPr/>
            <p:nvPr/>
          </p:nvSpPr>
          <p:spPr>
            <a:xfrm>
              <a:off x="4343400" y="5257800"/>
              <a:ext cx="144792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/R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7920" y="5257800"/>
              <a:ext cx="121896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/R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V="1" rot="10800000">
              <a:off x="205668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0" name=""/>
            <p:cNvCxnSpPr/>
            <p:nvPr/>
          </p:nvCxnSpPr>
          <p:spPr>
            <a:xfrm flipV="1" rot="10800000">
              <a:off x="502848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1" name=""/>
            <p:cNvCxnSpPr/>
            <p:nvPr/>
          </p:nvCxnSpPr>
          <p:spPr>
            <a:xfrm flipV="1" rot="10800000">
              <a:off x="205668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2" name=""/>
            <p:cNvCxnSpPr/>
            <p:nvPr/>
          </p:nvCxnSpPr>
          <p:spPr>
            <a:xfrm flipV="1" rot="10800000">
              <a:off x="502848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6934320" y="3581280"/>
            <a:ext cx="1295280" cy="1662480"/>
            <a:chOff x="6934320" y="3581280"/>
            <a:chExt cx="1295280" cy="1662480"/>
          </a:xfrm>
        </p:grpSpPr>
        <p:sp>
          <p:nvSpPr>
            <p:cNvPr id="174" name=""/>
            <p:cNvSpPr/>
            <p:nvPr/>
          </p:nvSpPr>
          <p:spPr>
            <a:xfrm>
              <a:off x="6934320" y="3581280"/>
              <a:ext cx="1295280" cy="381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 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/>
            <p:nvPr/>
          </p:nvCxnSpPr>
          <p:spPr>
            <a:xfrm flipV="1" rot="10800000">
              <a:off x="761940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176" name=""/>
            <p:cNvCxnSpPr/>
            <p:nvPr/>
          </p:nvCxnSpPr>
          <p:spPr>
            <a:xfrm flipV="1" rot="10800000">
              <a:off x="761940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2056680" y="5257800"/>
            <a:ext cx="6249240" cy="1036800"/>
            <a:chOff x="2056680" y="5257800"/>
            <a:chExt cx="6249240" cy="1036800"/>
          </a:xfrm>
        </p:grpSpPr>
        <p:sp>
          <p:nvSpPr>
            <p:cNvPr id="178" name=""/>
            <p:cNvSpPr/>
            <p:nvPr/>
          </p:nvSpPr>
          <p:spPr>
            <a:xfrm>
              <a:off x="6934320" y="5257800"/>
              <a:ext cx="137160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 Tr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/>
            <p:nvPr/>
          </p:nvCxnSpPr>
          <p:spPr>
            <a:xfrm flipV="1" rot="10800000">
              <a:off x="2056680" y="56383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0" name=""/>
            <p:cNvCxnSpPr/>
            <p:nvPr/>
          </p:nvCxnSpPr>
          <p:spPr>
            <a:xfrm flipV="1" rot="10800000">
              <a:off x="5028480" y="56383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1" name=""/>
            <p:cNvCxnSpPr>
              <a:stCxn id="159" idx="3"/>
              <a:endCxn id="178" idx="2"/>
            </p:cNvCxnSpPr>
            <p:nvPr/>
          </p:nvCxnSpPr>
          <p:spPr>
            <a:xfrm flipV="1">
              <a:off x="5805000" y="5652720"/>
              <a:ext cx="181548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4343400" y="1905120"/>
            <a:ext cx="1447920" cy="2057400"/>
            <a:chOff x="4343400" y="1905120"/>
            <a:chExt cx="1447920" cy="2057400"/>
          </a:xfrm>
        </p:grpSpPr>
        <p:sp>
          <p:nvSpPr>
            <p:cNvPr id="164" name=""/>
            <p:cNvSpPr/>
            <p:nvPr/>
          </p:nvSpPr>
          <p:spPr>
            <a:xfrm>
              <a:off x="4419720" y="1905120"/>
              <a:ext cx="121896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43400" y="2286000"/>
              <a:ext cx="1447920" cy="1676520"/>
              <a:chOff x="4343400" y="2286000"/>
              <a:chExt cx="1447920" cy="1676520"/>
            </a:xfrm>
          </p:grpSpPr>
          <p:sp>
            <p:nvSpPr>
              <p:cNvPr id="184" name=""/>
              <p:cNvSpPr/>
              <p:nvPr/>
            </p:nvSpPr>
            <p:spPr>
              <a:xfrm>
                <a:off x="4343400" y="3581280"/>
                <a:ext cx="1447920" cy="3812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xUML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/>
              <p:nvPr/>
            </p:nvCxnSpPr>
            <p:spPr>
              <a:xfrm flipV="1" rot="10800000">
                <a:off x="5028480" y="31237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 flipV="1" rot="10800000">
                <a:off x="5028480" y="22856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tailEnd len="med" type="stealth" w="med"/>
              </a:ln>
            </p:spPr>
          </p:cxnSp>
        </p:grpSp>
      </p:grpSp>
      <p:grpSp>
        <p:nvGrpSpPr>
          <p:cNvPr id="187" name=""/>
          <p:cNvGrpSpPr/>
          <p:nvPr/>
        </p:nvGrpSpPr>
        <p:grpSpPr>
          <a:xfrm>
            <a:off x="1447920" y="2094480"/>
            <a:ext cx="2957400" cy="1868040"/>
            <a:chOff x="1447920" y="2094480"/>
            <a:chExt cx="2957400" cy="1868040"/>
          </a:xfrm>
        </p:grpSpPr>
        <p:sp>
          <p:nvSpPr>
            <p:cNvPr id="161" name=""/>
            <p:cNvSpPr/>
            <p:nvPr/>
          </p:nvSpPr>
          <p:spPr>
            <a:xfrm>
              <a:off x="1447920" y="3581280"/>
              <a:ext cx="1218960" cy="381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9" name=""/>
            <p:cNvCxnSpPr>
              <a:stCxn id="164" idx="1"/>
              <a:endCxn id="154" idx="0"/>
            </p:cNvCxnSpPr>
            <p:nvPr/>
          </p:nvCxnSpPr>
          <p:spPr>
            <a:xfrm flipV="1" rot="10800000">
              <a:off x="2056680" y="2094480"/>
              <a:ext cx="234864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AE1-3E9C-477B-9A49-94C0FEBE2E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3" idx="2"/>
            <a:endCxn id="198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06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07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08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0CE-DA28-47DC-9974-121E684102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FC7-B3E3-4E9F-8878-1E6E90D637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2B1-EEBD-41D2-9ED2-1AEC5AF8CD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F24-3BB4-4C64-9582-381A436ECD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2EE-BCE1-4AEE-B4DF-385E361ADD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102-3A0D-456C-AD0D-859BD6C8DA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53A-5D97-444A-AF96-0EFB98320C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4E0-6401-4145-8A45-5F6E563D58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2"/>
            <a:endCxn id="223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31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32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33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234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235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36" name=""/>
            <p:cNvCxnSpPr>
              <a:stCxn id="216" idx="1"/>
              <a:endCxn id="218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B2A-54DF-4C28-A754-931606149E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BE1-1F72-4F92-AB67-9F9B927012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1" idx="2"/>
            <a:endCxn id="246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54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255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256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57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258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259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60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261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62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63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264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265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66" name=""/>
            <p:cNvCxnSpPr>
              <a:stCxn id="239" idx="1"/>
              <a:endCxn id="241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34B-72C8-4C85-B0F2-B165234953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7EF-CAF3-45F2-BBE8-44D704FE12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B78-DC47-4CC8-8CCA-DBF9BFA547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al Verification by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14300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Continuously operating concurrent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operating systems, hard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s and network protoco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, reactive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ting, infinite compu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est non-determi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emporal Logic Model che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larke,Emerson 81][Queille,Sifakis 82]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model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ate transition system - finite state mach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mporal log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check if M satisfies P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 |=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xhaustive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umeration of all states reachable by the 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design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fai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atisfy a desired property, a counterexample is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038-35DB-4282-A0E9-1E48A41660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2" idx="2"/>
            <a:endCxn id="277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85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286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287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88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289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290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91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292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293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294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95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296" name=""/>
            <p:cNvCxnSpPr>
              <a:stCxn id="283" idx="3"/>
              <a:endCxn id="280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98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99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01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02" name=""/>
            <p:cNvCxnSpPr>
              <a:stCxn id="270" idx="1"/>
              <a:endCxn id="272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F44-B6B3-474A-AE30-CBEA8AA4B1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1B0-DB28-4B25-AB4C-E280AEB2C9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7" idx="2"/>
            <a:endCxn id="312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320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321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322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23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324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325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26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327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328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329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30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331" name=""/>
            <p:cNvCxnSpPr>
              <a:stCxn id="318" idx="3"/>
              <a:endCxn id="315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333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34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35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36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37" name=""/>
            <p:cNvCxnSpPr>
              <a:stCxn id="305" idx="1"/>
              <a:endCxn id="307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7466760" y="3976200"/>
            <a:ext cx="720" cy="1267560"/>
            <a:chOff x="7466760" y="3976200"/>
            <a:chExt cx="720" cy="1267560"/>
          </a:xfrm>
        </p:grpSpPr>
        <p:cxnSp>
          <p:nvCxnSpPr>
            <p:cNvPr id="339" name=""/>
            <p:cNvCxnSpPr/>
            <p:nvPr/>
          </p:nvCxnSpPr>
          <p:spPr>
            <a:xfrm flipV="1" rot="10800000">
              <a:off x="746676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340" name=""/>
            <p:cNvCxnSpPr>
              <a:stCxn id="310" idx="2"/>
              <a:endCxn id="314" idx="0"/>
            </p:cNvCxnSpPr>
            <p:nvPr/>
          </p:nvCxnSpPr>
          <p:spPr>
            <a:xfrm flipV="1" rot="10800000">
              <a:off x="7466760" y="3976200"/>
              <a:ext cx="1080" cy="4294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F8B-AFD4-49A0-A981-0E688E7D61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421-1A38-4756-894B-28FD7BAB41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5" idx="2"/>
            <a:endCxn id="350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358" name=""/>
          <p:cNvGrpSpPr/>
          <p:nvPr/>
        </p:nvGrpSpPr>
        <p:grpSpPr>
          <a:xfrm>
            <a:off x="5653080" y="2095200"/>
            <a:ext cx="1814760" cy="1443240"/>
            <a:chOff x="5653080" y="2095200"/>
            <a:chExt cx="1814760" cy="1443240"/>
          </a:xfrm>
        </p:grpSpPr>
        <p:cxnSp>
          <p:nvCxnSpPr>
            <p:cNvPr id="359" name=""/>
            <p:cNvCxnSpPr>
              <a:stCxn id="343" idx="3"/>
              <a:endCxn id="347" idx="0"/>
            </p:cNvCxnSpPr>
            <p:nvPr/>
          </p:nvCxnSpPr>
          <p:spPr>
            <a:xfrm>
              <a:off x="5653080" y="2095200"/>
              <a:ext cx="181512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stealth" w="med"/>
            </a:ln>
          </p:spPr>
        </p:cxnSp>
        <p:cxnSp>
          <p:nvCxnSpPr>
            <p:cNvPr id="360" name=""/>
            <p:cNvCxnSpPr>
              <a:stCxn id="347" idx="2"/>
            </p:cNvCxnSpPr>
            <p:nvPr/>
          </p:nvCxnSpPr>
          <p:spPr>
            <a:xfrm flipV="1" rot="10800000">
              <a:off x="7466760" y="3152520"/>
              <a:ext cx="1080" cy="3862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361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362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363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365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366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67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368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369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370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71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372" name=""/>
            <p:cNvCxnSpPr>
              <a:stCxn id="356" idx="3"/>
              <a:endCxn id="353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373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374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75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76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77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78" name=""/>
            <p:cNvCxnSpPr>
              <a:stCxn id="343" idx="1"/>
              <a:endCxn id="345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79" name=""/>
          <p:cNvGrpSpPr/>
          <p:nvPr/>
        </p:nvGrpSpPr>
        <p:grpSpPr>
          <a:xfrm>
            <a:off x="7466760" y="3976200"/>
            <a:ext cx="720" cy="1267560"/>
            <a:chOff x="7466760" y="3976200"/>
            <a:chExt cx="720" cy="1267560"/>
          </a:xfrm>
        </p:grpSpPr>
        <p:cxnSp>
          <p:nvCxnSpPr>
            <p:cNvPr id="380" name=""/>
            <p:cNvCxnSpPr/>
            <p:nvPr/>
          </p:nvCxnSpPr>
          <p:spPr>
            <a:xfrm flipV="1" rot="10800000">
              <a:off x="746676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381" name=""/>
            <p:cNvCxnSpPr>
              <a:stCxn id="348" idx="2"/>
              <a:endCxn id="352" idx="0"/>
            </p:cNvCxnSpPr>
            <p:nvPr/>
          </p:nvCxnSpPr>
          <p:spPr>
            <a:xfrm flipV="1" rot="10800000">
              <a:off x="7466760" y="3976200"/>
              <a:ext cx="1080" cy="4294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586-61A0-4771-9F0F-0228BDF530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F4A-850B-4931-BCF7-316D1CF4A0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3D1-78BF-44AB-8B6E-025BE6323D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328-A6B0-4F1A-A4F8-F59C620068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SA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009920" y="152280"/>
            <a:ext cx="1981440" cy="2057400"/>
            <a:chOff x="7009920" y="152280"/>
            <a:chExt cx="1981440" cy="205740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7187400" y="152280"/>
              <a:ext cx="1803960" cy="2057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88" name=""/>
            <p:cNvSpPr/>
            <p:nvPr/>
          </p:nvSpPr>
          <p:spPr>
            <a:xfrm flipH="1" flipV="1">
              <a:off x="7009920" y="1459800"/>
              <a:ext cx="390600" cy="25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09280" y="1181880"/>
              <a:ext cx="51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5113080" cy="483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CBA-0FCC-4881-80A2-6060C3A68E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088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SA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6002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robot control system deployed in space (Canadian a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lex functional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inematics control, obstacle avoidance, fault tolerance, performance evaluation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lex coord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and shaking) between functional un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tringent reli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istributed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UML framework for design and validation of robot control algorithm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real-time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800K LOC of textual x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 interfaces to the computational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 libraries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300K LOC, 150+ classes, 500+ methods of 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functional properties, 20 implementation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ogical errors were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ported to 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09920" y="152280"/>
            <a:ext cx="1981440" cy="2057400"/>
            <a:chOff x="7009920" y="152280"/>
            <a:chExt cx="1981440" cy="20574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7187400" y="152280"/>
              <a:ext cx="1803960" cy="2057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95" name=""/>
            <p:cNvSpPr/>
            <p:nvPr/>
          </p:nvSpPr>
          <p:spPr>
            <a:xfrm flipH="1" flipV="1">
              <a:off x="7009920" y="1459800"/>
              <a:ext cx="390600" cy="25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09280" y="1181880"/>
              <a:ext cx="51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08D-8A03-4965-B6C8-6F9F84AA1D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ate Space E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193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roble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of the state graph can be exponential in size of the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in the number of the program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ariab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numb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… ||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just 2 local states, potenti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ob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Research Dire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 space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rincipal Approaches: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bst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limination of details irrelevant to ver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mpositional reas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soning about parts of the sy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331-B180-47F1-A776-8A5AD7AD4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38520" y="1190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38520" y="1257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ass Information Model of the Robot Controlle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03320" y="762120"/>
          <a:ext cx="4738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762120"/>
                    <a:ext cx="4738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191120" y="685800"/>
          <a:ext cx="495288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685800"/>
                    <a:ext cx="49528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724280" y="685800"/>
            <a:ext cx="0" cy="59436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639-A35C-43D4-BF4D-B3D4BA58F6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33720" y="533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 Modeling of the NASA Rob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903920" y="1981080"/>
          <a:ext cx="370656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981080"/>
                    <a:ext cx="37065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304920" y="586728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EndEffector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xUML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24280" y="57150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Ar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112840"/>
          <a:ext cx="4408560" cy="383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12840"/>
                    <a:ext cx="440856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4267080" y="57913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||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280" y="228600"/>
          <a:ext cx="2133720" cy="1768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2860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FB5-50EE-4700-AB2C-15DB366AA4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amples of the Robot Contro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7680" y="1143000"/>
            <a:ext cx="8648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Termin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entually the robot control ter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EventuallyAlways(abort_var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fety Oper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aches an undesired position than the program terminates prior to a new move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fterAlwaysUntil(undesired_position =1,ee_reference=1,abort_var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figuration Validity Check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n instance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is in the “FollowingDesiredTrajectory” state than the instance of the correspond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is in the ‘Valid”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lways((ee_reference=1) -&gt;(arm_status=1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per Program Termin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program terminates when it either completes the task or reaches the state where there is no solution for the fault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lwaysUntil(abort_var=0,end_position=1 OR (recovery_status=1 AND number_joints=1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6E8-165F-44E6-AF3B-DE16F8F9215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A36-B8C1-436E-A9B4-93BA2FF61E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fficient Model Checking of xUM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Space Reduction 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esign modularity for modular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complexity of the program prior to generation of state graph (by syntactic analysis and program trans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omain specific knowledge to derive  abstractions and other reduction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isting state space reduction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067-A185-4772-B9DF-EE7A928634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09480" y="1522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grated State Space Reduction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7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66680" y="917640"/>
          <a:ext cx="7029720" cy="59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7640"/>
                    <a:ext cx="702972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09480" y="129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thodological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gorithmic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1600200"/>
            <a:ext cx="6858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90920" y="1294920"/>
            <a:ext cx="7617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086600" y="243828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248520" y="2438280"/>
            <a:ext cx="1295280" cy="3124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477-8AC9-4868-86BA-9505D2469D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-Guarantee Compositional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ssume-guarant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digm: each component guarantees properties based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ptions about other components via proof ru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|| T2 |= 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 || T1 |= 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 Circularity during verification of different blocks is broken by induction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badiLamport95][AlurHenzinger96][HenzingerQadeerRajamani99][Kurshan94][McMillan98][Stark8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tr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sequence of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 of FSM (||) is the intersection of tr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cy check (|=) is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race contai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35920" y="2887560"/>
            <a:ext cx="203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|| M2 |= T1 || T2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040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1797120"/>
            <a:ext cx="222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Constraining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205740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1981080"/>
            <a:ext cx="533160" cy="304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62A-DCBF-46C9-B339-F0AB91A5CA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alability of Multi-Process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990720"/>
            <a:ext cx="8458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Limi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 when used as constraints commonly do not give sufficient details about the verifiabl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pproach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bstraction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bstraction constra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. Kurshan 94, Henzinger 98)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dded to the property specif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|| T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T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||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|| …||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 …,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abstraction constrai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 constraints specific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emporal logic formulae constraining the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xternal variabl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verifiable proc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nslation of the formulae to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237-2A20-4E9E-8EE1-AC9099A84B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ional software structure and behaviors preclude system decomposi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bility of assume/guarantee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rdwar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patial Modularit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ural division into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omponents have well defined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ely defined communica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ftwar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t Spatially Modula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olithic designs (even for OO progr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fficulties in property decom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lean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interaction between SW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fficulties in identifying environment 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Inability to specify meaningful abstraction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F71-6CF9-442E-9159-C0FE0F4D2D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sign for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1430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pproach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force softwar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sign discip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sign constra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alogous to the physic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s of hardware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rinciple 1: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 encapsulation at th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onen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(not an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rinciple 2: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software components to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patial mod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hat to 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state spaces of components rigorously dis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communication through precisely defined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precise communica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52E-DFD8-41AF-AB37-2EBEEB65628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lication of Model Checking to Hardwar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ata structures ar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are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finite-stat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mponents have well defin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synchronou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255-D7D2-43A1-9FA5-61A5826B31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/Guarantee Reasoning of Software Spati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62120" y="3200400"/>
            <a:ext cx="2514600" cy="398880"/>
            <a:chOff x="762120" y="3200400"/>
            <a:chExt cx="2514600" cy="398880"/>
          </a:xfrm>
        </p:grpSpPr>
        <p:sp>
          <p:nvSpPr>
            <p:cNvPr id="454" name=""/>
            <p:cNvSpPr/>
            <p:nvPr/>
          </p:nvSpPr>
          <p:spPr>
            <a:xfrm>
              <a:off x="762120" y="320040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909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715000" y="3200400"/>
            <a:ext cx="2590920" cy="398880"/>
            <a:chOff x="5715000" y="3200400"/>
            <a:chExt cx="2590920" cy="398880"/>
          </a:xfrm>
        </p:grpSpPr>
        <p:sp>
          <p:nvSpPr>
            <p:cNvPr id="457" name=""/>
            <p:cNvSpPr/>
            <p:nvPr/>
          </p:nvSpPr>
          <p:spPr>
            <a:xfrm>
              <a:off x="6477120" y="320040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15000" y="3352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581280" y="3733560"/>
            <a:ext cx="1828800" cy="1846800"/>
            <a:chOff x="3581280" y="3733560"/>
            <a:chExt cx="1828800" cy="1846800"/>
          </a:xfrm>
        </p:grpSpPr>
        <p:sp>
          <p:nvSpPr>
            <p:cNvPr id="460" name=""/>
            <p:cNvSpPr/>
            <p:nvPr/>
          </p:nvSpPr>
          <p:spPr>
            <a:xfrm>
              <a:off x="3581280" y="518148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962520" y="37335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886200" y="5867280"/>
            <a:ext cx="1295280" cy="825120"/>
            <a:chOff x="3886200" y="5867280"/>
            <a:chExt cx="1295280" cy="825120"/>
          </a:xfrm>
        </p:grpSpPr>
        <p:sp>
          <p:nvSpPr>
            <p:cNvPr id="463" name=""/>
            <p:cNvSpPr/>
            <p:nvPr/>
          </p:nvSpPr>
          <p:spPr>
            <a:xfrm>
              <a:off x="3886200" y="6172200"/>
              <a:ext cx="129528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onent 3: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6200" y="5867280"/>
              <a:ext cx="1295280" cy="307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276720" y="3048120"/>
            <a:ext cx="2530440" cy="1815840"/>
            <a:chOff x="3276720" y="3048120"/>
            <a:chExt cx="2530440" cy="1815840"/>
          </a:xfrm>
        </p:grpSpPr>
        <p:grpSp>
          <p:nvGrpSpPr>
            <p:cNvPr id="466" name=""/>
            <p:cNvGrpSpPr/>
            <p:nvPr/>
          </p:nvGrpSpPr>
          <p:grpSpPr>
            <a:xfrm>
              <a:off x="3276720" y="3048120"/>
              <a:ext cx="2438280" cy="1815840"/>
              <a:chOff x="3276720" y="3048120"/>
              <a:chExt cx="2438280" cy="1815840"/>
            </a:xfrm>
          </p:grpSpPr>
          <p:sp>
            <p:nvSpPr>
              <p:cNvPr id="467" name=""/>
              <p:cNvSpPr/>
              <p:nvPr/>
            </p:nvSpPr>
            <p:spPr>
              <a:xfrm>
                <a:off x="3276720" y="3048120"/>
                <a:ext cx="2438280" cy="703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 1: formal 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52880" y="4495680"/>
                <a:ext cx="60984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4648320" y="3962520"/>
              <a:ext cx="11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2120" y="1752480"/>
            <a:ext cx="7429320" cy="952560"/>
            <a:chOff x="762120" y="1752480"/>
            <a:chExt cx="7429320" cy="952560"/>
          </a:xfrm>
        </p:grpSpPr>
        <p:grpSp>
          <p:nvGrpSpPr>
            <p:cNvPr id="471" name=""/>
            <p:cNvGrpSpPr/>
            <p:nvPr/>
          </p:nvGrpSpPr>
          <p:grpSpPr>
            <a:xfrm>
              <a:off x="914400" y="1752480"/>
              <a:ext cx="7162920" cy="520200"/>
              <a:chOff x="914400" y="1752480"/>
              <a:chExt cx="7162920" cy="520200"/>
            </a:xfrm>
          </p:grpSpPr>
          <p:sp>
            <p:nvSpPr>
              <p:cNvPr id="472" name=""/>
              <p:cNvSpPr/>
              <p:nvPr/>
            </p:nvSpPr>
            <p:spPr>
              <a:xfrm>
                <a:off x="3809880" y="1752480"/>
                <a:ext cx="129564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1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1752480"/>
                <a:ext cx="144792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4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137160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2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75" name=""/>
            <p:cNvGraphicFramePr/>
            <p:nvPr/>
          </p:nvGraphicFramePr>
          <p:xfrm>
            <a:off x="762120" y="2133720"/>
            <a:ext cx="742932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133720"/>
                      <a:ext cx="742932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7" name=""/>
          <p:cNvGrpSpPr/>
          <p:nvPr/>
        </p:nvGrpSpPr>
        <p:grpSpPr>
          <a:xfrm>
            <a:off x="449280" y="3657600"/>
            <a:ext cx="2994120" cy="1828800"/>
            <a:chOff x="449280" y="3657600"/>
            <a:chExt cx="2994120" cy="1828800"/>
          </a:xfrm>
        </p:grpSpPr>
        <p:sp>
          <p:nvSpPr>
            <p:cNvPr id="478" name=""/>
            <p:cNvSpPr/>
            <p:nvPr/>
          </p:nvSpPr>
          <p:spPr>
            <a:xfrm>
              <a:off x="449280" y="4532400"/>
              <a:ext cx="29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</a:rPr>
                <a:t>Property decompos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</a:rPr>
                <a:t>Temporal logic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828800" y="3657600"/>
              <a:ext cx="0" cy="91440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81080" y="5105520"/>
              <a:ext cx="1447920" cy="38088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023520" y="5043600"/>
            <a:ext cx="2626560" cy="1036440"/>
            <a:chOff x="6023520" y="5043600"/>
            <a:chExt cx="2626560" cy="1036440"/>
          </a:xfrm>
        </p:grpSpPr>
        <p:sp>
          <p:nvSpPr>
            <p:cNvPr id="482" name=""/>
            <p:cNvSpPr/>
            <p:nvPr/>
          </p:nvSpPr>
          <p:spPr>
            <a:xfrm>
              <a:off x="6023520" y="5043600"/>
              <a:ext cx="26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1 || T2 || T2 || T3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|= 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71480" y="5711760"/>
              <a:ext cx="242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nvironment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6857640" y="5409720"/>
              <a:ext cx="22860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3888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467480" y="5409720"/>
              <a:ext cx="30492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560-75B5-44FE-A7B2-1BBED74C0C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/Guarantee Reasoning of Software Spati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91640" y="1219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80240" y="13860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03840" y="1386000"/>
            <a:ext cx="1908720" cy="2568960"/>
            <a:chOff x="303840" y="1386000"/>
            <a:chExt cx="1908720" cy="2568960"/>
          </a:xfrm>
        </p:grpSpPr>
        <p:grpSp>
          <p:nvGrpSpPr>
            <p:cNvPr id="492" name=""/>
            <p:cNvGrpSpPr/>
            <p:nvPr/>
          </p:nvGrpSpPr>
          <p:grpSpPr>
            <a:xfrm>
              <a:off x="533520" y="1386000"/>
              <a:ext cx="1450800" cy="1139760"/>
              <a:chOff x="533520" y="1386000"/>
              <a:chExt cx="1450800" cy="113976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1682640"/>
                <a:ext cx="144756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2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3520" y="2209680"/>
                <a:ext cx="145080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66680" y="2225520"/>
                <a:ext cx="5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27080" y="138600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762120" y="3556080"/>
              <a:ext cx="79056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a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2388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" name=""/>
            <p:cNvCxnSpPr>
              <a:stCxn id="494" idx="1"/>
              <a:endCxn id="497" idx="0"/>
            </p:cNvCxnSpPr>
            <p:nvPr/>
          </p:nvCxnSpPr>
          <p:spPr>
            <a:xfrm flipH="1" flipV="1" rot="10800000">
              <a:off x="532440" y="2367360"/>
              <a:ext cx="624600" cy="1188360"/>
            </a:xfrm>
            <a:prstGeom prst="curvedConnector5">
              <a:avLst>
                <a:gd name="adj1" fmla="val -36620"/>
                <a:gd name="adj2" fmla="val 28333"/>
                <a:gd name="adj3" fmla="val -36620"/>
              </a:avLst>
            </a:prstGeom>
            <a:ln w="9360">
              <a:solidFill>
                <a:srgbClr val="00cc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4" idx="3"/>
              <a:endCxn id="497" idx="0"/>
            </p:cNvCxnSpPr>
            <p:nvPr/>
          </p:nvCxnSpPr>
          <p:spPr>
            <a:xfrm flipH="1">
              <a:off x="1156680" y="2368080"/>
              <a:ext cx="827640" cy="1188360"/>
            </a:xfrm>
            <a:prstGeom prst="curvedConnector5">
              <a:avLst>
                <a:gd name="adj1" fmla="val -27632"/>
                <a:gd name="adj2" fmla="val 28272"/>
                <a:gd name="adj3" fmla="val -27632"/>
              </a:avLst>
            </a:prstGeom>
            <a:ln w="9360">
              <a:solidFill>
                <a:srgbClr val="00cc99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286000" y="3429000"/>
            <a:ext cx="4495680" cy="1668600"/>
            <a:chOff x="2286000" y="3429000"/>
            <a:chExt cx="4495680" cy="1668600"/>
          </a:xfrm>
        </p:grpSpPr>
        <p:sp>
          <p:nvSpPr>
            <p:cNvPr id="502" name=""/>
            <p:cNvSpPr/>
            <p:nvPr/>
          </p:nvSpPr>
          <p:spPr>
            <a:xfrm>
              <a:off x="2286000" y="3429000"/>
              <a:ext cx="20574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 1: formal model, 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4729320"/>
              <a:ext cx="53496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0" y="423396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4280" y="3429000"/>
              <a:ext cx="20574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 2: formal model, 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4729320"/>
              <a:ext cx="53496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7280" y="426708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781680" y="1752480"/>
            <a:ext cx="1981440" cy="2227680"/>
            <a:chOff x="6781680" y="1752480"/>
            <a:chExt cx="1981440" cy="2227680"/>
          </a:xfrm>
        </p:grpSpPr>
        <p:grpSp>
          <p:nvGrpSpPr>
            <p:cNvPr id="509" name=""/>
            <p:cNvGrpSpPr/>
            <p:nvPr/>
          </p:nvGrpSpPr>
          <p:grpSpPr>
            <a:xfrm>
              <a:off x="7083360" y="1752480"/>
              <a:ext cx="1451160" cy="849600"/>
              <a:chOff x="7083360" y="1752480"/>
              <a:chExt cx="1451160" cy="849600"/>
            </a:xfrm>
          </p:grpSpPr>
          <p:sp>
            <p:nvSpPr>
              <p:cNvPr id="510" name=""/>
              <p:cNvSpPr/>
              <p:nvPr/>
            </p:nvSpPr>
            <p:spPr>
              <a:xfrm>
                <a:off x="7086600" y="1752480"/>
                <a:ext cx="144792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1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83360" y="2286000"/>
                <a:ext cx="145116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72240" y="2301840"/>
                <a:ext cx="5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81680" y="2443680"/>
              <a:ext cx="1981440" cy="1536480"/>
              <a:chOff x="6781680" y="2443680"/>
              <a:chExt cx="1981440" cy="1536480"/>
            </a:xfrm>
          </p:grpSpPr>
          <p:sp>
            <p:nvSpPr>
              <p:cNvPr id="514" name=""/>
              <p:cNvSpPr/>
              <p:nvPr/>
            </p:nvSpPr>
            <p:spPr>
              <a:xfrm>
                <a:off x="6781680" y="38098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6853680" y="2443680"/>
                <a:ext cx="1909440" cy="1536480"/>
                <a:chOff x="6853680" y="2443680"/>
                <a:chExt cx="1909440" cy="15364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43800" y="3581280"/>
                  <a:ext cx="762120" cy="398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1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ab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17" name=""/>
                <p:cNvCxnSpPr>
                  <a:stCxn id="511" idx="1"/>
                  <a:endCxn id="516" idx="0"/>
                </p:cNvCxnSpPr>
                <p:nvPr/>
              </p:nvCxnSpPr>
              <p:spPr>
                <a:xfrm flipH="1" flipV="1" rot="10800000">
                  <a:off x="7082280" y="2443680"/>
                  <a:ext cx="842040" cy="1137240"/>
                </a:xfrm>
                <a:prstGeom prst="curvedConnector5">
                  <a:avLst>
                    <a:gd name="adj1" fmla="val -27159"/>
                    <a:gd name="adj2" fmla="val 28467"/>
                    <a:gd name="adj3" fmla="val -27159"/>
                  </a:avLst>
                </a:prstGeom>
                <a:ln w="9360">
                  <a:solidFill>
                    <a:srgbClr val="00cc99"/>
                  </a:solidFill>
                  <a:prstDash val="dash"/>
                  <a:miter/>
                  <a:tailEnd len="med" type="triangle" w="med"/>
                </a:ln>
              </p:spPr>
            </p:cxnSp>
            <p:cxnSp>
              <p:nvCxnSpPr>
                <p:cNvPr id="518" name=""/>
                <p:cNvCxnSpPr>
                  <a:stCxn id="511" idx="3"/>
                  <a:endCxn id="516" idx="0"/>
                </p:cNvCxnSpPr>
                <p:nvPr/>
              </p:nvCxnSpPr>
              <p:spPr>
                <a:xfrm flipH="1">
                  <a:off x="7924320" y="2444400"/>
                  <a:ext cx="610560" cy="1137240"/>
                </a:xfrm>
                <a:prstGeom prst="curvedConnector5">
                  <a:avLst>
                    <a:gd name="adj1" fmla="val -37463"/>
                    <a:gd name="adj2" fmla="val 28404"/>
                    <a:gd name="adj3" fmla="val -37463"/>
                  </a:avLst>
                </a:prstGeom>
                <a:ln w="9360">
                  <a:solidFill>
                    <a:srgbClr val="00cc99"/>
                  </a:solidFill>
                  <a:prstDash val="dash"/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519" name=""/>
          <p:cNvGrpSpPr/>
          <p:nvPr/>
        </p:nvGrpSpPr>
        <p:grpSpPr>
          <a:xfrm>
            <a:off x="2209320" y="1430280"/>
            <a:ext cx="4648680" cy="1389240"/>
            <a:chOff x="2209320" y="1430280"/>
            <a:chExt cx="4648680" cy="1389240"/>
          </a:xfrm>
        </p:grpSpPr>
        <p:sp>
          <p:nvSpPr>
            <p:cNvPr id="520" name=""/>
            <p:cNvSpPr/>
            <p:nvPr/>
          </p:nvSpPr>
          <p:spPr>
            <a:xfrm>
              <a:off x="4746600" y="1461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54720" y="1430280"/>
              <a:ext cx="317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Abstraction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High-level environment spe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209320" y="2133720"/>
              <a:ext cx="1295640" cy="685800"/>
            </a:xfrm>
            <a:prstGeom prst="line">
              <a:avLst/>
            </a:prstGeom>
            <a:ln w="22320">
              <a:solidFill>
                <a:srgbClr val="00cc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57800" y="2133720"/>
              <a:ext cx="1600200" cy="609480"/>
            </a:xfrm>
            <a:prstGeom prst="line">
              <a:avLst/>
            </a:prstGeom>
            <a:ln w="22320">
              <a:solidFill>
                <a:srgbClr val="00cc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352320" y="4724280"/>
            <a:ext cx="2388960" cy="1143000"/>
            <a:chOff x="3352320" y="4724280"/>
            <a:chExt cx="2388960" cy="1143000"/>
          </a:xfrm>
        </p:grpSpPr>
        <p:sp>
          <p:nvSpPr>
            <p:cNvPr id="525" name=""/>
            <p:cNvSpPr/>
            <p:nvPr/>
          </p:nvSpPr>
          <p:spPr>
            <a:xfrm>
              <a:off x="3352320" y="472428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nvironment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657240" y="5029200"/>
              <a:ext cx="22860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809880" y="5029200"/>
              <a:ext cx="76320" cy="838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105520" y="5105520"/>
            <a:ext cx="3836160" cy="838080"/>
            <a:chOff x="5105520" y="5105520"/>
            <a:chExt cx="3836160" cy="838080"/>
          </a:xfrm>
        </p:grpSpPr>
        <p:sp>
          <p:nvSpPr>
            <p:cNvPr id="529" name=""/>
            <p:cNvSpPr/>
            <p:nvPr/>
          </p:nvSpPr>
          <p:spPr>
            <a:xfrm>
              <a:off x="6705000" y="51055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bstraction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105520" y="5334120"/>
              <a:ext cx="167616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333760" y="5486400"/>
              <a:ext cx="2514600" cy="380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248160" y="5410080"/>
              <a:ext cx="60948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00440" y="5486400"/>
              <a:ext cx="152388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590920" y="6248520"/>
            <a:ext cx="3962160" cy="458640"/>
            <a:chOff x="2590920" y="6248520"/>
            <a:chExt cx="3962160" cy="458640"/>
          </a:xfrm>
        </p:grpSpPr>
        <p:sp>
          <p:nvSpPr>
            <p:cNvPr id="535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90920" y="624852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29800" y="633888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1 || M2 |= T1 || 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889000" y="5489640"/>
            <a:ext cx="158616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T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73000" y="542448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70120" y="57294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668-47C5-4787-BCEE-A027866E494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7621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Verification Statistics: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81280" y="5392800"/>
            <a:ext cx="5029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M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Monolithic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umber of j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C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omposition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ine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: HP9000 (440MHz) with 6144 M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219320" y="12193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916560" y="53784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mory/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12952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905120" y="4419360"/>
            <a:ext cx="129528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4419360"/>
            <a:ext cx="175248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4343040"/>
            <a:ext cx="297180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81080" y="4343040"/>
            <a:ext cx="335304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11174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24360" y="44197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A84-2D9A-4168-A22A-03E2C687BE0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bstractions in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1295280"/>
            <a:ext cx="8001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ata Abstractio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bstraction of details irrelevant to verification of a proper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roach: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b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n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v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ndn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ystematic Construction of Abstrac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dicate Abstraction) [Saidi,Graf 97]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an abstraction function as a predicate over concrete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y decision procedures to compute a set of abstraction pred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the soundness and completeness of the 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Refinement–based abstractio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SR SLAM Project],[Clarke et. al. ‘00], [Saidi 00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Visser et. al 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631-831F-4212-BE16-A0F23A10664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3520" y="228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bstractions in Model Che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bstraction might be expensive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computation procedures to define a set of the abstraction predic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exhaustion during computation of predicates for large systems and complex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havioral over-approximations caused by the abstraction might lead to the state space explo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an we do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and verify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el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Abstract with respect to a subset of properties (not a single proper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y decision 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Eliminate some predicates from 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A00-97D4-4CAD-8BF8-BF4E56C760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9144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Programs with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219320"/>
            <a:ext cx="838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intensive systems typically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execu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of control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ecision point in the loop typically depends on a small number of variab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ach possible branch is commonly taken for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wide range of data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trol eff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s (variables that determine the contr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lobal state transition graph incorporates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all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of the l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ll valu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effect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533600" y="2895480"/>
          <a:ext cx="608652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895480"/>
                    <a:ext cx="60865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8D7-0DB9-446C-B06A-0D2E5461AE9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522520" y="304920"/>
            <a:ext cx="615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of a Program with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014800" y="1739880"/>
          <a:ext cx="38242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0" y="1739880"/>
                    <a:ext cx="38242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304920" y="5715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Effecto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24280" y="57150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1922400"/>
          <a:ext cx="4800600" cy="39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22400"/>
                    <a:ext cx="48006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304560" y="304920"/>
            <a:ext cx="1733760" cy="1523880"/>
            <a:chOff x="304560" y="304920"/>
            <a:chExt cx="1733760" cy="1523880"/>
          </a:xfrm>
        </p:grpSpPr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460080" y="304920"/>
              <a:ext cx="1578240" cy="1523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70" name=""/>
            <p:cNvSpPr/>
            <p:nvPr/>
          </p:nvSpPr>
          <p:spPr>
            <a:xfrm flipH="1" flipV="1">
              <a:off x="304560" y="1273680"/>
              <a:ext cx="341640" cy="18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5960" y="1017000"/>
              <a:ext cx="534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267080" y="5791320"/>
            <a:ext cx="5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26E-FF24-4C53-97A1-93262B5BEF0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914400"/>
            <a:ext cx="8610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Control Propert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perties defined over states that inp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) of programs with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roach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 execution of loops from valuation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an abstract program which contains all of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flow paths in the concrete progr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omicity of  Program Stru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4495680"/>
            <a:ext cx="5105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Basic B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sequence of  statements which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entered by an event only at the head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hich always run to comple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5943600" y="2895480"/>
          <a:ext cx="236232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D65-E3D0-40CB-96E9-D9D3A144D7F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e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544760"/>
            <a:ext cx="83818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tomic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program structure (not predicates) to identify control flow sequ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output ran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ch basic block that has loop predic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 control flow predicates of each basic block into a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multi-way sel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ex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non-deterministic choice)  that controls all possible sequences of ev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utput of an abstract  basic block is controlled by a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pendency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ource-to-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DB0-FDEA-4C41-8B1B-24306248890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6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oop Abstraction for Model Checking of Contro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10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838080" y="1143000"/>
          <a:ext cx="784872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84872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EA7-CBF2-44CE-94A3-067B973BDEF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lication of Model Checking to Softwar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structures are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or O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nite stat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mponents do not have well defin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ordination between SW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or asynchronou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D89-6DB1-4C8A-9A29-A607806685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Verification Statistics: Robot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914400" y="7621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154440" y="480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mory/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838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676520" y="3885840"/>
            <a:ext cx="350496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752480" y="3886200"/>
            <a:ext cx="312444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752480" y="3962520"/>
            <a:ext cx="175284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676520" y="3962520"/>
            <a:ext cx="152388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1680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737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5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392800"/>
            <a:ext cx="48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C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oncr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umber of j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A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: HP9000 (440MHz) with 6144 M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86680" y="762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95760" y="3962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0E1-7F36-4257-AF46-1B869D2B7E9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ssons Learn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design and verification environment enables verification of non-trivial softwa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of software into a formal language of model checkers is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checker is used as a debugging tool during softwa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design management enhances the applicability of the existing state space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of design-level specifications is helpful for specification of useful abstr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e space reduction supports verifying larg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space reduction techniques conducted by the syntactic program transformation are applicable without a change to the model checking tools and can be combined with the existing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of reduction algorithms depends on interaction (combination, order of application, etc.) among reduction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88F-8CA5-463E-93C6-B2B708D3D63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60020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ome Ideas for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of abstrac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d abstraction approach: syntactic program transformation and reductions of the state transition grap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design and analysis of refinement procedures for design-level 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ictable component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techniques to check consistency of the component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of model checking and test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checking to support interactive simulation during analysis of erro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rack multiple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llow analysis backwards and forward during the 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of data dependent parts of the code which can not be handled by finite-state model checking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ineering of software systems to enable symbolic verification to be 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EF6-B218-4D18-9DC3-6371EBE8FF0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current pract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295280"/>
            <a:ext cx="4343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1. Design/Implementation/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2. Modeling/Property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-state model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3.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-and-conq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ques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n applic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735520"/>
            <a:ext cx="83822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Fi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pensive)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st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program 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sistency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code an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to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plifi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7960" y="990720"/>
          <a:ext cx="36831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990720"/>
                    <a:ext cx="36831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A77-40F4-4D18-96DD-460E01B7A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322-550A-4B0D-90D8-210E67FBA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UT Austin – Bell Labs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7010280"/>
            <a:ext cx="900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7010280"/>
            <a:ext cx="1368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69048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6922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6705720"/>
            <a:ext cx="900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6705720"/>
            <a:ext cx="1368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73392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3. 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space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8592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8736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98600" y="914400"/>
          <a:ext cx="3539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914400"/>
                    <a:ext cx="3539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5502240"/>
            <a:ext cx="83059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Earli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g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lation of informal program into formal syntax (no simplific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Separation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concerns: abstraction of control from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omain-specif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perty specif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1200" y="1143000"/>
            <a:ext cx="3270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Code Generation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(last st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752480"/>
            <a:ext cx="411480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1. Executable Desig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from low-lev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level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048120"/>
            <a:ext cx="4114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2. Modeling/Property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6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ite-state model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C4D-780D-4F14-B6E0-3F32342D8B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4:13:57Z</dcterms:created>
  <dc:creator>natali</dc:creator>
  <dc:description/>
  <dc:language>en-US</dc:language>
  <cp:lastModifiedBy>nys</cp:lastModifiedBy>
  <dcterms:modified xsi:type="dcterms:W3CDTF">2002-12-03T19:29:39Z</dcterms:modified>
  <cp:revision>226</cp:revision>
  <dc:subject/>
  <dc:title>Model Checking Object-Oriented Programs</dc:title>
</cp:coreProperties>
</file>