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27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29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34213" cy="7707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483-6E47-478E-9D75-DDC70E93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13F-F445-4EF4-8968-F0640E30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FC2-5FBD-4483-B089-A278584A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AF4-D72C-4DF2-A845-D9009D2B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A50-5364-420F-8EAA-1645E8E0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191-44AC-4D55-858D-265F6405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80B-9EE7-4DF6-8586-E290896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084-BAD3-42C1-9E1E-D94195F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6CC-E004-45B5-B889-39BA9053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31F-9F5C-49D1-BB2F-7FA56F7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C36-3EA9-4701-8558-1D89964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AEB-CB03-4090-8AAE-09408097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A901-AF95-4982-81A8-3524EC0C6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Model Checking Large-Scale Softwa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asha Sharyg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: An Executable OO Model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371600"/>
          <a:ext cx="4114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4114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267080" y="1371600"/>
            <a:ext cx="4876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able dialect of 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ystem consists of interacting sequential programs (class instan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and class hierarch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instances communicate mainly through asynchronous event passing with buff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class instances is defined as Stat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Models are extended with stat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action is run-to-comple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s are enabled by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078-94E1-420A-9971-FAE7D84EE7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ecutable OO Model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textual xU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447920"/>
            <a:ext cx="8305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xUML system is a parallel composition of individual sequential progra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 … ||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590920"/>
            <a:ext cx="7924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ample  commands of xUML progra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: = ex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 := any{ex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, …, ex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munic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enerate 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ID,exp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ceive 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ID,x)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Event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ounds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if then else, while do od,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B93-D6D4-4A21-A7CE-18D719A40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26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Sample xUML Stat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2209680"/>
            <a:ext cx="2210040" cy="533520"/>
          </a:xfrm>
          <a:prstGeom prst="wedgeRoundRectCallout">
            <a:avLst>
              <a:gd name="adj1" fmla="val -40731"/>
              <a:gd name="adj2" fmla="val 81250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160" y="28195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4495680"/>
            <a:ext cx="990360" cy="457200"/>
          </a:xfrm>
          <a:prstGeom prst="wedgeRoundRectCallout">
            <a:avLst>
              <a:gd name="adj1" fmla="val 38462"/>
              <a:gd name="adj2" fmla="val -111458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9960" y="3809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752480"/>
            <a:ext cx="2210040" cy="533520"/>
          </a:xfrm>
          <a:prstGeom prst="wedgeRoundRectCallout">
            <a:avLst>
              <a:gd name="adj1" fmla="val 40805"/>
              <a:gd name="adj2" fmla="val 97319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3920" y="243828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200400"/>
            <a:ext cx="838080" cy="457200"/>
          </a:xfrm>
          <a:prstGeom prst="wedgeRoundRectCallout">
            <a:avLst>
              <a:gd name="adj1" fmla="val 46023"/>
              <a:gd name="adj2" fmla="val 79861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7560" y="37339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sage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F3E-0230-4A9C-AA51-FE3B6A64D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xUML Program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UT-Bell Labs Project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98108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048120"/>
            <a:ext cx="358128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98108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198108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98108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8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-to-S/R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505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5053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5181480"/>
            <a:ext cx="685800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51814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Checking with COSPAN Model Ch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572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4572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114800"/>
            <a:ext cx="160020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411480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114800"/>
            <a:ext cx="289584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PAN Error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048120"/>
            <a:ext cx="2895840" cy="45720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0481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Report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400440" y="350496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400440" y="45716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1981080"/>
            <a:ext cx="2895840" cy="45720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UML Level Error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40044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6095880"/>
            <a:ext cx="1219320" cy="3812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6095880"/>
            <a:ext cx="1523880" cy="38124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562360" y="5942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7238880" y="594324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81200" y="601992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040" y="60199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6160" y="5994360"/>
            <a:ext cx="109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76F-81D1-4517-817C-4C299E8B36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PAN Model Checker and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/R Automaton Languag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9714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PAN is 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utomata-based model checker and input models and queries are formulated in S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/R, a system is a synchronous parallel composition of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4CD-9D2B-41FF-9866-3CDED730D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-to-S/R Model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676520"/>
            <a:ext cx="80010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xUML class instances to S/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synchrony with synchro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S/R process as global execution schedu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buffers by separate S/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s dynamic creation of class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s infinite state spaces of xUM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s modules from SDLCheck [Kurshan, Levin’01], such as optimization modules that conduct Static Partial Order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7AD-BDE4-4BE8-BCB9-EC2E26AE4F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50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 Level Query Formul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84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Joint_2_in_Move_EE &lt;&lt;Joint 2&gt;&gt; $Move_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Recovery_Called &lt;&lt;Recovery 1&gt;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recovery_status = 1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(Joint_2_in_Move_EE AND Recovery_Calle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666880"/>
            <a:ext cx="2438640" cy="457200"/>
          </a:xfrm>
          <a:prstGeom prst="wedgeRoundRectCallout">
            <a:avLst>
              <a:gd name="adj1" fmla="val -35157"/>
              <a:gd name="adj2" fmla="val -120486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9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962520"/>
            <a:ext cx="7162560" cy="609480"/>
          </a:xfrm>
          <a:prstGeom prst="wedgeRoundRectCallout">
            <a:avLst>
              <a:gd name="adj1" fmla="val -8865"/>
              <a:gd name="adj2" fmla="val 152342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1240" y="541008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stantiation of Temporal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666880"/>
            <a:ext cx="1600200" cy="457200"/>
          </a:xfrm>
          <a:prstGeom prst="wedgeRoundRectCallout">
            <a:avLst>
              <a:gd name="adj1" fmla="val -23513"/>
              <a:gd name="adj2" fmla="val -129861"/>
              <a:gd name="adj3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3680" y="190512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ntic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structs of xUM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39F-D3B6-46C7-9561-80E3280604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572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419720"/>
            <a:ext cx="24130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4" idx="2"/>
            <a:endCxn id="161" idx="0"/>
          </p:cNvCxnSpPr>
          <p:nvPr/>
        </p:nvCxnSpPr>
        <p:spPr>
          <a:xfrm flipV="1" rot="10800000">
            <a:off x="2056680" y="3152520"/>
            <a:ext cx="1080" cy="415080"/>
          </a:xfrm>
          <a:prstGeom prst="bentConnector2">
            <a:avLst/>
          </a:prstGeom>
          <a:ln w="0">
            <a:noFill/>
          </a:ln>
        </p:spPr>
      </p:cxnSp>
      <p:grpSp>
        <p:nvGrpSpPr>
          <p:cNvPr id="162" name=""/>
          <p:cNvGrpSpPr/>
          <p:nvPr/>
        </p:nvGrpSpPr>
        <p:grpSpPr>
          <a:xfrm>
            <a:off x="5653080" y="2095200"/>
            <a:ext cx="1967400" cy="1472040"/>
            <a:chOff x="5653080" y="2095200"/>
            <a:chExt cx="1967400" cy="1472040"/>
          </a:xfrm>
        </p:grpSpPr>
        <p:cxnSp>
          <p:nvCxnSpPr>
            <p:cNvPr id="163" name=""/>
            <p:cNvCxnSpPr>
              <a:stCxn id="164" idx="3"/>
              <a:endCxn id="156" idx="0"/>
            </p:cNvCxnSpPr>
            <p:nvPr/>
          </p:nvCxnSpPr>
          <p:spPr>
            <a:xfrm>
              <a:off x="5653080" y="2095200"/>
              <a:ext cx="196776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stealth" w="med"/>
            </a:ln>
          </p:spPr>
        </p:cxnSp>
        <p:cxnSp>
          <p:nvCxnSpPr>
            <p:cNvPr id="165" name=""/>
            <p:cNvCxnSpPr/>
            <p:nvPr/>
          </p:nvCxnSpPr>
          <p:spPr>
            <a:xfrm flipV="1" rot="10800000">
              <a:off x="761940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1447920" y="3962520"/>
            <a:ext cx="4343400" cy="1676160"/>
            <a:chOff x="1447920" y="3962520"/>
            <a:chExt cx="4343400" cy="1676160"/>
          </a:xfrm>
        </p:grpSpPr>
        <p:sp>
          <p:nvSpPr>
            <p:cNvPr id="167" name=""/>
            <p:cNvSpPr/>
            <p:nvPr/>
          </p:nvSpPr>
          <p:spPr>
            <a:xfrm>
              <a:off x="4343400" y="5257800"/>
              <a:ext cx="144792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/R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7920" y="5257800"/>
              <a:ext cx="121896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/R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V="1" rot="10800000">
              <a:off x="205668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0" name=""/>
            <p:cNvCxnSpPr/>
            <p:nvPr/>
          </p:nvCxnSpPr>
          <p:spPr>
            <a:xfrm flipV="1" rot="10800000">
              <a:off x="502848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1" name=""/>
            <p:cNvCxnSpPr/>
            <p:nvPr/>
          </p:nvCxnSpPr>
          <p:spPr>
            <a:xfrm flipV="1" rot="10800000">
              <a:off x="205668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72" name=""/>
            <p:cNvCxnSpPr/>
            <p:nvPr/>
          </p:nvCxnSpPr>
          <p:spPr>
            <a:xfrm flipV="1" rot="10800000">
              <a:off x="502848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6934320" y="3581280"/>
            <a:ext cx="1295280" cy="1662480"/>
            <a:chOff x="6934320" y="3581280"/>
            <a:chExt cx="1295280" cy="1662480"/>
          </a:xfrm>
        </p:grpSpPr>
        <p:sp>
          <p:nvSpPr>
            <p:cNvPr id="174" name=""/>
            <p:cNvSpPr/>
            <p:nvPr/>
          </p:nvSpPr>
          <p:spPr>
            <a:xfrm>
              <a:off x="6934320" y="3581280"/>
              <a:ext cx="1295280" cy="381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 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/>
            <p:nvPr/>
          </p:nvCxnSpPr>
          <p:spPr>
            <a:xfrm flipV="1" rot="10800000">
              <a:off x="7619400" y="396216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176" name=""/>
            <p:cNvCxnSpPr/>
            <p:nvPr/>
          </p:nvCxnSpPr>
          <p:spPr>
            <a:xfrm flipV="1" rot="10800000">
              <a:off x="761940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177" name=""/>
          <p:cNvGrpSpPr/>
          <p:nvPr/>
        </p:nvGrpSpPr>
        <p:grpSpPr>
          <a:xfrm>
            <a:off x="2056680" y="5257800"/>
            <a:ext cx="6249240" cy="1036800"/>
            <a:chOff x="2056680" y="5257800"/>
            <a:chExt cx="6249240" cy="1036800"/>
          </a:xfrm>
        </p:grpSpPr>
        <p:sp>
          <p:nvSpPr>
            <p:cNvPr id="178" name=""/>
            <p:cNvSpPr/>
            <p:nvPr/>
          </p:nvSpPr>
          <p:spPr>
            <a:xfrm>
              <a:off x="6934320" y="5257800"/>
              <a:ext cx="137160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rror Tr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/>
            <p:nvPr/>
          </p:nvCxnSpPr>
          <p:spPr>
            <a:xfrm flipV="1" rot="10800000">
              <a:off x="2056680" y="56383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0" name=""/>
            <p:cNvCxnSpPr/>
            <p:nvPr/>
          </p:nvCxnSpPr>
          <p:spPr>
            <a:xfrm flipV="1" rot="10800000">
              <a:off x="5028480" y="56383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1" name=""/>
            <p:cNvCxnSpPr>
              <a:stCxn id="159" idx="3"/>
              <a:endCxn id="178" idx="2"/>
            </p:cNvCxnSpPr>
            <p:nvPr/>
          </p:nvCxnSpPr>
          <p:spPr>
            <a:xfrm flipV="1">
              <a:off x="5805000" y="5652720"/>
              <a:ext cx="181548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4343400" y="1905120"/>
            <a:ext cx="1447920" cy="2057400"/>
            <a:chOff x="4343400" y="1905120"/>
            <a:chExt cx="1447920" cy="2057400"/>
          </a:xfrm>
        </p:grpSpPr>
        <p:sp>
          <p:nvSpPr>
            <p:cNvPr id="164" name=""/>
            <p:cNvSpPr/>
            <p:nvPr/>
          </p:nvSpPr>
          <p:spPr>
            <a:xfrm>
              <a:off x="4419720" y="1905120"/>
              <a:ext cx="1218960" cy="380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ig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43400" y="2286000"/>
              <a:ext cx="1447920" cy="1676520"/>
              <a:chOff x="4343400" y="2286000"/>
              <a:chExt cx="1447920" cy="1676520"/>
            </a:xfrm>
          </p:grpSpPr>
          <p:sp>
            <p:nvSpPr>
              <p:cNvPr id="184" name=""/>
              <p:cNvSpPr/>
              <p:nvPr/>
            </p:nvSpPr>
            <p:spPr>
              <a:xfrm>
                <a:off x="4343400" y="3581280"/>
                <a:ext cx="1447920" cy="3812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xUML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/>
              <p:nvPr/>
            </p:nvCxnSpPr>
            <p:spPr>
              <a:xfrm flipV="1" rot="10800000">
                <a:off x="5028480" y="31237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186" name=""/>
              <p:cNvCxnSpPr/>
              <p:nvPr/>
            </p:nvCxnSpPr>
            <p:spPr>
              <a:xfrm flipV="1" rot="10800000">
                <a:off x="5028480" y="22856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tailEnd len="med" type="stealth" w="med"/>
              </a:ln>
            </p:spPr>
          </p:cxnSp>
        </p:grpSp>
      </p:grpSp>
      <p:grpSp>
        <p:nvGrpSpPr>
          <p:cNvPr id="187" name=""/>
          <p:cNvGrpSpPr/>
          <p:nvPr/>
        </p:nvGrpSpPr>
        <p:grpSpPr>
          <a:xfrm>
            <a:off x="1447920" y="2094480"/>
            <a:ext cx="2957400" cy="1868040"/>
            <a:chOff x="1447920" y="2094480"/>
            <a:chExt cx="2957400" cy="1868040"/>
          </a:xfrm>
        </p:grpSpPr>
        <p:sp>
          <p:nvSpPr>
            <p:cNvPr id="161" name=""/>
            <p:cNvSpPr/>
            <p:nvPr/>
          </p:nvSpPr>
          <p:spPr>
            <a:xfrm>
              <a:off x="1447920" y="3581280"/>
              <a:ext cx="1218960" cy="3812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189" name=""/>
            <p:cNvCxnSpPr>
              <a:stCxn id="164" idx="1"/>
              <a:endCxn id="154" idx="0"/>
            </p:cNvCxnSpPr>
            <p:nvPr/>
          </p:nvCxnSpPr>
          <p:spPr>
            <a:xfrm flipV="1" rot="10800000">
              <a:off x="2056680" y="2094480"/>
              <a:ext cx="234864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61D-CE18-4800-888D-326A9AD1A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3" idx="2"/>
            <a:endCxn id="198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06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07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08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532-D36B-4AE1-8972-7A7956DC99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3CC-0144-4F77-BDBB-DFD3FFBB55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E44-E2EC-4F0C-9511-67F4A419E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22F-AF73-45C5-A91C-1E0671700E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332-16F0-4BCC-9DBF-20E9AF8983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598-5843-4115-86A5-C8E05A31FC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563-555D-4426-A4E4-9384AF8E78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03C-6933-490F-978E-FFD41302CA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2"/>
            <a:endCxn id="223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31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32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33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234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235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36" name=""/>
            <p:cNvCxnSpPr>
              <a:stCxn id="216" idx="1"/>
              <a:endCxn id="218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273-9CBB-4C55-AF2B-46EB7BEE7D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EFF-C411-4CCC-914D-4B5C42DC04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1" idx="2"/>
            <a:endCxn id="246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54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255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256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57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258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259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60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261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62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63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264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265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66" name=""/>
            <p:cNvCxnSpPr>
              <a:stCxn id="239" idx="1"/>
              <a:endCxn id="241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BCE-72AA-4FED-A2FE-882271D3CC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53D-E18A-47B5-B00C-9DD1AB9471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ED5-6A34-4208-A62B-92789098EE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al Verification by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14300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Continuously operating concurrent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operating systems, hard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s and network protoco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, reactive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ting, infinite compu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est non-determi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emporal Logic Model che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larke,Emerson 81][Queille,Sifakis 82]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model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tate transition system - finite state mach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mporal log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check if M satisfies P,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 |=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exhaustive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umeration of all states reachable by the syst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design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fai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atisfy a desired property, a counterexample is gene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E17-E20D-4F96-9D08-ACC4F24548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2" idx="2"/>
            <a:endCxn id="277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285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286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287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88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289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290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91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292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293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294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295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296" name=""/>
            <p:cNvCxnSpPr>
              <a:stCxn id="283" idx="3"/>
              <a:endCxn id="280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298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299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01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02" name=""/>
            <p:cNvCxnSpPr>
              <a:stCxn id="270" idx="1"/>
              <a:endCxn id="272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3C5-CDC5-403E-AAEA-6B34AA59C7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C9B-8538-4E1E-96EA-1A14D96AC0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7" idx="2"/>
            <a:endCxn id="312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320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321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322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23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324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325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26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327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328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329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30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331" name=""/>
            <p:cNvCxnSpPr>
              <a:stCxn id="318" idx="3"/>
              <a:endCxn id="315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333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34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35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36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37" name=""/>
            <p:cNvCxnSpPr>
              <a:stCxn id="305" idx="1"/>
              <a:endCxn id="307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38" name=""/>
          <p:cNvGrpSpPr/>
          <p:nvPr/>
        </p:nvGrpSpPr>
        <p:grpSpPr>
          <a:xfrm>
            <a:off x="7466760" y="3976200"/>
            <a:ext cx="720" cy="1267560"/>
            <a:chOff x="7466760" y="3976200"/>
            <a:chExt cx="720" cy="1267560"/>
          </a:xfrm>
        </p:grpSpPr>
        <p:cxnSp>
          <p:nvCxnSpPr>
            <p:cNvPr id="339" name=""/>
            <p:cNvCxnSpPr/>
            <p:nvPr/>
          </p:nvCxnSpPr>
          <p:spPr>
            <a:xfrm flipV="1" rot="10800000">
              <a:off x="746676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340" name=""/>
            <p:cNvCxnSpPr>
              <a:stCxn id="310" idx="2"/>
              <a:endCxn id="314" idx="0"/>
            </p:cNvCxnSpPr>
            <p:nvPr/>
          </p:nvCxnSpPr>
          <p:spPr>
            <a:xfrm flipV="1" rot="10800000">
              <a:off x="7466760" y="3976200"/>
              <a:ext cx="1080" cy="4294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5D3-A8A9-4EC2-A6F0-16BBC83788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9C6-C424-4E99-B82E-3CA7936C32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ep-by-Step Demonst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9720" y="190512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1120" y="2743200"/>
            <a:ext cx="32702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Specificatio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743200"/>
            <a:ext cx="167616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2743200"/>
            <a:ext cx="1828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Vis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3581280"/>
            <a:ext cx="16765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3581280"/>
            <a:ext cx="144792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3581280"/>
            <a:ext cx="12189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4419720"/>
            <a:ext cx="43434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UML-to-S/R Trans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4419720"/>
            <a:ext cx="2438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Report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81680" y="5257800"/>
            <a:ext cx="13716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5257800"/>
            <a:ext cx="14479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7920" y="5257800"/>
            <a:ext cx="12189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R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6095880"/>
            <a:ext cx="4343400" cy="368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PAN Model 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5" idx="2"/>
            <a:endCxn id="350" idx="0"/>
          </p:cNvCxnSpPr>
          <p:nvPr/>
        </p:nvCxnSpPr>
        <p:spPr>
          <a:xfrm flipV="1" rot="10800000">
            <a:off x="2056680" y="3109680"/>
            <a:ext cx="1080" cy="457920"/>
          </a:xfrm>
          <a:prstGeom prst="bentConnector2">
            <a:avLst/>
          </a:prstGeom>
          <a:ln w="0">
            <a:noFill/>
          </a:ln>
        </p:spPr>
      </p:cxnSp>
      <p:grpSp>
        <p:nvGrpSpPr>
          <p:cNvPr id="358" name=""/>
          <p:cNvGrpSpPr/>
          <p:nvPr/>
        </p:nvGrpSpPr>
        <p:grpSpPr>
          <a:xfrm>
            <a:off x="5653080" y="2095200"/>
            <a:ext cx="1814760" cy="1443240"/>
            <a:chOff x="5653080" y="2095200"/>
            <a:chExt cx="1814760" cy="1443240"/>
          </a:xfrm>
        </p:grpSpPr>
        <p:cxnSp>
          <p:nvCxnSpPr>
            <p:cNvPr id="359" name=""/>
            <p:cNvCxnSpPr>
              <a:stCxn id="343" idx="3"/>
              <a:endCxn id="347" idx="0"/>
            </p:cNvCxnSpPr>
            <p:nvPr/>
          </p:nvCxnSpPr>
          <p:spPr>
            <a:xfrm>
              <a:off x="5653080" y="2095200"/>
              <a:ext cx="1815120" cy="6339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stealth" w="med"/>
            </a:ln>
          </p:spPr>
        </p:cxnSp>
        <p:cxnSp>
          <p:nvCxnSpPr>
            <p:cNvPr id="360" name=""/>
            <p:cNvCxnSpPr>
              <a:stCxn id="347" idx="2"/>
            </p:cNvCxnSpPr>
            <p:nvPr/>
          </p:nvCxnSpPr>
          <p:spPr>
            <a:xfrm flipV="1" rot="10800000">
              <a:off x="7466760" y="3152520"/>
              <a:ext cx="1080" cy="3862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grpSp>
        <p:nvGrpSpPr>
          <p:cNvPr id="361" name=""/>
          <p:cNvGrpSpPr/>
          <p:nvPr/>
        </p:nvGrpSpPr>
        <p:grpSpPr>
          <a:xfrm>
            <a:off x="2056680" y="3962520"/>
            <a:ext cx="2972520" cy="1281240"/>
            <a:chOff x="2056680" y="3962520"/>
            <a:chExt cx="2972520" cy="1281240"/>
          </a:xfrm>
        </p:grpSpPr>
        <p:grpSp>
          <p:nvGrpSpPr>
            <p:cNvPr id="362" name=""/>
            <p:cNvGrpSpPr/>
            <p:nvPr/>
          </p:nvGrpSpPr>
          <p:grpSpPr>
            <a:xfrm>
              <a:off x="2056680" y="3962520"/>
              <a:ext cx="2972520" cy="443160"/>
              <a:chOff x="2056680" y="3962520"/>
              <a:chExt cx="2972520" cy="443160"/>
            </a:xfrm>
          </p:grpSpPr>
          <p:cxnSp>
            <p:nvCxnSpPr>
              <p:cNvPr id="363" name=""/>
              <p:cNvCxnSpPr/>
              <p:nvPr/>
            </p:nvCxnSpPr>
            <p:spPr>
              <a:xfrm flipV="1" rot="10800000">
                <a:off x="20566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64" name=""/>
              <p:cNvCxnSpPr/>
              <p:nvPr/>
            </p:nvCxnSpPr>
            <p:spPr>
              <a:xfrm flipV="1" rot="10800000">
                <a:off x="5028480" y="396216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grpSp>
          <p:nvGrpSpPr>
            <p:cNvPr id="365" name=""/>
            <p:cNvGrpSpPr/>
            <p:nvPr/>
          </p:nvGrpSpPr>
          <p:grpSpPr>
            <a:xfrm>
              <a:off x="2056680" y="4800600"/>
              <a:ext cx="2972520" cy="443160"/>
              <a:chOff x="2056680" y="4800600"/>
              <a:chExt cx="2972520" cy="443160"/>
            </a:xfrm>
          </p:grpSpPr>
          <p:cxnSp>
            <p:nvCxnSpPr>
              <p:cNvPr id="366" name=""/>
              <p:cNvCxnSpPr/>
              <p:nvPr/>
            </p:nvCxnSpPr>
            <p:spPr>
              <a:xfrm flipV="1" rot="10800000">
                <a:off x="20566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67" name=""/>
              <p:cNvCxnSpPr/>
              <p:nvPr/>
            </p:nvCxnSpPr>
            <p:spPr>
              <a:xfrm flipV="1" rot="10800000">
                <a:off x="5028480" y="4800240"/>
                <a:ext cx="1080" cy="44352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</p:grpSp>
      <p:grpSp>
        <p:nvGrpSpPr>
          <p:cNvPr id="368" name=""/>
          <p:cNvGrpSpPr/>
          <p:nvPr/>
        </p:nvGrpSpPr>
        <p:grpSpPr>
          <a:xfrm>
            <a:off x="2056680" y="5638320"/>
            <a:ext cx="5410800" cy="656280"/>
            <a:chOff x="2056680" y="5638320"/>
            <a:chExt cx="5410800" cy="656280"/>
          </a:xfrm>
        </p:grpSpPr>
        <p:grpSp>
          <p:nvGrpSpPr>
            <p:cNvPr id="369" name=""/>
            <p:cNvGrpSpPr/>
            <p:nvPr/>
          </p:nvGrpSpPr>
          <p:grpSpPr>
            <a:xfrm>
              <a:off x="2056680" y="5638320"/>
              <a:ext cx="2972520" cy="443520"/>
              <a:chOff x="2056680" y="5638320"/>
              <a:chExt cx="2972520" cy="443520"/>
            </a:xfrm>
          </p:grpSpPr>
          <p:cxnSp>
            <p:nvCxnSpPr>
              <p:cNvPr id="370" name=""/>
              <p:cNvCxnSpPr/>
              <p:nvPr/>
            </p:nvCxnSpPr>
            <p:spPr>
              <a:xfrm flipV="1" rot="10800000">
                <a:off x="20566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  <p:cxnSp>
            <p:nvCxnSpPr>
              <p:cNvPr id="371" name=""/>
              <p:cNvCxnSpPr/>
              <p:nvPr/>
            </p:nvCxnSpPr>
            <p:spPr>
              <a:xfrm flipV="1" rot="10800000">
                <a:off x="5028480" y="5638320"/>
                <a:ext cx="1080" cy="443880"/>
              </a:xfrm>
              <a:prstGeom prst="bentConnector2">
                <a:avLst/>
              </a:prstGeom>
              <a:ln w="28440">
                <a:solidFill>
                  <a:srgbClr val="cc3300"/>
                </a:solidFill>
                <a:miter/>
                <a:tailEnd len="med" type="stealth" w="med"/>
              </a:ln>
            </p:spPr>
          </p:cxnSp>
        </p:grpSp>
        <p:cxnSp>
          <p:nvCxnSpPr>
            <p:cNvPr id="372" name=""/>
            <p:cNvCxnSpPr>
              <a:stCxn id="356" idx="3"/>
              <a:endCxn id="353" idx="2"/>
            </p:cNvCxnSpPr>
            <p:nvPr/>
          </p:nvCxnSpPr>
          <p:spPr>
            <a:xfrm flipV="1">
              <a:off x="5805000" y="5652720"/>
              <a:ext cx="1662840" cy="64224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</p:grpSp>
      <p:grpSp>
        <p:nvGrpSpPr>
          <p:cNvPr id="373" name=""/>
          <p:cNvGrpSpPr/>
          <p:nvPr/>
        </p:nvGrpSpPr>
        <p:grpSpPr>
          <a:xfrm>
            <a:off x="5028480" y="2286000"/>
            <a:ext cx="720" cy="1281240"/>
            <a:chOff x="5028480" y="2286000"/>
            <a:chExt cx="720" cy="1281240"/>
          </a:xfrm>
        </p:grpSpPr>
        <p:cxnSp>
          <p:nvCxnSpPr>
            <p:cNvPr id="374" name=""/>
            <p:cNvCxnSpPr/>
            <p:nvPr/>
          </p:nvCxnSpPr>
          <p:spPr>
            <a:xfrm flipV="1" rot="10800000">
              <a:off x="50284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75" name=""/>
            <p:cNvCxnSpPr/>
            <p:nvPr/>
          </p:nvCxnSpPr>
          <p:spPr>
            <a:xfrm flipV="1" rot="10800000">
              <a:off x="5028480" y="22856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76" name=""/>
          <p:cNvGrpSpPr/>
          <p:nvPr/>
        </p:nvGrpSpPr>
        <p:grpSpPr>
          <a:xfrm>
            <a:off x="2056680" y="2094480"/>
            <a:ext cx="2348640" cy="1472760"/>
            <a:chOff x="2056680" y="2094480"/>
            <a:chExt cx="2348640" cy="1472760"/>
          </a:xfrm>
        </p:grpSpPr>
        <p:cxnSp>
          <p:nvCxnSpPr>
            <p:cNvPr id="377" name=""/>
            <p:cNvCxnSpPr/>
            <p:nvPr/>
          </p:nvCxnSpPr>
          <p:spPr>
            <a:xfrm flipV="1" rot="10800000">
              <a:off x="2056680" y="3123720"/>
              <a:ext cx="1080" cy="4438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tailEnd len="med" type="stealth" w="med"/>
            </a:ln>
          </p:spPr>
        </p:cxnSp>
        <p:cxnSp>
          <p:nvCxnSpPr>
            <p:cNvPr id="378" name=""/>
            <p:cNvCxnSpPr>
              <a:stCxn id="343" idx="1"/>
              <a:endCxn id="345" idx="0"/>
            </p:cNvCxnSpPr>
            <p:nvPr/>
          </p:nvCxnSpPr>
          <p:spPr>
            <a:xfrm flipV="1" rot="10800000">
              <a:off x="2056680" y="2094480"/>
              <a:ext cx="2348640" cy="648360"/>
            </a:xfrm>
            <a:prstGeom prst="bentConnector2">
              <a:avLst/>
            </a:prstGeom>
            <a:ln w="28440">
              <a:solidFill>
                <a:srgbClr val="cc3300"/>
              </a:solidFill>
              <a:prstDash val="dash"/>
              <a:miter/>
              <a:tailEnd len="med" type="stealth" w="med"/>
            </a:ln>
          </p:spPr>
        </p:cxnSp>
      </p:grpSp>
      <p:grpSp>
        <p:nvGrpSpPr>
          <p:cNvPr id="379" name=""/>
          <p:cNvGrpSpPr/>
          <p:nvPr/>
        </p:nvGrpSpPr>
        <p:grpSpPr>
          <a:xfrm>
            <a:off x="7466760" y="3976200"/>
            <a:ext cx="720" cy="1267560"/>
            <a:chOff x="7466760" y="3976200"/>
            <a:chExt cx="720" cy="1267560"/>
          </a:xfrm>
        </p:grpSpPr>
        <p:cxnSp>
          <p:nvCxnSpPr>
            <p:cNvPr id="380" name=""/>
            <p:cNvCxnSpPr/>
            <p:nvPr/>
          </p:nvCxnSpPr>
          <p:spPr>
            <a:xfrm flipV="1" rot="10800000">
              <a:off x="7466760" y="4800240"/>
              <a:ext cx="1080" cy="44352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  <p:cxnSp>
          <p:nvCxnSpPr>
            <p:cNvPr id="381" name=""/>
            <p:cNvCxnSpPr>
              <a:stCxn id="348" idx="2"/>
              <a:endCxn id="352" idx="0"/>
            </p:cNvCxnSpPr>
            <p:nvPr/>
          </p:nvCxnSpPr>
          <p:spPr>
            <a:xfrm flipV="1" rot="10800000">
              <a:off x="7466760" y="3976200"/>
              <a:ext cx="1080" cy="429480"/>
            </a:xfrm>
            <a:prstGeom prst="bentConnector2">
              <a:avLst/>
            </a:prstGeom>
            <a:ln w="28440">
              <a:solidFill>
                <a:srgbClr val="cc3300"/>
              </a:solidFill>
              <a:miter/>
              <a:headEnd len="med" type="stealth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43B-6424-4135-AD72-63CBB7EDA2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C70-D5D0-4941-A404-D65FBF1689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DC3-4ACA-4850-B738-07A5177929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8F5-82FB-4EAA-9988-509106AE8E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088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SA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009920" y="152280"/>
            <a:ext cx="1981440" cy="2057400"/>
            <a:chOff x="7009920" y="152280"/>
            <a:chExt cx="1981440" cy="2057400"/>
          </a:xfrm>
        </p:grpSpPr>
        <p:pic>
          <p:nvPicPr>
            <p:cNvPr id="387" name="" descr=""/>
            <p:cNvPicPr/>
            <p:nvPr/>
          </p:nvPicPr>
          <p:blipFill>
            <a:blip r:embed="rId1"/>
            <a:stretch/>
          </p:blipFill>
          <p:spPr>
            <a:xfrm>
              <a:off x="7187400" y="152280"/>
              <a:ext cx="1803960" cy="2057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88" name=""/>
            <p:cNvSpPr/>
            <p:nvPr/>
          </p:nvSpPr>
          <p:spPr>
            <a:xfrm flipH="1" flipV="1">
              <a:off x="7009920" y="1459800"/>
              <a:ext cx="390600" cy="25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09280" y="1181880"/>
              <a:ext cx="51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5113080" cy="483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197-96E9-40F9-A0F8-5C62B974DA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088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SA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6002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robot control system deployed in space (Canadian a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lex functionalit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inematics control, obstacle avoidance, fault tolerance, performance evaluation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mplex coord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and shaking) between functional un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tringent reli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istributed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UML framework for design and validation of robot control algorithm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real-time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800K LOC of textual xU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 interfaces to the computational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 libraries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300K LOC, 150+ classes, 500+ methods of 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 functional properties, 20 implementation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ogical errors were f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reported to N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09920" y="152280"/>
            <a:ext cx="1981440" cy="2057400"/>
            <a:chOff x="7009920" y="152280"/>
            <a:chExt cx="1981440" cy="20574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7187400" y="152280"/>
              <a:ext cx="1803960" cy="2057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95" name=""/>
            <p:cNvSpPr/>
            <p:nvPr/>
          </p:nvSpPr>
          <p:spPr>
            <a:xfrm flipH="1" flipV="1">
              <a:off x="7009920" y="1459800"/>
              <a:ext cx="390600" cy="25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09280" y="1181880"/>
              <a:ext cx="51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BBD-8E3F-4F2F-AC15-C52FDD2780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ate Space E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193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roble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of the state graph can be exponential in size of the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h in the number of the program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variab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numb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| … ||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just 2 local states, potentially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obal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Research Dire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 space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Principal Approaches: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Abst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limination of details irrelevant to ver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mpositional reaso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soning about parts of the syst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852-06DF-4822-B021-5CC029FC7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38520" y="1190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38520" y="1257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763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ass Information Model of the Robot Controlle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03320" y="762120"/>
          <a:ext cx="4738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20" y="762120"/>
                    <a:ext cx="4738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191120" y="685800"/>
          <a:ext cx="4952880" cy="579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685800"/>
                    <a:ext cx="49528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724280" y="685800"/>
            <a:ext cx="0" cy="59436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82C-6F02-428B-9658-C01E0B157FD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33720" y="5335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xUML Modeling of the NASA Rob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903920" y="1981080"/>
          <a:ext cx="370656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981080"/>
                    <a:ext cx="37065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304920" y="586728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EndEffector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xUML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24280" y="57150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Ar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112840"/>
          <a:ext cx="4408560" cy="383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12840"/>
                    <a:ext cx="440856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4267080" y="57913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||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280" y="228600"/>
          <a:ext cx="2133720" cy="1768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2860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E55-1EC2-47E1-B134-D81B04AE795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1522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amples of the Robot Contro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7680" y="1143000"/>
            <a:ext cx="8648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Termin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entually the robot control ter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EventuallyAlways(abort_var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fety Oper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aches an undesired position than the program terminates prior to a new move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fterAlwaysUntil(undesired_position =1,ee_reference=1,abort_var=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figuration Validity Check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n instance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Effe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is in the “FollowingDesiredTrajectory” state than the instance of the correspond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ass is in the ‘Valid”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lways((ee_reference=1) -&gt;(arm_status=1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per Program Termin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program terminates when it either completes the task or reaches the state where there is no solution for the fault re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AlwaysUntil(abort_var=0,end_position=1 OR (recovery_status=1 AND number_joints=1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773-C4F5-42D0-ADF4-D7980E48ED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C63-4D82-47F3-BDD2-50EAC47547D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5335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fficient Model Checking of xUM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Space Reduction 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esign modularity for modular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complexity of the program prior to generation of state graph (by syntactic analysis and program trans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omain specific knowledge to derive  abstractions and other reduction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xisting state space reduction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EF3-7402-44C1-B3C5-458C42CD1F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09480" y="1522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grated State Space Reduction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87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066680" y="917640"/>
          <a:ext cx="7029720" cy="59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7640"/>
                    <a:ext cx="702972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609480" y="129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thodological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gorithmic Approa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1600200"/>
            <a:ext cx="6858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590920" y="1294920"/>
            <a:ext cx="7617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086600" y="243828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6248520" y="2438280"/>
            <a:ext cx="1295280" cy="3124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97E-4038-477D-865F-61E0DDF9DF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-Guarantee Compositional Reas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ssume-guarant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radigm: each component guarantees properties based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ptions about other components via proof ru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|| T2 |= 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2 || T1 |= 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 Circularity during verification of different blocks is broken by induction over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AbadiLamport95][AlurHenzinger96][HenzingerQadeerRajamani99][Kurshan94][McMillan98][Stark85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tra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sequence of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 of FSM (||) is the intersection of tr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cy check (|=) is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race contain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35920" y="2887560"/>
            <a:ext cx="2035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 || M2 |= T1 || T2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040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78200" y="1797120"/>
            <a:ext cx="222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Constraining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205740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1981080"/>
            <a:ext cx="533160" cy="304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BA3-F512-472F-B8AB-A91951FF35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alability of Multi-Process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990720"/>
            <a:ext cx="8458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Limi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 when used as constraints commonly do not give sufficient details about the verifiabl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pproach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bstraction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bstraction constra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. Kurshan 94, Henzinger 98)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dded to the property specifica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|| T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T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||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|| …|| 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 …,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b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abstraction constrai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 constraints specific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emporal logic formulae constraining the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xternal variabl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verifiable process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nslation of the formulae to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D97-82EA-4827-BB73-25061E8DA49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tional software structure and behaviors preclude system decomposi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bility of assume/guarantee reas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ardwar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patial Modularit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ural division into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omponents have well defined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ely defined communica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ftware (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Not Spatially Modula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olithic designs (even for OO progra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fficulties in property decom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lean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interaction between SW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fficulties in identifying environment 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Inability to specify meaningful abstraction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0D8-2324-44B4-9F73-C7B102D5F9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sign for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1430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pproach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force softwar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sign discipl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sign constrai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alogous to the physic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s of hardware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rinciple 1: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erform encapsulation at th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onen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(not an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Principle 2: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software components to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patial mod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What to 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state spaces of components rigorously disj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communication through precisely defined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precise communication 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320-2E1E-4A77-83E6-A90A694BAC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lication of Model Checking to Hardwar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ata structures ar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are mod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finite-stat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mponents have well defin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synchronou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B8F-D1B5-46D7-9C30-02085BCD35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/Guarantee Reasoning of Software Spati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62120" y="3200400"/>
            <a:ext cx="2514600" cy="398880"/>
            <a:chOff x="762120" y="3200400"/>
            <a:chExt cx="2514600" cy="398880"/>
          </a:xfrm>
        </p:grpSpPr>
        <p:sp>
          <p:nvSpPr>
            <p:cNvPr id="454" name=""/>
            <p:cNvSpPr/>
            <p:nvPr/>
          </p:nvSpPr>
          <p:spPr>
            <a:xfrm>
              <a:off x="762120" y="320040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90920" y="335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715000" y="3200400"/>
            <a:ext cx="2590920" cy="398880"/>
            <a:chOff x="5715000" y="3200400"/>
            <a:chExt cx="2590920" cy="398880"/>
          </a:xfrm>
        </p:grpSpPr>
        <p:sp>
          <p:nvSpPr>
            <p:cNvPr id="457" name=""/>
            <p:cNvSpPr/>
            <p:nvPr/>
          </p:nvSpPr>
          <p:spPr>
            <a:xfrm>
              <a:off x="6477120" y="320040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15000" y="3352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581280" y="3733560"/>
            <a:ext cx="1828800" cy="1846800"/>
            <a:chOff x="3581280" y="3733560"/>
            <a:chExt cx="1828800" cy="1846800"/>
          </a:xfrm>
        </p:grpSpPr>
        <p:sp>
          <p:nvSpPr>
            <p:cNvPr id="460" name=""/>
            <p:cNvSpPr/>
            <p:nvPr/>
          </p:nvSpPr>
          <p:spPr>
            <a:xfrm>
              <a:off x="3581280" y="5181480"/>
              <a:ext cx="182880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962520" y="37335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886200" y="5867280"/>
            <a:ext cx="1295280" cy="825120"/>
            <a:chOff x="3886200" y="5867280"/>
            <a:chExt cx="1295280" cy="825120"/>
          </a:xfrm>
        </p:grpSpPr>
        <p:sp>
          <p:nvSpPr>
            <p:cNvPr id="463" name=""/>
            <p:cNvSpPr/>
            <p:nvPr/>
          </p:nvSpPr>
          <p:spPr>
            <a:xfrm>
              <a:off x="3886200" y="6172200"/>
              <a:ext cx="1295280" cy="52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ponent 3: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86200" y="5867280"/>
              <a:ext cx="1295280" cy="307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276720" y="3048120"/>
            <a:ext cx="2530440" cy="1815840"/>
            <a:chOff x="3276720" y="3048120"/>
            <a:chExt cx="2530440" cy="1815840"/>
          </a:xfrm>
        </p:grpSpPr>
        <p:grpSp>
          <p:nvGrpSpPr>
            <p:cNvPr id="466" name=""/>
            <p:cNvGrpSpPr/>
            <p:nvPr/>
          </p:nvGrpSpPr>
          <p:grpSpPr>
            <a:xfrm>
              <a:off x="3276720" y="3048120"/>
              <a:ext cx="2438280" cy="1815840"/>
              <a:chOff x="3276720" y="3048120"/>
              <a:chExt cx="2438280" cy="1815840"/>
            </a:xfrm>
          </p:grpSpPr>
          <p:sp>
            <p:nvSpPr>
              <p:cNvPr id="467" name=""/>
              <p:cNvSpPr/>
              <p:nvPr/>
            </p:nvSpPr>
            <p:spPr>
              <a:xfrm>
                <a:off x="3276720" y="3048120"/>
                <a:ext cx="2438280" cy="703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onent 1: formal 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52880" y="4495680"/>
                <a:ext cx="609840" cy="368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4648320" y="3962520"/>
              <a:ext cx="11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62120" y="1752480"/>
            <a:ext cx="7429320" cy="952560"/>
            <a:chOff x="762120" y="1752480"/>
            <a:chExt cx="7429320" cy="952560"/>
          </a:xfrm>
        </p:grpSpPr>
        <p:grpSp>
          <p:nvGrpSpPr>
            <p:cNvPr id="471" name=""/>
            <p:cNvGrpSpPr/>
            <p:nvPr/>
          </p:nvGrpSpPr>
          <p:grpSpPr>
            <a:xfrm>
              <a:off x="914400" y="1752480"/>
              <a:ext cx="7162920" cy="520200"/>
              <a:chOff x="914400" y="1752480"/>
              <a:chExt cx="7162920" cy="520200"/>
            </a:xfrm>
          </p:grpSpPr>
          <p:sp>
            <p:nvSpPr>
              <p:cNvPr id="472" name=""/>
              <p:cNvSpPr/>
              <p:nvPr/>
            </p:nvSpPr>
            <p:spPr>
              <a:xfrm>
                <a:off x="3809880" y="1752480"/>
                <a:ext cx="129564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1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1752480"/>
                <a:ext cx="144792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4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137160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2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75" name=""/>
            <p:cNvGraphicFramePr/>
            <p:nvPr/>
          </p:nvGraphicFramePr>
          <p:xfrm>
            <a:off x="762120" y="2133720"/>
            <a:ext cx="7429320" cy="571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133720"/>
                      <a:ext cx="742932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77" name=""/>
          <p:cNvGrpSpPr/>
          <p:nvPr/>
        </p:nvGrpSpPr>
        <p:grpSpPr>
          <a:xfrm>
            <a:off x="449280" y="3657600"/>
            <a:ext cx="2994120" cy="1828800"/>
            <a:chOff x="449280" y="3657600"/>
            <a:chExt cx="2994120" cy="1828800"/>
          </a:xfrm>
        </p:grpSpPr>
        <p:sp>
          <p:nvSpPr>
            <p:cNvPr id="478" name=""/>
            <p:cNvSpPr/>
            <p:nvPr/>
          </p:nvSpPr>
          <p:spPr>
            <a:xfrm>
              <a:off x="449280" y="4532400"/>
              <a:ext cx="299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</a:rPr>
                <a:t>Property decomposi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99"/>
                  </a:solidFill>
                  <a:latin typeface="Arial"/>
                </a:rPr>
                <a:t>Temporal logic 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828800" y="3657600"/>
              <a:ext cx="0" cy="91440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81080" y="5105520"/>
              <a:ext cx="1447920" cy="380880"/>
            </a:xfrm>
            <a:prstGeom prst="line">
              <a:avLst/>
            </a:prstGeom>
            <a:ln w="12600">
              <a:solidFill>
                <a:srgbClr val="000099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023520" y="5043600"/>
            <a:ext cx="2626560" cy="1036440"/>
            <a:chOff x="6023520" y="5043600"/>
            <a:chExt cx="2626560" cy="1036440"/>
          </a:xfrm>
        </p:grpSpPr>
        <p:sp>
          <p:nvSpPr>
            <p:cNvPr id="482" name=""/>
            <p:cNvSpPr/>
            <p:nvPr/>
          </p:nvSpPr>
          <p:spPr>
            <a:xfrm>
              <a:off x="6023520" y="5043600"/>
              <a:ext cx="26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1 || T2 || T2 || T3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|= 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71480" y="5711760"/>
              <a:ext cx="242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nvironment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6857640" y="5409720"/>
              <a:ext cx="22860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23888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467480" y="5409720"/>
              <a:ext cx="304920" cy="3812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69F-51FD-49E9-9730-1EA2FD4E687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/Guarantee Reasoning of Software Spatial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91640" y="1219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80240" y="13860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03840" y="1386000"/>
            <a:ext cx="1908720" cy="2568960"/>
            <a:chOff x="303840" y="1386000"/>
            <a:chExt cx="1908720" cy="2568960"/>
          </a:xfrm>
        </p:grpSpPr>
        <p:grpSp>
          <p:nvGrpSpPr>
            <p:cNvPr id="492" name=""/>
            <p:cNvGrpSpPr/>
            <p:nvPr/>
          </p:nvGrpSpPr>
          <p:grpSpPr>
            <a:xfrm>
              <a:off x="533520" y="1386000"/>
              <a:ext cx="1450800" cy="1139760"/>
              <a:chOff x="533520" y="1386000"/>
              <a:chExt cx="1450800" cy="113976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1682640"/>
                <a:ext cx="144756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2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3520" y="2209680"/>
                <a:ext cx="145080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66680" y="2225520"/>
                <a:ext cx="5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27080" y="138600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762120" y="3556080"/>
              <a:ext cx="790560" cy="39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a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2388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9" name=""/>
            <p:cNvCxnSpPr>
              <a:stCxn id="494" idx="1"/>
              <a:endCxn id="497" idx="0"/>
            </p:cNvCxnSpPr>
            <p:nvPr/>
          </p:nvCxnSpPr>
          <p:spPr>
            <a:xfrm flipH="1" flipV="1" rot="10800000">
              <a:off x="532440" y="2367360"/>
              <a:ext cx="624600" cy="1188360"/>
            </a:xfrm>
            <a:prstGeom prst="curvedConnector5">
              <a:avLst>
                <a:gd name="adj1" fmla="val -36620"/>
                <a:gd name="adj2" fmla="val 28333"/>
                <a:gd name="adj3" fmla="val -36620"/>
              </a:avLst>
            </a:prstGeom>
            <a:ln w="9360">
              <a:solidFill>
                <a:srgbClr val="00cc99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4" idx="3"/>
              <a:endCxn id="497" idx="0"/>
            </p:cNvCxnSpPr>
            <p:nvPr/>
          </p:nvCxnSpPr>
          <p:spPr>
            <a:xfrm flipH="1">
              <a:off x="1156680" y="2368080"/>
              <a:ext cx="827640" cy="1188360"/>
            </a:xfrm>
            <a:prstGeom prst="curvedConnector5">
              <a:avLst>
                <a:gd name="adj1" fmla="val -27632"/>
                <a:gd name="adj2" fmla="val 28272"/>
                <a:gd name="adj3" fmla="val -27632"/>
              </a:avLst>
            </a:prstGeom>
            <a:ln w="9360">
              <a:solidFill>
                <a:srgbClr val="00cc99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286000" y="3429000"/>
            <a:ext cx="4495680" cy="1668600"/>
            <a:chOff x="2286000" y="3429000"/>
            <a:chExt cx="4495680" cy="1668600"/>
          </a:xfrm>
        </p:grpSpPr>
        <p:sp>
          <p:nvSpPr>
            <p:cNvPr id="502" name=""/>
            <p:cNvSpPr/>
            <p:nvPr/>
          </p:nvSpPr>
          <p:spPr>
            <a:xfrm>
              <a:off x="2286000" y="3429000"/>
              <a:ext cx="20574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 1: formal model, 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4729320"/>
              <a:ext cx="53496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0" y="423396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4280" y="3429000"/>
              <a:ext cx="2057400" cy="703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nent 2: formal model, 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5880" y="4729320"/>
              <a:ext cx="534960" cy="368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7280" y="4267080"/>
              <a:ext cx="83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=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781680" y="1752480"/>
            <a:ext cx="1981440" cy="2227680"/>
            <a:chOff x="6781680" y="1752480"/>
            <a:chExt cx="1981440" cy="2227680"/>
          </a:xfrm>
        </p:grpSpPr>
        <p:grpSp>
          <p:nvGrpSpPr>
            <p:cNvPr id="509" name=""/>
            <p:cNvGrpSpPr/>
            <p:nvPr/>
          </p:nvGrpSpPr>
          <p:grpSpPr>
            <a:xfrm>
              <a:off x="7083360" y="1752480"/>
              <a:ext cx="1451160" cy="849600"/>
              <a:chOff x="7083360" y="1752480"/>
              <a:chExt cx="1451160" cy="849600"/>
            </a:xfrm>
          </p:grpSpPr>
          <p:sp>
            <p:nvSpPr>
              <p:cNvPr id="510" name=""/>
              <p:cNvSpPr/>
              <p:nvPr/>
            </p:nvSpPr>
            <p:spPr>
              <a:xfrm>
                <a:off x="7086600" y="1752480"/>
                <a:ext cx="1447920" cy="520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mponent 1: Design 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83360" y="2286000"/>
                <a:ext cx="145116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72240" y="2301840"/>
                <a:ext cx="50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781680" y="2443680"/>
              <a:ext cx="1981440" cy="1536480"/>
              <a:chOff x="6781680" y="2443680"/>
              <a:chExt cx="1981440" cy="1536480"/>
            </a:xfrm>
          </p:grpSpPr>
          <p:sp>
            <p:nvSpPr>
              <p:cNvPr id="514" name=""/>
              <p:cNvSpPr/>
              <p:nvPr/>
            </p:nvSpPr>
            <p:spPr>
              <a:xfrm>
                <a:off x="6781680" y="38098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5" name=""/>
              <p:cNvGrpSpPr/>
              <p:nvPr/>
            </p:nvGrpSpPr>
            <p:grpSpPr>
              <a:xfrm>
                <a:off x="6853680" y="2443680"/>
                <a:ext cx="1909440" cy="1536480"/>
                <a:chOff x="6853680" y="2443680"/>
                <a:chExt cx="1909440" cy="15364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43800" y="3581280"/>
                  <a:ext cx="762120" cy="398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1</a:t>
                  </a:r>
                  <a:r>
                    <a:rPr b="0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ab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17" name=""/>
                <p:cNvCxnSpPr>
                  <a:stCxn id="511" idx="1"/>
                  <a:endCxn id="516" idx="0"/>
                </p:cNvCxnSpPr>
                <p:nvPr/>
              </p:nvCxnSpPr>
              <p:spPr>
                <a:xfrm flipH="1" flipV="1" rot="10800000">
                  <a:off x="7082280" y="2443680"/>
                  <a:ext cx="842040" cy="1137240"/>
                </a:xfrm>
                <a:prstGeom prst="curvedConnector5">
                  <a:avLst>
                    <a:gd name="adj1" fmla="val -27159"/>
                    <a:gd name="adj2" fmla="val 28467"/>
                    <a:gd name="adj3" fmla="val -27159"/>
                  </a:avLst>
                </a:prstGeom>
                <a:ln w="9360">
                  <a:solidFill>
                    <a:srgbClr val="00cc99"/>
                  </a:solidFill>
                  <a:prstDash val="dash"/>
                  <a:miter/>
                  <a:tailEnd len="med" type="triangle" w="med"/>
                </a:ln>
              </p:spPr>
            </p:cxnSp>
            <p:cxnSp>
              <p:nvCxnSpPr>
                <p:cNvPr id="518" name=""/>
                <p:cNvCxnSpPr>
                  <a:stCxn id="511" idx="3"/>
                  <a:endCxn id="516" idx="0"/>
                </p:cNvCxnSpPr>
                <p:nvPr/>
              </p:nvCxnSpPr>
              <p:spPr>
                <a:xfrm flipH="1">
                  <a:off x="7924320" y="2444400"/>
                  <a:ext cx="610560" cy="1137240"/>
                </a:xfrm>
                <a:prstGeom prst="curvedConnector5">
                  <a:avLst>
                    <a:gd name="adj1" fmla="val -37463"/>
                    <a:gd name="adj2" fmla="val 28404"/>
                    <a:gd name="adj3" fmla="val -37463"/>
                  </a:avLst>
                </a:prstGeom>
                <a:ln w="9360">
                  <a:solidFill>
                    <a:srgbClr val="00cc99"/>
                  </a:solidFill>
                  <a:prstDash val="dash"/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519" name=""/>
          <p:cNvGrpSpPr/>
          <p:nvPr/>
        </p:nvGrpSpPr>
        <p:grpSpPr>
          <a:xfrm>
            <a:off x="2209320" y="1430280"/>
            <a:ext cx="4648680" cy="1389240"/>
            <a:chOff x="2209320" y="1430280"/>
            <a:chExt cx="4648680" cy="1389240"/>
          </a:xfrm>
        </p:grpSpPr>
        <p:sp>
          <p:nvSpPr>
            <p:cNvPr id="520" name=""/>
            <p:cNvSpPr/>
            <p:nvPr/>
          </p:nvSpPr>
          <p:spPr>
            <a:xfrm>
              <a:off x="4746600" y="1461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54720" y="1430280"/>
              <a:ext cx="3170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Abstraction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High-level environment spe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209320" y="2133720"/>
              <a:ext cx="1295640" cy="685800"/>
            </a:xfrm>
            <a:prstGeom prst="line">
              <a:avLst/>
            </a:prstGeom>
            <a:ln w="22320">
              <a:solidFill>
                <a:srgbClr val="00cc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57800" y="2133720"/>
              <a:ext cx="1600200" cy="609480"/>
            </a:xfrm>
            <a:prstGeom prst="line">
              <a:avLst/>
            </a:prstGeom>
            <a:ln w="22320">
              <a:solidFill>
                <a:srgbClr val="00cc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352320" y="4724280"/>
            <a:ext cx="2388960" cy="1143000"/>
            <a:chOff x="3352320" y="4724280"/>
            <a:chExt cx="2388960" cy="1143000"/>
          </a:xfrm>
        </p:grpSpPr>
        <p:sp>
          <p:nvSpPr>
            <p:cNvPr id="525" name=""/>
            <p:cNvSpPr/>
            <p:nvPr/>
          </p:nvSpPr>
          <p:spPr>
            <a:xfrm>
              <a:off x="3352320" y="472428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nvironment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657240" y="5029200"/>
              <a:ext cx="22860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3809880" y="5029200"/>
              <a:ext cx="76320" cy="838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105520" y="5105520"/>
            <a:ext cx="3836160" cy="838080"/>
            <a:chOff x="5105520" y="5105520"/>
            <a:chExt cx="3836160" cy="838080"/>
          </a:xfrm>
        </p:grpSpPr>
        <p:sp>
          <p:nvSpPr>
            <p:cNvPr id="529" name=""/>
            <p:cNvSpPr/>
            <p:nvPr/>
          </p:nvSpPr>
          <p:spPr>
            <a:xfrm>
              <a:off x="6705000" y="51055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bstraction constra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105520" y="5334120"/>
              <a:ext cx="167616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333760" y="5486400"/>
              <a:ext cx="2514600" cy="3808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248160" y="5410080"/>
              <a:ext cx="609480" cy="2286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00440" y="5486400"/>
              <a:ext cx="152388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590920" y="6248520"/>
            <a:ext cx="3962160" cy="458640"/>
            <a:chOff x="2590920" y="6248520"/>
            <a:chExt cx="3962160" cy="458640"/>
          </a:xfrm>
        </p:grpSpPr>
        <p:sp>
          <p:nvSpPr>
            <p:cNvPr id="535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90920" y="624852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29800" y="633888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1 || M2 |= T1 || T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2889000" y="5489640"/>
            <a:ext cx="158616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T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73000" y="542448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70120" y="57294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abs</a:t>
            </a:r>
            <a:r>
              <a:rPr b="1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442-30AA-4FCA-BBF1-866649BCBEC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7621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Verification Statistics: Robot Controlle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81280" y="5392800"/>
            <a:ext cx="5029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M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Monolithic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umber of j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C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ompositiona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ine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: HP9000 (440MHz) with 6144 M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219320" y="12193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916560" y="53784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mory/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12952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905120" y="4419360"/>
            <a:ext cx="129528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4419360"/>
            <a:ext cx="175248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905120" y="4343040"/>
            <a:ext cx="297180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81080" y="4343040"/>
            <a:ext cx="335304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11174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,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24360" y="44197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A87-B00F-4CFD-A1BB-E5717322A40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bstractions in Model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1295280"/>
            <a:ext cx="8001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ata Abstractio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bstraction of details irrelevant to verification of a propert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roach: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b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on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v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ndn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ystematic Construction of Abstrac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dicate Abstraction) [Saidi,Graf 97]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an abstraction function as a predicate over concrete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y decision procedures to compute a set of abstraction pred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the soundness and completeness of the abs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Refinement–based abstraction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MSR SLAM Project],[Clarke et. al. ‘00], [Saidi 00]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Visser et. al 00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241-B050-454A-9BC6-044D10252D8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33520" y="228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bstractions in Model Chec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bstraction might be expensive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 computation procedures to define a set of the abstraction predica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exhaustion during computation of predicates for large systems and complex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havioral over-approximations caused by the abstraction might lead to the state space explo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an we do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and verify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el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Abstract with respect to a subset of properties (not a single proper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y decision proce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Eliminate some predicates from consi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F72-F5AC-4B56-BA19-F1654E5C7A5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9144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Programs with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1219320"/>
            <a:ext cx="838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intensive systems typically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execu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ps of control fun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decision point in the loop typically depends on a small number of variab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ach possible branch is commonly taken for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 wide range of data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trol eff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bles (variables that determine the contr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lobal state transition graph incorporates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all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66"/>
                </a:solidFill>
                <a:latin typeface="Arial"/>
              </a:rPr>
              <a:t>of the l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ll values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effect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533600" y="2895480"/>
          <a:ext cx="608652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895480"/>
                    <a:ext cx="60865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BFD-CB53-417B-BBFB-3BF30D270F7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522520" y="304920"/>
            <a:ext cx="615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of a Program with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014800" y="1739880"/>
          <a:ext cx="38242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0" y="1739880"/>
                    <a:ext cx="38242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304920" y="5715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dEffector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24280" y="57150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xUM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1922400"/>
          <a:ext cx="4800600" cy="39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22400"/>
                    <a:ext cx="480060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"/>
          <p:cNvGrpSpPr/>
          <p:nvPr/>
        </p:nvGrpSpPr>
        <p:grpSpPr>
          <a:xfrm>
            <a:off x="304560" y="304920"/>
            <a:ext cx="1733760" cy="1523880"/>
            <a:chOff x="304560" y="304920"/>
            <a:chExt cx="1733760" cy="1523880"/>
          </a:xfrm>
        </p:grpSpPr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460080" y="304920"/>
              <a:ext cx="1578240" cy="1523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70" name=""/>
            <p:cNvSpPr/>
            <p:nvPr/>
          </p:nvSpPr>
          <p:spPr>
            <a:xfrm flipH="1" flipV="1">
              <a:off x="304560" y="1273680"/>
              <a:ext cx="341640" cy="18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5960" y="1017000"/>
              <a:ext cx="5342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EE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267080" y="5791320"/>
            <a:ext cx="5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5CD-A2BF-49C5-A7AC-C11825C29BB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880" y="914400"/>
            <a:ext cx="8610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Control Properti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perties defined over states that inpu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) of programs with lo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pproach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 execution of loops from valuation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uct an abstract program which contains all of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flow paths in the concrete progr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omicity of  Program Stru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4495680"/>
            <a:ext cx="5105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Basic B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sequence of  statements which c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entered by an event only at the head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hich always run to comple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5943600" y="2895480"/>
          <a:ext cx="236232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193-98E1-4CF6-A917-26E17EAFA21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Ke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544760"/>
            <a:ext cx="83818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atomic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program structure (not predicates) to identify control flow sequ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output ran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each basic block that has loop predic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 control flow predicates of each basic block into a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multi-way sel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ex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non-deterministic choice)  that controls all possible sequences of ev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utput of an abstract  basic block is controlled by a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dependency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ource-to-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86E-70F5-4022-A639-DEA08D3B293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86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1522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oop Abstraction for Model Checking of Contro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10587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838080" y="1143000"/>
          <a:ext cx="784872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84872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02D-FFEA-45F9-A3C9-1935FE106FD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pplication of Model Checking to Software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ata structures are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or O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nite stat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mponents do not have well defin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ordination between SW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or asynchronous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D2F-0AA6-4A47-884F-AF2E607060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Verification Statistics: Robot 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914400" y="7621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154440" y="4800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Memory/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838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676520" y="3885840"/>
            <a:ext cx="350496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752480" y="3886200"/>
            <a:ext cx="312444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752480" y="3962520"/>
            <a:ext cx="175284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676520" y="3962520"/>
            <a:ext cx="1523880" cy="9144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1680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6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737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5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6000" y="5392800"/>
            <a:ext cx="4800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C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Concre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number of j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(A)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: HP9000 (440MHz) with 6144 MB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86680" y="762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95760" y="39625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822-3BE0-4920-BB79-81E4505057B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essons Learn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design and verification environment enables verification of non-trivial softwa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of software into a formal language of model checkers is simpl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checker is used as a debugging tool during software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design management enhances the applicability of the existing state space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of design-level specifications is helpful for specification of useful abstr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e space reduction supports verifying larg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space reduction techniques conducted by the syntactic program transformation are applicable without a change to the model checking tools and can be combined with the existing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iveness of reduction algorithms depends on interaction (combination, order of application, etc.) among reduction algorith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11B-6238-479A-9C93-B48C7AFB474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60020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ome Ideas for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of abstrac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d abstraction approach: syntactic program transformation and reductions of the state transition grap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design and analysis of refinement procedures for design-level spec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ictable component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techniques to check consistency of the component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ion of model checking and test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checking to support interactive simulation during analysis of erro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rack multiple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llow analysis backwards and forward during the exec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of data dependent parts of the code which can not be handled by finite-state model checking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ineering of software systems to enable symbolic verification to be e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2DF-07D4-424A-AA92-284ED1A72D0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28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current pract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760" y="480060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295280"/>
            <a:ext cx="4343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1. Design/Implementation/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2. Modeling/Property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-state model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3.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de-and-conq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1160" indent="-457200"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ques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n applic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735520"/>
            <a:ext cx="83822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Lim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Fi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pensive)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st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program 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sistency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code an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to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plifi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7960" y="990720"/>
          <a:ext cx="36831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990720"/>
                    <a:ext cx="36831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C24-03AB-436D-AC9D-8F78DD570E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hecking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grated Design and Verific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State Space Reduc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for Futur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082-839C-469C-9E0C-F8B4BE9FA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del Checking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UT Austin – Bell Labs Pro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7010280"/>
            <a:ext cx="900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7010280"/>
            <a:ext cx="1368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69048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6922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6705720"/>
            <a:ext cx="900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6705720"/>
            <a:ext cx="13683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73392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3. 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 space reduction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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8592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8736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98600" y="914400"/>
          <a:ext cx="35398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914400"/>
                    <a:ext cx="35398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5502240"/>
            <a:ext cx="83059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dvantag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Earli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g de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ir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ranslation of informal program into formal syntax (no simplific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Separation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concerns: abstraction of control from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Domain-specif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perty specifi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1200" y="1143000"/>
            <a:ext cx="3270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Code Generation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(last st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752480"/>
            <a:ext cx="411480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1. Executable Design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from low-lev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-level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048120"/>
            <a:ext cx="4114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Wingdings"/>
                <a:ea typeface="Wingdings"/>
              </a:rPr>
              <a:t>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2. Modeling/Property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6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ite-state model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27F-44CA-4408-86F3-1D18A9458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4:13:57Z</dcterms:created>
  <dc:creator>natali</dc:creator>
  <dc:description/>
  <dc:language>en-US</dc:language>
  <cp:lastModifiedBy>nys</cp:lastModifiedBy>
  <dcterms:modified xsi:type="dcterms:W3CDTF">2002-12-03T19:29:39Z</dcterms:modified>
  <cp:revision>226</cp:revision>
  <dc:subject/>
  <dc:title>Model Checking Object-Oriented Programs</dc:title>
</cp:coreProperties>
</file>