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media/image27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8.wmf" ContentType="image/x-wmf"/>
  <Override PartName="/ppt/media/image10.png" ContentType="image/png"/>
  <Override PartName="/ppt/media/image30.wmf" ContentType="image/x-wmf"/>
  <Override PartName="/ppt/media/image5.png" ContentType="image/png"/>
  <Override PartName="/ppt/media/image29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6.png" ContentType="image/png"/>
  <Override PartName="/ppt/media/image34.wmf" ContentType="image/x-wmf"/>
  <Override PartName="/ppt/media/image14.png" ContentType="image/png"/>
  <Override PartName="/ppt/media/image4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20.wmf" ContentType="image/x-wmf"/>
  <Override PartName="/ppt/media/image21.wmf" ContentType="image/x-wmf"/>
  <Override PartName="/ppt/media/image1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7034213" cy="7707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A83-1400-4876-94F1-D9A4B55C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8D5-22B7-42EA-928A-4C9D2C54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967-F37C-41C0-A739-1E4F7673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E781-77B9-4DF3-971E-D95457C6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0B8E-39F5-4EFE-9465-34FE0982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D354-C927-4A4D-ACFD-17395AB6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B76-2F8E-45A8-84AF-922D217E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52E7-6A9B-4605-BA52-AF717D32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53ED-E6C6-4722-A13A-931AE2E9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75BD-C8BA-4E19-827A-0AA6394D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999B-DF1A-40D9-96DA-82093D84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68E4-FD43-4373-BEAA-1F20A737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A305-9457-48BA-A4D5-9F5B992C4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Model Checking Large-Scale Softwar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atasha Sharyg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oftware Engineering In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228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xUML: An Executable OO Modeling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28600" y="1371600"/>
          <a:ext cx="41148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41148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4267080" y="1371600"/>
            <a:ext cx="4876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able dialect of U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ystem consists of interacting sequential programs (class instanc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and class hierarch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instances communicate mainly through asynchronous event passing with buff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 of class instances is defined as Stat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Models are extended with state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action is run-to-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transitions are enabled by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A645-C228-40DC-B2D6-C3B23D13E6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52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ecutable OO Model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textual xU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447920"/>
            <a:ext cx="8305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xUML system is a parallel composition of individual sequential progra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|  … || 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2590920"/>
            <a:ext cx="79246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ample  commands of xUML progra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Assignment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: = ex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 := any{ex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, …, ex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Communic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enerate e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ID,exp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ceive e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ID,x)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Event consum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Compounds: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if then else, while do od,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9151-F5D9-43E1-80E0-9458DD17C4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3826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 Sample xUML Stat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162560" cy="457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95280" y="2209680"/>
            <a:ext cx="2210040" cy="533520"/>
          </a:xfrm>
          <a:prstGeom prst="wedgeRoundRectCallout">
            <a:avLst>
              <a:gd name="adj1" fmla="val -40731"/>
              <a:gd name="adj2" fmla="val 81250"/>
              <a:gd name="adj3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160" y="2819520"/>
            <a:ext cx="144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4495680"/>
            <a:ext cx="990360" cy="457200"/>
          </a:xfrm>
          <a:prstGeom prst="wedgeRoundRectCallout">
            <a:avLst>
              <a:gd name="adj1" fmla="val 38462"/>
              <a:gd name="adj2" fmla="val -111458"/>
              <a:gd name="adj3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39960" y="38098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1752480"/>
            <a:ext cx="2210040" cy="533520"/>
          </a:xfrm>
          <a:prstGeom prst="wedgeRoundRectCallout">
            <a:avLst>
              <a:gd name="adj1" fmla="val 40805"/>
              <a:gd name="adj2" fmla="val 97319"/>
              <a:gd name="adj3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3920" y="2438280"/>
            <a:ext cx="179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3200400"/>
            <a:ext cx="838080" cy="457200"/>
          </a:xfrm>
          <a:prstGeom prst="wedgeRoundRectCallout">
            <a:avLst>
              <a:gd name="adj1" fmla="val 46023"/>
              <a:gd name="adj2" fmla="val 79861"/>
              <a:gd name="adj3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7560" y="373392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essage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C11-5F07-4E1A-ADCF-179893BC81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odel Checking xUML Programs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UT-Bell Labs Project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1981080"/>
            <a:ext cx="1600200" cy="45720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048120"/>
            <a:ext cx="3581280" cy="45720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981080"/>
            <a:ext cx="160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UM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1981080"/>
            <a:ext cx="1600200" cy="45720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198108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UML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30481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UML-to-S/R Tran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4114800"/>
            <a:ext cx="1600200" cy="45720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411480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/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4114800"/>
            <a:ext cx="1600200" cy="45720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411480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/R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4382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24382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50532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350532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5181480"/>
            <a:ext cx="6858000" cy="45720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51814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Checking with COSPAN Model Chec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45720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45720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4114800"/>
            <a:ext cx="1600200" cy="45720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411480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/R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4114800"/>
            <a:ext cx="2895840" cy="45720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41148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PAN Error Tr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3048120"/>
            <a:ext cx="2895840" cy="45720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304812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Report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6400440" y="350496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6400440" y="457164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1981080"/>
            <a:ext cx="2895840" cy="45720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19810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UML Level Error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400440" y="24382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6095880"/>
            <a:ext cx="1219320" cy="38124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6095880"/>
            <a:ext cx="1523880" cy="38124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5562360" y="59428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7238880" y="594324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81200" y="601992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040" y="60199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6160" y="5994360"/>
            <a:ext cx="109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gen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DCA4-CA0A-4414-B114-725CF93C0B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SPAN Model Checker and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/R Automaton Languag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29714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PAN is a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utomata-based model checker and input models and queries are formulated in S/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/R, a system is a synchronous parallel composition of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4414-3FD8-4804-8670-E4DFFC83F0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xUML-to-S/R Model Tran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676520"/>
            <a:ext cx="800100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 xUML class instances to S/R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asynchrony with synchron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S/R process as global execution schedu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buffers by separate S/R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s dynamic creation of class in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s infinite state spaces of xUML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s modules from SDLCheck [Kurshan, Levin’01], such as optimization modules that conduct Static Partial Order Re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A6A5-05D6-4673-BF3C-DCD5E42D0A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350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xUML Level Query Formul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8483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 Joint_2_in_Move_EE &lt;&lt;Joint 2&gt;&gt; $Move_E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 Recovery_Called &lt;&lt;Recovery 1&gt;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recovery_status = 1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(Joint_2_in_Move_EE AND Recovery_Calle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2666880"/>
            <a:ext cx="2438640" cy="457200"/>
          </a:xfrm>
          <a:prstGeom prst="wedgeRoundRectCallout">
            <a:avLst>
              <a:gd name="adj1" fmla="val -35157"/>
              <a:gd name="adj2" fmla="val -120486"/>
              <a:gd name="adj3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19051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3962520"/>
            <a:ext cx="7162560" cy="609480"/>
          </a:xfrm>
          <a:prstGeom prst="wedgeRoundRectCallout">
            <a:avLst>
              <a:gd name="adj1" fmla="val -8865"/>
              <a:gd name="adj2" fmla="val 152342"/>
              <a:gd name="adj3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1240" y="5410080"/>
            <a:ext cx="45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stantiation of Temporal Tem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2666880"/>
            <a:ext cx="1600200" cy="457200"/>
          </a:xfrm>
          <a:prstGeom prst="wedgeRoundRectCallout">
            <a:avLst>
              <a:gd name="adj1" fmla="val -23513"/>
              <a:gd name="adj2" fmla="val -129861"/>
              <a:gd name="adj3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83680" y="1905120"/>
            <a:ext cx="48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mantic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structs of xUM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BF9-662F-407A-9E07-588FB03719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572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emon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2743200"/>
            <a:ext cx="32004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 Specificatio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2743200"/>
            <a:ext cx="167616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05720" y="2743200"/>
            <a:ext cx="18288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Vis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4419720"/>
            <a:ext cx="43434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-to-S/R Trans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4419720"/>
            <a:ext cx="24130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6095880"/>
            <a:ext cx="434340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PAN Model 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54" idx="2"/>
            <a:endCxn id="161" idx="0"/>
          </p:cNvCxnSpPr>
          <p:nvPr/>
        </p:nvCxnSpPr>
        <p:spPr>
          <a:xfrm flipV="1" rot="10800000">
            <a:off x="2056680" y="3152520"/>
            <a:ext cx="1080" cy="415080"/>
          </a:xfrm>
          <a:prstGeom prst="bentConnector2">
            <a:avLst/>
          </a:prstGeom>
          <a:ln w="0">
            <a:noFill/>
          </a:ln>
        </p:spPr>
      </p:cxnSp>
      <p:grpSp>
        <p:nvGrpSpPr>
          <p:cNvPr id="162" name=""/>
          <p:cNvGrpSpPr/>
          <p:nvPr/>
        </p:nvGrpSpPr>
        <p:grpSpPr>
          <a:xfrm>
            <a:off x="5653080" y="2095200"/>
            <a:ext cx="1967400" cy="1472040"/>
            <a:chOff x="5653080" y="2095200"/>
            <a:chExt cx="1967400" cy="1472040"/>
          </a:xfrm>
        </p:grpSpPr>
        <p:cxnSp>
          <p:nvCxnSpPr>
            <p:cNvPr id="163" name=""/>
            <p:cNvCxnSpPr>
              <a:stCxn id="164" idx="3"/>
              <a:endCxn id="156" idx="0"/>
            </p:cNvCxnSpPr>
            <p:nvPr/>
          </p:nvCxnSpPr>
          <p:spPr>
            <a:xfrm>
              <a:off x="5653080" y="2095200"/>
              <a:ext cx="1967760" cy="63396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stealth" w="med"/>
            </a:ln>
          </p:spPr>
        </p:cxnSp>
        <p:cxnSp>
          <p:nvCxnSpPr>
            <p:cNvPr id="165" name=""/>
            <p:cNvCxnSpPr/>
            <p:nvPr/>
          </p:nvCxnSpPr>
          <p:spPr>
            <a:xfrm flipV="1" rot="10800000">
              <a:off x="761940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headEnd len="med" type="stealth" w="med"/>
            </a:ln>
          </p:spPr>
        </p:cxnSp>
      </p:grpSp>
      <p:grpSp>
        <p:nvGrpSpPr>
          <p:cNvPr id="166" name=""/>
          <p:cNvGrpSpPr/>
          <p:nvPr/>
        </p:nvGrpSpPr>
        <p:grpSpPr>
          <a:xfrm>
            <a:off x="1447920" y="3962520"/>
            <a:ext cx="4343400" cy="1676160"/>
            <a:chOff x="1447920" y="3962520"/>
            <a:chExt cx="4343400" cy="1676160"/>
          </a:xfrm>
        </p:grpSpPr>
        <p:sp>
          <p:nvSpPr>
            <p:cNvPr id="167" name=""/>
            <p:cNvSpPr/>
            <p:nvPr/>
          </p:nvSpPr>
          <p:spPr>
            <a:xfrm>
              <a:off x="4343400" y="5257800"/>
              <a:ext cx="1447920" cy="380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/R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47920" y="5257800"/>
              <a:ext cx="1218960" cy="380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/R 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/>
            <p:nvPr/>
          </p:nvCxnSpPr>
          <p:spPr>
            <a:xfrm flipV="1" rot="10800000">
              <a:off x="2056680" y="396216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170" name=""/>
            <p:cNvCxnSpPr/>
            <p:nvPr/>
          </p:nvCxnSpPr>
          <p:spPr>
            <a:xfrm flipV="1" rot="10800000">
              <a:off x="5028480" y="396216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171" name=""/>
            <p:cNvCxnSpPr/>
            <p:nvPr/>
          </p:nvCxnSpPr>
          <p:spPr>
            <a:xfrm flipV="1" rot="10800000">
              <a:off x="2056680" y="48002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172" name=""/>
            <p:cNvCxnSpPr/>
            <p:nvPr/>
          </p:nvCxnSpPr>
          <p:spPr>
            <a:xfrm flipV="1" rot="10800000">
              <a:off x="5028480" y="48002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</p:grpSp>
      <p:grpSp>
        <p:nvGrpSpPr>
          <p:cNvPr id="173" name=""/>
          <p:cNvGrpSpPr/>
          <p:nvPr/>
        </p:nvGrpSpPr>
        <p:grpSpPr>
          <a:xfrm>
            <a:off x="6934320" y="3581280"/>
            <a:ext cx="1295280" cy="1662480"/>
            <a:chOff x="6934320" y="3581280"/>
            <a:chExt cx="1295280" cy="1662480"/>
          </a:xfrm>
        </p:grpSpPr>
        <p:sp>
          <p:nvSpPr>
            <p:cNvPr id="174" name=""/>
            <p:cNvSpPr/>
            <p:nvPr/>
          </p:nvSpPr>
          <p:spPr>
            <a:xfrm>
              <a:off x="6934320" y="3581280"/>
              <a:ext cx="1295280" cy="3812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rror Re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5" name=""/>
            <p:cNvCxnSpPr/>
            <p:nvPr/>
          </p:nvCxnSpPr>
          <p:spPr>
            <a:xfrm flipV="1" rot="10800000">
              <a:off x="7619400" y="396216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headEnd len="med" type="stealth" w="med"/>
            </a:ln>
          </p:spPr>
        </p:cxnSp>
        <p:cxnSp>
          <p:nvCxnSpPr>
            <p:cNvPr id="176" name=""/>
            <p:cNvCxnSpPr/>
            <p:nvPr/>
          </p:nvCxnSpPr>
          <p:spPr>
            <a:xfrm flipV="1" rot="10800000">
              <a:off x="7619400" y="48002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headEnd len="med" type="stealth" w="med"/>
            </a:ln>
          </p:spPr>
        </p:cxnSp>
      </p:grpSp>
      <p:grpSp>
        <p:nvGrpSpPr>
          <p:cNvPr id="177" name=""/>
          <p:cNvGrpSpPr/>
          <p:nvPr/>
        </p:nvGrpSpPr>
        <p:grpSpPr>
          <a:xfrm>
            <a:off x="2056680" y="5257800"/>
            <a:ext cx="6249240" cy="1036800"/>
            <a:chOff x="2056680" y="5257800"/>
            <a:chExt cx="6249240" cy="1036800"/>
          </a:xfrm>
        </p:grpSpPr>
        <p:sp>
          <p:nvSpPr>
            <p:cNvPr id="178" name=""/>
            <p:cNvSpPr/>
            <p:nvPr/>
          </p:nvSpPr>
          <p:spPr>
            <a:xfrm>
              <a:off x="6934320" y="5257800"/>
              <a:ext cx="1371600" cy="380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rror Tr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" name=""/>
            <p:cNvCxnSpPr/>
            <p:nvPr/>
          </p:nvCxnSpPr>
          <p:spPr>
            <a:xfrm flipV="1" rot="10800000">
              <a:off x="2056680" y="56383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180" name=""/>
            <p:cNvCxnSpPr/>
            <p:nvPr/>
          </p:nvCxnSpPr>
          <p:spPr>
            <a:xfrm flipV="1" rot="10800000">
              <a:off x="5028480" y="56383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181" name=""/>
            <p:cNvCxnSpPr>
              <a:stCxn id="159" idx="3"/>
              <a:endCxn id="178" idx="2"/>
            </p:cNvCxnSpPr>
            <p:nvPr/>
          </p:nvCxnSpPr>
          <p:spPr>
            <a:xfrm flipV="1">
              <a:off x="5805000" y="5652720"/>
              <a:ext cx="1815480" cy="64224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</p:grpSp>
      <p:grpSp>
        <p:nvGrpSpPr>
          <p:cNvPr id="182" name=""/>
          <p:cNvGrpSpPr/>
          <p:nvPr/>
        </p:nvGrpSpPr>
        <p:grpSpPr>
          <a:xfrm>
            <a:off x="4343400" y="1905120"/>
            <a:ext cx="1447920" cy="2057400"/>
            <a:chOff x="4343400" y="1905120"/>
            <a:chExt cx="1447920" cy="2057400"/>
          </a:xfrm>
        </p:grpSpPr>
        <p:sp>
          <p:nvSpPr>
            <p:cNvPr id="164" name=""/>
            <p:cNvSpPr/>
            <p:nvPr/>
          </p:nvSpPr>
          <p:spPr>
            <a:xfrm>
              <a:off x="4419720" y="1905120"/>
              <a:ext cx="1218960" cy="380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sig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4343400" y="2286000"/>
              <a:ext cx="1447920" cy="1676520"/>
              <a:chOff x="4343400" y="2286000"/>
              <a:chExt cx="1447920" cy="1676520"/>
            </a:xfrm>
          </p:grpSpPr>
          <p:sp>
            <p:nvSpPr>
              <p:cNvPr id="184" name=""/>
              <p:cNvSpPr/>
              <p:nvPr/>
            </p:nvSpPr>
            <p:spPr>
              <a:xfrm>
                <a:off x="4343400" y="3581280"/>
                <a:ext cx="1447920" cy="38124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xUML Mod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5" name=""/>
              <p:cNvCxnSpPr/>
              <p:nvPr/>
            </p:nvCxnSpPr>
            <p:spPr>
              <a:xfrm flipV="1" rot="10800000">
                <a:off x="5028480" y="3123720"/>
                <a:ext cx="1080" cy="44388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186" name=""/>
              <p:cNvCxnSpPr/>
              <p:nvPr/>
            </p:nvCxnSpPr>
            <p:spPr>
              <a:xfrm flipV="1" rot="10800000">
                <a:off x="5028480" y="22856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prstDash val="dash"/>
                <a:miter/>
                <a:tailEnd len="med" type="stealth" w="med"/>
              </a:ln>
            </p:spPr>
          </p:cxnSp>
        </p:grpSp>
      </p:grpSp>
      <p:grpSp>
        <p:nvGrpSpPr>
          <p:cNvPr id="187" name=""/>
          <p:cNvGrpSpPr/>
          <p:nvPr/>
        </p:nvGrpSpPr>
        <p:grpSpPr>
          <a:xfrm>
            <a:off x="1447920" y="2094480"/>
            <a:ext cx="2957400" cy="1868040"/>
            <a:chOff x="1447920" y="2094480"/>
            <a:chExt cx="2957400" cy="1868040"/>
          </a:xfrm>
        </p:grpSpPr>
        <p:sp>
          <p:nvSpPr>
            <p:cNvPr id="161" name=""/>
            <p:cNvSpPr/>
            <p:nvPr/>
          </p:nvSpPr>
          <p:spPr>
            <a:xfrm>
              <a:off x="1447920" y="3581280"/>
              <a:ext cx="1218960" cy="3812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per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8" name=""/>
            <p:cNvCxnSpPr/>
            <p:nvPr/>
          </p:nvCxnSpPr>
          <p:spPr>
            <a:xfrm flipV="1" rot="10800000">
              <a:off x="20566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189" name=""/>
            <p:cNvCxnSpPr>
              <a:stCxn id="164" idx="1"/>
              <a:endCxn id="154" idx="0"/>
            </p:cNvCxnSpPr>
            <p:nvPr/>
          </p:nvCxnSpPr>
          <p:spPr>
            <a:xfrm flipV="1" rot="10800000">
              <a:off x="2056680" y="2094480"/>
              <a:ext cx="2348640" cy="63396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1B7A-1B81-41C0-A015-BF661D4DBD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tep-by-Step Demonstr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190512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120" y="2743200"/>
            <a:ext cx="3270240" cy="380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743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 Specificatio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743200"/>
            <a:ext cx="167616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2743200"/>
            <a:ext cx="18288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Vis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3581280"/>
            <a:ext cx="16765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3581280"/>
            <a:ext cx="14479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3581280"/>
            <a:ext cx="121896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4419720"/>
            <a:ext cx="43434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-to-S/R Trans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4419720"/>
            <a:ext cx="24382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81680" y="5257800"/>
            <a:ext cx="137160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3400" y="5257800"/>
            <a:ext cx="144792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525780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6095880"/>
            <a:ext cx="434340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PAN Model 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193" idx="2"/>
            <a:endCxn id="198" idx="0"/>
          </p:cNvCxnSpPr>
          <p:nvPr/>
        </p:nvCxnSpPr>
        <p:spPr>
          <a:xfrm flipV="1" rot="10800000">
            <a:off x="2056680" y="3109680"/>
            <a:ext cx="1080" cy="457920"/>
          </a:xfrm>
          <a:prstGeom prst="bentConnector2">
            <a:avLst/>
          </a:prstGeom>
          <a:ln w="0">
            <a:noFill/>
          </a:ln>
        </p:spPr>
      </p:cxnSp>
      <p:grpSp>
        <p:nvGrpSpPr>
          <p:cNvPr id="206" name=""/>
          <p:cNvGrpSpPr/>
          <p:nvPr/>
        </p:nvGrpSpPr>
        <p:grpSpPr>
          <a:xfrm>
            <a:off x="5028480" y="2286000"/>
            <a:ext cx="720" cy="1281240"/>
            <a:chOff x="5028480" y="2286000"/>
            <a:chExt cx="720" cy="1281240"/>
          </a:xfrm>
        </p:grpSpPr>
        <p:cxnSp>
          <p:nvCxnSpPr>
            <p:cNvPr id="207" name=""/>
            <p:cNvCxnSpPr/>
            <p:nvPr/>
          </p:nvCxnSpPr>
          <p:spPr>
            <a:xfrm flipV="1" rot="10800000">
              <a:off x="50284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208" name=""/>
            <p:cNvCxnSpPr/>
            <p:nvPr/>
          </p:nvCxnSpPr>
          <p:spPr>
            <a:xfrm flipV="1" rot="10800000">
              <a:off x="5028480" y="22856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F5E2-8550-4865-BE3A-1EB58B263A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BC36-0265-4951-AC55-B0BEEC1739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el Checking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Design and Verificatio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State Space Reductio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s for Futur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C30D-6E46-4143-AD11-D7F082DAD1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2DF1-3922-4032-A9FC-2E02FDF94C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055-0831-4B33-8C1A-0A242E95CC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691-ECDE-4E9D-8378-35774E63E2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2640-413E-4D39-BBA0-A945A9D9D5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B7EC-D8C8-4E07-98C0-2A862391229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ep-by-Step Demonstr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190512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120" y="2743200"/>
            <a:ext cx="3270240" cy="380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743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 Specificatio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91120" y="2743200"/>
            <a:ext cx="167616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2743200"/>
            <a:ext cx="18288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Vis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3581280"/>
            <a:ext cx="16765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3581280"/>
            <a:ext cx="14479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47920" y="3581280"/>
            <a:ext cx="121896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4419720"/>
            <a:ext cx="43434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-to-S/R Trans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4419720"/>
            <a:ext cx="24382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5257800"/>
            <a:ext cx="137160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5257800"/>
            <a:ext cx="144792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525780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6095880"/>
            <a:ext cx="434340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PAN Model 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8" idx="2"/>
            <a:endCxn id="223" idx="0"/>
          </p:cNvCxnSpPr>
          <p:nvPr/>
        </p:nvCxnSpPr>
        <p:spPr>
          <a:xfrm flipV="1" rot="10800000">
            <a:off x="2056680" y="3109680"/>
            <a:ext cx="1080" cy="457920"/>
          </a:xfrm>
          <a:prstGeom prst="bentConnector2">
            <a:avLst/>
          </a:prstGeom>
          <a:ln w="0">
            <a:noFill/>
          </a:ln>
        </p:spPr>
      </p:cxnSp>
      <p:grpSp>
        <p:nvGrpSpPr>
          <p:cNvPr id="231" name=""/>
          <p:cNvGrpSpPr/>
          <p:nvPr/>
        </p:nvGrpSpPr>
        <p:grpSpPr>
          <a:xfrm>
            <a:off x="5028480" y="2286000"/>
            <a:ext cx="720" cy="1281240"/>
            <a:chOff x="5028480" y="2286000"/>
            <a:chExt cx="720" cy="1281240"/>
          </a:xfrm>
        </p:grpSpPr>
        <p:cxnSp>
          <p:nvCxnSpPr>
            <p:cNvPr id="232" name=""/>
            <p:cNvCxnSpPr/>
            <p:nvPr/>
          </p:nvCxnSpPr>
          <p:spPr>
            <a:xfrm flipV="1" rot="10800000">
              <a:off x="50284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233" name=""/>
            <p:cNvCxnSpPr/>
            <p:nvPr/>
          </p:nvCxnSpPr>
          <p:spPr>
            <a:xfrm flipV="1" rot="10800000">
              <a:off x="5028480" y="22856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grpSp>
        <p:nvGrpSpPr>
          <p:cNvPr id="234" name=""/>
          <p:cNvGrpSpPr/>
          <p:nvPr/>
        </p:nvGrpSpPr>
        <p:grpSpPr>
          <a:xfrm>
            <a:off x="2056680" y="2094480"/>
            <a:ext cx="2348640" cy="1472760"/>
            <a:chOff x="2056680" y="2094480"/>
            <a:chExt cx="2348640" cy="1472760"/>
          </a:xfrm>
        </p:grpSpPr>
        <p:cxnSp>
          <p:nvCxnSpPr>
            <p:cNvPr id="235" name=""/>
            <p:cNvCxnSpPr/>
            <p:nvPr/>
          </p:nvCxnSpPr>
          <p:spPr>
            <a:xfrm flipV="1" rot="10800000">
              <a:off x="20566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236" name=""/>
            <p:cNvCxnSpPr>
              <a:stCxn id="216" idx="1"/>
              <a:endCxn id="218" idx="0"/>
            </p:cNvCxnSpPr>
            <p:nvPr/>
          </p:nvCxnSpPr>
          <p:spPr>
            <a:xfrm flipV="1" rot="10800000">
              <a:off x="2056680" y="2094480"/>
              <a:ext cx="2348640" cy="64836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FF0E-8639-48BE-AF51-B8FA44291DA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345A-3F30-4A2B-A6D3-09A60F4145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ep-by-Step Demonstr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190512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120" y="2743200"/>
            <a:ext cx="3270240" cy="380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2743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 Specificatio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2743200"/>
            <a:ext cx="167616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2743200"/>
            <a:ext cx="18288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Vis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29400" y="3581280"/>
            <a:ext cx="16765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43400" y="3581280"/>
            <a:ext cx="14479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3581280"/>
            <a:ext cx="121896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4419720"/>
            <a:ext cx="43434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-to-S/R Trans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4419720"/>
            <a:ext cx="24382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257800"/>
            <a:ext cx="137160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5257800"/>
            <a:ext cx="144792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525780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6095880"/>
            <a:ext cx="434340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PAN Model 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1" idx="2"/>
            <a:endCxn id="246" idx="0"/>
          </p:cNvCxnSpPr>
          <p:nvPr/>
        </p:nvCxnSpPr>
        <p:spPr>
          <a:xfrm flipV="1" rot="10800000">
            <a:off x="2056680" y="3109680"/>
            <a:ext cx="1080" cy="457920"/>
          </a:xfrm>
          <a:prstGeom prst="bentConnector2">
            <a:avLst/>
          </a:prstGeom>
          <a:ln w="0">
            <a:noFill/>
          </a:ln>
        </p:spPr>
      </p:cxnSp>
      <p:grpSp>
        <p:nvGrpSpPr>
          <p:cNvPr id="254" name=""/>
          <p:cNvGrpSpPr/>
          <p:nvPr/>
        </p:nvGrpSpPr>
        <p:grpSpPr>
          <a:xfrm>
            <a:off x="2056680" y="3962520"/>
            <a:ext cx="2972520" cy="1281240"/>
            <a:chOff x="2056680" y="3962520"/>
            <a:chExt cx="2972520" cy="1281240"/>
          </a:xfrm>
        </p:grpSpPr>
        <p:grpSp>
          <p:nvGrpSpPr>
            <p:cNvPr id="255" name=""/>
            <p:cNvGrpSpPr/>
            <p:nvPr/>
          </p:nvGrpSpPr>
          <p:grpSpPr>
            <a:xfrm>
              <a:off x="2056680" y="3962520"/>
              <a:ext cx="2972520" cy="443160"/>
              <a:chOff x="2056680" y="3962520"/>
              <a:chExt cx="2972520" cy="443160"/>
            </a:xfrm>
          </p:grpSpPr>
          <p:cxnSp>
            <p:nvCxnSpPr>
              <p:cNvPr id="256" name=""/>
              <p:cNvCxnSpPr/>
              <p:nvPr/>
            </p:nvCxnSpPr>
            <p:spPr>
              <a:xfrm flipV="1" rot="10800000">
                <a:off x="2056680" y="396216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257" name=""/>
              <p:cNvCxnSpPr/>
              <p:nvPr/>
            </p:nvCxnSpPr>
            <p:spPr>
              <a:xfrm flipV="1" rot="10800000">
                <a:off x="5028480" y="396216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  <p:grpSp>
          <p:nvGrpSpPr>
            <p:cNvPr id="258" name=""/>
            <p:cNvGrpSpPr/>
            <p:nvPr/>
          </p:nvGrpSpPr>
          <p:grpSpPr>
            <a:xfrm>
              <a:off x="2056680" y="4800600"/>
              <a:ext cx="2972520" cy="443160"/>
              <a:chOff x="2056680" y="4800600"/>
              <a:chExt cx="2972520" cy="443160"/>
            </a:xfrm>
          </p:grpSpPr>
          <p:cxnSp>
            <p:nvCxnSpPr>
              <p:cNvPr id="259" name=""/>
              <p:cNvCxnSpPr/>
              <p:nvPr/>
            </p:nvCxnSpPr>
            <p:spPr>
              <a:xfrm flipV="1" rot="10800000">
                <a:off x="2056680" y="48002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260" name=""/>
              <p:cNvCxnSpPr/>
              <p:nvPr/>
            </p:nvCxnSpPr>
            <p:spPr>
              <a:xfrm flipV="1" rot="10800000">
                <a:off x="5028480" y="48002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</p:grpSp>
      <p:grpSp>
        <p:nvGrpSpPr>
          <p:cNvPr id="261" name=""/>
          <p:cNvGrpSpPr/>
          <p:nvPr/>
        </p:nvGrpSpPr>
        <p:grpSpPr>
          <a:xfrm>
            <a:off x="5028480" y="2286000"/>
            <a:ext cx="720" cy="1281240"/>
            <a:chOff x="5028480" y="2286000"/>
            <a:chExt cx="720" cy="1281240"/>
          </a:xfrm>
        </p:grpSpPr>
        <p:cxnSp>
          <p:nvCxnSpPr>
            <p:cNvPr id="262" name=""/>
            <p:cNvCxnSpPr/>
            <p:nvPr/>
          </p:nvCxnSpPr>
          <p:spPr>
            <a:xfrm flipV="1" rot="10800000">
              <a:off x="50284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263" name=""/>
            <p:cNvCxnSpPr/>
            <p:nvPr/>
          </p:nvCxnSpPr>
          <p:spPr>
            <a:xfrm flipV="1" rot="10800000">
              <a:off x="5028480" y="22856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grpSp>
        <p:nvGrpSpPr>
          <p:cNvPr id="264" name=""/>
          <p:cNvGrpSpPr/>
          <p:nvPr/>
        </p:nvGrpSpPr>
        <p:grpSpPr>
          <a:xfrm>
            <a:off x="2056680" y="2094480"/>
            <a:ext cx="2348640" cy="1472760"/>
            <a:chOff x="2056680" y="2094480"/>
            <a:chExt cx="2348640" cy="1472760"/>
          </a:xfrm>
        </p:grpSpPr>
        <p:cxnSp>
          <p:nvCxnSpPr>
            <p:cNvPr id="265" name=""/>
            <p:cNvCxnSpPr/>
            <p:nvPr/>
          </p:nvCxnSpPr>
          <p:spPr>
            <a:xfrm flipV="1" rot="10800000">
              <a:off x="20566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266" name=""/>
            <p:cNvCxnSpPr>
              <a:stCxn id="239" idx="1"/>
              <a:endCxn id="241" idx="0"/>
            </p:cNvCxnSpPr>
            <p:nvPr/>
          </p:nvCxnSpPr>
          <p:spPr>
            <a:xfrm flipV="1" rot="10800000">
              <a:off x="2056680" y="2094480"/>
              <a:ext cx="2348640" cy="64836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830-982A-47D2-8280-D72190CE39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147-E2AF-4403-B3E7-253DF0D1DF8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F9BD-D01A-434C-B2BF-CB7F9AB23C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rmal Verification by Model Che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14300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Continuously operating concurrent syste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operating systems, hardw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ers and network protoco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oing, reactive seman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ting, infinite compu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fest non-determi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Temporal Logic Model check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larke,Emerson 81][Queille,Sifakis 82]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model,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tate transition system - finite state machi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,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emporal log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to check if M satisfies P,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 |=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exhaustive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umeration of all states reachable by the syst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 design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fai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satisfy a desired property, a counterexample is gene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A04B-21B6-4B1E-99E0-8D93275FCD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tep-by-Step Demonstr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19720" y="190512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1120" y="2743200"/>
            <a:ext cx="3270240" cy="380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2743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 Specificatio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2743200"/>
            <a:ext cx="167616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53080" y="2743200"/>
            <a:ext cx="18288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Vis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3581280"/>
            <a:ext cx="16765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43400" y="3581280"/>
            <a:ext cx="14479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3581280"/>
            <a:ext cx="121896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4419720"/>
            <a:ext cx="43434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-to-S/R Trans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4419720"/>
            <a:ext cx="24382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81680" y="5257800"/>
            <a:ext cx="137160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5257800"/>
            <a:ext cx="144792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525780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6095880"/>
            <a:ext cx="434340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PAN Model 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72" idx="2"/>
            <a:endCxn id="277" idx="0"/>
          </p:cNvCxnSpPr>
          <p:nvPr/>
        </p:nvCxnSpPr>
        <p:spPr>
          <a:xfrm flipV="1" rot="10800000">
            <a:off x="2056680" y="3109680"/>
            <a:ext cx="1080" cy="457920"/>
          </a:xfrm>
          <a:prstGeom prst="bentConnector2">
            <a:avLst/>
          </a:prstGeom>
          <a:ln w="0">
            <a:noFill/>
          </a:ln>
        </p:spPr>
      </p:cxnSp>
      <p:grpSp>
        <p:nvGrpSpPr>
          <p:cNvPr id="285" name=""/>
          <p:cNvGrpSpPr/>
          <p:nvPr/>
        </p:nvGrpSpPr>
        <p:grpSpPr>
          <a:xfrm>
            <a:off x="2056680" y="3962520"/>
            <a:ext cx="2972520" cy="1281240"/>
            <a:chOff x="2056680" y="3962520"/>
            <a:chExt cx="2972520" cy="1281240"/>
          </a:xfrm>
        </p:grpSpPr>
        <p:grpSp>
          <p:nvGrpSpPr>
            <p:cNvPr id="286" name=""/>
            <p:cNvGrpSpPr/>
            <p:nvPr/>
          </p:nvGrpSpPr>
          <p:grpSpPr>
            <a:xfrm>
              <a:off x="2056680" y="3962520"/>
              <a:ext cx="2972520" cy="443160"/>
              <a:chOff x="2056680" y="3962520"/>
              <a:chExt cx="2972520" cy="443160"/>
            </a:xfrm>
          </p:grpSpPr>
          <p:cxnSp>
            <p:nvCxnSpPr>
              <p:cNvPr id="287" name=""/>
              <p:cNvCxnSpPr/>
              <p:nvPr/>
            </p:nvCxnSpPr>
            <p:spPr>
              <a:xfrm flipV="1" rot="10800000">
                <a:off x="2056680" y="396216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288" name=""/>
              <p:cNvCxnSpPr/>
              <p:nvPr/>
            </p:nvCxnSpPr>
            <p:spPr>
              <a:xfrm flipV="1" rot="10800000">
                <a:off x="5028480" y="396216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  <p:grpSp>
          <p:nvGrpSpPr>
            <p:cNvPr id="289" name=""/>
            <p:cNvGrpSpPr/>
            <p:nvPr/>
          </p:nvGrpSpPr>
          <p:grpSpPr>
            <a:xfrm>
              <a:off x="2056680" y="4800600"/>
              <a:ext cx="2972520" cy="443160"/>
              <a:chOff x="2056680" y="4800600"/>
              <a:chExt cx="2972520" cy="443160"/>
            </a:xfrm>
          </p:grpSpPr>
          <p:cxnSp>
            <p:nvCxnSpPr>
              <p:cNvPr id="290" name=""/>
              <p:cNvCxnSpPr/>
              <p:nvPr/>
            </p:nvCxnSpPr>
            <p:spPr>
              <a:xfrm flipV="1" rot="10800000">
                <a:off x="2056680" y="48002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291" name=""/>
              <p:cNvCxnSpPr/>
              <p:nvPr/>
            </p:nvCxnSpPr>
            <p:spPr>
              <a:xfrm flipV="1" rot="10800000">
                <a:off x="5028480" y="48002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</p:grpSp>
      <p:grpSp>
        <p:nvGrpSpPr>
          <p:cNvPr id="292" name=""/>
          <p:cNvGrpSpPr/>
          <p:nvPr/>
        </p:nvGrpSpPr>
        <p:grpSpPr>
          <a:xfrm>
            <a:off x="2056680" y="5638320"/>
            <a:ext cx="5410800" cy="656280"/>
            <a:chOff x="2056680" y="5638320"/>
            <a:chExt cx="5410800" cy="656280"/>
          </a:xfrm>
        </p:grpSpPr>
        <p:grpSp>
          <p:nvGrpSpPr>
            <p:cNvPr id="293" name=""/>
            <p:cNvGrpSpPr/>
            <p:nvPr/>
          </p:nvGrpSpPr>
          <p:grpSpPr>
            <a:xfrm>
              <a:off x="2056680" y="5638320"/>
              <a:ext cx="2972520" cy="443520"/>
              <a:chOff x="2056680" y="5638320"/>
              <a:chExt cx="2972520" cy="443520"/>
            </a:xfrm>
          </p:grpSpPr>
          <p:cxnSp>
            <p:nvCxnSpPr>
              <p:cNvPr id="294" name=""/>
              <p:cNvCxnSpPr/>
              <p:nvPr/>
            </p:nvCxnSpPr>
            <p:spPr>
              <a:xfrm flipV="1" rot="10800000">
                <a:off x="2056680" y="5638320"/>
                <a:ext cx="1080" cy="44388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295" name=""/>
              <p:cNvCxnSpPr/>
              <p:nvPr/>
            </p:nvCxnSpPr>
            <p:spPr>
              <a:xfrm flipV="1" rot="10800000">
                <a:off x="5028480" y="5638320"/>
                <a:ext cx="1080" cy="44388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  <p:cxnSp>
          <p:nvCxnSpPr>
            <p:cNvPr id="296" name=""/>
            <p:cNvCxnSpPr>
              <a:stCxn id="283" idx="3"/>
              <a:endCxn id="280" idx="2"/>
            </p:cNvCxnSpPr>
            <p:nvPr/>
          </p:nvCxnSpPr>
          <p:spPr>
            <a:xfrm flipV="1">
              <a:off x="5805000" y="5652720"/>
              <a:ext cx="1662840" cy="64224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</p:grpSp>
      <p:grpSp>
        <p:nvGrpSpPr>
          <p:cNvPr id="297" name=""/>
          <p:cNvGrpSpPr/>
          <p:nvPr/>
        </p:nvGrpSpPr>
        <p:grpSpPr>
          <a:xfrm>
            <a:off x="5028480" y="2286000"/>
            <a:ext cx="720" cy="1281240"/>
            <a:chOff x="5028480" y="2286000"/>
            <a:chExt cx="720" cy="1281240"/>
          </a:xfrm>
        </p:grpSpPr>
        <p:cxnSp>
          <p:nvCxnSpPr>
            <p:cNvPr id="298" name=""/>
            <p:cNvCxnSpPr/>
            <p:nvPr/>
          </p:nvCxnSpPr>
          <p:spPr>
            <a:xfrm flipV="1" rot="10800000">
              <a:off x="50284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299" name=""/>
            <p:cNvCxnSpPr/>
            <p:nvPr/>
          </p:nvCxnSpPr>
          <p:spPr>
            <a:xfrm flipV="1" rot="10800000">
              <a:off x="5028480" y="22856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grpSp>
        <p:nvGrpSpPr>
          <p:cNvPr id="300" name=""/>
          <p:cNvGrpSpPr/>
          <p:nvPr/>
        </p:nvGrpSpPr>
        <p:grpSpPr>
          <a:xfrm>
            <a:off x="2056680" y="2094480"/>
            <a:ext cx="2348640" cy="1472760"/>
            <a:chOff x="2056680" y="2094480"/>
            <a:chExt cx="2348640" cy="1472760"/>
          </a:xfrm>
        </p:grpSpPr>
        <p:cxnSp>
          <p:nvCxnSpPr>
            <p:cNvPr id="301" name=""/>
            <p:cNvCxnSpPr/>
            <p:nvPr/>
          </p:nvCxnSpPr>
          <p:spPr>
            <a:xfrm flipV="1" rot="10800000">
              <a:off x="20566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302" name=""/>
            <p:cNvCxnSpPr>
              <a:stCxn id="270" idx="1"/>
              <a:endCxn id="272" idx="0"/>
            </p:cNvCxnSpPr>
            <p:nvPr/>
          </p:nvCxnSpPr>
          <p:spPr>
            <a:xfrm flipV="1" rot="10800000">
              <a:off x="2056680" y="2094480"/>
              <a:ext cx="2348640" cy="64836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CAD-E62F-4D89-AD38-E58B7B6E124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7AA-2C9F-4C19-A473-ED13368BC5B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tep-by-Step Demonstr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19720" y="190512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1120" y="2743200"/>
            <a:ext cx="3270240" cy="380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2743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 Specificatio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1120" y="2743200"/>
            <a:ext cx="167616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53080" y="2743200"/>
            <a:ext cx="18288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Vis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29400" y="3581280"/>
            <a:ext cx="16765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3581280"/>
            <a:ext cx="14479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3581280"/>
            <a:ext cx="121896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4419720"/>
            <a:ext cx="43434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-to-S/R Trans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48520" y="4419720"/>
            <a:ext cx="24382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257800"/>
            <a:ext cx="137160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43400" y="5257800"/>
            <a:ext cx="144792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525780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6095880"/>
            <a:ext cx="434340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PAN Model 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07" idx="2"/>
            <a:endCxn id="312" idx="0"/>
          </p:cNvCxnSpPr>
          <p:nvPr/>
        </p:nvCxnSpPr>
        <p:spPr>
          <a:xfrm flipV="1" rot="10800000">
            <a:off x="2056680" y="3109680"/>
            <a:ext cx="1080" cy="457920"/>
          </a:xfrm>
          <a:prstGeom prst="bentConnector2">
            <a:avLst/>
          </a:prstGeom>
          <a:ln w="0">
            <a:noFill/>
          </a:ln>
        </p:spPr>
      </p:cxnSp>
      <p:grpSp>
        <p:nvGrpSpPr>
          <p:cNvPr id="320" name=""/>
          <p:cNvGrpSpPr/>
          <p:nvPr/>
        </p:nvGrpSpPr>
        <p:grpSpPr>
          <a:xfrm>
            <a:off x="2056680" y="3962520"/>
            <a:ext cx="2972520" cy="1281240"/>
            <a:chOff x="2056680" y="3962520"/>
            <a:chExt cx="2972520" cy="1281240"/>
          </a:xfrm>
        </p:grpSpPr>
        <p:grpSp>
          <p:nvGrpSpPr>
            <p:cNvPr id="321" name=""/>
            <p:cNvGrpSpPr/>
            <p:nvPr/>
          </p:nvGrpSpPr>
          <p:grpSpPr>
            <a:xfrm>
              <a:off x="2056680" y="3962520"/>
              <a:ext cx="2972520" cy="443160"/>
              <a:chOff x="2056680" y="3962520"/>
              <a:chExt cx="2972520" cy="443160"/>
            </a:xfrm>
          </p:grpSpPr>
          <p:cxnSp>
            <p:nvCxnSpPr>
              <p:cNvPr id="322" name=""/>
              <p:cNvCxnSpPr/>
              <p:nvPr/>
            </p:nvCxnSpPr>
            <p:spPr>
              <a:xfrm flipV="1" rot="10800000">
                <a:off x="2056680" y="396216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323" name=""/>
              <p:cNvCxnSpPr/>
              <p:nvPr/>
            </p:nvCxnSpPr>
            <p:spPr>
              <a:xfrm flipV="1" rot="10800000">
                <a:off x="5028480" y="396216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  <p:grpSp>
          <p:nvGrpSpPr>
            <p:cNvPr id="324" name=""/>
            <p:cNvGrpSpPr/>
            <p:nvPr/>
          </p:nvGrpSpPr>
          <p:grpSpPr>
            <a:xfrm>
              <a:off x="2056680" y="4800600"/>
              <a:ext cx="2972520" cy="443160"/>
              <a:chOff x="2056680" y="4800600"/>
              <a:chExt cx="2972520" cy="443160"/>
            </a:xfrm>
          </p:grpSpPr>
          <p:cxnSp>
            <p:nvCxnSpPr>
              <p:cNvPr id="325" name=""/>
              <p:cNvCxnSpPr/>
              <p:nvPr/>
            </p:nvCxnSpPr>
            <p:spPr>
              <a:xfrm flipV="1" rot="10800000">
                <a:off x="2056680" y="48002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326" name=""/>
              <p:cNvCxnSpPr/>
              <p:nvPr/>
            </p:nvCxnSpPr>
            <p:spPr>
              <a:xfrm flipV="1" rot="10800000">
                <a:off x="5028480" y="48002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</p:grpSp>
      <p:grpSp>
        <p:nvGrpSpPr>
          <p:cNvPr id="327" name=""/>
          <p:cNvGrpSpPr/>
          <p:nvPr/>
        </p:nvGrpSpPr>
        <p:grpSpPr>
          <a:xfrm>
            <a:off x="2056680" y="5638320"/>
            <a:ext cx="5410800" cy="656280"/>
            <a:chOff x="2056680" y="5638320"/>
            <a:chExt cx="5410800" cy="656280"/>
          </a:xfrm>
        </p:grpSpPr>
        <p:grpSp>
          <p:nvGrpSpPr>
            <p:cNvPr id="328" name=""/>
            <p:cNvGrpSpPr/>
            <p:nvPr/>
          </p:nvGrpSpPr>
          <p:grpSpPr>
            <a:xfrm>
              <a:off x="2056680" y="5638320"/>
              <a:ext cx="2972520" cy="443520"/>
              <a:chOff x="2056680" y="5638320"/>
              <a:chExt cx="2972520" cy="443520"/>
            </a:xfrm>
          </p:grpSpPr>
          <p:cxnSp>
            <p:nvCxnSpPr>
              <p:cNvPr id="329" name=""/>
              <p:cNvCxnSpPr/>
              <p:nvPr/>
            </p:nvCxnSpPr>
            <p:spPr>
              <a:xfrm flipV="1" rot="10800000">
                <a:off x="2056680" y="5638320"/>
                <a:ext cx="1080" cy="44388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330" name=""/>
              <p:cNvCxnSpPr/>
              <p:nvPr/>
            </p:nvCxnSpPr>
            <p:spPr>
              <a:xfrm flipV="1" rot="10800000">
                <a:off x="5028480" y="5638320"/>
                <a:ext cx="1080" cy="44388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  <p:cxnSp>
          <p:nvCxnSpPr>
            <p:cNvPr id="331" name=""/>
            <p:cNvCxnSpPr>
              <a:stCxn id="318" idx="3"/>
              <a:endCxn id="315" idx="2"/>
            </p:cNvCxnSpPr>
            <p:nvPr/>
          </p:nvCxnSpPr>
          <p:spPr>
            <a:xfrm flipV="1">
              <a:off x="5805000" y="5652720"/>
              <a:ext cx="1662840" cy="64224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</p:grpSp>
      <p:grpSp>
        <p:nvGrpSpPr>
          <p:cNvPr id="332" name=""/>
          <p:cNvGrpSpPr/>
          <p:nvPr/>
        </p:nvGrpSpPr>
        <p:grpSpPr>
          <a:xfrm>
            <a:off x="5028480" y="2286000"/>
            <a:ext cx="720" cy="1281240"/>
            <a:chOff x="5028480" y="2286000"/>
            <a:chExt cx="720" cy="1281240"/>
          </a:xfrm>
        </p:grpSpPr>
        <p:cxnSp>
          <p:nvCxnSpPr>
            <p:cNvPr id="333" name=""/>
            <p:cNvCxnSpPr/>
            <p:nvPr/>
          </p:nvCxnSpPr>
          <p:spPr>
            <a:xfrm flipV="1" rot="10800000">
              <a:off x="50284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334" name=""/>
            <p:cNvCxnSpPr/>
            <p:nvPr/>
          </p:nvCxnSpPr>
          <p:spPr>
            <a:xfrm flipV="1" rot="10800000">
              <a:off x="5028480" y="22856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grpSp>
        <p:nvGrpSpPr>
          <p:cNvPr id="335" name=""/>
          <p:cNvGrpSpPr/>
          <p:nvPr/>
        </p:nvGrpSpPr>
        <p:grpSpPr>
          <a:xfrm>
            <a:off x="2056680" y="2094480"/>
            <a:ext cx="2348640" cy="1472760"/>
            <a:chOff x="2056680" y="2094480"/>
            <a:chExt cx="2348640" cy="1472760"/>
          </a:xfrm>
        </p:grpSpPr>
        <p:cxnSp>
          <p:nvCxnSpPr>
            <p:cNvPr id="336" name=""/>
            <p:cNvCxnSpPr/>
            <p:nvPr/>
          </p:nvCxnSpPr>
          <p:spPr>
            <a:xfrm flipV="1" rot="10800000">
              <a:off x="20566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337" name=""/>
            <p:cNvCxnSpPr>
              <a:stCxn id="305" idx="1"/>
              <a:endCxn id="307" idx="0"/>
            </p:cNvCxnSpPr>
            <p:nvPr/>
          </p:nvCxnSpPr>
          <p:spPr>
            <a:xfrm flipV="1" rot="10800000">
              <a:off x="2056680" y="2094480"/>
              <a:ext cx="2348640" cy="64836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grpSp>
        <p:nvGrpSpPr>
          <p:cNvPr id="338" name=""/>
          <p:cNvGrpSpPr/>
          <p:nvPr/>
        </p:nvGrpSpPr>
        <p:grpSpPr>
          <a:xfrm>
            <a:off x="7466760" y="3976200"/>
            <a:ext cx="720" cy="1267560"/>
            <a:chOff x="7466760" y="3976200"/>
            <a:chExt cx="720" cy="1267560"/>
          </a:xfrm>
        </p:grpSpPr>
        <p:cxnSp>
          <p:nvCxnSpPr>
            <p:cNvPr id="339" name=""/>
            <p:cNvCxnSpPr/>
            <p:nvPr/>
          </p:nvCxnSpPr>
          <p:spPr>
            <a:xfrm flipV="1" rot="10800000">
              <a:off x="7466760" y="48002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headEnd len="med" type="stealth" w="med"/>
            </a:ln>
          </p:spPr>
        </p:cxnSp>
        <p:cxnSp>
          <p:nvCxnSpPr>
            <p:cNvPr id="340" name=""/>
            <p:cNvCxnSpPr>
              <a:stCxn id="310" idx="2"/>
              <a:endCxn id="314" idx="0"/>
            </p:cNvCxnSpPr>
            <p:nvPr/>
          </p:nvCxnSpPr>
          <p:spPr>
            <a:xfrm flipV="1" rot="10800000">
              <a:off x="7466760" y="3976200"/>
              <a:ext cx="1080" cy="4294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headEnd len="med" type="stealth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59C-0EC8-4628-B06D-DBA4A970120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8C94-8FC6-446D-AF66-2026341752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tep-by-Step Demonstr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19720" y="190512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1120" y="2743200"/>
            <a:ext cx="3270240" cy="380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2743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 Specificatio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91120" y="2743200"/>
            <a:ext cx="167616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53080" y="2743200"/>
            <a:ext cx="18288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Vis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629400" y="3581280"/>
            <a:ext cx="16765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43400" y="3581280"/>
            <a:ext cx="14479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47920" y="3581280"/>
            <a:ext cx="121896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47920" y="4419720"/>
            <a:ext cx="43434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-to-S/R Trans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8520" y="4419720"/>
            <a:ext cx="24382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81680" y="5257800"/>
            <a:ext cx="137160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43400" y="5257800"/>
            <a:ext cx="144792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47920" y="525780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47920" y="6095880"/>
            <a:ext cx="434340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PAN Model 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45" idx="2"/>
            <a:endCxn id="350" idx="0"/>
          </p:cNvCxnSpPr>
          <p:nvPr/>
        </p:nvCxnSpPr>
        <p:spPr>
          <a:xfrm flipV="1" rot="10800000">
            <a:off x="2056680" y="3109680"/>
            <a:ext cx="1080" cy="457920"/>
          </a:xfrm>
          <a:prstGeom prst="bentConnector2">
            <a:avLst/>
          </a:prstGeom>
          <a:ln w="0">
            <a:noFill/>
          </a:ln>
        </p:spPr>
      </p:cxnSp>
      <p:grpSp>
        <p:nvGrpSpPr>
          <p:cNvPr id="358" name=""/>
          <p:cNvGrpSpPr/>
          <p:nvPr/>
        </p:nvGrpSpPr>
        <p:grpSpPr>
          <a:xfrm>
            <a:off x="5653080" y="2095200"/>
            <a:ext cx="1814760" cy="1443240"/>
            <a:chOff x="5653080" y="2095200"/>
            <a:chExt cx="1814760" cy="1443240"/>
          </a:xfrm>
        </p:grpSpPr>
        <p:cxnSp>
          <p:nvCxnSpPr>
            <p:cNvPr id="359" name=""/>
            <p:cNvCxnSpPr>
              <a:stCxn id="343" idx="3"/>
              <a:endCxn id="347" idx="0"/>
            </p:cNvCxnSpPr>
            <p:nvPr/>
          </p:nvCxnSpPr>
          <p:spPr>
            <a:xfrm>
              <a:off x="5653080" y="2095200"/>
              <a:ext cx="1815120" cy="63396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stealth" w="med"/>
            </a:ln>
          </p:spPr>
        </p:cxnSp>
        <p:cxnSp>
          <p:nvCxnSpPr>
            <p:cNvPr id="360" name=""/>
            <p:cNvCxnSpPr>
              <a:stCxn id="347" idx="2"/>
            </p:cNvCxnSpPr>
            <p:nvPr/>
          </p:nvCxnSpPr>
          <p:spPr>
            <a:xfrm flipV="1" rot="10800000">
              <a:off x="7466760" y="3152520"/>
              <a:ext cx="1080" cy="3862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headEnd len="med" type="stealth" w="med"/>
            </a:ln>
          </p:spPr>
        </p:cxnSp>
      </p:grpSp>
      <p:grpSp>
        <p:nvGrpSpPr>
          <p:cNvPr id="361" name=""/>
          <p:cNvGrpSpPr/>
          <p:nvPr/>
        </p:nvGrpSpPr>
        <p:grpSpPr>
          <a:xfrm>
            <a:off x="2056680" y="3962520"/>
            <a:ext cx="2972520" cy="1281240"/>
            <a:chOff x="2056680" y="3962520"/>
            <a:chExt cx="2972520" cy="1281240"/>
          </a:xfrm>
        </p:grpSpPr>
        <p:grpSp>
          <p:nvGrpSpPr>
            <p:cNvPr id="362" name=""/>
            <p:cNvGrpSpPr/>
            <p:nvPr/>
          </p:nvGrpSpPr>
          <p:grpSpPr>
            <a:xfrm>
              <a:off x="2056680" y="3962520"/>
              <a:ext cx="2972520" cy="443160"/>
              <a:chOff x="2056680" y="3962520"/>
              <a:chExt cx="2972520" cy="443160"/>
            </a:xfrm>
          </p:grpSpPr>
          <p:cxnSp>
            <p:nvCxnSpPr>
              <p:cNvPr id="363" name=""/>
              <p:cNvCxnSpPr/>
              <p:nvPr/>
            </p:nvCxnSpPr>
            <p:spPr>
              <a:xfrm flipV="1" rot="10800000">
                <a:off x="2056680" y="396216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364" name=""/>
              <p:cNvCxnSpPr/>
              <p:nvPr/>
            </p:nvCxnSpPr>
            <p:spPr>
              <a:xfrm flipV="1" rot="10800000">
                <a:off x="5028480" y="396216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  <p:grpSp>
          <p:nvGrpSpPr>
            <p:cNvPr id="365" name=""/>
            <p:cNvGrpSpPr/>
            <p:nvPr/>
          </p:nvGrpSpPr>
          <p:grpSpPr>
            <a:xfrm>
              <a:off x="2056680" y="4800600"/>
              <a:ext cx="2972520" cy="443160"/>
              <a:chOff x="2056680" y="4800600"/>
              <a:chExt cx="2972520" cy="443160"/>
            </a:xfrm>
          </p:grpSpPr>
          <p:cxnSp>
            <p:nvCxnSpPr>
              <p:cNvPr id="366" name=""/>
              <p:cNvCxnSpPr/>
              <p:nvPr/>
            </p:nvCxnSpPr>
            <p:spPr>
              <a:xfrm flipV="1" rot="10800000">
                <a:off x="2056680" y="48002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367" name=""/>
              <p:cNvCxnSpPr/>
              <p:nvPr/>
            </p:nvCxnSpPr>
            <p:spPr>
              <a:xfrm flipV="1" rot="10800000">
                <a:off x="5028480" y="48002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</p:grpSp>
      <p:grpSp>
        <p:nvGrpSpPr>
          <p:cNvPr id="368" name=""/>
          <p:cNvGrpSpPr/>
          <p:nvPr/>
        </p:nvGrpSpPr>
        <p:grpSpPr>
          <a:xfrm>
            <a:off x="2056680" y="5638320"/>
            <a:ext cx="5410800" cy="656280"/>
            <a:chOff x="2056680" y="5638320"/>
            <a:chExt cx="5410800" cy="656280"/>
          </a:xfrm>
        </p:grpSpPr>
        <p:grpSp>
          <p:nvGrpSpPr>
            <p:cNvPr id="369" name=""/>
            <p:cNvGrpSpPr/>
            <p:nvPr/>
          </p:nvGrpSpPr>
          <p:grpSpPr>
            <a:xfrm>
              <a:off x="2056680" y="5638320"/>
              <a:ext cx="2972520" cy="443520"/>
              <a:chOff x="2056680" y="5638320"/>
              <a:chExt cx="2972520" cy="443520"/>
            </a:xfrm>
          </p:grpSpPr>
          <p:cxnSp>
            <p:nvCxnSpPr>
              <p:cNvPr id="370" name=""/>
              <p:cNvCxnSpPr/>
              <p:nvPr/>
            </p:nvCxnSpPr>
            <p:spPr>
              <a:xfrm flipV="1" rot="10800000">
                <a:off x="2056680" y="5638320"/>
                <a:ext cx="1080" cy="44388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371" name=""/>
              <p:cNvCxnSpPr/>
              <p:nvPr/>
            </p:nvCxnSpPr>
            <p:spPr>
              <a:xfrm flipV="1" rot="10800000">
                <a:off x="5028480" y="5638320"/>
                <a:ext cx="1080" cy="44388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  <p:cxnSp>
          <p:nvCxnSpPr>
            <p:cNvPr id="372" name=""/>
            <p:cNvCxnSpPr>
              <a:stCxn id="356" idx="3"/>
              <a:endCxn id="353" idx="2"/>
            </p:cNvCxnSpPr>
            <p:nvPr/>
          </p:nvCxnSpPr>
          <p:spPr>
            <a:xfrm flipV="1">
              <a:off x="5805000" y="5652720"/>
              <a:ext cx="1662840" cy="64224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</p:grpSp>
      <p:grpSp>
        <p:nvGrpSpPr>
          <p:cNvPr id="373" name=""/>
          <p:cNvGrpSpPr/>
          <p:nvPr/>
        </p:nvGrpSpPr>
        <p:grpSpPr>
          <a:xfrm>
            <a:off x="5028480" y="2286000"/>
            <a:ext cx="720" cy="1281240"/>
            <a:chOff x="5028480" y="2286000"/>
            <a:chExt cx="720" cy="1281240"/>
          </a:xfrm>
        </p:grpSpPr>
        <p:cxnSp>
          <p:nvCxnSpPr>
            <p:cNvPr id="374" name=""/>
            <p:cNvCxnSpPr/>
            <p:nvPr/>
          </p:nvCxnSpPr>
          <p:spPr>
            <a:xfrm flipV="1" rot="10800000">
              <a:off x="50284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375" name=""/>
            <p:cNvCxnSpPr/>
            <p:nvPr/>
          </p:nvCxnSpPr>
          <p:spPr>
            <a:xfrm flipV="1" rot="10800000">
              <a:off x="5028480" y="22856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grpSp>
        <p:nvGrpSpPr>
          <p:cNvPr id="376" name=""/>
          <p:cNvGrpSpPr/>
          <p:nvPr/>
        </p:nvGrpSpPr>
        <p:grpSpPr>
          <a:xfrm>
            <a:off x="2056680" y="2094480"/>
            <a:ext cx="2348640" cy="1472760"/>
            <a:chOff x="2056680" y="2094480"/>
            <a:chExt cx="2348640" cy="1472760"/>
          </a:xfrm>
        </p:grpSpPr>
        <p:cxnSp>
          <p:nvCxnSpPr>
            <p:cNvPr id="377" name=""/>
            <p:cNvCxnSpPr/>
            <p:nvPr/>
          </p:nvCxnSpPr>
          <p:spPr>
            <a:xfrm flipV="1" rot="10800000">
              <a:off x="20566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378" name=""/>
            <p:cNvCxnSpPr>
              <a:stCxn id="343" idx="1"/>
              <a:endCxn id="345" idx="0"/>
            </p:cNvCxnSpPr>
            <p:nvPr/>
          </p:nvCxnSpPr>
          <p:spPr>
            <a:xfrm flipV="1" rot="10800000">
              <a:off x="2056680" y="2094480"/>
              <a:ext cx="2348640" cy="64836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grpSp>
        <p:nvGrpSpPr>
          <p:cNvPr id="379" name=""/>
          <p:cNvGrpSpPr/>
          <p:nvPr/>
        </p:nvGrpSpPr>
        <p:grpSpPr>
          <a:xfrm>
            <a:off x="7466760" y="3976200"/>
            <a:ext cx="720" cy="1267560"/>
            <a:chOff x="7466760" y="3976200"/>
            <a:chExt cx="720" cy="1267560"/>
          </a:xfrm>
        </p:grpSpPr>
        <p:cxnSp>
          <p:nvCxnSpPr>
            <p:cNvPr id="380" name=""/>
            <p:cNvCxnSpPr/>
            <p:nvPr/>
          </p:nvCxnSpPr>
          <p:spPr>
            <a:xfrm flipV="1" rot="10800000">
              <a:off x="7466760" y="48002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headEnd len="med" type="stealth" w="med"/>
            </a:ln>
          </p:spPr>
        </p:cxnSp>
        <p:cxnSp>
          <p:nvCxnSpPr>
            <p:cNvPr id="381" name=""/>
            <p:cNvCxnSpPr>
              <a:stCxn id="348" idx="2"/>
              <a:endCxn id="352" idx="0"/>
            </p:cNvCxnSpPr>
            <p:nvPr/>
          </p:nvCxnSpPr>
          <p:spPr>
            <a:xfrm flipV="1" rot="10800000">
              <a:off x="7466760" y="3976200"/>
              <a:ext cx="1080" cy="4294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headEnd len="med" type="stealth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B166-1051-41A7-8B2A-5B6C2F2A521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282C-3C99-4EEC-869B-C40A13580CE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558F-02A0-4DCA-AE97-805F173008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E41-5F4E-4EEC-831B-AFCD92CCDFA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80880" y="45720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ASA Robot Controlle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7009920" y="152280"/>
            <a:ext cx="1981440" cy="2057400"/>
            <a:chOff x="7009920" y="152280"/>
            <a:chExt cx="1981440" cy="2057400"/>
          </a:xfrm>
        </p:grpSpPr>
        <p:pic>
          <p:nvPicPr>
            <p:cNvPr id="387" name="" descr=""/>
            <p:cNvPicPr/>
            <p:nvPr/>
          </p:nvPicPr>
          <p:blipFill>
            <a:blip r:embed="rId1"/>
            <a:stretch/>
          </p:blipFill>
          <p:spPr>
            <a:xfrm>
              <a:off x="7187400" y="152280"/>
              <a:ext cx="1803960" cy="20574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388" name=""/>
            <p:cNvSpPr/>
            <p:nvPr/>
          </p:nvSpPr>
          <p:spPr>
            <a:xfrm flipH="1" flipV="1">
              <a:off x="7009920" y="1459800"/>
              <a:ext cx="390600" cy="25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109280" y="1181880"/>
              <a:ext cx="510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E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5113080" cy="4837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99D-F67D-46A7-8DE6-7967520167F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380880" y="45720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ASA Robot Controlle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0880" y="1600200"/>
            <a:ext cx="8534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robot control system deployed in space (Canadian a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Complex functionalit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kinematics control, obstacle avoidance, fault tolerance, performance evaluation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Complex coordin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hand shaking) between functional uni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tringent reliabil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Distributed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UML framework for design and validation of robot control algorithm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e real-time mod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800K LOC of textual xU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ct interfaces to the computational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al libraries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300K LOC, 150+ classes, 500+ methods of C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 functional properties, 20 implementation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logical errors were f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reported to N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009920" y="152280"/>
            <a:ext cx="1981440" cy="2057400"/>
            <a:chOff x="7009920" y="152280"/>
            <a:chExt cx="1981440" cy="2057400"/>
          </a:xfrm>
        </p:grpSpPr>
        <p:pic>
          <p:nvPicPr>
            <p:cNvPr id="394" name="" descr=""/>
            <p:cNvPicPr/>
            <p:nvPr/>
          </p:nvPicPr>
          <p:blipFill>
            <a:blip r:embed="rId1"/>
            <a:stretch/>
          </p:blipFill>
          <p:spPr>
            <a:xfrm>
              <a:off x="7187400" y="152280"/>
              <a:ext cx="1803960" cy="20574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395" name=""/>
            <p:cNvSpPr/>
            <p:nvPr/>
          </p:nvSpPr>
          <p:spPr>
            <a:xfrm flipH="1" flipV="1">
              <a:off x="7009920" y="1459800"/>
              <a:ext cx="390600" cy="25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09280" y="1181880"/>
              <a:ext cx="510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E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5C7D-287C-4FD7-B21B-7BF758FCF1F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2860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tate Space Explo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193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Proble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ze of the state graph can be exponential in size of the progr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th in the number of the program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variabl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numb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compon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| … ||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just 2 local states, potentially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lobal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Research Directi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 space re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Principal Approaches: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Abstr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limination of details irrelevant to ver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ompositional reaso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asoning about parts of the syst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79E9-D735-4B9A-A16B-6F3EC2A5D6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43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38520" y="11905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38520" y="12574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7632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ass Information Model of the Robot Controller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03320" y="762120"/>
          <a:ext cx="473868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320" y="762120"/>
                    <a:ext cx="473868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4191120" y="685800"/>
          <a:ext cx="4952880" cy="579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685800"/>
                    <a:ext cx="49528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4724280" y="685800"/>
            <a:ext cx="0" cy="5943600"/>
          </a:xfrm>
          <a:prstGeom prst="line">
            <a:avLst/>
          </a:prstGeom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148F-5C24-4AA3-95A3-D6D09AC409C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2133720" y="53352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xUML Modeling of the NASA Rob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olle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4903920" y="1981080"/>
          <a:ext cx="370656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3920" y="1981080"/>
                    <a:ext cx="370656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304920" y="586728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EndEffector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xUML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24280" y="571500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Arm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xUML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28600" y="2112840"/>
          <a:ext cx="4408560" cy="383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112840"/>
                    <a:ext cx="4408560" cy="38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4267080" y="579132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||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52280" y="228600"/>
          <a:ext cx="2133720" cy="1768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28600"/>
                    <a:ext cx="213372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6B5A-DF5A-4AFE-AB2A-11F7272E091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2280" y="1522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amples of the Robot Control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7680" y="1143000"/>
            <a:ext cx="8648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trol Termin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entually the robot control term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EventuallyAlways(abort_var=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afety Oper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dEffec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aches an undesired position than the program terminates prior to a new move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dEffec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AfterAlwaysUntil(undesired_position =1,ee_reference=1,abort_var=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figuration Validity Check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n instance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dEffec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 is in the “FollowingDesiredTrajectory” state than the instance of the corresponding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 is in the ‘Valid”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Always((ee_reference=1) -&gt;(arm_status=1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per Program Termin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program terminates when it either completes the task or reaches the state where there is no solution for the fault re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AlwaysUntil(abort_var=0,end_position=1 OR (recovery_status=1 AND number_joints=1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9CB1-A2EF-4063-93E3-4FB059E12D6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Checking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Design and Verificatio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grated State Space Reductio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s for Futur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3914-91D4-440D-9ECB-D33FCD308F2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04920" y="5335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fficient Model Checking of xUML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Space Reduction Approa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design modularity for modular ver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complexity of the program prior to generation of state graph (by syntactic analysis and program transfor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omain specific knowledge to derive  abstractions and other reduction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existing state space reduction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5CB3-FDE1-4A45-9B59-B2C58DCED8F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609480" y="152280"/>
            <a:ext cx="769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tegrated State Space Reduction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1440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1872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066680" y="917640"/>
          <a:ext cx="7029720" cy="59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17640"/>
                    <a:ext cx="7029720" cy="59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609480" y="12952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ethodological Appr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400800" y="1752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lgorithmic Appr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66880" y="1600200"/>
            <a:ext cx="68580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590920" y="1294920"/>
            <a:ext cx="76176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7086600" y="243828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6248520" y="2438280"/>
            <a:ext cx="1295280" cy="3124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237E-900C-4397-B069-8834F0B8B08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09480" y="228600"/>
            <a:ext cx="815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ssume-Guarantee Compositional Reas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088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assume-guarant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radigm: each component guarantees properties based 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ptions about other components via proof ru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 || T2 |= 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 || T1 |= 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 Circularity during verification of different blocks is broken by induction over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AbadiLamport95][AlurHenzinger96][HenzingerQadeerRajamani99][Kurshan94][McMillan98][Stark8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tra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sequence of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sition of FSM (||) is the intersection of tr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stency check (|=) is the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trace contain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h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35920" y="2887560"/>
            <a:ext cx="2035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 || M2 |= T1 || T2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00400" y="28195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78200" y="1797120"/>
            <a:ext cx="222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Constraining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62520" y="205740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62520" y="1981080"/>
            <a:ext cx="533160" cy="304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E902-4CEA-4E84-8CFA-EA60261E1FA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609480" y="228600"/>
            <a:ext cx="815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calability of Multi-Process Model Che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990720"/>
            <a:ext cx="84582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Limit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ies when used as constraints commonly do not give sufficient details about the verifiable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Approach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bstraction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Abstraction constrai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f. Kurshan 94, Henzinger 98)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added to the property specifica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|| T2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T1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|| T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Arial"/>
              </a:rPr>
              <a:t>abs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|| …|| T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Arial"/>
              </a:rPr>
              <a:t>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b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, …,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b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abstraction constrai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ction constraints specification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emporal logic formulae constraining the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external variabl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verifiable process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nslation of the formulae to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604-38FC-49E3-BD74-DF7E36A56C5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8380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bserv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tional software structure and behaviors preclude system decomposition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bility of assume/guarantee reaso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ardware (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Spatial Modularity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ural division into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components have well defined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ely defined communication proto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oftware (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Not Spatially Modular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olithic designs (even for OO progra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Difficulties in property decom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lean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x interaction between SW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Difficulties in identifying environment assum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Inability to specify meaningful abstraction constra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6BF-7BF0-4D49-A725-59A175E8805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esign for 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920" y="1143000"/>
            <a:ext cx="8458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Approach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force software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design discipli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design constrai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alogous to the physic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aints of hardware desig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Principle 1: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erform encapsulation at the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mponent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l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(not an ob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Principle 2: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software components to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spatial modu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What to d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 state spaces of components rigorously disj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nel communication through precisely defined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y precise communication proto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8C95-DD7A-44FB-95F9-8CBE1AE8819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5720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pplication of Model Checking to Hardware 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760" y="48006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765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data structures are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are mod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finite-stat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omponents have well defined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synchronous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EC7-0B95-40D7-B136-87829DA57A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ssume/Guarantee Reasoning of Software Spatial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762120" y="3200400"/>
            <a:ext cx="2514600" cy="398880"/>
            <a:chOff x="762120" y="3200400"/>
            <a:chExt cx="2514600" cy="398880"/>
          </a:xfrm>
        </p:grpSpPr>
        <p:sp>
          <p:nvSpPr>
            <p:cNvPr id="454" name=""/>
            <p:cNvSpPr/>
            <p:nvPr/>
          </p:nvSpPr>
          <p:spPr>
            <a:xfrm>
              <a:off x="762120" y="3200400"/>
              <a:ext cx="1828800" cy="39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90920" y="335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715000" y="3200400"/>
            <a:ext cx="2590920" cy="398880"/>
            <a:chOff x="5715000" y="3200400"/>
            <a:chExt cx="2590920" cy="398880"/>
          </a:xfrm>
        </p:grpSpPr>
        <p:sp>
          <p:nvSpPr>
            <p:cNvPr id="457" name=""/>
            <p:cNvSpPr/>
            <p:nvPr/>
          </p:nvSpPr>
          <p:spPr>
            <a:xfrm>
              <a:off x="6477120" y="3200400"/>
              <a:ext cx="1828800" cy="39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715000" y="3352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3581280" y="3733560"/>
            <a:ext cx="1828800" cy="1846800"/>
            <a:chOff x="3581280" y="3733560"/>
            <a:chExt cx="1828800" cy="1846800"/>
          </a:xfrm>
        </p:grpSpPr>
        <p:sp>
          <p:nvSpPr>
            <p:cNvPr id="460" name=""/>
            <p:cNvSpPr/>
            <p:nvPr/>
          </p:nvSpPr>
          <p:spPr>
            <a:xfrm>
              <a:off x="3581280" y="5181480"/>
              <a:ext cx="1828800" cy="39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3962520" y="373356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886200" y="5867280"/>
            <a:ext cx="1295280" cy="825120"/>
            <a:chOff x="3886200" y="5867280"/>
            <a:chExt cx="1295280" cy="825120"/>
          </a:xfrm>
        </p:grpSpPr>
        <p:sp>
          <p:nvSpPr>
            <p:cNvPr id="463" name=""/>
            <p:cNvSpPr/>
            <p:nvPr/>
          </p:nvSpPr>
          <p:spPr>
            <a:xfrm>
              <a:off x="3886200" y="6172200"/>
              <a:ext cx="1295280" cy="520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mponent 3: Design 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86200" y="5867280"/>
              <a:ext cx="1295280" cy="307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3276720" y="3048120"/>
            <a:ext cx="2530440" cy="1815840"/>
            <a:chOff x="3276720" y="3048120"/>
            <a:chExt cx="2530440" cy="1815840"/>
          </a:xfrm>
        </p:grpSpPr>
        <p:grpSp>
          <p:nvGrpSpPr>
            <p:cNvPr id="466" name=""/>
            <p:cNvGrpSpPr/>
            <p:nvPr/>
          </p:nvGrpSpPr>
          <p:grpSpPr>
            <a:xfrm>
              <a:off x="3276720" y="3048120"/>
              <a:ext cx="2438280" cy="1815840"/>
              <a:chOff x="3276720" y="3048120"/>
              <a:chExt cx="2438280" cy="1815840"/>
            </a:xfrm>
          </p:grpSpPr>
          <p:sp>
            <p:nvSpPr>
              <p:cNvPr id="467" name=""/>
              <p:cNvSpPr/>
              <p:nvPr/>
            </p:nvSpPr>
            <p:spPr>
              <a:xfrm>
                <a:off x="3276720" y="3048120"/>
                <a:ext cx="2438280" cy="703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mponent 1: formal mod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952880" y="4495680"/>
                <a:ext cx="609840" cy="3682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T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4648320" y="3962520"/>
              <a:ext cx="11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=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762120" y="1752480"/>
            <a:ext cx="7429320" cy="952560"/>
            <a:chOff x="762120" y="1752480"/>
            <a:chExt cx="7429320" cy="952560"/>
          </a:xfrm>
        </p:grpSpPr>
        <p:grpSp>
          <p:nvGrpSpPr>
            <p:cNvPr id="471" name=""/>
            <p:cNvGrpSpPr/>
            <p:nvPr/>
          </p:nvGrpSpPr>
          <p:grpSpPr>
            <a:xfrm>
              <a:off x="914400" y="1752480"/>
              <a:ext cx="7162920" cy="520200"/>
              <a:chOff x="914400" y="1752480"/>
              <a:chExt cx="7162920" cy="520200"/>
            </a:xfrm>
          </p:grpSpPr>
          <p:sp>
            <p:nvSpPr>
              <p:cNvPr id="472" name=""/>
              <p:cNvSpPr/>
              <p:nvPr/>
            </p:nvSpPr>
            <p:spPr>
              <a:xfrm>
                <a:off x="3809880" y="1752480"/>
                <a:ext cx="1295640" cy="520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mponent 1: Design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914400" y="1752480"/>
                <a:ext cx="1447920" cy="520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mponent 4: Design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752480"/>
                <a:ext cx="1371600" cy="520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mponent 2: Design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75" name=""/>
            <p:cNvGraphicFramePr/>
            <p:nvPr/>
          </p:nvGraphicFramePr>
          <p:xfrm>
            <a:off x="762120" y="2133720"/>
            <a:ext cx="7429320" cy="571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2133720"/>
                      <a:ext cx="742932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77" name=""/>
          <p:cNvGrpSpPr/>
          <p:nvPr/>
        </p:nvGrpSpPr>
        <p:grpSpPr>
          <a:xfrm>
            <a:off x="449280" y="3657600"/>
            <a:ext cx="2994120" cy="1828800"/>
            <a:chOff x="449280" y="3657600"/>
            <a:chExt cx="2994120" cy="1828800"/>
          </a:xfrm>
        </p:grpSpPr>
        <p:sp>
          <p:nvSpPr>
            <p:cNvPr id="478" name=""/>
            <p:cNvSpPr/>
            <p:nvPr/>
          </p:nvSpPr>
          <p:spPr>
            <a:xfrm>
              <a:off x="449280" y="4532400"/>
              <a:ext cx="299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99"/>
                  </a:solidFill>
                  <a:latin typeface="Arial"/>
                </a:rPr>
                <a:t>Property decomposition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99"/>
                  </a:solidFill>
                  <a:latin typeface="Arial"/>
                </a:rPr>
                <a:t>Temporal logic 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1828800" y="3657600"/>
              <a:ext cx="0" cy="914400"/>
            </a:xfrm>
            <a:prstGeom prst="line">
              <a:avLst/>
            </a:prstGeom>
            <a:ln w="12600">
              <a:solidFill>
                <a:srgbClr val="000099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81080" y="5105520"/>
              <a:ext cx="1447920" cy="380880"/>
            </a:xfrm>
            <a:prstGeom prst="line">
              <a:avLst/>
            </a:prstGeom>
            <a:ln w="12600">
              <a:solidFill>
                <a:srgbClr val="000099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023520" y="5043600"/>
            <a:ext cx="2626560" cy="1036440"/>
            <a:chOff x="6023520" y="5043600"/>
            <a:chExt cx="2626560" cy="1036440"/>
          </a:xfrm>
        </p:grpSpPr>
        <p:sp>
          <p:nvSpPr>
            <p:cNvPr id="482" name=""/>
            <p:cNvSpPr/>
            <p:nvPr/>
          </p:nvSpPr>
          <p:spPr>
            <a:xfrm>
              <a:off x="6023520" y="5043600"/>
              <a:ext cx="262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1 || T2 || T2 || T3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|= 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171480" y="5711760"/>
              <a:ext cx="242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Environment constra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6857640" y="5409720"/>
              <a:ext cx="228600" cy="381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7238880" y="5409720"/>
              <a:ext cx="76320" cy="381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7467480" y="5409720"/>
              <a:ext cx="304920" cy="381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DC48-F63A-42D7-AB24-C498C3890C6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ssume/Guarantee Reasoning of Software Spatial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91640" y="1219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680240" y="13860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303840" y="1386000"/>
            <a:ext cx="1908720" cy="2568960"/>
            <a:chOff x="303840" y="1386000"/>
            <a:chExt cx="1908720" cy="2568960"/>
          </a:xfrm>
        </p:grpSpPr>
        <p:grpSp>
          <p:nvGrpSpPr>
            <p:cNvPr id="492" name=""/>
            <p:cNvGrpSpPr/>
            <p:nvPr/>
          </p:nvGrpSpPr>
          <p:grpSpPr>
            <a:xfrm>
              <a:off x="533520" y="1386000"/>
              <a:ext cx="1450800" cy="1139760"/>
              <a:chOff x="533520" y="1386000"/>
              <a:chExt cx="1450800" cy="1139760"/>
            </a:xfrm>
          </p:grpSpPr>
          <p:sp>
            <p:nvSpPr>
              <p:cNvPr id="493" name=""/>
              <p:cNvSpPr/>
              <p:nvPr/>
            </p:nvSpPr>
            <p:spPr>
              <a:xfrm>
                <a:off x="533520" y="1682640"/>
                <a:ext cx="1447560" cy="520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mponent 2: Design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33520" y="2209680"/>
                <a:ext cx="145080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066680" y="2225520"/>
                <a:ext cx="50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927080" y="138600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762120" y="3556080"/>
              <a:ext cx="790560" cy="39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ab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23880" y="3733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9" name=""/>
            <p:cNvCxnSpPr>
              <a:stCxn id="494" idx="1"/>
              <a:endCxn id="497" idx="0"/>
            </p:cNvCxnSpPr>
            <p:nvPr/>
          </p:nvCxnSpPr>
          <p:spPr>
            <a:xfrm flipH="1" flipV="1" rot="10800000">
              <a:off x="532440" y="2367360"/>
              <a:ext cx="624600" cy="1188360"/>
            </a:xfrm>
            <a:prstGeom prst="curvedConnector5">
              <a:avLst>
                <a:gd name="adj1" fmla="val -36620"/>
                <a:gd name="adj2" fmla="val 28333"/>
                <a:gd name="adj3" fmla="val -36620"/>
              </a:avLst>
            </a:prstGeom>
            <a:ln w="9360">
              <a:solidFill>
                <a:srgbClr val="00cc99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500" name=""/>
            <p:cNvCxnSpPr>
              <a:stCxn id="494" idx="3"/>
              <a:endCxn id="497" idx="0"/>
            </p:cNvCxnSpPr>
            <p:nvPr/>
          </p:nvCxnSpPr>
          <p:spPr>
            <a:xfrm flipH="1">
              <a:off x="1156680" y="2368080"/>
              <a:ext cx="827640" cy="1188360"/>
            </a:xfrm>
            <a:prstGeom prst="curvedConnector5">
              <a:avLst>
                <a:gd name="adj1" fmla="val -27632"/>
                <a:gd name="adj2" fmla="val 28272"/>
                <a:gd name="adj3" fmla="val -27632"/>
              </a:avLst>
            </a:prstGeom>
            <a:ln w="9360">
              <a:solidFill>
                <a:srgbClr val="00cc99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501" name=""/>
          <p:cNvGrpSpPr/>
          <p:nvPr/>
        </p:nvGrpSpPr>
        <p:grpSpPr>
          <a:xfrm>
            <a:off x="2286000" y="3429000"/>
            <a:ext cx="4495680" cy="1668600"/>
            <a:chOff x="2286000" y="3429000"/>
            <a:chExt cx="4495680" cy="1668600"/>
          </a:xfrm>
        </p:grpSpPr>
        <p:sp>
          <p:nvSpPr>
            <p:cNvPr id="502" name=""/>
            <p:cNvSpPr/>
            <p:nvPr/>
          </p:nvSpPr>
          <p:spPr>
            <a:xfrm>
              <a:off x="2286000" y="3429000"/>
              <a:ext cx="2057400" cy="703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onent 1: formal model, 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438280" y="4729320"/>
              <a:ext cx="534960" cy="368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86000" y="4233960"/>
              <a:ext cx="83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=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24280" y="3429000"/>
              <a:ext cx="2057400" cy="703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onent 2: formal model, M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95880" y="4729320"/>
              <a:ext cx="534960" cy="368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67280" y="4267080"/>
              <a:ext cx="83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=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781680" y="1752480"/>
            <a:ext cx="1981440" cy="2227680"/>
            <a:chOff x="6781680" y="1752480"/>
            <a:chExt cx="1981440" cy="2227680"/>
          </a:xfrm>
        </p:grpSpPr>
        <p:grpSp>
          <p:nvGrpSpPr>
            <p:cNvPr id="509" name=""/>
            <p:cNvGrpSpPr/>
            <p:nvPr/>
          </p:nvGrpSpPr>
          <p:grpSpPr>
            <a:xfrm>
              <a:off x="7083360" y="1752480"/>
              <a:ext cx="1451160" cy="849600"/>
              <a:chOff x="7083360" y="1752480"/>
              <a:chExt cx="1451160" cy="849600"/>
            </a:xfrm>
          </p:grpSpPr>
          <p:sp>
            <p:nvSpPr>
              <p:cNvPr id="510" name=""/>
              <p:cNvSpPr/>
              <p:nvPr/>
            </p:nvSpPr>
            <p:spPr>
              <a:xfrm>
                <a:off x="7086600" y="1752480"/>
                <a:ext cx="1447920" cy="520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mponent 1: Design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083360" y="2286000"/>
                <a:ext cx="145116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572240" y="2301840"/>
                <a:ext cx="50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6781680" y="2443680"/>
              <a:ext cx="1981440" cy="1536480"/>
              <a:chOff x="6781680" y="2443680"/>
              <a:chExt cx="1981440" cy="1536480"/>
            </a:xfrm>
          </p:grpSpPr>
          <p:sp>
            <p:nvSpPr>
              <p:cNvPr id="514" name=""/>
              <p:cNvSpPr/>
              <p:nvPr/>
            </p:nvSpPr>
            <p:spPr>
              <a:xfrm>
                <a:off x="6781680" y="38098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5" name=""/>
              <p:cNvGrpSpPr/>
              <p:nvPr/>
            </p:nvGrpSpPr>
            <p:grpSpPr>
              <a:xfrm>
                <a:off x="6853680" y="2443680"/>
                <a:ext cx="1909440" cy="1536480"/>
                <a:chOff x="6853680" y="2443680"/>
                <a:chExt cx="1909440" cy="153648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7543800" y="3581280"/>
                  <a:ext cx="762120" cy="3988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1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ab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517" name=""/>
                <p:cNvCxnSpPr>
                  <a:stCxn id="511" idx="1"/>
                  <a:endCxn id="516" idx="0"/>
                </p:cNvCxnSpPr>
                <p:nvPr/>
              </p:nvCxnSpPr>
              <p:spPr>
                <a:xfrm flipH="1" flipV="1" rot="10800000">
                  <a:off x="7082280" y="2443680"/>
                  <a:ext cx="842040" cy="1137240"/>
                </a:xfrm>
                <a:prstGeom prst="curvedConnector5">
                  <a:avLst>
                    <a:gd name="adj1" fmla="val -27159"/>
                    <a:gd name="adj2" fmla="val 28467"/>
                    <a:gd name="adj3" fmla="val -27159"/>
                  </a:avLst>
                </a:prstGeom>
                <a:ln w="9360">
                  <a:solidFill>
                    <a:srgbClr val="00cc99"/>
                  </a:solidFill>
                  <a:prstDash val="dash"/>
                  <a:miter/>
                  <a:tailEnd len="med" type="triangle" w="med"/>
                </a:ln>
              </p:spPr>
            </p:cxnSp>
            <p:cxnSp>
              <p:nvCxnSpPr>
                <p:cNvPr id="518" name=""/>
                <p:cNvCxnSpPr>
                  <a:stCxn id="511" idx="3"/>
                  <a:endCxn id="516" idx="0"/>
                </p:cNvCxnSpPr>
                <p:nvPr/>
              </p:nvCxnSpPr>
              <p:spPr>
                <a:xfrm flipH="1">
                  <a:off x="7924320" y="2444400"/>
                  <a:ext cx="610560" cy="1137240"/>
                </a:xfrm>
                <a:prstGeom prst="curvedConnector5">
                  <a:avLst>
                    <a:gd name="adj1" fmla="val -37463"/>
                    <a:gd name="adj2" fmla="val 28404"/>
                    <a:gd name="adj3" fmla="val -37463"/>
                  </a:avLst>
                </a:prstGeom>
                <a:ln w="9360">
                  <a:solidFill>
                    <a:srgbClr val="00cc99"/>
                  </a:solidFill>
                  <a:prstDash val="dash"/>
                  <a:miter/>
                  <a:tailEnd len="med" type="triangle" w="med"/>
                </a:ln>
              </p:spPr>
            </p:cxnSp>
          </p:grpSp>
        </p:grpSp>
      </p:grpSp>
      <p:grpSp>
        <p:nvGrpSpPr>
          <p:cNvPr id="519" name=""/>
          <p:cNvGrpSpPr/>
          <p:nvPr/>
        </p:nvGrpSpPr>
        <p:grpSpPr>
          <a:xfrm>
            <a:off x="2209320" y="1430280"/>
            <a:ext cx="4648680" cy="1389240"/>
            <a:chOff x="2209320" y="1430280"/>
            <a:chExt cx="4648680" cy="1389240"/>
          </a:xfrm>
        </p:grpSpPr>
        <p:sp>
          <p:nvSpPr>
            <p:cNvPr id="520" name=""/>
            <p:cNvSpPr/>
            <p:nvPr/>
          </p:nvSpPr>
          <p:spPr>
            <a:xfrm>
              <a:off x="4746600" y="1461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54720" y="1430280"/>
              <a:ext cx="31708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Abstraction Constra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High-level environment spe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2209320" y="2133720"/>
              <a:ext cx="1295640" cy="685800"/>
            </a:xfrm>
            <a:prstGeom prst="line">
              <a:avLst/>
            </a:prstGeom>
            <a:ln w="22320">
              <a:solidFill>
                <a:srgbClr val="00cc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57800" y="2133720"/>
              <a:ext cx="1600200" cy="609480"/>
            </a:xfrm>
            <a:prstGeom prst="line">
              <a:avLst/>
            </a:prstGeom>
            <a:ln w="22320">
              <a:solidFill>
                <a:srgbClr val="00cc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352320" y="4724280"/>
            <a:ext cx="2388960" cy="1143000"/>
            <a:chOff x="3352320" y="4724280"/>
            <a:chExt cx="2388960" cy="1143000"/>
          </a:xfrm>
        </p:grpSpPr>
        <p:sp>
          <p:nvSpPr>
            <p:cNvPr id="525" name=""/>
            <p:cNvSpPr/>
            <p:nvPr/>
          </p:nvSpPr>
          <p:spPr>
            <a:xfrm>
              <a:off x="3352320" y="4724280"/>
              <a:ext cx="238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environment constra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3657240" y="5029200"/>
              <a:ext cx="228600" cy="45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3809880" y="5029200"/>
              <a:ext cx="76320" cy="8380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105520" y="5105520"/>
            <a:ext cx="3836160" cy="838080"/>
            <a:chOff x="5105520" y="5105520"/>
            <a:chExt cx="3836160" cy="838080"/>
          </a:xfrm>
        </p:grpSpPr>
        <p:sp>
          <p:nvSpPr>
            <p:cNvPr id="529" name=""/>
            <p:cNvSpPr/>
            <p:nvPr/>
          </p:nvSpPr>
          <p:spPr>
            <a:xfrm>
              <a:off x="6705000" y="5105520"/>
              <a:ext cx="22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abstraction constra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5105520" y="5334120"/>
              <a:ext cx="1676160" cy="2286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5333760" y="5486400"/>
              <a:ext cx="2514600" cy="3808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6248160" y="5410080"/>
              <a:ext cx="609480" cy="2286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400440" y="5486400"/>
              <a:ext cx="1523880" cy="45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590920" y="6248520"/>
            <a:ext cx="3962160" cy="458640"/>
            <a:chOff x="2590920" y="6248520"/>
            <a:chExt cx="3962160" cy="458640"/>
          </a:xfrm>
        </p:grpSpPr>
        <p:sp>
          <p:nvSpPr>
            <p:cNvPr id="535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90920" y="624852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29800" y="6338880"/>
              <a:ext cx="218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1 || M2 |= T1 || 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2889000" y="5489640"/>
            <a:ext cx="1586160" cy="13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| T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473000" y="5424480"/>
            <a:ext cx="15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2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Times New Roman"/>
              </a:rPr>
              <a:t>abs</a:t>
            </a:r>
            <a:r>
              <a:rPr b="1" lang="en-US" sz="18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Times New Roman"/>
              </a:rPr>
              <a:t>abs</a:t>
            </a:r>
            <a:r>
              <a:rPr b="1" lang="en-US" sz="18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470120" y="5729400"/>
            <a:ext cx="15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2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Times New Roman"/>
              </a:rPr>
              <a:t>abs</a:t>
            </a:r>
            <a:r>
              <a:rPr b="1" lang="en-US" sz="18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Times New Roman"/>
              </a:rPr>
              <a:t>abs</a:t>
            </a:r>
            <a:r>
              <a:rPr b="1" lang="en-US" sz="18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548E-4C7E-4BFD-9C02-4993CB5CE7B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7621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Verification Statistics: Robot Controlle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581280" y="5392800"/>
            <a:ext cx="5029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(M)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Monolithic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ication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number of j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(C)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Compositiona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ication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ine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tform: HP9000 (440MHz) with 6144 MB 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1219320" y="121932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"/>
          <p:cNvSpPr/>
          <p:nvPr/>
        </p:nvSpPr>
        <p:spPr>
          <a:xfrm>
            <a:off x="916560" y="53784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emory/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hau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86200" y="1295280"/>
            <a:ext cx="0" cy="358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905120" y="4419360"/>
            <a:ext cx="129528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1905120" y="4419360"/>
            <a:ext cx="175248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905120" y="4343040"/>
            <a:ext cx="2971800" cy="10666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1981080" y="4343040"/>
            <a:ext cx="3353040" cy="10666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3280" y="111744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,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724360" y="441972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D883-5609-4ABF-8059-72C222053BE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bstractions in Model Che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3520" y="1295280"/>
            <a:ext cx="80010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Data Abstraction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bstraction of details irrelevant to verification of a propert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roach: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ab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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n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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v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oundne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plet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ystematic Construction of Abstraction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edicate Abstraction) [Saidi,Graf 97]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e an abstraction function as a predicate over concrete 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y decision procedures to compute a set of abstraction predic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e the soundness and completeness of the abs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Refinement–based abstraction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MSR SLAM Project],[Clarke et. al. ‘00], [Saidi 00]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Visser et. al 0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41CA-70DA-4556-9FF1-8C7D9BDBCDB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533520" y="2286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bstractions in Model Check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Abstraction might be expensive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 computation procedures to define a set of the abstraction predica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 exhaustion during computation of predicates for large systems and complex prope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havioral over-approximations caused by the abstraction might lead to the state space explo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Can we do bett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and verify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elective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Abstract with respect to a subset of properties (not a single propert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y decision proced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Eliminate some predicates from consid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1A8-A9E7-4D18-9322-78BDF94B4DB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9144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odel Checking Programs with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219320"/>
            <a:ext cx="838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intensive systems typically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execu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ps of control fun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decision point in the loop typically depends on a small number of variab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each possible branch is commonly taken for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a wide range of data valu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contr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 the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control eff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ariables (variables that determine the contro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w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lobal state transition graph incorporates </a:t>
            </a:r>
            <a:r>
              <a:rPr b="0" i="1" lang="en-US" sz="1600" spc="-1" strike="noStrike">
                <a:solidFill>
                  <a:srgbClr val="ff0066"/>
                </a:solidFill>
                <a:latin typeface="Arial"/>
              </a:rPr>
              <a:t>all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0066"/>
                </a:solidFill>
                <a:latin typeface="Arial"/>
              </a:rPr>
              <a:t>of the lo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all values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effect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533600" y="2895480"/>
          <a:ext cx="608652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3600" y="2895480"/>
                    <a:ext cx="60865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38A-045F-4794-AAD2-2C281F6DCB4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2522520" y="304920"/>
            <a:ext cx="615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 of a Program with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5014800" y="1739880"/>
          <a:ext cx="382428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0" y="1739880"/>
                    <a:ext cx="382428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304920" y="571500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dEffector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UML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24280" y="571500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xUML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0" y="1922400"/>
          <a:ext cx="4800600" cy="390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22400"/>
                    <a:ext cx="4800600" cy="39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8" name=""/>
          <p:cNvGrpSpPr/>
          <p:nvPr/>
        </p:nvGrpSpPr>
        <p:grpSpPr>
          <a:xfrm>
            <a:off x="304560" y="304920"/>
            <a:ext cx="1733760" cy="1523880"/>
            <a:chOff x="304560" y="304920"/>
            <a:chExt cx="1733760" cy="1523880"/>
          </a:xfrm>
        </p:grpSpPr>
        <p:pic>
          <p:nvPicPr>
            <p:cNvPr id="569" name="" descr=""/>
            <p:cNvPicPr/>
            <p:nvPr/>
          </p:nvPicPr>
          <p:blipFill>
            <a:blip r:embed="rId5"/>
            <a:stretch/>
          </p:blipFill>
          <p:spPr>
            <a:xfrm>
              <a:off x="460080" y="304920"/>
              <a:ext cx="1578240" cy="15238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70" name=""/>
            <p:cNvSpPr/>
            <p:nvPr/>
          </p:nvSpPr>
          <p:spPr>
            <a:xfrm flipH="1" flipV="1">
              <a:off x="304560" y="1273680"/>
              <a:ext cx="341640" cy="189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45960" y="1017000"/>
              <a:ext cx="5342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EE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4267080" y="5791320"/>
            <a:ext cx="5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|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8D37-3CB5-4DAD-8BEF-F8F6D828D9F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8088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ol Ab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0880" y="914400"/>
            <a:ext cx="86108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y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Control Propertie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operties defined over states that inpu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s) of programs with lo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pproach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ct execution of loops from valuation of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uct an abstract program which contains all of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flow paths in the concrete progra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tomicity of  Program Structu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0880" y="4495680"/>
            <a:ext cx="5105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Basic Blo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sequence of  statements which c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 entered by an event only at the head stat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which always run to comple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5943600" y="2895480"/>
          <a:ext cx="2362320" cy="35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895480"/>
                    <a:ext cx="236232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98BA-EFE9-4E87-AA65-AC07E369B46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Key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544760"/>
            <a:ext cx="83818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oit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atomic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e program structure (not predicates) to identify control flow sequ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output rang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each basic block that has loop predic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 control flow predicates of each basic block into a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multi-way selec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expres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non-deterministic choice)  that controls all possible sequences of ev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output of an abstract  basic block is controlled by a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ng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dependency analy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ource-to-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6393-7CD9-433C-AC38-A50D3A5C5E4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286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4920" y="152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oop Abstraction for Model Checking of Control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105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1058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838080" y="1143000"/>
          <a:ext cx="7848720" cy="53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784872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9D30-4732-46C0-976D-9B09EB24114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5720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pplication of Model Checking to Software 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760" y="48006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6765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ata structures are u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al or O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finite stat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omponents do not have well defined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coordination between SW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or asynchronous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2482-AD00-44FD-99BC-DB917CA469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Verification Statistics: Robot Contr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914400" y="762120"/>
          <a:ext cx="6095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6095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"/>
          <p:cNvSpPr/>
          <p:nvPr/>
        </p:nvSpPr>
        <p:spPr>
          <a:xfrm>
            <a:off x="154440" y="4800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emory/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hau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038480" y="8380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1676520" y="3885840"/>
            <a:ext cx="3504960" cy="114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1752480" y="3886200"/>
            <a:ext cx="3124440" cy="91440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1752480" y="3962520"/>
            <a:ext cx="1752840" cy="914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1676520" y="3962520"/>
            <a:ext cx="1523880" cy="91440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116800" y="4724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6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373760" y="441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5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392800"/>
            <a:ext cx="4800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(C)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Concre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am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number of j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(A)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Abstrac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tform: HP9000 (440MHz) with 6144 MB 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786680" y="7621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95760" y="396252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5B2-A711-4CF5-85AC-7BFED0CB496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essons Learn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design and verification environment enables verification of non-trivial softwar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ion of software into a formal language of model checkers is simpl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checker is used as a debugging tool during software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ftware design management enhances the applicability of the existing state space reduction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ng of design-level specifications is helpful for specification of useful abstr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ed state space reduction supports verifying larger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 space reduction techniques conducted by the syntactic program transformation are applicable without a change to the model checking tools and can be combined with the existing reduction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ness of reduction algorithms depends on interaction (combination, order of application, etc.) among reduction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B31D-C167-482E-8E15-E9EC54F3AE3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600200" y="22860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ome Ideas for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of abstraction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bined abstraction approach: syntactic program transformation and reductions of the state transition grap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design and analysis of refinement procedures for design-level spec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dictable component 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ion techniques to check consistency of the component inte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of model checking and testing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checking to support interactive simulation during analysis of erro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track multiple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allow analysis backwards and forward during the exec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ng of data dependent parts of the code which can not be handled by finite-state model checking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ineering of software systems to enable symbolic verification to be e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A71-9426-4EBD-92DD-1ACA8B4F531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2860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odel Checking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current pract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760" y="48006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1295280"/>
            <a:ext cx="4343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1. Design/Implementation/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2. Modeling/Property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116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-state model ex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116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116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1160" indent="-457200">
              <a:lnSpc>
                <a:spcPct val="6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3. Ver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1160" indent="-457200">
              <a:lnSpc>
                <a:spcPct val="6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1160" indent="-457200">
              <a:lnSpc>
                <a:spcPct val="6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1160" indent="-457200">
              <a:lnSpc>
                <a:spcPct val="6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de-and-conq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1160" indent="-45720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ques (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when applica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5735520"/>
            <a:ext cx="838224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Limi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Fin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xpensive)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st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program develop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Consistency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ween code and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ed to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plifi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07960" y="990720"/>
          <a:ext cx="368316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990720"/>
                    <a:ext cx="368316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9295-3D59-4746-A19C-4EF8F9DD87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Checking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grated Design and Verificatio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State Space Reductio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s for Futur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6776-D798-47EC-AD94-F3F0ACA045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22860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odel Checking Softw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UT Austin – Bell Labs Proj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7010280"/>
            <a:ext cx="9003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91520" y="7010280"/>
            <a:ext cx="13683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690480"/>
            <a:ext cx="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69228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6705720"/>
            <a:ext cx="900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91520" y="6705720"/>
            <a:ext cx="1368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3733920"/>
            <a:ext cx="4114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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3. Ver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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65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 space reduction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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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65240">
              <a:lnSpc>
                <a:spcPct val="6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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6524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6524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65240">
              <a:lnSpc>
                <a:spcPct val="6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385920"/>
            <a:ext cx="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38736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98600" y="914400"/>
          <a:ext cx="35398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914400"/>
                    <a:ext cx="35398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80880" y="5502240"/>
            <a:ext cx="83059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Advantag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Earli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g de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Dire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ranslation of informal program into formal syntax (no simplifica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Separation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concerns: abstraction of control from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Domain-specif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perty specifi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51200" y="1143000"/>
            <a:ext cx="3270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Code Generation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(last st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1752480"/>
            <a:ext cx="4114800" cy="9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1. Executable Design Spec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77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ion from low-leve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-level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048120"/>
            <a:ext cx="411480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2. Modeling/Property 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77840">
              <a:lnSpc>
                <a:spcPct val="6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ite-state model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8DFE-F391-470A-B831-B0FB7ED578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4:13:57Z</dcterms:created>
  <dc:creator>natali</dc:creator>
  <dc:description/>
  <dc:language>en-US</dc:language>
  <cp:lastModifiedBy>nys</cp:lastModifiedBy>
  <dcterms:modified xsi:type="dcterms:W3CDTF">2002-12-03T19:29:39Z</dcterms:modified>
  <cp:revision>226</cp:revision>
  <dc:subject/>
  <dc:title>Model Checking Object-Oriented Programs</dc:title>
</cp:coreProperties>
</file>