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6D2-AC18-4CC6-A839-3283E498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01D-CEE7-4DBF-95EF-F22F3411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099-233B-44B3-892A-12A4162A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37B-E4B0-44C5-8769-E4DADD90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3CAB-C31E-43F6-BC26-B729BF05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3ECE-A7EB-489C-8EAB-2A8FA143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B882-547E-40EC-8504-9518E7C6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FE82-FEAC-44EC-840D-9BAC7C33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BE0F-E08B-4AFE-A22C-9F9FB58F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B254-2ADF-4EE6-9E78-375E5FD6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4DF2-1EA7-43D2-B1E3-8B81B238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1F5-1CB4-4CD1-8A41-52264D6F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6ACF-9047-4687-B407-D7265868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45AD-BF80-4A01-B1EF-3314F90D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25D4-466C-4548-A450-59FA7BAE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0867-0DFF-45C3-852B-222DE9F3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D05C-CAFF-40A4-9271-B1A0421C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3C1-27EE-4C8F-BBF5-7A71CA6E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488-0BDC-4599-865B-DFFA15B6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D1D-C107-4D18-B1B0-40855A12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426-92DD-46EC-92B9-D17C3C77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B59-AF21-4F00-B1A0-EE14F9D4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A0F-2092-472F-AE96-34BBC9A9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DEE-F988-4126-870C-AD55C781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C02E-4BC4-4120-AA4C-1B91A92ED4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C123-9724-4B31-8ECF-D26FA35A75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stic Verification of Discrete Event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åkan L. S. You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mi-Markov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ing times are governed by arbitrary (positive) dis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85800" y="3200400"/>
            <a:ext cx="4405680" cy="3126600"/>
            <a:chOff x="685800" y="3200400"/>
            <a:chExt cx="4405680" cy="3126600"/>
          </a:xfrm>
        </p:grpSpPr>
        <p:cxnSp>
          <p:nvCxnSpPr>
            <p:cNvPr id="229" name=""/>
            <p:cNvCxnSpPr>
              <a:stCxn id="230" idx="0"/>
              <a:endCxn id="231" idx="0"/>
            </p:cNvCxnSpPr>
            <p:nvPr/>
          </p:nvCxnSpPr>
          <p:spPr>
            <a:xfrm>
              <a:off x="3672000" y="3847680"/>
              <a:ext cx="558000" cy="7102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2" name=""/>
            <p:cNvCxnSpPr>
              <a:stCxn id="233" idx="0"/>
              <a:endCxn id="234" idx="6"/>
            </p:cNvCxnSpPr>
            <p:nvPr/>
          </p:nvCxnSpPr>
          <p:spPr>
            <a:xfrm rot="5400000">
              <a:off x="3519360" y="5271840"/>
              <a:ext cx="253080" cy="11674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6" idx="0"/>
              <a:endCxn id="234" idx="2"/>
            </p:cNvCxnSpPr>
            <p:nvPr/>
          </p:nvCxnSpPr>
          <p:spPr>
            <a:xfrm>
              <a:off x="1842840" y="4914720"/>
              <a:ext cx="657720" cy="1067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36" idx="1"/>
              <a:endCxn id="238" idx="2"/>
            </p:cNvCxnSpPr>
            <p:nvPr/>
          </p:nvCxnSpPr>
          <p:spPr>
            <a:xfrm flipV="1">
              <a:off x="1842840" y="3847680"/>
              <a:ext cx="657720" cy="1067760"/>
            </a:xfrm>
            <a:prstGeom prst="curvedConnector5">
              <a:avLst>
                <a:gd name="adj1" fmla="val 50000"/>
                <a:gd name="adj2" fmla="val 49983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40" idx="0"/>
              <a:endCxn id="238" idx="4"/>
            </p:cNvCxnSpPr>
            <p:nvPr/>
          </p:nvCxnSpPr>
          <p:spPr>
            <a:xfrm flipV="1">
              <a:off x="2781000" y="4128840"/>
              <a:ext cx="1080" cy="9626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33" idx="1"/>
              <a:endCxn id="231" idx="6"/>
            </p:cNvCxnSpPr>
            <p:nvPr/>
          </p:nvCxnSpPr>
          <p:spPr>
            <a:xfrm flipH="1" flipV="1" rot="5400000">
              <a:off x="3924000" y="5143320"/>
              <a:ext cx="891360" cy="281520"/>
            </a:xfrm>
            <a:prstGeom prst="curvedConnector5">
              <a:avLst>
                <a:gd name="adj1" fmla="val -21010"/>
                <a:gd name="adj2" fmla="val 153265"/>
                <a:gd name="adj3" fmla="val -2101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2" name=""/>
            <p:cNvSpPr/>
            <p:nvPr/>
          </p:nvSpPr>
          <p:spPr>
            <a:xfrm>
              <a:off x="1599840" y="40384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9840" y="53341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57240" y="342900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2840" y="46483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43040" y="5867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80920" y="5867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514600" y="3200400"/>
              <a:ext cx="1143000" cy="914400"/>
              <a:chOff x="2514600" y="3200400"/>
              <a:chExt cx="1143000" cy="914400"/>
            </a:xfrm>
          </p:grpSpPr>
          <p:sp>
            <p:nvSpPr>
              <p:cNvPr id="230" name=""/>
              <p:cNvSpPr/>
              <p:nvPr/>
            </p:nvSpPr>
            <p:spPr>
              <a:xfrm>
                <a:off x="2971800" y="3733920"/>
                <a:ext cx="685800" cy="228600"/>
              </a:xfrm>
              <a:prstGeom prst="rightArrow">
                <a:avLst>
                  <a:gd name="adj1" fmla="val 50000"/>
                  <a:gd name="adj2" fmla="val 7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14600" y="358128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3124080" y="3200400"/>
                <a:ext cx="457200" cy="457200"/>
                <a:chOff x="3124080" y="3200400"/>
                <a:chExt cx="457200" cy="4572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124080" y="3276720"/>
                  <a:ext cx="381240" cy="30456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3124080" y="3200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124080" y="36576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3" name=""/>
            <p:cNvGrpSpPr/>
            <p:nvPr/>
          </p:nvGrpSpPr>
          <p:grpSpPr>
            <a:xfrm>
              <a:off x="3962520" y="4572000"/>
              <a:ext cx="914400" cy="1143000"/>
              <a:chOff x="3962520" y="4572000"/>
              <a:chExt cx="914400" cy="1143000"/>
            </a:xfrm>
          </p:grpSpPr>
          <p:sp>
            <p:nvSpPr>
              <p:cNvPr id="233" name=""/>
              <p:cNvSpPr/>
              <p:nvPr/>
            </p:nvSpPr>
            <p:spPr>
              <a:xfrm>
                <a:off x="4114800" y="5029200"/>
                <a:ext cx="228600" cy="685800"/>
              </a:xfrm>
              <a:prstGeom prst="downArrow">
                <a:avLst>
                  <a:gd name="adj1" fmla="val 50000"/>
                  <a:gd name="adj2" fmla="val 7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62520" y="4572000"/>
                <a:ext cx="53316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4419720" y="5105520"/>
                <a:ext cx="457200" cy="457200"/>
                <a:chOff x="4419720" y="5105520"/>
                <a:chExt cx="457200" cy="457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419720" y="5181480"/>
                  <a:ext cx="380880" cy="30492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4419720" y="5105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419720" y="5562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685800" y="4267080"/>
              <a:ext cx="1143000" cy="914400"/>
              <a:chOff x="685800" y="4267080"/>
              <a:chExt cx="1143000" cy="914400"/>
            </a:xfrm>
          </p:grpSpPr>
          <p:sp>
            <p:nvSpPr>
              <p:cNvPr id="236" name=""/>
              <p:cNvSpPr/>
              <p:nvPr/>
            </p:nvSpPr>
            <p:spPr>
              <a:xfrm>
                <a:off x="1143000" y="4800600"/>
                <a:ext cx="685800" cy="228600"/>
              </a:xfrm>
              <a:prstGeom prst="rightArrow">
                <a:avLst>
                  <a:gd name="adj1" fmla="val 50000"/>
                  <a:gd name="adj2" fmla="val 7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5800" y="4648320"/>
                <a:ext cx="533520" cy="53316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1295280" y="4267080"/>
                <a:ext cx="457200" cy="457200"/>
                <a:chOff x="1295280" y="4267080"/>
                <a:chExt cx="457200" cy="4572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447920" y="4343400"/>
                  <a:ext cx="228600" cy="30492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1295280" y="42670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295280" y="4724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47920" y="43434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2514600" y="5105520"/>
              <a:ext cx="914400" cy="1143000"/>
              <a:chOff x="2514600" y="5105520"/>
              <a:chExt cx="914400" cy="1143000"/>
            </a:xfrm>
          </p:grpSpPr>
          <p:sp>
            <p:nvSpPr>
              <p:cNvPr id="240" name=""/>
              <p:cNvSpPr/>
              <p:nvPr/>
            </p:nvSpPr>
            <p:spPr>
              <a:xfrm>
                <a:off x="2666880" y="5105520"/>
                <a:ext cx="228600" cy="685800"/>
              </a:xfrm>
              <a:prstGeom prst="upArrow">
                <a:avLst>
                  <a:gd name="adj1" fmla="val 50000"/>
                  <a:gd name="adj2" fmla="val 7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14600" y="571500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971800" y="5181480"/>
                <a:ext cx="457200" cy="457200"/>
                <a:chOff x="2971800" y="5181480"/>
                <a:chExt cx="457200" cy="4572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2971800" y="51814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71800" y="56386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3048120" y="53341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048120" y="533412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276720" y="53341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ized Semi-Markov Process (GSM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ing times can depend on the his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086600" y="38098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543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426708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3809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543800" y="3429000"/>
            <a:ext cx="1143000" cy="0"/>
            <a:chOff x="7543800" y="3429000"/>
            <a:chExt cx="1143000" cy="0"/>
          </a:xfrm>
        </p:grpSpPr>
        <p:sp>
          <p:nvSpPr>
            <p:cNvPr id="279" name=""/>
            <p:cNvSpPr/>
            <p:nvPr/>
          </p:nvSpPr>
          <p:spPr>
            <a:xfrm>
              <a:off x="7543800" y="34290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58200" y="342900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066680" y="4495680"/>
            <a:ext cx="76212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3429000"/>
            <a:ext cx="76212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51920" y="2666880"/>
            <a:ext cx="8687160" cy="3987360"/>
            <a:chOff x="151920" y="2666880"/>
            <a:chExt cx="8687160" cy="3987360"/>
          </a:xfrm>
        </p:grpSpPr>
        <p:grpSp>
          <p:nvGrpSpPr>
            <p:cNvPr id="284" name=""/>
            <p:cNvGrpSpPr/>
            <p:nvPr/>
          </p:nvGrpSpPr>
          <p:grpSpPr>
            <a:xfrm>
              <a:off x="5257800" y="2666880"/>
              <a:ext cx="3581280" cy="2364840"/>
              <a:chOff x="5257800" y="2666880"/>
              <a:chExt cx="3581280" cy="23648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5637600" y="2666880"/>
                <a:ext cx="3201480" cy="1828800"/>
                <a:chOff x="5637600" y="2666880"/>
                <a:chExt cx="3201480" cy="18288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019920" y="4495680"/>
                  <a:ext cx="281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019920" y="266688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637600" y="2819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637600" y="32000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37600" y="35812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637600" y="40384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 rot="16200000">
                <a:off x="5032080" y="333252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St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1200" y="4572000"/>
                <a:ext cx="88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51920" y="3429000"/>
              <a:ext cx="4343760" cy="3202920"/>
              <a:chOff x="151920" y="3429000"/>
              <a:chExt cx="4343760" cy="3202920"/>
            </a:xfrm>
          </p:grpSpPr>
          <p:sp>
            <p:nvSpPr>
              <p:cNvPr id="295" name=""/>
              <p:cNvSpPr/>
              <p:nvPr/>
            </p:nvSpPr>
            <p:spPr>
              <a:xfrm>
                <a:off x="151920" y="59436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6" name=""/>
              <p:cNvCxnSpPr>
                <a:stCxn id="297" idx="0"/>
                <a:endCxn id="298" idx="0"/>
              </p:cNvCxnSpPr>
              <p:nvPr/>
            </p:nvCxnSpPr>
            <p:spPr>
              <a:xfrm>
                <a:off x="3672000" y="3847680"/>
                <a:ext cx="558000" cy="7102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9" name=""/>
              <p:cNvCxnSpPr>
                <a:stCxn id="300" idx="0"/>
                <a:endCxn id="301" idx="2"/>
              </p:cNvCxnSpPr>
              <p:nvPr/>
            </p:nvCxnSpPr>
            <p:spPr>
              <a:xfrm>
                <a:off x="1842840" y="4914720"/>
                <a:ext cx="657720" cy="10674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2" name=""/>
              <p:cNvCxnSpPr>
                <a:stCxn id="300" idx="1"/>
                <a:endCxn id="303" idx="2"/>
              </p:cNvCxnSpPr>
              <p:nvPr/>
            </p:nvCxnSpPr>
            <p:spPr>
              <a:xfrm flipV="1">
                <a:off x="1842840" y="3847680"/>
                <a:ext cx="657720" cy="1067760"/>
              </a:xfrm>
              <a:prstGeom prst="curvedConnector5">
                <a:avLst>
                  <a:gd name="adj1" fmla="val 50000"/>
                  <a:gd name="adj2" fmla="val 49983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4" name=""/>
              <p:cNvSpPr/>
              <p:nvPr/>
            </p:nvSpPr>
            <p:spPr>
              <a:xfrm>
                <a:off x="1599840" y="53341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57240" y="34290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95480" y="3429000"/>
                <a:ext cx="762120" cy="838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362320" y="3962520"/>
                <a:ext cx="838080" cy="7617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14600" y="358128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962520" y="4572000"/>
                <a:ext cx="53316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066680" y="4495680"/>
                <a:ext cx="762120" cy="83844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3520" y="5029200"/>
                <a:ext cx="838080" cy="7621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5800" y="4648320"/>
                <a:ext cx="533520" cy="53316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95480" y="5562720"/>
                <a:ext cx="762120" cy="838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4600" y="571500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0" name=""/>
              <p:cNvCxnSpPr>
                <a:stCxn id="306" idx="0"/>
                <a:endCxn id="301" idx="0"/>
              </p:cNvCxnSpPr>
              <p:nvPr/>
            </p:nvCxnSpPr>
            <p:spPr>
              <a:xfrm flipV="1" rot="10800000">
                <a:off x="2780640" y="4738320"/>
                <a:ext cx="1080" cy="96264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1" name=""/>
              <p:cNvCxnSpPr>
                <a:stCxn id="306" idx="1"/>
                <a:endCxn id="298" idx="3"/>
              </p:cNvCxnSpPr>
              <p:nvPr/>
            </p:nvCxnSpPr>
            <p:spPr>
              <a:xfrm flipH="1" rot="16200000">
                <a:off x="3258360" y="4260600"/>
                <a:ext cx="303840" cy="1259640"/>
              </a:xfrm>
              <a:prstGeom prst="curvedConnector5">
                <a:avLst>
                  <a:gd name="adj1" fmla="val 175800"/>
                  <a:gd name="adj2" fmla="val 50000"/>
                  <a:gd name="adj3" fmla="val 17580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2" name=""/>
              <p:cNvCxnSpPr>
                <a:stCxn id="307" idx="0"/>
                <a:endCxn id="301" idx="3"/>
              </p:cNvCxnSpPr>
              <p:nvPr/>
            </p:nvCxnSpPr>
            <p:spPr>
              <a:xfrm flipH="1" rot="16200000">
                <a:off x="1581840" y="5175000"/>
                <a:ext cx="380160" cy="1640520"/>
              </a:xfrm>
              <a:prstGeom prst="curvedConnector5">
                <a:avLst>
                  <a:gd name="adj1" fmla="val 157251"/>
                  <a:gd name="adj2" fmla="val 50000"/>
                  <a:gd name="adj3" fmla="val 157251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3" name=""/>
              <p:cNvCxnSpPr>
                <a:stCxn id="309" idx="0"/>
                <a:endCxn id="298" idx="5"/>
              </p:cNvCxnSpPr>
              <p:nvPr/>
            </p:nvCxnSpPr>
            <p:spPr>
              <a:xfrm flipV="1">
                <a:off x="3672000" y="5041080"/>
                <a:ext cx="746640" cy="9406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4" name=""/>
              <p:cNvCxnSpPr>
                <a:stCxn id="307" idx="1"/>
                <a:endCxn id="308" idx="2"/>
              </p:cNvCxnSpPr>
              <p:nvPr/>
            </p:nvCxnSpPr>
            <p:spPr>
              <a:xfrm flipV="1" rot="16200000">
                <a:off x="366120" y="5218920"/>
                <a:ext cx="891000" cy="281880"/>
              </a:xfrm>
              <a:prstGeom prst="curvedConnector5">
                <a:avLst>
                  <a:gd name="adj1" fmla="val -24050"/>
                  <a:gd name="adj2" fmla="val 115217"/>
                  <a:gd name="adj3" fmla="val -2405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5" name=""/>
              <p:cNvSpPr/>
              <p:nvPr/>
            </p:nvSpPr>
            <p:spPr>
              <a:xfrm>
                <a:off x="1599840" y="40384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09520" y="58672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23720" y="48006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209320" y="48769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61760" y="61722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201640" y="5105520"/>
              <a:ext cx="970560" cy="1548720"/>
              <a:chOff x="5201640" y="5105520"/>
              <a:chExt cx="970560" cy="15487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5715000" y="6172200"/>
                <a:ext cx="457200" cy="457200"/>
                <a:chOff x="5715000" y="6172200"/>
                <a:chExt cx="457200" cy="4572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715000" y="6248520"/>
                  <a:ext cx="381240" cy="30456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5715000" y="61722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715000" y="66294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715000" y="5638680"/>
                <a:ext cx="457200" cy="457200"/>
                <a:chOff x="5715000" y="5638680"/>
                <a:chExt cx="457200" cy="4572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867640" y="5715000"/>
                  <a:ext cx="228600" cy="30492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5715000" y="56386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715000" y="6095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867640" y="57150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15000" y="5105520"/>
                <a:ext cx="457200" cy="457200"/>
                <a:chOff x="5715000" y="5105520"/>
                <a:chExt cx="457200" cy="457200"/>
              </a:xfrm>
            </p:grpSpPr>
            <p:sp>
              <p:nvSpPr>
                <p:cNvPr id="331" name=""/>
                <p:cNvSpPr/>
                <p:nvPr/>
              </p:nvSpPr>
              <p:spPr>
                <a:xfrm flipV="1">
                  <a:off x="5715000" y="5105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15000" y="5562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5791320" y="52581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791320" y="525816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019920" y="52581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5201640" y="5181480"/>
                <a:ext cx="383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201640" y="5715000"/>
                <a:ext cx="383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201640" y="6248520"/>
                <a:ext cx="383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"/>
          <p:cNvGrpSpPr/>
          <p:nvPr/>
        </p:nvGrpSpPr>
        <p:grpSpPr>
          <a:xfrm>
            <a:off x="6248520" y="5181480"/>
            <a:ext cx="533160" cy="1435320"/>
            <a:chOff x="6248520" y="5181480"/>
            <a:chExt cx="533160" cy="1435320"/>
          </a:xfrm>
        </p:grpSpPr>
        <p:sp>
          <p:nvSpPr>
            <p:cNvPr id="340" name=""/>
            <p:cNvSpPr/>
            <p:nvPr/>
          </p:nvSpPr>
          <p:spPr>
            <a:xfrm>
              <a:off x="6248880" y="51814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48880" y="57150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62485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3" name=""/>
          <p:cNvCxnSpPr>
            <a:stCxn id="300" idx="2"/>
            <a:endCxn id="303" idx="2"/>
          </p:cNvCxnSpPr>
          <p:nvPr/>
        </p:nvCxnSpPr>
        <p:spPr>
          <a:xfrm flipV="1">
            <a:off x="1842840" y="3847680"/>
            <a:ext cx="657720" cy="106776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297" idx="1"/>
            <a:endCxn id="298" idx="0"/>
          </p:cNvCxnSpPr>
          <p:nvPr/>
        </p:nvCxnSpPr>
        <p:spPr>
          <a:xfrm>
            <a:off x="3672000" y="3847680"/>
            <a:ext cx="558000" cy="71028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45" name="an02542_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346" name=""/>
          <p:cNvGrpSpPr/>
          <p:nvPr/>
        </p:nvGrpSpPr>
        <p:grpSpPr>
          <a:xfrm>
            <a:off x="6248520" y="5181480"/>
            <a:ext cx="1218960" cy="1435320"/>
            <a:chOff x="6248520" y="5181480"/>
            <a:chExt cx="1218960" cy="1435320"/>
          </a:xfrm>
        </p:grpSpPr>
        <p:grpSp>
          <p:nvGrpSpPr>
            <p:cNvPr id="347" name=""/>
            <p:cNvGrpSpPr/>
            <p:nvPr/>
          </p:nvGrpSpPr>
          <p:grpSpPr>
            <a:xfrm>
              <a:off x="6934320" y="5181480"/>
              <a:ext cx="533160" cy="1435320"/>
              <a:chOff x="6934320" y="5181480"/>
              <a:chExt cx="533160" cy="1435320"/>
            </a:xfrm>
          </p:grpSpPr>
          <p:sp>
            <p:nvSpPr>
              <p:cNvPr id="348" name=""/>
              <p:cNvSpPr/>
              <p:nvPr/>
            </p:nvSpPr>
            <p:spPr>
              <a:xfrm>
                <a:off x="7059600" y="518148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36120" y="5715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34320" y="62485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48520" y="5181480"/>
              <a:ext cx="533160" cy="1435320"/>
              <a:chOff x="6248520" y="5181480"/>
              <a:chExt cx="533160" cy="1435320"/>
            </a:xfrm>
          </p:grpSpPr>
          <p:sp>
            <p:nvSpPr>
              <p:cNvPr id="352" name=""/>
              <p:cNvSpPr/>
              <p:nvPr/>
            </p:nvSpPr>
            <p:spPr>
              <a:xfrm>
                <a:off x="6248880" y="518148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3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48880" y="5715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5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48520" y="62485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5" name="an02542_" descr=""/>
          <p:cNvPicPr/>
          <p:nvPr/>
        </p:nvPicPr>
        <p:blipFill>
          <a:blip r:embed="rId2"/>
          <a:stretch/>
        </p:blipFill>
        <p:spPr>
          <a:xfrm>
            <a:off x="2514600" y="358128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6934320" y="5181480"/>
            <a:ext cx="1218960" cy="1435320"/>
            <a:chOff x="6934320" y="5181480"/>
            <a:chExt cx="1218960" cy="1435320"/>
          </a:xfrm>
        </p:grpSpPr>
        <p:grpSp>
          <p:nvGrpSpPr>
            <p:cNvPr id="357" name=""/>
            <p:cNvGrpSpPr/>
            <p:nvPr/>
          </p:nvGrpSpPr>
          <p:grpSpPr>
            <a:xfrm>
              <a:off x="7620120" y="5181480"/>
              <a:ext cx="533160" cy="1435320"/>
              <a:chOff x="7620120" y="5181480"/>
              <a:chExt cx="533160" cy="1435320"/>
            </a:xfrm>
          </p:grpSpPr>
          <p:sp>
            <p:nvSpPr>
              <p:cNvPr id="358" name=""/>
              <p:cNvSpPr/>
              <p:nvPr/>
            </p:nvSpPr>
            <p:spPr>
              <a:xfrm>
                <a:off x="7745400" y="518148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745400" y="571500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20120" y="62485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934320" y="5181480"/>
              <a:ext cx="533160" cy="1435320"/>
              <a:chOff x="6934320" y="5181480"/>
              <a:chExt cx="533160" cy="1435320"/>
            </a:xfrm>
          </p:grpSpPr>
          <p:sp>
            <p:nvSpPr>
              <p:cNvPr id="362" name=""/>
              <p:cNvSpPr/>
              <p:nvPr/>
            </p:nvSpPr>
            <p:spPr>
              <a:xfrm>
                <a:off x="7059600" y="518148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36120" y="5715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1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934320" y="62485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2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" name="an02542_" descr=""/>
          <p:cNvPicPr/>
          <p:nvPr/>
        </p:nvPicPr>
        <p:blipFill>
          <a:blip r:embed="rId3"/>
          <a:stretch/>
        </p:blipFill>
        <p:spPr>
          <a:xfrm>
            <a:off x="3962520" y="4572000"/>
            <a:ext cx="4572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will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ntual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old o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uture execution path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will hold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efore time 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bability at leas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future execution path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1793520" y="525780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S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05040" y="37339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T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819000" y="437256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70320" y="266688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04520" y="26668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3200400"/>
            <a:ext cx="27432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4724280"/>
            <a:ext cx="274320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ACD9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3200400"/>
            <a:ext cx="27432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ASSB96],[BKH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38680" y="4724280"/>
            <a:ext cx="274320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800600"/>
            <a:ext cx="2133720" cy="13716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82000" y="205740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95480" y="4724280"/>
            <a:ext cx="274320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38680" y="3200400"/>
            <a:ext cx="27432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895480" y="3200400"/>
            <a:ext cx="5571360" cy="3416040"/>
            <a:chOff x="2895480" y="3200400"/>
            <a:chExt cx="5571360" cy="3416040"/>
          </a:xfrm>
        </p:grpSpPr>
        <p:sp>
          <p:nvSpPr>
            <p:cNvPr id="383" name=""/>
            <p:cNvSpPr/>
            <p:nvPr/>
          </p:nvSpPr>
          <p:spPr>
            <a:xfrm>
              <a:off x="2895480" y="3200400"/>
              <a:ext cx="2743200" cy="1523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[EMSS89]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33080" y="62481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Discrete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ous Stochastic Logic (CS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formulas: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¬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th value is determined in a single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h formulas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th value is determined over an execut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cution Pat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state + current clock settings =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ternal state contains enough information to determine the futur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equence of internal states is a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j0151571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841320" cy="51264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1600200" y="5638680"/>
            <a:ext cx="5867280" cy="758880"/>
            <a:chOff x="1600200" y="5638680"/>
            <a:chExt cx="5867280" cy="758880"/>
          </a:xfrm>
        </p:grpSpPr>
        <p:sp>
          <p:nvSpPr>
            <p:cNvPr id="391" name=""/>
            <p:cNvSpPr/>
            <p:nvPr/>
          </p:nvSpPr>
          <p:spPr>
            <a:xfrm>
              <a:off x="1600200" y="5867280"/>
              <a:ext cx="987480" cy="53028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29000" y="5867280"/>
              <a:ext cx="987480" cy="53028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57800" y="5867280"/>
              <a:ext cx="987480" cy="53028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4" name=""/>
            <p:cNvCxnSpPr>
              <a:stCxn id="391" idx="6"/>
              <a:endCxn id="392" idx="2"/>
            </p:cNvCxnSpPr>
            <p:nvPr/>
          </p:nvCxnSpPr>
          <p:spPr>
            <a:xfrm>
              <a:off x="2601720" y="6132240"/>
              <a:ext cx="8132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5" name=""/>
            <p:cNvCxnSpPr>
              <a:stCxn id="392" idx="6"/>
              <a:endCxn id="393" idx="2"/>
            </p:cNvCxnSpPr>
            <p:nvPr/>
          </p:nvCxnSpPr>
          <p:spPr>
            <a:xfrm>
              <a:off x="4430520" y="6132240"/>
              <a:ext cx="8132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6" name=""/>
            <p:cNvCxnSpPr>
              <a:stCxn id="393" idx="6"/>
            </p:cNvCxnSpPr>
            <p:nvPr/>
          </p:nvCxnSpPr>
          <p:spPr>
            <a:xfrm>
              <a:off x="6259320" y="6132240"/>
              <a:ext cx="8132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7" name=""/>
            <p:cNvSpPr/>
            <p:nvPr/>
          </p:nvSpPr>
          <p:spPr>
            <a:xfrm>
              <a:off x="2746080" y="563868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03680" y="563868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4880" y="563868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62920" y="61722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L Semantic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State Formula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omic proposition: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gation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¬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s if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does not hold in curren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junction: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s iff both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hold in curren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L Semantic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More State Formula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stic statement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Holds if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s true over at most a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proportion of execution paths starting in the curren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L Semantic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Path Formula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state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s if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olds in the next state along the current execut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il: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Holds if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becomes true in some state along the current execution path before tim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,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s true in all prior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Unt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he formula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17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80880" y="2895480"/>
            <a:ext cx="8382240" cy="685800"/>
            <a:chOff x="380880" y="2895480"/>
            <a:chExt cx="8382240" cy="685800"/>
          </a:xfrm>
        </p:grpSpPr>
        <p:sp>
          <p:nvSpPr>
            <p:cNvPr id="410" name=""/>
            <p:cNvSpPr/>
            <p:nvPr/>
          </p:nvSpPr>
          <p:spPr>
            <a:xfrm>
              <a:off x="3808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810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812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814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10" idx="6"/>
              <a:endCxn id="411" idx="2"/>
            </p:cNvCxnSpPr>
            <p:nvPr/>
          </p:nvCxnSpPr>
          <p:spPr>
            <a:xfrm>
              <a:off x="14616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11" idx="6"/>
              <a:endCxn id="412" idx="2"/>
            </p:cNvCxnSpPr>
            <p:nvPr/>
          </p:nvCxnSpPr>
          <p:spPr>
            <a:xfrm>
              <a:off x="30618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"/>
            <p:cNvCxnSpPr>
              <a:stCxn id="412" idx="6"/>
              <a:endCxn id="413" idx="2"/>
            </p:cNvCxnSpPr>
            <p:nvPr/>
          </p:nvCxnSpPr>
          <p:spPr>
            <a:xfrm>
              <a:off x="46620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8" name=""/>
            <p:cNvCxnSpPr>
              <a:stCxn id="413" idx="6"/>
              <a:endCxn id="414" idx="2"/>
            </p:cNvCxnSpPr>
            <p:nvPr/>
          </p:nvCxnSpPr>
          <p:spPr>
            <a:xfrm>
              <a:off x="62622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9" name=""/>
            <p:cNvCxnSpPr>
              <a:stCxn id="414" idx="6"/>
            </p:cNvCxnSpPr>
            <p:nvPr/>
          </p:nvCxnSpPr>
          <p:spPr>
            <a:xfrm>
              <a:off x="78624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0" name=""/>
            <p:cNvSpPr/>
            <p:nvPr/>
          </p:nvSpPr>
          <p:spPr>
            <a:xfrm>
              <a:off x="8458200" y="3352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612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632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4652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67160" y="2895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80880" y="4038480"/>
            <a:ext cx="8382240" cy="685800"/>
            <a:chOff x="380880" y="4038480"/>
            <a:chExt cx="8382240" cy="685800"/>
          </a:xfrm>
        </p:grpSpPr>
        <p:sp>
          <p:nvSpPr>
            <p:cNvPr id="426" name=""/>
            <p:cNvSpPr/>
            <p:nvPr/>
          </p:nvSpPr>
          <p:spPr>
            <a:xfrm>
              <a:off x="3808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810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12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814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816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1" name=""/>
            <p:cNvCxnSpPr>
              <a:stCxn id="426" idx="6"/>
              <a:endCxn id="427" idx="2"/>
            </p:cNvCxnSpPr>
            <p:nvPr/>
          </p:nvCxnSpPr>
          <p:spPr>
            <a:xfrm>
              <a:off x="14616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2" name=""/>
            <p:cNvCxnSpPr>
              <a:stCxn id="427" idx="6"/>
              <a:endCxn id="428" idx="2"/>
            </p:cNvCxnSpPr>
            <p:nvPr/>
          </p:nvCxnSpPr>
          <p:spPr>
            <a:xfrm>
              <a:off x="30618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3" name=""/>
            <p:cNvCxnSpPr>
              <a:stCxn id="428" idx="6"/>
              <a:endCxn id="429" idx="2"/>
            </p:cNvCxnSpPr>
            <p:nvPr/>
          </p:nvCxnSpPr>
          <p:spPr>
            <a:xfrm>
              <a:off x="46620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29" idx="6"/>
              <a:endCxn id="430" idx="2"/>
            </p:cNvCxnSpPr>
            <p:nvPr/>
          </p:nvCxnSpPr>
          <p:spPr>
            <a:xfrm>
              <a:off x="62622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5" name=""/>
            <p:cNvCxnSpPr>
              <a:stCxn id="430" idx="6"/>
            </p:cNvCxnSpPr>
            <p:nvPr/>
          </p:nvCxnSpPr>
          <p:spPr>
            <a:xfrm>
              <a:off x="78624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6" name=""/>
            <p:cNvSpPr/>
            <p:nvPr/>
          </p:nvSpPr>
          <p:spPr>
            <a:xfrm>
              <a:off x="8458200" y="4495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46120" y="40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46320" y="40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6520" y="40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67160" y="4038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80880" y="5181480"/>
            <a:ext cx="8382240" cy="685800"/>
            <a:chOff x="380880" y="5181480"/>
            <a:chExt cx="8382240" cy="685800"/>
          </a:xfrm>
        </p:grpSpPr>
        <p:sp>
          <p:nvSpPr>
            <p:cNvPr id="442" name=""/>
            <p:cNvSpPr/>
            <p:nvPr/>
          </p:nvSpPr>
          <p:spPr>
            <a:xfrm>
              <a:off x="3808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10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812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814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816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42" idx="6"/>
              <a:endCxn id="443" idx="2"/>
            </p:cNvCxnSpPr>
            <p:nvPr/>
          </p:nvCxnSpPr>
          <p:spPr>
            <a:xfrm>
              <a:off x="14616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3" idx="6"/>
              <a:endCxn id="444" idx="2"/>
            </p:cNvCxnSpPr>
            <p:nvPr/>
          </p:nvCxnSpPr>
          <p:spPr>
            <a:xfrm>
              <a:off x="30618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"/>
            <p:cNvCxnSpPr>
              <a:stCxn id="444" idx="6"/>
              <a:endCxn id="445" idx="2"/>
            </p:cNvCxnSpPr>
            <p:nvPr/>
          </p:nvCxnSpPr>
          <p:spPr>
            <a:xfrm>
              <a:off x="46620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5" idx="6"/>
              <a:endCxn id="446" idx="2"/>
            </p:cNvCxnSpPr>
            <p:nvPr/>
          </p:nvCxnSpPr>
          <p:spPr>
            <a:xfrm>
              <a:off x="62622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46" idx="6"/>
            </p:cNvCxnSpPr>
            <p:nvPr/>
          </p:nvCxnSpPr>
          <p:spPr>
            <a:xfrm>
              <a:off x="78624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2" name=""/>
            <p:cNvSpPr/>
            <p:nvPr/>
          </p:nvSpPr>
          <p:spPr>
            <a:xfrm>
              <a:off x="8458200" y="5638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46120" y="5181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6320" y="5181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46520" y="5181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67160" y="5181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model of a discrete event system, check if certain properties 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a stochastic process (GS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ies are expressed using a logic formalism (C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ying Probabilistic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Generate sample execution paths using discrete event s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erif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over each sample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is true, then we have a positive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is false, then we have a negative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ased on the proportion of positive samples, determine if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quential Hypothesis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60" name="j0274830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2273400" cy="2789280"/>
          </a:xfrm>
          <a:prstGeom prst="rect">
            <a:avLst/>
          </a:prstGeom>
          <a:ln w="0">
            <a:noFill/>
          </a:ln>
        </p:spPr>
      </p:pic>
      <p:pic>
        <p:nvPicPr>
          <p:cNvPr id="461" name="j0286753" descr=""/>
          <p:cNvPicPr/>
          <p:nvPr/>
        </p:nvPicPr>
        <p:blipFill>
          <a:blip r:embed="rId2"/>
          <a:stretch/>
        </p:blipFill>
        <p:spPr>
          <a:xfrm>
            <a:off x="2438280" y="3657600"/>
            <a:ext cx="777960" cy="743040"/>
          </a:xfrm>
          <a:prstGeom prst="rect">
            <a:avLst/>
          </a:prstGeom>
          <a:ln w="0">
            <a:noFill/>
          </a:ln>
        </p:spPr>
      </p:pic>
      <p:grpSp>
        <p:nvGrpSpPr>
          <p:cNvPr id="462" name=""/>
          <p:cNvGrpSpPr/>
          <p:nvPr/>
        </p:nvGrpSpPr>
        <p:grpSpPr>
          <a:xfrm>
            <a:off x="5562720" y="2590920"/>
            <a:ext cx="2260440" cy="1752480"/>
            <a:chOff x="5562720" y="2590920"/>
            <a:chExt cx="2260440" cy="1752480"/>
          </a:xfrm>
        </p:grpSpPr>
        <p:pic>
          <p:nvPicPr>
            <p:cNvPr id="463" name="j0248138" descr=""/>
            <p:cNvPicPr/>
            <p:nvPr/>
          </p:nvPicPr>
          <p:blipFill>
            <a:blip r:embed="rId3"/>
            <a:stretch/>
          </p:blipFill>
          <p:spPr>
            <a:xfrm>
              <a:off x="5562720" y="2590920"/>
              <a:ext cx="22604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5842800" y="2743200"/>
              <a:ext cx="17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ue, fals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r anoth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ampl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thesis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 Bou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of false negative: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alse when it is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of false positive: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rue when it is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2590560" y="1828800"/>
            <a:ext cx="5904720" cy="3886200"/>
            <a:chOff x="2590560" y="1828800"/>
            <a:chExt cx="5904720" cy="3886200"/>
          </a:xfrm>
        </p:grpSpPr>
        <p:grpSp>
          <p:nvGrpSpPr>
            <p:cNvPr id="469" name=""/>
            <p:cNvGrpSpPr/>
            <p:nvPr/>
          </p:nvGrpSpPr>
          <p:grpSpPr>
            <a:xfrm>
              <a:off x="2590560" y="2361960"/>
              <a:ext cx="4496040" cy="3353040"/>
              <a:chOff x="2590560" y="2361960"/>
              <a:chExt cx="4496040" cy="3353040"/>
            </a:xfrm>
          </p:grpSpPr>
          <p:sp>
            <p:nvSpPr>
              <p:cNvPr id="470" name=""/>
              <p:cNvSpPr/>
              <p:nvPr/>
            </p:nvSpPr>
            <p:spPr>
              <a:xfrm flipV="1">
                <a:off x="4648320" y="2361960"/>
                <a:ext cx="0" cy="33526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4647960" y="5181480"/>
                <a:ext cx="2438640" cy="533520"/>
                <a:chOff x="4647960" y="5181480"/>
                <a:chExt cx="2438640" cy="533520"/>
              </a:xfrm>
            </p:grpSpPr>
            <p:sp>
              <p:nvSpPr>
                <p:cNvPr id="472" name=""/>
                <p:cNvSpPr/>
                <p:nvPr/>
              </p:nvSpPr>
              <p:spPr>
                <a:xfrm flipH="1">
                  <a:off x="46479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480060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495288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51051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525780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541008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632448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571500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586728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60195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>
                  <a:off x="617220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55623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>
                  <a:off x="64767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6629400" y="525780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>
                  <a:off x="6781320" y="54100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6933960" y="55627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>
                  <a:off x="4648320" y="5181480"/>
                  <a:ext cx="38088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>
                  <a:off x="4647960" y="518148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>
                  <a:off x="4647960" y="5181480"/>
                  <a:ext cx="75960" cy="76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590560" y="2362320"/>
                <a:ext cx="2057760" cy="533160"/>
                <a:chOff x="2590560" y="2362320"/>
                <a:chExt cx="2057760" cy="533160"/>
              </a:xfrm>
            </p:grpSpPr>
            <p:sp>
              <p:nvSpPr>
                <p:cNvPr id="492" name=""/>
                <p:cNvSpPr/>
                <p:nvPr/>
              </p:nvSpPr>
              <p:spPr>
                <a:xfrm flipH="1">
                  <a:off x="2590560" y="23623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2590920" y="2362320"/>
                  <a:ext cx="30456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>
                  <a:off x="2590920" y="236232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266688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2819160" y="2362320"/>
                  <a:ext cx="53316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297180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388620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3276360" y="2362320"/>
                  <a:ext cx="53316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342900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>
                  <a:off x="358128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3733560" y="2362320"/>
                  <a:ext cx="53316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312408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403848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4191120" y="243828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>
                  <a:off x="4343040" y="2590920"/>
                  <a:ext cx="30492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4495680" y="2743200"/>
                  <a:ext cx="15264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2590920" y="2895480"/>
                <a:ext cx="4495680" cy="2286000"/>
                <a:chOff x="2590920" y="2895480"/>
                <a:chExt cx="4495680" cy="22860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2590920" y="2895480"/>
                  <a:ext cx="20574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648320" y="2895480"/>
                  <a:ext cx="0" cy="22860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648320" y="5181480"/>
                  <a:ext cx="22096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858000" y="5181480"/>
                  <a:ext cx="2286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"/>
            <p:cNvGrpSpPr/>
            <p:nvPr/>
          </p:nvGrpSpPr>
          <p:grpSpPr>
            <a:xfrm>
              <a:off x="2985840" y="1828800"/>
              <a:ext cx="5509440" cy="3733920"/>
              <a:chOff x="2985840" y="1828800"/>
              <a:chExt cx="5509440" cy="3733920"/>
            </a:xfrm>
          </p:grpSpPr>
          <p:sp>
            <p:nvSpPr>
              <p:cNvPr id="514" name=""/>
              <p:cNvSpPr/>
              <p:nvPr/>
            </p:nvSpPr>
            <p:spPr>
              <a:xfrm>
                <a:off x="2985840" y="1828800"/>
                <a:ext cx="236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alse nega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248160" y="4419720"/>
                <a:ext cx="224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alse posi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3505320" y="2209680"/>
                <a:ext cx="4572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5790960" y="4800600"/>
                <a:ext cx="160020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fference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590920" y="1828800"/>
            <a:ext cx="6272640" cy="4423680"/>
            <a:chOff x="2590920" y="1828800"/>
            <a:chExt cx="6272640" cy="4423680"/>
          </a:xfrm>
        </p:grpSpPr>
        <p:grpSp>
          <p:nvGrpSpPr>
            <p:cNvPr id="520" name=""/>
            <p:cNvGrpSpPr/>
            <p:nvPr/>
          </p:nvGrpSpPr>
          <p:grpSpPr>
            <a:xfrm>
              <a:off x="2590920" y="2361960"/>
              <a:ext cx="6272640" cy="3890520"/>
              <a:chOff x="2590920" y="2361960"/>
              <a:chExt cx="6272640" cy="389052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3438000" y="2361960"/>
                <a:ext cx="5425560" cy="3890520"/>
                <a:chOff x="3438000" y="2361960"/>
                <a:chExt cx="5425560" cy="38905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809880" y="2362320"/>
                  <a:ext cx="1676520" cy="33526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09880" y="57150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486400" y="57150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438000" y="5792760"/>
                  <a:ext cx="801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Tahoma"/>
                      <a:ea typeface="Tahoma"/>
                    </a:rPr>
                    <a:t> – 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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103000" y="5792760"/>
                  <a:ext cx="82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Tahoma"/>
                      <a:ea typeface="Tahoma"/>
                    </a:rPr>
                    <a:t> 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Tahoma"/>
                      <a:ea typeface="Tahoma"/>
                    </a:rPr>
                    <a:t>+ 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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5486400" y="2361960"/>
                  <a:ext cx="0" cy="335268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3809880" y="2361960"/>
                  <a:ext cx="0" cy="335268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916600" y="2666880"/>
                  <a:ext cx="2946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Indifference reg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4952880" y="3048120"/>
                  <a:ext cx="236232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590920" y="2895480"/>
                <a:ext cx="4495680" cy="2286000"/>
                <a:chOff x="2590920" y="2895480"/>
                <a:chExt cx="4495680" cy="2286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590920" y="2895480"/>
                  <a:ext cx="20574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648320" y="2895480"/>
                  <a:ext cx="0" cy="228600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48320" y="5181480"/>
                  <a:ext cx="220968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858000" y="5181480"/>
                  <a:ext cx="2286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2590920" y="2362320"/>
                <a:ext cx="4495680" cy="3352680"/>
                <a:chOff x="2590920" y="2362320"/>
                <a:chExt cx="4495680" cy="3352680"/>
              </a:xfrm>
            </p:grpSpPr>
            <p:grpSp>
              <p:nvGrpSpPr>
                <p:cNvPr id="537" name=""/>
                <p:cNvGrpSpPr/>
                <p:nvPr/>
              </p:nvGrpSpPr>
              <p:grpSpPr>
                <a:xfrm>
                  <a:off x="5486040" y="5257800"/>
                  <a:ext cx="1539720" cy="457200"/>
                  <a:chOff x="5486040" y="5257800"/>
                  <a:chExt cx="1539720" cy="45720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>
                    <a:off x="6933960" y="5622840"/>
                    <a:ext cx="91800" cy="92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>
                    <a:off x="6781680" y="5607000"/>
                    <a:ext cx="108000" cy="1080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H="1">
                    <a:off x="6629040" y="5608800"/>
                    <a:ext cx="106200" cy="1062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>
                    <a:off x="6476760" y="5592600"/>
                    <a:ext cx="122040" cy="1224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>
                    <a:off x="6324480" y="5562720"/>
                    <a:ext cx="152640" cy="1522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>
                    <a:off x="6172200" y="5530680"/>
                    <a:ext cx="184320" cy="1843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>
                    <a:off x="6019560" y="5516640"/>
                    <a:ext cx="198360" cy="198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>
                    <a:off x="5866920" y="5502240"/>
                    <a:ext cx="212760" cy="2127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>
                    <a:off x="5714640" y="5456160"/>
                    <a:ext cx="258840" cy="258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>
                    <a:off x="5562720" y="5394240"/>
                    <a:ext cx="320400" cy="3207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>
                    <a:off x="5486040" y="5349960"/>
                    <a:ext cx="289080" cy="288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>
                    <a:off x="5486040" y="5318280"/>
                    <a:ext cx="168120" cy="168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>
                    <a:off x="5486400" y="5257800"/>
                    <a:ext cx="76320" cy="763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2666880" y="2362320"/>
                  <a:ext cx="1143000" cy="425160"/>
                  <a:chOff x="2666880" y="2362320"/>
                  <a:chExt cx="1143000" cy="4251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 flipH="1">
                    <a:off x="3688920" y="2666880"/>
                    <a:ext cx="120600" cy="120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>
                    <a:off x="3613320" y="2514600"/>
                    <a:ext cx="196560" cy="1969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>
                    <a:off x="3505320" y="23623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H="1">
                    <a:off x="3428640" y="236232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3322440" y="2362320"/>
                    <a:ext cx="182520" cy="182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>
                    <a:off x="3200040" y="23623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3079440" y="2362320"/>
                    <a:ext cx="120600" cy="120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>
                    <a:off x="2971800" y="2362320"/>
                    <a:ext cx="76320" cy="759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>
                    <a:off x="2819160" y="2362320"/>
                    <a:ext cx="75960" cy="759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>
                    <a:off x="2666880" y="2362320"/>
                    <a:ext cx="76320" cy="759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2" name=""/>
                <p:cNvSpPr/>
                <p:nvPr/>
              </p:nvSpPr>
              <p:spPr>
                <a:xfrm>
                  <a:off x="2590920" y="2438280"/>
                  <a:ext cx="4495680" cy="3200400"/>
                </a:xfrm>
                <a:custGeom>
                  <a:avLst/>
                  <a:gdLst/>
                  <a:ahLst/>
                  <a:rect l="l" t="t" r="r" b="b"/>
                  <a:pathLst>
                    <a:path w="2832" h="2016">
                      <a:moveTo>
                        <a:pt x="0" y="0"/>
                      </a:moveTo>
                      <a:cubicBezTo>
                        <a:pt x="232" y="0"/>
                        <a:pt x="464" y="0"/>
                        <a:pt x="768" y="288"/>
                      </a:cubicBezTo>
                      <a:cubicBezTo>
                        <a:pt x="1072" y="576"/>
                        <a:pt x="1480" y="1440"/>
                        <a:pt x="1824" y="1728"/>
                      </a:cubicBezTo>
                      <a:cubicBezTo>
                        <a:pt x="2168" y="2016"/>
                        <a:pt x="2632" y="1976"/>
                        <a:pt x="2832" y="2016"/>
                      </a:cubicBezTo>
                    </a:path>
                  </a:pathLst>
                </a:custGeom>
                <a:noFill/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"/>
            <p:cNvGrpSpPr/>
            <p:nvPr/>
          </p:nvGrpSpPr>
          <p:grpSpPr>
            <a:xfrm>
              <a:off x="2985840" y="1828800"/>
              <a:ext cx="5509440" cy="3733920"/>
              <a:chOff x="2985840" y="1828800"/>
              <a:chExt cx="5509440" cy="3733920"/>
            </a:xfrm>
          </p:grpSpPr>
          <p:sp>
            <p:nvSpPr>
              <p:cNvPr id="564" name=""/>
              <p:cNvSpPr/>
              <p:nvPr/>
            </p:nvSpPr>
            <p:spPr>
              <a:xfrm>
                <a:off x="2985840" y="1828800"/>
                <a:ext cx="236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alse nega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48160" y="4419720"/>
                <a:ext cx="224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alse posi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3505320" y="2209680"/>
                <a:ext cx="4572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5790960" y="4800600"/>
                <a:ext cx="160020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"/>
          <p:cNvGrpSpPr/>
          <p:nvPr/>
        </p:nvGrpSpPr>
        <p:grpSpPr>
          <a:xfrm>
            <a:off x="990720" y="2209320"/>
            <a:ext cx="6400800" cy="4422600"/>
            <a:chOff x="990720" y="2209320"/>
            <a:chExt cx="6400800" cy="4422600"/>
          </a:xfrm>
        </p:grpSpPr>
        <p:sp>
          <p:nvSpPr>
            <p:cNvPr id="569" name=""/>
            <p:cNvSpPr/>
            <p:nvPr/>
          </p:nvSpPr>
          <p:spPr>
            <a:xfrm>
              <a:off x="2590920" y="5715000"/>
              <a:ext cx="48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590920" y="2209320"/>
              <a:ext cx="0" cy="350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78400" y="6172200"/>
              <a:ext cx="448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ctual probability of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hol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6200000">
              <a:off x="-351720" y="3584160"/>
              <a:ext cx="3561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robability of accepting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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ahoma"/>
                  <a:ea typeface="Tahom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)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as tr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02520" y="57927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35920" y="266868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1 –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12560" y="495288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48320" y="57150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14600" y="289548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14600" y="518148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2590920" y="3352320"/>
            <a:ext cx="4876200" cy="2667600"/>
            <a:chOff x="2590920" y="3352320"/>
            <a:chExt cx="4876200" cy="2667600"/>
          </a:xfrm>
        </p:grpSpPr>
        <p:sp>
          <p:nvSpPr>
            <p:cNvPr id="580" name=""/>
            <p:cNvSpPr/>
            <p:nvPr/>
          </p:nvSpPr>
          <p:spPr>
            <a:xfrm>
              <a:off x="5990400" y="533412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58120" y="350532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962160" y="4648320"/>
              <a:ext cx="3504960" cy="13716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46360" y="441972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ntinue samp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590920" y="3352320"/>
              <a:ext cx="350496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958480" y="3505320"/>
            <a:ext cx="4169880" cy="2288520"/>
            <a:chOff x="2958480" y="3505320"/>
            <a:chExt cx="4169880" cy="2288520"/>
          </a:xfrm>
        </p:grpSpPr>
        <p:sp>
          <p:nvSpPr>
            <p:cNvPr id="586" name=""/>
            <p:cNvSpPr/>
            <p:nvPr/>
          </p:nvSpPr>
          <p:spPr>
            <a:xfrm>
              <a:off x="5990400" y="533412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ahoma"/>
                </a:rPr>
                <a:t>Ac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58480" y="350532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ahoma"/>
                </a:rPr>
                <a:t>Re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546720" y="441972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ahoma"/>
                </a:rPr>
                <a:t>Continue samp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phical Representation of Statistical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find a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cceptance l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ejection l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ive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600200" y="3200400"/>
            <a:ext cx="6019560" cy="3355200"/>
            <a:chOff x="1600200" y="3200400"/>
            <a:chExt cx="6019560" cy="3355200"/>
          </a:xfrm>
        </p:grpSpPr>
        <p:sp>
          <p:nvSpPr>
            <p:cNvPr id="592" name=""/>
            <p:cNvSpPr/>
            <p:nvPr/>
          </p:nvSpPr>
          <p:spPr>
            <a:xfrm flipV="1">
              <a:off x="2590560" y="3200400"/>
              <a:ext cx="0" cy="281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90560" y="6019920"/>
              <a:ext cx="502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72920" y="6095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umber of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6200000">
              <a:off x="732240" y="421092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umber of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ositive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819520" y="3504960"/>
            <a:ext cx="2743200" cy="2514600"/>
            <a:chOff x="2819520" y="3504960"/>
            <a:chExt cx="2743200" cy="2514600"/>
          </a:xfrm>
        </p:grpSpPr>
        <p:sp>
          <p:nvSpPr>
            <p:cNvPr id="597" name=""/>
            <p:cNvSpPr/>
            <p:nvPr/>
          </p:nvSpPr>
          <p:spPr>
            <a:xfrm flipV="1">
              <a:off x="2819520" y="5790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19520" y="5791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481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04812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3276720" y="5333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767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05320" y="51055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3733920" y="48765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3505320" y="51051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191120" y="4647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33920" y="48769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91120" y="4648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19720" y="4419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419720" y="4419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64832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48320" y="4191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76920" y="4191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105520" y="39621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334120" y="37335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05520" y="39625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562720" y="350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4120" y="37339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62520" y="48769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276720" y="5333760"/>
            <a:ext cx="2514600" cy="685800"/>
            <a:chOff x="3276720" y="5333760"/>
            <a:chExt cx="2514600" cy="685800"/>
          </a:xfrm>
        </p:grpSpPr>
        <p:sp>
          <p:nvSpPr>
            <p:cNvPr id="621" name=""/>
            <p:cNvSpPr/>
            <p:nvPr/>
          </p:nvSpPr>
          <p:spPr>
            <a:xfrm>
              <a:off x="3276720" y="5791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396252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05320" y="5791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33920" y="5791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625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911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197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483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769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55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3276720" y="5790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4876920" y="5333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341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627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of Nested Probabilistic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i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tains probabilistic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7" name="j0286753" descr=""/>
          <p:cNvPicPr/>
          <p:nvPr/>
        </p:nvPicPr>
        <p:blipFill>
          <a:blip r:embed="rId1">
            <a:lum contrast="-72000"/>
          </a:blip>
          <a:stretch/>
        </p:blipFill>
        <p:spPr>
          <a:xfrm>
            <a:off x="2362320" y="4191120"/>
            <a:ext cx="777600" cy="7426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5486400" y="3124080"/>
            <a:ext cx="2260440" cy="1752480"/>
            <a:chOff x="5486400" y="3124080"/>
            <a:chExt cx="2260440" cy="1752480"/>
          </a:xfrm>
        </p:grpSpPr>
        <p:pic>
          <p:nvPicPr>
            <p:cNvPr id="639" name="j0248138" descr=""/>
            <p:cNvPicPr/>
            <p:nvPr/>
          </p:nvPicPr>
          <p:blipFill>
            <a:blip r:embed="rId2"/>
            <a:stretch/>
          </p:blipFill>
          <p:spPr>
            <a:xfrm>
              <a:off x="5486400" y="3124080"/>
              <a:ext cx="22604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766480" y="3276360"/>
              <a:ext cx="17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ue, fals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r anoth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ampl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1" name="j0118661" descr=""/>
          <p:cNvPicPr/>
          <p:nvPr/>
        </p:nvPicPr>
        <p:blipFill>
          <a:blip r:embed="rId3"/>
          <a:stretch/>
        </p:blipFill>
        <p:spPr>
          <a:xfrm>
            <a:off x="3505320" y="3886200"/>
            <a:ext cx="2381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rect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nt samples from random variabl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only get samples from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ch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[Y=1|X=1]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1 –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[Y=0|X=1]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[Y=1|X=0]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[Y=0|X=0]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1 –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ified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n acceptance line and a rejection line give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’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590920" y="3352320"/>
            <a:ext cx="4876560" cy="2667600"/>
            <a:chOff x="2590920" y="3352320"/>
            <a:chExt cx="4876560" cy="2667600"/>
          </a:xfrm>
        </p:grpSpPr>
        <p:sp>
          <p:nvSpPr>
            <p:cNvPr id="647" name=""/>
            <p:cNvSpPr/>
            <p:nvPr/>
          </p:nvSpPr>
          <p:spPr>
            <a:xfrm>
              <a:off x="6219360" y="548640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29880" y="3429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962520" y="4648320"/>
              <a:ext cx="3504960" cy="13716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46720" y="441972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ntinue samp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590920" y="3352320"/>
              <a:ext cx="350496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2590920" y="3352320"/>
            <a:ext cx="4952880" cy="2667600"/>
            <a:chOff x="2590920" y="3352320"/>
            <a:chExt cx="4952880" cy="2667600"/>
          </a:xfrm>
        </p:grpSpPr>
        <p:sp>
          <p:nvSpPr>
            <p:cNvPr id="653" name=""/>
            <p:cNvSpPr/>
            <p:nvPr/>
          </p:nvSpPr>
          <p:spPr>
            <a:xfrm flipV="1">
              <a:off x="4800600" y="4952880"/>
              <a:ext cx="2743200" cy="106704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590920" y="3352680"/>
              <a:ext cx="274320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590920" y="3352320"/>
              <a:ext cx="3504960" cy="1295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3962520" y="4648320"/>
              <a:ext cx="3504960" cy="13716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600200" y="3200400"/>
            <a:ext cx="6019560" cy="3355200"/>
            <a:chOff x="1600200" y="3200400"/>
            <a:chExt cx="6019560" cy="3355200"/>
          </a:xfrm>
        </p:grpSpPr>
        <p:sp>
          <p:nvSpPr>
            <p:cNvPr id="658" name=""/>
            <p:cNvSpPr/>
            <p:nvPr/>
          </p:nvSpPr>
          <p:spPr>
            <a:xfrm flipV="1">
              <a:off x="2590560" y="3200400"/>
              <a:ext cx="0" cy="281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90560" y="6019920"/>
              <a:ext cx="502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72920" y="6095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umber of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6200000">
              <a:off x="732240" y="421092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umber of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ositive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of Compound State Formul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¬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erif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…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erif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though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/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/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quential Verification of Conj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…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fy each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soon as an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verified to be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re verified to be true, verify each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gain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/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ff 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re verified to be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stic Ver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 of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babilistic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bability of reaching a failure state within 60 minutes is less than 0.1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babilistic ver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bability of property P holding is at least 0.95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of Path Formul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erif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n the nex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nvert to conj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holds i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holds in the first state, or i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holds in the second state and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olds in all prior stat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Verifying Unt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Give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le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 the index of the first state more tha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ime units away from the current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junction of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juncts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each of siz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fies if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r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or both, do not contain any probabilistic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0.05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true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200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dead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182200" y="2895480"/>
            <a:ext cx="3815280" cy="3927600"/>
            <a:chOff x="5182200" y="2895480"/>
            <a:chExt cx="3815280" cy="3927600"/>
          </a:xfrm>
        </p:grpSpPr>
        <p:sp>
          <p:nvSpPr>
            <p:cNvPr id="673" name=""/>
            <p:cNvSpPr/>
            <p:nvPr/>
          </p:nvSpPr>
          <p:spPr>
            <a:xfrm>
              <a:off x="5182200" y="2895480"/>
              <a:ext cx="381528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ff99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99ff99"/>
                  </a:solidFill>
                  <a:latin typeface="Tahoma"/>
                </a:rPr>
                <a:t>1</a:t>
              </a:r>
              <a:r>
                <a:rPr b="0" lang="en-US" sz="2400" spc="-1" strike="noStrike">
                  <a:solidFill>
                    <a:srgbClr val="99ff99"/>
                  </a:solidFill>
                  <a:latin typeface="Tahoma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Safe, at rest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Under attack, at rest</a:t>
              </a:r>
              <a:br>
                <a:rPr sz="2400"/>
              </a:br>
              <a:r>
                <a:rPr b="0" lang="en-US" sz="2400" spc="-1" strike="noStrike">
                  <a:solidFill>
                    <a:srgbClr val="ffcf01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ffcf01"/>
                  </a:solidFill>
                  <a:latin typeface="Tahom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Under attack, jumping</a:t>
              </a:r>
              <a:br>
                <a:rPr sz="2400"/>
              </a:br>
              <a:r>
                <a:rPr b="0" lang="en-US" sz="2400" spc="-1" strike="noStrike">
                  <a:solidFill>
                    <a:srgbClr val="99ff99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99ff99"/>
                  </a:solidFill>
                  <a:latin typeface="Tahom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afe, jump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18200" y="4648320"/>
              <a:ext cx="2768400" cy="21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tork attack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Frog ki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tart jump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tork retreat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top jump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228600" y="2590920"/>
            <a:ext cx="4275000" cy="4014720"/>
            <a:chOff x="228600" y="2590920"/>
            <a:chExt cx="4275000" cy="4014720"/>
          </a:xfrm>
        </p:grpSpPr>
        <p:grpSp>
          <p:nvGrpSpPr>
            <p:cNvPr id="676" name=""/>
            <p:cNvGrpSpPr/>
            <p:nvPr/>
          </p:nvGrpSpPr>
          <p:grpSpPr>
            <a:xfrm>
              <a:off x="228600" y="2743200"/>
              <a:ext cx="4275000" cy="3862440"/>
              <a:chOff x="228600" y="2743200"/>
              <a:chExt cx="4275000" cy="3862440"/>
            </a:xfrm>
          </p:grpSpPr>
          <p:pic>
            <p:nvPicPr>
              <p:cNvPr id="677" name="SY00731_" descr=""/>
              <p:cNvPicPr/>
              <p:nvPr/>
            </p:nvPicPr>
            <p:blipFill>
              <a:blip r:embed="rId1"/>
              <a:stretch/>
            </p:blipFill>
            <p:spPr>
              <a:xfrm>
                <a:off x="4038480" y="4876920"/>
                <a:ext cx="465120" cy="533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8" name=""/>
              <p:cNvGrpSpPr/>
              <p:nvPr/>
            </p:nvGrpSpPr>
            <p:grpSpPr>
              <a:xfrm>
                <a:off x="304920" y="4419720"/>
                <a:ext cx="838080" cy="1143000"/>
                <a:chOff x="304920" y="4419720"/>
                <a:chExt cx="838080" cy="11430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04920" y="4800600"/>
                  <a:ext cx="838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E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57200" y="4419720"/>
                  <a:ext cx="532800" cy="533520"/>
                </a:xfrm>
                <a:prstGeom prst="ellipse">
                  <a:avLst/>
                </a:prstGeom>
                <a:solidFill>
                  <a:srgbClr val="99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S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2514600" y="3962520"/>
                <a:ext cx="762120" cy="838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3505320"/>
                <a:ext cx="838440" cy="761760"/>
              </a:xfrm>
              <a:prstGeom prst="up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133720" y="4114800"/>
                <a:ext cx="533160" cy="533520"/>
              </a:xfrm>
              <a:prstGeom prst="ellipse">
                <a:avLst/>
              </a:prstGeom>
              <a:solidFill>
                <a:srgbClr val="ffcf01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514600" y="5562720"/>
                <a:ext cx="762120" cy="838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981080" y="5105520"/>
                <a:ext cx="838440" cy="761760"/>
              </a:xfrm>
              <a:prstGeom prst="up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133720" y="5715000"/>
                <a:ext cx="533160" cy="5335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87" name=""/>
              <p:cNvCxnSpPr>
                <a:stCxn id="684" idx="0"/>
                <a:endCxn id="677" idx="2"/>
              </p:cNvCxnSpPr>
              <p:nvPr/>
            </p:nvCxnSpPr>
            <p:spPr>
              <a:xfrm flipV="1">
                <a:off x="3290760" y="5409720"/>
                <a:ext cx="982080" cy="57240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8" name=""/>
              <p:cNvCxnSpPr>
                <a:stCxn id="679" idx="0"/>
                <a:endCxn id="686" idx="2"/>
              </p:cNvCxnSpPr>
              <p:nvPr/>
            </p:nvCxnSpPr>
            <p:spPr>
              <a:xfrm flipH="1" rot="16200000">
                <a:off x="1216440" y="5079600"/>
                <a:ext cx="407160" cy="13978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9" name=""/>
              <p:cNvCxnSpPr>
                <a:stCxn id="685" idx="0"/>
                <a:endCxn id="683" idx="4"/>
              </p:cNvCxnSpPr>
              <p:nvPr/>
            </p:nvCxnSpPr>
            <p:spPr>
              <a:xfrm flipV="1">
                <a:off x="2400120" y="4661640"/>
                <a:ext cx="1080" cy="4294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0" name=""/>
              <p:cNvCxnSpPr>
                <a:stCxn id="681" idx="0"/>
                <a:endCxn id="677" idx="0"/>
              </p:cNvCxnSpPr>
              <p:nvPr/>
            </p:nvCxnSpPr>
            <p:spPr>
              <a:xfrm>
                <a:off x="3290760" y="4381560"/>
                <a:ext cx="982080" cy="4960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1" name=""/>
              <p:cNvCxnSpPr>
                <a:stCxn id="682" idx="0"/>
                <a:endCxn id="692" idx="6"/>
              </p:cNvCxnSpPr>
              <p:nvPr/>
            </p:nvCxnSpPr>
            <p:spPr>
              <a:xfrm flipV="1" rot="16200000">
                <a:off x="1995120" y="3085200"/>
                <a:ext cx="329040" cy="48204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3" name=""/>
              <p:cNvCxnSpPr>
                <a:stCxn id="694" idx="0"/>
                <a:endCxn id="680" idx="0"/>
              </p:cNvCxnSpPr>
              <p:nvPr/>
            </p:nvCxnSpPr>
            <p:spPr>
              <a:xfrm flipV="1" rot="10800000">
                <a:off x="723240" y="3161160"/>
                <a:ext cx="24480" cy="124380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94" name=""/>
              <p:cNvSpPr/>
              <p:nvPr/>
            </p:nvSpPr>
            <p:spPr>
              <a:xfrm>
                <a:off x="762120" y="2743200"/>
                <a:ext cx="761760" cy="83808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71600" y="289548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5" name="j0084042" descr=""/>
              <p:cNvPicPr/>
              <p:nvPr/>
            </p:nvPicPr>
            <p:blipFill>
              <a:blip r:embed="rId2"/>
              <a:stretch/>
            </p:blipFill>
            <p:spPr>
              <a:xfrm>
                <a:off x="3295800" y="2819520"/>
                <a:ext cx="946080" cy="14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an02542_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5867280"/>
                <a:ext cx="762120" cy="738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3276720" y="6095880"/>
              <a:ext cx="457200" cy="457200"/>
              <a:chOff x="3276720" y="6095880"/>
              <a:chExt cx="457200" cy="457200"/>
            </a:xfrm>
          </p:grpSpPr>
          <p:sp>
            <p:nvSpPr>
              <p:cNvPr id="698" name=""/>
              <p:cNvSpPr/>
              <p:nvPr/>
            </p:nvSpPr>
            <p:spPr>
              <a:xfrm>
                <a:off x="3429360" y="6172200"/>
                <a:ext cx="228600" cy="30492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0" y="0"/>
                    </a:moveTo>
                    <a:cubicBezTo>
                      <a:pt x="8" y="56"/>
                      <a:pt x="16" y="112"/>
                      <a:pt x="48" y="144"/>
                    </a:cubicBezTo>
                    <a:cubicBezTo>
                      <a:pt x="80" y="176"/>
                      <a:pt x="152" y="200"/>
                      <a:pt x="192" y="192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276720" y="6095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276720" y="6553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429360" y="617220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1676520" y="5257800"/>
              <a:ext cx="457200" cy="457200"/>
              <a:chOff x="1676520" y="5257800"/>
              <a:chExt cx="457200" cy="457200"/>
            </a:xfrm>
          </p:grpSpPr>
          <p:sp>
            <p:nvSpPr>
              <p:cNvPr id="703" name=""/>
              <p:cNvSpPr/>
              <p:nvPr/>
            </p:nvSpPr>
            <p:spPr>
              <a:xfrm flipV="1">
                <a:off x="1676520" y="5257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676520" y="5715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1752840" y="54104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752840" y="541044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981440" y="54104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1066680" y="4724280"/>
              <a:ext cx="457200" cy="457200"/>
              <a:chOff x="1066680" y="4724280"/>
              <a:chExt cx="457200" cy="457200"/>
            </a:xfrm>
          </p:grpSpPr>
          <p:sp>
            <p:nvSpPr>
              <p:cNvPr id="709" name=""/>
              <p:cNvSpPr/>
              <p:nvPr/>
            </p:nvSpPr>
            <p:spPr>
              <a:xfrm>
                <a:off x="1066680" y="4800600"/>
                <a:ext cx="381240" cy="30456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0" y="0"/>
                    </a:moveTo>
                    <a:cubicBezTo>
                      <a:pt x="8" y="56"/>
                      <a:pt x="16" y="112"/>
                      <a:pt x="48" y="144"/>
                    </a:cubicBezTo>
                    <a:cubicBezTo>
                      <a:pt x="80" y="176"/>
                      <a:pt x="152" y="200"/>
                      <a:pt x="192" y="192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1066680" y="4724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066680" y="5181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1676520" y="3657600"/>
              <a:ext cx="457200" cy="457200"/>
              <a:chOff x="1676520" y="3657600"/>
              <a:chExt cx="457200" cy="457200"/>
            </a:xfrm>
          </p:grpSpPr>
          <p:sp>
            <p:nvSpPr>
              <p:cNvPr id="713" name=""/>
              <p:cNvSpPr/>
              <p:nvPr/>
            </p:nvSpPr>
            <p:spPr>
              <a:xfrm flipV="1">
                <a:off x="1676520" y="3657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676520" y="4114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1752840" y="3810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752840" y="381024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981440" y="3810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304920" y="2590920"/>
              <a:ext cx="457200" cy="457200"/>
              <a:chOff x="304920" y="2590920"/>
              <a:chExt cx="457200" cy="457200"/>
            </a:xfrm>
          </p:grpSpPr>
          <p:sp>
            <p:nvSpPr>
              <p:cNvPr id="719" name=""/>
              <p:cNvSpPr/>
              <p:nvPr/>
            </p:nvSpPr>
            <p:spPr>
              <a:xfrm flipV="1">
                <a:off x="304920" y="25909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04920" y="30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381240" y="2743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81240" y="274356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9840" y="2743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3276720" y="4495680"/>
              <a:ext cx="457200" cy="457200"/>
              <a:chOff x="3276720" y="4495680"/>
              <a:chExt cx="457200" cy="457200"/>
            </a:xfrm>
          </p:grpSpPr>
          <p:sp>
            <p:nvSpPr>
              <p:cNvPr id="725" name=""/>
              <p:cNvSpPr/>
              <p:nvPr/>
            </p:nvSpPr>
            <p:spPr>
              <a:xfrm>
                <a:off x="3429360" y="4572000"/>
                <a:ext cx="228600" cy="30492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0" y="0"/>
                    </a:moveTo>
                    <a:cubicBezTo>
                      <a:pt x="8" y="56"/>
                      <a:pt x="16" y="112"/>
                      <a:pt x="48" y="144"/>
                    </a:cubicBezTo>
                    <a:cubicBezTo>
                      <a:pt x="80" y="176"/>
                      <a:pt x="152" y="200"/>
                      <a:pt x="192" y="192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3276720" y="44956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276720" y="4952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429360" y="457200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"/>
          <p:cNvSpPr/>
          <p:nvPr/>
        </p:nvSpPr>
        <p:spPr>
          <a:xfrm>
            <a:off x="5179320" y="4800600"/>
            <a:ext cx="63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.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an02542_" descr=""/>
          <p:cNvPicPr/>
          <p:nvPr/>
        </p:nvPicPr>
        <p:blipFill>
          <a:blip r:embed="rId4"/>
          <a:stretch/>
        </p:blipFill>
        <p:spPr>
          <a:xfrm>
            <a:off x="457200" y="441972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731" name=""/>
          <p:cNvGrpSpPr/>
          <p:nvPr/>
        </p:nvGrpSpPr>
        <p:grpSpPr>
          <a:xfrm>
            <a:off x="5178960" y="4800600"/>
            <a:ext cx="1373040" cy="1739880"/>
            <a:chOff x="5178960" y="4800600"/>
            <a:chExt cx="1373040" cy="1739880"/>
          </a:xfrm>
        </p:grpSpPr>
        <p:sp>
          <p:nvSpPr>
            <p:cNvPr id="732" name=""/>
            <p:cNvSpPr/>
            <p:nvPr/>
          </p:nvSpPr>
          <p:spPr>
            <a:xfrm>
              <a:off x="578592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24.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4.3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7896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26.3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4" name="an02542_" descr=""/>
          <p:cNvPicPr/>
          <p:nvPr/>
        </p:nvPicPr>
        <p:blipFill>
          <a:blip r:embed="rId5"/>
          <a:stretch/>
        </p:blipFill>
        <p:spPr>
          <a:xfrm>
            <a:off x="2133720" y="571500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735" name=""/>
          <p:cNvGrpSpPr/>
          <p:nvPr/>
        </p:nvGrpSpPr>
        <p:grpSpPr>
          <a:xfrm>
            <a:off x="5786280" y="4800600"/>
            <a:ext cx="1476000" cy="1739880"/>
            <a:chOff x="5786280" y="4800600"/>
            <a:chExt cx="1476000" cy="1739880"/>
          </a:xfrm>
        </p:grpSpPr>
        <p:sp>
          <p:nvSpPr>
            <p:cNvPr id="736" name=""/>
            <p:cNvSpPr/>
            <p:nvPr/>
          </p:nvSpPr>
          <p:spPr>
            <a:xfrm>
              <a:off x="662724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0.2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5.2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0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8628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24.5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44.3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2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627240" y="4800600"/>
            <a:ext cx="1449000" cy="1739880"/>
            <a:chOff x="6627240" y="4800600"/>
            <a:chExt cx="1449000" cy="1739880"/>
          </a:xfrm>
        </p:grpSpPr>
        <p:sp>
          <p:nvSpPr>
            <p:cNvPr id="739" name=""/>
            <p:cNvSpPr/>
            <p:nvPr/>
          </p:nvSpPr>
          <p:spPr>
            <a:xfrm>
              <a:off x="731016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5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62724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80.2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95.2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70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5178960" y="4800600"/>
            <a:ext cx="2821680" cy="1752480"/>
            <a:chOff x="5178960" y="4800600"/>
            <a:chExt cx="2821680" cy="1752480"/>
          </a:xfrm>
        </p:grpSpPr>
        <p:sp>
          <p:nvSpPr>
            <p:cNvPr id="742" name=""/>
            <p:cNvSpPr/>
            <p:nvPr/>
          </p:nvSpPr>
          <p:spPr>
            <a:xfrm>
              <a:off x="5181480" y="4876560"/>
              <a:ext cx="281916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7896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9.9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178960" y="4800600"/>
            <a:ext cx="1373040" cy="1739880"/>
            <a:chOff x="5178960" y="4800600"/>
            <a:chExt cx="1373040" cy="1739880"/>
          </a:xfrm>
        </p:grpSpPr>
        <p:sp>
          <p:nvSpPr>
            <p:cNvPr id="745" name=""/>
            <p:cNvSpPr/>
            <p:nvPr/>
          </p:nvSpPr>
          <p:spPr>
            <a:xfrm>
              <a:off x="578592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55.8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8.3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17896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89.9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5785920" y="4800600"/>
            <a:ext cx="1527840" cy="1739880"/>
            <a:chOff x="5785920" y="4800600"/>
            <a:chExt cx="1527840" cy="1739880"/>
          </a:xfrm>
        </p:grpSpPr>
        <p:sp>
          <p:nvSpPr>
            <p:cNvPr id="748" name=""/>
            <p:cNvSpPr/>
            <p:nvPr/>
          </p:nvSpPr>
          <p:spPr>
            <a:xfrm>
              <a:off x="654768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7.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1.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38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8592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55.8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48.3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8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548040" y="4800600"/>
            <a:ext cx="1527840" cy="1739880"/>
            <a:chOff x="6548040" y="4800600"/>
            <a:chExt cx="1527840" cy="1739880"/>
          </a:xfrm>
        </p:grpSpPr>
        <p:sp>
          <p:nvSpPr>
            <p:cNvPr id="751" name=""/>
            <p:cNvSpPr/>
            <p:nvPr/>
          </p:nvSpPr>
          <p:spPr>
            <a:xfrm>
              <a:off x="730980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6.2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9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4804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07.5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61.0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38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310160" y="4800600"/>
            <a:ext cx="1528200" cy="1739880"/>
            <a:chOff x="7310160" y="4800600"/>
            <a:chExt cx="1528200" cy="1739880"/>
          </a:xfrm>
        </p:grpSpPr>
        <p:sp>
          <p:nvSpPr>
            <p:cNvPr id="754" name=""/>
            <p:cNvSpPr/>
            <p:nvPr/>
          </p:nvSpPr>
          <p:spPr>
            <a:xfrm>
              <a:off x="807228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9.4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35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1016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36.2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99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6" name="an02542_" descr=""/>
          <p:cNvPicPr/>
          <p:nvPr/>
        </p:nvPicPr>
        <p:blipFill>
          <a:blip r:embed="rId6"/>
          <a:stretch/>
        </p:blipFill>
        <p:spPr>
          <a:xfrm>
            <a:off x="4038480" y="48769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57" name="an02542_" descr=""/>
          <p:cNvPicPr/>
          <p:nvPr/>
        </p:nvPicPr>
        <p:blipFill>
          <a:blip r:embed="rId7"/>
          <a:stretch/>
        </p:blipFill>
        <p:spPr>
          <a:xfrm>
            <a:off x="2133720" y="411480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58" name="an02542_" descr=""/>
          <p:cNvPicPr/>
          <p:nvPr/>
        </p:nvPicPr>
        <p:blipFill>
          <a:blip r:embed="rId8"/>
          <a:stretch/>
        </p:blipFill>
        <p:spPr>
          <a:xfrm>
            <a:off x="457200" y="44197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59" name="an02542_" descr=""/>
          <p:cNvPicPr/>
          <p:nvPr/>
        </p:nvPicPr>
        <p:blipFill>
          <a:blip r:embed="rId9"/>
          <a:stretch/>
        </p:blipFill>
        <p:spPr>
          <a:xfrm>
            <a:off x="2133720" y="571500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60" name="an02542_" descr=""/>
          <p:cNvPicPr/>
          <p:nvPr/>
        </p:nvPicPr>
        <p:blipFill>
          <a:blip r:embed="rId10"/>
          <a:stretch/>
        </p:blipFill>
        <p:spPr>
          <a:xfrm>
            <a:off x="2133720" y="411480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61" name="an02542_" descr=""/>
          <p:cNvPicPr/>
          <p:nvPr/>
        </p:nvPicPr>
        <p:blipFill>
          <a:blip r:embed="rId11"/>
          <a:stretch/>
        </p:blipFill>
        <p:spPr>
          <a:xfrm>
            <a:off x="1371600" y="289548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62" name="an02542_" descr=""/>
          <p:cNvPicPr/>
          <p:nvPr/>
        </p:nvPicPr>
        <p:blipFill>
          <a:blip r:embed="rId12"/>
          <a:stretch/>
        </p:blipFill>
        <p:spPr>
          <a:xfrm>
            <a:off x="457200" y="441972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763" name=""/>
          <p:cNvGrpSpPr/>
          <p:nvPr/>
        </p:nvGrpSpPr>
        <p:grpSpPr>
          <a:xfrm>
            <a:off x="4800600" y="4266720"/>
            <a:ext cx="38160" cy="228960"/>
            <a:chOff x="4800600" y="4266720"/>
            <a:chExt cx="38160" cy="228960"/>
          </a:xfrm>
        </p:grpSpPr>
        <p:sp>
          <p:nvSpPr>
            <p:cNvPr id="764" name=""/>
            <p:cNvSpPr/>
            <p:nvPr/>
          </p:nvSpPr>
          <p:spPr>
            <a:xfrm flipV="1">
              <a:off x="4838760" y="4266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00600" y="4495680"/>
              <a:ext cx="38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838760" y="4267080"/>
            <a:ext cx="38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494960" y="2666880"/>
            <a:ext cx="4348800" cy="4060800"/>
            <a:chOff x="4494960" y="2666880"/>
            <a:chExt cx="4348800" cy="4060800"/>
          </a:xfrm>
        </p:grpSpPr>
        <p:sp>
          <p:nvSpPr>
            <p:cNvPr id="768" name=""/>
            <p:cNvSpPr/>
            <p:nvPr/>
          </p:nvSpPr>
          <p:spPr>
            <a:xfrm>
              <a:off x="4740120" y="4800600"/>
              <a:ext cx="444240" cy="19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4494960" y="2666880"/>
              <a:ext cx="4348800" cy="2135880"/>
              <a:chOff x="4494960" y="2666880"/>
              <a:chExt cx="4348800" cy="213588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4494960" y="2666880"/>
                <a:ext cx="4348800" cy="2135880"/>
                <a:chOff x="4494960" y="2666880"/>
                <a:chExt cx="4348800" cy="213588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4800600" y="4495680"/>
                  <a:ext cx="4038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4800600" y="2666880"/>
                  <a:ext cx="0" cy="1828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18148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56272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94360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32448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70572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08660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46748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84872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822960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861048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359320" y="44956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883200" y="44956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121080" y="44956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645320" y="44956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356680" y="449568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>
                  <a:off x="4724280" y="40384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4724280" y="31240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>
                  <a:off x="4724280" y="42670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>
                  <a:off x="4724280" y="38098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>
                  <a:off x="4724280" y="35812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4724280" y="28954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4724280" y="33526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494960" y="38862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494960" y="34290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494960" y="29718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 flipV="1">
                <a:off x="6794640" y="3987360"/>
                <a:ext cx="1815840" cy="5079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4800600" y="2857680"/>
                <a:ext cx="3809880" cy="1079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0" name=""/>
          <p:cNvGrpSpPr/>
          <p:nvPr/>
        </p:nvGrpSpPr>
        <p:grpSpPr>
          <a:xfrm>
            <a:off x="4838760" y="4038120"/>
            <a:ext cx="3924360" cy="2439000"/>
            <a:chOff x="4838760" y="4038120"/>
            <a:chExt cx="3924360" cy="2439000"/>
          </a:xfrm>
        </p:grpSpPr>
        <p:grpSp>
          <p:nvGrpSpPr>
            <p:cNvPr id="801" name=""/>
            <p:cNvGrpSpPr/>
            <p:nvPr/>
          </p:nvGrpSpPr>
          <p:grpSpPr>
            <a:xfrm>
              <a:off x="4838760" y="4038120"/>
              <a:ext cx="3581280" cy="228960"/>
              <a:chOff x="4838760" y="4038120"/>
              <a:chExt cx="3581280" cy="228960"/>
            </a:xfrm>
          </p:grpSpPr>
          <p:sp>
            <p:nvSpPr>
              <p:cNvPr id="802" name=""/>
              <p:cNvSpPr/>
              <p:nvPr/>
            </p:nvSpPr>
            <p:spPr>
              <a:xfrm>
                <a:off x="4838760" y="4267080"/>
                <a:ext cx="755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5594400" y="403812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594400" y="4038480"/>
                <a:ext cx="2825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5181480" y="4876920"/>
              <a:ext cx="358164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 for probabilistic verification of discrete ev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ple execution paths generated using discrete event 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stic properties verified using acceptance sam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 can be used in an anytime ma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o hybrid dynamic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heuristics for formula ordering and parameter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verification to aid policy generation for real-time stochastic dom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rete Event System (D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-driven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ete state changes at the occurrence of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factur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Probabilistic Verific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ynamics of a DES is too complex for symbolic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generate sample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ceptance samp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verify probabilistic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ochastic Proce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ochastic process consist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20760" y="3122640"/>
            <a:ext cx="7391520" cy="2859120"/>
            <a:chOff x="1220760" y="3122640"/>
            <a:chExt cx="7391520" cy="2859120"/>
          </a:xfrm>
        </p:grpSpPr>
        <p:sp>
          <p:nvSpPr>
            <p:cNvPr id="112" name=""/>
            <p:cNvSpPr/>
            <p:nvPr/>
          </p:nvSpPr>
          <p:spPr>
            <a:xfrm>
              <a:off x="1220760" y="3122640"/>
              <a:ext cx="739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 set of transitions (or event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14" idx="6"/>
              <a:endCxn id="115" idx="0"/>
            </p:cNvCxnSpPr>
            <p:nvPr/>
          </p:nvCxnSpPr>
          <p:spPr>
            <a:xfrm>
              <a:off x="4738320" y="4152960"/>
              <a:ext cx="1167480" cy="481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5" idx="4"/>
              <a:endCxn id="117" idx="6"/>
            </p:cNvCxnSpPr>
            <p:nvPr/>
          </p:nvCxnSpPr>
          <p:spPr>
            <a:xfrm rot="5400000">
              <a:off x="4928400" y="5005080"/>
              <a:ext cx="786600" cy="11674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119" idx="4"/>
              <a:endCxn id="117" idx="2"/>
            </p:cNvCxnSpPr>
            <p:nvPr/>
          </p:nvCxnSpPr>
          <p:spPr>
            <a:xfrm flipH="1" rot="16200000">
              <a:off x="3161160" y="4966920"/>
              <a:ext cx="786600" cy="12438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9" idx="0"/>
              <a:endCxn id="114" idx="2"/>
            </p:cNvCxnSpPr>
            <p:nvPr/>
          </p:nvCxnSpPr>
          <p:spPr>
            <a:xfrm flipH="1" flipV="1" rot="5400000">
              <a:off x="3314160" y="3771360"/>
              <a:ext cx="481680" cy="12438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0"/>
              <a:endCxn id="114" idx="4"/>
            </p:cNvCxnSpPr>
            <p:nvPr/>
          </p:nvCxnSpPr>
          <p:spPr>
            <a:xfrm flipV="1">
              <a:off x="4457520" y="4433040"/>
              <a:ext cx="1080" cy="126756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15" idx="7"/>
              <a:endCxn id="115" idx="5"/>
            </p:cNvCxnSpPr>
            <p:nvPr/>
          </p:nvCxnSpPr>
          <p:spPr>
            <a:xfrm flipH="1" rot="16200000">
              <a:off x="5891760" y="4912920"/>
              <a:ext cx="407160" cy="2160"/>
            </a:xfrm>
            <a:prstGeom prst="curvedConnector5">
              <a:avLst>
                <a:gd name="adj1" fmla="val -71858"/>
                <a:gd name="adj2" fmla="val 21540000"/>
                <a:gd name="adj3" fmla="val -71858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3" name=""/>
          <p:cNvGrpSpPr/>
          <p:nvPr/>
        </p:nvGrpSpPr>
        <p:grpSpPr>
          <a:xfrm>
            <a:off x="1219320" y="2590920"/>
            <a:ext cx="7466040" cy="3657600"/>
            <a:chOff x="1219320" y="2590920"/>
            <a:chExt cx="7466040" cy="3657600"/>
          </a:xfrm>
        </p:grpSpPr>
        <p:sp>
          <p:nvSpPr>
            <p:cNvPr id="124" name=""/>
            <p:cNvSpPr/>
            <p:nvPr/>
          </p:nvSpPr>
          <p:spPr>
            <a:xfrm>
              <a:off x="1219320" y="2590920"/>
              <a:ext cx="746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 set of sta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4648320"/>
              <a:ext cx="53352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91120" y="3886200"/>
              <a:ext cx="53316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4648320"/>
              <a:ext cx="53352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91120" y="5715000"/>
              <a:ext cx="53316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an02542_" descr=""/>
          <p:cNvPicPr/>
          <p:nvPr/>
        </p:nvPicPr>
        <p:blipFill>
          <a:blip r:embed="rId1"/>
          <a:stretch/>
        </p:blipFill>
        <p:spPr>
          <a:xfrm>
            <a:off x="7467480" y="5253120"/>
            <a:ext cx="990720" cy="957240"/>
          </a:xfrm>
          <a:prstGeom prst="rect">
            <a:avLst/>
          </a:prstGeom>
          <a:ln w="0">
            <a:noFill/>
          </a:ln>
        </p:spPr>
      </p:pic>
      <p:pic>
        <p:nvPicPr>
          <p:cNvPr id="126" name="j0331367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18003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ov Proce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rkov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enough information in the current state to determine the future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666880" y="3886200"/>
            <a:ext cx="4203360" cy="2362320"/>
            <a:chOff x="2666880" y="3886200"/>
            <a:chExt cx="4203360" cy="2362320"/>
          </a:xfrm>
        </p:grpSpPr>
        <p:cxnSp>
          <p:nvCxnSpPr>
            <p:cNvPr id="130" name=""/>
            <p:cNvCxnSpPr>
              <a:stCxn id="131" idx="6"/>
              <a:endCxn id="132" idx="0"/>
            </p:cNvCxnSpPr>
            <p:nvPr/>
          </p:nvCxnSpPr>
          <p:spPr>
            <a:xfrm>
              <a:off x="4738320" y="4152960"/>
              <a:ext cx="1167480" cy="481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32" idx="4"/>
              <a:endCxn id="134" idx="6"/>
            </p:cNvCxnSpPr>
            <p:nvPr/>
          </p:nvCxnSpPr>
          <p:spPr>
            <a:xfrm rot="5400000">
              <a:off x="4928400" y="5005080"/>
              <a:ext cx="786600" cy="11674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36" idx="4"/>
              <a:endCxn id="134" idx="2"/>
            </p:cNvCxnSpPr>
            <p:nvPr/>
          </p:nvCxnSpPr>
          <p:spPr>
            <a:xfrm flipH="1" rot="16200000">
              <a:off x="3161160" y="4966920"/>
              <a:ext cx="786600" cy="12438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6" idx="0"/>
              <a:endCxn id="131" idx="2"/>
            </p:cNvCxnSpPr>
            <p:nvPr/>
          </p:nvCxnSpPr>
          <p:spPr>
            <a:xfrm flipH="1" flipV="1" rot="5400000">
              <a:off x="3314160" y="3771360"/>
              <a:ext cx="481680" cy="12438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4" idx="0"/>
              <a:endCxn id="131" idx="4"/>
            </p:cNvCxnSpPr>
            <p:nvPr/>
          </p:nvCxnSpPr>
          <p:spPr>
            <a:xfrm flipV="1">
              <a:off x="4457520" y="4433040"/>
              <a:ext cx="1080" cy="126756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2" idx="7"/>
              <a:endCxn id="132" idx="5"/>
            </p:cNvCxnSpPr>
            <p:nvPr/>
          </p:nvCxnSpPr>
          <p:spPr>
            <a:xfrm flipH="1" rot="16200000">
              <a:off x="5891760" y="4912920"/>
              <a:ext cx="407160" cy="2160"/>
            </a:xfrm>
            <a:prstGeom prst="curvedConnector5">
              <a:avLst>
                <a:gd name="adj1" fmla="val -71858"/>
                <a:gd name="adj2" fmla="val 21540000"/>
                <a:gd name="adj3" fmla="val -71858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2666880" y="4648320"/>
              <a:ext cx="53352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91120" y="3886200"/>
              <a:ext cx="53316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38680" y="4648320"/>
              <a:ext cx="53352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1120" y="5715000"/>
              <a:ext cx="53316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361960" y="3733920"/>
            <a:ext cx="4268160" cy="1983600"/>
            <a:chOff x="2361960" y="3733920"/>
            <a:chExt cx="4268160" cy="1983600"/>
          </a:xfrm>
        </p:grpSpPr>
        <p:sp>
          <p:nvSpPr>
            <p:cNvPr id="141" name=""/>
            <p:cNvSpPr/>
            <p:nvPr/>
          </p:nvSpPr>
          <p:spPr>
            <a:xfrm>
              <a:off x="4723920" y="37339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1960" y="41911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1960" y="51814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5840" y="525780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560" y="39625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57440" y="51055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lding Ti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olding time is the time spent in a state before an event occ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ing times are positive random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iscrete or continu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ing times are governed by exponential dis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35053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800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51055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37339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3200400"/>
            <a:ext cx="8153280" cy="3126600"/>
            <a:chOff x="685800" y="3200400"/>
            <a:chExt cx="8153280" cy="3126600"/>
          </a:xfrm>
        </p:grpSpPr>
        <p:grpSp>
          <p:nvGrpSpPr>
            <p:cNvPr id="155" name=""/>
            <p:cNvGrpSpPr/>
            <p:nvPr/>
          </p:nvGrpSpPr>
          <p:grpSpPr>
            <a:xfrm>
              <a:off x="685800" y="3200400"/>
              <a:ext cx="4391280" cy="3126600"/>
              <a:chOff x="685800" y="3200400"/>
              <a:chExt cx="4391280" cy="3126600"/>
            </a:xfrm>
          </p:grpSpPr>
          <p:cxnSp>
            <p:nvCxnSpPr>
              <p:cNvPr id="156" name=""/>
              <p:cNvCxnSpPr>
                <a:stCxn id="157" idx="0"/>
                <a:endCxn id="158" idx="0"/>
              </p:cNvCxnSpPr>
              <p:nvPr/>
            </p:nvCxnSpPr>
            <p:spPr>
              <a:xfrm>
                <a:off x="3671640" y="3847680"/>
                <a:ext cx="558000" cy="7102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9" name=""/>
              <p:cNvCxnSpPr>
                <a:stCxn id="160" idx="0"/>
                <a:endCxn id="161" idx="6"/>
              </p:cNvCxnSpPr>
              <p:nvPr/>
            </p:nvCxnSpPr>
            <p:spPr>
              <a:xfrm rot="5400000">
                <a:off x="3518640" y="5271840"/>
                <a:ext cx="253080" cy="11674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2" name=""/>
              <p:cNvCxnSpPr>
                <a:stCxn id="163" idx="0"/>
                <a:endCxn id="161" idx="2"/>
              </p:cNvCxnSpPr>
              <p:nvPr/>
            </p:nvCxnSpPr>
            <p:spPr>
              <a:xfrm>
                <a:off x="1842840" y="4914720"/>
                <a:ext cx="658080" cy="1067400"/>
              </a:xfrm>
              <a:prstGeom prst="curvedConnector5">
                <a:avLst>
                  <a:gd name="adj1" fmla="val 49972"/>
                  <a:gd name="adj2" fmla="val 50000"/>
                  <a:gd name="adj3" fmla="val 49972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4" name=""/>
              <p:cNvCxnSpPr>
                <a:stCxn id="163" idx="1"/>
                <a:endCxn id="165" idx="2"/>
              </p:cNvCxnSpPr>
              <p:nvPr/>
            </p:nvCxnSpPr>
            <p:spPr>
              <a:xfrm flipV="1">
                <a:off x="1842840" y="3847680"/>
                <a:ext cx="658080" cy="1067760"/>
              </a:xfrm>
              <a:prstGeom prst="curvedConnector5">
                <a:avLst>
                  <a:gd name="adj1" fmla="val 49972"/>
                  <a:gd name="adj2" fmla="val 49983"/>
                  <a:gd name="adj3" fmla="val 49972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>
                <a:stCxn id="167" idx="0"/>
                <a:endCxn id="165" idx="4"/>
              </p:cNvCxnSpPr>
              <p:nvPr/>
            </p:nvCxnSpPr>
            <p:spPr>
              <a:xfrm flipV="1">
                <a:off x="2781000" y="4128840"/>
                <a:ext cx="1080" cy="96264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>
                <a:stCxn id="160" idx="1"/>
                <a:endCxn id="158" idx="6"/>
              </p:cNvCxnSpPr>
              <p:nvPr/>
            </p:nvCxnSpPr>
            <p:spPr>
              <a:xfrm flipH="1" flipV="1" rot="5400000">
                <a:off x="3922920" y="5142960"/>
                <a:ext cx="891360" cy="281880"/>
              </a:xfrm>
              <a:prstGeom prst="curvedConnector5">
                <a:avLst>
                  <a:gd name="adj1" fmla="val -21010"/>
                  <a:gd name="adj2" fmla="val 150767"/>
                  <a:gd name="adj3" fmla="val -2101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9" name=""/>
              <p:cNvSpPr/>
              <p:nvPr/>
            </p:nvSpPr>
            <p:spPr>
              <a:xfrm>
                <a:off x="1599840" y="40384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99840" y="53341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57240" y="34290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742840" y="46483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43040" y="58672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80920" y="58672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685800" y="4267080"/>
                <a:ext cx="1143000" cy="914400"/>
                <a:chOff x="685800" y="4267080"/>
                <a:chExt cx="1143000" cy="91440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685800" y="4648320"/>
                  <a:ext cx="1143000" cy="533160"/>
                  <a:chOff x="685800" y="4648320"/>
                  <a:chExt cx="1143000" cy="53316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1143000" y="4800600"/>
                    <a:ext cx="685800" cy="228600"/>
                  </a:xfrm>
                  <a:prstGeom prst="rightArrow">
                    <a:avLst>
                      <a:gd name="adj1" fmla="val 50000"/>
                      <a:gd name="adj2" fmla="val 7500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85800" y="4648320"/>
                    <a:ext cx="533520" cy="533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1295280" y="4267080"/>
                  <a:ext cx="457200" cy="457200"/>
                  <a:chOff x="1295280" y="4267080"/>
                  <a:chExt cx="457200" cy="4572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295280" y="4343400"/>
                    <a:ext cx="3808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0">
                        <a:moveTo>
                          <a:pt x="0" y="0"/>
                        </a:moveTo>
                        <a:cubicBezTo>
                          <a:pt x="8" y="56"/>
                          <a:pt x="16" y="112"/>
                          <a:pt x="48" y="144"/>
                        </a:cubicBezTo>
                        <a:cubicBezTo>
                          <a:pt x="80" y="176"/>
                          <a:pt x="152" y="200"/>
                          <a:pt x="1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V="1">
                    <a:off x="1295280" y="42670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295280" y="47242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2514600" y="3200400"/>
                <a:ext cx="1143000" cy="914400"/>
                <a:chOff x="2514600" y="3200400"/>
                <a:chExt cx="1143000" cy="91440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2514600" y="3581280"/>
                  <a:ext cx="1143000" cy="533520"/>
                  <a:chOff x="2514600" y="3581280"/>
                  <a:chExt cx="1143000" cy="5335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2971800" y="3733560"/>
                    <a:ext cx="685800" cy="228600"/>
                  </a:xfrm>
                  <a:prstGeom prst="rightArrow">
                    <a:avLst>
                      <a:gd name="adj1" fmla="val 50000"/>
                      <a:gd name="adj2" fmla="val 7500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514600" y="3581280"/>
                    <a:ext cx="533160" cy="533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3124080" y="3200400"/>
                  <a:ext cx="457200" cy="457200"/>
                  <a:chOff x="3124080" y="3200400"/>
                  <a:chExt cx="457200" cy="4572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124080" y="3276720"/>
                    <a:ext cx="3808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0">
                        <a:moveTo>
                          <a:pt x="0" y="0"/>
                        </a:moveTo>
                        <a:cubicBezTo>
                          <a:pt x="8" y="56"/>
                          <a:pt x="16" y="112"/>
                          <a:pt x="48" y="144"/>
                        </a:cubicBezTo>
                        <a:cubicBezTo>
                          <a:pt x="80" y="176"/>
                          <a:pt x="152" y="200"/>
                          <a:pt x="1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V="1">
                    <a:off x="3124080" y="320040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124080" y="365760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2514600" y="5105520"/>
                <a:ext cx="914400" cy="1143000"/>
                <a:chOff x="2514600" y="5105520"/>
                <a:chExt cx="914400" cy="114300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2514600" y="5105520"/>
                  <a:ext cx="533160" cy="1143000"/>
                  <a:chOff x="2514600" y="5105520"/>
                  <a:chExt cx="533160" cy="11430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2666880" y="5105520"/>
                    <a:ext cx="228600" cy="685800"/>
                  </a:xfrm>
                  <a:prstGeom prst="upArrow">
                    <a:avLst>
                      <a:gd name="adj1" fmla="val 50000"/>
                      <a:gd name="adj2" fmla="val 7500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514600" y="5715000"/>
                    <a:ext cx="533160" cy="533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2971800" y="5181480"/>
                  <a:ext cx="457200" cy="457200"/>
                  <a:chOff x="2971800" y="5181480"/>
                  <a:chExt cx="457200" cy="457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2971800" y="5257800"/>
                    <a:ext cx="3808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0">
                        <a:moveTo>
                          <a:pt x="0" y="0"/>
                        </a:moveTo>
                        <a:cubicBezTo>
                          <a:pt x="8" y="56"/>
                          <a:pt x="16" y="112"/>
                          <a:pt x="48" y="144"/>
                        </a:cubicBezTo>
                        <a:cubicBezTo>
                          <a:pt x="80" y="176"/>
                          <a:pt x="152" y="200"/>
                          <a:pt x="1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V="1">
                    <a:off x="2971800" y="51814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971800" y="56386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3962160" y="4572000"/>
                <a:ext cx="914400" cy="1143000"/>
                <a:chOff x="3962160" y="4572000"/>
                <a:chExt cx="914400" cy="114300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3962160" y="4572000"/>
                  <a:ext cx="533520" cy="1143000"/>
                  <a:chOff x="3962160" y="4572000"/>
                  <a:chExt cx="533520" cy="11430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4114800" y="5029200"/>
                    <a:ext cx="228600" cy="685800"/>
                  </a:xfrm>
                  <a:prstGeom prst="downArrow">
                    <a:avLst>
                      <a:gd name="adj1" fmla="val 50000"/>
                      <a:gd name="adj2" fmla="val 7500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962160" y="4572000"/>
                    <a:ext cx="533520" cy="533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4419360" y="5105520"/>
                  <a:ext cx="457200" cy="457200"/>
                  <a:chOff x="4419360" y="5105520"/>
                  <a:chExt cx="457200" cy="457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419360" y="5181840"/>
                    <a:ext cx="3808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0">
                        <a:moveTo>
                          <a:pt x="0" y="0"/>
                        </a:moveTo>
                        <a:cubicBezTo>
                          <a:pt x="8" y="56"/>
                          <a:pt x="16" y="112"/>
                          <a:pt x="48" y="144"/>
                        </a:cubicBezTo>
                        <a:cubicBezTo>
                          <a:pt x="80" y="176"/>
                          <a:pt x="152" y="200"/>
                          <a:pt x="1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>
                    <a:off x="4419360" y="51055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419360" y="556272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" name=""/>
            <p:cNvGrpSpPr/>
            <p:nvPr/>
          </p:nvGrpSpPr>
          <p:grpSpPr>
            <a:xfrm>
              <a:off x="5257800" y="3200400"/>
              <a:ext cx="3581280" cy="2364840"/>
              <a:chOff x="5257800" y="3200400"/>
              <a:chExt cx="3581280" cy="236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5637600" y="3200400"/>
                <a:ext cx="3201480" cy="1828800"/>
                <a:chOff x="5637600" y="3200400"/>
                <a:chExt cx="3201480" cy="18288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019920" y="5029200"/>
                  <a:ext cx="281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6019920" y="320040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37600" y="3352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37600" y="37335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637600" y="411480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637600" y="457200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 rot="16200000">
                <a:off x="5032080" y="38660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St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91200" y="5105520"/>
                <a:ext cx="88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0" name="an02542_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211" name="an02542_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4572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12" name=""/>
          <p:cNvCxnSpPr>
            <a:stCxn id="151" idx="0"/>
            <a:endCxn id="161" idx="2"/>
          </p:cNvCxnSpPr>
          <p:nvPr/>
        </p:nvCxnSpPr>
        <p:spPr>
          <a:xfrm>
            <a:off x="1842840" y="4914720"/>
            <a:ext cx="657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6019920" y="48006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696080" y="38098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35053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ous-tim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ov Chain (CTM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7" name="an02542_" descr=""/>
          <p:cNvPicPr/>
          <p:nvPr/>
        </p:nvPicPr>
        <p:blipFill>
          <a:blip r:embed="rId3"/>
          <a:stretch/>
        </p:blipFill>
        <p:spPr>
          <a:xfrm>
            <a:off x="2514600" y="3581280"/>
            <a:ext cx="4572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18" name=""/>
          <p:cNvCxnSpPr>
            <a:stCxn id="152" idx="0"/>
            <a:endCxn id="165" idx="4"/>
          </p:cNvCxnSpPr>
          <p:nvPr/>
        </p:nvCxnSpPr>
        <p:spPr>
          <a:xfrm flipV="1">
            <a:off x="2781000" y="4128840"/>
            <a:ext cx="1080" cy="96264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6705720" y="35053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n02542_" descr=""/>
          <p:cNvPicPr/>
          <p:nvPr/>
        </p:nvPicPr>
        <p:blipFill>
          <a:blip r:embed="rId4"/>
          <a:stretch/>
        </p:blipFill>
        <p:spPr>
          <a:xfrm>
            <a:off x="3948120" y="4610160"/>
            <a:ext cx="4572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21" name=""/>
          <p:cNvCxnSpPr>
            <a:stCxn id="157" idx="1"/>
            <a:endCxn id="158" idx="0"/>
          </p:cNvCxnSpPr>
          <p:nvPr/>
        </p:nvCxnSpPr>
        <p:spPr>
          <a:xfrm>
            <a:off x="3672000" y="3847680"/>
            <a:ext cx="558000" cy="71028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086600" y="426708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96080" y="3809880"/>
            <a:ext cx="990720" cy="0"/>
            <a:chOff x="7696080" y="3809880"/>
            <a:chExt cx="990720" cy="0"/>
          </a:xfrm>
        </p:grpSpPr>
        <p:sp>
          <p:nvSpPr>
            <p:cNvPr id="224" name=""/>
            <p:cNvSpPr/>
            <p:nvPr/>
          </p:nvSpPr>
          <p:spPr>
            <a:xfrm>
              <a:off x="7696080" y="380988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58200" y="38098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18:53:22Z</dcterms:created>
  <dc:creator>Hakan L. Younes</dc:creator>
  <dc:description/>
  <dc:language>en-US</dc:language>
  <cp:lastModifiedBy>Hakan L. Younes</cp:lastModifiedBy>
  <dcterms:modified xsi:type="dcterms:W3CDTF">2002-02-26T15:12:02Z</dcterms:modified>
  <cp:revision>34</cp:revision>
  <dc:subject/>
  <dc:title>Probabilistic Verification of Discrete Event Systems</dc:title>
</cp:coreProperties>
</file>