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0022-5336-4221-86D5-B780A9806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BDD5-751D-4746-8EAF-62C5BBB7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F249-4E97-4761-8D7A-89D6F7DE1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57F2-A1D7-4ECC-9C9B-560E8FEB2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751C-41B9-43E2-8D0C-84065C544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05FE-4F70-4980-9DD1-888E80863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72CA-5EB1-494A-B279-A8BD6B65A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33CE-93EC-47D2-8D13-22015CDAA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2DB9-5E4D-4C4F-ACBA-70FBF1CF1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F8BB-E40C-413F-980C-446B8C699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094D-1A22-4B60-AEC3-C0D4C193E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F17D-7649-45F3-86DD-5C88541F1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B0F1-08DA-4FD1-8232-58A370EE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celogo2" descr=""/>
          <p:cNvPicPr/>
          <p:nvPr/>
        </p:nvPicPr>
        <p:blipFill>
          <a:blip r:embed="rId2"/>
          <a:stretch/>
        </p:blipFill>
        <p:spPr>
          <a:xfrm>
            <a:off x="92160" y="6210360"/>
            <a:ext cx="2295360" cy="514440"/>
          </a:xfrm>
          <a:prstGeom prst="rect">
            <a:avLst/>
          </a:prstGeom>
          <a:ln w="0">
            <a:noFill/>
          </a:ln>
        </p:spPr>
      </p:pic>
      <p:pic>
        <p:nvPicPr>
          <p:cNvPr id="5" name="cmuredwhite" descr=""/>
          <p:cNvPicPr/>
          <p:nvPr/>
        </p:nvPicPr>
        <p:blipFill>
          <a:blip r:embed="rId3"/>
          <a:stretch/>
        </p:blipFill>
        <p:spPr>
          <a:xfrm>
            <a:off x="7534440" y="33480"/>
            <a:ext cx="9810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achability, Schedulability and Optim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720" y="32004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sgar Feh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3320" y="46116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Ju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168640" y="263520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bolic semantics of Linearly Priced Timed Autom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45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35200" y="2238480"/>
            <a:ext cx="4313160" cy="2412360"/>
            <a:chOff x="2635200" y="2238480"/>
            <a:chExt cx="4313160" cy="2412360"/>
          </a:xfrm>
        </p:grpSpPr>
        <p:sp>
          <p:nvSpPr>
            <p:cNvPr id="363" name=""/>
            <p:cNvSpPr/>
            <p:nvPr/>
          </p:nvSpPr>
          <p:spPr>
            <a:xfrm>
              <a:off x="5030640" y="2238480"/>
              <a:ext cx="1917720" cy="1649160"/>
            </a:xfrm>
            <a:custGeom>
              <a:avLst/>
              <a:gdLst/>
              <a:ahLst/>
              <a:rect l="l" t="t" r="r" b="b"/>
              <a:pathLst>
                <a:path w="1208" h="1039">
                  <a:moveTo>
                    <a:pt x="697" y="0"/>
                  </a:moveTo>
                  <a:lnTo>
                    <a:pt x="0" y="698"/>
                  </a:lnTo>
                  <a:lnTo>
                    <a:pt x="0" y="1039"/>
                  </a:lnTo>
                  <a:lnTo>
                    <a:pt x="332" y="1039"/>
                  </a:lnTo>
                  <a:lnTo>
                    <a:pt x="1208" y="163"/>
                  </a:lnTo>
                </a:path>
              </a:pathLst>
            </a:custGeom>
            <a:solidFill>
              <a:srgbClr val="b2b2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5200" y="3733920"/>
              <a:ext cx="142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-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7360" y="330660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7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390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81080" y="3306600"/>
            <a:ext cx="4114440" cy="2713320"/>
            <a:chOff x="1981080" y="3306600"/>
            <a:chExt cx="4114440" cy="2713320"/>
          </a:xfrm>
        </p:grpSpPr>
        <p:sp>
          <p:nvSpPr>
            <p:cNvPr id="393" name=""/>
            <p:cNvSpPr/>
            <p:nvPr/>
          </p:nvSpPr>
          <p:spPr>
            <a:xfrm>
              <a:off x="2780640" y="380988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52680" y="3352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8080" y="33066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rese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28840" y="441972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30120" y="1332000"/>
            <a:ext cx="60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linear cost function on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0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52480" y="4800600"/>
            <a:ext cx="6030360" cy="855720"/>
            <a:chOff x="1752480" y="4800600"/>
            <a:chExt cx="6030360" cy="855720"/>
          </a:xfrm>
        </p:grpSpPr>
        <p:sp>
          <p:nvSpPr>
            <p:cNvPr id="421" name=""/>
            <p:cNvSpPr/>
            <p:nvPr/>
          </p:nvSpPr>
          <p:spPr>
            <a:xfrm>
              <a:off x="175248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08000" y="5257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35440" y="4952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372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029200" y="2819520"/>
            <a:ext cx="1071720" cy="1071360"/>
          </a:xfrm>
          <a:custGeom>
            <a:avLst/>
            <a:gdLst/>
            <a:ahLst/>
            <a:rect l="l" t="t" r="r" b="b"/>
            <a:pathLst>
              <a:path w="675" h="675">
                <a:moveTo>
                  <a:pt x="0" y="675"/>
                </a:moveTo>
                <a:lnTo>
                  <a:pt x="332" y="675"/>
                </a:lnTo>
                <a:lnTo>
                  <a:pt x="675" y="340"/>
                </a:lnTo>
                <a:lnTo>
                  <a:pt x="673" y="1"/>
                </a:lnTo>
                <a:lnTo>
                  <a:pt x="327" y="0"/>
                </a:lnTo>
                <a:lnTo>
                  <a:pt x="0" y="334"/>
                </a:lnTo>
                <a:lnTo>
                  <a:pt x="0" y="675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057400" y="1980720"/>
            <a:ext cx="5357880" cy="2350080"/>
            <a:chOff x="2057400" y="1980720"/>
            <a:chExt cx="5357880" cy="2350080"/>
          </a:xfrm>
        </p:grpSpPr>
        <p:grpSp>
          <p:nvGrpSpPr>
            <p:cNvPr id="427" name=""/>
            <p:cNvGrpSpPr/>
            <p:nvPr/>
          </p:nvGrpSpPr>
          <p:grpSpPr>
            <a:xfrm>
              <a:off x="2057400" y="1980720"/>
              <a:ext cx="5357880" cy="2350080"/>
              <a:chOff x="2057400" y="1980720"/>
              <a:chExt cx="5357880" cy="2350080"/>
            </a:xfrm>
          </p:grpSpPr>
          <p:sp>
            <p:nvSpPr>
              <p:cNvPr id="428" name=""/>
              <p:cNvSpPr/>
              <p:nvPr/>
            </p:nvSpPr>
            <p:spPr>
              <a:xfrm>
                <a:off x="5022720" y="2016000"/>
                <a:ext cx="2392560" cy="1879560"/>
              </a:xfrm>
              <a:custGeom>
                <a:avLst/>
                <a:gdLst/>
                <a:ahLst/>
                <a:rect l="l" t="t" r="r" b="b"/>
                <a:pathLst>
                  <a:path w="1507" h="1184">
                    <a:moveTo>
                      <a:pt x="836" y="0"/>
                    </a:moveTo>
                    <a:lnTo>
                      <a:pt x="0" y="837"/>
                    </a:lnTo>
                    <a:lnTo>
                      <a:pt x="0" y="1184"/>
                    </a:lnTo>
                    <a:lnTo>
                      <a:pt x="339" y="1184"/>
                    </a:lnTo>
                    <a:lnTo>
                      <a:pt x="1507" y="16"/>
                    </a:lnTo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095880" y="1980720"/>
                <a:ext cx="838440" cy="83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7400" y="3962520"/>
                <a:ext cx="209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 - 1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57400" y="3321000"/>
                <a:ext cx="211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’ -1 x + 3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14280" y="3657600"/>
                <a:ext cx="196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+ 0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00400" y="27432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20480" y="28195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0000"/>
                    </a:solidFill>
                    <a:latin typeface="Tahoma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5627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440" y="2827440"/>
              <a:ext cx="1440" cy="527040"/>
            </a:xfrm>
            <a:custGeom>
              <a:avLst/>
              <a:gdLst/>
              <a:ahLst/>
              <a:rect l="l" t="t" r="r" b="b"/>
              <a:pathLst>
                <a:path w="1" h="332">
                  <a:moveTo>
                    <a:pt x="0" y="0"/>
                  </a:moveTo>
                  <a:lnTo>
                    <a:pt x="0" y="3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715000" y="2133360"/>
            <a:ext cx="691560" cy="673200"/>
            <a:chOff x="5715000" y="2133360"/>
            <a:chExt cx="691560" cy="673200"/>
          </a:xfrm>
        </p:grpSpPr>
        <p:sp>
          <p:nvSpPr>
            <p:cNvPr id="442" name=""/>
            <p:cNvSpPr/>
            <p:nvPr/>
          </p:nvSpPr>
          <p:spPr>
            <a:xfrm flipV="1">
              <a:off x="6324480" y="21333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8600" y="24382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15000" y="27432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4800" y="220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094800" y="2666880"/>
            <a:ext cx="610920" cy="596880"/>
            <a:chOff x="6094800" y="2666880"/>
            <a:chExt cx="610920" cy="596880"/>
          </a:xfrm>
        </p:grpSpPr>
        <p:sp>
          <p:nvSpPr>
            <p:cNvPr id="447" name=""/>
            <p:cNvSpPr/>
            <p:nvPr/>
          </p:nvSpPr>
          <p:spPr>
            <a:xfrm flipV="1">
              <a:off x="6172200" y="28191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4800" y="2895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23400" y="266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57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473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981080" y="2819520"/>
            <a:ext cx="4119840" cy="3200400"/>
            <a:chOff x="1981080" y="2819520"/>
            <a:chExt cx="4119840" cy="3200400"/>
          </a:xfrm>
        </p:grpSpPr>
        <p:sp>
          <p:nvSpPr>
            <p:cNvPr id="481" name=""/>
            <p:cNvSpPr/>
            <p:nvPr/>
          </p:nvSpPr>
          <p:spPr>
            <a:xfrm>
              <a:off x="5562720" y="441972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981080" y="2819520"/>
              <a:ext cx="4119840" cy="3200400"/>
              <a:chOff x="1981080" y="2819520"/>
              <a:chExt cx="4119840" cy="32004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981080" y="2819520"/>
                <a:ext cx="4038840" cy="3200400"/>
                <a:chOff x="1981080" y="2819520"/>
                <a:chExt cx="4038840" cy="3200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048120" y="2819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143160" y="2819520"/>
                  <a:ext cx="988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00"/>
                      </a:solidFill>
                      <a:latin typeface="Tahoma"/>
                    </a:rPr>
                    <a:t>reset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5029200" y="44197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981080" y="5410080"/>
                  <a:ext cx="563760" cy="60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120" rIns="8712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25780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9132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105520" y="47242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032800" y="4419720"/>
                  <a:ext cx="384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638680" y="47242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637600" y="44197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209680" y="3886200"/>
                  <a:ext cx="16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’+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209680" y="3505320"/>
                  <a:ext cx="157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 -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5029200" y="3886200"/>
                <a:ext cx="5335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62720" y="3344760"/>
                <a:ext cx="538200" cy="541440"/>
              </a:xfrm>
              <a:custGeom>
                <a:avLst/>
                <a:gdLst/>
                <a:ahLst/>
                <a:rect l="l" t="t" r="r" b="b"/>
                <a:pathLst>
                  <a:path w="339" h="341">
                    <a:moveTo>
                      <a:pt x="0" y="341"/>
                    </a:moveTo>
                    <a:lnTo>
                      <a:pt x="339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ate-Space Explora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764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-Space Exploration + Use of global vari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ever goal stat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( C 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83200" y="3581280"/>
            <a:ext cx="29196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796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3212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3212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5440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2424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5440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7668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690640" y="434304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20800" y="457200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3240" y="403812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73240" y="434340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3240" y="48769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972880" y="441972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5304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2880" y="47242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98520" y="449568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7668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465360" y="42670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90720" y="3967200"/>
            <a:ext cx="15552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4560" y="380988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05040" y="380988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27320" y="36576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887640" y="40384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7640" y="419112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7640" y="47242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7640" y="48769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887640" y="380952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9760" y="36576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60920" y="3505320"/>
            <a:ext cx="36360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49600" y="3886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1944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797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076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188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8320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2040" y="3352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188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22880" y="39625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9416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0960" y="4495680"/>
            <a:ext cx="267192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5840" y="464832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30360" y="434340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46000" y="518148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550960" y="4495680"/>
            <a:ext cx="4651920" cy="1079640"/>
            <a:chOff x="2550960" y="4495680"/>
            <a:chExt cx="4651920" cy="1079640"/>
          </a:xfrm>
        </p:grpSpPr>
        <p:sp>
          <p:nvSpPr>
            <p:cNvPr id="546" name=""/>
            <p:cNvSpPr/>
            <p:nvPr/>
          </p:nvSpPr>
          <p:spPr>
            <a:xfrm>
              <a:off x="2550960" y="4495680"/>
              <a:ext cx="2671920" cy="762120"/>
            </a:xfrm>
            <a:custGeom>
              <a:avLst/>
              <a:gdLst/>
              <a:ahLst/>
              <a:rect l="l" t="t" r="r" b="b"/>
              <a:pathLst>
                <a:path w="1824" h="480">
                  <a:moveTo>
                    <a:pt x="0" y="0"/>
                  </a:moveTo>
                  <a:lnTo>
                    <a:pt x="288" y="240"/>
                  </a:lnTo>
                  <a:lnTo>
                    <a:pt x="576" y="240"/>
                  </a:lnTo>
                  <a:lnTo>
                    <a:pt x="816" y="240"/>
                  </a:lnTo>
                  <a:lnTo>
                    <a:pt x="1152" y="336"/>
                  </a:lnTo>
                  <a:lnTo>
                    <a:pt x="1392" y="96"/>
                  </a:lnTo>
                  <a:lnTo>
                    <a:pt x="1536" y="480"/>
                  </a:lnTo>
                  <a:lnTo>
                    <a:pt x="1776" y="432"/>
                  </a:lnTo>
                  <a:lnTo>
                    <a:pt x="1824" y="4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60520" y="5181480"/>
              <a:ext cx="1242360" cy="3938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st=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175040" y="3429000"/>
            <a:ext cx="1166400" cy="4546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0880" y="1295280"/>
            <a:ext cx="861084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55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63600" y="18288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6576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4495680"/>
            <a:ext cx="2895480" cy="990720"/>
          </a:xfrm>
          <a:prstGeom prst="wedgeRectCallout">
            <a:avLst>
              <a:gd name="adj1" fmla="val -31578"/>
              <a:gd name="adj2" fmla="val -8621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: symbolic operations Delay, Conjun-ction, and Reset of cl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68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7360" y="2971800"/>
            <a:ext cx="83692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514760" y="33195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345280" y="3581280"/>
            <a:ext cx="28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80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400800" y="1143000"/>
            <a:ext cx="2514600" cy="1371600"/>
            <a:chOff x="6400800" y="1143000"/>
            <a:chExt cx="2514600" cy="1371600"/>
          </a:xfrm>
        </p:grpSpPr>
        <p:sp>
          <p:nvSpPr>
            <p:cNvPr id="586" name=""/>
            <p:cNvSpPr/>
            <p:nvPr/>
          </p:nvSpPr>
          <p:spPr>
            <a:xfrm>
              <a:off x="6400800" y="1143000"/>
              <a:ext cx="2514600" cy="1371600"/>
            </a:xfrm>
            <a:prstGeom prst="wedgeRoundRectCallout">
              <a:avLst>
                <a:gd name="adj1" fmla="val -83902"/>
                <a:gd name="adj2" fmla="val 79513"/>
                <a:gd name="adj3" fmla="val 16667"/>
              </a:avLst>
            </a:prstGeom>
            <a:solidFill>
              <a:srgbClr val="bfd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Tahoma"/>
                </a:rPr>
                <a:t>C     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’ 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is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bigger &amp; cheaper than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7543800" y="1295280"/>
              <a:ext cx="210960" cy="228600"/>
              <a:chOff x="7543800" y="1295280"/>
              <a:chExt cx="210960" cy="228600"/>
            </a:xfrm>
          </p:grpSpPr>
          <p:sp>
            <p:nvSpPr>
              <p:cNvPr id="588" name=""/>
              <p:cNvSpPr/>
              <p:nvPr/>
            </p:nvSpPr>
            <p:spPr>
              <a:xfrm>
                <a:off x="7543800" y="12952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43800" y="144756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43800" y="1523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43800" y="12952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791320" y="4419720"/>
            <a:ext cx="2438280" cy="1600200"/>
            <a:chOff x="5791320" y="4419720"/>
            <a:chExt cx="2438280" cy="1600200"/>
          </a:xfrm>
        </p:grpSpPr>
        <p:sp>
          <p:nvSpPr>
            <p:cNvPr id="594" name=""/>
            <p:cNvSpPr/>
            <p:nvPr/>
          </p:nvSpPr>
          <p:spPr>
            <a:xfrm>
              <a:off x="5791320" y="4419720"/>
              <a:ext cx="2438280" cy="1600200"/>
            </a:xfrm>
            <a:prstGeom prst="wedgeRoundRectCallout">
              <a:avLst>
                <a:gd name="adj1" fmla="val -61652"/>
                <a:gd name="adj2" fmla="val -116865"/>
                <a:gd name="adj3" fmla="val 16667"/>
              </a:avLst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is a </a:t>
              </a:r>
              <a:r>
                <a:rPr b="1" lang="da-DK" sz="1600" spc="-1" strike="noStrike">
                  <a:solidFill>
                    <a:srgbClr val="00ff00"/>
                  </a:solidFill>
                  <a:latin typeface="Tahoma"/>
                </a:rPr>
                <a:t>well-quasi ordering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which guarantees </a:t>
              </a:r>
              <a:r>
                <a:rPr b="1" lang="da-DK" sz="1600" spc="-1" strike="noStrike">
                  <a:solidFill>
                    <a:srgbClr val="ff0000"/>
                  </a:solidFill>
                  <a:latin typeface="Tahoma"/>
                </a:rPr>
                <a:t>termination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6172200" y="4800600"/>
              <a:ext cx="210960" cy="228600"/>
              <a:chOff x="6172200" y="4800600"/>
              <a:chExt cx="210960" cy="22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6172200" y="48006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72200" y="4952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72200" y="50292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72200" y="480060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1040" y="1644480"/>
            <a:ext cx="538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imed automata a la Upp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Reachability to Schedu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region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erification vs.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uiding and B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52440" y="43434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2280" y="25146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607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54160" y="5410080"/>
            <a:ext cx="8524800" cy="901800"/>
            <a:chOff x="254160" y="5410080"/>
            <a:chExt cx="8524800" cy="901800"/>
          </a:xfrm>
        </p:grpSpPr>
        <p:sp>
          <p:nvSpPr>
            <p:cNvPr id="613" name=""/>
            <p:cNvSpPr/>
            <p:nvPr/>
          </p:nvSpPr>
          <p:spPr>
            <a:xfrm>
              <a:off x="254160" y="5410080"/>
              <a:ext cx="17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or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76520" y="5486400"/>
              <a:ext cx="710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hen the algorithm terminates, the value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OST</a:t>
              </a: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qual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nco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36440" y="318456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fficient Reachability of LP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018640" y="4952880"/>
            <a:ext cx="21096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132" y="132"/>
                  <a:pt x="120" y="264"/>
                  <a:pt x="96" y="384"/>
                </a:cubicBezTo>
                <a:cubicBezTo>
                  <a:pt x="72" y="504"/>
                  <a:pt x="36" y="612"/>
                  <a:pt x="0" y="72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9041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Verification vs. Optim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443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s a logical property for the entire state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t blind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timiz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s (near) optimal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techniques to avoid non-optimal parts of the state-space (e.g. Branch and B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the gap between these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techniques and applications in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64120" y="2590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9292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3404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042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7408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452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9736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973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898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19640" y="5181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192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56240" y="4724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4952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838840" y="4419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38840" y="4724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38840" y="5257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838480" y="4800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018640" y="5486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8848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64120" y="4876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41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330960" y="4647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56320" y="4348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48360" y="4191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70640" y="4191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92920" y="4038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753240" y="4419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53240" y="4572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753240" y="5105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5324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753240" y="4190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85040" y="4876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16560" y="4876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45360" y="5486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78520" y="4343400"/>
            <a:ext cx="141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23080" y="42670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962760" y="4572000"/>
            <a:ext cx="71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23080" y="49528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45360" y="4648320"/>
            <a:ext cx="280800" cy="12952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cubicBezTo>
                  <a:pt x="184" y="148"/>
                  <a:pt x="176" y="296"/>
                  <a:pt x="144" y="432"/>
                </a:cubicBezTo>
                <a:cubicBezTo>
                  <a:pt x="112" y="568"/>
                  <a:pt x="24" y="760"/>
                  <a:pt x="0" y="81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43880" y="4800600"/>
            <a:ext cx="233280" cy="1257480"/>
          </a:xfrm>
          <a:custGeom>
            <a:avLst/>
            <a:gdLst/>
            <a:ahLst/>
            <a:rect l="l" t="t" r="r" b="b"/>
            <a:pathLst>
              <a:path w="160" h="792">
                <a:moveTo>
                  <a:pt x="160" y="0"/>
                </a:moveTo>
                <a:cubicBezTo>
                  <a:pt x="148" y="108"/>
                  <a:pt x="136" y="216"/>
                  <a:pt x="112" y="336"/>
                </a:cubicBezTo>
                <a:cubicBezTo>
                  <a:pt x="88" y="456"/>
                  <a:pt x="32" y="648"/>
                  <a:pt x="16" y="720"/>
                </a:cubicBezTo>
                <a:cubicBezTo>
                  <a:pt x="0" y="792"/>
                  <a:pt x="8" y="780"/>
                  <a:pt x="16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16560" y="2590920"/>
            <a:ext cx="2671920" cy="53316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281080" y="27432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211240" y="54864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520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9636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374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4844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67640" y="3733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88480" y="4343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374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597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61960" y="1523880"/>
            <a:ext cx="219204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side reach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69600" y="3733920"/>
            <a:ext cx="319176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 time of reaching safe si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33240" y="1447560"/>
            <a:ext cx="44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algorithm finds the minimum cost t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dth or Depth-first search-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arches the entire state-spa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imum-Cost Search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lways explore state with smallest minimum cos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9292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34040" y="2057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04240" y="2286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74080" y="1600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16560" y="2590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24440" y="49528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7544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75440" y="5257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9736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6756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97360" y="5334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19640" y="5257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133960" y="487656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64120" y="510552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16560" y="457164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16560" y="48769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16560" y="541008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416200" y="495288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96360" y="56386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257800"/>
            <a:ext cx="209520" cy="228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964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908680" y="4800240"/>
            <a:ext cx="281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33096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30960" y="541008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7064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176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819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53240" y="40384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92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62760" y="5029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3080" y="56386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7408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15200" y="4572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616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4536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15200" y="4952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4495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37480" y="4876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94280" y="5029200"/>
            <a:ext cx="267336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05240" y="4572000"/>
            <a:ext cx="233640" cy="1219320"/>
          </a:xfrm>
          <a:custGeom>
            <a:avLst/>
            <a:gdLst/>
            <a:ahLst/>
            <a:rect l="l" t="t" r="r" b="b"/>
            <a:pathLst>
              <a:path w="160" h="768">
                <a:moveTo>
                  <a:pt x="48" y="0"/>
                </a:moveTo>
                <a:cubicBezTo>
                  <a:pt x="44" y="8"/>
                  <a:pt x="40" y="16"/>
                  <a:pt x="48" y="48"/>
                </a:cubicBezTo>
                <a:cubicBezTo>
                  <a:pt x="56" y="80"/>
                  <a:pt x="80" y="112"/>
                  <a:pt x="96" y="192"/>
                </a:cubicBezTo>
                <a:cubicBezTo>
                  <a:pt x="112" y="272"/>
                  <a:pt x="160" y="432"/>
                  <a:pt x="144" y="528"/>
                </a:cubicBezTo>
                <a:cubicBezTo>
                  <a:pt x="128" y="624"/>
                  <a:pt x="64" y="696"/>
                  <a:pt x="0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4572000"/>
            <a:ext cx="550800" cy="1371600"/>
          </a:xfrm>
          <a:custGeom>
            <a:avLst/>
            <a:gdLst/>
            <a:ahLst/>
            <a:rect l="l" t="t" r="r" b="b"/>
            <a:pathLst>
              <a:path w="376" h="864">
                <a:moveTo>
                  <a:pt x="8" y="0"/>
                </a:moveTo>
                <a:cubicBezTo>
                  <a:pt x="4" y="52"/>
                  <a:pt x="0" y="104"/>
                  <a:pt x="56" y="192"/>
                </a:cubicBezTo>
                <a:cubicBezTo>
                  <a:pt x="112" y="280"/>
                  <a:pt x="312" y="416"/>
                  <a:pt x="344" y="528"/>
                </a:cubicBezTo>
                <a:cubicBezTo>
                  <a:pt x="376" y="640"/>
                  <a:pt x="312" y="752"/>
                  <a:pt x="248" y="86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45280" y="4572000"/>
            <a:ext cx="1031760" cy="1447920"/>
          </a:xfrm>
          <a:custGeom>
            <a:avLst/>
            <a:gdLst/>
            <a:ahLst/>
            <a:rect l="l" t="t" r="r" b="b"/>
            <a:pathLst>
              <a:path w="704" h="912">
                <a:moveTo>
                  <a:pt x="48" y="0"/>
                </a:moveTo>
                <a:cubicBezTo>
                  <a:pt x="24" y="56"/>
                  <a:pt x="0" y="112"/>
                  <a:pt x="96" y="192"/>
                </a:cubicBezTo>
                <a:cubicBezTo>
                  <a:pt x="192" y="272"/>
                  <a:pt x="544" y="360"/>
                  <a:pt x="624" y="480"/>
                </a:cubicBezTo>
                <a:cubicBezTo>
                  <a:pt x="704" y="600"/>
                  <a:pt x="640" y="756"/>
                  <a:pt x="576" y="9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43440" y="4343400"/>
            <a:ext cx="657360" cy="1676520"/>
          </a:xfrm>
          <a:custGeom>
            <a:avLst/>
            <a:gdLst/>
            <a:ahLst/>
            <a:rect l="l" t="t" r="r" b="b"/>
            <a:pathLst>
              <a:path w="448" h="1056">
                <a:moveTo>
                  <a:pt x="16" y="0"/>
                </a:moveTo>
                <a:cubicBezTo>
                  <a:pt x="8" y="16"/>
                  <a:pt x="0" y="32"/>
                  <a:pt x="16" y="96"/>
                </a:cubicBezTo>
                <a:cubicBezTo>
                  <a:pt x="32" y="160"/>
                  <a:pt x="48" y="296"/>
                  <a:pt x="112" y="384"/>
                </a:cubicBezTo>
                <a:cubicBezTo>
                  <a:pt x="176" y="472"/>
                  <a:pt x="352" y="512"/>
                  <a:pt x="400" y="624"/>
                </a:cubicBezTo>
                <a:cubicBezTo>
                  <a:pt x="448" y="736"/>
                  <a:pt x="424" y="896"/>
                  <a:pt x="400" y="105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26240" y="4330800"/>
            <a:ext cx="1395360" cy="1765080"/>
          </a:xfrm>
          <a:custGeom>
            <a:avLst/>
            <a:gdLst/>
            <a:ahLst/>
            <a:rect l="l" t="t" r="r" b="b"/>
            <a:pathLst>
              <a:path w="952" h="1112">
                <a:moveTo>
                  <a:pt x="8" y="8"/>
                </a:moveTo>
                <a:cubicBezTo>
                  <a:pt x="4" y="4"/>
                  <a:pt x="0" y="0"/>
                  <a:pt x="8" y="56"/>
                </a:cubicBezTo>
                <a:cubicBezTo>
                  <a:pt x="16" y="112"/>
                  <a:pt x="16" y="280"/>
                  <a:pt x="56" y="344"/>
                </a:cubicBezTo>
                <a:cubicBezTo>
                  <a:pt x="96" y="408"/>
                  <a:pt x="112" y="408"/>
                  <a:pt x="248" y="440"/>
                </a:cubicBezTo>
                <a:cubicBezTo>
                  <a:pt x="384" y="472"/>
                  <a:pt x="792" y="448"/>
                  <a:pt x="872" y="536"/>
                </a:cubicBezTo>
                <a:cubicBezTo>
                  <a:pt x="952" y="624"/>
                  <a:pt x="744" y="872"/>
                  <a:pt x="728" y="968"/>
                </a:cubicBezTo>
                <a:cubicBezTo>
                  <a:pt x="712" y="1064"/>
                  <a:pt x="744" y="1088"/>
                  <a:pt x="776" y="1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48520" y="4267080"/>
            <a:ext cx="996840" cy="1828800"/>
          </a:xfrm>
          <a:custGeom>
            <a:avLst/>
            <a:gdLst/>
            <a:ahLst/>
            <a:rect l="l" t="t" r="r" b="b"/>
            <a:pathLst>
              <a:path w="680" h="1152">
                <a:moveTo>
                  <a:pt x="8" y="0"/>
                </a:moveTo>
                <a:cubicBezTo>
                  <a:pt x="4" y="0"/>
                  <a:pt x="0" y="0"/>
                  <a:pt x="8" y="48"/>
                </a:cubicBezTo>
                <a:cubicBezTo>
                  <a:pt x="16" y="96"/>
                  <a:pt x="16" y="224"/>
                  <a:pt x="56" y="288"/>
                </a:cubicBezTo>
                <a:cubicBezTo>
                  <a:pt x="96" y="352"/>
                  <a:pt x="152" y="392"/>
                  <a:pt x="248" y="432"/>
                </a:cubicBezTo>
                <a:cubicBezTo>
                  <a:pt x="344" y="472"/>
                  <a:pt x="584" y="440"/>
                  <a:pt x="632" y="528"/>
                </a:cubicBezTo>
                <a:cubicBezTo>
                  <a:pt x="680" y="616"/>
                  <a:pt x="544" y="856"/>
                  <a:pt x="536" y="960"/>
                </a:cubicBezTo>
                <a:cubicBezTo>
                  <a:pt x="528" y="1064"/>
                  <a:pt x="556" y="1108"/>
                  <a:pt x="584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330960" y="4267080"/>
            <a:ext cx="1488960" cy="1828800"/>
          </a:xfrm>
          <a:custGeom>
            <a:avLst/>
            <a:gdLst/>
            <a:ahLst/>
            <a:rect l="l" t="t" r="r" b="b"/>
            <a:pathLst>
              <a:path w="1016" h="1152">
                <a:moveTo>
                  <a:pt x="0" y="0"/>
                </a:moveTo>
                <a:cubicBezTo>
                  <a:pt x="4" y="108"/>
                  <a:pt x="8" y="216"/>
                  <a:pt x="48" y="288"/>
                </a:cubicBezTo>
                <a:cubicBezTo>
                  <a:pt x="88" y="360"/>
                  <a:pt x="160" y="408"/>
                  <a:pt x="240" y="432"/>
                </a:cubicBezTo>
                <a:cubicBezTo>
                  <a:pt x="320" y="456"/>
                  <a:pt x="456" y="400"/>
                  <a:pt x="528" y="432"/>
                </a:cubicBezTo>
                <a:cubicBezTo>
                  <a:pt x="600" y="464"/>
                  <a:pt x="600" y="536"/>
                  <a:pt x="672" y="624"/>
                </a:cubicBezTo>
                <a:cubicBezTo>
                  <a:pt x="744" y="712"/>
                  <a:pt x="904" y="872"/>
                  <a:pt x="960" y="960"/>
                </a:cubicBezTo>
                <a:cubicBezTo>
                  <a:pt x="1016" y="1048"/>
                  <a:pt x="1012" y="1100"/>
                  <a:pt x="1008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44560" y="1447920"/>
            <a:ext cx="7454880" cy="761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found goal state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grows along all p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can terminate when first goal stat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Dijkstra’s shortest path algorith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algorithm: variabl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longer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a conservative estimate of the remaining cost can b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conservative estimate of remaining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exampl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time of slowest person on Unsafe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406520" y="3886200"/>
          <a:ext cx="34290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3886200"/>
                    <a:ext cx="3429000" cy="1941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3429000" y="5638680"/>
            <a:ext cx="548640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25 mins needed to complete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0344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states with smallest ( min(C) + REM( l, C ) )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547640" y="4343400"/>
            <a:ext cx="6400800" cy="1143000"/>
          </a:xfrm>
          <a:prstGeom prst="rect">
            <a:avLst/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Using Heur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users to control the search order according to heu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states extended to (l, C, h)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 is the priority of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 are annotated with assignments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Algorithm + Heuristic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with highest h is explor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251240" y="3206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7400" y="315432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41840" y="1828800"/>
            <a:ext cx="4191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Using Heurist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19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31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87680" y="2362320"/>
            <a:ext cx="5697360" cy="8254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schedule planes in the order of their preferred land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Aircraft Landing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40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52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523880" y="1523880"/>
          <a:ext cx="563904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63904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 rot="16200000">
            <a:off x="1275480" y="1768680"/>
            <a:ext cx="7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run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185000">
            <a:off x="5599440" y="309276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94f"/>
                </a:solidFill>
                <a:latin typeface="Comic Sans MS"/>
              </a:rPr>
              <a:t>Benchmark by Beasley et al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xample: Bridg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symbolic states generated with cost-extended version of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Cost Order + Estimate of Remaining c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10% of Breadth-First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492120" y="1447920"/>
          <a:ext cx="2462040" cy="15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447920"/>
                    <a:ext cx="2462040" cy="1563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520560" y="2743200"/>
          <a:ext cx="838548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2743200"/>
                    <a:ext cx="8385480" cy="14698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773280" y="4267080"/>
            <a:ext cx="815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 = Breadth-First, DF = Depth-First, MC = Minimum Cost Order, MC+ = MC +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87760" y="1828800"/>
            <a:ext cx="3879720" cy="3988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03440" y="4876920"/>
            <a:ext cx="4782960" cy="1371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2120" y="1523880"/>
            <a:ext cx="506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Fehnker [RTCSA99]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. Hune, K. G. Lars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. Pettersson [DSV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study of Esprit-LT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26270 V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plant of SIDM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ed in Gent, Belg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 betwe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ast furn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t rolling mi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lant, obta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contro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l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5877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0516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243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4320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6204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07320" y="5867280"/>
            <a:ext cx="211320" cy="228600"/>
          </a:xfrm>
          <a:prstGeom prst="flowChartProcess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26160" y="5867280"/>
            <a:ext cx="211320" cy="228600"/>
          </a:xfrm>
          <a:prstGeom prst="flowChartProcess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45360" y="5867280"/>
            <a:ext cx="210960" cy="228600"/>
          </a:xfrm>
          <a:prstGeom prst="flowChartProcess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62760" y="5867280"/>
            <a:ext cx="211320" cy="228600"/>
          </a:xfrm>
          <a:prstGeom prst="flowChartProcess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81960" y="5867280"/>
            <a:ext cx="210960" cy="228600"/>
          </a:xfrm>
          <a:prstGeom prst="flowChartProcess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92120" y="1447920"/>
            <a:ext cx="33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quence of steel loads (“pigs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19520" y="1868400"/>
            <a:ext cx="1157400" cy="738360"/>
          </a:xfrm>
          <a:custGeom>
            <a:avLst/>
            <a:gdLst/>
            <a:ahLst/>
            <a:rect l="l" t="t" r="r" b="b"/>
            <a:pathLst>
              <a:path w="790" h="465">
                <a:moveTo>
                  <a:pt x="0" y="465"/>
                </a:moveTo>
                <a:cubicBezTo>
                  <a:pt x="63" y="459"/>
                  <a:pt x="116" y="452"/>
                  <a:pt x="172" y="423"/>
                </a:cubicBezTo>
                <a:cubicBezTo>
                  <a:pt x="181" y="405"/>
                  <a:pt x="198" y="393"/>
                  <a:pt x="207" y="375"/>
                </a:cubicBezTo>
                <a:cubicBezTo>
                  <a:pt x="217" y="356"/>
                  <a:pt x="218" y="333"/>
                  <a:pt x="227" y="313"/>
                </a:cubicBezTo>
                <a:cubicBezTo>
                  <a:pt x="247" y="178"/>
                  <a:pt x="343" y="253"/>
                  <a:pt x="510" y="258"/>
                </a:cubicBezTo>
                <a:cubicBezTo>
                  <a:pt x="600" y="249"/>
                  <a:pt x="704" y="264"/>
                  <a:pt x="772" y="196"/>
                </a:cubicBezTo>
                <a:cubicBezTo>
                  <a:pt x="790" y="141"/>
                  <a:pt x="781" y="178"/>
                  <a:pt x="765" y="65"/>
                </a:cubicBezTo>
                <a:cubicBezTo>
                  <a:pt x="758" y="14"/>
                  <a:pt x="758" y="0"/>
                  <a:pt x="758" y="23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21200" y="1886040"/>
            <a:ext cx="1647720" cy="361800"/>
          </a:xfrm>
          <a:custGeom>
            <a:avLst/>
            <a:gdLst/>
            <a:ahLst/>
            <a:rect l="l" t="t" r="r" b="b"/>
            <a:pathLst>
              <a:path w="1125" h="228">
                <a:moveTo>
                  <a:pt x="0" y="5"/>
                </a:moveTo>
                <a:cubicBezTo>
                  <a:pt x="2" y="28"/>
                  <a:pt x="4" y="199"/>
                  <a:pt x="56" y="212"/>
                </a:cubicBezTo>
                <a:cubicBezTo>
                  <a:pt x="76" y="217"/>
                  <a:pt x="97" y="217"/>
                  <a:pt x="118" y="219"/>
                </a:cubicBezTo>
                <a:cubicBezTo>
                  <a:pt x="411" y="214"/>
                  <a:pt x="708" y="228"/>
                  <a:pt x="1000" y="212"/>
                </a:cubicBezTo>
                <a:cubicBezTo>
                  <a:pt x="1038" y="207"/>
                  <a:pt x="1068" y="203"/>
                  <a:pt x="1104" y="191"/>
                </a:cubicBezTo>
                <a:cubicBezTo>
                  <a:pt x="1122" y="141"/>
                  <a:pt x="1121" y="106"/>
                  <a:pt x="1125" y="47"/>
                </a:cubicBezTo>
                <a:cubicBezTo>
                  <a:pt x="1118" y="10"/>
                  <a:pt x="1118" y="0"/>
                  <a:pt x="1118" y="19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2920" y="1878120"/>
            <a:ext cx="1484280" cy="358560"/>
          </a:xfrm>
          <a:custGeom>
            <a:avLst/>
            <a:gdLst/>
            <a:ahLst/>
            <a:rect l="l" t="t" r="r" b="b"/>
            <a:pathLst>
              <a:path w="1013" h="226">
                <a:moveTo>
                  <a:pt x="11" y="24"/>
                </a:moveTo>
                <a:cubicBezTo>
                  <a:pt x="51" y="84"/>
                  <a:pt x="0" y="0"/>
                  <a:pt x="32" y="155"/>
                </a:cubicBezTo>
                <a:cubicBezTo>
                  <a:pt x="35" y="169"/>
                  <a:pt x="60" y="182"/>
                  <a:pt x="73" y="183"/>
                </a:cubicBezTo>
                <a:cubicBezTo>
                  <a:pt x="142" y="187"/>
                  <a:pt x="211" y="188"/>
                  <a:pt x="280" y="190"/>
                </a:cubicBezTo>
                <a:cubicBezTo>
                  <a:pt x="453" y="215"/>
                  <a:pt x="339" y="202"/>
                  <a:pt x="625" y="210"/>
                </a:cubicBezTo>
                <a:cubicBezTo>
                  <a:pt x="775" y="204"/>
                  <a:pt x="763" y="203"/>
                  <a:pt x="866" y="224"/>
                </a:cubicBezTo>
                <a:cubicBezTo>
                  <a:pt x="906" y="219"/>
                  <a:pt x="953" y="226"/>
                  <a:pt x="976" y="190"/>
                </a:cubicBezTo>
                <a:cubicBezTo>
                  <a:pt x="982" y="161"/>
                  <a:pt x="1013" y="17"/>
                  <a:pt x="976" y="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91320" y="1927080"/>
            <a:ext cx="2450880" cy="1204920"/>
          </a:xfrm>
          <a:custGeom>
            <a:avLst/>
            <a:gdLst/>
            <a:ahLst/>
            <a:rect l="l" t="t" r="r" b="b"/>
            <a:pathLst>
              <a:path w="1673" h="759">
                <a:moveTo>
                  <a:pt x="1648" y="0"/>
                </a:moveTo>
                <a:cubicBezTo>
                  <a:pt x="1649" y="16"/>
                  <a:pt x="1673" y="175"/>
                  <a:pt x="1648" y="200"/>
                </a:cubicBezTo>
                <a:cubicBezTo>
                  <a:pt x="1598" y="250"/>
                  <a:pt x="1521" y="261"/>
                  <a:pt x="1455" y="269"/>
                </a:cubicBezTo>
                <a:cubicBezTo>
                  <a:pt x="1331" y="261"/>
                  <a:pt x="1206" y="263"/>
                  <a:pt x="1082" y="255"/>
                </a:cubicBezTo>
                <a:cubicBezTo>
                  <a:pt x="1047" y="253"/>
                  <a:pt x="1016" y="230"/>
                  <a:pt x="979" y="228"/>
                </a:cubicBezTo>
                <a:cubicBezTo>
                  <a:pt x="919" y="224"/>
                  <a:pt x="860" y="223"/>
                  <a:pt x="800" y="221"/>
                </a:cubicBezTo>
                <a:cubicBezTo>
                  <a:pt x="697" y="200"/>
                  <a:pt x="592" y="220"/>
                  <a:pt x="489" y="228"/>
                </a:cubicBezTo>
                <a:cubicBezTo>
                  <a:pt x="333" y="240"/>
                  <a:pt x="174" y="245"/>
                  <a:pt x="20" y="276"/>
                </a:cubicBezTo>
                <a:cubicBezTo>
                  <a:pt x="7" y="522"/>
                  <a:pt x="0" y="478"/>
                  <a:pt x="13" y="662"/>
                </a:cubicBezTo>
                <a:cubicBezTo>
                  <a:pt x="17" y="720"/>
                  <a:pt x="8" y="746"/>
                  <a:pt x="62" y="759"/>
                </a:cubicBezTo>
                <a:cubicBezTo>
                  <a:pt x="94" y="757"/>
                  <a:pt x="126" y="754"/>
                  <a:pt x="158" y="752"/>
                </a:cubicBezTo>
                <a:cubicBezTo>
                  <a:pt x="241" y="747"/>
                  <a:pt x="406" y="738"/>
                  <a:pt x="406" y="738"/>
                </a:cubicBezTo>
                <a:cubicBezTo>
                  <a:pt x="411" y="737"/>
                  <a:pt x="491" y="729"/>
                  <a:pt x="496" y="724"/>
                </a:cubicBezTo>
                <a:cubicBezTo>
                  <a:pt x="506" y="714"/>
                  <a:pt x="510" y="683"/>
                  <a:pt x="510" y="683"/>
                </a:cubicBezTo>
                <a:cubicBezTo>
                  <a:pt x="508" y="646"/>
                  <a:pt x="506" y="609"/>
                  <a:pt x="503" y="572"/>
                </a:cubicBezTo>
                <a:cubicBezTo>
                  <a:pt x="502" y="558"/>
                  <a:pt x="496" y="531"/>
                  <a:pt x="496" y="531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80160" y="2814480"/>
            <a:ext cx="960480" cy="2649600"/>
          </a:xfrm>
          <a:custGeom>
            <a:avLst/>
            <a:gdLst/>
            <a:ahLst/>
            <a:rect l="l" t="t" r="r" b="b"/>
            <a:pathLst>
              <a:path w="656" h="1669">
                <a:moveTo>
                  <a:pt x="587" y="0"/>
                </a:moveTo>
                <a:cubicBezTo>
                  <a:pt x="589" y="9"/>
                  <a:pt x="594" y="18"/>
                  <a:pt x="594" y="27"/>
                </a:cubicBezTo>
                <a:cubicBezTo>
                  <a:pt x="594" y="316"/>
                  <a:pt x="656" y="284"/>
                  <a:pt x="449" y="296"/>
                </a:cubicBezTo>
                <a:cubicBezTo>
                  <a:pt x="330" y="291"/>
                  <a:pt x="153" y="248"/>
                  <a:pt x="49" y="317"/>
                </a:cubicBezTo>
                <a:cubicBezTo>
                  <a:pt x="28" y="348"/>
                  <a:pt x="13" y="371"/>
                  <a:pt x="1" y="407"/>
                </a:cubicBezTo>
                <a:cubicBezTo>
                  <a:pt x="4" y="437"/>
                  <a:pt x="0" y="470"/>
                  <a:pt x="14" y="496"/>
                </a:cubicBezTo>
                <a:cubicBezTo>
                  <a:pt x="56" y="572"/>
                  <a:pt x="32" y="510"/>
                  <a:pt x="49" y="558"/>
                </a:cubicBezTo>
                <a:cubicBezTo>
                  <a:pt x="39" y="721"/>
                  <a:pt x="54" y="885"/>
                  <a:pt x="63" y="1048"/>
                </a:cubicBezTo>
                <a:cubicBezTo>
                  <a:pt x="65" y="1078"/>
                  <a:pt x="67" y="1108"/>
                  <a:pt x="70" y="1138"/>
                </a:cubicBezTo>
                <a:cubicBezTo>
                  <a:pt x="74" y="1179"/>
                  <a:pt x="83" y="1262"/>
                  <a:pt x="83" y="1262"/>
                </a:cubicBezTo>
                <a:cubicBezTo>
                  <a:pt x="81" y="1303"/>
                  <a:pt x="82" y="1345"/>
                  <a:pt x="77" y="1386"/>
                </a:cubicBezTo>
                <a:cubicBezTo>
                  <a:pt x="75" y="1400"/>
                  <a:pt x="66" y="1413"/>
                  <a:pt x="63" y="1427"/>
                </a:cubicBezTo>
                <a:cubicBezTo>
                  <a:pt x="61" y="1439"/>
                  <a:pt x="59" y="1451"/>
                  <a:pt x="56" y="1462"/>
                </a:cubicBezTo>
                <a:cubicBezTo>
                  <a:pt x="52" y="1476"/>
                  <a:pt x="42" y="1503"/>
                  <a:pt x="42" y="1503"/>
                </a:cubicBezTo>
                <a:cubicBezTo>
                  <a:pt x="48" y="1577"/>
                  <a:pt x="41" y="1618"/>
                  <a:pt x="90" y="1669"/>
                </a:cubicBezTo>
                <a:cubicBezTo>
                  <a:pt x="118" y="1662"/>
                  <a:pt x="183" y="1628"/>
                  <a:pt x="208" y="1607"/>
                </a:cubicBezTo>
                <a:cubicBezTo>
                  <a:pt x="235" y="1584"/>
                  <a:pt x="217" y="1586"/>
                  <a:pt x="235" y="158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00640" y="5305320"/>
            <a:ext cx="358920" cy="662040"/>
          </a:xfrm>
          <a:custGeom>
            <a:avLst/>
            <a:gdLst/>
            <a:ahLst/>
            <a:rect l="l" t="t" r="r" b="b"/>
            <a:pathLst>
              <a:path w="244" h="417">
                <a:moveTo>
                  <a:pt x="16" y="31"/>
                </a:moveTo>
                <a:cubicBezTo>
                  <a:pt x="59" y="20"/>
                  <a:pt x="122" y="0"/>
                  <a:pt x="140" y="51"/>
                </a:cubicBezTo>
                <a:cubicBezTo>
                  <a:pt x="132" y="161"/>
                  <a:pt x="139" y="162"/>
                  <a:pt x="57" y="217"/>
                </a:cubicBezTo>
                <a:cubicBezTo>
                  <a:pt x="43" y="240"/>
                  <a:pt x="28" y="261"/>
                  <a:pt x="16" y="286"/>
                </a:cubicBezTo>
                <a:cubicBezTo>
                  <a:pt x="12" y="308"/>
                  <a:pt x="0" y="355"/>
                  <a:pt x="16" y="376"/>
                </a:cubicBezTo>
                <a:cubicBezTo>
                  <a:pt x="27" y="390"/>
                  <a:pt x="116" y="402"/>
                  <a:pt x="126" y="403"/>
                </a:cubicBezTo>
                <a:cubicBezTo>
                  <a:pt x="164" y="416"/>
                  <a:pt x="244" y="417"/>
                  <a:pt x="244" y="4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678640" y="4610160"/>
            <a:ext cx="569880" cy="1106280"/>
          </a:xfrm>
          <a:custGeom>
            <a:avLst/>
            <a:gdLst/>
            <a:ahLst/>
            <a:rect l="l" t="t" r="r" b="b"/>
            <a:pathLst>
              <a:path w="389" h="697">
                <a:moveTo>
                  <a:pt x="270" y="696"/>
                </a:moveTo>
                <a:cubicBezTo>
                  <a:pt x="231" y="693"/>
                  <a:pt x="189" y="697"/>
                  <a:pt x="152" y="683"/>
                </a:cubicBezTo>
                <a:cubicBezTo>
                  <a:pt x="136" y="677"/>
                  <a:pt x="123" y="658"/>
                  <a:pt x="111" y="648"/>
                </a:cubicBezTo>
                <a:cubicBezTo>
                  <a:pt x="92" y="633"/>
                  <a:pt x="69" y="627"/>
                  <a:pt x="49" y="614"/>
                </a:cubicBezTo>
                <a:cubicBezTo>
                  <a:pt x="34" y="592"/>
                  <a:pt x="23" y="571"/>
                  <a:pt x="15" y="545"/>
                </a:cubicBezTo>
                <a:cubicBezTo>
                  <a:pt x="0" y="425"/>
                  <a:pt x="6" y="501"/>
                  <a:pt x="15" y="289"/>
                </a:cubicBezTo>
                <a:cubicBezTo>
                  <a:pt x="17" y="230"/>
                  <a:pt x="2" y="137"/>
                  <a:pt x="63" y="96"/>
                </a:cubicBezTo>
                <a:cubicBezTo>
                  <a:pt x="89" y="78"/>
                  <a:pt x="158" y="77"/>
                  <a:pt x="180" y="76"/>
                </a:cubicBezTo>
                <a:cubicBezTo>
                  <a:pt x="389" y="65"/>
                  <a:pt x="387" y="0"/>
                  <a:pt x="387" y="76"/>
                </a:cubicBezTo>
              </a:path>
            </a:pathLst>
          </a:custGeom>
          <a:noFill/>
          <a:ln w="44280">
            <a:solidFill>
              <a:srgbClr val="8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75920" y="1751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3380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28108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33800" y="26661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82440" y="510480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2120" y="2819520"/>
            <a:ext cx="337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follow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i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 certain quality, e.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2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within 1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095640" y="53341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quence of higher quality st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3740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3936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517160" y="1828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80840" y="242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75440" y="3369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3160" y="4342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=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2649600"/>
            <a:ext cx="1439640" cy="507960"/>
          </a:xfrm>
          <a:custGeom>
            <a:avLst/>
            <a:gdLst/>
            <a:ahLst/>
            <a:rect l="l" t="t" r="r" b="b"/>
            <a:pathLst>
              <a:path w="983" h="320">
                <a:moveTo>
                  <a:pt x="16" y="0"/>
                </a:moveTo>
                <a:cubicBezTo>
                  <a:pt x="31" y="52"/>
                  <a:pt x="0" y="111"/>
                  <a:pt x="27" y="165"/>
                </a:cubicBezTo>
                <a:cubicBezTo>
                  <a:pt x="38" y="186"/>
                  <a:pt x="37" y="180"/>
                  <a:pt x="56" y="194"/>
                </a:cubicBezTo>
                <a:cubicBezTo>
                  <a:pt x="153" y="264"/>
                  <a:pt x="184" y="251"/>
                  <a:pt x="307" y="268"/>
                </a:cubicBezTo>
                <a:cubicBezTo>
                  <a:pt x="337" y="272"/>
                  <a:pt x="364" y="285"/>
                  <a:pt x="393" y="291"/>
                </a:cubicBezTo>
                <a:cubicBezTo>
                  <a:pt x="434" y="299"/>
                  <a:pt x="485" y="300"/>
                  <a:pt x="524" y="302"/>
                </a:cubicBezTo>
                <a:cubicBezTo>
                  <a:pt x="624" y="320"/>
                  <a:pt x="717" y="309"/>
                  <a:pt x="816" y="302"/>
                </a:cubicBezTo>
                <a:cubicBezTo>
                  <a:pt x="853" y="295"/>
                  <a:pt x="888" y="290"/>
                  <a:pt x="924" y="280"/>
                </a:cubicBezTo>
                <a:cubicBezTo>
                  <a:pt x="951" y="253"/>
                  <a:pt x="957" y="196"/>
                  <a:pt x="970" y="160"/>
                </a:cubicBezTo>
                <a:cubicBezTo>
                  <a:pt x="976" y="142"/>
                  <a:pt x="983" y="125"/>
                  <a:pt x="976" y="108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24440" y="2619360"/>
            <a:ext cx="979560" cy="538200"/>
          </a:xfrm>
          <a:custGeom>
            <a:avLst/>
            <a:gdLst/>
            <a:ahLst/>
            <a:rect l="l" t="t" r="r" b="b"/>
            <a:pathLst>
              <a:path w="669" h="339">
                <a:moveTo>
                  <a:pt x="0" y="127"/>
                </a:moveTo>
                <a:cubicBezTo>
                  <a:pt x="23" y="152"/>
                  <a:pt x="25" y="182"/>
                  <a:pt x="46" y="201"/>
                </a:cubicBezTo>
                <a:cubicBezTo>
                  <a:pt x="55" y="234"/>
                  <a:pt x="80" y="271"/>
                  <a:pt x="114" y="281"/>
                </a:cubicBezTo>
                <a:cubicBezTo>
                  <a:pt x="128" y="295"/>
                  <a:pt x="141" y="298"/>
                  <a:pt x="160" y="304"/>
                </a:cubicBezTo>
                <a:cubicBezTo>
                  <a:pt x="192" y="339"/>
                  <a:pt x="258" y="325"/>
                  <a:pt x="297" y="327"/>
                </a:cubicBezTo>
                <a:cubicBezTo>
                  <a:pt x="411" y="323"/>
                  <a:pt x="475" y="327"/>
                  <a:pt x="571" y="293"/>
                </a:cubicBezTo>
                <a:cubicBezTo>
                  <a:pt x="599" y="265"/>
                  <a:pt x="598" y="260"/>
                  <a:pt x="617" y="230"/>
                </a:cubicBezTo>
                <a:cubicBezTo>
                  <a:pt x="622" y="204"/>
                  <a:pt x="627" y="176"/>
                  <a:pt x="634" y="150"/>
                </a:cubicBezTo>
                <a:cubicBezTo>
                  <a:pt x="637" y="138"/>
                  <a:pt x="646" y="116"/>
                  <a:pt x="646" y="116"/>
                </a:cubicBezTo>
                <a:cubicBezTo>
                  <a:pt x="647" y="109"/>
                  <a:pt x="669" y="0"/>
                  <a:pt x="640" y="24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425920" y="3147840"/>
            <a:ext cx="471600" cy="508320"/>
          </a:xfrm>
          <a:custGeom>
            <a:avLst/>
            <a:gdLst/>
            <a:ahLst/>
            <a:rect l="l" t="t" r="r" b="b"/>
            <a:pathLst>
              <a:path w="322" h="320">
                <a:moveTo>
                  <a:pt x="0" y="0"/>
                </a:moveTo>
                <a:cubicBezTo>
                  <a:pt x="72" y="7"/>
                  <a:pt x="123" y="9"/>
                  <a:pt x="188" y="28"/>
                </a:cubicBezTo>
                <a:cubicBezTo>
                  <a:pt x="262" y="77"/>
                  <a:pt x="258" y="145"/>
                  <a:pt x="314" y="206"/>
                </a:cubicBezTo>
                <a:cubicBezTo>
                  <a:pt x="322" y="229"/>
                  <a:pt x="314" y="303"/>
                  <a:pt x="297" y="320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92120" y="4982040"/>
            <a:ext cx="5135400" cy="1008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hedules f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n batch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seconds, rather than bad schedules f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ve batch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in almost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21.%20Legoplant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55624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210960" y="16761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GO RCX Mindst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cal controllers with contro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R protocol for remote invocation of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al 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4404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23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20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38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234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58560" y="1904400"/>
            <a:ext cx="9792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53400" y="3961800"/>
            <a:ext cx="99288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46400" y="6019200"/>
            <a:ext cx="9810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5360" y="5257080"/>
            <a:ext cx="100512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80200" y="4494960"/>
            <a:ext cx="8283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89600" y="5730480"/>
            <a:ext cx="123516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27120" y="6095880"/>
            <a:ext cx="85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22080" y="5040360"/>
            <a:ext cx="59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 search first for constant 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76120" y="5562720"/>
            <a:ext cx="519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 to 50% reduction for erroneo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85760" y="5881680"/>
            <a:ext cx="686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stances of a simple communcation protoco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16320" y="5408640"/>
            <a:ext cx="486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66600" y="5275440"/>
            <a:ext cx="159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382680" y="1752480"/>
          <a:ext cx="833112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752480"/>
                    <a:ext cx="83311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Heuristics: BPM protoco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219320" y="1143000"/>
            <a:ext cx="792468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asy and flexible modeling of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Whole range of verification techniques be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Controller/Program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xisting scheduling approaches perform somewhat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Our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See how far we g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Integrate model checking and scheduling the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ailoring Linear Programming to Priced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ranslation trace to schedule, re-use of schedules, 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32880" y="1676520"/>
            <a:ext cx="8177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Courcourbetis, Henzinger (1993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ccumulated delays in Real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Torre, Pappas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Optimal Paths in Weighted Timed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Arial"/>
              </a:rPr>
              <a:t>Behrmann, Fehnker, et all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inimum-Cost Reachability for Priced Timed Automata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33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6160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sarin &amp; Maler (1999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Time optimal control using backwards fixed point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Niebert, Tripakis &amp; Yovine (2000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forward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0000"/>
                </a:solidFill>
                <a:latin typeface="Arial"/>
              </a:rPr>
              <a:t>Behrmann, Fehnker et all (TACAS’2001, 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Branch-and-B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Brinksma, Maler, Fehnker(STTT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Using UPPAAL en SPIN to compute optimal sche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bdeddaim, Maler (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Job-Shop Scheduling using Timed Automata</a:t>
            </a: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General Trend (AAAI’01):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Integrating Scheduling/Planning and 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50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 &gt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0960" y="4114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: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936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6920" y="349884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2880" y="222084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828800"/>
            <a:ext cx="4495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s i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passes unifor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d/reset o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ariants on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0060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Uppa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a modelchecker forTimed Automata with emphasis on reachabilit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273840" y="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nd of sli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Comic Sans MS"/>
              </a:rPr>
              <a:t>Linearly Priced Timed Automat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1214280" y="4572000"/>
            <a:ext cx="7164000" cy="787320"/>
            <a:chOff x="1214280" y="4572000"/>
            <a:chExt cx="7164000" cy="787320"/>
          </a:xfrm>
        </p:grpSpPr>
        <p:sp>
          <p:nvSpPr>
            <p:cNvPr id="1099" name=""/>
            <p:cNvSpPr/>
            <p:nvPr/>
          </p:nvSpPr>
          <p:spPr>
            <a:xfrm>
              <a:off x="1214280" y="476856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45040" y="4965480"/>
              <a:ext cx="63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4344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8356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49880" y="49654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6132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3440" y="4965480"/>
              <a:ext cx="56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11640" y="476856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7284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95440" y="4965480"/>
              <a:ext cx="939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 </a:t>
              </a: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x 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4140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569960" y="1523880"/>
            <a:ext cx="6030720" cy="1582560"/>
            <a:chOff x="1569960" y="1523880"/>
            <a:chExt cx="6030720" cy="1582560"/>
          </a:xfrm>
        </p:grpSpPr>
        <p:sp>
          <p:nvSpPr>
            <p:cNvPr id="1113" name=""/>
            <p:cNvSpPr/>
            <p:nvPr/>
          </p:nvSpPr>
          <p:spPr>
            <a:xfrm>
              <a:off x="1959120" y="2130480"/>
              <a:ext cx="56232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2560" y="2362320"/>
              <a:ext cx="19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69440" y="2092320"/>
              <a:ext cx="56232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682320" y="2057400"/>
              <a:ext cx="56268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51600" y="2549520"/>
              <a:ext cx="168804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51600" y="1940040"/>
              <a:ext cx="168804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868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2404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94760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23560" y="2743200"/>
              <a:ext cx="767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x:=0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1528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0904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996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24760" y="1981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53280" y="1676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048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4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9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181240" y="380988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87680" y="434340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95560" y="4876920"/>
            <a:ext cx="4921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3432240" y="3581280"/>
            <a:ext cx="2129400" cy="2044800"/>
            <a:chOff x="3432240" y="3581280"/>
            <a:chExt cx="2129400" cy="2044800"/>
          </a:xfrm>
        </p:grpSpPr>
        <p:sp>
          <p:nvSpPr>
            <p:cNvPr id="1233" name=""/>
            <p:cNvSpPr/>
            <p:nvPr/>
          </p:nvSpPr>
          <p:spPr>
            <a:xfrm>
              <a:off x="526068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5404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27800" y="487692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72780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2202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471276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52048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726360" y="380988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22028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71276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72780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43224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3224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4088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2780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726360" y="365724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666880" y="6019920"/>
            <a:ext cx="5357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Transitions with and w/o reset and de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can be considered as transitions on reg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4256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95560" y="48769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3324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2536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72320" y="3808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66cc"/>
                </a:solidFill>
                <a:latin typeface="Tahoma"/>
              </a:rPr>
              <a:t>Alur &amp; D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9120" y="2130480"/>
            <a:ext cx="563400" cy="5335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41840" y="2362320"/>
            <a:ext cx="196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68720" y="2092320"/>
            <a:ext cx="56376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81960" y="2057400"/>
            <a:ext cx="56340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51240" y="2549520"/>
            <a:ext cx="1689120" cy="24120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51240" y="1940040"/>
            <a:ext cx="168912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198320" y="17334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24040" y="24382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015280" y="262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0868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7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900000" y="3581280"/>
            <a:ext cx="2129400" cy="2044800"/>
            <a:chOff x="900000" y="3581280"/>
            <a:chExt cx="2129400" cy="2044800"/>
          </a:xfrm>
        </p:grpSpPr>
        <p:sp>
          <p:nvSpPr>
            <p:cNvPr id="1268" name=""/>
            <p:cNvSpPr/>
            <p:nvPr/>
          </p:nvSpPr>
          <p:spPr>
            <a:xfrm flipV="1">
              <a:off x="1195560" y="365760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19556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2844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2180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19556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688040" y="3733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218052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67264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194120" y="3733560"/>
              <a:ext cx="1549080" cy="16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68804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8052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19556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0000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0000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0864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195560" y="380988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57444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27440" y="380988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033960" y="3657600"/>
            <a:ext cx="2129400" cy="2044800"/>
            <a:chOff x="6033960" y="3657600"/>
            <a:chExt cx="2129400" cy="2044800"/>
          </a:xfrm>
        </p:grpSpPr>
        <p:sp>
          <p:nvSpPr>
            <p:cNvPr id="1288" name=""/>
            <p:cNvSpPr/>
            <p:nvPr/>
          </p:nvSpPr>
          <p:spPr>
            <a:xfrm flipV="1">
              <a:off x="6328440" y="373356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62400" y="53341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56120" y="3697200"/>
              <a:ext cx="153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29880" y="495288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329880" y="4419720"/>
              <a:ext cx="1477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822360" y="38095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314480" y="3809520"/>
              <a:ext cx="0" cy="165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806960" y="3885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328440" y="388620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822360" y="441936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314480" y="4952880"/>
              <a:ext cx="492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6329880" y="3885840"/>
              <a:ext cx="9846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33960" y="36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33960" y="4773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42600" y="41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29880" y="388620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1125360" y="5334120"/>
            <a:ext cx="1414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19556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72744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177240" y="3276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195560" y="4876560"/>
            <a:ext cx="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95560" y="4876920"/>
            <a:ext cx="49212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95560" y="434340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687680" y="434340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19556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72744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330960" y="388620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87680" y="4343400"/>
            <a:ext cx="49356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87680" y="380988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2181240" y="380988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65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5760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04972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2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604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5324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47960" y="17524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23920" y="274320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676520"/>
            <a:ext cx="80773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0000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cheduling problems can be phrased in a natural way as reachability problems for </a:t>
            </a:r>
            <a:r>
              <a:rPr b="0" lang="da-DK" sz="2400" spc="-1" strike="noStrike">
                <a:solidFill>
                  <a:srgbClr val="000099"/>
                </a:solidFill>
                <a:latin typeface="Tahoma"/>
              </a:rPr>
              <a:t>timed autom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10720" y="3798720"/>
            <a:ext cx="7947360" cy="2239200"/>
            <a:chOff x="810720" y="3798720"/>
            <a:chExt cx="7947360" cy="2239200"/>
          </a:xfrm>
        </p:grpSpPr>
        <p:grpSp>
          <p:nvGrpSpPr>
            <p:cNvPr id="78" name=""/>
            <p:cNvGrpSpPr/>
            <p:nvPr/>
          </p:nvGrpSpPr>
          <p:grpSpPr>
            <a:xfrm>
              <a:off x="833400" y="3875040"/>
              <a:ext cx="7924680" cy="1571400"/>
              <a:chOff x="833400" y="3875040"/>
              <a:chExt cx="7924680" cy="1571400"/>
            </a:xfrm>
          </p:grpSpPr>
          <p:sp>
            <p:nvSpPr>
              <p:cNvPr id="79" name=""/>
              <p:cNvSpPr/>
              <p:nvPr/>
            </p:nvSpPr>
            <p:spPr>
              <a:xfrm>
                <a:off x="3168720" y="3875040"/>
                <a:ext cx="849240" cy="944280"/>
              </a:xfrm>
              <a:custGeom>
                <a:avLst/>
                <a:gdLst/>
                <a:ahLst/>
                <a:rect l="l" t="t" r="r" b="b"/>
                <a:pathLst>
                  <a:path w="576" h="624">
                    <a:moveTo>
                      <a:pt x="0" y="528"/>
                    </a:moveTo>
                    <a:lnTo>
                      <a:pt x="336" y="0"/>
                    </a:lnTo>
                    <a:lnTo>
                      <a:pt x="576" y="384"/>
                    </a:lnTo>
                    <a:lnTo>
                      <a:pt x="48" y="624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833400" y="4165560"/>
              <a:ext cx="7924680" cy="1280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33400" y="4165560"/>
                        <a:ext cx="7924680" cy="12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2" name=""/>
            <p:cNvSpPr/>
            <p:nvPr/>
          </p:nvSpPr>
          <p:spPr>
            <a:xfrm>
              <a:off x="1019520" y="5475240"/>
              <a:ext cx="104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1200" y="5627520"/>
              <a:ext cx="640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7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965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600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1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7280" y="3798720"/>
              <a:ext cx="48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0560" y="5334120"/>
              <a:ext cx="30481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n they m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t within 60 minutes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49560" y="1349280"/>
            <a:ext cx="3270600" cy="2561760"/>
            <a:chOff x="3049560" y="1349280"/>
            <a:chExt cx="3270600" cy="2561760"/>
          </a:xfrm>
        </p:grpSpPr>
        <p:sp>
          <p:nvSpPr>
            <p:cNvPr id="91" name=""/>
            <p:cNvSpPr/>
            <p:nvPr/>
          </p:nvSpPr>
          <p:spPr>
            <a:xfrm>
              <a:off x="33526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1904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8288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1981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5288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657600" y="3352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5053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560" y="13492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6520" y="165564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2680" y="19605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6920" y="19587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380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57640" y="302580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4160" y="33303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1640" y="33303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992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8960" y="355896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3400" y="3875040"/>
            <a:ext cx="7924680" cy="1571400"/>
            <a:chOff x="833400" y="3875040"/>
            <a:chExt cx="7924680" cy="1571400"/>
          </a:xfrm>
        </p:grpSpPr>
        <p:sp>
          <p:nvSpPr>
            <p:cNvPr id="115" name=""/>
            <p:cNvSpPr/>
            <p:nvPr/>
          </p:nvSpPr>
          <p:spPr>
            <a:xfrm>
              <a:off x="3168720" y="3875040"/>
              <a:ext cx="849240" cy="944280"/>
            </a:xfrm>
            <a:custGeom>
              <a:avLst/>
              <a:gdLst/>
              <a:ahLst/>
              <a:rect l="l" t="t" r="r" b="b"/>
              <a:pathLst>
                <a:path w="576" h="624">
                  <a:moveTo>
                    <a:pt x="0" y="528"/>
                  </a:moveTo>
                  <a:lnTo>
                    <a:pt x="336" y="0"/>
                  </a:lnTo>
                  <a:lnTo>
                    <a:pt x="576" y="384"/>
                  </a:lnTo>
                  <a:lnTo>
                    <a:pt x="48" y="624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833400" y="4165560"/>
            <a:ext cx="7924680" cy="12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3400" y="4165560"/>
                      <a:ext cx="792468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019160" y="5475240"/>
            <a:ext cx="104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1560" y="5627520"/>
            <a:ext cx="64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07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65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0600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8000" y="37987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n they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within 60 minut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-mizes unsafe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mizes crossing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56240" y="1282680"/>
            <a:ext cx="7269120" cy="2808000"/>
            <a:chOff x="1056240" y="1282680"/>
            <a:chExt cx="7269120" cy="2808000"/>
          </a:xfrm>
        </p:grpSpPr>
        <p:grpSp>
          <p:nvGrpSpPr>
            <p:cNvPr id="130" name=""/>
            <p:cNvGrpSpPr/>
            <p:nvPr/>
          </p:nvGrpSpPr>
          <p:grpSpPr>
            <a:xfrm>
              <a:off x="1056240" y="1282680"/>
              <a:ext cx="1852560" cy="1329480"/>
              <a:chOff x="1056240" y="1282680"/>
              <a:chExt cx="1852560" cy="132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1282680" y="1547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20480" y="1587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580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7148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82680" y="2255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4580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7148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37840" y="1627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02760" y="1627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4924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102760" y="2334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437480" y="2334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136008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56240" y="1282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92560" y="1458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4560" y="1589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5240" y="1589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096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80520" y="2133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7640" y="2274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92200" y="2274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784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6000" y="2349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056240" y="2425680"/>
              <a:ext cx="1852560" cy="1329480"/>
              <a:chOff x="1056240" y="2425680"/>
              <a:chExt cx="1852560" cy="1329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282680" y="2690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0480" y="2730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4580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7148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82680" y="3398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4580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7148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37840" y="2770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02760" y="2770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4924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102760" y="3477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437480" y="3477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36008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56240" y="2425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92560" y="2601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74560" y="2732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5960" y="27320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096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80520" y="3276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7640" y="3417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92200" y="3417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784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66000" y="3492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472800" y="1434960"/>
              <a:ext cx="1852560" cy="1329480"/>
              <a:chOff x="6472800" y="1434960"/>
              <a:chExt cx="1852560" cy="132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6699240" y="169992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37040" y="173952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6236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8804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99240" y="240804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6236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8804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4400" y="177948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19320" y="177948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6580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519320" y="248724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854040" y="24872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77664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72800" y="143496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09120" y="161100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91120" y="17413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71800" y="17413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1752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97080" y="228564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94200" y="24271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08760" y="24271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7440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82560" y="250164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602040" y="3147840"/>
              <a:ext cx="1629720" cy="942840"/>
              <a:chOff x="6602040" y="3147840"/>
              <a:chExt cx="1629720" cy="94284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7519680" y="36576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43800" y="3465360"/>
                <a:ext cx="1555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1960" y="3505320"/>
                <a:ext cx="7920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62720" y="314784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18640" y="3505320"/>
                <a:ext cx="15696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62720" y="385596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823080" y="3227400"/>
                <a:ext cx="5396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20040" y="32274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822720" y="3581280"/>
                <a:ext cx="539640" cy="3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633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0204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56320" y="3352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489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5792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41640" y="3875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:=1-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9840" y="456840"/>
            <a:ext cx="846288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Linearly Priced Timed Autom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14280" y="4572000"/>
            <a:ext cx="7163640" cy="590760"/>
            <a:chOff x="1214280" y="4572000"/>
            <a:chExt cx="7163640" cy="590760"/>
          </a:xfrm>
        </p:grpSpPr>
        <p:sp>
          <p:nvSpPr>
            <p:cNvPr id="221" name=""/>
            <p:cNvSpPr/>
            <p:nvPr/>
          </p:nvSpPr>
          <p:spPr>
            <a:xfrm>
              <a:off x="1214280" y="476892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44680" y="4965840"/>
              <a:ext cx="63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344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8320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49880" y="496584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096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3440" y="496584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1280" y="476892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49040" y="1733400"/>
            <a:ext cx="5296320" cy="1428120"/>
            <a:chOff x="1949040" y="1733400"/>
            <a:chExt cx="5296320" cy="1428120"/>
          </a:xfrm>
        </p:grpSpPr>
        <p:sp>
          <p:nvSpPr>
            <p:cNvPr id="231" name=""/>
            <p:cNvSpPr/>
            <p:nvPr/>
          </p:nvSpPr>
          <p:spPr>
            <a:xfrm>
              <a:off x="4195800" y="2701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9120" y="2130480"/>
              <a:ext cx="56340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3280" y="23623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70520" y="209232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3400" y="205740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51240" y="2549520"/>
              <a:ext cx="168912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1940040"/>
              <a:ext cx="168912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0012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548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904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1320" y="2743200"/>
              <a:ext cx="61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: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600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048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17840" y="1523880"/>
            <a:ext cx="6030360" cy="3835800"/>
            <a:chOff x="1617840" y="1523880"/>
            <a:chExt cx="6030360" cy="3835800"/>
          </a:xfrm>
        </p:grpSpPr>
        <p:grpSp>
          <p:nvGrpSpPr>
            <p:cNvPr id="245" name=""/>
            <p:cNvGrpSpPr/>
            <p:nvPr/>
          </p:nvGrpSpPr>
          <p:grpSpPr>
            <a:xfrm>
              <a:off x="2472480" y="4965840"/>
              <a:ext cx="4186440" cy="393840"/>
              <a:chOff x="2472480" y="4965840"/>
              <a:chExt cx="4186440" cy="39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247248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95440" y="4965840"/>
                <a:ext cx="939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.5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Arial"/>
                  </a:rPr>
                  <a:t>x 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4140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7840" y="1523880"/>
              <a:ext cx="6030360" cy="856080"/>
              <a:chOff x="1617840" y="1523880"/>
              <a:chExt cx="6030360" cy="8560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1784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3360" y="19810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+=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167652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9908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257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269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86680" y="1828800"/>
            <a:ext cx="7976880" cy="2379960"/>
            <a:chOff x="886680" y="1828800"/>
            <a:chExt cx="7976880" cy="2379960"/>
          </a:xfrm>
        </p:grpSpPr>
        <p:sp>
          <p:nvSpPr>
            <p:cNvPr id="275" name=""/>
            <p:cNvSpPr/>
            <p:nvPr/>
          </p:nvSpPr>
          <p:spPr>
            <a:xfrm flipV="1">
              <a:off x="1687680" y="19047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7680" y="3809880"/>
              <a:ext cx="28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6680" y="1828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62280" y="35812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9760" y="3124080"/>
              <a:ext cx="10544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94200" y="2209680"/>
              <a:ext cx="11966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039760" y="3123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840" y="2209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94200" y="327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5240" y="3792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3712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156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4080" y="1971720"/>
              <a:ext cx="3309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arliest landing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tes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st rate for being ear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cost rate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ixed cost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21880" y="243828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5840" y="1981080"/>
              <a:ext cx="11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81240" y="2819520"/>
              <a:ext cx="1634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0" y="0"/>
                  </a:moveTo>
                  <a:cubicBezTo>
                    <a:pt x="40" y="52"/>
                    <a:pt x="80" y="104"/>
                    <a:pt x="96" y="144"/>
                  </a:cubicBezTo>
                  <a:cubicBezTo>
                    <a:pt x="112" y="184"/>
                    <a:pt x="96" y="224"/>
                    <a:pt x="96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5320" y="2438280"/>
              <a:ext cx="179280" cy="370080"/>
            </a:xfrm>
            <a:custGeom>
              <a:avLst/>
              <a:gdLst/>
              <a:ahLst/>
              <a:rect l="l" t="t" r="r" b="b"/>
              <a:pathLst>
                <a:path w="122" h="233">
                  <a:moveTo>
                    <a:pt x="0" y="0"/>
                  </a:moveTo>
                  <a:cubicBezTo>
                    <a:pt x="5" y="21"/>
                    <a:pt x="8" y="89"/>
                    <a:pt x="28" y="128"/>
                  </a:cubicBezTo>
                  <a:cubicBezTo>
                    <a:pt x="48" y="167"/>
                    <a:pt x="103" y="211"/>
                    <a:pt x="122" y="2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58920" y="4897440"/>
            <a:ext cx="372744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73360" y="1828800"/>
            <a:ext cx="254160" cy="254160"/>
            <a:chOff x="2673360" y="1828800"/>
            <a:chExt cx="254160" cy="254160"/>
          </a:xfrm>
        </p:grpSpPr>
        <p:sp>
          <p:nvSpPr>
            <p:cNvPr id="296" name=""/>
            <p:cNvSpPr/>
            <p:nvPr/>
          </p:nvSpPr>
          <p:spPr>
            <a:xfrm>
              <a:off x="2673360" y="1828800"/>
              <a:ext cx="254160" cy="25416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5480" y="1871640"/>
              <a:ext cx="169200" cy="16812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5760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73360" y="3886200"/>
            <a:ext cx="254160" cy="2541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4320" y="2057400"/>
            <a:ext cx="773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84320" y="3124080"/>
            <a:ext cx="773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898640" y="2057400"/>
            <a:ext cx="774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8640" y="3124080"/>
            <a:ext cx="774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1120" y="228600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54200" y="19810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 &gt;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8600" y="34290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36040" y="1523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29040" y="19051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6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9920" y="35053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94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6920" y="23623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+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712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4120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8768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1400" y="1981080"/>
            <a:ext cx="330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liest la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rate for being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cost rate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cost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319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331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4952880"/>
            <a:ext cx="39085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8:39:58Z</dcterms:created>
  <dc:creator>ansgar</dc:creator>
  <dc:description/>
  <dc:language>en-US</dc:language>
  <cp:lastModifiedBy>Ansgar</cp:lastModifiedBy>
  <dcterms:modified xsi:type="dcterms:W3CDTF">2002-06-11T18:26:08Z</dcterms:modified>
  <cp:revision>14</cp:revision>
  <dc:subject/>
  <dc:title>Reachability, Schedulability and Optimality</dc:title>
</cp:coreProperties>
</file>