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FE30-73B3-4FAA-A021-B9695B130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C443-8AED-4009-A51D-2AA0F7286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2918-89C4-4E4B-B80E-CDC679BAC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B574-2923-4F0C-9137-423F2E4F2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9C21-61DD-43BD-922E-08DA25EA9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1A91-F470-4FED-A96C-B9EDAD08D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6F05-644E-4FB9-8D97-F83B202C2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65EB-0C7B-44F4-B860-43BD74A74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5BB1-43E0-4529-89D2-8D974457B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5B1C-16BD-43E5-9FD5-6E6EC4FC8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8755-A5EA-4244-A3A3-D041CDB0F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8866-47F3-4DEB-9B35-35FA2E32C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2E7C8-126A-4AFB-B365-A37313F163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95280" cy="107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What Went Wrong?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ex Gro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llem Vis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SA Ames Research Cen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Positives and Negatives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809880" y="358128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809880" y="39625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809880" y="43434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09880" y="472428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0" name=""/>
          <p:cNvCxnSpPr>
            <a:stCxn id="336" idx="4"/>
            <a:endCxn id="337" idx="0"/>
          </p:cNvCxnSpPr>
          <p:nvPr/>
        </p:nvCxnSpPr>
        <p:spPr>
          <a:xfrm>
            <a:off x="3962160" y="38098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1" name=""/>
          <p:cNvCxnSpPr>
            <a:stCxn id="337" idx="4"/>
            <a:endCxn id="338" idx="0"/>
          </p:cNvCxnSpPr>
          <p:nvPr/>
        </p:nvCxnSpPr>
        <p:spPr>
          <a:xfrm>
            <a:off x="3962160" y="41907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2" name=""/>
          <p:cNvCxnSpPr>
            <a:stCxn id="338" idx="4"/>
            <a:endCxn id="339" idx="0"/>
          </p:cNvCxnSpPr>
          <p:nvPr/>
        </p:nvCxnSpPr>
        <p:spPr>
          <a:xfrm>
            <a:off x="3962160" y="45716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3" name=""/>
          <p:cNvCxnSpPr>
            <a:stCxn id="339" idx="4"/>
          </p:cNvCxnSpPr>
          <p:nvPr/>
        </p:nvCxnSpPr>
        <p:spPr>
          <a:xfrm>
            <a:off x="3962160" y="49528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4" name=""/>
          <p:cNvSpPr/>
          <p:nvPr/>
        </p:nvSpPr>
        <p:spPr>
          <a:xfrm>
            <a:off x="3809880" y="51055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809880" y="5486400"/>
            <a:ext cx="30492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6" name=""/>
          <p:cNvCxnSpPr>
            <a:stCxn id="344" idx="4"/>
            <a:endCxn id="345" idx="0"/>
          </p:cNvCxnSpPr>
          <p:nvPr/>
        </p:nvCxnSpPr>
        <p:spPr>
          <a:xfrm>
            <a:off x="3962160" y="53337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7" name=""/>
          <p:cNvSpPr/>
          <p:nvPr/>
        </p:nvSpPr>
        <p:spPr>
          <a:xfrm>
            <a:off x="3809880" y="16765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809880" y="20574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2438280"/>
            <a:ext cx="30492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809880" y="2819520"/>
            <a:ext cx="304920" cy="228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4"/>
            <a:endCxn id="348" idx="0"/>
          </p:cNvCxnSpPr>
          <p:nvPr/>
        </p:nvCxnSpPr>
        <p:spPr>
          <a:xfrm>
            <a:off x="3962160" y="19047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2" name=""/>
          <p:cNvCxnSpPr>
            <a:stCxn id="348" idx="4"/>
            <a:endCxn id="349" idx="0"/>
          </p:cNvCxnSpPr>
          <p:nvPr/>
        </p:nvCxnSpPr>
        <p:spPr>
          <a:xfrm>
            <a:off x="3962160" y="22856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3" name=""/>
          <p:cNvCxnSpPr>
            <a:stCxn id="349" idx="4"/>
            <a:endCxn id="350" idx="0"/>
          </p:cNvCxnSpPr>
          <p:nvPr/>
        </p:nvCxnSpPr>
        <p:spPr>
          <a:xfrm>
            <a:off x="3962160" y="26668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4" name=""/>
          <p:cNvCxnSpPr>
            <a:stCxn id="350" idx="4"/>
          </p:cNvCxnSpPr>
          <p:nvPr/>
        </p:nvCxnSpPr>
        <p:spPr>
          <a:xfrm>
            <a:off x="3962160" y="30477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5" name=""/>
          <p:cNvSpPr/>
          <p:nvPr/>
        </p:nvSpPr>
        <p:spPr>
          <a:xfrm>
            <a:off x="3809880" y="3200400"/>
            <a:ext cx="30492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6" name=""/>
          <p:cNvCxnSpPr>
            <a:stCxn id="355" idx="4"/>
          </p:cNvCxnSpPr>
          <p:nvPr/>
        </p:nvCxnSpPr>
        <p:spPr>
          <a:xfrm>
            <a:off x="3962160" y="34286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7" name=""/>
          <p:cNvSpPr/>
          <p:nvPr/>
        </p:nvSpPr>
        <p:spPr>
          <a:xfrm>
            <a:off x="4115160" y="3048120"/>
            <a:ext cx="127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Real ca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438280" y="358128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438280" y="39625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438280" y="43434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438280" y="472428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2" name=""/>
          <p:cNvCxnSpPr>
            <a:stCxn id="358" idx="4"/>
            <a:endCxn id="359" idx="0"/>
          </p:cNvCxnSpPr>
          <p:nvPr/>
        </p:nvCxnSpPr>
        <p:spPr>
          <a:xfrm>
            <a:off x="2590560" y="38098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3" name=""/>
          <p:cNvCxnSpPr>
            <a:stCxn id="359" idx="4"/>
            <a:endCxn id="360" idx="0"/>
          </p:cNvCxnSpPr>
          <p:nvPr/>
        </p:nvCxnSpPr>
        <p:spPr>
          <a:xfrm>
            <a:off x="2590560" y="41907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4" name=""/>
          <p:cNvCxnSpPr/>
          <p:nvPr/>
        </p:nvCxnSpPr>
        <p:spPr>
          <a:xfrm>
            <a:off x="2590560" y="457344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5" name=""/>
          <p:cNvCxnSpPr/>
          <p:nvPr/>
        </p:nvCxnSpPr>
        <p:spPr>
          <a:xfrm>
            <a:off x="2590560" y="495432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2438280" y="51055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438280" y="5486400"/>
            <a:ext cx="304920" cy="228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8" name=""/>
          <p:cNvCxnSpPr/>
          <p:nvPr/>
        </p:nvCxnSpPr>
        <p:spPr>
          <a:xfrm>
            <a:off x="2590560" y="53337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9" name=""/>
          <p:cNvSpPr/>
          <p:nvPr/>
        </p:nvSpPr>
        <p:spPr>
          <a:xfrm>
            <a:off x="2438280" y="3200400"/>
            <a:ext cx="304920" cy="2286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0" name=""/>
          <p:cNvCxnSpPr>
            <a:stCxn id="369" idx="4"/>
          </p:cNvCxnSpPr>
          <p:nvPr/>
        </p:nvCxnSpPr>
        <p:spPr>
          <a:xfrm>
            <a:off x="2590560" y="34286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1" name=""/>
          <p:cNvSpPr/>
          <p:nvPr/>
        </p:nvSpPr>
        <p:spPr>
          <a:xfrm>
            <a:off x="221760" y="2209680"/>
            <a:ext cx="301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e control flow location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error condi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33"/>
                </a:solidFill>
                <a:latin typeface="Times New Roman"/>
              </a:rPr>
              <a:t>POSITIV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791320" y="358128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91320" y="396252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791320" y="434340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791320" y="472428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6" name=""/>
          <p:cNvCxnSpPr>
            <a:stCxn id="372" idx="4"/>
            <a:endCxn id="373" idx="0"/>
          </p:cNvCxnSpPr>
          <p:nvPr/>
        </p:nvCxnSpPr>
        <p:spPr>
          <a:xfrm>
            <a:off x="5943240" y="38098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7" name=""/>
          <p:cNvCxnSpPr>
            <a:stCxn id="373" idx="4"/>
            <a:endCxn id="374" idx="0"/>
          </p:cNvCxnSpPr>
          <p:nvPr/>
        </p:nvCxnSpPr>
        <p:spPr>
          <a:xfrm>
            <a:off x="5943240" y="41907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8" name=""/>
          <p:cNvCxnSpPr/>
          <p:nvPr/>
        </p:nvCxnSpPr>
        <p:spPr>
          <a:xfrm>
            <a:off x="5952600" y="495432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9" name=""/>
          <p:cNvCxnSpPr/>
          <p:nvPr/>
        </p:nvCxnSpPr>
        <p:spPr>
          <a:xfrm>
            <a:off x="5952600" y="5335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791320" y="510552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791320" y="5486400"/>
            <a:ext cx="30456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791320" y="2819520"/>
            <a:ext cx="30456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3" name=""/>
          <p:cNvCxnSpPr>
            <a:stCxn id="382" idx="4"/>
          </p:cNvCxnSpPr>
          <p:nvPr/>
        </p:nvCxnSpPr>
        <p:spPr>
          <a:xfrm>
            <a:off x="5943240" y="30477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5791320" y="3200400"/>
            <a:ext cx="30456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5" name=""/>
          <p:cNvCxnSpPr>
            <a:stCxn id="384" idx="4"/>
          </p:cNvCxnSpPr>
          <p:nvPr/>
        </p:nvCxnSpPr>
        <p:spPr>
          <a:xfrm>
            <a:off x="5943240" y="34286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6" name=""/>
          <p:cNvSpPr/>
          <p:nvPr/>
        </p:nvSpPr>
        <p:spPr>
          <a:xfrm>
            <a:off x="5936400" y="2209680"/>
            <a:ext cx="291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e location, same err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NEGATIV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-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096600" y="3048120"/>
            <a:ext cx="127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Real ca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8" name=""/>
          <p:cNvCxnSpPr>
            <a:stCxn id="350" idx="4"/>
            <a:endCxn id="369" idx="0"/>
          </p:cNvCxnSpPr>
          <p:nvPr/>
        </p:nvCxnSpPr>
        <p:spPr>
          <a:xfrm flipH="1">
            <a:off x="2590560" y="3047760"/>
            <a:ext cx="137232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9" name=""/>
          <p:cNvSpPr/>
          <p:nvPr/>
        </p:nvSpPr>
        <p:spPr>
          <a:xfrm>
            <a:off x="685080" y="5257800"/>
            <a:ext cx="17809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assert (x &lt; 5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x = 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0" name=""/>
          <p:cNvCxnSpPr>
            <a:stCxn id="349" idx="4"/>
            <a:endCxn id="382" idx="0"/>
          </p:cNvCxnSpPr>
          <p:nvPr/>
        </p:nvCxnSpPr>
        <p:spPr>
          <a:xfrm>
            <a:off x="3962160" y="2666880"/>
            <a:ext cx="198180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1" name=""/>
          <p:cNvCxnSpPr/>
          <p:nvPr/>
        </p:nvCxnSpPr>
        <p:spPr>
          <a:xfrm>
            <a:off x="5943240" y="45716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2" name=""/>
          <p:cNvSpPr/>
          <p:nvPr/>
        </p:nvSpPr>
        <p:spPr>
          <a:xfrm>
            <a:off x="6095520" y="5334120"/>
            <a:ext cx="17809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assert (x &lt; 5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x = 1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27920" y="5943600"/>
            <a:ext cx="140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rror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332680" y="5943600"/>
            <a:ext cx="109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114080" y="5334120"/>
            <a:ext cx="17809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assert (x &lt; 5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x = 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903680" y="5943600"/>
            <a:ext cx="109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The Basic Search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343400" y="35053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343400" y="38862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343400" y="426708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343400" y="46483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3" name=""/>
          <p:cNvCxnSpPr>
            <a:stCxn id="399" idx="4"/>
            <a:endCxn id="400" idx="0"/>
          </p:cNvCxnSpPr>
          <p:nvPr/>
        </p:nvCxnSpPr>
        <p:spPr>
          <a:xfrm>
            <a:off x="4495320" y="3733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4" name=""/>
          <p:cNvCxnSpPr>
            <a:stCxn id="400" idx="4"/>
            <a:endCxn id="401" idx="0"/>
          </p:cNvCxnSpPr>
          <p:nvPr/>
        </p:nvCxnSpPr>
        <p:spPr>
          <a:xfrm>
            <a:off x="4495320" y="4114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5" name=""/>
          <p:cNvCxnSpPr>
            <a:stCxn id="401" idx="4"/>
            <a:endCxn id="402" idx="0"/>
          </p:cNvCxnSpPr>
          <p:nvPr/>
        </p:nvCxnSpPr>
        <p:spPr>
          <a:xfrm>
            <a:off x="4495320" y="4495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6" name=""/>
          <p:cNvCxnSpPr>
            <a:stCxn id="402" idx="4"/>
          </p:cNvCxnSpPr>
          <p:nvPr/>
        </p:nvCxnSpPr>
        <p:spPr>
          <a:xfrm>
            <a:off x="4495320" y="4876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7" name=""/>
          <p:cNvSpPr/>
          <p:nvPr/>
        </p:nvSpPr>
        <p:spPr>
          <a:xfrm>
            <a:off x="4343400" y="50292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343400" y="5410080"/>
            <a:ext cx="30492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7" idx="4"/>
            <a:endCxn id="408" idx="0"/>
          </p:cNvCxnSpPr>
          <p:nvPr/>
        </p:nvCxnSpPr>
        <p:spPr>
          <a:xfrm>
            <a:off x="4495320" y="5257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0" name=""/>
          <p:cNvSpPr/>
          <p:nvPr/>
        </p:nvSpPr>
        <p:spPr>
          <a:xfrm>
            <a:off x="4343400" y="16002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343400" y="198108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343400" y="23623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343400" y="27432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4" name=""/>
          <p:cNvCxnSpPr>
            <a:stCxn id="410" idx="4"/>
            <a:endCxn id="411" idx="0"/>
          </p:cNvCxnSpPr>
          <p:nvPr/>
        </p:nvCxnSpPr>
        <p:spPr>
          <a:xfrm>
            <a:off x="4495320" y="1828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5" name=""/>
          <p:cNvCxnSpPr>
            <a:stCxn id="411" idx="4"/>
            <a:endCxn id="412" idx="0"/>
          </p:cNvCxnSpPr>
          <p:nvPr/>
        </p:nvCxnSpPr>
        <p:spPr>
          <a:xfrm>
            <a:off x="4495320" y="2209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6" name=""/>
          <p:cNvCxnSpPr>
            <a:stCxn id="412" idx="4"/>
            <a:endCxn id="413" idx="0"/>
          </p:cNvCxnSpPr>
          <p:nvPr/>
        </p:nvCxnSpPr>
        <p:spPr>
          <a:xfrm>
            <a:off x="4495320" y="2590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7" name=""/>
          <p:cNvCxnSpPr>
            <a:stCxn id="413" idx="4"/>
          </p:cNvCxnSpPr>
          <p:nvPr/>
        </p:nvCxnSpPr>
        <p:spPr>
          <a:xfrm>
            <a:off x="4495320" y="2971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8" name=""/>
          <p:cNvSpPr/>
          <p:nvPr/>
        </p:nvSpPr>
        <p:spPr>
          <a:xfrm>
            <a:off x="4343400" y="3124080"/>
            <a:ext cx="30492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9" name=""/>
          <p:cNvCxnSpPr>
            <a:stCxn id="418" idx="4"/>
          </p:cNvCxnSpPr>
          <p:nvPr/>
        </p:nvCxnSpPr>
        <p:spPr>
          <a:xfrm>
            <a:off x="4495320" y="3352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0" name=""/>
          <p:cNvSpPr/>
          <p:nvPr/>
        </p:nvSpPr>
        <p:spPr>
          <a:xfrm>
            <a:off x="4494600" y="5562720"/>
            <a:ext cx="140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rror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648680" y="2971800"/>
            <a:ext cx="127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Real ca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The Basic Search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343400" y="35053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343400" y="38862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343400" y="426708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343400" y="46483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24" idx="4"/>
            <a:endCxn id="425" idx="0"/>
          </p:cNvCxnSpPr>
          <p:nvPr/>
        </p:nvCxnSpPr>
        <p:spPr>
          <a:xfrm>
            <a:off x="4495320" y="3733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9" name=""/>
          <p:cNvCxnSpPr>
            <a:stCxn id="425" idx="4"/>
            <a:endCxn id="426" idx="0"/>
          </p:cNvCxnSpPr>
          <p:nvPr/>
        </p:nvCxnSpPr>
        <p:spPr>
          <a:xfrm>
            <a:off x="4495320" y="4114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0" name=""/>
          <p:cNvCxnSpPr>
            <a:stCxn id="426" idx="4"/>
            <a:endCxn id="427" idx="0"/>
          </p:cNvCxnSpPr>
          <p:nvPr/>
        </p:nvCxnSpPr>
        <p:spPr>
          <a:xfrm>
            <a:off x="4495320" y="4495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1" name=""/>
          <p:cNvCxnSpPr>
            <a:stCxn id="427" idx="4"/>
          </p:cNvCxnSpPr>
          <p:nvPr/>
        </p:nvCxnSpPr>
        <p:spPr>
          <a:xfrm>
            <a:off x="4495320" y="4876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2" name=""/>
          <p:cNvSpPr/>
          <p:nvPr/>
        </p:nvSpPr>
        <p:spPr>
          <a:xfrm>
            <a:off x="4343400" y="50292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343400" y="16002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343400" y="198108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343400" y="23623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343400" y="27432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7" name=""/>
          <p:cNvCxnSpPr>
            <a:stCxn id="433" idx="4"/>
            <a:endCxn id="434" idx="0"/>
          </p:cNvCxnSpPr>
          <p:nvPr/>
        </p:nvCxnSpPr>
        <p:spPr>
          <a:xfrm>
            <a:off x="4495320" y="1828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4" idx="4"/>
            <a:endCxn id="435" idx="0"/>
          </p:cNvCxnSpPr>
          <p:nvPr/>
        </p:nvCxnSpPr>
        <p:spPr>
          <a:xfrm>
            <a:off x="4495320" y="2209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9" name=""/>
          <p:cNvCxnSpPr>
            <a:stCxn id="435" idx="4"/>
            <a:endCxn id="436" idx="0"/>
          </p:cNvCxnSpPr>
          <p:nvPr/>
        </p:nvCxnSpPr>
        <p:spPr>
          <a:xfrm>
            <a:off x="4495320" y="2590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36" idx="4"/>
          </p:cNvCxnSpPr>
          <p:nvPr/>
        </p:nvCxnSpPr>
        <p:spPr>
          <a:xfrm>
            <a:off x="4495320" y="2971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1" name=""/>
          <p:cNvSpPr/>
          <p:nvPr/>
        </p:nvSpPr>
        <p:spPr>
          <a:xfrm>
            <a:off x="4343400" y="3124080"/>
            <a:ext cx="30492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2" name=""/>
          <p:cNvCxnSpPr>
            <a:stCxn id="441" idx="4"/>
          </p:cNvCxnSpPr>
          <p:nvPr/>
        </p:nvCxnSpPr>
        <p:spPr>
          <a:xfrm>
            <a:off x="4495320" y="3352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3" name=""/>
          <p:cNvSpPr/>
          <p:nvPr/>
        </p:nvSpPr>
        <p:spPr>
          <a:xfrm>
            <a:off x="4648680" y="2971800"/>
            <a:ext cx="127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Real ca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4038480" y="52578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495680" y="52578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4266720" y="5257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495680" y="5257800"/>
            <a:ext cx="38124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495680" y="5257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The Basic Search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343400" y="35053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343400" y="38862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343400" y="426708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343400" y="46483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5" name=""/>
          <p:cNvCxnSpPr>
            <a:stCxn id="451" idx="4"/>
            <a:endCxn id="452" idx="0"/>
          </p:cNvCxnSpPr>
          <p:nvPr/>
        </p:nvCxnSpPr>
        <p:spPr>
          <a:xfrm>
            <a:off x="4495320" y="3733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6" name=""/>
          <p:cNvCxnSpPr>
            <a:stCxn id="452" idx="4"/>
            <a:endCxn id="453" idx="0"/>
          </p:cNvCxnSpPr>
          <p:nvPr/>
        </p:nvCxnSpPr>
        <p:spPr>
          <a:xfrm>
            <a:off x="4495320" y="4114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7" name=""/>
          <p:cNvCxnSpPr>
            <a:stCxn id="453" idx="4"/>
            <a:endCxn id="454" idx="0"/>
          </p:cNvCxnSpPr>
          <p:nvPr/>
        </p:nvCxnSpPr>
        <p:spPr>
          <a:xfrm>
            <a:off x="4495320" y="4495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8" name=""/>
          <p:cNvSpPr/>
          <p:nvPr/>
        </p:nvSpPr>
        <p:spPr>
          <a:xfrm>
            <a:off x="4343400" y="16002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343400" y="198108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343400" y="23623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343400" y="27432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2" name=""/>
          <p:cNvCxnSpPr>
            <a:stCxn id="458" idx="4"/>
            <a:endCxn id="459" idx="0"/>
          </p:cNvCxnSpPr>
          <p:nvPr/>
        </p:nvCxnSpPr>
        <p:spPr>
          <a:xfrm>
            <a:off x="4495320" y="1828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3" name=""/>
          <p:cNvCxnSpPr>
            <a:stCxn id="459" idx="4"/>
            <a:endCxn id="460" idx="0"/>
          </p:cNvCxnSpPr>
          <p:nvPr/>
        </p:nvCxnSpPr>
        <p:spPr>
          <a:xfrm>
            <a:off x="4495320" y="2209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4" name=""/>
          <p:cNvCxnSpPr>
            <a:stCxn id="460" idx="4"/>
            <a:endCxn id="461" idx="0"/>
          </p:cNvCxnSpPr>
          <p:nvPr/>
        </p:nvCxnSpPr>
        <p:spPr>
          <a:xfrm>
            <a:off x="4495320" y="2590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5" name=""/>
          <p:cNvCxnSpPr>
            <a:stCxn id="461" idx="4"/>
          </p:cNvCxnSpPr>
          <p:nvPr/>
        </p:nvCxnSpPr>
        <p:spPr>
          <a:xfrm>
            <a:off x="4495320" y="2971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6" name=""/>
          <p:cNvSpPr/>
          <p:nvPr/>
        </p:nvSpPr>
        <p:spPr>
          <a:xfrm>
            <a:off x="4343400" y="3124080"/>
            <a:ext cx="30492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7" name=""/>
          <p:cNvCxnSpPr>
            <a:stCxn id="466" idx="4"/>
          </p:cNvCxnSpPr>
          <p:nvPr/>
        </p:nvCxnSpPr>
        <p:spPr>
          <a:xfrm>
            <a:off x="4495320" y="3352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8" name=""/>
          <p:cNvSpPr/>
          <p:nvPr/>
        </p:nvSpPr>
        <p:spPr>
          <a:xfrm>
            <a:off x="4648680" y="2971800"/>
            <a:ext cx="127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Real ca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4038480" y="48769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495680" y="48769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4266720" y="48769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495680" y="4876920"/>
            <a:ext cx="38124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49568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The Basic Search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343400" y="35053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343400" y="38862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343400" y="426708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9" name=""/>
          <p:cNvCxnSpPr>
            <a:stCxn id="476" idx="4"/>
            <a:endCxn id="477" idx="0"/>
          </p:cNvCxnSpPr>
          <p:nvPr/>
        </p:nvCxnSpPr>
        <p:spPr>
          <a:xfrm>
            <a:off x="4495320" y="3733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"/>
          <p:cNvCxnSpPr>
            <a:stCxn id="477" idx="4"/>
            <a:endCxn id="478" idx="0"/>
          </p:cNvCxnSpPr>
          <p:nvPr/>
        </p:nvCxnSpPr>
        <p:spPr>
          <a:xfrm>
            <a:off x="4495320" y="4114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1" name=""/>
          <p:cNvSpPr/>
          <p:nvPr/>
        </p:nvSpPr>
        <p:spPr>
          <a:xfrm>
            <a:off x="4343400" y="16002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343400" y="198108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343400" y="23623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343400" y="27432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5" name=""/>
          <p:cNvCxnSpPr>
            <a:stCxn id="481" idx="4"/>
            <a:endCxn id="482" idx="0"/>
          </p:cNvCxnSpPr>
          <p:nvPr/>
        </p:nvCxnSpPr>
        <p:spPr>
          <a:xfrm>
            <a:off x="4495320" y="1828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6" name=""/>
          <p:cNvCxnSpPr>
            <a:stCxn id="482" idx="4"/>
            <a:endCxn id="483" idx="0"/>
          </p:cNvCxnSpPr>
          <p:nvPr/>
        </p:nvCxnSpPr>
        <p:spPr>
          <a:xfrm>
            <a:off x="4495320" y="2209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7" name=""/>
          <p:cNvCxnSpPr>
            <a:stCxn id="483" idx="4"/>
            <a:endCxn id="484" idx="0"/>
          </p:cNvCxnSpPr>
          <p:nvPr/>
        </p:nvCxnSpPr>
        <p:spPr>
          <a:xfrm>
            <a:off x="4495320" y="2590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8" name=""/>
          <p:cNvCxnSpPr>
            <a:stCxn id="484" idx="4"/>
          </p:cNvCxnSpPr>
          <p:nvPr/>
        </p:nvCxnSpPr>
        <p:spPr>
          <a:xfrm>
            <a:off x="4495320" y="2971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9" name=""/>
          <p:cNvSpPr/>
          <p:nvPr/>
        </p:nvSpPr>
        <p:spPr>
          <a:xfrm>
            <a:off x="4343400" y="3124080"/>
            <a:ext cx="30492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0" name=""/>
          <p:cNvCxnSpPr>
            <a:stCxn id="489" idx="4"/>
          </p:cNvCxnSpPr>
          <p:nvPr/>
        </p:nvCxnSpPr>
        <p:spPr>
          <a:xfrm>
            <a:off x="4495320" y="3352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1" name=""/>
          <p:cNvSpPr/>
          <p:nvPr/>
        </p:nvSpPr>
        <p:spPr>
          <a:xfrm>
            <a:off x="4648680" y="2971800"/>
            <a:ext cx="127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Real ca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4038480" y="44956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495680" y="44956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H="1">
            <a:off x="4266720" y="449568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495680" y="4495680"/>
            <a:ext cx="38124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495680" y="4495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The Basic Search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343400" y="35053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343400" y="38862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1" name=""/>
          <p:cNvCxnSpPr>
            <a:stCxn id="499" idx="4"/>
            <a:endCxn id="500" idx="0"/>
          </p:cNvCxnSpPr>
          <p:nvPr/>
        </p:nvCxnSpPr>
        <p:spPr>
          <a:xfrm>
            <a:off x="4495320" y="3733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2" name=""/>
          <p:cNvSpPr/>
          <p:nvPr/>
        </p:nvSpPr>
        <p:spPr>
          <a:xfrm>
            <a:off x="4343400" y="16002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343400" y="198108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343400" y="23623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3400" y="27432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6" name=""/>
          <p:cNvCxnSpPr>
            <a:stCxn id="502" idx="4"/>
            <a:endCxn id="503" idx="0"/>
          </p:cNvCxnSpPr>
          <p:nvPr/>
        </p:nvCxnSpPr>
        <p:spPr>
          <a:xfrm>
            <a:off x="4495320" y="1828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7" name=""/>
          <p:cNvCxnSpPr>
            <a:stCxn id="503" idx="4"/>
            <a:endCxn id="504" idx="0"/>
          </p:cNvCxnSpPr>
          <p:nvPr/>
        </p:nvCxnSpPr>
        <p:spPr>
          <a:xfrm>
            <a:off x="4495320" y="2209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8" name=""/>
          <p:cNvCxnSpPr>
            <a:stCxn id="504" idx="4"/>
            <a:endCxn id="505" idx="0"/>
          </p:cNvCxnSpPr>
          <p:nvPr/>
        </p:nvCxnSpPr>
        <p:spPr>
          <a:xfrm>
            <a:off x="4495320" y="2590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9" name=""/>
          <p:cNvCxnSpPr>
            <a:stCxn id="505" idx="4"/>
          </p:cNvCxnSpPr>
          <p:nvPr/>
        </p:nvCxnSpPr>
        <p:spPr>
          <a:xfrm>
            <a:off x="4495320" y="2971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0" name=""/>
          <p:cNvSpPr/>
          <p:nvPr/>
        </p:nvSpPr>
        <p:spPr>
          <a:xfrm>
            <a:off x="4343400" y="3124080"/>
            <a:ext cx="30492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1" name=""/>
          <p:cNvCxnSpPr>
            <a:stCxn id="510" idx="4"/>
          </p:cNvCxnSpPr>
          <p:nvPr/>
        </p:nvCxnSpPr>
        <p:spPr>
          <a:xfrm>
            <a:off x="4495320" y="3352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2" name=""/>
          <p:cNvSpPr/>
          <p:nvPr/>
        </p:nvSpPr>
        <p:spPr>
          <a:xfrm>
            <a:off x="4648680" y="2971800"/>
            <a:ext cx="127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Real ca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4038480" y="41148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495680" y="41148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4266720" y="4114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495680" y="4114800"/>
            <a:ext cx="38124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495680" y="4114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The Basic Search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343400" y="35053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343400" y="16002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343400" y="198108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343400" y="23623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343400" y="27432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5" name=""/>
          <p:cNvCxnSpPr>
            <a:stCxn id="521" idx="4"/>
            <a:endCxn id="522" idx="0"/>
          </p:cNvCxnSpPr>
          <p:nvPr/>
        </p:nvCxnSpPr>
        <p:spPr>
          <a:xfrm>
            <a:off x="4495320" y="1828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"/>
          <p:cNvCxnSpPr>
            <a:stCxn id="522" idx="4"/>
            <a:endCxn id="523" idx="0"/>
          </p:cNvCxnSpPr>
          <p:nvPr/>
        </p:nvCxnSpPr>
        <p:spPr>
          <a:xfrm>
            <a:off x="4495320" y="2209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"/>
          <p:cNvCxnSpPr>
            <a:stCxn id="523" idx="4"/>
            <a:endCxn id="524" idx="0"/>
          </p:cNvCxnSpPr>
          <p:nvPr/>
        </p:nvCxnSpPr>
        <p:spPr>
          <a:xfrm>
            <a:off x="4495320" y="2590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8" name=""/>
          <p:cNvCxnSpPr>
            <a:stCxn id="524" idx="4"/>
          </p:cNvCxnSpPr>
          <p:nvPr/>
        </p:nvCxnSpPr>
        <p:spPr>
          <a:xfrm>
            <a:off x="4495320" y="2971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9" name=""/>
          <p:cNvSpPr/>
          <p:nvPr/>
        </p:nvSpPr>
        <p:spPr>
          <a:xfrm>
            <a:off x="4343400" y="3124080"/>
            <a:ext cx="30492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0" name=""/>
          <p:cNvCxnSpPr>
            <a:stCxn id="529" idx="4"/>
          </p:cNvCxnSpPr>
          <p:nvPr/>
        </p:nvCxnSpPr>
        <p:spPr>
          <a:xfrm>
            <a:off x="4495320" y="3352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1" name=""/>
          <p:cNvSpPr/>
          <p:nvPr/>
        </p:nvSpPr>
        <p:spPr>
          <a:xfrm>
            <a:off x="4648680" y="2971800"/>
            <a:ext cx="127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Real ca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H="1">
            <a:off x="4038480" y="37339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495680" y="37339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H="1">
            <a:off x="4266720" y="37339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495680" y="3733920"/>
            <a:ext cx="38124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495680" y="3733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The Basic Search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343400" y="16002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343400" y="198108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343400" y="23623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343400" y="27432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4"/>
            <a:endCxn id="540" idx="0"/>
          </p:cNvCxnSpPr>
          <p:nvPr/>
        </p:nvCxnSpPr>
        <p:spPr>
          <a:xfrm>
            <a:off x="4495320" y="1828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4"/>
            <a:endCxn id="541" idx="0"/>
          </p:cNvCxnSpPr>
          <p:nvPr/>
        </p:nvCxnSpPr>
        <p:spPr>
          <a:xfrm>
            <a:off x="4495320" y="2209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5" name=""/>
          <p:cNvCxnSpPr>
            <a:stCxn id="541" idx="4"/>
            <a:endCxn id="542" idx="0"/>
          </p:cNvCxnSpPr>
          <p:nvPr/>
        </p:nvCxnSpPr>
        <p:spPr>
          <a:xfrm>
            <a:off x="4495320" y="2590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6" name=""/>
          <p:cNvCxnSpPr>
            <a:stCxn id="542" idx="4"/>
          </p:cNvCxnSpPr>
          <p:nvPr/>
        </p:nvCxnSpPr>
        <p:spPr>
          <a:xfrm>
            <a:off x="4495320" y="2971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4343400" y="3124080"/>
            <a:ext cx="30492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648680" y="2971800"/>
            <a:ext cx="127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Real ca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4038480" y="33526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495680" y="33526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H="1">
            <a:off x="4266720" y="335268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495680" y="3352680"/>
            <a:ext cx="38124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495680" y="3352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The Basic Search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343400" y="16002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343400" y="198108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343400" y="23623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343400" y="27432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0" name=""/>
          <p:cNvCxnSpPr>
            <a:stCxn id="556" idx="4"/>
            <a:endCxn id="557" idx="0"/>
          </p:cNvCxnSpPr>
          <p:nvPr/>
        </p:nvCxnSpPr>
        <p:spPr>
          <a:xfrm>
            <a:off x="4495320" y="1828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1" name=""/>
          <p:cNvCxnSpPr>
            <a:stCxn id="557" idx="4"/>
            <a:endCxn id="558" idx="0"/>
          </p:cNvCxnSpPr>
          <p:nvPr/>
        </p:nvCxnSpPr>
        <p:spPr>
          <a:xfrm>
            <a:off x="4495320" y="2209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2" name=""/>
          <p:cNvCxnSpPr>
            <a:stCxn id="558" idx="4"/>
            <a:endCxn id="559" idx="0"/>
          </p:cNvCxnSpPr>
          <p:nvPr/>
        </p:nvCxnSpPr>
        <p:spPr>
          <a:xfrm>
            <a:off x="4495320" y="2590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3" name=""/>
          <p:cNvSpPr/>
          <p:nvPr/>
        </p:nvSpPr>
        <p:spPr>
          <a:xfrm flipH="1">
            <a:off x="4038480" y="29718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495680" y="29718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426672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495680" y="2971800"/>
            <a:ext cx="38124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495680" y="2971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The Basic Search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343400" y="16002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343400" y="198108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343400" y="23623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3" name=""/>
          <p:cNvCxnSpPr>
            <a:stCxn id="570" idx="4"/>
            <a:endCxn id="571" idx="0"/>
          </p:cNvCxnSpPr>
          <p:nvPr/>
        </p:nvCxnSpPr>
        <p:spPr>
          <a:xfrm>
            <a:off x="4495320" y="1828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4" name=""/>
          <p:cNvCxnSpPr>
            <a:stCxn id="571" idx="4"/>
            <a:endCxn id="572" idx="0"/>
          </p:cNvCxnSpPr>
          <p:nvPr/>
        </p:nvCxnSpPr>
        <p:spPr>
          <a:xfrm>
            <a:off x="4495320" y="2209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5" name=""/>
          <p:cNvSpPr/>
          <p:nvPr/>
        </p:nvSpPr>
        <p:spPr>
          <a:xfrm flipH="1">
            <a:off x="4038480" y="25909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495680" y="25909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H="1">
            <a:off x="4266720" y="25909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495680" y="2590920"/>
            <a:ext cx="38124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49568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Java PathFinder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7620120" y="1676520"/>
            <a:ext cx="1304280" cy="1638000"/>
            <a:chOff x="7620120" y="1676520"/>
            <a:chExt cx="1304280" cy="1638000"/>
          </a:xfrm>
        </p:grpSpPr>
        <p:sp>
          <p:nvSpPr>
            <p:cNvPr id="46" name=""/>
            <p:cNvSpPr/>
            <p:nvPr/>
          </p:nvSpPr>
          <p:spPr>
            <a:xfrm>
              <a:off x="8191440" y="1676520"/>
              <a:ext cx="75600" cy="75960"/>
            </a:xfrm>
            <a:prstGeom prst="flowChartConnector">
              <a:avLst/>
            </a:prstGeom>
            <a:solidFill>
              <a:srgbClr val="ff0000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45120" y="1816200"/>
              <a:ext cx="75960" cy="75960"/>
            </a:xfrm>
            <a:prstGeom prst="flowChartConnector">
              <a:avLst/>
            </a:prstGeom>
            <a:solidFill>
              <a:srgbClr val="ff0000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70640" y="1974960"/>
              <a:ext cx="75960" cy="75960"/>
            </a:xfrm>
            <a:prstGeom prst="flowChartConnector">
              <a:avLst/>
            </a:prstGeom>
            <a:solidFill>
              <a:srgbClr val="969696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775280" y="2209680"/>
              <a:ext cx="75960" cy="76320"/>
            </a:xfrm>
            <a:prstGeom prst="flowChartConnector">
              <a:avLst/>
            </a:prstGeom>
            <a:solidFill>
              <a:srgbClr val="ff0000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048520" y="2209680"/>
              <a:ext cx="75600" cy="76320"/>
            </a:xfrm>
            <a:prstGeom prst="flowChartConnector">
              <a:avLst/>
            </a:prstGeom>
            <a:solidFill>
              <a:srgbClr val="969696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308800" y="2209680"/>
              <a:ext cx="75600" cy="76320"/>
            </a:xfrm>
            <a:prstGeom prst="flowChartConnector">
              <a:avLst/>
            </a:prstGeom>
            <a:solidFill>
              <a:srgbClr val="969696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502480" y="2209680"/>
              <a:ext cx="75600" cy="76320"/>
            </a:xfrm>
            <a:prstGeom prst="flowChartConnector">
              <a:avLst/>
            </a:prstGeom>
            <a:solidFill>
              <a:srgbClr val="969696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7560" y="2432160"/>
              <a:ext cx="75960" cy="75960"/>
            </a:xfrm>
            <a:prstGeom prst="flowChartConnector">
              <a:avLst/>
            </a:prstGeom>
            <a:solidFill>
              <a:srgbClr val="ff0000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4760" y="2432160"/>
              <a:ext cx="75960" cy="75960"/>
            </a:xfrm>
            <a:prstGeom prst="flowChartConnector">
              <a:avLst/>
            </a:prstGeom>
            <a:solidFill>
              <a:srgbClr val="969696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124480" y="2432160"/>
              <a:ext cx="75960" cy="75960"/>
            </a:xfrm>
            <a:prstGeom prst="flowChartConnector">
              <a:avLst/>
            </a:prstGeom>
            <a:solidFill>
              <a:srgbClr val="969696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08800" y="2647800"/>
              <a:ext cx="75600" cy="76320"/>
            </a:xfrm>
            <a:prstGeom prst="flowChartConnector">
              <a:avLst/>
            </a:prstGeom>
            <a:solidFill>
              <a:srgbClr val="969696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003880" y="2647800"/>
              <a:ext cx="75960" cy="76320"/>
            </a:xfrm>
            <a:prstGeom prst="flowChartConnector">
              <a:avLst/>
            </a:prstGeom>
            <a:solidFill>
              <a:srgbClr val="ff0000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124480" y="2844720"/>
              <a:ext cx="75960" cy="76320"/>
            </a:xfrm>
            <a:prstGeom prst="flowChartConnector">
              <a:avLst/>
            </a:prstGeom>
            <a:solidFill>
              <a:srgbClr val="ff0000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734240" y="2647800"/>
              <a:ext cx="75600" cy="76320"/>
            </a:xfrm>
            <a:prstGeom prst="flowChartConnector">
              <a:avLst/>
            </a:prstGeom>
            <a:solidFill>
              <a:srgbClr val="969696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502480" y="2647800"/>
              <a:ext cx="75600" cy="76320"/>
            </a:xfrm>
            <a:prstGeom prst="flowChartConnector">
              <a:avLst/>
            </a:prstGeom>
            <a:solidFill>
              <a:srgbClr val="969696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7848360" y="1898640"/>
              <a:ext cx="2880" cy="298440"/>
            </a:xfrm>
            <a:prstGeom prst="line">
              <a:avLst/>
            </a:prstGeom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48360" y="2273400"/>
              <a:ext cx="78840" cy="158760"/>
            </a:xfrm>
            <a:prstGeom prst="line">
              <a:avLst/>
            </a:prstGeom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772040" y="2273400"/>
              <a:ext cx="2880" cy="3744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048520" y="2724120"/>
              <a:ext cx="75600" cy="120600"/>
            </a:xfrm>
            <a:prstGeom prst="line">
              <a:avLst/>
            </a:prstGeom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902360" y="1898640"/>
              <a:ext cx="177480" cy="3110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099280" y="2292480"/>
              <a:ext cx="50400" cy="139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975440" y="2517840"/>
              <a:ext cx="47160" cy="123840"/>
            </a:xfrm>
            <a:prstGeom prst="line">
              <a:avLst/>
            </a:prstGeom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165880" y="2517840"/>
              <a:ext cx="0" cy="3110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772120" y="2244600"/>
              <a:ext cx="12600" cy="2415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305560" y="2057400"/>
              <a:ext cx="47160" cy="1555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349840" y="2035080"/>
              <a:ext cx="174600" cy="1843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8438760" y="2292480"/>
              <a:ext cx="79200" cy="139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432640" y="2521080"/>
              <a:ext cx="91800" cy="1332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8355960" y="2517840"/>
              <a:ext cx="47160" cy="120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8193960" y="2727360"/>
              <a:ext cx="129960" cy="1238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7911360" y="1755720"/>
              <a:ext cx="285480" cy="79560"/>
            </a:xfrm>
            <a:prstGeom prst="line">
              <a:avLst/>
            </a:prstGeom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261280" y="1752480"/>
              <a:ext cx="43920" cy="2127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845120" y="3003480"/>
              <a:ext cx="75960" cy="76320"/>
            </a:xfrm>
            <a:prstGeom prst="flowChartConnector">
              <a:avLst/>
            </a:prstGeom>
            <a:solidFill>
              <a:srgbClr val="969696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372160" y="3051000"/>
              <a:ext cx="75960" cy="76320"/>
            </a:xfrm>
            <a:prstGeom prst="flowChartConnector">
              <a:avLst/>
            </a:prstGeom>
            <a:solidFill>
              <a:srgbClr val="969696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273880" y="3238560"/>
              <a:ext cx="75600" cy="75960"/>
            </a:xfrm>
            <a:prstGeom prst="flowChartConnector">
              <a:avLst/>
            </a:prstGeom>
            <a:solidFill>
              <a:srgbClr val="ff0000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099280" y="3041640"/>
              <a:ext cx="75600" cy="76320"/>
            </a:xfrm>
            <a:prstGeom prst="flowChartConnector">
              <a:avLst/>
            </a:prstGeom>
            <a:solidFill>
              <a:srgbClr val="ff0000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743680" y="2476440"/>
              <a:ext cx="75960" cy="76320"/>
            </a:xfrm>
            <a:prstGeom prst="flowChartConnector">
              <a:avLst/>
            </a:prstGeom>
            <a:solidFill>
              <a:srgbClr val="969696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778520" y="2727360"/>
              <a:ext cx="78840" cy="2761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8603640" y="2914560"/>
              <a:ext cx="85320" cy="1015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08840" y="3085920"/>
              <a:ext cx="320040" cy="1778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153280" y="2959200"/>
              <a:ext cx="0" cy="75960"/>
            </a:xfrm>
            <a:prstGeom prst="line">
              <a:avLst/>
            </a:prstGeom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8416440" y="2739960"/>
              <a:ext cx="123480" cy="301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8333640" y="3130560"/>
              <a:ext cx="44280" cy="1112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153280" y="3111480"/>
              <a:ext cx="151920" cy="152280"/>
            </a:xfrm>
            <a:prstGeom prst="line">
              <a:avLst/>
            </a:prstGeom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619840" y="1895400"/>
              <a:ext cx="149040" cy="2732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8737200" y="2158920"/>
              <a:ext cx="75960" cy="76320"/>
            </a:xfrm>
            <a:prstGeom prst="flowChartConnector">
              <a:avLst/>
            </a:prstGeom>
            <a:solidFill>
              <a:srgbClr val="969696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572320" y="1828800"/>
              <a:ext cx="75960" cy="76320"/>
            </a:xfrm>
            <a:prstGeom prst="flowChartConnector">
              <a:avLst/>
            </a:prstGeom>
            <a:solidFill>
              <a:srgbClr val="969696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277120" y="1720800"/>
              <a:ext cx="288360" cy="120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40480" y="2289240"/>
              <a:ext cx="63000" cy="1522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77080" y="2838600"/>
              <a:ext cx="75960" cy="75960"/>
            </a:xfrm>
            <a:prstGeom prst="flowChartConnector">
              <a:avLst/>
            </a:prstGeom>
            <a:solidFill>
              <a:srgbClr val="969696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8721360" y="2556000"/>
              <a:ext cx="50400" cy="2728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537400" y="3016080"/>
              <a:ext cx="75600" cy="76320"/>
            </a:xfrm>
            <a:prstGeom prst="flowChartConnector">
              <a:avLst/>
            </a:prstGeom>
            <a:solidFill>
              <a:srgbClr val="969696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8381880" y="3083040"/>
              <a:ext cx="174240" cy="1807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620120" y="2273400"/>
              <a:ext cx="199800" cy="817560"/>
            </a:xfrm>
            <a:custGeom>
              <a:avLst/>
              <a:gdLst/>
              <a:ahLst/>
              <a:rect l="l" t="t" r="r" b="b"/>
              <a:pathLst>
                <a:path w="126" h="515">
                  <a:moveTo>
                    <a:pt x="126" y="504"/>
                  </a:moveTo>
                  <a:cubicBezTo>
                    <a:pt x="93" y="515"/>
                    <a:pt x="48" y="493"/>
                    <a:pt x="34" y="460"/>
                  </a:cubicBezTo>
                  <a:cubicBezTo>
                    <a:pt x="30" y="451"/>
                    <a:pt x="22" y="434"/>
                    <a:pt x="18" y="424"/>
                  </a:cubicBezTo>
                  <a:cubicBezTo>
                    <a:pt x="15" y="416"/>
                    <a:pt x="10" y="400"/>
                    <a:pt x="10" y="400"/>
                  </a:cubicBezTo>
                  <a:cubicBezTo>
                    <a:pt x="0" y="295"/>
                    <a:pt x="0" y="195"/>
                    <a:pt x="6" y="88"/>
                  </a:cubicBezTo>
                  <a:cubicBezTo>
                    <a:pt x="7" y="69"/>
                    <a:pt x="24" y="30"/>
                    <a:pt x="42" y="24"/>
                  </a:cubicBezTo>
                  <a:cubicBezTo>
                    <a:pt x="54" y="6"/>
                    <a:pt x="65" y="13"/>
                    <a:pt x="78" y="0"/>
                  </a:cubicBezTo>
                </a:path>
              </a:pathLst>
            </a:custGeom>
            <a:noFill/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743680" y="2203560"/>
              <a:ext cx="180720" cy="666720"/>
            </a:xfrm>
            <a:custGeom>
              <a:avLst/>
              <a:gdLst/>
              <a:ahLst/>
              <a:rect l="l" t="t" r="r" b="b"/>
              <a:pathLst>
                <a:path w="114" h="420">
                  <a:moveTo>
                    <a:pt x="0" y="420"/>
                  </a:moveTo>
                  <a:cubicBezTo>
                    <a:pt x="29" y="419"/>
                    <a:pt x="58" y="419"/>
                    <a:pt x="76" y="360"/>
                  </a:cubicBezTo>
                  <a:cubicBezTo>
                    <a:pt x="94" y="301"/>
                    <a:pt x="114" y="128"/>
                    <a:pt x="108" y="68"/>
                  </a:cubicBezTo>
                  <a:cubicBezTo>
                    <a:pt x="102" y="8"/>
                    <a:pt x="71" y="4"/>
                    <a:pt x="40" y="0"/>
                  </a:cubicBezTo>
                </a:path>
              </a:pathLst>
            </a:custGeom>
            <a:noFill/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28600" y="1447920"/>
            <a:ext cx="1752480" cy="1920960"/>
            <a:chOff x="228600" y="1447920"/>
            <a:chExt cx="1752480" cy="1920960"/>
          </a:xfrm>
        </p:grpSpPr>
        <p:grpSp>
          <p:nvGrpSpPr>
            <p:cNvPr id="102" name=""/>
            <p:cNvGrpSpPr/>
            <p:nvPr/>
          </p:nvGrpSpPr>
          <p:grpSpPr>
            <a:xfrm>
              <a:off x="228600" y="1828800"/>
              <a:ext cx="1752480" cy="1540080"/>
              <a:chOff x="228600" y="1828800"/>
              <a:chExt cx="1752480" cy="1540080"/>
            </a:xfrm>
          </p:grpSpPr>
          <p:sp>
            <p:nvSpPr>
              <p:cNvPr id="103" name=""/>
              <p:cNvSpPr/>
              <p:nvPr/>
            </p:nvSpPr>
            <p:spPr>
              <a:xfrm>
                <a:off x="228600" y="1828800"/>
                <a:ext cx="1752480" cy="1523880"/>
              </a:xfrm>
              <a:prstGeom prst="rect">
                <a:avLst/>
              </a:prstGeom>
              <a:solidFill>
                <a:srgbClr val="ff99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86920" y="1903320"/>
                <a:ext cx="1689840" cy="1465560"/>
              </a:xfrm>
              <a:prstGeom prst="rect">
                <a:avLst/>
              </a:prstGeom>
              <a:solidFill>
                <a:srgbClr val="ff99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Lucida Console"/>
                  </a:rPr>
                  <a:t>void add(Object o) {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Lucida Console"/>
                  </a:rPr>
                  <a:t> 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Lucida Console"/>
                  </a:rPr>
                  <a:t>buffer[head] = o;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Lucida Console"/>
                  </a:rPr>
                  <a:t> 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Lucida Console"/>
                  </a:rPr>
                  <a:t>head = (head+1)%size;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Lucida Console"/>
                  </a:rPr>
                  <a:t>}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Lucida Console"/>
                  </a:rPr>
                  <a:t>Object take() {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Lucida Console"/>
                  </a:rPr>
                  <a:t> …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Lucida Console"/>
                  </a:rPr>
                  <a:t> 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Lucida Console"/>
                  </a:rPr>
                  <a:t>tail=(tail+1)%size;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Lucida Console"/>
                  </a:rPr>
                  <a:t> 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Lucida Console"/>
                  </a:rPr>
                  <a:t>return buffer[tail];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Lucida Console"/>
                  </a:rPr>
                  <a:t>}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" name=""/>
            <p:cNvSpPr/>
            <p:nvPr/>
          </p:nvSpPr>
          <p:spPr>
            <a:xfrm>
              <a:off x="457200" y="1447920"/>
              <a:ext cx="1235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Java 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2057400" y="2438280"/>
            <a:ext cx="1676520" cy="398880"/>
            <a:chOff x="2057400" y="2438280"/>
            <a:chExt cx="1676520" cy="398880"/>
          </a:xfrm>
        </p:grpSpPr>
        <p:sp>
          <p:nvSpPr>
            <p:cNvPr id="107" name=""/>
            <p:cNvSpPr/>
            <p:nvPr/>
          </p:nvSpPr>
          <p:spPr>
            <a:xfrm>
              <a:off x="2363400" y="2438280"/>
              <a:ext cx="1002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JAVA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057400" y="2666880"/>
              <a:ext cx="38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76720" y="266688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5638680" y="2438280"/>
            <a:ext cx="1828800" cy="398880"/>
            <a:chOff x="5638680" y="2438280"/>
            <a:chExt cx="1828800" cy="398880"/>
          </a:xfrm>
        </p:grpSpPr>
        <p:sp>
          <p:nvSpPr>
            <p:cNvPr id="111" name=""/>
            <p:cNvSpPr/>
            <p:nvPr/>
          </p:nvSpPr>
          <p:spPr>
            <a:xfrm>
              <a:off x="6173280" y="243828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JV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638680" y="2666880"/>
              <a:ext cx="533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781680" y="2666880"/>
              <a:ext cx="685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3809880" y="1447920"/>
            <a:ext cx="1752840" cy="1904760"/>
            <a:chOff x="3809880" y="1447920"/>
            <a:chExt cx="1752840" cy="1904760"/>
          </a:xfrm>
        </p:grpSpPr>
        <p:grpSp>
          <p:nvGrpSpPr>
            <p:cNvPr id="115" name=""/>
            <p:cNvGrpSpPr/>
            <p:nvPr/>
          </p:nvGrpSpPr>
          <p:grpSpPr>
            <a:xfrm>
              <a:off x="3809880" y="1828800"/>
              <a:ext cx="1752840" cy="1523880"/>
              <a:chOff x="3809880" y="1828800"/>
              <a:chExt cx="1752840" cy="1523880"/>
            </a:xfrm>
          </p:grpSpPr>
          <p:sp>
            <p:nvSpPr>
              <p:cNvPr id="116" name=""/>
              <p:cNvSpPr/>
              <p:nvPr/>
            </p:nvSpPr>
            <p:spPr>
              <a:xfrm>
                <a:off x="3809880" y="1828800"/>
                <a:ext cx="1752840" cy="1523880"/>
              </a:xfrm>
              <a:prstGeom prst="rect">
                <a:avLst/>
              </a:prstGeom>
              <a:solidFill>
                <a:srgbClr val="99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039560" y="2057040"/>
                <a:ext cx="1301040" cy="1054080"/>
              </a:xfrm>
              <a:prstGeom prst="rect">
                <a:avLst/>
              </a:prstGeom>
              <a:solidFill>
                <a:srgbClr val="99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Lucida Console"/>
                  </a:rPr>
                  <a:t>0:    iconst_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Lucida Console"/>
                  </a:rPr>
                  <a:t>1:    istore_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Lucida Console"/>
                  </a:rPr>
                  <a:t>2:    goto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Lucida Console"/>
                  </a:rPr>
                  <a:t>	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Lucida Console"/>
                  </a:rPr>
                  <a:t>#39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Lucida Console"/>
                  </a:rPr>
                  <a:t>5:    getstatic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Lucida Console"/>
                  </a:rPr>
                  <a:t>8:    aload_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Lucida Console"/>
                  </a:rPr>
                  <a:t>9:    iload_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Lucida Console"/>
                  </a:rPr>
                  <a:t>10:   aaloa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4114800" y="1447920"/>
              <a:ext cx="120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ytecod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7620120" y="4191120"/>
            <a:ext cx="1282680" cy="1638360"/>
            <a:chOff x="7620120" y="4191120"/>
            <a:chExt cx="1282680" cy="1638360"/>
          </a:xfrm>
        </p:grpSpPr>
        <p:sp>
          <p:nvSpPr>
            <p:cNvPr id="120" name=""/>
            <p:cNvSpPr/>
            <p:nvPr/>
          </p:nvSpPr>
          <p:spPr>
            <a:xfrm>
              <a:off x="8169480" y="4191120"/>
              <a:ext cx="76320" cy="76320"/>
            </a:xfrm>
            <a:prstGeom prst="flowChartConnector">
              <a:avLst/>
            </a:prstGeom>
            <a:solidFill>
              <a:srgbClr val="ff0000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823520" y="4330800"/>
              <a:ext cx="75960" cy="76320"/>
            </a:xfrm>
            <a:prstGeom prst="flowChartConnector">
              <a:avLst/>
            </a:prstGeom>
            <a:solidFill>
              <a:srgbClr val="ff0000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249040" y="4489560"/>
              <a:ext cx="75960" cy="76320"/>
            </a:xfrm>
            <a:prstGeom prst="flowChartConnector">
              <a:avLst/>
            </a:prstGeom>
            <a:solidFill>
              <a:srgbClr val="ff0000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753680" y="4724640"/>
              <a:ext cx="75960" cy="75960"/>
            </a:xfrm>
            <a:prstGeom prst="flowChartConnector">
              <a:avLst/>
            </a:prstGeom>
            <a:solidFill>
              <a:srgbClr val="ff0000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026560" y="4724640"/>
              <a:ext cx="76320" cy="75960"/>
            </a:xfrm>
            <a:prstGeom prst="flowChartConnector">
              <a:avLst/>
            </a:prstGeom>
            <a:solidFill>
              <a:srgbClr val="ff0000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286840" y="4724640"/>
              <a:ext cx="76320" cy="75960"/>
            </a:xfrm>
            <a:prstGeom prst="flowChartConnector">
              <a:avLst/>
            </a:prstGeom>
            <a:solidFill>
              <a:srgbClr val="ff0000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480520" y="4724640"/>
              <a:ext cx="76320" cy="75960"/>
            </a:xfrm>
            <a:prstGeom prst="flowChartConnector">
              <a:avLst/>
            </a:prstGeom>
            <a:solidFill>
              <a:srgbClr val="ff0000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905960" y="4946760"/>
              <a:ext cx="76320" cy="76320"/>
            </a:xfrm>
            <a:prstGeom prst="flowChartConnector">
              <a:avLst/>
            </a:prstGeom>
            <a:solidFill>
              <a:srgbClr val="ff0000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363160" y="4946760"/>
              <a:ext cx="76320" cy="76320"/>
            </a:xfrm>
            <a:prstGeom prst="flowChartConnector">
              <a:avLst/>
            </a:prstGeom>
            <a:solidFill>
              <a:srgbClr val="ff0000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102880" y="4946760"/>
              <a:ext cx="76320" cy="76320"/>
            </a:xfrm>
            <a:prstGeom prst="flowChartConnector">
              <a:avLst/>
            </a:prstGeom>
            <a:solidFill>
              <a:srgbClr val="ff0000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286840" y="5162760"/>
              <a:ext cx="76320" cy="75960"/>
            </a:xfrm>
            <a:prstGeom prst="flowChartConnector">
              <a:avLst/>
            </a:prstGeom>
            <a:solidFill>
              <a:srgbClr val="ff0000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982280" y="5162760"/>
              <a:ext cx="75960" cy="75960"/>
            </a:xfrm>
            <a:prstGeom prst="flowChartConnector">
              <a:avLst/>
            </a:prstGeom>
            <a:solidFill>
              <a:srgbClr val="ff0000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102880" y="5359680"/>
              <a:ext cx="76320" cy="75960"/>
            </a:xfrm>
            <a:prstGeom prst="flowChartConnector">
              <a:avLst/>
            </a:prstGeom>
            <a:solidFill>
              <a:srgbClr val="ff0000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712280" y="5162760"/>
              <a:ext cx="76320" cy="75960"/>
            </a:xfrm>
            <a:prstGeom prst="flowChartConnector">
              <a:avLst/>
            </a:prstGeom>
            <a:solidFill>
              <a:srgbClr val="ff0000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480520" y="5162760"/>
              <a:ext cx="76320" cy="75960"/>
            </a:xfrm>
            <a:prstGeom prst="flowChartConnector">
              <a:avLst/>
            </a:prstGeom>
            <a:solidFill>
              <a:srgbClr val="ff0000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7772760" y="4413240"/>
              <a:ext cx="56880" cy="311400"/>
            </a:xfrm>
            <a:prstGeom prst="line">
              <a:avLst/>
            </a:prstGeom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772760" y="4800600"/>
              <a:ext cx="133200" cy="146160"/>
            </a:xfrm>
            <a:prstGeom prst="line">
              <a:avLst/>
            </a:prstGeom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772760" y="4800600"/>
              <a:ext cx="0" cy="362160"/>
            </a:xfrm>
            <a:prstGeom prst="line">
              <a:avLst/>
            </a:prstGeom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026560" y="5238720"/>
              <a:ext cx="76320" cy="120960"/>
            </a:xfrm>
            <a:prstGeom prst="line">
              <a:avLst/>
            </a:prstGeom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848720" y="4419720"/>
              <a:ext cx="209520" cy="380880"/>
            </a:xfrm>
            <a:prstGeom prst="line">
              <a:avLst/>
            </a:prstGeom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077320" y="4800600"/>
              <a:ext cx="50760" cy="146160"/>
            </a:xfrm>
            <a:prstGeom prst="line">
              <a:avLst/>
            </a:prstGeom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144280" y="5032440"/>
              <a:ext cx="0" cy="311040"/>
            </a:xfrm>
            <a:prstGeom prst="line">
              <a:avLst/>
            </a:prstGeom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750520" y="4759560"/>
              <a:ext cx="12600" cy="241200"/>
            </a:xfrm>
            <a:prstGeom prst="line">
              <a:avLst/>
            </a:prstGeom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305920" y="4572000"/>
              <a:ext cx="25560" cy="155520"/>
            </a:xfrm>
            <a:prstGeom prst="line">
              <a:avLst/>
            </a:prstGeom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305920" y="4572000"/>
              <a:ext cx="196920" cy="162000"/>
            </a:xfrm>
            <a:prstGeom prst="line">
              <a:avLst/>
            </a:prstGeom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8416800" y="4800600"/>
              <a:ext cx="41400" cy="146160"/>
            </a:xfrm>
            <a:prstGeom prst="line">
              <a:avLst/>
            </a:prstGeom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458560" y="5029200"/>
              <a:ext cx="75960" cy="152640"/>
            </a:xfrm>
            <a:prstGeom prst="line">
              <a:avLst/>
            </a:prstGeom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8334720" y="5032440"/>
              <a:ext cx="47520" cy="120600"/>
            </a:xfrm>
            <a:prstGeom prst="line">
              <a:avLst/>
            </a:prstGeom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8153640" y="5257800"/>
              <a:ext cx="130320" cy="123840"/>
            </a:xfrm>
            <a:prstGeom prst="line">
              <a:avLst/>
            </a:prstGeom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7890120" y="4270320"/>
              <a:ext cx="285840" cy="79560"/>
            </a:xfrm>
            <a:prstGeom prst="line">
              <a:avLst/>
            </a:prstGeom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239320" y="4267440"/>
              <a:ext cx="44640" cy="212760"/>
            </a:xfrm>
            <a:prstGeom prst="line">
              <a:avLst/>
            </a:prstGeom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823520" y="5518440"/>
              <a:ext cx="75960" cy="75960"/>
            </a:xfrm>
            <a:prstGeom prst="flowChartConnector">
              <a:avLst/>
            </a:prstGeom>
            <a:solidFill>
              <a:srgbClr val="ff0000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350560" y="5565960"/>
              <a:ext cx="75960" cy="75960"/>
            </a:xfrm>
            <a:prstGeom prst="flowChartConnector">
              <a:avLst/>
            </a:prstGeom>
            <a:solidFill>
              <a:srgbClr val="ff0000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51920" y="5753160"/>
              <a:ext cx="76320" cy="76320"/>
            </a:xfrm>
            <a:prstGeom prst="flowChartConnector">
              <a:avLst/>
            </a:prstGeom>
            <a:solidFill>
              <a:srgbClr val="ff0000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077320" y="5556240"/>
              <a:ext cx="76320" cy="76320"/>
            </a:xfrm>
            <a:prstGeom prst="flowChartConnector">
              <a:avLst/>
            </a:prstGeom>
            <a:solidFill>
              <a:srgbClr val="ff0000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722080" y="4991400"/>
              <a:ext cx="75960" cy="75960"/>
            </a:xfrm>
            <a:prstGeom prst="flowChartConnector">
              <a:avLst/>
            </a:prstGeom>
            <a:solidFill>
              <a:srgbClr val="ff0000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756920" y="5241960"/>
              <a:ext cx="79200" cy="276480"/>
            </a:xfrm>
            <a:prstGeom prst="line">
              <a:avLst/>
            </a:prstGeom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394840" y="5254920"/>
              <a:ext cx="123840" cy="301320"/>
            </a:xfrm>
            <a:prstGeom prst="line">
              <a:avLst/>
            </a:prstGeom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8312040" y="5645160"/>
              <a:ext cx="44280" cy="111240"/>
            </a:xfrm>
            <a:prstGeom prst="line">
              <a:avLst/>
            </a:prstGeom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53640" y="5639040"/>
              <a:ext cx="120600" cy="136440"/>
            </a:xfrm>
            <a:prstGeom prst="line">
              <a:avLst/>
            </a:prstGeom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598240" y="4410360"/>
              <a:ext cx="149040" cy="272880"/>
            </a:xfrm>
            <a:prstGeom prst="line">
              <a:avLst/>
            </a:prstGeom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8715600" y="4673160"/>
              <a:ext cx="76320" cy="75960"/>
            </a:xfrm>
            <a:prstGeom prst="flowChartConnector">
              <a:avLst/>
            </a:prstGeom>
            <a:solidFill>
              <a:srgbClr val="ff0000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550360" y="4343400"/>
              <a:ext cx="76320" cy="76320"/>
            </a:xfrm>
            <a:prstGeom prst="flowChartConnector">
              <a:avLst/>
            </a:prstGeom>
            <a:solidFill>
              <a:srgbClr val="ff0000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229960" y="4267440"/>
              <a:ext cx="314280" cy="88920"/>
            </a:xfrm>
            <a:prstGeom prst="line">
              <a:avLst/>
            </a:prstGeom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318880" y="4803840"/>
              <a:ext cx="63360" cy="152280"/>
            </a:xfrm>
            <a:prstGeom prst="line">
              <a:avLst/>
            </a:prstGeom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655120" y="5353200"/>
              <a:ext cx="76320" cy="76320"/>
            </a:xfrm>
            <a:prstGeom prst="flowChartConnector">
              <a:avLst/>
            </a:prstGeom>
            <a:solidFill>
              <a:srgbClr val="ff0000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8699400" y="5070600"/>
              <a:ext cx="50760" cy="272880"/>
            </a:xfrm>
            <a:prstGeom prst="line">
              <a:avLst/>
            </a:prstGeom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515440" y="5531040"/>
              <a:ext cx="76320" cy="75960"/>
            </a:xfrm>
            <a:prstGeom prst="flowChartConnector">
              <a:avLst/>
            </a:prstGeom>
            <a:solidFill>
              <a:srgbClr val="ff0000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8331480" y="5597640"/>
              <a:ext cx="203040" cy="187200"/>
            </a:xfrm>
            <a:prstGeom prst="line">
              <a:avLst/>
            </a:prstGeom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620120" y="4724640"/>
              <a:ext cx="200160" cy="817560"/>
            </a:xfrm>
            <a:custGeom>
              <a:avLst/>
              <a:gdLst/>
              <a:ahLst/>
              <a:rect l="l" t="t" r="r" b="b"/>
              <a:pathLst>
                <a:path w="126" h="515">
                  <a:moveTo>
                    <a:pt x="126" y="504"/>
                  </a:moveTo>
                  <a:cubicBezTo>
                    <a:pt x="93" y="515"/>
                    <a:pt x="48" y="493"/>
                    <a:pt x="34" y="460"/>
                  </a:cubicBezTo>
                  <a:cubicBezTo>
                    <a:pt x="30" y="451"/>
                    <a:pt x="22" y="434"/>
                    <a:pt x="18" y="424"/>
                  </a:cubicBezTo>
                  <a:cubicBezTo>
                    <a:pt x="15" y="416"/>
                    <a:pt x="10" y="400"/>
                    <a:pt x="10" y="400"/>
                  </a:cubicBezTo>
                  <a:cubicBezTo>
                    <a:pt x="0" y="295"/>
                    <a:pt x="0" y="195"/>
                    <a:pt x="6" y="88"/>
                  </a:cubicBezTo>
                  <a:cubicBezTo>
                    <a:pt x="7" y="69"/>
                    <a:pt x="24" y="30"/>
                    <a:pt x="42" y="24"/>
                  </a:cubicBezTo>
                  <a:cubicBezTo>
                    <a:pt x="54" y="6"/>
                    <a:pt x="65" y="13"/>
                    <a:pt x="78" y="0"/>
                  </a:cubicBezTo>
                </a:path>
              </a:pathLst>
            </a:custGeom>
            <a:noFill/>
            <a:ln cap="sq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722080" y="4718160"/>
              <a:ext cx="180720" cy="666720"/>
            </a:xfrm>
            <a:custGeom>
              <a:avLst/>
              <a:gdLst/>
              <a:ahLst/>
              <a:rect l="l" t="t" r="r" b="b"/>
              <a:pathLst>
                <a:path w="114" h="420">
                  <a:moveTo>
                    <a:pt x="0" y="420"/>
                  </a:moveTo>
                  <a:cubicBezTo>
                    <a:pt x="29" y="419"/>
                    <a:pt x="58" y="419"/>
                    <a:pt x="76" y="360"/>
                  </a:cubicBezTo>
                  <a:cubicBezTo>
                    <a:pt x="94" y="301"/>
                    <a:pt x="114" y="128"/>
                    <a:pt x="108" y="68"/>
                  </a:cubicBezTo>
                  <a:cubicBezTo>
                    <a:pt x="102" y="8"/>
                    <a:pt x="71" y="4"/>
                    <a:pt x="40" y="0"/>
                  </a:cubicBezTo>
                </a:path>
              </a:pathLst>
            </a:custGeom>
            <a:noFill/>
            <a:ln cap="sq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1" name=""/>
            <p:cNvCxnSpPr>
              <a:stCxn id="170" idx="0"/>
              <a:endCxn id="168" idx="0"/>
            </p:cNvCxnSpPr>
            <p:nvPr/>
          </p:nvCxnSpPr>
          <p:spPr>
            <a:xfrm flipH="1">
              <a:off x="8532360" y="5384520"/>
              <a:ext cx="189720" cy="21348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cxnSp>
          <p:nvCxnSpPr>
            <p:cNvPr id="172" name=""/>
            <p:cNvCxnSpPr>
              <a:stCxn id="148" idx="0"/>
              <a:endCxn id="159" idx="0"/>
            </p:cNvCxnSpPr>
            <p:nvPr/>
          </p:nvCxnSpPr>
          <p:spPr>
            <a:xfrm>
              <a:off x="8153280" y="5379840"/>
              <a:ext cx="1080" cy="25956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cxnSp>
          <p:nvCxnSpPr>
            <p:cNvPr id="173" name=""/>
            <p:cNvCxnSpPr>
              <a:stCxn id="127" idx="4"/>
              <a:endCxn id="131" idx="0"/>
            </p:cNvCxnSpPr>
            <p:nvPr/>
          </p:nvCxnSpPr>
          <p:spPr>
            <a:xfrm>
              <a:off x="7944120" y="5023080"/>
              <a:ext cx="76680" cy="14040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cxnSp>
          <p:nvCxnSpPr>
            <p:cNvPr id="174" name=""/>
            <p:cNvCxnSpPr>
              <a:stCxn id="153" idx="4"/>
              <a:endCxn id="151" idx="5"/>
            </p:cNvCxnSpPr>
            <p:nvPr/>
          </p:nvCxnSpPr>
          <p:spPr>
            <a:xfrm flipH="1" flipV="1">
              <a:off x="7887960" y="5582880"/>
              <a:ext cx="402120" cy="24696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</p:grpSp>
      <p:sp>
        <p:nvSpPr>
          <p:cNvPr id="175" name=""/>
          <p:cNvSpPr/>
          <p:nvPr/>
        </p:nvSpPr>
        <p:spPr>
          <a:xfrm>
            <a:off x="4648320" y="34290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791320" y="5105520"/>
            <a:ext cx="1600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657600" y="3962520"/>
            <a:ext cx="2057400" cy="2286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09880" y="5181480"/>
            <a:ext cx="171000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91120" y="5334120"/>
            <a:ext cx="993600" cy="703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V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809880" y="4038480"/>
            <a:ext cx="1710000" cy="764640"/>
            <a:chOff x="3809880" y="4038480"/>
            <a:chExt cx="1710000" cy="764640"/>
          </a:xfrm>
        </p:grpSpPr>
        <p:sp>
          <p:nvSpPr>
            <p:cNvPr id="181" name=""/>
            <p:cNvSpPr/>
            <p:nvPr/>
          </p:nvSpPr>
          <p:spPr>
            <a:xfrm>
              <a:off x="3809880" y="4114800"/>
              <a:ext cx="1710000" cy="6811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191480" y="4038480"/>
              <a:ext cx="102960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ode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heck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 flipH="1">
            <a:off x="4647600" y="4800600"/>
            <a:ext cx="75960" cy="457200"/>
          </a:xfrm>
          <a:prstGeom prst="upDownArrow">
            <a:avLst>
              <a:gd name="adj1" fmla="val 50000"/>
              <a:gd name="adj2" fmla="val 119821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The Basic Search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343400" y="16002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343400" y="198108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4" name=""/>
          <p:cNvCxnSpPr>
            <a:stCxn id="582" idx="4"/>
            <a:endCxn id="583" idx="0"/>
          </p:cNvCxnSpPr>
          <p:nvPr/>
        </p:nvCxnSpPr>
        <p:spPr>
          <a:xfrm>
            <a:off x="4495320" y="1828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5" name=""/>
          <p:cNvSpPr/>
          <p:nvPr/>
        </p:nvSpPr>
        <p:spPr>
          <a:xfrm flipH="1">
            <a:off x="4038480" y="22096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495680" y="22096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4266720" y="220968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495680" y="2209680"/>
            <a:ext cx="38124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495680" y="2209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The Basic Search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343400" y="16002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H="1">
            <a:off x="4038480" y="18288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495680" y="18288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H="1">
            <a:off x="4266720" y="1828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495680" y="1828800"/>
            <a:ext cx="38124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49568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The Search in Detail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219320" y="350532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219320" y="388620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219320" y="426708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219320" y="4648320"/>
            <a:ext cx="304560" cy="228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4" name=""/>
          <p:cNvCxnSpPr>
            <a:stCxn id="600" idx="4"/>
            <a:endCxn id="601" idx="0"/>
          </p:cNvCxnSpPr>
          <p:nvPr/>
        </p:nvCxnSpPr>
        <p:spPr>
          <a:xfrm>
            <a:off x="1371240" y="3733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5" name=""/>
          <p:cNvCxnSpPr>
            <a:stCxn id="601" idx="4"/>
            <a:endCxn id="602" idx="0"/>
          </p:cNvCxnSpPr>
          <p:nvPr/>
        </p:nvCxnSpPr>
        <p:spPr>
          <a:xfrm>
            <a:off x="1371240" y="4114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6" name=""/>
          <p:cNvCxnSpPr>
            <a:stCxn id="602" idx="4"/>
            <a:endCxn id="603" idx="0"/>
          </p:cNvCxnSpPr>
          <p:nvPr/>
        </p:nvCxnSpPr>
        <p:spPr>
          <a:xfrm>
            <a:off x="1371240" y="4495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7" name=""/>
          <p:cNvCxnSpPr>
            <a:stCxn id="603" idx="4"/>
          </p:cNvCxnSpPr>
          <p:nvPr/>
        </p:nvCxnSpPr>
        <p:spPr>
          <a:xfrm>
            <a:off x="1371240" y="4876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8" name=""/>
          <p:cNvSpPr/>
          <p:nvPr/>
        </p:nvSpPr>
        <p:spPr>
          <a:xfrm>
            <a:off x="1219320" y="5029200"/>
            <a:ext cx="30456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219320" y="5410080"/>
            <a:ext cx="30456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0" name=""/>
          <p:cNvCxnSpPr>
            <a:stCxn id="608" idx="4"/>
            <a:endCxn id="609" idx="0"/>
          </p:cNvCxnSpPr>
          <p:nvPr/>
        </p:nvCxnSpPr>
        <p:spPr>
          <a:xfrm>
            <a:off x="1371240" y="5257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1" name=""/>
          <p:cNvSpPr/>
          <p:nvPr/>
        </p:nvSpPr>
        <p:spPr>
          <a:xfrm>
            <a:off x="1219320" y="160020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219320" y="198108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219320" y="236232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219320" y="274320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5" name=""/>
          <p:cNvCxnSpPr>
            <a:stCxn id="611" idx="4"/>
            <a:endCxn id="612" idx="0"/>
          </p:cNvCxnSpPr>
          <p:nvPr/>
        </p:nvCxnSpPr>
        <p:spPr>
          <a:xfrm>
            <a:off x="1371240" y="1828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6" name=""/>
          <p:cNvCxnSpPr>
            <a:stCxn id="612" idx="4"/>
            <a:endCxn id="613" idx="0"/>
          </p:cNvCxnSpPr>
          <p:nvPr/>
        </p:nvCxnSpPr>
        <p:spPr>
          <a:xfrm>
            <a:off x="1371240" y="2209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7" name=""/>
          <p:cNvCxnSpPr>
            <a:stCxn id="613" idx="4"/>
            <a:endCxn id="614" idx="0"/>
          </p:cNvCxnSpPr>
          <p:nvPr/>
        </p:nvCxnSpPr>
        <p:spPr>
          <a:xfrm>
            <a:off x="1371240" y="2590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8" name=""/>
          <p:cNvCxnSpPr>
            <a:stCxn id="614" idx="4"/>
          </p:cNvCxnSpPr>
          <p:nvPr/>
        </p:nvCxnSpPr>
        <p:spPr>
          <a:xfrm>
            <a:off x="1371240" y="2971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9" name=""/>
          <p:cNvSpPr/>
          <p:nvPr/>
        </p:nvSpPr>
        <p:spPr>
          <a:xfrm>
            <a:off x="1219320" y="3124080"/>
            <a:ext cx="30456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0" name=""/>
          <p:cNvCxnSpPr>
            <a:stCxn id="619" idx="4"/>
          </p:cNvCxnSpPr>
          <p:nvPr/>
        </p:nvCxnSpPr>
        <p:spPr>
          <a:xfrm>
            <a:off x="1371240" y="3352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1" name=""/>
          <p:cNvSpPr/>
          <p:nvPr/>
        </p:nvSpPr>
        <p:spPr>
          <a:xfrm>
            <a:off x="1370520" y="5562720"/>
            <a:ext cx="140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rror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524600" y="2971800"/>
            <a:ext cx="127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Real ca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1600200" y="2590560"/>
            <a:ext cx="289548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572000" y="1905120"/>
            <a:ext cx="38862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248520" y="1981080"/>
            <a:ext cx="304560" cy="228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6" name=""/>
          <p:cNvCxnSpPr>
            <a:stCxn id="625" idx="4"/>
          </p:cNvCxnSpPr>
          <p:nvPr/>
        </p:nvCxnSpPr>
        <p:spPr>
          <a:xfrm>
            <a:off x="6400440" y="2209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7" name=""/>
          <p:cNvSpPr/>
          <p:nvPr/>
        </p:nvSpPr>
        <p:spPr>
          <a:xfrm>
            <a:off x="6248520" y="2362320"/>
            <a:ext cx="30456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019920" y="2743200"/>
            <a:ext cx="30456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477120" y="274320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0" name=""/>
          <p:cNvCxnSpPr>
            <a:endCxn id="628" idx="0"/>
          </p:cNvCxnSpPr>
          <p:nvPr/>
        </p:nvCxnSpPr>
        <p:spPr>
          <a:xfrm flipH="1">
            <a:off x="6171480" y="2590560"/>
            <a:ext cx="22932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1" name=""/>
          <p:cNvCxnSpPr>
            <a:endCxn id="629" idx="0"/>
          </p:cNvCxnSpPr>
          <p:nvPr/>
        </p:nvCxnSpPr>
        <p:spPr>
          <a:xfrm>
            <a:off x="6400440" y="2590560"/>
            <a:ext cx="22932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2" name=""/>
          <p:cNvSpPr/>
          <p:nvPr/>
        </p:nvSpPr>
        <p:spPr>
          <a:xfrm>
            <a:off x="4724280" y="4952880"/>
            <a:ext cx="358164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779880" y="4876920"/>
            <a:ext cx="134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th li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248520" y="312408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705720" y="312408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35053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248520" y="350532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705720" y="350532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620120" y="3505320"/>
            <a:ext cx="30456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876920" y="388620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410080" y="38862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791320" y="3886200"/>
            <a:ext cx="30456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248520" y="388620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4" name=""/>
          <p:cNvCxnSpPr>
            <a:endCxn id="634" idx="0"/>
          </p:cNvCxnSpPr>
          <p:nvPr/>
        </p:nvCxnSpPr>
        <p:spPr>
          <a:xfrm flipH="1">
            <a:off x="6400080" y="2971440"/>
            <a:ext cx="22932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5" name=""/>
          <p:cNvCxnSpPr>
            <a:endCxn id="635" idx="0"/>
          </p:cNvCxnSpPr>
          <p:nvPr/>
        </p:nvCxnSpPr>
        <p:spPr>
          <a:xfrm>
            <a:off x="6629040" y="2971440"/>
            <a:ext cx="22932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6" name=""/>
          <p:cNvCxnSpPr>
            <a:stCxn id="634" idx="4"/>
            <a:endCxn id="636" idx="0"/>
          </p:cNvCxnSpPr>
          <p:nvPr/>
        </p:nvCxnSpPr>
        <p:spPr>
          <a:xfrm flipH="1">
            <a:off x="5562360" y="3352680"/>
            <a:ext cx="83880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7" name=""/>
          <p:cNvCxnSpPr>
            <a:stCxn id="634" idx="4"/>
            <a:endCxn id="637" idx="0"/>
          </p:cNvCxnSpPr>
          <p:nvPr/>
        </p:nvCxnSpPr>
        <p:spPr>
          <a:xfrm>
            <a:off x="6400440" y="3352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8" name=""/>
          <p:cNvCxnSpPr>
            <a:stCxn id="635" idx="4"/>
            <a:endCxn id="638" idx="0"/>
          </p:cNvCxnSpPr>
          <p:nvPr/>
        </p:nvCxnSpPr>
        <p:spPr>
          <a:xfrm>
            <a:off x="6857640" y="3352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9" name=""/>
          <p:cNvCxnSpPr>
            <a:stCxn id="635" idx="4"/>
            <a:endCxn id="639" idx="0"/>
          </p:cNvCxnSpPr>
          <p:nvPr/>
        </p:nvCxnSpPr>
        <p:spPr>
          <a:xfrm>
            <a:off x="6858000" y="3352680"/>
            <a:ext cx="91512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0" name=""/>
          <p:cNvCxnSpPr>
            <a:stCxn id="637" idx="4"/>
            <a:endCxn id="643" idx="0"/>
          </p:cNvCxnSpPr>
          <p:nvPr/>
        </p:nvCxnSpPr>
        <p:spPr>
          <a:xfrm>
            <a:off x="6400440" y="3733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1" name=""/>
          <p:cNvCxnSpPr>
            <a:stCxn id="637" idx="4"/>
            <a:endCxn id="642" idx="0"/>
          </p:cNvCxnSpPr>
          <p:nvPr/>
        </p:nvCxnSpPr>
        <p:spPr>
          <a:xfrm flipH="1">
            <a:off x="5943240" y="3733560"/>
            <a:ext cx="45792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2" name=""/>
          <p:cNvCxnSpPr>
            <a:stCxn id="636" idx="4"/>
            <a:endCxn id="641" idx="0"/>
          </p:cNvCxnSpPr>
          <p:nvPr/>
        </p:nvCxnSpPr>
        <p:spPr>
          <a:xfrm>
            <a:off x="5562360" y="3733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3" name=""/>
          <p:cNvCxnSpPr>
            <a:stCxn id="636" idx="4"/>
            <a:endCxn id="640" idx="0"/>
          </p:cNvCxnSpPr>
          <p:nvPr/>
        </p:nvCxnSpPr>
        <p:spPr>
          <a:xfrm flipH="1">
            <a:off x="5028840" y="3733560"/>
            <a:ext cx="53424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4" name=""/>
          <p:cNvSpPr/>
          <p:nvPr/>
        </p:nvSpPr>
        <p:spPr>
          <a:xfrm>
            <a:off x="4724280" y="2286000"/>
            <a:ext cx="358164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248520" y="426708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6" name=""/>
          <p:cNvCxnSpPr>
            <a:endCxn id="655" idx="0"/>
          </p:cNvCxnSpPr>
          <p:nvPr/>
        </p:nvCxnSpPr>
        <p:spPr>
          <a:xfrm>
            <a:off x="6400440" y="4114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7" name=""/>
          <p:cNvSpPr/>
          <p:nvPr/>
        </p:nvSpPr>
        <p:spPr>
          <a:xfrm>
            <a:off x="6248520" y="464832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8" name=""/>
          <p:cNvCxnSpPr>
            <a:endCxn id="657" idx="0"/>
          </p:cNvCxnSpPr>
          <p:nvPr/>
        </p:nvCxnSpPr>
        <p:spPr>
          <a:xfrm>
            <a:off x="6400440" y="4495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9" name=""/>
          <p:cNvSpPr/>
          <p:nvPr/>
        </p:nvSpPr>
        <p:spPr>
          <a:xfrm>
            <a:off x="5410080" y="426708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0" name=""/>
          <p:cNvCxnSpPr>
            <a:endCxn id="659" idx="0"/>
          </p:cNvCxnSpPr>
          <p:nvPr/>
        </p:nvCxnSpPr>
        <p:spPr>
          <a:xfrm>
            <a:off x="5562360" y="4114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1" name=""/>
          <p:cNvSpPr/>
          <p:nvPr/>
        </p:nvSpPr>
        <p:spPr>
          <a:xfrm>
            <a:off x="5410080" y="46483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2" name=""/>
          <p:cNvCxnSpPr>
            <a:endCxn id="661" idx="0"/>
          </p:cNvCxnSpPr>
          <p:nvPr/>
        </p:nvCxnSpPr>
        <p:spPr>
          <a:xfrm>
            <a:off x="5562360" y="4495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3" name=""/>
          <p:cNvSpPr/>
          <p:nvPr/>
        </p:nvSpPr>
        <p:spPr>
          <a:xfrm>
            <a:off x="4876920" y="426708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4" name=""/>
          <p:cNvCxnSpPr>
            <a:endCxn id="663" idx="0"/>
          </p:cNvCxnSpPr>
          <p:nvPr/>
        </p:nvCxnSpPr>
        <p:spPr>
          <a:xfrm>
            <a:off x="5028840" y="4114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5" name=""/>
          <p:cNvSpPr/>
          <p:nvPr/>
        </p:nvSpPr>
        <p:spPr>
          <a:xfrm>
            <a:off x="4876920" y="464832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6" name=""/>
          <p:cNvCxnSpPr>
            <a:endCxn id="665" idx="0"/>
          </p:cNvCxnSpPr>
          <p:nvPr/>
        </p:nvCxnSpPr>
        <p:spPr>
          <a:xfrm>
            <a:off x="5028840" y="4495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7" name=""/>
          <p:cNvSpPr/>
          <p:nvPr/>
        </p:nvSpPr>
        <p:spPr>
          <a:xfrm>
            <a:off x="6705720" y="388620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8" name=""/>
          <p:cNvCxnSpPr>
            <a:endCxn id="667" idx="0"/>
          </p:cNvCxnSpPr>
          <p:nvPr/>
        </p:nvCxnSpPr>
        <p:spPr>
          <a:xfrm>
            <a:off x="6857640" y="3733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9" name=""/>
          <p:cNvSpPr/>
          <p:nvPr/>
        </p:nvSpPr>
        <p:spPr>
          <a:xfrm>
            <a:off x="6705720" y="426708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0" name=""/>
          <p:cNvCxnSpPr>
            <a:endCxn id="669" idx="0"/>
          </p:cNvCxnSpPr>
          <p:nvPr/>
        </p:nvCxnSpPr>
        <p:spPr>
          <a:xfrm>
            <a:off x="6857640" y="4114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1" name=""/>
          <p:cNvSpPr/>
          <p:nvPr/>
        </p:nvSpPr>
        <p:spPr>
          <a:xfrm>
            <a:off x="6705720" y="464832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2" name=""/>
          <p:cNvCxnSpPr>
            <a:endCxn id="671" idx="0"/>
          </p:cNvCxnSpPr>
          <p:nvPr/>
        </p:nvCxnSpPr>
        <p:spPr>
          <a:xfrm>
            <a:off x="6857640" y="4495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3" name=""/>
          <p:cNvSpPr/>
          <p:nvPr/>
        </p:nvSpPr>
        <p:spPr>
          <a:xfrm>
            <a:off x="3124080" y="5486400"/>
            <a:ext cx="1524240" cy="1219320"/>
          </a:xfrm>
          <a:prstGeom prst="ellipse">
            <a:avLst/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7315200" y="5486400"/>
            <a:ext cx="1523880" cy="121932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419000" y="6461280"/>
            <a:ext cx="109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400800" y="646128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ga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943600" y="4191120"/>
            <a:ext cx="205740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858000" y="4952880"/>
            <a:ext cx="9907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772400" y="3809880"/>
            <a:ext cx="228600" cy="198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172200" y="3048120"/>
            <a:ext cx="16765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8381880" y="5715000"/>
            <a:ext cx="76320" cy="763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H="1">
            <a:off x="8381880" y="5943600"/>
            <a:ext cx="76320" cy="763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3" name=""/>
          <p:cNvCxnSpPr>
            <a:stCxn id="681" idx="4"/>
            <a:endCxn id="682" idx="0"/>
          </p:cNvCxnSpPr>
          <p:nvPr/>
        </p:nvCxnSpPr>
        <p:spPr>
          <a:xfrm>
            <a:off x="8419680" y="57909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4" name=""/>
          <p:cNvSpPr/>
          <p:nvPr/>
        </p:nvSpPr>
        <p:spPr>
          <a:xfrm flipH="1">
            <a:off x="8381880" y="6172200"/>
            <a:ext cx="76320" cy="763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5" name=""/>
          <p:cNvCxnSpPr>
            <a:endCxn id="684" idx="0"/>
          </p:cNvCxnSpPr>
          <p:nvPr/>
        </p:nvCxnSpPr>
        <p:spPr>
          <a:xfrm>
            <a:off x="8419680" y="6019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6" name=""/>
          <p:cNvSpPr/>
          <p:nvPr/>
        </p:nvSpPr>
        <p:spPr>
          <a:xfrm flipH="1">
            <a:off x="8381880" y="6400800"/>
            <a:ext cx="76320" cy="763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7" name=""/>
          <p:cNvCxnSpPr>
            <a:endCxn id="686" idx="0"/>
          </p:cNvCxnSpPr>
          <p:nvPr/>
        </p:nvCxnSpPr>
        <p:spPr>
          <a:xfrm>
            <a:off x="8419680" y="62481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8" name=""/>
          <p:cNvSpPr/>
          <p:nvPr/>
        </p:nvSpPr>
        <p:spPr>
          <a:xfrm>
            <a:off x="8153280" y="5791320"/>
            <a:ext cx="76320" cy="759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8153280" y="6019920"/>
            <a:ext cx="76320" cy="759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0" name=""/>
          <p:cNvCxnSpPr>
            <a:stCxn id="688" idx="4"/>
            <a:endCxn id="689" idx="0"/>
          </p:cNvCxnSpPr>
          <p:nvPr/>
        </p:nvCxnSpPr>
        <p:spPr>
          <a:xfrm>
            <a:off x="8191080" y="58672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1" name=""/>
          <p:cNvSpPr/>
          <p:nvPr/>
        </p:nvSpPr>
        <p:spPr>
          <a:xfrm flipH="1">
            <a:off x="8153280" y="6248520"/>
            <a:ext cx="76320" cy="759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2" name=""/>
          <p:cNvCxnSpPr>
            <a:endCxn id="691" idx="0"/>
          </p:cNvCxnSpPr>
          <p:nvPr/>
        </p:nvCxnSpPr>
        <p:spPr>
          <a:xfrm>
            <a:off x="8191080" y="60958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3" name=""/>
          <p:cNvSpPr/>
          <p:nvPr/>
        </p:nvSpPr>
        <p:spPr>
          <a:xfrm flipH="1">
            <a:off x="8153280" y="6477120"/>
            <a:ext cx="76320" cy="759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4" name=""/>
          <p:cNvCxnSpPr>
            <a:endCxn id="693" idx="0"/>
          </p:cNvCxnSpPr>
          <p:nvPr/>
        </p:nvCxnSpPr>
        <p:spPr>
          <a:xfrm>
            <a:off x="8191080" y="6324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5" name=""/>
          <p:cNvSpPr/>
          <p:nvPr/>
        </p:nvSpPr>
        <p:spPr>
          <a:xfrm>
            <a:off x="7696080" y="5791320"/>
            <a:ext cx="76320" cy="759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7696080" y="6019920"/>
            <a:ext cx="76320" cy="759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7" name=""/>
          <p:cNvCxnSpPr>
            <a:stCxn id="695" idx="4"/>
            <a:endCxn id="696" idx="0"/>
          </p:cNvCxnSpPr>
          <p:nvPr/>
        </p:nvCxnSpPr>
        <p:spPr>
          <a:xfrm>
            <a:off x="7733880" y="58672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8" name=""/>
          <p:cNvSpPr/>
          <p:nvPr/>
        </p:nvSpPr>
        <p:spPr>
          <a:xfrm flipH="1">
            <a:off x="7696080" y="6248520"/>
            <a:ext cx="76320" cy="759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9" name=""/>
          <p:cNvCxnSpPr>
            <a:endCxn id="698" idx="0"/>
          </p:cNvCxnSpPr>
          <p:nvPr/>
        </p:nvCxnSpPr>
        <p:spPr>
          <a:xfrm>
            <a:off x="7733880" y="60958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0" name=""/>
          <p:cNvSpPr/>
          <p:nvPr/>
        </p:nvSpPr>
        <p:spPr>
          <a:xfrm flipH="1">
            <a:off x="7696080" y="6477120"/>
            <a:ext cx="76320" cy="759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1" name=""/>
          <p:cNvCxnSpPr>
            <a:endCxn id="700" idx="0"/>
          </p:cNvCxnSpPr>
          <p:nvPr/>
        </p:nvCxnSpPr>
        <p:spPr>
          <a:xfrm>
            <a:off x="7733880" y="6324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The Search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219320" y="350532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1219320" y="388620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219320" y="4267080"/>
            <a:ext cx="30456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219320" y="4648320"/>
            <a:ext cx="304560" cy="2286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8" name=""/>
          <p:cNvCxnSpPr>
            <a:stCxn id="704" idx="4"/>
            <a:endCxn id="705" idx="0"/>
          </p:cNvCxnSpPr>
          <p:nvPr/>
        </p:nvCxnSpPr>
        <p:spPr>
          <a:xfrm>
            <a:off x="1371240" y="3733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9" name=""/>
          <p:cNvCxnSpPr>
            <a:stCxn id="705" idx="4"/>
            <a:endCxn id="706" idx="0"/>
          </p:cNvCxnSpPr>
          <p:nvPr/>
        </p:nvCxnSpPr>
        <p:spPr>
          <a:xfrm>
            <a:off x="1371240" y="4114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0" name=""/>
          <p:cNvCxnSpPr>
            <a:stCxn id="706" idx="4"/>
            <a:endCxn id="707" idx="0"/>
          </p:cNvCxnSpPr>
          <p:nvPr/>
        </p:nvCxnSpPr>
        <p:spPr>
          <a:xfrm>
            <a:off x="1371240" y="4495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1" name=""/>
          <p:cNvCxnSpPr>
            <a:stCxn id="707" idx="4"/>
          </p:cNvCxnSpPr>
          <p:nvPr/>
        </p:nvCxnSpPr>
        <p:spPr>
          <a:xfrm>
            <a:off x="1371240" y="4876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2" name=""/>
          <p:cNvSpPr/>
          <p:nvPr/>
        </p:nvSpPr>
        <p:spPr>
          <a:xfrm>
            <a:off x="1219320" y="5029200"/>
            <a:ext cx="30456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219320" y="5410080"/>
            <a:ext cx="30456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4" name=""/>
          <p:cNvCxnSpPr>
            <a:stCxn id="712" idx="4"/>
            <a:endCxn id="713" idx="0"/>
          </p:cNvCxnSpPr>
          <p:nvPr/>
        </p:nvCxnSpPr>
        <p:spPr>
          <a:xfrm>
            <a:off x="1371240" y="5257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5" name=""/>
          <p:cNvSpPr/>
          <p:nvPr/>
        </p:nvSpPr>
        <p:spPr>
          <a:xfrm>
            <a:off x="1219320" y="160020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219320" y="198108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219320" y="236232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219320" y="274320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9" name=""/>
          <p:cNvCxnSpPr>
            <a:stCxn id="715" idx="4"/>
            <a:endCxn id="716" idx="0"/>
          </p:cNvCxnSpPr>
          <p:nvPr/>
        </p:nvCxnSpPr>
        <p:spPr>
          <a:xfrm>
            <a:off x="1371240" y="1828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0" name=""/>
          <p:cNvCxnSpPr>
            <a:stCxn id="716" idx="4"/>
            <a:endCxn id="717" idx="0"/>
          </p:cNvCxnSpPr>
          <p:nvPr/>
        </p:nvCxnSpPr>
        <p:spPr>
          <a:xfrm>
            <a:off x="1371240" y="2209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1" name=""/>
          <p:cNvCxnSpPr>
            <a:stCxn id="717" idx="4"/>
            <a:endCxn id="718" idx="0"/>
          </p:cNvCxnSpPr>
          <p:nvPr/>
        </p:nvCxnSpPr>
        <p:spPr>
          <a:xfrm>
            <a:off x="1371240" y="2590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2" name=""/>
          <p:cNvCxnSpPr>
            <a:stCxn id="718" idx="4"/>
          </p:cNvCxnSpPr>
          <p:nvPr/>
        </p:nvCxnSpPr>
        <p:spPr>
          <a:xfrm>
            <a:off x="1371240" y="2971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3" name=""/>
          <p:cNvSpPr/>
          <p:nvPr/>
        </p:nvSpPr>
        <p:spPr>
          <a:xfrm>
            <a:off x="1219320" y="3124080"/>
            <a:ext cx="30456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4" name=""/>
          <p:cNvCxnSpPr>
            <a:stCxn id="723" idx="4"/>
          </p:cNvCxnSpPr>
          <p:nvPr/>
        </p:nvCxnSpPr>
        <p:spPr>
          <a:xfrm>
            <a:off x="1371240" y="3352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5" name=""/>
          <p:cNvSpPr/>
          <p:nvPr/>
        </p:nvSpPr>
        <p:spPr>
          <a:xfrm>
            <a:off x="1370520" y="5562720"/>
            <a:ext cx="140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rror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524600" y="2971800"/>
            <a:ext cx="127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Real ca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1600200" y="2590920"/>
            <a:ext cx="2895480" cy="21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572000" y="1905120"/>
            <a:ext cx="38862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248520" y="1981080"/>
            <a:ext cx="30456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0" name=""/>
          <p:cNvCxnSpPr>
            <a:stCxn id="729" idx="4"/>
          </p:cNvCxnSpPr>
          <p:nvPr/>
        </p:nvCxnSpPr>
        <p:spPr>
          <a:xfrm>
            <a:off x="6400440" y="2209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1" name=""/>
          <p:cNvSpPr/>
          <p:nvPr/>
        </p:nvSpPr>
        <p:spPr>
          <a:xfrm>
            <a:off x="6248520" y="2362320"/>
            <a:ext cx="304560" cy="228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019920" y="2743200"/>
            <a:ext cx="304560" cy="2286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477120" y="274320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4" name=""/>
          <p:cNvCxnSpPr>
            <a:endCxn id="732" idx="0"/>
          </p:cNvCxnSpPr>
          <p:nvPr/>
        </p:nvCxnSpPr>
        <p:spPr>
          <a:xfrm flipH="1">
            <a:off x="6171480" y="2571480"/>
            <a:ext cx="22932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5" name=""/>
          <p:cNvCxnSpPr>
            <a:endCxn id="733" idx="0"/>
          </p:cNvCxnSpPr>
          <p:nvPr/>
        </p:nvCxnSpPr>
        <p:spPr>
          <a:xfrm>
            <a:off x="6400440" y="2590560"/>
            <a:ext cx="22932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6" name=""/>
          <p:cNvSpPr/>
          <p:nvPr/>
        </p:nvSpPr>
        <p:spPr>
          <a:xfrm>
            <a:off x="4724280" y="4952880"/>
            <a:ext cx="358164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79880" y="4876920"/>
            <a:ext cx="134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th li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248520" y="3124080"/>
            <a:ext cx="304560" cy="2286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705720" y="312408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0" name=""/>
          <p:cNvCxnSpPr>
            <a:stCxn id="733" idx="4"/>
            <a:endCxn id="738" idx="0"/>
          </p:cNvCxnSpPr>
          <p:nvPr/>
        </p:nvCxnSpPr>
        <p:spPr>
          <a:xfrm flipH="1">
            <a:off x="6400080" y="2971800"/>
            <a:ext cx="229320" cy="13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1" name=""/>
          <p:cNvCxnSpPr>
            <a:endCxn id="739" idx="0"/>
          </p:cNvCxnSpPr>
          <p:nvPr/>
        </p:nvCxnSpPr>
        <p:spPr>
          <a:xfrm>
            <a:off x="6629040" y="2971440"/>
            <a:ext cx="22932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2" name=""/>
          <p:cNvSpPr/>
          <p:nvPr/>
        </p:nvSpPr>
        <p:spPr>
          <a:xfrm>
            <a:off x="4724280" y="2286000"/>
            <a:ext cx="358164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477120" y="388620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4" name=""/>
          <p:cNvCxnSpPr>
            <a:endCxn id="743" idx="0"/>
          </p:cNvCxnSpPr>
          <p:nvPr/>
        </p:nvCxnSpPr>
        <p:spPr>
          <a:xfrm>
            <a:off x="6629040" y="3733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5" name=""/>
          <p:cNvSpPr/>
          <p:nvPr/>
        </p:nvSpPr>
        <p:spPr>
          <a:xfrm>
            <a:off x="6477120" y="426708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6" name=""/>
          <p:cNvCxnSpPr>
            <a:endCxn id="745" idx="0"/>
          </p:cNvCxnSpPr>
          <p:nvPr/>
        </p:nvCxnSpPr>
        <p:spPr>
          <a:xfrm>
            <a:off x="6629040" y="4114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7" name=""/>
          <p:cNvSpPr/>
          <p:nvPr/>
        </p:nvSpPr>
        <p:spPr>
          <a:xfrm>
            <a:off x="6477120" y="4648320"/>
            <a:ext cx="30456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8" name=""/>
          <p:cNvCxnSpPr>
            <a:endCxn id="747" idx="0"/>
          </p:cNvCxnSpPr>
          <p:nvPr/>
        </p:nvCxnSpPr>
        <p:spPr>
          <a:xfrm>
            <a:off x="6629040" y="4495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9" name=""/>
          <p:cNvSpPr/>
          <p:nvPr/>
        </p:nvSpPr>
        <p:spPr>
          <a:xfrm>
            <a:off x="6477120" y="350532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934320" y="350532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1" name=""/>
          <p:cNvCxnSpPr>
            <a:endCxn id="749" idx="0"/>
          </p:cNvCxnSpPr>
          <p:nvPr/>
        </p:nvCxnSpPr>
        <p:spPr>
          <a:xfrm flipH="1">
            <a:off x="6628680" y="3352680"/>
            <a:ext cx="22932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2" name=""/>
          <p:cNvCxnSpPr>
            <a:endCxn id="750" idx="0"/>
          </p:cNvCxnSpPr>
          <p:nvPr/>
        </p:nvCxnSpPr>
        <p:spPr>
          <a:xfrm>
            <a:off x="6857640" y="3352680"/>
            <a:ext cx="22932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3" name=""/>
          <p:cNvCxnSpPr>
            <a:stCxn id="750" idx="4"/>
          </p:cNvCxnSpPr>
          <p:nvPr/>
        </p:nvCxnSpPr>
        <p:spPr>
          <a:xfrm>
            <a:off x="7086240" y="3733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4" name=""/>
          <p:cNvSpPr/>
          <p:nvPr/>
        </p:nvSpPr>
        <p:spPr>
          <a:xfrm>
            <a:off x="4911480" y="2989440"/>
            <a:ext cx="100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rea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si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flipV="1">
            <a:off x="58672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 flipV="1">
            <a:off x="5943600" y="3352680"/>
            <a:ext cx="3049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3124080" y="5486400"/>
            <a:ext cx="1524240" cy="1219320"/>
          </a:xfrm>
          <a:prstGeom prst="ellipse">
            <a:avLst/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7315200" y="5486400"/>
            <a:ext cx="1523880" cy="121932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4419000" y="6461280"/>
            <a:ext cx="109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400800" y="646128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ga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8381880" y="5715000"/>
            <a:ext cx="76320" cy="763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H="1">
            <a:off x="8381880" y="5943600"/>
            <a:ext cx="76320" cy="763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3" name=""/>
          <p:cNvCxnSpPr>
            <a:stCxn id="761" idx="4"/>
            <a:endCxn id="762" idx="0"/>
          </p:cNvCxnSpPr>
          <p:nvPr/>
        </p:nvCxnSpPr>
        <p:spPr>
          <a:xfrm>
            <a:off x="8419680" y="57909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4" name=""/>
          <p:cNvSpPr/>
          <p:nvPr/>
        </p:nvSpPr>
        <p:spPr>
          <a:xfrm flipH="1">
            <a:off x="8381880" y="6172200"/>
            <a:ext cx="76320" cy="763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5" name=""/>
          <p:cNvCxnSpPr>
            <a:endCxn id="764" idx="0"/>
          </p:cNvCxnSpPr>
          <p:nvPr/>
        </p:nvCxnSpPr>
        <p:spPr>
          <a:xfrm>
            <a:off x="8419680" y="6019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6" name=""/>
          <p:cNvSpPr/>
          <p:nvPr/>
        </p:nvSpPr>
        <p:spPr>
          <a:xfrm flipH="1">
            <a:off x="8381880" y="6400800"/>
            <a:ext cx="76320" cy="763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7" name=""/>
          <p:cNvCxnSpPr>
            <a:endCxn id="766" idx="0"/>
          </p:cNvCxnSpPr>
          <p:nvPr/>
        </p:nvCxnSpPr>
        <p:spPr>
          <a:xfrm>
            <a:off x="8419680" y="62481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8" name=""/>
          <p:cNvSpPr/>
          <p:nvPr/>
        </p:nvSpPr>
        <p:spPr>
          <a:xfrm>
            <a:off x="8153280" y="5791320"/>
            <a:ext cx="76320" cy="759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H="1">
            <a:off x="8153280" y="6019920"/>
            <a:ext cx="76320" cy="759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0" name=""/>
          <p:cNvCxnSpPr>
            <a:stCxn id="768" idx="4"/>
            <a:endCxn id="769" idx="0"/>
          </p:cNvCxnSpPr>
          <p:nvPr/>
        </p:nvCxnSpPr>
        <p:spPr>
          <a:xfrm>
            <a:off x="8191080" y="58672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1" name=""/>
          <p:cNvSpPr/>
          <p:nvPr/>
        </p:nvSpPr>
        <p:spPr>
          <a:xfrm flipH="1">
            <a:off x="8153280" y="6248520"/>
            <a:ext cx="76320" cy="759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2" name=""/>
          <p:cNvCxnSpPr>
            <a:endCxn id="771" idx="0"/>
          </p:cNvCxnSpPr>
          <p:nvPr/>
        </p:nvCxnSpPr>
        <p:spPr>
          <a:xfrm>
            <a:off x="8191080" y="60958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3" name=""/>
          <p:cNvSpPr/>
          <p:nvPr/>
        </p:nvSpPr>
        <p:spPr>
          <a:xfrm flipH="1">
            <a:off x="8153280" y="6477120"/>
            <a:ext cx="76320" cy="759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4" name=""/>
          <p:cNvCxnSpPr>
            <a:endCxn id="773" idx="0"/>
          </p:cNvCxnSpPr>
          <p:nvPr/>
        </p:nvCxnSpPr>
        <p:spPr>
          <a:xfrm>
            <a:off x="8191080" y="6324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5" name=""/>
          <p:cNvSpPr/>
          <p:nvPr/>
        </p:nvSpPr>
        <p:spPr>
          <a:xfrm>
            <a:off x="7696080" y="5791320"/>
            <a:ext cx="76320" cy="759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flipH="1">
            <a:off x="7696080" y="6019920"/>
            <a:ext cx="76320" cy="759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7" name=""/>
          <p:cNvCxnSpPr>
            <a:stCxn id="775" idx="4"/>
            <a:endCxn id="776" idx="0"/>
          </p:cNvCxnSpPr>
          <p:nvPr/>
        </p:nvCxnSpPr>
        <p:spPr>
          <a:xfrm>
            <a:off x="7733880" y="58672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8" name=""/>
          <p:cNvSpPr/>
          <p:nvPr/>
        </p:nvSpPr>
        <p:spPr>
          <a:xfrm flipH="1">
            <a:off x="7696080" y="6248520"/>
            <a:ext cx="76320" cy="759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9" name=""/>
          <p:cNvCxnSpPr>
            <a:endCxn id="778" idx="0"/>
          </p:cNvCxnSpPr>
          <p:nvPr/>
        </p:nvCxnSpPr>
        <p:spPr>
          <a:xfrm>
            <a:off x="7733880" y="60958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80" name=""/>
          <p:cNvSpPr/>
          <p:nvPr/>
        </p:nvSpPr>
        <p:spPr>
          <a:xfrm flipH="1">
            <a:off x="7696080" y="6477120"/>
            <a:ext cx="76320" cy="759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1" name=""/>
          <p:cNvCxnSpPr>
            <a:endCxn id="780" idx="0"/>
          </p:cNvCxnSpPr>
          <p:nvPr/>
        </p:nvCxnSpPr>
        <p:spPr>
          <a:xfrm>
            <a:off x="7733880" y="6324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82" name=""/>
          <p:cNvSpPr/>
          <p:nvPr/>
        </p:nvSpPr>
        <p:spPr>
          <a:xfrm>
            <a:off x="6934320" y="3886200"/>
            <a:ext cx="30456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7086600" y="4191120"/>
            <a:ext cx="9144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6629400" y="4952880"/>
            <a:ext cx="99072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7924680" y="5867280"/>
            <a:ext cx="76320" cy="763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flipH="1">
            <a:off x="7924680" y="6095880"/>
            <a:ext cx="76320" cy="763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7" name=""/>
          <p:cNvCxnSpPr>
            <a:stCxn id="785" idx="4"/>
            <a:endCxn id="786" idx="0"/>
          </p:cNvCxnSpPr>
          <p:nvPr/>
        </p:nvCxnSpPr>
        <p:spPr>
          <a:xfrm>
            <a:off x="7962480" y="59432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88" name=""/>
          <p:cNvSpPr/>
          <p:nvPr/>
        </p:nvSpPr>
        <p:spPr>
          <a:xfrm flipH="1">
            <a:off x="7924680" y="6324480"/>
            <a:ext cx="76320" cy="763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9" name=""/>
          <p:cNvCxnSpPr>
            <a:endCxn id="788" idx="0"/>
          </p:cNvCxnSpPr>
          <p:nvPr/>
        </p:nvCxnSpPr>
        <p:spPr>
          <a:xfrm>
            <a:off x="7962480" y="61718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0" name=""/>
          <p:cNvSpPr/>
          <p:nvPr/>
        </p:nvSpPr>
        <p:spPr>
          <a:xfrm flipH="1">
            <a:off x="7924680" y="6553080"/>
            <a:ext cx="76320" cy="763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1" name=""/>
          <p:cNvCxnSpPr>
            <a:endCxn id="790" idx="0"/>
          </p:cNvCxnSpPr>
          <p:nvPr/>
        </p:nvCxnSpPr>
        <p:spPr>
          <a:xfrm>
            <a:off x="7962480" y="6400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The Search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219320" y="3505320"/>
            <a:ext cx="304560" cy="2286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1219320" y="3886200"/>
            <a:ext cx="304560" cy="22860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219320" y="426708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1219320" y="4648320"/>
            <a:ext cx="304560" cy="228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8" name=""/>
          <p:cNvCxnSpPr>
            <a:stCxn id="794" idx="4"/>
            <a:endCxn id="795" idx="0"/>
          </p:cNvCxnSpPr>
          <p:nvPr/>
        </p:nvCxnSpPr>
        <p:spPr>
          <a:xfrm>
            <a:off x="1371240" y="3733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9" name=""/>
          <p:cNvCxnSpPr>
            <a:stCxn id="795" idx="4"/>
            <a:endCxn id="796" idx="0"/>
          </p:cNvCxnSpPr>
          <p:nvPr/>
        </p:nvCxnSpPr>
        <p:spPr>
          <a:xfrm>
            <a:off x="1371240" y="4114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0" name=""/>
          <p:cNvCxnSpPr>
            <a:stCxn id="796" idx="4"/>
            <a:endCxn id="797" idx="0"/>
          </p:cNvCxnSpPr>
          <p:nvPr/>
        </p:nvCxnSpPr>
        <p:spPr>
          <a:xfrm>
            <a:off x="1371240" y="4495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1" name=""/>
          <p:cNvCxnSpPr>
            <a:stCxn id="797" idx="4"/>
          </p:cNvCxnSpPr>
          <p:nvPr/>
        </p:nvCxnSpPr>
        <p:spPr>
          <a:xfrm>
            <a:off x="1371240" y="4876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2" name=""/>
          <p:cNvSpPr/>
          <p:nvPr/>
        </p:nvSpPr>
        <p:spPr>
          <a:xfrm>
            <a:off x="1219320" y="5029200"/>
            <a:ext cx="30456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1219320" y="5410080"/>
            <a:ext cx="30456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4" name=""/>
          <p:cNvCxnSpPr>
            <a:stCxn id="802" idx="4"/>
            <a:endCxn id="803" idx="0"/>
          </p:cNvCxnSpPr>
          <p:nvPr/>
        </p:nvCxnSpPr>
        <p:spPr>
          <a:xfrm>
            <a:off x="1371240" y="5257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5" name=""/>
          <p:cNvSpPr/>
          <p:nvPr/>
        </p:nvSpPr>
        <p:spPr>
          <a:xfrm>
            <a:off x="1219320" y="160020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219320" y="198108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1219320" y="236232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219320" y="274320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9" name=""/>
          <p:cNvCxnSpPr>
            <a:stCxn id="805" idx="4"/>
            <a:endCxn id="806" idx="0"/>
          </p:cNvCxnSpPr>
          <p:nvPr/>
        </p:nvCxnSpPr>
        <p:spPr>
          <a:xfrm>
            <a:off x="1371240" y="1828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0" name=""/>
          <p:cNvCxnSpPr>
            <a:stCxn id="806" idx="4"/>
            <a:endCxn id="807" idx="0"/>
          </p:cNvCxnSpPr>
          <p:nvPr/>
        </p:nvCxnSpPr>
        <p:spPr>
          <a:xfrm>
            <a:off x="1371240" y="2209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1" name=""/>
          <p:cNvCxnSpPr>
            <a:stCxn id="807" idx="4"/>
            <a:endCxn id="808" idx="0"/>
          </p:cNvCxnSpPr>
          <p:nvPr/>
        </p:nvCxnSpPr>
        <p:spPr>
          <a:xfrm>
            <a:off x="1371240" y="2590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2" name=""/>
          <p:cNvCxnSpPr>
            <a:stCxn id="808" idx="4"/>
          </p:cNvCxnSpPr>
          <p:nvPr/>
        </p:nvCxnSpPr>
        <p:spPr>
          <a:xfrm>
            <a:off x="1371240" y="2971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3" name=""/>
          <p:cNvSpPr/>
          <p:nvPr/>
        </p:nvSpPr>
        <p:spPr>
          <a:xfrm>
            <a:off x="1219320" y="3124080"/>
            <a:ext cx="30456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4" name=""/>
          <p:cNvCxnSpPr>
            <a:stCxn id="813" idx="4"/>
          </p:cNvCxnSpPr>
          <p:nvPr/>
        </p:nvCxnSpPr>
        <p:spPr>
          <a:xfrm>
            <a:off x="1371240" y="3352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5" name=""/>
          <p:cNvSpPr/>
          <p:nvPr/>
        </p:nvSpPr>
        <p:spPr>
          <a:xfrm>
            <a:off x="1370520" y="5562720"/>
            <a:ext cx="140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rror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1524600" y="2971800"/>
            <a:ext cx="127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Real ca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V="1">
            <a:off x="1600200" y="2666880"/>
            <a:ext cx="28954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4572000" y="1905120"/>
            <a:ext cx="38862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6248520" y="1981080"/>
            <a:ext cx="30456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0" name=""/>
          <p:cNvCxnSpPr>
            <a:stCxn id="819" idx="4"/>
            <a:endCxn id="821" idx="0"/>
          </p:cNvCxnSpPr>
          <p:nvPr/>
        </p:nvCxnSpPr>
        <p:spPr>
          <a:xfrm>
            <a:off x="6400440" y="2209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1" name=""/>
          <p:cNvSpPr/>
          <p:nvPr/>
        </p:nvSpPr>
        <p:spPr>
          <a:xfrm>
            <a:off x="6248520" y="2362320"/>
            <a:ext cx="304560" cy="2286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4724280" y="4952880"/>
            <a:ext cx="358164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6779880" y="4876920"/>
            <a:ext cx="134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th li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4724280" y="2286000"/>
            <a:ext cx="358164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3124080" y="5486400"/>
            <a:ext cx="1524240" cy="1219320"/>
          </a:xfrm>
          <a:prstGeom prst="ellipse">
            <a:avLst/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7315200" y="5486400"/>
            <a:ext cx="1523880" cy="121932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419000" y="6461280"/>
            <a:ext cx="109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6400800" y="646128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ga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8381880" y="5715000"/>
            <a:ext cx="76320" cy="763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H="1">
            <a:off x="8381880" y="5943600"/>
            <a:ext cx="76320" cy="763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1" name=""/>
          <p:cNvCxnSpPr>
            <a:stCxn id="829" idx="4"/>
            <a:endCxn id="830" idx="0"/>
          </p:cNvCxnSpPr>
          <p:nvPr/>
        </p:nvCxnSpPr>
        <p:spPr>
          <a:xfrm>
            <a:off x="8419680" y="57909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2" name=""/>
          <p:cNvSpPr/>
          <p:nvPr/>
        </p:nvSpPr>
        <p:spPr>
          <a:xfrm flipH="1">
            <a:off x="8381880" y="6172200"/>
            <a:ext cx="76320" cy="763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3" name=""/>
          <p:cNvCxnSpPr>
            <a:endCxn id="832" idx="0"/>
          </p:cNvCxnSpPr>
          <p:nvPr/>
        </p:nvCxnSpPr>
        <p:spPr>
          <a:xfrm>
            <a:off x="8419680" y="6019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4" name=""/>
          <p:cNvSpPr/>
          <p:nvPr/>
        </p:nvSpPr>
        <p:spPr>
          <a:xfrm flipH="1">
            <a:off x="8381880" y="6400800"/>
            <a:ext cx="76320" cy="763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5" name=""/>
          <p:cNvCxnSpPr>
            <a:endCxn id="834" idx="0"/>
          </p:cNvCxnSpPr>
          <p:nvPr/>
        </p:nvCxnSpPr>
        <p:spPr>
          <a:xfrm>
            <a:off x="8419680" y="62481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6" name=""/>
          <p:cNvSpPr/>
          <p:nvPr/>
        </p:nvSpPr>
        <p:spPr>
          <a:xfrm>
            <a:off x="8153280" y="5791320"/>
            <a:ext cx="76320" cy="759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 flipH="1">
            <a:off x="8153280" y="6019920"/>
            <a:ext cx="76320" cy="759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8" name=""/>
          <p:cNvCxnSpPr>
            <a:stCxn id="836" idx="4"/>
            <a:endCxn id="837" idx="0"/>
          </p:cNvCxnSpPr>
          <p:nvPr/>
        </p:nvCxnSpPr>
        <p:spPr>
          <a:xfrm>
            <a:off x="8191080" y="58672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9" name=""/>
          <p:cNvSpPr/>
          <p:nvPr/>
        </p:nvSpPr>
        <p:spPr>
          <a:xfrm flipH="1">
            <a:off x="8153280" y="6248520"/>
            <a:ext cx="76320" cy="759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0" name=""/>
          <p:cNvCxnSpPr>
            <a:endCxn id="839" idx="0"/>
          </p:cNvCxnSpPr>
          <p:nvPr/>
        </p:nvCxnSpPr>
        <p:spPr>
          <a:xfrm>
            <a:off x="8191080" y="60958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1" name=""/>
          <p:cNvSpPr/>
          <p:nvPr/>
        </p:nvSpPr>
        <p:spPr>
          <a:xfrm flipH="1">
            <a:off x="8153280" y="6477120"/>
            <a:ext cx="76320" cy="759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2" name=""/>
          <p:cNvCxnSpPr>
            <a:endCxn id="841" idx="0"/>
          </p:cNvCxnSpPr>
          <p:nvPr/>
        </p:nvCxnSpPr>
        <p:spPr>
          <a:xfrm>
            <a:off x="8191080" y="6324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3" name=""/>
          <p:cNvSpPr/>
          <p:nvPr/>
        </p:nvSpPr>
        <p:spPr>
          <a:xfrm>
            <a:off x="7696080" y="5791320"/>
            <a:ext cx="76320" cy="759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flipH="1">
            <a:off x="7696080" y="6019920"/>
            <a:ext cx="76320" cy="759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5" name=""/>
          <p:cNvCxnSpPr>
            <a:stCxn id="843" idx="4"/>
            <a:endCxn id="844" idx="0"/>
          </p:cNvCxnSpPr>
          <p:nvPr/>
        </p:nvCxnSpPr>
        <p:spPr>
          <a:xfrm>
            <a:off x="7733880" y="58672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6" name=""/>
          <p:cNvSpPr/>
          <p:nvPr/>
        </p:nvSpPr>
        <p:spPr>
          <a:xfrm flipH="1">
            <a:off x="7696080" y="6248520"/>
            <a:ext cx="76320" cy="759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7" name=""/>
          <p:cNvCxnSpPr>
            <a:endCxn id="846" idx="0"/>
          </p:cNvCxnSpPr>
          <p:nvPr/>
        </p:nvCxnSpPr>
        <p:spPr>
          <a:xfrm>
            <a:off x="7733880" y="60958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8" name=""/>
          <p:cNvSpPr/>
          <p:nvPr/>
        </p:nvSpPr>
        <p:spPr>
          <a:xfrm flipH="1">
            <a:off x="7696080" y="6477120"/>
            <a:ext cx="76320" cy="759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9" name=""/>
          <p:cNvCxnSpPr>
            <a:endCxn id="848" idx="0"/>
          </p:cNvCxnSpPr>
          <p:nvPr/>
        </p:nvCxnSpPr>
        <p:spPr>
          <a:xfrm>
            <a:off x="7733880" y="6324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0" name=""/>
          <p:cNvSpPr/>
          <p:nvPr/>
        </p:nvSpPr>
        <p:spPr>
          <a:xfrm>
            <a:off x="7924680" y="5867280"/>
            <a:ext cx="76320" cy="763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 flipH="1">
            <a:off x="7924680" y="6095880"/>
            <a:ext cx="76320" cy="763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2" name=""/>
          <p:cNvCxnSpPr>
            <a:stCxn id="850" idx="4"/>
            <a:endCxn id="851" idx="0"/>
          </p:cNvCxnSpPr>
          <p:nvPr/>
        </p:nvCxnSpPr>
        <p:spPr>
          <a:xfrm>
            <a:off x="7962480" y="59432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3" name=""/>
          <p:cNvSpPr/>
          <p:nvPr/>
        </p:nvSpPr>
        <p:spPr>
          <a:xfrm flipH="1">
            <a:off x="7924680" y="6324480"/>
            <a:ext cx="76320" cy="763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4" name=""/>
          <p:cNvCxnSpPr>
            <a:endCxn id="853" idx="0"/>
          </p:cNvCxnSpPr>
          <p:nvPr/>
        </p:nvCxnSpPr>
        <p:spPr>
          <a:xfrm>
            <a:off x="7962480" y="61718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5" name=""/>
          <p:cNvSpPr/>
          <p:nvPr/>
        </p:nvSpPr>
        <p:spPr>
          <a:xfrm flipH="1">
            <a:off x="7924680" y="6553080"/>
            <a:ext cx="76320" cy="763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6" name=""/>
          <p:cNvCxnSpPr>
            <a:endCxn id="855" idx="0"/>
          </p:cNvCxnSpPr>
          <p:nvPr/>
        </p:nvCxnSpPr>
        <p:spPr>
          <a:xfrm>
            <a:off x="7962480" y="6400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7" name=""/>
          <p:cNvSpPr/>
          <p:nvPr/>
        </p:nvSpPr>
        <p:spPr>
          <a:xfrm>
            <a:off x="6553080" y="27432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8" name=""/>
          <p:cNvCxnSpPr>
            <a:stCxn id="821" idx="4"/>
            <a:endCxn id="857" idx="0"/>
          </p:cNvCxnSpPr>
          <p:nvPr/>
        </p:nvCxnSpPr>
        <p:spPr>
          <a:xfrm>
            <a:off x="6400440" y="2590560"/>
            <a:ext cx="30564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9" name=""/>
          <p:cNvSpPr/>
          <p:nvPr/>
        </p:nvSpPr>
        <p:spPr>
          <a:xfrm>
            <a:off x="6324480" y="312408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6781680" y="312408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5486400" y="35053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6324480" y="35053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6781680" y="35053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5486400" y="38862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6324480" y="38862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6" name=""/>
          <p:cNvCxnSpPr>
            <a:endCxn id="859" idx="0"/>
          </p:cNvCxnSpPr>
          <p:nvPr/>
        </p:nvCxnSpPr>
        <p:spPr>
          <a:xfrm flipH="1">
            <a:off x="6476400" y="2971440"/>
            <a:ext cx="22932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7" name=""/>
          <p:cNvCxnSpPr>
            <a:endCxn id="860" idx="0"/>
          </p:cNvCxnSpPr>
          <p:nvPr/>
        </p:nvCxnSpPr>
        <p:spPr>
          <a:xfrm>
            <a:off x="6705360" y="2971440"/>
            <a:ext cx="22932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8" name=""/>
          <p:cNvCxnSpPr>
            <a:stCxn id="859" idx="4"/>
            <a:endCxn id="861" idx="0"/>
          </p:cNvCxnSpPr>
          <p:nvPr/>
        </p:nvCxnSpPr>
        <p:spPr>
          <a:xfrm flipH="1">
            <a:off x="5637960" y="3352680"/>
            <a:ext cx="83916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9" name=""/>
          <p:cNvCxnSpPr>
            <a:stCxn id="859" idx="4"/>
            <a:endCxn id="862" idx="0"/>
          </p:cNvCxnSpPr>
          <p:nvPr/>
        </p:nvCxnSpPr>
        <p:spPr>
          <a:xfrm>
            <a:off x="6476760" y="3352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0" name=""/>
          <p:cNvCxnSpPr>
            <a:stCxn id="860" idx="4"/>
            <a:endCxn id="863" idx="0"/>
          </p:cNvCxnSpPr>
          <p:nvPr/>
        </p:nvCxnSpPr>
        <p:spPr>
          <a:xfrm>
            <a:off x="6933960" y="3352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1" name=""/>
          <p:cNvCxnSpPr>
            <a:stCxn id="862" idx="4"/>
            <a:endCxn id="865" idx="0"/>
          </p:cNvCxnSpPr>
          <p:nvPr/>
        </p:nvCxnSpPr>
        <p:spPr>
          <a:xfrm>
            <a:off x="6476760" y="3733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2" name=""/>
          <p:cNvCxnSpPr>
            <a:stCxn id="861" idx="4"/>
            <a:endCxn id="864" idx="0"/>
          </p:cNvCxnSpPr>
          <p:nvPr/>
        </p:nvCxnSpPr>
        <p:spPr>
          <a:xfrm>
            <a:off x="5638320" y="3733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3" name=""/>
          <p:cNvSpPr/>
          <p:nvPr/>
        </p:nvSpPr>
        <p:spPr>
          <a:xfrm>
            <a:off x="6324480" y="426708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4" name=""/>
          <p:cNvCxnSpPr>
            <a:endCxn id="873" idx="0"/>
          </p:cNvCxnSpPr>
          <p:nvPr/>
        </p:nvCxnSpPr>
        <p:spPr>
          <a:xfrm>
            <a:off x="6476760" y="4114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5" name=""/>
          <p:cNvSpPr/>
          <p:nvPr/>
        </p:nvSpPr>
        <p:spPr>
          <a:xfrm>
            <a:off x="6324480" y="46483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6" name=""/>
          <p:cNvCxnSpPr>
            <a:endCxn id="875" idx="0"/>
          </p:cNvCxnSpPr>
          <p:nvPr/>
        </p:nvCxnSpPr>
        <p:spPr>
          <a:xfrm>
            <a:off x="6476760" y="4495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7" name=""/>
          <p:cNvSpPr/>
          <p:nvPr/>
        </p:nvSpPr>
        <p:spPr>
          <a:xfrm>
            <a:off x="5486400" y="426708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8" name=""/>
          <p:cNvCxnSpPr>
            <a:endCxn id="877" idx="0"/>
          </p:cNvCxnSpPr>
          <p:nvPr/>
        </p:nvCxnSpPr>
        <p:spPr>
          <a:xfrm>
            <a:off x="5638320" y="4114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9" name=""/>
          <p:cNvSpPr/>
          <p:nvPr/>
        </p:nvSpPr>
        <p:spPr>
          <a:xfrm>
            <a:off x="5486400" y="4648320"/>
            <a:ext cx="304920" cy="228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0" name=""/>
          <p:cNvCxnSpPr>
            <a:endCxn id="879" idx="0"/>
          </p:cNvCxnSpPr>
          <p:nvPr/>
        </p:nvCxnSpPr>
        <p:spPr>
          <a:xfrm>
            <a:off x="5638320" y="4495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1" name=""/>
          <p:cNvSpPr/>
          <p:nvPr/>
        </p:nvSpPr>
        <p:spPr>
          <a:xfrm>
            <a:off x="6781680" y="38862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2" name=""/>
          <p:cNvCxnSpPr>
            <a:endCxn id="881" idx="0"/>
          </p:cNvCxnSpPr>
          <p:nvPr/>
        </p:nvCxnSpPr>
        <p:spPr>
          <a:xfrm>
            <a:off x="6933960" y="3733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3" name=""/>
          <p:cNvSpPr/>
          <p:nvPr/>
        </p:nvSpPr>
        <p:spPr>
          <a:xfrm>
            <a:off x="6781680" y="426708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4" name=""/>
          <p:cNvCxnSpPr>
            <a:endCxn id="883" idx="0"/>
          </p:cNvCxnSpPr>
          <p:nvPr/>
        </p:nvCxnSpPr>
        <p:spPr>
          <a:xfrm>
            <a:off x="6933960" y="4114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5" name=""/>
          <p:cNvSpPr/>
          <p:nvPr/>
        </p:nvSpPr>
        <p:spPr>
          <a:xfrm>
            <a:off x="6781680" y="4648320"/>
            <a:ext cx="30492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6" name=""/>
          <p:cNvCxnSpPr>
            <a:endCxn id="885" idx="0"/>
          </p:cNvCxnSpPr>
          <p:nvPr/>
        </p:nvCxnSpPr>
        <p:spPr>
          <a:xfrm>
            <a:off x="6933960" y="4495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7" name=""/>
          <p:cNvSpPr/>
          <p:nvPr/>
        </p:nvSpPr>
        <p:spPr>
          <a:xfrm>
            <a:off x="6629400" y="4952880"/>
            <a:ext cx="9144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 flipH="1">
            <a:off x="1371600" y="472428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5943600" y="2743200"/>
            <a:ext cx="304920" cy="228600"/>
          </a:xfrm>
          <a:prstGeom prst="ellipse">
            <a:avLst/>
          </a:prstGeom>
          <a:solidFill>
            <a:srgbClr val="666699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0" name=""/>
          <p:cNvCxnSpPr>
            <a:stCxn id="821" idx="4"/>
            <a:endCxn id="889" idx="0"/>
          </p:cNvCxnSpPr>
          <p:nvPr/>
        </p:nvCxnSpPr>
        <p:spPr>
          <a:xfrm flipH="1">
            <a:off x="6095160" y="2590560"/>
            <a:ext cx="305640" cy="138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The Search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3505320"/>
            <a:ext cx="304560" cy="2286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1219320" y="3886200"/>
            <a:ext cx="304560" cy="22860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1219320" y="426708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1219320" y="4648320"/>
            <a:ext cx="304560" cy="228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7" name=""/>
          <p:cNvCxnSpPr>
            <a:stCxn id="893" idx="4"/>
            <a:endCxn id="894" idx="0"/>
          </p:cNvCxnSpPr>
          <p:nvPr/>
        </p:nvCxnSpPr>
        <p:spPr>
          <a:xfrm>
            <a:off x="1371240" y="3733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8" name=""/>
          <p:cNvCxnSpPr>
            <a:stCxn id="894" idx="4"/>
            <a:endCxn id="895" idx="0"/>
          </p:cNvCxnSpPr>
          <p:nvPr/>
        </p:nvCxnSpPr>
        <p:spPr>
          <a:xfrm>
            <a:off x="1371240" y="4114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9" name=""/>
          <p:cNvCxnSpPr>
            <a:stCxn id="895" idx="4"/>
            <a:endCxn id="896" idx="0"/>
          </p:cNvCxnSpPr>
          <p:nvPr/>
        </p:nvCxnSpPr>
        <p:spPr>
          <a:xfrm>
            <a:off x="1371240" y="4495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0" name=""/>
          <p:cNvCxnSpPr>
            <a:stCxn id="896" idx="4"/>
          </p:cNvCxnSpPr>
          <p:nvPr/>
        </p:nvCxnSpPr>
        <p:spPr>
          <a:xfrm>
            <a:off x="1371240" y="4876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1" name=""/>
          <p:cNvSpPr/>
          <p:nvPr/>
        </p:nvSpPr>
        <p:spPr>
          <a:xfrm>
            <a:off x="1219320" y="5029200"/>
            <a:ext cx="30456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1219320" y="5410080"/>
            <a:ext cx="30456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3" name=""/>
          <p:cNvCxnSpPr>
            <a:stCxn id="901" idx="4"/>
            <a:endCxn id="902" idx="0"/>
          </p:cNvCxnSpPr>
          <p:nvPr/>
        </p:nvCxnSpPr>
        <p:spPr>
          <a:xfrm>
            <a:off x="1371240" y="5257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4" name=""/>
          <p:cNvSpPr/>
          <p:nvPr/>
        </p:nvSpPr>
        <p:spPr>
          <a:xfrm>
            <a:off x="1219320" y="160020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219320" y="198108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1219320" y="236232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1219320" y="274320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8" name=""/>
          <p:cNvCxnSpPr>
            <a:stCxn id="904" idx="4"/>
            <a:endCxn id="905" idx="0"/>
          </p:cNvCxnSpPr>
          <p:nvPr/>
        </p:nvCxnSpPr>
        <p:spPr>
          <a:xfrm>
            <a:off x="1371240" y="1828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9" name=""/>
          <p:cNvCxnSpPr>
            <a:stCxn id="905" idx="4"/>
            <a:endCxn id="906" idx="0"/>
          </p:cNvCxnSpPr>
          <p:nvPr/>
        </p:nvCxnSpPr>
        <p:spPr>
          <a:xfrm>
            <a:off x="1371240" y="2209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0" name=""/>
          <p:cNvCxnSpPr>
            <a:stCxn id="906" idx="4"/>
            <a:endCxn id="907" idx="0"/>
          </p:cNvCxnSpPr>
          <p:nvPr/>
        </p:nvCxnSpPr>
        <p:spPr>
          <a:xfrm>
            <a:off x="1371240" y="2590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1" name=""/>
          <p:cNvCxnSpPr>
            <a:stCxn id="907" idx="4"/>
          </p:cNvCxnSpPr>
          <p:nvPr/>
        </p:nvCxnSpPr>
        <p:spPr>
          <a:xfrm>
            <a:off x="1371240" y="2971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2" name=""/>
          <p:cNvSpPr/>
          <p:nvPr/>
        </p:nvSpPr>
        <p:spPr>
          <a:xfrm>
            <a:off x="1219320" y="3124080"/>
            <a:ext cx="30456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3" name=""/>
          <p:cNvCxnSpPr>
            <a:stCxn id="912" idx="4"/>
          </p:cNvCxnSpPr>
          <p:nvPr/>
        </p:nvCxnSpPr>
        <p:spPr>
          <a:xfrm>
            <a:off x="1371240" y="3352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4" name=""/>
          <p:cNvSpPr/>
          <p:nvPr/>
        </p:nvSpPr>
        <p:spPr>
          <a:xfrm>
            <a:off x="1370520" y="5562720"/>
            <a:ext cx="140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rror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1524600" y="2971800"/>
            <a:ext cx="127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Real ca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4572000" y="1905120"/>
            <a:ext cx="38862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6248520" y="1981080"/>
            <a:ext cx="30456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8" name=""/>
          <p:cNvCxnSpPr>
            <a:stCxn id="917" idx="4"/>
            <a:endCxn id="919" idx="0"/>
          </p:cNvCxnSpPr>
          <p:nvPr/>
        </p:nvCxnSpPr>
        <p:spPr>
          <a:xfrm>
            <a:off x="6400440" y="2209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9" name=""/>
          <p:cNvSpPr/>
          <p:nvPr/>
        </p:nvSpPr>
        <p:spPr>
          <a:xfrm>
            <a:off x="6248520" y="2362320"/>
            <a:ext cx="304560" cy="2286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4724280" y="4952880"/>
            <a:ext cx="358164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6779880" y="4876920"/>
            <a:ext cx="134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th li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4724280" y="2286000"/>
            <a:ext cx="358164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124080" y="5486400"/>
            <a:ext cx="1524240" cy="1219320"/>
          </a:xfrm>
          <a:prstGeom prst="ellipse">
            <a:avLst/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7315200" y="5486400"/>
            <a:ext cx="1523880" cy="121932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4419000" y="6461280"/>
            <a:ext cx="109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400800" y="646128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ga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8381880" y="5715000"/>
            <a:ext cx="76320" cy="763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 flipH="1">
            <a:off x="8381880" y="5943600"/>
            <a:ext cx="76320" cy="763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9" name=""/>
          <p:cNvCxnSpPr>
            <a:stCxn id="927" idx="4"/>
            <a:endCxn id="928" idx="0"/>
          </p:cNvCxnSpPr>
          <p:nvPr/>
        </p:nvCxnSpPr>
        <p:spPr>
          <a:xfrm>
            <a:off x="8419680" y="57909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0" name=""/>
          <p:cNvSpPr/>
          <p:nvPr/>
        </p:nvSpPr>
        <p:spPr>
          <a:xfrm flipH="1">
            <a:off x="8381880" y="6172200"/>
            <a:ext cx="76320" cy="763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1" name=""/>
          <p:cNvCxnSpPr>
            <a:endCxn id="930" idx="0"/>
          </p:cNvCxnSpPr>
          <p:nvPr/>
        </p:nvCxnSpPr>
        <p:spPr>
          <a:xfrm>
            <a:off x="8419680" y="6019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2" name=""/>
          <p:cNvSpPr/>
          <p:nvPr/>
        </p:nvSpPr>
        <p:spPr>
          <a:xfrm flipH="1">
            <a:off x="8381880" y="6400800"/>
            <a:ext cx="76320" cy="763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3" name=""/>
          <p:cNvCxnSpPr>
            <a:endCxn id="932" idx="0"/>
          </p:cNvCxnSpPr>
          <p:nvPr/>
        </p:nvCxnSpPr>
        <p:spPr>
          <a:xfrm>
            <a:off x="8419680" y="62481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4" name=""/>
          <p:cNvSpPr/>
          <p:nvPr/>
        </p:nvSpPr>
        <p:spPr>
          <a:xfrm>
            <a:off x="8153280" y="5791320"/>
            <a:ext cx="76320" cy="759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flipH="1">
            <a:off x="8153280" y="6019920"/>
            <a:ext cx="76320" cy="759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6" name=""/>
          <p:cNvCxnSpPr>
            <a:stCxn id="934" idx="4"/>
            <a:endCxn id="935" idx="0"/>
          </p:cNvCxnSpPr>
          <p:nvPr/>
        </p:nvCxnSpPr>
        <p:spPr>
          <a:xfrm>
            <a:off x="8191080" y="58672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7" name=""/>
          <p:cNvSpPr/>
          <p:nvPr/>
        </p:nvSpPr>
        <p:spPr>
          <a:xfrm flipH="1">
            <a:off x="8153280" y="6248520"/>
            <a:ext cx="76320" cy="759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8" name=""/>
          <p:cNvCxnSpPr>
            <a:endCxn id="937" idx="0"/>
          </p:cNvCxnSpPr>
          <p:nvPr/>
        </p:nvCxnSpPr>
        <p:spPr>
          <a:xfrm>
            <a:off x="8191080" y="60958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9" name=""/>
          <p:cNvSpPr/>
          <p:nvPr/>
        </p:nvSpPr>
        <p:spPr>
          <a:xfrm flipH="1">
            <a:off x="8153280" y="6477120"/>
            <a:ext cx="76320" cy="759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0" name=""/>
          <p:cNvCxnSpPr>
            <a:endCxn id="939" idx="0"/>
          </p:cNvCxnSpPr>
          <p:nvPr/>
        </p:nvCxnSpPr>
        <p:spPr>
          <a:xfrm>
            <a:off x="8191080" y="6324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41" name=""/>
          <p:cNvSpPr/>
          <p:nvPr/>
        </p:nvSpPr>
        <p:spPr>
          <a:xfrm>
            <a:off x="7696080" y="5791320"/>
            <a:ext cx="76320" cy="759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flipH="1">
            <a:off x="7696080" y="6019920"/>
            <a:ext cx="76320" cy="759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3" name=""/>
          <p:cNvCxnSpPr>
            <a:stCxn id="941" idx="4"/>
            <a:endCxn id="942" idx="0"/>
          </p:cNvCxnSpPr>
          <p:nvPr/>
        </p:nvCxnSpPr>
        <p:spPr>
          <a:xfrm>
            <a:off x="7733880" y="58672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44" name=""/>
          <p:cNvSpPr/>
          <p:nvPr/>
        </p:nvSpPr>
        <p:spPr>
          <a:xfrm flipH="1">
            <a:off x="7696080" y="6248520"/>
            <a:ext cx="76320" cy="759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5" name=""/>
          <p:cNvCxnSpPr>
            <a:endCxn id="944" idx="0"/>
          </p:cNvCxnSpPr>
          <p:nvPr/>
        </p:nvCxnSpPr>
        <p:spPr>
          <a:xfrm>
            <a:off x="7733880" y="60958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46" name=""/>
          <p:cNvSpPr/>
          <p:nvPr/>
        </p:nvSpPr>
        <p:spPr>
          <a:xfrm flipH="1">
            <a:off x="7696080" y="6477120"/>
            <a:ext cx="76320" cy="759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7" name=""/>
          <p:cNvCxnSpPr>
            <a:endCxn id="946" idx="0"/>
          </p:cNvCxnSpPr>
          <p:nvPr/>
        </p:nvCxnSpPr>
        <p:spPr>
          <a:xfrm>
            <a:off x="7733880" y="6324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48" name=""/>
          <p:cNvSpPr/>
          <p:nvPr/>
        </p:nvSpPr>
        <p:spPr>
          <a:xfrm>
            <a:off x="7924680" y="5867280"/>
            <a:ext cx="76320" cy="763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flipH="1">
            <a:off x="7924680" y="6095880"/>
            <a:ext cx="76320" cy="763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0" name=""/>
          <p:cNvCxnSpPr>
            <a:stCxn id="948" idx="4"/>
            <a:endCxn id="949" idx="0"/>
          </p:cNvCxnSpPr>
          <p:nvPr/>
        </p:nvCxnSpPr>
        <p:spPr>
          <a:xfrm>
            <a:off x="7962480" y="59432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51" name=""/>
          <p:cNvSpPr/>
          <p:nvPr/>
        </p:nvSpPr>
        <p:spPr>
          <a:xfrm flipH="1">
            <a:off x="7924680" y="6324480"/>
            <a:ext cx="76320" cy="763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2" name=""/>
          <p:cNvCxnSpPr>
            <a:endCxn id="951" idx="0"/>
          </p:cNvCxnSpPr>
          <p:nvPr/>
        </p:nvCxnSpPr>
        <p:spPr>
          <a:xfrm>
            <a:off x="7962480" y="61718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53" name=""/>
          <p:cNvSpPr/>
          <p:nvPr/>
        </p:nvSpPr>
        <p:spPr>
          <a:xfrm flipH="1">
            <a:off x="7924680" y="6553080"/>
            <a:ext cx="76320" cy="763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4" name=""/>
          <p:cNvCxnSpPr>
            <a:endCxn id="953" idx="0"/>
          </p:cNvCxnSpPr>
          <p:nvPr/>
        </p:nvCxnSpPr>
        <p:spPr>
          <a:xfrm>
            <a:off x="7962480" y="6400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55" name=""/>
          <p:cNvSpPr/>
          <p:nvPr/>
        </p:nvSpPr>
        <p:spPr>
          <a:xfrm>
            <a:off x="6553080" y="27432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6" name=""/>
          <p:cNvCxnSpPr>
            <a:stCxn id="919" idx="4"/>
            <a:endCxn id="955" idx="0"/>
          </p:cNvCxnSpPr>
          <p:nvPr/>
        </p:nvCxnSpPr>
        <p:spPr>
          <a:xfrm>
            <a:off x="6400440" y="2590560"/>
            <a:ext cx="30564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57" name=""/>
          <p:cNvSpPr/>
          <p:nvPr/>
        </p:nvSpPr>
        <p:spPr>
          <a:xfrm>
            <a:off x="6324480" y="312408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6781680" y="312408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5486400" y="35053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6324480" y="35053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6781680" y="35053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5486400" y="38862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6324480" y="38862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4" name=""/>
          <p:cNvCxnSpPr>
            <a:endCxn id="957" idx="0"/>
          </p:cNvCxnSpPr>
          <p:nvPr/>
        </p:nvCxnSpPr>
        <p:spPr>
          <a:xfrm flipH="1">
            <a:off x="6476400" y="2971440"/>
            <a:ext cx="22932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5" name=""/>
          <p:cNvCxnSpPr>
            <a:endCxn id="958" idx="0"/>
          </p:cNvCxnSpPr>
          <p:nvPr/>
        </p:nvCxnSpPr>
        <p:spPr>
          <a:xfrm>
            <a:off x="6705360" y="2971440"/>
            <a:ext cx="22932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6" name=""/>
          <p:cNvCxnSpPr>
            <a:stCxn id="957" idx="4"/>
            <a:endCxn id="959" idx="0"/>
          </p:cNvCxnSpPr>
          <p:nvPr/>
        </p:nvCxnSpPr>
        <p:spPr>
          <a:xfrm flipH="1">
            <a:off x="5637960" y="3352680"/>
            <a:ext cx="83916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7" name=""/>
          <p:cNvCxnSpPr>
            <a:stCxn id="957" idx="4"/>
            <a:endCxn id="960" idx="0"/>
          </p:cNvCxnSpPr>
          <p:nvPr/>
        </p:nvCxnSpPr>
        <p:spPr>
          <a:xfrm>
            <a:off x="6476760" y="3352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8" name=""/>
          <p:cNvCxnSpPr>
            <a:stCxn id="958" idx="4"/>
            <a:endCxn id="961" idx="0"/>
          </p:cNvCxnSpPr>
          <p:nvPr/>
        </p:nvCxnSpPr>
        <p:spPr>
          <a:xfrm>
            <a:off x="6933960" y="3352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9" name=""/>
          <p:cNvCxnSpPr>
            <a:stCxn id="960" idx="4"/>
            <a:endCxn id="963" idx="0"/>
          </p:cNvCxnSpPr>
          <p:nvPr/>
        </p:nvCxnSpPr>
        <p:spPr>
          <a:xfrm>
            <a:off x="6476760" y="3733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0" name=""/>
          <p:cNvCxnSpPr>
            <a:stCxn id="959" idx="4"/>
            <a:endCxn id="962" idx="0"/>
          </p:cNvCxnSpPr>
          <p:nvPr/>
        </p:nvCxnSpPr>
        <p:spPr>
          <a:xfrm>
            <a:off x="5638320" y="3733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1" name=""/>
          <p:cNvSpPr/>
          <p:nvPr/>
        </p:nvSpPr>
        <p:spPr>
          <a:xfrm>
            <a:off x="6324480" y="426708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2" name=""/>
          <p:cNvCxnSpPr>
            <a:endCxn id="971" idx="0"/>
          </p:cNvCxnSpPr>
          <p:nvPr/>
        </p:nvCxnSpPr>
        <p:spPr>
          <a:xfrm>
            <a:off x="6476760" y="4114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3" name=""/>
          <p:cNvSpPr/>
          <p:nvPr/>
        </p:nvSpPr>
        <p:spPr>
          <a:xfrm>
            <a:off x="6324480" y="46483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4" name=""/>
          <p:cNvCxnSpPr>
            <a:endCxn id="973" idx="0"/>
          </p:cNvCxnSpPr>
          <p:nvPr/>
        </p:nvCxnSpPr>
        <p:spPr>
          <a:xfrm>
            <a:off x="6476760" y="4495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5" name=""/>
          <p:cNvSpPr/>
          <p:nvPr/>
        </p:nvSpPr>
        <p:spPr>
          <a:xfrm>
            <a:off x="5486400" y="426708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6" name=""/>
          <p:cNvCxnSpPr>
            <a:endCxn id="975" idx="0"/>
          </p:cNvCxnSpPr>
          <p:nvPr/>
        </p:nvCxnSpPr>
        <p:spPr>
          <a:xfrm>
            <a:off x="5638320" y="4114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7" name=""/>
          <p:cNvSpPr/>
          <p:nvPr/>
        </p:nvSpPr>
        <p:spPr>
          <a:xfrm>
            <a:off x="5486400" y="4648320"/>
            <a:ext cx="304920" cy="228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8" name=""/>
          <p:cNvCxnSpPr>
            <a:endCxn id="977" idx="0"/>
          </p:cNvCxnSpPr>
          <p:nvPr/>
        </p:nvCxnSpPr>
        <p:spPr>
          <a:xfrm>
            <a:off x="5638320" y="4495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9" name=""/>
          <p:cNvSpPr/>
          <p:nvPr/>
        </p:nvSpPr>
        <p:spPr>
          <a:xfrm>
            <a:off x="6781680" y="38862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0" name=""/>
          <p:cNvCxnSpPr>
            <a:endCxn id="979" idx="0"/>
          </p:cNvCxnSpPr>
          <p:nvPr/>
        </p:nvCxnSpPr>
        <p:spPr>
          <a:xfrm>
            <a:off x="6933960" y="3733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1" name=""/>
          <p:cNvSpPr/>
          <p:nvPr/>
        </p:nvSpPr>
        <p:spPr>
          <a:xfrm>
            <a:off x="6781680" y="426708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2" name=""/>
          <p:cNvCxnSpPr>
            <a:endCxn id="981" idx="0"/>
          </p:cNvCxnSpPr>
          <p:nvPr/>
        </p:nvCxnSpPr>
        <p:spPr>
          <a:xfrm>
            <a:off x="6933960" y="4114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3" name=""/>
          <p:cNvSpPr/>
          <p:nvPr/>
        </p:nvSpPr>
        <p:spPr>
          <a:xfrm>
            <a:off x="6781680" y="4648320"/>
            <a:ext cx="30492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4" name=""/>
          <p:cNvCxnSpPr>
            <a:endCxn id="983" idx="0"/>
          </p:cNvCxnSpPr>
          <p:nvPr/>
        </p:nvCxnSpPr>
        <p:spPr>
          <a:xfrm>
            <a:off x="6933960" y="4495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5" name=""/>
          <p:cNvSpPr/>
          <p:nvPr/>
        </p:nvSpPr>
        <p:spPr>
          <a:xfrm>
            <a:off x="6629400" y="4952880"/>
            <a:ext cx="9144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 flipH="1">
            <a:off x="1371600" y="472428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5943600" y="2743200"/>
            <a:ext cx="304920" cy="228600"/>
          </a:xfrm>
          <a:prstGeom prst="ellipse">
            <a:avLst/>
          </a:prstGeom>
          <a:solidFill>
            <a:srgbClr val="666699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8" name=""/>
          <p:cNvCxnSpPr>
            <a:stCxn id="919" idx="4"/>
            <a:endCxn id="987" idx="0"/>
          </p:cNvCxnSpPr>
          <p:nvPr/>
        </p:nvCxnSpPr>
        <p:spPr>
          <a:xfrm flipH="1">
            <a:off x="6095160" y="2590560"/>
            <a:ext cx="305640" cy="138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9" name=""/>
          <p:cNvCxnSpPr/>
          <p:nvPr/>
        </p:nvCxnSpPr>
        <p:spPr>
          <a:xfrm>
            <a:off x="5638320" y="4876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0" name=""/>
          <p:cNvSpPr/>
          <p:nvPr/>
        </p:nvSpPr>
        <p:spPr>
          <a:xfrm>
            <a:off x="5486400" y="5029200"/>
            <a:ext cx="30492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486400" y="5410080"/>
            <a:ext cx="30492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2" name=""/>
          <p:cNvCxnSpPr>
            <a:stCxn id="990" idx="4"/>
            <a:endCxn id="991" idx="0"/>
          </p:cNvCxnSpPr>
          <p:nvPr/>
        </p:nvCxnSpPr>
        <p:spPr>
          <a:xfrm>
            <a:off x="5638320" y="5257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3" name=""/>
          <p:cNvSpPr/>
          <p:nvPr/>
        </p:nvSpPr>
        <p:spPr>
          <a:xfrm>
            <a:off x="4872960" y="5715000"/>
            <a:ext cx="177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sh-through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1371600" y="51055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5867280" y="5638680"/>
            <a:ext cx="16002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 flipV="1">
            <a:off x="1600200" y="2666880"/>
            <a:ext cx="28954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The Search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1219320" y="350532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1219320" y="388620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1219320" y="426708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1219320" y="464832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3" name=""/>
          <p:cNvCxnSpPr>
            <a:stCxn id="999" idx="4"/>
            <a:endCxn id="1000" idx="0"/>
          </p:cNvCxnSpPr>
          <p:nvPr/>
        </p:nvCxnSpPr>
        <p:spPr>
          <a:xfrm>
            <a:off x="1371240" y="3733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4" name=""/>
          <p:cNvCxnSpPr>
            <a:stCxn id="1000" idx="4"/>
            <a:endCxn id="1001" idx="0"/>
          </p:cNvCxnSpPr>
          <p:nvPr/>
        </p:nvCxnSpPr>
        <p:spPr>
          <a:xfrm>
            <a:off x="1371240" y="4114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5" name=""/>
          <p:cNvCxnSpPr>
            <a:stCxn id="1001" idx="4"/>
            <a:endCxn id="1002" idx="0"/>
          </p:cNvCxnSpPr>
          <p:nvPr/>
        </p:nvCxnSpPr>
        <p:spPr>
          <a:xfrm>
            <a:off x="1371240" y="4495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6" name=""/>
          <p:cNvCxnSpPr>
            <a:stCxn id="1002" idx="4"/>
          </p:cNvCxnSpPr>
          <p:nvPr/>
        </p:nvCxnSpPr>
        <p:spPr>
          <a:xfrm>
            <a:off x="1371240" y="4876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07" name=""/>
          <p:cNvSpPr/>
          <p:nvPr/>
        </p:nvSpPr>
        <p:spPr>
          <a:xfrm>
            <a:off x="1219320" y="502920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1219320" y="5410080"/>
            <a:ext cx="30456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9" name=""/>
          <p:cNvCxnSpPr>
            <a:stCxn id="1007" idx="4"/>
            <a:endCxn id="1008" idx="0"/>
          </p:cNvCxnSpPr>
          <p:nvPr/>
        </p:nvCxnSpPr>
        <p:spPr>
          <a:xfrm>
            <a:off x="1371240" y="5257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0" name=""/>
          <p:cNvSpPr/>
          <p:nvPr/>
        </p:nvSpPr>
        <p:spPr>
          <a:xfrm>
            <a:off x="1219320" y="160020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1219320" y="198108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1219320" y="236232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1219320" y="2743200"/>
            <a:ext cx="304560" cy="228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4" name=""/>
          <p:cNvCxnSpPr>
            <a:stCxn id="1010" idx="4"/>
            <a:endCxn id="1011" idx="0"/>
          </p:cNvCxnSpPr>
          <p:nvPr/>
        </p:nvCxnSpPr>
        <p:spPr>
          <a:xfrm>
            <a:off x="1371240" y="1828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5" name=""/>
          <p:cNvCxnSpPr>
            <a:stCxn id="1011" idx="4"/>
            <a:endCxn id="1012" idx="0"/>
          </p:cNvCxnSpPr>
          <p:nvPr/>
        </p:nvCxnSpPr>
        <p:spPr>
          <a:xfrm>
            <a:off x="1371240" y="2209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6" name=""/>
          <p:cNvCxnSpPr>
            <a:stCxn id="1012" idx="4"/>
            <a:endCxn id="1013" idx="0"/>
          </p:cNvCxnSpPr>
          <p:nvPr/>
        </p:nvCxnSpPr>
        <p:spPr>
          <a:xfrm>
            <a:off x="1371240" y="2590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7" name=""/>
          <p:cNvCxnSpPr>
            <a:stCxn id="1013" idx="4"/>
          </p:cNvCxnSpPr>
          <p:nvPr/>
        </p:nvCxnSpPr>
        <p:spPr>
          <a:xfrm>
            <a:off x="1371240" y="2971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8" name=""/>
          <p:cNvSpPr/>
          <p:nvPr/>
        </p:nvSpPr>
        <p:spPr>
          <a:xfrm>
            <a:off x="1219320" y="3124080"/>
            <a:ext cx="30456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9" name=""/>
          <p:cNvCxnSpPr>
            <a:stCxn id="1018" idx="4"/>
          </p:cNvCxnSpPr>
          <p:nvPr/>
        </p:nvCxnSpPr>
        <p:spPr>
          <a:xfrm>
            <a:off x="1371240" y="3352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20" name=""/>
          <p:cNvSpPr/>
          <p:nvPr/>
        </p:nvSpPr>
        <p:spPr>
          <a:xfrm>
            <a:off x="1370520" y="5562720"/>
            <a:ext cx="140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rror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1524600" y="2971800"/>
            <a:ext cx="127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Real ca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4572000" y="1905120"/>
            <a:ext cx="38862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6248520" y="198108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4" name=""/>
          <p:cNvCxnSpPr>
            <a:stCxn id="1023" idx="4"/>
          </p:cNvCxnSpPr>
          <p:nvPr/>
        </p:nvCxnSpPr>
        <p:spPr>
          <a:xfrm>
            <a:off x="6400440" y="2209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25" name=""/>
          <p:cNvSpPr/>
          <p:nvPr/>
        </p:nvSpPr>
        <p:spPr>
          <a:xfrm>
            <a:off x="6248520" y="2362320"/>
            <a:ext cx="304560" cy="228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6019920" y="2743200"/>
            <a:ext cx="30456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6477120" y="274320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8" name=""/>
          <p:cNvCxnSpPr>
            <a:stCxn id="1025" idx="4"/>
            <a:endCxn id="1026" idx="0"/>
          </p:cNvCxnSpPr>
          <p:nvPr/>
        </p:nvCxnSpPr>
        <p:spPr>
          <a:xfrm flipH="1">
            <a:off x="6171480" y="2590920"/>
            <a:ext cx="229320" cy="13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9" name=""/>
          <p:cNvCxnSpPr>
            <a:endCxn id="1027" idx="0"/>
          </p:cNvCxnSpPr>
          <p:nvPr/>
        </p:nvCxnSpPr>
        <p:spPr>
          <a:xfrm>
            <a:off x="6400440" y="2590560"/>
            <a:ext cx="22932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0" name=""/>
          <p:cNvSpPr/>
          <p:nvPr/>
        </p:nvSpPr>
        <p:spPr>
          <a:xfrm>
            <a:off x="4724280" y="4952880"/>
            <a:ext cx="358164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6779880" y="4876920"/>
            <a:ext cx="134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th li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6248520" y="3124080"/>
            <a:ext cx="30456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6705720" y="312408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4" name=""/>
          <p:cNvCxnSpPr>
            <a:stCxn id="1027" idx="4"/>
            <a:endCxn id="1032" idx="0"/>
          </p:cNvCxnSpPr>
          <p:nvPr/>
        </p:nvCxnSpPr>
        <p:spPr>
          <a:xfrm flipH="1">
            <a:off x="6400080" y="2971800"/>
            <a:ext cx="229320" cy="13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5" name=""/>
          <p:cNvCxnSpPr>
            <a:endCxn id="1033" idx="0"/>
          </p:cNvCxnSpPr>
          <p:nvPr/>
        </p:nvCxnSpPr>
        <p:spPr>
          <a:xfrm>
            <a:off x="6629040" y="2971440"/>
            <a:ext cx="22932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6" name=""/>
          <p:cNvSpPr/>
          <p:nvPr/>
        </p:nvSpPr>
        <p:spPr>
          <a:xfrm>
            <a:off x="4724280" y="2286000"/>
            <a:ext cx="358164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6477120" y="388620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8" name=""/>
          <p:cNvCxnSpPr>
            <a:endCxn id="1037" idx="0"/>
          </p:cNvCxnSpPr>
          <p:nvPr/>
        </p:nvCxnSpPr>
        <p:spPr>
          <a:xfrm>
            <a:off x="6629040" y="3733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9" name=""/>
          <p:cNvSpPr/>
          <p:nvPr/>
        </p:nvSpPr>
        <p:spPr>
          <a:xfrm>
            <a:off x="6477120" y="350532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6934320" y="350532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1" name=""/>
          <p:cNvCxnSpPr>
            <a:endCxn id="1039" idx="0"/>
          </p:cNvCxnSpPr>
          <p:nvPr/>
        </p:nvCxnSpPr>
        <p:spPr>
          <a:xfrm flipH="1">
            <a:off x="6628680" y="3352680"/>
            <a:ext cx="22932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2" name=""/>
          <p:cNvCxnSpPr>
            <a:endCxn id="1040" idx="0"/>
          </p:cNvCxnSpPr>
          <p:nvPr/>
        </p:nvCxnSpPr>
        <p:spPr>
          <a:xfrm>
            <a:off x="6857640" y="3352680"/>
            <a:ext cx="22932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43" name=""/>
          <p:cNvSpPr/>
          <p:nvPr/>
        </p:nvSpPr>
        <p:spPr>
          <a:xfrm>
            <a:off x="4911480" y="2989440"/>
            <a:ext cx="100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rea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si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flipV="1">
            <a:off x="58672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3124080" y="5486400"/>
            <a:ext cx="1524240" cy="1219320"/>
          </a:xfrm>
          <a:prstGeom prst="ellipse">
            <a:avLst/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7315200" y="5486400"/>
            <a:ext cx="1523880" cy="121932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4419000" y="6461280"/>
            <a:ext cx="109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6400800" y="646128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ga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8381880" y="5715000"/>
            <a:ext cx="76320" cy="763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 flipH="1">
            <a:off x="8381880" y="5943600"/>
            <a:ext cx="76320" cy="763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1" name=""/>
          <p:cNvCxnSpPr>
            <a:stCxn id="1049" idx="4"/>
            <a:endCxn id="1050" idx="0"/>
          </p:cNvCxnSpPr>
          <p:nvPr/>
        </p:nvCxnSpPr>
        <p:spPr>
          <a:xfrm>
            <a:off x="8419680" y="57909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2" name=""/>
          <p:cNvSpPr/>
          <p:nvPr/>
        </p:nvSpPr>
        <p:spPr>
          <a:xfrm flipH="1">
            <a:off x="8381880" y="6172200"/>
            <a:ext cx="76320" cy="763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3" name=""/>
          <p:cNvCxnSpPr>
            <a:endCxn id="1052" idx="0"/>
          </p:cNvCxnSpPr>
          <p:nvPr/>
        </p:nvCxnSpPr>
        <p:spPr>
          <a:xfrm>
            <a:off x="8419680" y="6019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4" name=""/>
          <p:cNvSpPr/>
          <p:nvPr/>
        </p:nvSpPr>
        <p:spPr>
          <a:xfrm flipH="1">
            <a:off x="8381880" y="6400800"/>
            <a:ext cx="76320" cy="763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5" name=""/>
          <p:cNvCxnSpPr>
            <a:endCxn id="1054" idx="0"/>
          </p:cNvCxnSpPr>
          <p:nvPr/>
        </p:nvCxnSpPr>
        <p:spPr>
          <a:xfrm>
            <a:off x="8419680" y="62481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6" name=""/>
          <p:cNvSpPr/>
          <p:nvPr/>
        </p:nvSpPr>
        <p:spPr>
          <a:xfrm>
            <a:off x="8153280" y="5791320"/>
            <a:ext cx="76320" cy="759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 flipH="1">
            <a:off x="8153280" y="6019920"/>
            <a:ext cx="76320" cy="759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8" name=""/>
          <p:cNvCxnSpPr>
            <a:stCxn id="1056" idx="4"/>
            <a:endCxn id="1057" idx="0"/>
          </p:cNvCxnSpPr>
          <p:nvPr/>
        </p:nvCxnSpPr>
        <p:spPr>
          <a:xfrm>
            <a:off x="8191080" y="58672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9" name=""/>
          <p:cNvSpPr/>
          <p:nvPr/>
        </p:nvSpPr>
        <p:spPr>
          <a:xfrm flipH="1">
            <a:off x="8153280" y="6248520"/>
            <a:ext cx="76320" cy="759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0" name=""/>
          <p:cNvCxnSpPr>
            <a:endCxn id="1059" idx="0"/>
          </p:cNvCxnSpPr>
          <p:nvPr/>
        </p:nvCxnSpPr>
        <p:spPr>
          <a:xfrm>
            <a:off x="8191080" y="60958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1" name=""/>
          <p:cNvSpPr/>
          <p:nvPr/>
        </p:nvSpPr>
        <p:spPr>
          <a:xfrm flipH="1">
            <a:off x="8153280" y="6477120"/>
            <a:ext cx="76320" cy="759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2" name=""/>
          <p:cNvCxnSpPr>
            <a:endCxn id="1061" idx="0"/>
          </p:cNvCxnSpPr>
          <p:nvPr/>
        </p:nvCxnSpPr>
        <p:spPr>
          <a:xfrm>
            <a:off x="8191080" y="6324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3" name=""/>
          <p:cNvSpPr/>
          <p:nvPr/>
        </p:nvSpPr>
        <p:spPr>
          <a:xfrm>
            <a:off x="7696080" y="5791320"/>
            <a:ext cx="76320" cy="759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 flipH="1">
            <a:off x="7696080" y="6019920"/>
            <a:ext cx="76320" cy="759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5" name=""/>
          <p:cNvCxnSpPr>
            <a:stCxn id="1063" idx="4"/>
            <a:endCxn id="1064" idx="0"/>
          </p:cNvCxnSpPr>
          <p:nvPr/>
        </p:nvCxnSpPr>
        <p:spPr>
          <a:xfrm>
            <a:off x="7733880" y="58672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6" name=""/>
          <p:cNvSpPr/>
          <p:nvPr/>
        </p:nvSpPr>
        <p:spPr>
          <a:xfrm flipH="1">
            <a:off x="7696080" y="6248520"/>
            <a:ext cx="76320" cy="759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7" name=""/>
          <p:cNvCxnSpPr>
            <a:endCxn id="1066" idx="0"/>
          </p:cNvCxnSpPr>
          <p:nvPr/>
        </p:nvCxnSpPr>
        <p:spPr>
          <a:xfrm>
            <a:off x="7733880" y="60958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8" name=""/>
          <p:cNvSpPr/>
          <p:nvPr/>
        </p:nvSpPr>
        <p:spPr>
          <a:xfrm flipH="1">
            <a:off x="7696080" y="6477120"/>
            <a:ext cx="76320" cy="759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9" name=""/>
          <p:cNvCxnSpPr>
            <a:endCxn id="1068" idx="0"/>
          </p:cNvCxnSpPr>
          <p:nvPr/>
        </p:nvCxnSpPr>
        <p:spPr>
          <a:xfrm>
            <a:off x="7733880" y="6324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0" name=""/>
          <p:cNvSpPr/>
          <p:nvPr/>
        </p:nvSpPr>
        <p:spPr>
          <a:xfrm flipH="1">
            <a:off x="3657240" y="4952880"/>
            <a:ext cx="297180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7924680" y="5867280"/>
            <a:ext cx="76320" cy="763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 flipH="1">
            <a:off x="7924680" y="6095880"/>
            <a:ext cx="76320" cy="763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3" name=""/>
          <p:cNvCxnSpPr>
            <a:stCxn id="1071" idx="4"/>
            <a:endCxn id="1072" idx="0"/>
          </p:cNvCxnSpPr>
          <p:nvPr/>
        </p:nvCxnSpPr>
        <p:spPr>
          <a:xfrm>
            <a:off x="7962480" y="59432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4" name=""/>
          <p:cNvSpPr/>
          <p:nvPr/>
        </p:nvSpPr>
        <p:spPr>
          <a:xfrm flipH="1">
            <a:off x="7924680" y="6324480"/>
            <a:ext cx="76320" cy="763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5" name=""/>
          <p:cNvCxnSpPr>
            <a:endCxn id="1074" idx="0"/>
          </p:cNvCxnSpPr>
          <p:nvPr/>
        </p:nvCxnSpPr>
        <p:spPr>
          <a:xfrm>
            <a:off x="7962480" y="61718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6" name=""/>
          <p:cNvSpPr/>
          <p:nvPr/>
        </p:nvSpPr>
        <p:spPr>
          <a:xfrm flipH="1">
            <a:off x="7924680" y="6553080"/>
            <a:ext cx="76320" cy="763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7" name=""/>
          <p:cNvCxnSpPr>
            <a:endCxn id="1076" idx="0"/>
          </p:cNvCxnSpPr>
          <p:nvPr/>
        </p:nvCxnSpPr>
        <p:spPr>
          <a:xfrm>
            <a:off x="7962480" y="6400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8" name=""/>
          <p:cNvSpPr/>
          <p:nvPr/>
        </p:nvSpPr>
        <p:spPr>
          <a:xfrm flipV="1">
            <a:off x="1600200" y="2514240"/>
            <a:ext cx="2971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6248520" y="426708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6705720" y="426708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81" name=""/>
          <p:cNvCxnSpPr>
            <a:endCxn id="1079" idx="0"/>
          </p:cNvCxnSpPr>
          <p:nvPr/>
        </p:nvCxnSpPr>
        <p:spPr>
          <a:xfrm flipH="1">
            <a:off x="6400080" y="4114440"/>
            <a:ext cx="22932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2" name=""/>
          <p:cNvCxnSpPr>
            <a:endCxn id="1080" idx="0"/>
          </p:cNvCxnSpPr>
          <p:nvPr/>
        </p:nvCxnSpPr>
        <p:spPr>
          <a:xfrm>
            <a:off x="6629040" y="4114440"/>
            <a:ext cx="22932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83" name=""/>
          <p:cNvSpPr/>
          <p:nvPr/>
        </p:nvSpPr>
        <p:spPr>
          <a:xfrm>
            <a:off x="7467480" y="38862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7238880" y="426708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7696080" y="4267080"/>
            <a:ext cx="304920" cy="22860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86" name=""/>
          <p:cNvCxnSpPr>
            <a:endCxn id="1084" idx="0"/>
          </p:cNvCxnSpPr>
          <p:nvPr/>
        </p:nvCxnSpPr>
        <p:spPr>
          <a:xfrm flipH="1">
            <a:off x="7390800" y="4114440"/>
            <a:ext cx="22932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7" name=""/>
          <p:cNvCxnSpPr>
            <a:endCxn id="1085" idx="0"/>
          </p:cNvCxnSpPr>
          <p:nvPr/>
        </p:nvCxnSpPr>
        <p:spPr>
          <a:xfrm>
            <a:off x="7619760" y="4114440"/>
            <a:ext cx="22932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8" name=""/>
          <p:cNvCxnSpPr>
            <a:stCxn id="1040" idx="4"/>
            <a:endCxn id="1083" idx="0"/>
          </p:cNvCxnSpPr>
          <p:nvPr/>
        </p:nvCxnSpPr>
        <p:spPr>
          <a:xfrm>
            <a:off x="7086600" y="3733560"/>
            <a:ext cx="53424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89" name=""/>
          <p:cNvSpPr/>
          <p:nvPr/>
        </p:nvSpPr>
        <p:spPr>
          <a:xfrm>
            <a:off x="6019920" y="464832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6477120" y="4648320"/>
            <a:ext cx="304560" cy="22860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91" name=""/>
          <p:cNvCxnSpPr>
            <a:endCxn id="1089" idx="0"/>
          </p:cNvCxnSpPr>
          <p:nvPr/>
        </p:nvCxnSpPr>
        <p:spPr>
          <a:xfrm flipH="1">
            <a:off x="6171480" y="4495680"/>
            <a:ext cx="22932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2" name=""/>
          <p:cNvCxnSpPr>
            <a:endCxn id="1090" idx="0"/>
          </p:cNvCxnSpPr>
          <p:nvPr/>
        </p:nvCxnSpPr>
        <p:spPr>
          <a:xfrm>
            <a:off x="6400440" y="4495680"/>
            <a:ext cx="22932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3" name=""/>
          <p:cNvCxnSpPr>
            <a:stCxn id="1080" idx="4"/>
            <a:endCxn id="1090" idx="0"/>
          </p:cNvCxnSpPr>
          <p:nvPr/>
        </p:nvCxnSpPr>
        <p:spPr>
          <a:xfrm flipH="1">
            <a:off x="6628680" y="4495680"/>
            <a:ext cx="22932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4" name=""/>
          <p:cNvSpPr/>
          <p:nvPr/>
        </p:nvSpPr>
        <p:spPr>
          <a:xfrm>
            <a:off x="3505320" y="5715000"/>
            <a:ext cx="75960" cy="763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 flipH="1">
            <a:off x="3504600" y="5943600"/>
            <a:ext cx="75960" cy="763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96" name=""/>
          <p:cNvCxnSpPr>
            <a:stCxn id="1094" idx="4"/>
            <a:endCxn id="1095" idx="0"/>
          </p:cNvCxnSpPr>
          <p:nvPr/>
        </p:nvCxnSpPr>
        <p:spPr>
          <a:xfrm>
            <a:off x="3543120" y="57909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7" name=""/>
          <p:cNvSpPr/>
          <p:nvPr/>
        </p:nvSpPr>
        <p:spPr>
          <a:xfrm flipH="1">
            <a:off x="3504600" y="6172200"/>
            <a:ext cx="75960" cy="763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98" name=""/>
          <p:cNvCxnSpPr>
            <a:endCxn id="1097" idx="0"/>
          </p:cNvCxnSpPr>
          <p:nvPr/>
        </p:nvCxnSpPr>
        <p:spPr>
          <a:xfrm>
            <a:off x="3543120" y="6019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9" name=""/>
          <p:cNvSpPr/>
          <p:nvPr/>
        </p:nvSpPr>
        <p:spPr>
          <a:xfrm flipH="1">
            <a:off x="3504600" y="6400800"/>
            <a:ext cx="75960" cy="7632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00" name=""/>
          <p:cNvCxnSpPr>
            <a:endCxn id="1099" idx="0"/>
          </p:cNvCxnSpPr>
          <p:nvPr/>
        </p:nvCxnSpPr>
        <p:spPr>
          <a:xfrm>
            <a:off x="3543120" y="62481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01" name=""/>
          <p:cNvSpPr/>
          <p:nvPr/>
        </p:nvSpPr>
        <p:spPr>
          <a:xfrm>
            <a:off x="4038480" y="5715000"/>
            <a:ext cx="76320" cy="763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 flipH="1">
            <a:off x="4038480" y="5943600"/>
            <a:ext cx="76320" cy="763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03" name=""/>
          <p:cNvCxnSpPr>
            <a:stCxn id="1101" idx="4"/>
            <a:endCxn id="1102" idx="0"/>
          </p:cNvCxnSpPr>
          <p:nvPr/>
        </p:nvCxnSpPr>
        <p:spPr>
          <a:xfrm>
            <a:off x="4076280" y="57909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04" name=""/>
          <p:cNvSpPr/>
          <p:nvPr/>
        </p:nvSpPr>
        <p:spPr>
          <a:xfrm flipH="1">
            <a:off x="4038480" y="6172200"/>
            <a:ext cx="76320" cy="763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05" name=""/>
          <p:cNvCxnSpPr>
            <a:endCxn id="1104" idx="0"/>
          </p:cNvCxnSpPr>
          <p:nvPr/>
        </p:nvCxnSpPr>
        <p:spPr>
          <a:xfrm>
            <a:off x="4076280" y="6019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06" name=""/>
          <p:cNvSpPr/>
          <p:nvPr/>
        </p:nvSpPr>
        <p:spPr>
          <a:xfrm flipH="1">
            <a:off x="4038480" y="6400800"/>
            <a:ext cx="76320" cy="7632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07" name=""/>
          <p:cNvCxnSpPr>
            <a:endCxn id="1106" idx="0"/>
          </p:cNvCxnSpPr>
          <p:nvPr/>
        </p:nvCxnSpPr>
        <p:spPr>
          <a:xfrm>
            <a:off x="4076280" y="62481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08" name=""/>
          <p:cNvSpPr/>
          <p:nvPr/>
        </p:nvSpPr>
        <p:spPr>
          <a:xfrm flipV="1">
            <a:off x="5943600" y="3352680"/>
            <a:ext cx="2286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7238880" y="46483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0" name=""/>
          <p:cNvCxnSpPr>
            <a:endCxn id="1109" idx="0"/>
          </p:cNvCxnSpPr>
          <p:nvPr/>
        </p:nvCxnSpPr>
        <p:spPr>
          <a:xfrm>
            <a:off x="7391160" y="4495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11" name=""/>
          <p:cNvSpPr/>
          <p:nvPr/>
        </p:nvSpPr>
        <p:spPr>
          <a:xfrm flipH="1">
            <a:off x="4191120" y="4572000"/>
            <a:ext cx="36576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After the Search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5638680" y="36576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638680" y="403848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5638680" y="44197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5638680" y="48006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8" name=""/>
          <p:cNvCxnSpPr>
            <a:stCxn id="1114" idx="4"/>
            <a:endCxn id="1115" idx="0"/>
          </p:cNvCxnSpPr>
          <p:nvPr/>
        </p:nvCxnSpPr>
        <p:spPr>
          <a:xfrm>
            <a:off x="5790960" y="38858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9" name=""/>
          <p:cNvCxnSpPr>
            <a:stCxn id="1115" idx="4"/>
            <a:endCxn id="1116" idx="0"/>
          </p:cNvCxnSpPr>
          <p:nvPr/>
        </p:nvCxnSpPr>
        <p:spPr>
          <a:xfrm>
            <a:off x="5790960" y="4267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0" name=""/>
          <p:cNvCxnSpPr>
            <a:stCxn id="1116" idx="4"/>
            <a:endCxn id="1117" idx="0"/>
          </p:cNvCxnSpPr>
          <p:nvPr/>
        </p:nvCxnSpPr>
        <p:spPr>
          <a:xfrm>
            <a:off x="5790960" y="46479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1" name=""/>
          <p:cNvCxnSpPr>
            <a:stCxn id="1117" idx="4"/>
          </p:cNvCxnSpPr>
          <p:nvPr/>
        </p:nvCxnSpPr>
        <p:spPr>
          <a:xfrm>
            <a:off x="5790960" y="50288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2" name=""/>
          <p:cNvSpPr/>
          <p:nvPr/>
        </p:nvSpPr>
        <p:spPr>
          <a:xfrm>
            <a:off x="5638680" y="518148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5638680" y="5562720"/>
            <a:ext cx="30492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4" name=""/>
          <p:cNvCxnSpPr>
            <a:stCxn id="1122" idx="4"/>
            <a:endCxn id="1123" idx="0"/>
          </p:cNvCxnSpPr>
          <p:nvPr/>
        </p:nvCxnSpPr>
        <p:spPr>
          <a:xfrm>
            <a:off x="5790960" y="5410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5" name=""/>
          <p:cNvSpPr/>
          <p:nvPr/>
        </p:nvSpPr>
        <p:spPr>
          <a:xfrm>
            <a:off x="5638680" y="1752480"/>
            <a:ext cx="304920" cy="2286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5638680" y="2133720"/>
            <a:ext cx="304920" cy="2286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5638680" y="2514600"/>
            <a:ext cx="30492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5638680" y="2895480"/>
            <a:ext cx="304920" cy="22860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9" name=""/>
          <p:cNvCxnSpPr>
            <a:stCxn id="1125" idx="4"/>
            <a:endCxn id="1126" idx="0"/>
          </p:cNvCxnSpPr>
          <p:nvPr/>
        </p:nvCxnSpPr>
        <p:spPr>
          <a:xfrm>
            <a:off x="5790960" y="1981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30" name=""/>
          <p:cNvCxnSpPr>
            <a:stCxn id="1126" idx="4"/>
            <a:endCxn id="1127" idx="0"/>
          </p:cNvCxnSpPr>
          <p:nvPr/>
        </p:nvCxnSpPr>
        <p:spPr>
          <a:xfrm>
            <a:off x="5790960" y="23619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31" name=""/>
          <p:cNvCxnSpPr>
            <a:stCxn id="1127" idx="4"/>
            <a:endCxn id="1128" idx="0"/>
          </p:cNvCxnSpPr>
          <p:nvPr/>
        </p:nvCxnSpPr>
        <p:spPr>
          <a:xfrm>
            <a:off x="5790960" y="27428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32" name=""/>
          <p:cNvCxnSpPr>
            <a:stCxn id="1128" idx="4"/>
          </p:cNvCxnSpPr>
          <p:nvPr/>
        </p:nvCxnSpPr>
        <p:spPr>
          <a:xfrm>
            <a:off x="5790960" y="3124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3" name=""/>
          <p:cNvSpPr/>
          <p:nvPr/>
        </p:nvSpPr>
        <p:spPr>
          <a:xfrm>
            <a:off x="5638680" y="3276720"/>
            <a:ext cx="30492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4" name=""/>
          <p:cNvCxnSpPr>
            <a:stCxn id="1133" idx="4"/>
          </p:cNvCxnSpPr>
          <p:nvPr/>
        </p:nvCxnSpPr>
        <p:spPr>
          <a:xfrm>
            <a:off x="5790960" y="35049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5" name=""/>
          <p:cNvSpPr/>
          <p:nvPr/>
        </p:nvSpPr>
        <p:spPr>
          <a:xfrm>
            <a:off x="5790240" y="5715000"/>
            <a:ext cx="140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rror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5943960" y="3124080"/>
            <a:ext cx="127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Real ca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7467480" y="1828800"/>
            <a:ext cx="304920" cy="2286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7467480" y="2209680"/>
            <a:ext cx="304920" cy="2286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7467480" y="2590920"/>
            <a:ext cx="30492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7467480" y="2971800"/>
            <a:ext cx="304920" cy="22860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41" name=""/>
          <p:cNvCxnSpPr>
            <a:stCxn id="1137" idx="4"/>
            <a:endCxn id="1138" idx="0"/>
          </p:cNvCxnSpPr>
          <p:nvPr/>
        </p:nvCxnSpPr>
        <p:spPr>
          <a:xfrm>
            <a:off x="7619760" y="2057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2" name=""/>
          <p:cNvCxnSpPr>
            <a:stCxn id="1138" idx="4"/>
            <a:endCxn id="1139" idx="0"/>
          </p:cNvCxnSpPr>
          <p:nvPr/>
        </p:nvCxnSpPr>
        <p:spPr>
          <a:xfrm>
            <a:off x="7619760" y="24382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3" name=""/>
          <p:cNvCxnSpPr>
            <a:stCxn id="1139" idx="4"/>
            <a:endCxn id="1140" idx="0"/>
          </p:cNvCxnSpPr>
          <p:nvPr/>
        </p:nvCxnSpPr>
        <p:spPr>
          <a:xfrm>
            <a:off x="7619760" y="28191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4" name=""/>
          <p:cNvSpPr/>
          <p:nvPr/>
        </p:nvSpPr>
        <p:spPr>
          <a:xfrm>
            <a:off x="838080" y="2133720"/>
            <a:ext cx="4572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ves that are prefixes of some negative are remo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negatives are a true subset of complete negatives, positives are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roxi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ased on observed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can be useful:  in some reactive syste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race can be extended into an error tr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6705720" y="1752480"/>
            <a:ext cx="1752480" cy="1371600"/>
          </a:xfrm>
          <a:prstGeom prst="line">
            <a:avLst/>
          </a:prstGeom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 flipH="1">
            <a:off x="6933960" y="1676520"/>
            <a:ext cx="1600200" cy="1447560"/>
          </a:xfrm>
          <a:prstGeom prst="line">
            <a:avLst/>
          </a:prstGeom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Analysis of the Traces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what do we do with the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rt on code that appea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ly in positives/nega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all positives/nega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nly and a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ositives/negative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caus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form positives into nega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difference in invariants across positives and nega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9" name=""/>
          <p:cNvGrpSpPr/>
          <p:nvPr/>
        </p:nvGrpSpPr>
        <p:grpSpPr>
          <a:xfrm>
            <a:off x="1828800" y="2438280"/>
            <a:ext cx="5715000" cy="1373760"/>
            <a:chOff x="1828800" y="2438280"/>
            <a:chExt cx="5715000" cy="1373760"/>
          </a:xfrm>
        </p:grpSpPr>
        <p:sp>
          <p:nvSpPr>
            <p:cNvPr id="1150" name=""/>
            <p:cNvSpPr/>
            <p:nvPr/>
          </p:nvSpPr>
          <p:spPr>
            <a:xfrm>
              <a:off x="1828800" y="2438280"/>
              <a:ext cx="1523880" cy="1219320"/>
            </a:xfrm>
            <a:prstGeom prst="ellipse">
              <a:avLst/>
            </a:prstGeom>
            <a:noFill/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6019920" y="2438280"/>
              <a:ext cx="1523880" cy="121932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3123720" y="3413160"/>
              <a:ext cx="109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ositiv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5105520" y="3413160"/>
              <a:ext cx="119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gativ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7086600" y="2666880"/>
              <a:ext cx="76320" cy="763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H="1">
              <a:off x="7086600" y="2895480"/>
              <a:ext cx="76320" cy="763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6" name=""/>
            <p:cNvCxnSpPr>
              <a:stCxn id="1154" idx="4"/>
              <a:endCxn id="1155" idx="0"/>
            </p:cNvCxnSpPr>
            <p:nvPr/>
          </p:nvCxnSpPr>
          <p:spPr>
            <a:xfrm>
              <a:off x="7124400" y="2742840"/>
              <a:ext cx="108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7" name=""/>
            <p:cNvSpPr/>
            <p:nvPr/>
          </p:nvSpPr>
          <p:spPr>
            <a:xfrm flipH="1">
              <a:off x="7086600" y="3124080"/>
              <a:ext cx="76320" cy="763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8" name=""/>
            <p:cNvCxnSpPr>
              <a:endCxn id="1157" idx="0"/>
            </p:cNvCxnSpPr>
            <p:nvPr/>
          </p:nvCxnSpPr>
          <p:spPr>
            <a:xfrm>
              <a:off x="7124400" y="2971440"/>
              <a:ext cx="108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9" name=""/>
            <p:cNvSpPr/>
            <p:nvPr/>
          </p:nvSpPr>
          <p:spPr>
            <a:xfrm flipH="1">
              <a:off x="7086600" y="3352680"/>
              <a:ext cx="76320" cy="7632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60" name=""/>
            <p:cNvCxnSpPr>
              <a:endCxn id="1159" idx="0"/>
            </p:cNvCxnSpPr>
            <p:nvPr/>
          </p:nvCxnSpPr>
          <p:spPr>
            <a:xfrm>
              <a:off x="7124400" y="3200040"/>
              <a:ext cx="108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61" name=""/>
            <p:cNvSpPr/>
            <p:nvPr/>
          </p:nvSpPr>
          <p:spPr>
            <a:xfrm>
              <a:off x="6858000" y="2743200"/>
              <a:ext cx="76320" cy="7596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 flipH="1">
              <a:off x="6858000" y="2971800"/>
              <a:ext cx="76320" cy="759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63" name=""/>
            <p:cNvCxnSpPr>
              <a:stCxn id="1161" idx="4"/>
              <a:endCxn id="1162" idx="0"/>
            </p:cNvCxnSpPr>
            <p:nvPr/>
          </p:nvCxnSpPr>
          <p:spPr>
            <a:xfrm>
              <a:off x="6895800" y="2819160"/>
              <a:ext cx="1080" cy="15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64" name=""/>
            <p:cNvSpPr/>
            <p:nvPr/>
          </p:nvSpPr>
          <p:spPr>
            <a:xfrm flipH="1">
              <a:off x="6858000" y="3200400"/>
              <a:ext cx="76320" cy="759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65" name=""/>
            <p:cNvCxnSpPr>
              <a:endCxn id="1164" idx="0"/>
            </p:cNvCxnSpPr>
            <p:nvPr/>
          </p:nvCxnSpPr>
          <p:spPr>
            <a:xfrm>
              <a:off x="6895800" y="3047760"/>
              <a:ext cx="1080" cy="15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66" name=""/>
            <p:cNvSpPr/>
            <p:nvPr/>
          </p:nvSpPr>
          <p:spPr>
            <a:xfrm flipH="1">
              <a:off x="6858000" y="3429000"/>
              <a:ext cx="76320" cy="759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67" name=""/>
            <p:cNvCxnSpPr>
              <a:endCxn id="1166" idx="0"/>
            </p:cNvCxnSpPr>
            <p:nvPr/>
          </p:nvCxnSpPr>
          <p:spPr>
            <a:xfrm>
              <a:off x="6895800" y="3276360"/>
              <a:ext cx="1080" cy="15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68" name=""/>
            <p:cNvSpPr/>
            <p:nvPr/>
          </p:nvSpPr>
          <p:spPr>
            <a:xfrm>
              <a:off x="6400800" y="2743200"/>
              <a:ext cx="76320" cy="7596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H="1">
              <a:off x="6400800" y="2971800"/>
              <a:ext cx="76320" cy="759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70" name=""/>
            <p:cNvCxnSpPr>
              <a:stCxn id="1168" idx="4"/>
              <a:endCxn id="1169" idx="0"/>
            </p:cNvCxnSpPr>
            <p:nvPr/>
          </p:nvCxnSpPr>
          <p:spPr>
            <a:xfrm>
              <a:off x="6438600" y="2819160"/>
              <a:ext cx="1080" cy="15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1" name=""/>
            <p:cNvSpPr/>
            <p:nvPr/>
          </p:nvSpPr>
          <p:spPr>
            <a:xfrm flipH="1">
              <a:off x="6400800" y="3200400"/>
              <a:ext cx="76320" cy="759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72" name=""/>
            <p:cNvCxnSpPr>
              <a:endCxn id="1171" idx="0"/>
            </p:cNvCxnSpPr>
            <p:nvPr/>
          </p:nvCxnSpPr>
          <p:spPr>
            <a:xfrm>
              <a:off x="6438600" y="3047760"/>
              <a:ext cx="1080" cy="15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3" name=""/>
            <p:cNvSpPr/>
            <p:nvPr/>
          </p:nvSpPr>
          <p:spPr>
            <a:xfrm flipH="1">
              <a:off x="6400800" y="3429000"/>
              <a:ext cx="76320" cy="759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74" name=""/>
            <p:cNvCxnSpPr>
              <a:endCxn id="1173" idx="0"/>
            </p:cNvCxnSpPr>
            <p:nvPr/>
          </p:nvCxnSpPr>
          <p:spPr>
            <a:xfrm>
              <a:off x="6438600" y="3276360"/>
              <a:ext cx="1080" cy="15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5" name=""/>
            <p:cNvSpPr/>
            <p:nvPr/>
          </p:nvSpPr>
          <p:spPr>
            <a:xfrm>
              <a:off x="6629400" y="2819160"/>
              <a:ext cx="76320" cy="763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H="1">
              <a:off x="6629400" y="3047760"/>
              <a:ext cx="76320" cy="763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77" name=""/>
            <p:cNvCxnSpPr>
              <a:stCxn id="1175" idx="4"/>
              <a:endCxn id="1176" idx="0"/>
            </p:cNvCxnSpPr>
            <p:nvPr/>
          </p:nvCxnSpPr>
          <p:spPr>
            <a:xfrm>
              <a:off x="6667200" y="2895120"/>
              <a:ext cx="108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8" name=""/>
            <p:cNvSpPr/>
            <p:nvPr/>
          </p:nvSpPr>
          <p:spPr>
            <a:xfrm flipH="1">
              <a:off x="6629400" y="3276360"/>
              <a:ext cx="76320" cy="763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79" name=""/>
            <p:cNvCxnSpPr>
              <a:endCxn id="1178" idx="0"/>
            </p:cNvCxnSpPr>
            <p:nvPr/>
          </p:nvCxnSpPr>
          <p:spPr>
            <a:xfrm>
              <a:off x="6667200" y="3123720"/>
              <a:ext cx="108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80" name=""/>
            <p:cNvSpPr/>
            <p:nvPr/>
          </p:nvSpPr>
          <p:spPr>
            <a:xfrm flipH="1">
              <a:off x="6629400" y="3504960"/>
              <a:ext cx="76320" cy="7632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81" name=""/>
            <p:cNvCxnSpPr>
              <a:endCxn id="1180" idx="0"/>
            </p:cNvCxnSpPr>
            <p:nvPr/>
          </p:nvCxnSpPr>
          <p:spPr>
            <a:xfrm>
              <a:off x="6667200" y="3352320"/>
              <a:ext cx="108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82" name=""/>
            <p:cNvSpPr/>
            <p:nvPr/>
          </p:nvSpPr>
          <p:spPr>
            <a:xfrm>
              <a:off x="2209680" y="2666880"/>
              <a:ext cx="76320" cy="763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 flipH="1">
              <a:off x="2209680" y="2895480"/>
              <a:ext cx="76320" cy="763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84" name=""/>
            <p:cNvCxnSpPr>
              <a:stCxn id="1182" idx="4"/>
              <a:endCxn id="1183" idx="0"/>
            </p:cNvCxnSpPr>
            <p:nvPr/>
          </p:nvCxnSpPr>
          <p:spPr>
            <a:xfrm>
              <a:off x="2247480" y="2742840"/>
              <a:ext cx="108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85" name=""/>
            <p:cNvSpPr/>
            <p:nvPr/>
          </p:nvSpPr>
          <p:spPr>
            <a:xfrm flipH="1">
              <a:off x="2209680" y="3124080"/>
              <a:ext cx="76320" cy="763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86" name=""/>
            <p:cNvCxnSpPr>
              <a:endCxn id="1185" idx="0"/>
            </p:cNvCxnSpPr>
            <p:nvPr/>
          </p:nvCxnSpPr>
          <p:spPr>
            <a:xfrm>
              <a:off x="2247480" y="2971440"/>
              <a:ext cx="108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87" name=""/>
            <p:cNvSpPr/>
            <p:nvPr/>
          </p:nvSpPr>
          <p:spPr>
            <a:xfrm flipH="1">
              <a:off x="2209680" y="3352680"/>
              <a:ext cx="76320" cy="763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88" name=""/>
            <p:cNvCxnSpPr>
              <a:endCxn id="1187" idx="0"/>
            </p:cNvCxnSpPr>
            <p:nvPr/>
          </p:nvCxnSpPr>
          <p:spPr>
            <a:xfrm>
              <a:off x="2247480" y="3200040"/>
              <a:ext cx="108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89" name=""/>
            <p:cNvSpPr/>
            <p:nvPr/>
          </p:nvSpPr>
          <p:spPr>
            <a:xfrm>
              <a:off x="2743200" y="2666880"/>
              <a:ext cx="76320" cy="763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 flipH="1">
              <a:off x="2743200" y="2895480"/>
              <a:ext cx="76320" cy="763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91" name=""/>
            <p:cNvCxnSpPr>
              <a:stCxn id="1189" idx="4"/>
              <a:endCxn id="1190" idx="0"/>
            </p:cNvCxnSpPr>
            <p:nvPr/>
          </p:nvCxnSpPr>
          <p:spPr>
            <a:xfrm>
              <a:off x="2781000" y="2742840"/>
              <a:ext cx="108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92" name=""/>
            <p:cNvSpPr/>
            <p:nvPr/>
          </p:nvSpPr>
          <p:spPr>
            <a:xfrm flipH="1">
              <a:off x="2743200" y="3124080"/>
              <a:ext cx="76320" cy="763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93" name=""/>
            <p:cNvCxnSpPr>
              <a:endCxn id="1192" idx="0"/>
            </p:cNvCxnSpPr>
            <p:nvPr/>
          </p:nvCxnSpPr>
          <p:spPr>
            <a:xfrm>
              <a:off x="2781000" y="2971440"/>
              <a:ext cx="108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94" name=""/>
            <p:cNvSpPr/>
            <p:nvPr/>
          </p:nvSpPr>
          <p:spPr>
            <a:xfrm flipH="1">
              <a:off x="2743200" y="3352680"/>
              <a:ext cx="76320" cy="763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95" name=""/>
            <p:cNvCxnSpPr>
              <a:endCxn id="1194" idx="0"/>
            </p:cNvCxnSpPr>
            <p:nvPr/>
          </p:nvCxnSpPr>
          <p:spPr>
            <a:xfrm>
              <a:off x="2781000" y="3200040"/>
              <a:ext cx="108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Analysis by Code Lines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3581280" y="1981080"/>
            <a:ext cx="5181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our example trace, the line(s) in the real cause will b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egative traces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nl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ppear in negative tr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us will be identified as genuine ca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es which thread executed the code and any nondeterministic choices m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custom define equivalences to allow for looser definition of “the same cod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2438280" y="36576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438280" y="403848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2438280" y="44197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2438280" y="48006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2" name=""/>
          <p:cNvCxnSpPr>
            <a:stCxn id="1198" idx="4"/>
            <a:endCxn id="1199" idx="0"/>
          </p:cNvCxnSpPr>
          <p:nvPr/>
        </p:nvCxnSpPr>
        <p:spPr>
          <a:xfrm>
            <a:off x="2590560" y="38858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3" name=""/>
          <p:cNvCxnSpPr>
            <a:stCxn id="1199" idx="4"/>
            <a:endCxn id="1200" idx="0"/>
          </p:cNvCxnSpPr>
          <p:nvPr/>
        </p:nvCxnSpPr>
        <p:spPr>
          <a:xfrm>
            <a:off x="2590560" y="4267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4" name=""/>
          <p:cNvCxnSpPr>
            <a:stCxn id="1200" idx="4"/>
            <a:endCxn id="1201" idx="0"/>
          </p:cNvCxnSpPr>
          <p:nvPr/>
        </p:nvCxnSpPr>
        <p:spPr>
          <a:xfrm>
            <a:off x="2590560" y="46479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5" name=""/>
          <p:cNvCxnSpPr>
            <a:stCxn id="1201" idx="4"/>
          </p:cNvCxnSpPr>
          <p:nvPr/>
        </p:nvCxnSpPr>
        <p:spPr>
          <a:xfrm>
            <a:off x="2590560" y="50288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06" name=""/>
          <p:cNvSpPr/>
          <p:nvPr/>
        </p:nvSpPr>
        <p:spPr>
          <a:xfrm>
            <a:off x="2438280" y="518148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2438280" y="5562720"/>
            <a:ext cx="30492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8" name=""/>
          <p:cNvCxnSpPr>
            <a:stCxn id="1206" idx="4"/>
            <a:endCxn id="1207" idx="0"/>
          </p:cNvCxnSpPr>
          <p:nvPr/>
        </p:nvCxnSpPr>
        <p:spPr>
          <a:xfrm>
            <a:off x="2590560" y="5410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09" name=""/>
          <p:cNvSpPr/>
          <p:nvPr/>
        </p:nvSpPr>
        <p:spPr>
          <a:xfrm>
            <a:off x="2438280" y="175248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2438280" y="21337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2438280" y="25146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2438280" y="289548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3" name=""/>
          <p:cNvCxnSpPr>
            <a:stCxn id="1209" idx="4"/>
            <a:endCxn id="1210" idx="0"/>
          </p:cNvCxnSpPr>
          <p:nvPr/>
        </p:nvCxnSpPr>
        <p:spPr>
          <a:xfrm>
            <a:off x="2590560" y="1981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4" name=""/>
          <p:cNvCxnSpPr>
            <a:stCxn id="1210" idx="4"/>
            <a:endCxn id="1211" idx="0"/>
          </p:cNvCxnSpPr>
          <p:nvPr/>
        </p:nvCxnSpPr>
        <p:spPr>
          <a:xfrm>
            <a:off x="2590560" y="23619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5" name=""/>
          <p:cNvCxnSpPr>
            <a:stCxn id="1211" idx="4"/>
            <a:endCxn id="1212" idx="0"/>
          </p:cNvCxnSpPr>
          <p:nvPr/>
        </p:nvCxnSpPr>
        <p:spPr>
          <a:xfrm>
            <a:off x="2590560" y="27428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6" name=""/>
          <p:cNvCxnSpPr>
            <a:stCxn id="1212" idx="4"/>
          </p:cNvCxnSpPr>
          <p:nvPr/>
        </p:nvCxnSpPr>
        <p:spPr>
          <a:xfrm>
            <a:off x="2590560" y="3124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7" name=""/>
          <p:cNvSpPr/>
          <p:nvPr/>
        </p:nvSpPr>
        <p:spPr>
          <a:xfrm>
            <a:off x="2438280" y="3276720"/>
            <a:ext cx="304920" cy="22860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8" name=""/>
          <p:cNvCxnSpPr>
            <a:stCxn id="1217" idx="4"/>
          </p:cNvCxnSpPr>
          <p:nvPr/>
        </p:nvCxnSpPr>
        <p:spPr>
          <a:xfrm>
            <a:off x="2590560" y="351936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9" name=""/>
          <p:cNvSpPr/>
          <p:nvPr/>
        </p:nvSpPr>
        <p:spPr>
          <a:xfrm>
            <a:off x="989640" y="5638680"/>
            <a:ext cx="140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rror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1037880" y="3195720"/>
            <a:ext cx="13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Real ca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1066680" y="3200400"/>
            <a:ext cx="18288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837720" y="3657600"/>
            <a:ext cx="163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ic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Counterexamples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e model checker finds a bug, it reports a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ounterexamp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ever, even an exact trace of the program failing is not what w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al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ant for most bu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Common Ground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2438280" y="3657600"/>
            <a:ext cx="304920" cy="2286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2438280" y="4038480"/>
            <a:ext cx="304920" cy="2286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2438280" y="4419720"/>
            <a:ext cx="304920" cy="2286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2438280" y="4800600"/>
            <a:ext cx="30492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9" name=""/>
          <p:cNvCxnSpPr>
            <a:stCxn id="1225" idx="4"/>
            <a:endCxn id="1226" idx="0"/>
          </p:cNvCxnSpPr>
          <p:nvPr/>
        </p:nvCxnSpPr>
        <p:spPr>
          <a:xfrm>
            <a:off x="2590560" y="38858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0" name=""/>
          <p:cNvCxnSpPr>
            <a:stCxn id="1226" idx="4"/>
            <a:endCxn id="1227" idx="0"/>
          </p:cNvCxnSpPr>
          <p:nvPr/>
        </p:nvCxnSpPr>
        <p:spPr>
          <a:xfrm>
            <a:off x="2590560" y="4267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1" name=""/>
          <p:cNvCxnSpPr>
            <a:stCxn id="1227" idx="4"/>
            <a:endCxn id="1228" idx="0"/>
          </p:cNvCxnSpPr>
          <p:nvPr/>
        </p:nvCxnSpPr>
        <p:spPr>
          <a:xfrm>
            <a:off x="2590560" y="46479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2" name=""/>
          <p:cNvCxnSpPr>
            <a:stCxn id="1228" idx="4"/>
          </p:cNvCxnSpPr>
          <p:nvPr/>
        </p:nvCxnSpPr>
        <p:spPr>
          <a:xfrm>
            <a:off x="2590560" y="50288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33" name=""/>
          <p:cNvSpPr/>
          <p:nvPr/>
        </p:nvSpPr>
        <p:spPr>
          <a:xfrm>
            <a:off x="2438280" y="5181480"/>
            <a:ext cx="30492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2438280" y="5562720"/>
            <a:ext cx="30492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5" name=""/>
          <p:cNvCxnSpPr>
            <a:stCxn id="1233" idx="4"/>
            <a:endCxn id="1234" idx="0"/>
          </p:cNvCxnSpPr>
          <p:nvPr/>
        </p:nvCxnSpPr>
        <p:spPr>
          <a:xfrm>
            <a:off x="2590560" y="5410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36" name=""/>
          <p:cNvSpPr/>
          <p:nvPr/>
        </p:nvSpPr>
        <p:spPr>
          <a:xfrm>
            <a:off x="2438280" y="1752480"/>
            <a:ext cx="30492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2438280" y="2133720"/>
            <a:ext cx="30492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2438280" y="2514600"/>
            <a:ext cx="30492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2438280" y="2895480"/>
            <a:ext cx="304920" cy="2286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0" name=""/>
          <p:cNvCxnSpPr>
            <a:stCxn id="1236" idx="4"/>
            <a:endCxn id="1237" idx="0"/>
          </p:cNvCxnSpPr>
          <p:nvPr/>
        </p:nvCxnSpPr>
        <p:spPr>
          <a:xfrm>
            <a:off x="2590560" y="1981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1" name=""/>
          <p:cNvCxnSpPr>
            <a:stCxn id="1237" idx="4"/>
            <a:endCxn id="1238" idx="0"/>
          </p:cNvCxnSpPr>
          <p:nvPr/>
        </p:nvCxnSpPr>
        <p:spPr>
          <a:xfrm>
            <a:off x="2590560" y="23619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2" name=""/>
          <p:cNvCxnSpPr>
            <a:stCxn id="1238" idx="4"/>
            <a:endCxn id="1239" idx="0"/>
          </p:cNvCxnSpPr>
          <p:nvPr/>
        </p:nvCxnSpPr>
        <p:spPr>
          <a:xfrm>
            <a:off x="2590560" y="27428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3" name=""/>
          <p:cNvCxnSpPr>
            <a:stCxn id="1239" idx="4"/>
          </p:cNvCxnSpPr>
          <p:nvPr/>
        </p:nvCxnSpPr>
        <p:spPr>
          <a:xfrm>
            <a:off x="2590560" y="3124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4" name=""/>
          <p:cNvSpPr/>
          <p:nvPr/>
        </p:nvSpPr>
        <p:spPr>
          <a:xfrm>
            <a:off x="2438280" y="3276720"/>
            <a:ext cx="30492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5" name=""/>
          <p:cNvCxnSpPr>
            <a:stCxn id="1244" idx="4"/>
          </p:cNvCxnSpPr>
          <p:nvPr/>
        </p:nvCxnSpPr>
        <p:spPr>
          <a:xfrm>
            <a:off x="2590560" y="35049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6" name=""/>
          <p:cNvSpPr/>
          <p:nvPr/>
        </p:nvSpPr>
        <p:spPr>
          <a:xfrm>
            <a:off x="989640" y="5638680"/>
            <a:ext cx="140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rror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1067400" y="3200400"/>
            <a:ext cx="127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Real ca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5029200" y="4800600"/>
            <a:ext cx="30492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9" name=""/>
          <p:cNvCxnSpPr>
            <a:stCxn id="1248" idx="4"/>
          </p:cNvCxnSpPr>
          <p:nvPr/>
        </p:nvCxnSpPr>
        <p:spPr>
          <a:xfrm>
            <a:off x="5181120" y="50288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0" name=""/>
          <p:cNvSpPr/>
          <p:nvPr/>
        </p:nvSpPr>
        <p:spPr>
          <a:xfrm>
            <a:off x="5029200" y="5181480"/>
            <a:ext cx="30492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5029200" y="5562720"/>
            <a:ext cx="304920" cy="22860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2" name=""/>
          <p:cNvCxnSpPr>
            <a:stCxn id="1250" idx="4"/>
            <a:endCxn id="1251" idx="0"/>
          </p:cNvCxnSpPr>
          <p:nvPr/>
        </p:nvCxnSpPr>
        <p:spPr>
          <a:xfrm>
            <a:off x="5181120" y="5410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3" name=""/>
          <p:cNvSpPr/>
          <p:nvPr/>
        </p:nvSpPr>
        <p:spPr>
          <a:xfrm>
            <a:off x="5029200" y="1752480"/>
            <a:ext cx="30492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5029200" y="2133720"/>
            <a:ext cx="30492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5029200" y="2514600"/>
            <a:ext cx="30492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6" name=""/>
          <p:cNvCxnSpPr>
            <a:stCxn id="1253" idx="4"/>
            <a:endCxn id="1254" idx="0"/>
          </p:cNvCxnSpPr>
          <p:nvPr/>
        </p:nvCxnSpPr>
        <p:spPr>
          <a:xfrm>
            <a:off x="5181120" y="1981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7" name=""/>
          <p:cNvCxnSpPr>
            <a:stCxn id="1254" idx="4"/>
            <a:endCxn id="1255" idx="0"/>
          </p:cNvCxnSpPr>
          <p:nvPr/>
        </p:nvCxnSpPr>
        <p:spPr>
          <a:xfrm>
            <a:off x="5181120" y="23619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8" name=""/>
          <p:cNvCxnSpPr>
            <a:stCxn id="1255" idx="4"/>
          </p:cNvCxnSpPr>
          <p:nvPr/>
        </p:nvCxnSpPr>
        <p:spPr>
          <a:xfrm>
            <a:off x="5181120" y="2742840"/>
            <a:ext cx="252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9" name=""/>
          <p:cNvSpPr/>
          <p:nvPr/>
        </p:nvSpPr>
        <p:spPr>
          <a:xfrm>
            <a:off x="5029200" y="3429000"/>
            <a:ext cx="30492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5029200" y="3809880"/>
            <a:ext cx="30492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1" name=""/>
          <p:cNvCxnSpPr>
            <a:stCxn id="1259" idx="4"/>
            <a:endCxn id="1260" idx="0"/>
          </p:cNvCxnSpPr>
          <p:nvPr/>
        </p:nvCxnSpPr>
        <p:spPr>
          <a:xfrm>
            <a:off x="5181120" y="36572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2" name=""/>
          <p:cNvCxnSpPr>
            <a:endCxn id="1248" idx="0"/>
          </p:cNvCxnSpPr>
          <p:nvPr/>
        </p:nvCxnSpPr>
        <p:spPr>
          <a:xfrm>
            <a:off x="5181120" y="4038120"/>
            <a:ext cx="108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3" name=""/>
          <p:cNvSpPr/>
          <p:nvPr/>
        </p:nvSpPr>
        <p:spPr>
          <a:xfrm>
            <a:off x="5323320" y="5715000"/>
            <a:ext cx="365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an set a minimum shared pref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suffix siz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3121200" y="1981080"/>
            <a:ext cx="15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ared pref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2891520" y="5181480"/>
            <a:ext cx="212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ared suff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trol flow on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3044880" y="3200400"/>
            <a:ext cx="17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2819520" y="2819520"/>
            <a:ext cx="380880" cy="1904760"/>
          </a:xfrm>
          <a:custGeom>
            <a:avLst/>
            <a:gdLst>
              <a:gd name="textAreaLeft" fmla="*/ 0 w 380880"/>
              <a:gd name="textAreaRight" fmla="*/ 137520 w 380880"/>
              <a:gd name="textAreaTop" fmla="*/ 49680 h 1904760"/>
              <a:gd name="textAreaBottom" fmla="*/ 185508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4648320" y="3276720"/>
            <a:ext cx="304560" cy="990360"/>
          </a:xfrm>
          <a:custGeom>
            <a:avLst/>
            <a:gdLst>
              <a:gd name="textAreaLeft" fmla="*/ 194760 w 304560"/>
              <a:gd name="textAreaRight" fmla="*/ 304920 w 30456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 flipH="1">
            <a:off x="3428640" y="3733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5482440" y="3429000"/>
            <a:ext cx="261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to make it break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Transformation Analysis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rted so that minimal way to break (transformation from each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posit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nearest 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negative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identifi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run code line analysis over transformation code only (very useful in some cas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identify type of err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any 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positiv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an be transformed into a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negativ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by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nly altering thread schedul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the error is essentially concurrency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Invariant Differences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ck certain control locations at which to observe data values in our tr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 a dynamic invariant detection algorithm to compute invariants across these locations for all 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negativ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then all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posi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the discovered invari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A Stack Example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1676520" y="990720"/>
            <a:ext cx="7086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334800" y="1811160"/>
            <a:ext cx="37468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public IntStack (int s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ack = new int[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op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public void push (int i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ack[top++] = 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public int pop 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op--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return stack[to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A Stack Example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1676520" y="990720"/>
            <a:ext cx="7086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334800" y="1811160"/>
            <a:ext cx="37468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public IntStack (int s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ack = new int[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op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public void push (int i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ack[top++] = 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public int pop 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op--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return stack[to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4495680" y="2438280"/>
            <a:ext cx="4419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imple stack with an interfa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at initializes the stack to a rando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imum size then randoml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shes and pops da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A Stack Example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1676520" y="990720"/>
            <a:ext cx="7086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334800" y="1811160"/>
            <a:ext cx="37468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public IntStack (int s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ack = new int[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op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public void push (int i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ack[top++] = 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public int pop 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op--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return stack[to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4495680" y="2438280"/>
            <a:ext cx="4419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imple stack with an interfa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at initializes the stack to a rando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imum size then randoml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shes and pops da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685800" y="5562720"/>
            <a:ext cx="3952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ORIGINAL COUNTER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Stack overflow for stack siz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(array out of bounds on stac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A Stack Example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1676520" y="990720"/>
            <a:ext cx="7086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334800" y="1811160"/>
            <a:ext cx="37468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public IntStack (int s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ack = new int[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op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public void push (int i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ack[top++] = 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public int pop 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op--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return stack[to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4495680" y="2438280"/>
            <a:ext cx="4419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imple stack with an interfa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at initializes the stack to a rando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imum size then randoml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shes and pops da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685800" y="5562720"/>
            <a:ext cx="3952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ORIGINAL COUNTER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Stack overflow for stack siz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(array out of bounds on stac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5635800" y="4952880"/>
            <a:ext cx="2962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un analysis with a search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th of 50 and comput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aria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A Stack Example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1676520" y="990720"/>
            <a:ext cx="7086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4191120" y="1905120"/>
            <a:ext cx="44193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de line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de in the push method appears in all negativ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334800" y="1811160"/>
            <a:ext cx="37468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public IntStack (int s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ack = new int[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op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public void push (int i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ack[top++] = 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public int pop 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op--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return stack[to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A Stack Example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1676520" y="990720"/>
            <a:ext cx="7086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4191120" y="1905120"/>
            <a:ext cx="4419360" cy="32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varian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positives, on entry to the push method, this invariant hold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Lucida Console"/>
              </a:rPr>
              <a:t>stack.length </a:t>
            </a:r>
            <a:r>
              <a:rPr b="1" lang="en-US" sz="2800" spc="-1" strike="noStrike">
                <a:solidFill>
                  <a:srgbClr val="009900"/>
                </a:solidFill>
                <a:latin typeface="Lucida Console"/>
              </a:rPr>
              <a:t>&gt;</a:t>
            </a:r>
            <a:r>
              <a:rPr b="0" lang="en-US" sz="2000" spc="-1" strike="noStrike">
                <a:solidFill>
                  <a:srgbClr val="009900"/>
                </a:solidFill>
                <a:latin typeface="Lucida Console"/>
              </a:rPr>
              <a:t> t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negatives, however the invariant i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Lucida Console"/>
              </a:rPr>
              <a:t>stack.length </a:t>
            </a:r>
            <a:r>
              <a:rPr b="1" lang="en-US" sz="2800" spc="-1" strike="noStrike">
                <a:solidFill>
                  <a:srgbClr val="cc0000"/>
                </a:solidFill>
                <a:latin typeface="Lucida Console"/>
              </a:rPr>
              <a:t>&gt;=</a:t>
            </a:r>
            <a:r>
              <a:rPr b="0" lang="en-US" sz="2000" spc="-1" strike="noStrike">
                <a:solidFill>
                  <a:srgbClr val="cc0000"/>
                </a:solidFill>
                <a:latin typeface="Lucida Console"/>
              </a:rPr>
              <a:t> t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334800" y="1811160"/>
            <a:ext cx="37468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public IntStack (int s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ack = new int[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op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public void push (int i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ack[top++] = 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public int pop 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op--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return stack[to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A Stack Example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1676520" y="990720"/>
            <a:ext cx="7086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4038480" y="1905120"/>
            <a:ext cx="495324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ansformations from </a:t>
            </a:r>
            <a:r>
              <a:rPr b="1" lang="en-US" sz="2000" spc="-1" strike="noStrike">
                <a:solidFill>
                  <a:srgbClr val="009900"/>
                </a:solidFill>
                <a:latin typeface="Times New Roman"/>
              </a:rPr>
              <a:t>positiv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neg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ge stack size from 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ge stack size from 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ert a 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pu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 a 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p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334800" y="1811160"/>
            <a:ext cx="37468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public IntStack (int s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ack = new int[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op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public void push (int i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ack[top++] = 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public int pop 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op--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return stack[to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Counterexamples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w can we get more information from a counterexampl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haps if we had some successful runs to compare to, or other failing runs in which to look for common element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ommon way of debugging by h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pt we can automate it using the model 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DEOS Error Analysis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 time operat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threads to be created and dele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 time budgets for various thre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DEOS Error Analysis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 time operat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threads to be created and dele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 time budgets for various thre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Original counter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Assertion about the time budget of a thread fa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DEOS Error Analysis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 time operat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threads to be created and dele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 time budgets for various thre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Original counter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Assertion about the time budget of a thread fa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 analysis with size limit of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DEOS Error Analysis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nsform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 a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wait until next peri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to a 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thread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an 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interrupt and system clock tick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before a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dele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ready in the positiv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 a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wait until next peri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to an 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interrupt and system clock ticks and afterwards a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762120" y="5105520"/>
            <a:ext cx="78483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OS error requires deletion (which appears in the set of code found in all negatives) but also relies upon specific timing, as indicated by the transform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te and Free Will in Error Traces” (TACAS 0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LAM group independently investigated very similar concepts this summer (submitted to POP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ach quite similar in spirit, lacks invariants and transformation approaches, but has some niceties with respect to source code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reas Zeller:  work on isolating error-causing thread schedules and cause-effect cha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Future Work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efficient algorithms for generation of the traces (try bounded model check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erent approaches to analys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ion of autom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cterization of error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ing of causalit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Counterexamples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143000" y="35053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143000" y="38862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43000" y="426708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46483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" name=""/>
          <p:cNvCxnSpPr>
            <a:stCxn id="189" idx="4"/>
            <a:endCxn id="190" idx="0"/>
          </p:cNvCxnSpPr>
          <p:nvPr/>
        </p:nvCxnSpPr>
        <p:spPr>
          <a:xfrm>
            <a:off x="1294920" y="3733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4" name=""/>
          <p:cNvCxnSpPr>
            <a:stCxn id="190" idx="4"/>
            <a:endCxn id="191" idx="0"/>
          </p:cNvCxnSpPr>
          <p:nvPr/>
        </p:nvCxnSpPr>
        <p:spPr>
          <a:xfrm>
            <a:off x="1294920" y="4114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"/>
          <p:cNvCxnSpPr>
            <a:stCxn id="191" idx="4"/>
            <a:endCxn id="192" idx="0"/>
          </p:cNvCxnSpPr>
          <p:nvPr/>
        </p:nvCxnSpPr>
        <p:spPr>
          <a:xfrm>
            <a:off x="1294920" y="4495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"/>
          <p:cNvCxnSpPr>
            <a:stCxn id="192" idx="4"/>
          </p:cNvCxnSpPr>
          <p:nvPr/>
        </p:nvCxnSpPr>
        <p:spPr>
          <a:xfrm>
            <a:off x="1294920" y="4876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7" name=""/>
          <p:cNvSpPr/>
          <p:nvPr/>
        </p:nvSpPr>
        <p:spPr>
          <a:xfrm>
            <a:off x="1143000" y="50292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143000" y="5410080"/>
            <a:ext cx="30492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7" idx="4"/>
            <a:endCxn id="198" idx="0"/>
          </p:cNvCxnSpPr>
          <p:nvPr/>
        </p:nvCxnSpPr>
        <p:spPr>
          <a:xfrm>
            <a:off x="1294920" y="5257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1143000" y="16002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143000" y="198108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43000" y="23623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43000" y="27432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4" name=""/>
          <p:cNvCxnSpPr>
            <a:stCxn id="200" idx="4"/>
            <a:endCxn id="201" idx="0"/>
          </p:cNvCxnSpPr>
          <p:nvPr/>
        </p:nvCxnSpPr>
        <p:spPr>
          <a:xfrm>
            <a:off x="1294920" y="1828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"/>
          <p:cNvCxnSpPr>
            <a:stCxn id="201" idx="4"/>
            <a:endCxn id="202" idx="0"/>
          </p:cNvCxnSpPr>
          <p:nvPr/>
        </p:nvCxnSpPr>
        <p:spPr>
          <a:xfrm>
            <a:off x="1294920" y="2209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2" idx="4"/>
            <a:endCxn id="203" idx="0"/>
          </p:cNvCxnSpPr>
          <p:nvPr/>
        </p:nvCxnSpPr>
        <p:spPr>
          <a:xfrm>
            <a:off x="1294920" y="2590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"/>
          <p:cNvCxnSpPr>
            <a:stCxn id="203" idx="4"/>
          </p:cNvCxnSpPr>
          <p:nvPr/>
        </p:nvCxnSpPr>
        <p:spPr>
          <a:xfrm>
            <a:off x="1294920" y="2971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8" name=""/>
          <p:cNvSpPr/>
          <p:nvPr/>
        </p:nvSpPr>
        <p:spPr>
          <a:xfrm>
            <a:off x="1143000" y="312408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8" idx="4"/>
          </p:cNvCxnSpPr>
          <p:nvPr/>
        </p:nvCxnSpPr>
        <p:spPr>
          <a:xfrm>
            <a:off x="1294920" y="3352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0" name=""/>
          <p:cNvSpPr/>
          <p:nvPr/>
        </p:nvSpPr>
        <p:spPr>
          <a:xfrm>
            <a:off x="1405440" y="5562720"/>
            <a:ext cx="118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Counterexamples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143000" y="35053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143000" y="38862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143000" y="426708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143000" y="46483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7" name=""/>
          <p:cNvCxnSpPr>
            <a:stCxn id="213" idx="4"/>
            <a:endCxn id="214" idx="0"/>
          </p:cNvCxnSpPr>
          <p:nvPr/>
        </p:nvCxnSpPr>
        <p:spPr>
          <a:xfrm>
            <a:off x="1294920" y="3733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"/>
          <p:cNvCxnSpPr>
            <a:stCxn id="214" idx="4"/>
            <a:endCxn id="215" idx="0"/>
          </p:cNvCxnSpPr>
          <p:nvPr/>
        </p:nvCxnSpPr>
        <p:spPr>
          <a:xfrm>
            <a:off x="1294920" y="4114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"/>
          <p:cNvCxnSpPr>
            <a:stCxn id="215" idx="4"/>
            <a:endCxn id="216" idx="0"/>
          </p:cNvCxnSpPr>
          <p:nvPr/>
        </p:nvCxnSpPr>
        <p:spPr>
          <a:xfrm>
            <a:off x="1294920" y="4495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0" name=""/>
          <p:cNvCxnSpPr>
            <a:stCxn id="216" idx="4"/>
          </p:cNvCxnSpPr>
          <p:nvPr/>
        </p:nvCxnSpPr>
        <p:spPr>
          <a:xfrm>
            <a:off x="1294920" y="4876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1" name=""/>
          <p:cNvSpPr/>
          <p:nvPr/>
        </p:nvSpPr>
        <p:spPr>
          <a:xfrm>
            <a:off x="1143000" y="50292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143000" y="5410080"/>
            <a:ext cx="30492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3" name=""/>
          <p:cNvCxnSpPr>
            <a:stCxn id="221" idx="4"/>
            <a:endCxn id="222" idx="0"/>
          </p:cNvCxnSpPr>
          <p:nvPr/>
        </p:nvCxnSpPr>
        <p:spPr>
          <a:xfrm>
            <a:off x="1294920" y="5257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4" name=""/>
          <p:cNvSpPr/>
          <p:nvPr/>
        </p:nvSpPr>
        <p:spPr>
          <a:xfrm>
            <a:off x="1143000" y="16002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143000" y="198108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143000" y="23623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43000" y="27432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4"/>
            <a:endCxn id="225" idx="0"/>
          </p:cNvCxnSpPr>
          <p:nvPr/>
        </p:nvCxnSpPr>
        <p:spPr>
          <a:xfrm>
            <a:off x="1294920" y="1828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"/>
          <p:cNvCxnSpPr>
            <a:stCxn id="225" idx="4"/>
            <a:endCxn id="226" idx="0"/>
          </p:cNvCxnSpPr>
          <p:nvPr/>
        </p:nvCxnSpPr>
        <p:spPr>
          <a:xfrm>
            <a:off x="1294920" y="2209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"/>
          <p:cNvCxnSpPr>
            <a:stCxn id="226" idx="4"/>
            <a:endCxn id="227" idx="0"/>
          </p:cNvCxnSpPr>
          <p:nvPr/>
        </p:nvCxnSpPr>
        <p:spPr>
          <a:xfrm>
            <a:off x="1294920" y="2590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7" idx="4"/>
          </p:cNvCxnSpPr>
          <p:nvPr/>
        </p:nvCxnSpPr>
        <p:spPr>
          <a:xfrm>
            <a:off x="1294920" y="2971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2" name=""/>
          <p:cNvSpPr/>
          <p:nvPr/>
        </p:nvSpPr>
        <p:spPr>
          <a:xfrm>
            <a:off x="1143000" y="3124080"/>
            <a:ext cx="30492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3" name=""/>
          <p:cNvCxnSpPr>
            <a:stCxn id="232" idx="4"/>
          </p:cNvCxnSpPr>
          <p:nvPr/>
        </p:nvCxnSpPr>
        <p:spPr>
          <a:xfrm>
            <a:off x="1294920" y="3352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4" name=""/>
          <p:cNvSpPr/>
          <p:nvPr/>
        </p:nvSpPr>
        <p:spPr>
          <a:xfrm>
            <a:off x="1294200" y="5562720"/>
            <a:ext cx="140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rror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448280" y="2971800"/>
            <a:ext cx="127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Real ca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Counterexamples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35053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143000" y="38862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143000" y="426708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143000" y="46483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38" idx="4"/>
            <a:endCxn id="239" idx="0"/>
          </p:cNvCxnSpPr>
          <p:nvPr/>
        </p:nvCxnSpPr>
        <p:spPr>
          <a:xfrm>
            <a:off x="1294920" y="3733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39" idx="4"/>
            <a:endCxn id="240" idx="0"/>
          </p:cNvCxnSpPr>
          <p:nvPr/>
        </p:nvCxnSpPr>
        <p:spPr>
          <a:xfrm>
            <a:off x="1294920" y="4114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"/>
          <p:cNvCxnSpPr>
            <a:stCxn id="240" idx="4"/>
            <a:endCxn id="241" idx="0"/>
          </p:cNvCxnSpPr>
          <p:nvPr/>
        </p:nvCxnSpPr>
        <p:spPr>
          <a:xfrm>
            <a:off x="1294920" y="4495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41" idx="4"/>
          </p:cNvCxnSpPr>
          <p:nvPr/>
        </p:nvCxnSpPr>
        <p:spPr>
          <a:xfrm>
            <a:off x="1294920" y="4876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1143000" y="50292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43000" y="5410080"/>
            <a:ext cx="30492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8" name=""/>
          <p:cNvCxnSpPr>
            <a:stCxn id="246" idx="4"/>
            <a:endCxn id="247" idx="0"/>
          </p:cNvCxnSpPr>
          <p:nvPr/>
        </p:nvCxnSpPr>
        <p:spPr>
          <a:xfrm>
            <a:off x="1294920" y="5257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9" name=""/>
          <p:cNvSpPr/>
          <p:nvPr/>
        </p:nvSpPr>
        <p:spPr>
          <a:xfrm>
            <a:off x="1143000" y="16002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143000" y="198108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143000" y="23623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143000" y="27432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stCxn id="249" idx="4"/>
            <a:endCxn id="250" idx="0"/>
          </p:cNvCxnSpPr>
          <p:nvPr/>
        </p:nvCxnSpPr>
        <p:spPr>
          <a:xfrm>
            <a:off x="1294920" y="1828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stCxn id="250" idx="4"/>
            <a:endCxn id="251" idx="0"/>
          </p:cNvCxnSpPr>
          <p:nvPr/>
        </p:nvCxnSpPr>
        <p:spPr>
          <a:xfrm>
            <a:off x="1294920" y="2209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stCxn id="251" idx="4"/>
            <a:endCxn id="252" idx="0"/>
          </p:cNvCxnSpPr>
          <p:nvPr/>
        </p:nvCxnSpPr>
        <p:spPr>
          <a:xfrm>
            <a:off x="1294920" y="2590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6" name=""/>
          <p:cNvCxnSpPr>
            <a:stCxn id="252" idx="4"/>
          </p:cNvCxnSpPr>
          <p:nvPr/>
        </p:nvCxnSpPr>
        <p:spPr>
          <a:xfrm>
            <a:off x="1294920" y="2971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7" name=""/>
          <p:cNvSpPr/>
          <p:nvPr/>
        </p:nvSpPr>
        <p:spPr>
          <a:xfrm>
            <a:off x="1143000" y="3124080"/>
            <a:ext cx="30492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8" name=""/>
          <p:cNvCxnSpPr>
            <a:stCxn id="257" idx="4"/>
          </p:cNvCxnSpPr>
          <p:nvPr/>
        </p:nvCxnSpPr>
        <p:spPr>
          <a:xfrm>
            <a:off x="1294920" y="3352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9" name=""/>
          <p:cNvSpPr/>
          <p:nvPr/>
        </p:nvSpPr>
        <p:spPr>
          <a:xfrm>
            <a:off x="1294200" y="5562720"/>
            <a:ext cx="140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rror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448280" y="2971800"/>
            <a:ext cx="127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Real ca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819520" y="2133720"/>
            <a:ext cx="5790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a:  generate other traces that can give you more information about what is going wro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Positives and Negatives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809880" y="358128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09880" y="39625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09880" y="43434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09880" y="472428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4" idx="4"/>
            <a:endCxn id="265" idx="0"/>
          </p:cNvCxnSpPr>
          <p:nvPr/>
        </p:nvCxnSpPr>
        <p:spPr>
          <a:xfrm>
            <a:off x="3962160" y="38098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9" name=""/>
          <p:cNvCxnSpPr>
            <a:stCxn id="265" idx="4"/>
            <a:endCxn id="266" idx="0"/>
          </p:cNvCxnSpPr>
          <p:nvPr/>
        </p:nvCxnSpPr>
        <p:spPr>
          <a:xfrm>
            <a:off x="3962160" y="41907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"/>
          <p:cNvCxnSpPr>
            <a:stCxn id="266" idx="4"/>
            <a:endCxn id="267" idx="0"/>
          </p:cNvCxnSpPr>
          <p:nvPr/>
        </p:nvCxnSpPr>
        <p:spPr>
          <a:xfrm>
            <a:off x="3962160" y="45716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"/>
          <p:cNvCxnSpPr>
            <a:stCxn id="267" idx="4"/>
          </p:cNvCxnSpPr>
          <p:nvPr/>
        </p:nvCxnSpPr>
        <p:spPr>
          <a:xfrm>
            <a:off x="3962160" y="49528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"/>
          <p:cNvSpPr/>
          <p:nvPr/>
        </p:nvSpPr>
        <p:spPr>
          <a:xfrm>
            <a:off x="3809880" y="51055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809880" y="5486400"/>
            <a:ext cx="30492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2" idx="4"/>
            <a:endCxn id="273" idx="0"/>
          </p:cNvCxnSpPr>
          <p:nvPr/>
        </p:nvCxnSpPr>
        <p:spPr>
          <a:xfrm>
            <a:off x="3962160" y="53337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809880" y="16765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09880" y="20574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09880" y="243828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09880" y="2819520"/>
            <a:ext cx="304920" cy="228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9" name=""/>
          <p:cNvCxnSpPr>
            <a:stCxn id="275" idx="4"/>
            <a:endCxn id="276" idx="0"/>
          </p:cNvCxnSpPr>
          <p:nvPr/>
        </p:nvCxnSpPr>
        <p:spPr>
          <a:xfrm>
            <a:off x="3962160" y="19047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"/>
          <p:cNvCxnSpPr>
            <a:stCxn id="276" idx="4"/>
            <a:endCxn id="277" idx="0"/>
          </p:cNvCxnSpPr>
          <p:nvPr/>
        </p:nvCxnSpPr>
        <p:spPr>
          <a:xfrm>
            <a:off x="3962160" y="22856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"/>
          <p:cNvCxnSpPr>
            <a:stCxn id="277" idx="4"/>
            <a:endCxn id="278" idx="0"/>
          </p:cNvCxnSpPr>
          <p:nvPr/>
        </p:nvCxnSpPr>
        <p:spPr>
          <a:xfrm>
            <a:off x="3962160" y="26668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"/>
          <p:cNvCxnSpPr>
            <a:stCxn id="278" idx="4"/>
          </p:cNvCxnSpPr>
          <p:nvPr/>
        </p:nvCxnSpPr>
        <p:spPr>
          <a:xfrm>
            <a:off x="3962160" y="30477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3" name=""/>
          <p:cNvSpPr/>
          <p:nvPr/>
        </p:nvSpPr>
        <p:spPr>
          <a:xfrm>
            <a:off x="3809880" y="3200400"/>
            <a:ext cx="30492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4" name=""/>
          <p:cNvCxnSpPr>
            <a:stCxn id="283" idx="4"/>
          </p:cNvCxnSpPr>
          <p:nvPr/>
        </p:nvCxnSpPr>
        <p:spPr>
          <a:xfrm>
            <a:off x="3962160" y="34286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4115160" y="3048120"/>
            <a:ext cx="127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Real ca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114080" y="5334120"/>
            <a:ext cx="17809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assert (x &lt; 5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x = 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427920" y="5943600"/>
            <a:ext cx="140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rror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Positives and Negatives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09880" y="358128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809880" y="39625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809880" y="43434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09880" y="472428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4" name=""/>
          <p:cNvCxnSpPr>
            <a:stCxn id="290" idx="4"/>
            <a:endCxn id="291" idx="0"/>
          </p:cNvCxnSpPr>
          <p:nvPr/>
        </p:nvCxnSpPr>
        <p:spPr>
          <a:xfrm>
            <a:off x="3962160" y="38098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5" name=""/>
          <p:cNvCxnSpPr>
            <a:stCxn id="291" idx="4"/>
            <a:endCxn id="292" idx="0"/>
          </p:cNvCxnSpPr>
          <p:nvPr/>
        </p:nvCxnSpPr>
        <p:spPr>
          <a:xfrm>
            <a:off x="3962160" y="41907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" name=""/>
          <p:cNvCxnSpPr>
            <a:stCxn id="292" idx="4"/>
            <a:endCxn id="293" idx="0"/>
          </p:cNvCxnSpPr>
          <p:nvPr/>
        </p:nvCxnSpPr>
        <p:spPr>
          <a:xfrm>
            <a:off x="3962160" y="45716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7" name=""/>
          <p:cNvCxnSpPr>
            <a:stCxn id="293" idx="4"/>
          </p:cNvCxnSpPr>
          <p:nvPr/>
        </p:nvCxnSpPr>
        <p:spPr>
          <a:xfrm>
            <a:off x="3962160" y="49528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8" name=""/>
          <p:cNvSpPr/>
          <p:nvPr/>
        </p:nvSpPr>
        <p:spPr>
          <a:xfrm>
            <a:off x="3809880" y="51055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09880" y="5486400"/>
            <a:ext cx="30492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0" name=""/>
          <p:cNvCxnSpPr>
            <a:stCxn id="298" idx="4"/>
            <a:endCxn id="299" idx="0"/>
          </p:cNvCxnSpPr>
          <p:nvPr/>
        </p:nvCxnSpPr>
        <p:spPr>
          <a:xfrm>
            <a:off x="3962160" y="53337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1" name=""/>
          <p:cNvSpPr/>
          <p:nvPr/>
        </p:nvSpPr>
        <p:spPr>
          <a:xfrm>
            <a:off x="3809880" y="16765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09880" y="20574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809880" y="2438280"/>
            <a:ext cx="30492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809880" y="2819520"/>
            <a:ext cx="304920" cy="228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5" name=""/>
          <p:cNvCxnSpPr>
            <a:stCxn id="301" idx="4"/>
            <a:endCxn id="302" idx="0"/>
          </p:cNvCxnSpPr>
          <p:nvPr/>
        </p:nvCxnSpPr>
        <p:spPr>
          <a:xfrm>
            <a:off x="3962160" y="19047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6" name=""/>
          <p:cNvCxnSpPr>
            <a:stCxn id="302" idx="4"/>
            <a:endCxn id="303" idx="0"/>
          </p:cNvCxnSpPr>
          <p:nvPr/>
        </p:nvCxnSpPr>
        <p:spPr>
          <a:xfrm>
            <a:off x="3962160" y="22856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7" name=""/>
          <p:cNvCxnSpPr>
            <a:stCxn id="303" idx="4"/>
            <a:endCxn id="304" idx="0"/>
          </p:cNvCxnSpPr>
          <p:nvPr/>
        </p:nvCxnSpPr>
        <p:spPr>
          <a:xfrm>
            <a:off x="3962160" y="26668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8" name=""/>
          <p:cNvCxnSpPr>
            <a:stCxn id="304" idx="4"/>
          </p:cNvCxnSpPr>
          <p:nvPr/>
        </p:nvCxnSpPr>
        <p:spPr>
          <a:xfrm>
            <a:off x="3962160" y="30477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809880" y="3200400"/>
            <a:ext cx="30492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0" name=""/>
          <p:cNvCxnSpPr>
            <a:stCxn id="309" idx="4"/>
          </p:cNvCxnSpPr>
          <p:nvPr/>
        </p:nvCxnSpPr>
        <p:spPr>
          <a:xfrm>
            <a:off x="3962160" y="34286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1" name=""/>
          <p:cNvSpPr/>
          <p:nvPr/>
        </p:nvSpPr>
        <p:spPr>
          <a:xfrm>
            <a:off x="3427920" y="5943600"/>
            <a:ext cx="140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rror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115160" y="3048120"/>
            <a:ext cx="127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Real ca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791320" y="358128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791320" y="396252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791320" y="434340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791320" y="472428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7" name=""/>
          <p:cNvCxnSpPr>
            <a:stCxn id="313" idx="4"/>
            <a:endCxn id="314" idx="0"/>
          </p:cNvCxnSpPr>
          <p:nvPr/>
        </p:nvCxnSpPr>
        <p:spPr>
          <a:xfrm>
            <a:off x="5943240" y="38098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8" name=""/>
          <p:cNvCxnSpPr>
            <a:stCxn id="314" idx="4"/>
            <a:endCxn id="315" idx="0"/>
          </p:cNvCxnSpPr>
          <p:nvPr/>
        </p:nvCxnSpPr>
        <p:spPr>
          <a:xfrm>
            <a:off x="5943240" y="41907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9" name=""/>
          <p:cNvCxnSpPr/>
          <p:nvPr/>
        </p:nvCxnSpPr>
        <p:spPr>
          <a:xfrm>
            <a:off x="5952600" y="495432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0" name=""/>
          <p:cNvCxnSpPr/>
          <p:nvPr/>
        </p:nvCxnSpPr>
        <p:spPr>
          <a:xfrm>
            <a:off x="5952600" y="5335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1" name=""/>
          <p:cNvSpPr/>
          <p:nvPr/>
        </p:nvSpPr>
        <p:spPr>
          <a:xfrm>
            <a:off x="5791320" y="510552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791320" y="5486400"/>
            <a:ext cx="30456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819520"/>
            <a:ext cx="30456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4" name=""/>
          <p:cNvCxnSpPr>
            <a:stCxn id="323" idx="4"/>
          </p:cNvCxnSpPr>
          <p:nvPr/>
        </p:nvCxnSpPr>
        <p:spPr>
          <a:xfrm>
            <a:off x="5943240" y="30477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5" name=""/>
          <p:cNvSpPr/>
          <p:nvPr/>
        </p:nvSpPr>
        <p:spPr>
          <a:xfrm>
            <a:off x="5791320" y="3200400"/>
            <a:ext cx="30456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6" name=""/>
          <p:cNvCxnSpPr>
            <a:stCxn id="325" idx="4"/>
          </p:cNvCxnSpPr>
          <p:nvPr/>
        </p:nvCxnSpPr>
        <p:spPr>
          <a:xfrm>
            <a:off x="5943240" y="34286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7" name=""/>
          <p:cNvSpPr/>
          <p:nvPr/>
        </p:nvSpPr>
        <p:spPr>
          <a:xfrm>
            <a:off x="5936400" y="2209680"/>
            <a:ext cx="291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e location, same err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NEGATIV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-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096600" y="3048120"/>
            <a:ext cx="127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Real ca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9" name=""/>
          <p:cNvCxnSpPr>
            <a:stCxn id="303" idx="4"/>
            <a:endCxn id="323" idx="0"/>
          </p:cNvCxnSpPr>
          <p:nvPr/>
        </p:nvCxnSpPr>
        <p:spPr>
          <a:xfrm>
            <a:off x="3962160" y="2666880"/>
            <a:ext cx="198180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0" name=""/>
          <p:cNvSpPr/>
          <p:nvPr/>
        </p:nvSpPr>
        <p:spPr>
          <a:xfrm>
            <a:off x="6095520" y="5334120"/>
            <a:ext cx="17809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assert (x &lt; 5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x = 1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1" name=""/>
          <p:cNvCxnSpPr/>
          <p:nvPr/>
        </p:nvCxnSpPr>
        <p:spPr>
          <a:xfrm>
            <a:off x="5943240" y="45716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2" name=""/>
          <p:cNvSpPr/>
          <p:nvPr/>
        </p:nvSpPr>
        <p:spPr>
          <a:xfrm>
            <a:off x="5332680" y="5943600"/>
            <a:ext cx="109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114080" y="5334120"/>
            <a:ext cx="17809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assert (x &lt; 5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x = 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5T22:28:05Z</dcterms:created>
  <dc:creator>Alex David Groce</dc:creator>
  <dc:description/>
  <dc:language>en-US</dc:language>
  <cp:lastModifiedBy>Alex David Groce</cp:lastModifiedBy>
  <dcterms:modified xsi:type="dcterms:W3CDTF">2002-09-16T20:19:45Z</dcterms:modified>
  <cp:revision>121</cp:revision>
  <dc:subject/>
  <dc:title>Structural Heuristics for Directed Model Checking of Java Programs  </dc:title>
</cp:coreProperties>
</file>