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E1B-5D3D-440A-AF35-78AE6F3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04-143A-4187-8FB0-736129E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085-8FDF-4DDC-BF3A-F8DA7F34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B65-8AB4-490A-915D-E023AB02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443-066F-4194-94F8-FE7A0BC0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680-4388-4A27-AD45-887B5267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0C3-58A1-42BC-951B-AAD45E17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8DB-EBA6-4948-B10D-8BEA37F9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548-6379-436C-AFC6-0B0CA71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B17-175A-45F6-B205-672DC2A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BDC-FBAB-4D2D-B6DE-4152CAC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8F4-0663-42D6-968E-4D399FD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3624-3290-4962-B17F-40B92839C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What Went Wrong?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ex Gro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em Vis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SA Ames Researc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4"/>
            <a:endCxn id="337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7" idx="4"/>
            <a:endCxn id="338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9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4" idx="4"/>
            <a:endCxn id="345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4"/>
            <a:endCxn id="348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8" idx="4"/>
            <a:endCxn id="349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9" idx="4"/>
            <a:endCxn id="350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50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5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58" idx="4"/>
            <a:endCxn id="359" idx="0"/>
          </p:cNvCxnSpPr>
          <p:nvPr/>
        </p:nvCxnSpPr>
        <p:spPr>
          <a:xfrm>
            <a:off x="25905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9" idx="4"/>
            <a:endCxn id="360" idx="0"/>
          </p:cNvCxnSpPr>
          <p:nvPr/>
        </p:nvCxnSpPr>
        <p:spPr>
          <a:xfrm>
            <a:off x="25905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/>
          <p:nvPr/>
        </p:nvCxnSpPr>
        <p:spPr>
          <a:xfrm>
            <a:off x="2590560" y="457344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>
            <a:off x="259056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24382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486400"/>
            <a:ext cx="30492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/>
          <p:nvPr/>
        </p:nvCxnSpPr>
        <p:spPr>
          <a:xfrm>
            <a:off x="25905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2438280" y="3200400"/>
            <a:ext cx="30492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</p:cNvCxnSpPr>
          <p:nvPr/>
        </p:nvCxnSpPr>
        <p:spPr>
          <a:xfrm>
            <a:off x="25905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221760" y="220968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control flow loca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 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</a:rPr>
              <a:t>POSI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2" idx="4"/>
            <a:endCxn id="373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3" idx="4"/>
            <a:endCxn id="374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4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50" idx="4"/>
            <a:endCxn id="369" idx="0"/>
          </p:cNvCxnSpPr>
          <p:nvPr/>
        </p:nvCxnSpPr>
        <p:spPr>
          <a:xfrm flipH="1">
            <a:off x="2590560" y="3047760"/>
            <a:ext cx="1372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685080" y="525780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49" idx="4"/>
            <a:endCxn id="382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3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9" idx="4"/>
            <a:endCxn id="4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0" idx="4"/>
            <a:endCxn id="401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401" idx="4"/>
            <a:endCxn id="402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402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7" idx="4"/>
            <a:endCxn id="408" idx="0"/>
          </p:cNvCxnSpPr>
          <p:nvPr/>
        </p:nvCxnSpPr>
        <p:spPr>
          <a:xfrm>
            <a:off x="4495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10" idx="4"/>
            <a:endCxn id="41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4"/>
            <a:endCxn id="41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2" idx="4"/>
            <a:endCxn id="413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13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8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44946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4"/>
            <a:endCxn id="425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5" idx="4"/>
            <a:endCxn id="426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6" idx="4"/>
            <a:endCxn id="427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7" idx="4"/>
          </p:cNvCxnSpPr>
          <p:nvPr/>
        </p:nvCxnSpPr>
        <p:spPr>
          <a:xfrm>
            <a:off x="4495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43434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3" idx="4"/>
            <a:endCxn id="434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4" idx="4"/>
            <a:endCxn id="435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35" idx="4"/>
            <a:endCxn id="436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6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0384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525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26672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95680" y="5257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1" idx="4"/>
            <a:endCxn id="452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2" idx="4"/>
            <a:endCxn id="453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>
            <a:off x="4495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4"/>
            <a:endCxn id="459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9" idx="4"/>
            <a:endCxn id="460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0" idx="4"/>
            <a:endCxn id="461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6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0384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4876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266720" y="4876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5680" y="4876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3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4"/>
            <a:endCxn id="477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4"/>
            <a:endCxn id="478" idx="0"/>
          </p:cNvCxnSpPr>
          <p:nvPr/>
        </p:nvCxnSpPr>
        <p:spPr>
          <a:xfrm>
            <a:off x="4495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1" idx="4"/>
            <a:endCxn id="48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2" idx="4"/>
            <a:endCxn id="48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3" idx="4"/>
            <a:endCxn id="48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0384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66720" y="4495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495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4"/>
            <a:endCxn id="500" idx="0"/>
          </p:cNvCxnSpPr>
          <p:nvPr/>
        </p:nvCxnSpPr>
        <p:spPr>
          <a:xfrm>
            <a:off x="4495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2" idx="4"/>
            <a:endCxn id="50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3" idx="4"/>
            <a:endCxn id="504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4"/>
            <a:endCxn id="505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5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10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0384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4114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66720" y="4114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95680" y="4114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956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1" idx="4"/>
            <a:endCxn id="522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2" idx="4"/>
            <a:endCxn id="523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3" idx="4"/>
            <a:endCxn id="524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4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4"/>
          </p:cNvCxnSpPr>
          <p:nvPr/>
        </p:nvCxnSpPr>
        <p:spPr>
          <a:xfrm>
            <a:off x="44953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0384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6720" y="3733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95680" y="3733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4"/>
            <a:endCxn id="540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4"/>
            <a:endCxn id="541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1" idx="4"/>
            <a:endCxn id="542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2" idx="4"/>
          </p:cNvCxnSpPr>
          <p:nvPr/>
        </p:nvCxnSpPr>
        <p:spPr>
          <a:xfrm>
            <a:off x="44953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43434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486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0384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352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266720" y="3352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5680" y="3352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95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434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6" idx="4"/>
            <a:endCxn id="557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"/>
          <p:cNvCxnSpPr>
            <a:stCxn id="557" idx="4"/>
            <a:endCxn id="558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58" idx="4"/>
            <a:endCxn id="559" idx="0"/>
          </p:cNvCxnSpPr>
          <p:nvPr/>
        </p:nvCxnSpPr>
        <p:spPr>
          <a:xfrm>
            <a:off x="44953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 flipH="1">
            <a:off x="40384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97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426672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5680" y="2971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956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34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70" idx="4"/>
            <a:endCxn id="571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71" idx="4"/>
            <a:endCxn id="572" idx="0"/>
          </p:cNvCxnSpPr>
          <p:nvPr/>
        </p:nvCxnSpPr>
        <p:spPr>
          <a:xfrm>
            <a:off x="44953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 flipH="1">
            <a:off x="40384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266720" y="2590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590920"/>
            <a:ext cx="3812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9568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Java PathFinder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0120" y="1676520"/>
            <a:ext cx="1304280" cy="1638000"/>
            <a:chOff x="7620120" y="1676520"/>
            <a:chExt cx="1304280" cy="1638000"/>
          </a:xfrm>
        </p:grpSpPr>
        <p:sp>
          <p:nvSpPr>
            <p:cNvPr id="46" name=""/>
            <p:cNvSpPr/>
            <p:nvPr/>
          </p:nvSpPr>
          <p:spPr>
            <a:xfrm>
              <a:off x="8191440" y="167652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45120" y="18162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70640" y="19749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5280" y="220968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4852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0880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02480" y="22096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7560" y="24321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476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24480" y="243216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0880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3880" y="2647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24480" y="284472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3424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02480" y="264780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848360" y="1898640"/>
              <a:ext cx="2880" cy="298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48360" y="2273400"/>
              <a:ext cx="78840" cy="158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040" y="2273400"/>
              <a:ext cx="2880" cy="374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48520" y="2724120"/>
              <a:ext cx="7560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02360" y="1898640"/>
              <a:ext cx="17748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99280" y="2292480"/>
              <a:ext cx="504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75440" y="2517840"/>
              <a:ext cx="4716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5880" y="2517840"/>
              <a:ext cx="0" cy="311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72120" y="2244600"/>
              <a:ext cx="12600" cy="241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05560" y="2057400"/>
              <a:ext cx="47160" cy="155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9840" y="2035080"/>
              <a:ext cx="174600" cy="184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438760" y="2292480"/>
              <a:ext cx="79200" cy="139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32640" y="2521080"/>
              <a:ext cx="91800" cy="13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8355960" y="2517840"/>
              <a:ext cx="471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193960" y="2727360"/>
              <a:ext cx="129960" cy="123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911360" y="1755720"/>
              <a:ext cx="28548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61280" y="1752480"/>
              <a:ext cx="43920" cy="212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45120" y="300348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72160" y="30510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73880" y="3238560"/>
              <a:ext cx="7560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99280" y="3041640"/>
              <a:ext cx="7560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43680" y="247644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8520" y="2727360"/>
              <a:ext cx="78840" cy="276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603640" y="2914560"/>
              <a:ext cx="85320" cy="101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08840" y="3085920"/>
              <a:ext cx="320040" cy="177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53280" y="2959200"/>
              <a:ext cx="0" cy="75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416440" y="2739960"/>
              <a:ext cx="123480" cy="301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333640" y="3130560"/>
              <a:ext cx="44280" cy="111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53280" y="3111480"/>
              <a:ext cx="15192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19840" y="1895400"/>
              <a:ext cx="149040" cy="27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8737200" y="215892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572320" y="1828800"/>
              <a:ext cx="7596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77120" y="1720800"/>
              <a:ext cx="288360" cy="120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0480" y="2289240"/>
              <a:ext cx="6300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77080" y="2838600"/>
              <a:ext cx="75960" cy="7596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721360" y="2556000"/>
              <a:ext cx="50400" cy="272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37400" y="3016080"/>
              <a:ext cx="75600" cy="76320"/>
            </a:xfrm>
            <a:prstGeom prst="flowChartConnector">
              <a:avLst/>
            </a:prstGeom>
            <a:solidFill>
              <a:srgbClr val="969696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81880" y="3083040"/>
              <a:ext cx="174240" cy="180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0120" y="2273400"/>
              <a:ext cx="19980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43680" y="22035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" y="1447920"/>
            <a:ext cx="1752480" cy="1920960"/>
            <a:chOff x="228600" y="1447920"/>
            <a:chExt cx="1752480" cy="1920960"/>
          </a:xfrm>
        </p:grpSpPr>
        <p:grpSp>
          <p:nvGrpSpPr>
            <p:cNvPr id="102" name=""/>
            <p:cNvGrpSpPr/>
            <p:nvPr/>
          </p:nvGrpSpPr>
          <p:grpSpPr>
            <a:xfrm>
              <a:off x="228600" y="1828800"/>
              <a:ext cx="1752480" cy="1540080"/>
              <a:chOff x="228600" y="1828800"/>
              <a:chExt cx="1752480" cy="1540080"/>
            </a:xfrm>
          </p:grpSpPr>
          <p:sp>
            <p:nvSpPr>
              <p:cNvPr id="103" name=""/>
              <p:cNvSpPr/>
              <p:nvPr/>
            </p:nvSpPr>
            <p:spPr>
              <a:xfrm>
                <a:off x="228600" y="1828800"/>
                <a:ext cx="1752480" cy="1523880"/>
              </a:xfrm>
              <a:prstGeom prst="rect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6920" y="1903320"/>
                <a:ext cx="1689840" cy="146556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void add(Object o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buffer[head] = o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head = (head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Object take() {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tail=(tail+1)%size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return buffer[tail]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}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57200" y="1447920"/>
              <a:ext cx="12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057400" y="2438280"/>
            <a:ext cx="1676520" cy="398880"/>
            <a:chOff x="2057400" y="2438280"/>
            <a:chExt cx="1676520" cy="398880"/>
          </a:xfrm>
        </p:grpSpPr>
        <p:sp>
          <p:nvSpPr>
            <p:cNvPr id="107" name=""/>
            <p:cNvSpPr/>
            <p:nvPr/>
          </p:nvSpPr>
          <p:spPr>
            <a:xfrm>
              <a:off x="2363400" y="243828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AV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26668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2666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638680" y="2438280"/>
            <a:ext cx="1828800" cy="398880"/>
            <a:chOff x="5638680" y="2438280"/>
            <a:chExt cx="1828800" cy="398880"/>
          </a:xfrm>
        </p:grpSpPr>
        <p:sp>
          <p:nvSpPr>
            <p:cNvPr id="111" name=""/>
            <p:cNvSpPr/>
            <p:nvPr/>
          </p:nvSpPr>
          <p:spPr>
            <a:xfrm>
              <a:off x="6173280" y="24382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8680" y="26668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81680" y="26668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09880" y="1447920"/>
            <a:ext cx="1752840" cy="1904760"/>
            <a:chOff x="3809880" y="1447920"/>
            <a:chExt cx="1752840" cy="1904760"/>
          </a:xfrm>
        </p:grpSpPr>
        <p:grpSp>
          <p:nvGrpSpPr>
            <p:cNvPr id="115" name=""/>
            <p:cNvGrpSpPr/>
            <p:nvPr/>
          </p:nvGrpSpPr>
          <p:grpSpPr>
            <a:xfrm>
              <a:off x="3809880" y="1828800"/>
              <a:ext cx="1752840" cy="1523880"/>
              <a:chOff x="3809880" y="1828800"/>
              <a:chExt cx="1752840" cy="152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809880" y="1828800"/>
                <a:ext cx="1752840" cy="15238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39560" y="2057040"/>
                <a:ext cx="1301040" cy="1054080"/>
              </a:xfrm>
              <a:prstGeom prst="rect">
                <a:avLst/>
              </a:prstGeom>
              <a:solidFill>
                <a:srgbClr val="99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0:    iconst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:    istore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2:    goto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	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#3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5:    getstatic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8:    aload_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9:    iload_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Lucida Console"/>
                  </a:rPr>
                  <a:t>10:   aalo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114800" y="144792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yteco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4191120"/>
            <a:ext cx="1282680" cy="1638360"/>
            <a:chOff x="7620120" y="4191120"/>
            <a:chExt cx="1282680" cy="1638360"/>
          </a:xfrm>
        </p:grpSpPr>
        <p:sp>
          <p:nvSpPr>
            <p:cNvPr id="120" name=""/>
            <p:cNvSpPr/>
            <p:nvPr/>
          </p:nvSpPr>
          <p:spPr>
            <a:xfrm>
              <a:off x="8169480" y="419112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23520" y="433080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49040" y="4489560"/>
              <a:ext cx="7596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53680" y="47246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656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8684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80520" y="47246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59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316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2880" y="49467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8684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2280" y="51627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02880" y="535968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1228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0520" y="51627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772760" y="4413240"/>
              <a:ext cx="56880" cy="3114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2760" y="4800600"/>
              <a:ext cx="1332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760" y="4800600"/>
              <a:ext cx="0" cy="362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26560" y="5238720"/>
              <a:ext cx="76320" cy="1209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48720" y="4419720"/>
              <a:ext cx="209520" cy="380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77320" y="4800600"/>
              <a:ext cx="5076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44280" y="5032440"/>
              <a:ext cx="0" cy="3110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50520" y="4759560"/>
              <a:ext cx="12600" cy="241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05920" y="4572000"/>
              <a:ext cx="25560" cy="155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05920" y="4572000"/>
              <a:ext cx="196920" cy="1620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8416800" y="4800600"/>
              <a:ext cx="41400" cy="1461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8560" y="5029200"/>
              <a:ext cx="75960" cy="1526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334720" y="5032440"/>
              <a:ext cx="47520" cy="1206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153640" y="5257800"/>
              <a:ext cx="130320" cy="123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890120" y="4270320"/>
              <a:ext cx="285840" cy="795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39320" y="4267440"/>
              <a:ext cx="44640" cy="2127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23520" y="551844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50560" y="556596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51920" y="575316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7320" y="555624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22080" y="4991400"/>
              <a:ext cx="7596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56920" y="5241960"/>
              <a:ext cx="79200" cy="2764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394840" y="5254920"/>
              <a:ext cx="123840" cy="301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12040" y="5645160"/>
              <a:ext cx="44280" cy="1112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53640" y="5639040"/>
              <a:ext cx="120600" cy="1364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98240" y="4410360"/>
              <a:ext cx="14904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8715600" y="467316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50360" y="43434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960" y="4267440"/>
              <a:ext cx="314280" cy="889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18880" y="4803840"/>
              <a:ext cx="63360" cy="1522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5120" y="5353200"/>
              <a:ext cx="76320" cy="7632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699400" y="5070600"/>
              <a:ext cx="50760" cy="2728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515440" y="5531040"/>
              <a:ext cx="76320" cy="75960"/>
            </a:xfrm>
            <a:prstGeom prst="flowChartConnector">
              <a:avLst/>
            </a:prstGeom>
            <a:solidFill>
              <a:srgbClr val="ff0000">
                <a:alpha val="50000"/>
              </a:srgbClr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331480" y="5597640"/>
              <a:ext cx="203040" cy="18720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4724640"/>
              <a:ext cx="200160" cy="817560"/>
            </a:xfrm>
            <a:custGeom>
              <a:avLst/>
              <a:gdLst/>
              <a:ahLst/>
              <a:rect l="l" t="t" r="r" b="b"/>
              <a:pathLst>
                <a:path w="126" h="515">
                  <a:moveTo>
                    <a:pt x="126" y="504"/>
                  </a:moveTo>
                  <a:cubicBezTo>
                    <a:pt x="93" y="515"/>
                    <a:pt x="48" y="493"/>
                    <a:pt x="34" y="460"/>
                  </a:cubicBezTo>
                  <a:cubicBezTo>
                    <a:pt x="30" y="451"/>
                    <a:pt x="22" y="434"/>
                    <a:pt x="18" y="424"/>
                  </a:cubicBezTo>
                  <a:cubicBezTo>
                    <a:pt x="15" y="416"/>
                    <a:pt x="10" y="400"/>
                    <a:pt x="10" y="400"/>
                  </a:cubicBezTo>
                  <a:cubicBezTo>
                    <a:pt x="0" y="295"/>
                    <a:pt x="0" y="195"/>
                    <a:pt x="6" y="88"/>
                  </a:cubicBezTo>
                  <a:cubicBezTo>
                    <a:pt x="7" y="69"/>
                    <a:pt x="24" y="30"/>
                    <a:pt x="42" y="24"/>
                  </a:cubicBezTo>
                  <a:cubicBezTo>
                    <a:pt x="54" y="6"/>
                    <a:pt x="65" y="13"/>
                    <a:pt x="78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22080" y="4718160"/>
              <a:ext cx="180720" cy="666720"/>
            </a:xfrm>
            <a:custGeom>
              <a:avLst/>
              <a:gdLst/>
              <a:ahLst/>
              <a:rect l="l" t="t" r="r" b="b"/>
              <a:pathLst>
                <a:path w="114" h="420">
                  <a:moveTo>
                    <a:pt x="0" y="420"/>
                  </a:moveTo>
                  <a:cubicBezTo>
                    <a:pt x="29" y="419"/>
                    <a:pt x="58" y="419"/>
                    <a:pt x="76" y="360"/>
                  </a:cubicBezTo>
                  <a:cubicBezTo>
                    <a:pt x="94" y="301"/>
                    <a:pt x="114" y="128"/>
                    <a:pt x="108" y="68"/>
                  </a:cubicBezTo>
                  <a:cubicBezTo>
                    <a:pt x="102" y="8"/>
                    <a:pt x="71" y="4"/>
                    <a:pt x="40" y="0"/>
                  </a:cubicBezTo>
                </a:path>
              </a:pathLst>
            </a:custGeom>
            <a:noFill/>
            <a:ln cap="sq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70" idx="0"/>
              <a:endCxn id="168" idx="0"/>
            </p:cNvCxnSpPr>
            <p:nvPr/>
          </p:nvCxnSpPr>
          <p:spPr>
            <a:xfrm flipH="1">
              <a:off x="8532360" y="5384520"/>
              <a:ext cx="189720" cy="2134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48" idx="0"/>
              <a:endCxn id="159" idx="0"/>
            </p:cNvCxnSpPr>
            <p:nvPr/>
          </p:nvCxnSpPr>
          <p:spPr>
            <a:xfrm>
              <a:off x="8153280" y="5379840"/>
              <a:ext cx="1080" cy="259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3" name=""/>
            <p:cNvCxnSpPr>
              <a:stCxn id="127" idx="4"/>
              <a:endCxn id="131" idx="0"/>
            </p:cNvCxnSpPr>
            <p:nvPr/>
          </p:nvCxnSpPr>
          <p:spPr>
            <a:xfrm>
              <a:off x="7944120" y="5023080"/>
              <a:ext cx="76680" cy="140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4" name=""/>
            <p:cNvCxnSpPr>
              <a:stCxn id="153" idx="4"/>
              <a:endCxn id="151" idx="5"/>
            </p:cNvCxnSpPr>
            <p:nvPr/>
          </p:nvCxnSpPr>
          <p:spPr>
            <a:xfrm flipH="1" flipV="1">
              <a:off x="7887960" y="5582880"/>
              <a:ext cx="402120" cy="246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</p:grpSp>
      <p:sp>
        <p:nvSpPr>
          <p:cNvPr id="175" name=""/>
          <p:cNvSpPr/>
          <p:nvPr/>
        </p:nvSpPr>
        <p:spPr>
          <a:xfrm>
            <a:off x="4648320" y="3429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3962520"/>
            <a:ext cx="2057400" cy="2286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5181480"/>
            <a:ext cx="1710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5334120"/>
            <a:ext cx="993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4038480"/>
            <a:ext cx="1710000" cy="764640"/>
            <a:chOff x="3809880" y="4038480"/>
            <a:chExt cx="1710000" cy="764640"/>
          </a:xfrm>
        </p:grpSpPr>
        <p:sp>
          <p:nvSpPr>
            <p:cNvPr id="181" name=""/>
            <p:cNvSpPr/>
            <p:nvPr/>
          </p:nvSpPr>
          <p:spPr>
            <a:xfrm>
              <a:off x="3809880" y="4114800"/>
              <a:ext cx="1710000" cy="681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1480" y="4038480"/>
              <a:ext cx="1029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e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4647600" y="4800600"/>
            <a:ext cx="75960" cy="457200"/>
          </a:xfrm>
          <a:prstGeom prst="upDownArrow">
            <a:avLst>
              <a:gd name="adj1" fmla="val 50000"/>
              <a:gd name="adj2" fmla="val 11982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34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2" idx="4"/>
            <a:endCxn id="583" idx="0"/>
          </p:cNvCxnSpPr>
          <p:nvPr/>
        </p:nvCxnSpPr>
        <p:spPr>
          <a:xfrm>
            <a:off x="44953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 flipH="1">
            <a:off x="40384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266720" y="22096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5680" y="2209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Basic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40384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828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66720" y="1828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18288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95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 in Detail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>
            <a:stCxn id="600" idx="4"/>
            <a:endCxn id="601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1" idx="4"/>
            <a:endCxn id="602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3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8" idx="4"/>
            <a:endCxn id="609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1" idx="4"/>
            <a:endCxn id="612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"/>
          <p:cNvCxnSpPr>
            <a:stCxn id="612" idx="4"/>
            <a:endCxn id="613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"/>
          <p:cNvCxnSpPr>
            <a:stCxn id="613" idx="4"/>
            <a:endCxn id="614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"/>
          <p:cNvCxnSpPr>
            <a:stCxn id="614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9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600200" y="2590560"/>
            <a:ext cx="2895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625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8" idx="0"/>
          </p:cNvCxnSpPr>
          <p:nvPr/>
        </p:nvCxnSpPr>
        <p:spPr>
          <a:xfrm flipH="1">
            <a:off x="617148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endCxn id="629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057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20120" y="3505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769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91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2485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endCxn id="634" idx="0"/>
          </p:cNvCxnSpPr>
          <p:nvPr/>
        </p:nvCxnSpPr>
        <p:spPr>
          <a:xfrm flipH="1">
            <a:off x="640008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endCxn id="635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4" idx="4"/>
            <a:endCxn id="636" idx="0"/>
          </p:cNvCxnSpPr>
          <p:nvPr/>
        </p:nvCxnSpPr>
        <p:spPr>
          <a:xfrm flipH="1">
            <a:off x="5562360" y="3352680"/>
            <a:ext cx="838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4" idx="4"/>
            <a:endCxn id="637" idx="0"/>
          </p:cNvCxnSpPr>
          <p:nvPr/>
        </p:nvCxnSpPr>
        <p:spPr>
          <a:xfrm>
            <a:off x="64004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35" idx="4"/>
            <a:endCxn id="638" idx="0"/>
          </p:cNvCxnSpPr>
          <p:nvPr/>
        </p:nvCxnSpPr>
        <p:spPr>
          <a:xfrm>
            <a:off x="68576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5" idx="4"/>
            <a:endCxn id="639" idx="0"/>
          </p:cNvCxnSpPr>
          <p:nvPr/>
        </p:nvCxnSpPr>
        <p:spPr>
          <a:xfrm>
            <a:off x="6858000" y="3352680"/>
            <a:ext cx="915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37" idx="4"/>
            <a:endCxn id="643" idx="0"/>
          </p:cNvCxnSpPr>
          <p:nvPr/>
        </p:nvCxnSpPr>
        <p:spPr>
          <a:xfrm>
            <a:off x="64004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37" idx="4"/>
            <a:endCxn id="642" idx="0"/>
          </p:cNvCxnSpPr>
          <p:nvPr/>
        </p:nvCxnSpPr>
        <p:spPr>
          <a:xfrm flipH="1">
            <a:off x="5943240" y="373356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36" idx="4"/>
            <a:endCxn id="641" idx="0"/>
          </p:cNvCxnSpPr>
          <p:nvPr/>
        </p:nvCxnSpPr>
        <p:spPr>
          <a:xfrm>
            <a:off x="55623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6" idx="4"/>
            <a:endCxn id="640" idx="0"/>
          </p:cNvCxnSpPr>
          <p:nvPr/>
        </p:nvCxnSpPr>
        <p:spPr>
          <a:xfrm flipH="1">
            <a:off x="502884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6" name=""/>
          <p:cNvCxnSpPr>
            <a:endCxn id="655" idx="0"/>
          </p:cNvCxnSpPr>
          <p:nvPr/>
        </p:nvCxnSpPr>
        <p:spPr>
          <a:xfrm>
            <a:off x="64004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"/>
          <p:cNvSpPr/>
          <p:nvPr/>
        </p:nvSpPr>
        <p:spPr>
          <a:xfrm>
            <a:off x="62485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endCxn id="657" idx="0"/>
          </p:cNvCxnSpPr>
          <p:nvPr/>
        </p:nvCxnSpPr>
        <p:spPr>
          <a:xfrm>
            <a:off x="64004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54100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0"/>
          </p:cNvCxnSpPr>
          <p:nvPr/>
        </p:nvCxnSpPr>
        <p:spPr>
          <a:xfrm>
            <a:off x="55623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54100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endCxn id="661" idx="0"/>
          </p:cNvCxnSpPr>
          <p:nvPr/>
        </p:nvCxnSpPr>
        <p:spPr>
          <a:xfrm>
            <a:off x="55623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48769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endCxn id="663" idx="0"/>
          </p:cNvCxnSpPr>
          <p:nvPr/>
        </p:nvCxnSpPr>
        <p:spPr>
          <a:xfrm>
            <a:off x="50288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4876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endCxn id="665" idx="0"/>
          </p:cNvCxnSpPr>
          <p:nvPr/>
        </p:nvCxnSpPr>
        <p:spPr>
          <a:xfrm>
            <a:off x="50288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67057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endCxn id="667" idx="0"/>
          </p:cNvCxnSpPr>
          <p:nvPr/>
        </p:nvCxnSpPr>
        <p:spPr>
          <a:xfrm>
            <a:off x="68576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endCxn id="669" idx="0"/>
          </p:cNvCxnSpPr>
          <p:nvPr/>
        </p:nvCxnSpPr>
        <p:spPr>
          <a:xfrm>
            <a:off x="68576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>
            <a:off x="67057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endCxn id="671" idx="0"/>
          </p:cNvCxnSpPr>
          <p:nvPr/>
        </p:nvCxnSpPr>
        <p:spPr>
          <a:xfrm>
            <a:off x="68576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943600" y="419112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495288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809880"/>
            <a:ext cx="228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172200" y="3048120"/>
            <a:ext cx="1676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1" idx="4"/>
            <a:endCxn id="68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endCxn id="68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endCxn id="68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88" idx="4"/>
            <a:endCxn id="68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2" name=""/>
          <p:cNvCxnSpPr>
            <a:endCxn id="69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endCxn id="69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5" idx="4"/>
            <a:endCxn id="69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endCxn id="69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endCxn id="70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4" idx="4"/>
            <a:endCxn id="70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5" idx="4"/>
            <a:endCxn id="70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6" idx="4"/>
            <a:endCxn id="70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4"/>
            <a:endCxn id="71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5" idx="4"/>
            <a:endCxn id="71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16" idx="4"/>
            <a:endCxn id="71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17" idx="4"/>
            <a:endCxn id="71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2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600200" y="2590920"/>
            <a:ext cx="28954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9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endCxn id="732" idx="0"/>
          </p:cNvCxnSpPr>
          <p:nvPr/>
        </p:nvCxnSpPr>
        <p:spPr>
          <a:xfrm flipH="1">
            <a:off x="6171480" y="257148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endCxn id="733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3" idx="4"/>
            <a:endCxn id="738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endCxn id="739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endCxn id="743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64771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endCxn id="745" idx="0"/>
          </p:cNvCxnSpPr>
          <p:nvPr/>
        </p:nvCxnSpPr>
        <p:spPr>
          <a:xfrm>
            <a:off x="66290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endCxn id="747" idx="0"/>
          </p:cNvCxnSpPr>
          <p:nvPr/>
        </p:nvCxnSpPr>
        <p:spPr>
          <a:xfrm>
            <a:off x="66290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endCxn id="74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2" name=""/>
          <p:cNvCxnSpPr>
            <a:endCxn id="75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50" idx="4"/>
          </p:cNvCxnSpPr>
          <p:nvPr/>
        </p:nvCxnSpPr>
        <p:spPr>
          <a:xfrm>
            <a:off x="7086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943600" y="3352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61" idx="4"/>
            <a:endCxn id="762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5" name=""/>
          <p:cNvCxnSpPr>
            <a:endCxn id="764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7" name=""/>
          <p:cNvCxnSpPr>
            <a:endCxn id="766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8" idx="4"/>
            <a:endCxn id="769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endCxn id="771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3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>
            <a:endCxn id="773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5" idx="4"/>
            <a:endCxn id="776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endCxn id="778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0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endCxn id="780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6934320" y="38862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6600" y="419112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629400" y="4952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7" name=""/>
          <p:cNvCxnSpPr>
            <a:stCxn id="785" idx="4"/>
            <a:endCxn id="786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endCxn id="788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0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endCxn id="790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94" idx="4"/>
            <a:endCxn id="795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9" name=""/>
          <p:cNvCxnSpPr>
            <a:stCxn id="795" idx="4"/>
            <a:endCxn id="796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0" name=""/>
          <p:cNvCxnSpPr>
            <a:stCxn id="796" idx="4"/>
            <a:endCxn id="797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1" name=""/>
          <p:cNvCxnSpPr>
            <a:stCxn id="797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2" idx="4"/>
            <a:endCxn id="803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5" idx="4"/>
            <a:endCxn id="806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0" name=""/>
          <p:cNvCxnSpPr>
            <a:stCxn id="806" idx="4"/>
            <a:endCxn id="807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"/>
          <p:cNvCxnSpPr>
            <a:stCxn id="807" idx="4"/>
            <a:endCxn id="808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2" name=""/>
          <p:cNvCxnSpPr>
            <a:stCxn id="808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813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0" name=""/>
          <p:cNvCxnSpPr>
            <a:stCxn id="819" idx="4"/>
            <a:endCxn id="821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1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29" idx="4"/>
            <a:endCxn id="83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endCxn id="83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endCxn id="83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6" idx="4"/>
            <a:endCxn id="83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"/>
          <p:cNvCxnSpPr>
            <a:endCxn id="83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"/>
          <p:cNvCxnSpPr>
            <a:endCxn id="84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43" idx="4"/>
            <a:endCxn id="84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7" name=""/>
          <p:cNvCxnSpPr>
            <a:endCxn id="84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endCxn id="84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0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50" idx="4"/>
            <a:endCxn id="851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endCxn id="853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"/>
          <p:cNvCxnSpPr>
            <a:endCxn id="855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21" idx="4"/>
            <a:endCxn id="857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endCxn id="859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endCxn id="860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59" idx="4"/>
            <a:endCxn id="861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"/>
          <p:cNvCxnSpPr>
            <a:stCxn id="859" idx="4"/>
            <a:endCxn id="862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60" idx="4"/>
            <a:endCxn id="863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1" name=""/>
          <p:cNvCxnSpPr>
            <a:stCxn id="862" idx="4"/>
            <a:endCxn id="865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2" name=""/>
          <p:cNvCxnSpPr>
            <a:stCxn id="861" idx="4"/>
            <a:endCxn id="864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endCxn id="873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endCxn id="875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>
            <a:endCxn id="877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endCxn id="879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endCxn id="881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3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endCxn id="883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6" name=""/>
          <p:cNvCxnSpPr>
            <a:endCxn id="885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21" idx="4"/>
            <a:endCxn id="889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3" idx="4"/>
            <a:endCxn id="894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4" idx="4"/>
            <a:endCxn id="895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5" idx="4"/>
            <a:endCxn id="896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6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901" idx="4"/>
            <a:endCxn id="902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4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4" idx="4"/>
            <a:endCxn id="905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905" idx="4"/>
            <a:endCxn id="906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906" idx="4"/>
            <a:endCxn id="907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1" name=""/>
          <p:cNvCxnSpPr>
            <a:stCxn id="907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12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917" idx="4"/>
            <a:endCxn id="919" idx="0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27" idx="4"/>
            <a:endCxn id="928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endCxn id="930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endCxn id="932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6" name=""/>
          <p:cNvCxnSpPr>
            <a:stCxn id="934" idx="4"/>
            <a:endCxn id="935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endCxn id="937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9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0" name=""/>
          <p:cNvCxnSpPr>
            <a:endCxn id="939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1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41" idx="4"/>
            <a:endCxn id="942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4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4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6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endCxn id="946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"/>
          <p:cNvCxnSpPr>
            <a:stCxn id="948" idx="4"/>
            <a:endCxn id="949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1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endCxn id="951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endCxn id="953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"/>
          <p:cNvSpPr/>
          <p:nvPr/>
        </p:nvSpPr>
        <p:spPr>
          <a:xfrm>
            <a:off x="655308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19" idx="4"/>
            <a:endCxn id="955" idx="0"/>
          </p:cNvCxnSpPr>
          <p:nvPr/>
        </p:nvCxnSpPr>
        <p:spPr>
          <a:xfrm>
            <a:off x="6400440" y="259056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3244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864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8168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864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24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>
            <a:endCxn id="957" idx="0"/>
          </p:cNvCxnSpPr>
          <p:nvPr/>
        </p:nvCxnSpPr>
        <p:spPr>
          <a:xfrm flipH="1">
            <a:off x="647640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5" name=""/>
          <p:cNvCxnSpPr>
            <a:endCxn id="958" idx="0"/>
          </p:cNvCxnSpPr>
          <p:nvPr/>
        </p:nvCxnSpPr>
        <p:spPr>
          <a:xfrm>
            <a:off x="670536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57" idx="4"/>
            <a:endCxn id="959" idx="0"/>
          </p:cNvCxnSpPr>
          <p:nvPr/>
        </p:nvCxnSpPr>
        <p:spPr>
          <a:xfrm flipH="1">
            <a:off x="5637960" y="33526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57" idx="4"/>
            <a:endCxn id="960" idx="0"/>
          </p:cNvCxnSpPr>
          <p:nvPr/>
        </p:nvCxnSpPr>
        <p:spPr>
          <a:xfrm>
            <a:off x="64767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58" idx="4"/>
            <a:endCxn id="961" idx="0"/>
          </p:cNvCxnSpPr>
          <p:nvPr/>
        </p:nvCxnSpPr>
        <p:spPr>
          <a:xfrm>
            <a:off x="693396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0" idx="4"/>
            <a:endCxn id="963" idx="0"/>
          </p:cNvCxnSpPr>
          <p:nvPr/>
        </p:nvCxnSpPr>
        <p:spPr>
          <a:xfrm>
            <a:off x="64767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0" name=""/>
          <p:cNvCxnSpPr>
            <a:stCxn id="959" idx="4"/>
            <a:endCxn id="962" idx="0"/>
          </p:cNvCxnSpPr>
          <p:nvPr/>
        </p:nvCxnSpPr>
        <p:spPr>
          <a:xfrm>
            <a:off x="56383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1" name=""/>
          <p:cNvSpPr/>
          <p:nvPr/>
        </p:nvSpPr>
        <p:spPr>
          <a:xfrm>
            <a:off x="63244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endCxn id="971" idx="0"/>
          </p:cNvCxnSpPr>
          <p:nvPr/>
        </p:nvCxnSpPr>
        <p:spPr>
          <a:xfrm>
            <a:off x="64767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63244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0"/>
          </p:cNvCxnSpPr>
          <p:nvPr/>
        </p:nvCxnSpPr>
        <p:spPr>
          <a:xfrm>
            <a:off x="64767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54864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endCxn id="975" idx="0"/>
          </p:cNvCxnSpPr>
          <p:nvPr/>
        </p:nvCxnSpPr>
        <p:spPr>
          <a:xfrm>
            <a:off x="56383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7" name=""/>
          <p:cNvSpPr/>
          <p:nvPr/>
        </p:nvSpPr>
        <p:spPr>
          <a:xfrm>
            <a:off x="5486400" y="46483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8" name=""/>
          <p:cNvCxnSpPr>
            <a:endCxn id="977" idx="0"/>
          </p:cNvCxnSpPr>
          <p:nvPr/>
        </p:nvCxnSpPr>
        <p:spPr>
          <a:xfrm>
            <a:off x="56383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9" name=""/>
          <p:cNvSpPr/>
          <p:nvPr/>
        </p:nvSpPr>
        <p:spPr>
          <a:xfrm>
            <a:off x="67816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0" name=""/>
          <p:cNvCxnSpPr>
            <a:endCxn id="979" idx="0"/>
          </p:cNvCxnSpPr>
          <p:nvPr/>
        </p:nvCxnSpPr>
        <p:spPr>
          <a:xfrm>
            <a:off x="693396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1" name=""/>
          <p:cNvSpPr/>
          <p:nvPr/>
        </p:nvSpPr>
        <p:spPr>
          <a:xfrm>
            <a:off x="67816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endCxn id="981" idx="0"/>
          </p:cNvCxnSpPr>
          <p:nvPr/>
        </p:nvCxnSpPr>
        <p:spPr>
          <a:xfrm>
            <a:off x="693396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3" name=""/>
          <p:cNvSpPr/>
          <p:nvPr/>
        </p:nvSpPr>
        <p:spPr>
          <a:xfrm>
            <a:off x="6781680" y="46483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endCxn id="983" idx="0"/>
          </p:cNvCxnSpPr>
          <p:nvPr/>
        </p:nvCxnSpPr>
        <p:spPr>
          <a:xfrm>
            <a:off x="69339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5" name=""/>
          <p:cNvSpPr/>
          <p:nvPr/>
        </p:nvSpPr>
        <p:spPr>
          <a:xfrm>
            <a:off x="6629400" y="49528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1371600" y="4724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43600" y="2743200"/>
            <a:ext cx="304920" cy="228600"/>
          </a:xfrm>
          <a:prstGeom prst="ellipse">
            <a:avLst/>
          </a:prstGeom>
          <a:solidFill>
            <a:srgbClr val="6666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19" idx="4"/>
            <a:endCxn id="987" idx="0"/>
          </p:cNvCxnSpPr>
          <p:nvPr/>
        </p:nvCxnSpPr>
        <p:spPr>
          <a:xfrm flipH="1">
            <a:off x="6095160" y="2590560"/>
            <a:ext cx="305640" cy="1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"/>
          <p:cNvCxnSpPr/>
          <p:nvPr/>
        </p:nvCxnSpPr>
        <p:spPr>
          <a:xfrm>
            <a:off x="56383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0" name=""/>
          <p:cNvSpPr/>
          <p:nvPr/>
        </p:nvSpPr>
        <p:spPr>
          <a:xfrm>
            <a:off x="5486400" y="50292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2" name=""/>
          <p:cNvCxnSpPr>
            <a:stCxn id="990" idx="4"/>
            <a:endCxn id="991" idx="0"/>
          </p:cNvCxnSpPr>
          <p:nvPr/>
        </p:nvCxnSpPr>
        <p:spPr>
          <a:xfrm>
            <a:off x="5638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3" name=""/>
          <p:cNvSpPr/>
          <p:nvPr/>
        </p:nvSpPr>
        <p:spPr>
          <a:xfrm>
            <a:off x="4872960" y="5715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-thr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371600" y="5105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67280" y="563868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600200" y="2666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193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193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2193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3" name=""/>
          <p:cNvCxnSpPr>
            <a:stCxn id="999" idx="4"/>
            <a:endCxn id="1000" idx="0"/>
          </p:cNvCxnSpPr>
          <p:nvPr/>
        </p:nvCxnSpPr>
        <p:spPr>
          <a:xfrm>
            <a:off x="13712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1000" idx="4"/>
            <a:endCxn id="1001" idx="0"/>
          </p:cNvCxnSpPr>
          <p:nvPr/>
        </p:nvCxnSpPr>
        <p:spPr>
          <a:xfrm>
            <a:off x="137124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5" name=""/>
          <p:cNvCxnSpPr>
            <a:stCxn id="1001" idx="4"/>
            <a:endCxn id="1002" idx="0"/>
          </p:cNvCxnSpPr>
          <p:nvPr/>
        </p:nvCxnSpPr>
        <p:spPr>
          <a:xfrm>
            <a:off x="137124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1002" idx="4"/>
          </p:cNvCxnSpPr>
          <p:nvPr/>
        </p:nvCxnSpPr>
        <p:spPr>
          <a:xfrm>
            <a:off x="137124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7" name=""/>
          <p:cNvSpPr/>
          <p:nvPr/>
        </p:nvSpPr>
        <p:spPr>
          <a:xfrm>
            <a:off x="1219320" y="5029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19320" y="541008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1007" idx="4"/>
            <a:endCxn id="1008" idx="0"/>
          </p:cNvCxnSpPr>
          <p:nvPr/>
        </p:nvCxnSpPr>
        <p:spPr>
          <a:xfrm>
            <a:off x="1371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1219320" y="1600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2193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9320" y="2362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219320" y="274320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0" idx="4"/>
            <a:endCxn id="1011" idx="0"/>
          </p:cNvCxnSpPr>
          <p:nvPr/>
        </p:nvCxnSpPr>
        <p:spPr>
          <a:xfrm>
            <a:off x="137124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5" name=""/>
          <p:cNvCxnSpPr>
            <a:stCxn id="1011" idx="4"/>
            <a:endCxn id="1012" idx="0"/>
          </p:cNvCxnSpPr>
          <p:nvPr/>
        </p:nvCxnSpPr>
        <p:spPr>
          <a:xfrm>
            <a:off x="13712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>
            <a:off x="137124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1013" idx="4"/>
          </p:cNvCxnSpPr>
          <p:nvPr/>
        </p:nvCxnSpPr>
        <p:spPr>
          <a:xfrm>
            <a:off x="137124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8" name=""/>
          <p:cNvSpPr/>
          <p:nvPr/>
        </p:nvSpPr>
        <p:spPr>
          <a:xfrm>
            <a:off x="1219320" y="312408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8" idx="4"/>
          </p:cNvCxnSpPr>
          <p:nvPr/>
        </p:nvCxnSpPr>
        <p:spPr>
          <a:xfrm>
            <a:off x="137124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0" name=""/>
          <p:cNvSpPr/>
          <p:nvPr/>
        </p:nvSpPr>
        <p:spPr>
          <a:xfrm>
            <a:off x="137052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52460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1905120"/>
            <a:ext cx="3886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8520" y="1981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4" name=""/>
          <p:cNvCxnSpPr>
            <a:stCxn id="1023" idx="4"/>
          </p:cNvCxnSpPr>
          <p:nvPr/>
        </p:nvCxnSpPr>
        <p:spPr>
          <a:xfrm>
            <a:off x="640044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5" name=""/>
          <p:cNvSpPr/>
          <p:nvPr/>
        </p:nvSpPr>
        <p:spPr>
          <a:xfrm>
            <a:off x="6248520" y="2362320"/>
            <a:ext cx="3045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19920" y="274320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477120" y="2743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8" name=""/>
          <p:cNvCxnSpPr>
            <a:stCxn id="1025" idx="4"/>
            <a:endCxn id="1026" idx="0"/>
          </p:cNvCxnSpPr>
          <p:nvPr/>
        </p:nvCxnSpPr>
        <p:spPr>
          <a:xfrm flipH="1">
            <a:off x="6171480" y="259092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9" name=""/>
          <p:cNvCxnSpPr>
            <a:endCxn id="1027" idx="0"/>
          </p:cNvCxnSpPr>
          <p:nvPr/>
        </p:nvCxnSpPr>
        <p:spPr>
          <a:xfrm>
            <a:off x="6400440" y="259056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0" name=""/>
          <p:cNvSpPr/>
          <p:nvPr/>
        </p:nvSpPr>
        <p:spPr>
          <a:xfrm>
            <a:off x="4724280" y="49528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79880" y="487692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48520" y="3124080"/>
            <a:ext cx="30456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705720" y="3124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7" idx="4"/>
            <a:endCxn id="1032" idx="0"/>
          </p:cNvCxnSpPr>
          <p:nvPr/>
        </p:nvCxnSpPr>
        <p:spPr>
          <a:xfrm flipH="1">
            <a:off x="6400080" y="2971800"/>
            <a:ext cx="22932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endCxn id="1033" idx="0"/>
          </p:cNvCxnSpPr>
          <p:nvPr/>
        </p:nvCxnSpPr>
        <p:spPr>
          <a:xfrm>
            <a:off x="6629040" y="2971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4724280" y="2286000"/>
            <a:ext cx="358164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38862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endCxn id="1037" idx="0"/>
          </p:cNvCxnSpPr>
          <p:nvPr/>
        </p:nvCxnSpPr>
        <p:spPr>
          <a:xfrm>
            <a:off x="662904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64771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934320" y="3505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endCxn id="1039" idx="0"/>
          </p:cNvCxnSpPr>
          <p:nvPr/>
        </p:nvCxnSpPr>
        <p:spPr>
          <a:xfrm flipH="1">
            <a:off x="662868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endCxn id="1040" idx="0"/>
          </p:cNvCxnSpPr>
          <p:nvPr/>
        </p:nvCxnSpPr>
        <p:spPr>
          <a:xfrm>
            <a:off x="6857640" y="3352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4911480" y="298944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8672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4080" y="5486400"/>
            <a:ext cx="1524240" cy="12193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315200" y="5486400"/>
            <a:ext cx="1523880" cy="12193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19000" y="6461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00800" y="6461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3818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83818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49" idx="4"/>
            <a:endCxn id="1050" idx="0"/>
          </p:cNvCxnSpPr>
          <p:nvPr/>
        </p:nvCxnSpPr>
        <p:spPr>
          <a:xfrm>
            <a:off x="84196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 flipH="1">
            <a:off x="83818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3" name=""/>
          <p:cNvCxnSpPr>
            <a:endCxn id="1052" idx="0"/>
          </p:cNvCxnSpPr>
          <p:nvPr/>
        </p:nvCxnSpPr>
        <p:spPr>
          <a:xfrm>
            <a:off x="84196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4" name=""/>
          <p:cNvSpPr/>
          <p:nvPr/>
        </p:nvSpPr>
        <p:spPr>
          <a:xfrm flipH="1">
            <a:off x="8381880" y="640080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5" name=""/>
          <p:cNvCxnSpPr>
            <a:endCxn id="1054" idx="0"/>
          </p:cNvCxnSpPr>
          <p:nvPr/>
        </p:nvCxnSpPr>
        <p:spPr>
          <a:xfrm>
            <a:off x="84196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81532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1532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6" idx="4"/>
            <a:endCxn id="1057" idx="0"/>
          </p:cNvCxnSpPr>
          <p:nvPr/>
        </p:nvCxnSpPr>
        <p:spPr>
          <a:xfrm>
            <a:off x="81910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 flipH="1">
            <a:off x="81532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endCxn id="1059" idx="0"/>
          </p:cNvCxnSpPr>
          <p:nvPr/>
        </p:nvCxnSpPr>
        <p:spPr>
          <a:xfrm>
            <a:off x="81910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1" name=""/>
          <p:cNvSpPr/>
          <p:nvPr/>
        </p:nvSpPr>
        <p:spPr>
          <a:xfrm flipH="1">
            <a:off x="81532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>
            <a:endCxn id="1061" idx="0"/>
          </p:cNvCxnSpPr>
          <p:nvPr/>
        </p:nvCxnSpPr>
        <p:spPr>
          <a:xfrm>
            <a:off x="81910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7696080" y="57913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696080" y="60199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5" name=""/>
          <p:cNvCxnSpPr>
            <a:stCxn id="1063" idx="4"/>
            <a:endCxn id="1064" idx="0"/>
          </p:cNvCxnSpPr>
          <p:nvPr/>
        </p:nvCxnSpPr>
        <p:spPr>
          <a:xfrm>
            <a:off x="7733880" y="5867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6" name=""/>
          <p:cNvSpPr/>
          <p:nvPr/>
        </p:nvSpPr>
        <p:spPr>
          <a:xfrm flipH="1">
            <a:off x="7696080" y="6248520"/>
            <a:ext cx="7632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7" name=""/>
          <p:cNvCxnSpPr>
            <a:endCxn id="1066" idx="0"/>
          </p:cNvCxnSpPr>
          <p:nvPr/>
        </p:nvCxnSpPr>
        <p:spPr>
          <a:xfrm>
            <a:off x="773388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8" name=""/>
          <p:cNvSpPr/>
          <p:nvPr/>
        </p:nvSpPr>
        <p:spPr>
          <a:xfrm flipH="1">
            <a:off x="7696080" y="6477120"/>
            <a:ext cx="76320" cy="75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9" name=""/>
          <p:cNvCxnSpPr>
            <a:endCxn id="1068" idx="0"/>
          </p:cNvCxnSpPr>
          <p:nvPr/>
        </p:nvCxnSpPr>
        <p:spPr>
          <a:xfrm>
            <a:off x="7733880" y="6324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0" name=""/>
          <p:cNvSpPr/>
          <p:nvPr/>
        </p:nvSpPr>
        <p:spPr>
          <a:xfrm flipH="1">
            <a:off x="3657240" y="4952880"/>
            <a:ext cx="2971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24680" y="58672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7924680" y="60958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3" name=""/>
          <p:cNvCxnSpPr>
            <a:stCxn id="1071" idx="4"/>
            <a:endCxn id="1072" idx="0"/>
          </p:cNvCxnSpPr>
          <p:nvPr/>
        </p:nvCxnSpPr>
        <p:spPr>
          <a:xfrm>
            <a:off x="7962480" y="5943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4" name=""/>
          <p:cNvSpPr/>
          <p:nvPr/>
        </p:nvSpPr>
        <p:spPr>
          <a:xfrm flipH="1">
            <a:off x="7924680" y="632448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5" name=""/>
          <p:cNvCxnSpPr>
            <a:endCxn id="1074" idx="0"/>
          </p:cNvCxnSpPr>
          <p:nvPr/>
        </p:nvCxnSpPr>
        <p:spPr>
          <a:xfrm>
            <a:off x="7962480" y="6171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6" name=""/>
          <p:cNvSpPr/>
          <p:nvPr/>
        </p:nvSpPr>
        <p:spPr>
          <a:xfrm flipH="1">
            <a:off x="7924680" y="6553080"/>
            <a:ext cx="7632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endCxn id="1076" idx="0"/>
          </p:cNvCxnSpPr>
          <p:nvPr/>
        </p:nvCxnSpPr>
        <p:spPr>
          <a:xfrm>
            <a:off x="7962480" y="6400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 flipV="1">
            <a:off x="1600200" y="2514240"/>
            <a:ext cx="297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485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42670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1" name=""/>
          <p:cNvCxnSpPr>
            <a:endCxn id="1079" idx="0"/>
          </p:cNvCxnSpPr>
          <p:nvPr/>
        </p:nvCxnSpPr>
        <p:spPr>
          <a:xfrm flipH="1">
            <a:off x="640008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endCxn id="1080" idx="0"/>
          </p:cNvCxnSpPr>
          <p:nvPr/>
        </p:nvCxnSpPr>
        <p:spPr>
          <a:xfrm>
            <a:off x="662904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3" name=""/>
          <p:cNvSpPr/>
          <p:nvPr/>
        </p:nvSpPr>
        <p:spPr>
          <a:xfrm>
            <a:off x="746748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23888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96080" y="42670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endCxn id="1084" idx="0"/>
          </p:cNvCxnSpPr>
          <p:nvPr/>
        </p:nvCxnSpPr>
        <p:spPr>
          <a:xfrm flipH="1">
            <a:off x="739080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7" name=""/>
          <p:cNvCxnSpPr>
            <a:endCxn id="1085" idx="0"/>
          </p:cNvCxnSpPr>
          <p:nvPr/>
        </p:nvCxnSpPr>
        <p:spPr>
          <a:xfrm>
            <a:off x="7619760" y="4114440"/>
            <a:ext cx="2293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stCxn id="1040" idx="4"/>
            <a:endCxn id="1083" idx="0"/>
          </p:cNvCxnSpPr>
          <p:nvPr/>
        </p:nvCxnSpPr>
        <p:spPr>
          <a:xfrm>
            <a:off x="7086600" y="373356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9" name=""/>
          <p:cNvSpPr/>
          <p:nvPr/>
        </p:nvSpPr>
        <p:spPr>
          <a:xfrm>
            <a:off x="6019920" y="46483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477120" y="4648320"/>
            <a:ext cx="30456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89" idx="0"/>
          </p:cNvCxnSpPr>
          <p:nvPr/>
        </p:nvCxnSpPr>
        <p:spPr>
          <a:xfrm flipH="1">
            <a:off x="61714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endCxn id="1090" idx="0"/>
          </p:cNvCxnSpPr>
          <p:nvPr/>
        </p:nvCxnSpPr>
        <p:spPr>
          <a:xfrm>
            <a:off x="640044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3" name=""/>
          <p:cNvCxnSpPr>
            <a:stCxn id="1080" idx="4"/>
            <a:endCxn id="1090" idx="0"/>
          </p:cNvCxnSpPr>
          <p:nvPr/>
        </p:nvCxnSpPr>
        <p:spPr>
          <a:xfrm flipH="1">
            <a:off x="6628680" y="4495680"/>
            <a:ext cx="229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4" name=""/>
          <p:cNvSpPr/>
          <p:nvPr/>
        </p:nvSpPr>
        <p:spPr>
          <a:xfrm>
            <a:off x="3505320" y="57150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504600" y="59436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4" idx="4"/>
            <a:endCxn id="1095" idx="0"/>
          </p:cNvCxnSpPr>
          <p:nvPr/>
        </p:nvCxnSpPr>
        <p:spPr>
          <a:xfrm>
            <a:off x="354312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7" name=""/>
          <p:cNvSpPr/>
          <p:nvPr/>
        </p:nvSpPr>
        <p:spPr>
          <a:xfrm flipH="1">
            <a:off x="3504600" y="6172200"/>
            <a:ext cx="7596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endCxn id="1097" idx="0"/>
          </p:cNvCxnSpPr>
          <p:nvPr/>
        </p:nvCxnSpPr>
        <p:spPr>
          <a:xfrm>
            <a:off x="354312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9" name=""/>
          <p:cNvSpPr/>
          <p:nvPr/>
        </p:nvSpPr>
        <p:spPr>
          <a:xfrm flipH="1">
            <a:off x="3504600" y="6400800"/>
            <a:ext cx="7596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0" name=""/>
          <p:cNvCxnSpPr>
            <a:endCxn id="1099" idx="0"/>
          </p:cNvCxnSpPr>
          <p:nvPr/>
        </p:nvCxnSpPr>
        <p:spPr>
          <a:xfrm>
            <a:off x="354312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1" name=""/>
          <p:cNvSpPr/>
          <p:nvPr/>
        </p:nvSpPr>
        <p:spPr>
          <a:xfrm>
            <a:off x="4038480" y="57150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038480" y="59436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1" idx="4"/>
            <a:endCxn id="1102" idx="0"/>
          </p:cNvCxnSpPr>
          <p:nvPr/>
        </p:nvCxnSpPr>
        <p:spPr>
          <a:xfrm>
            <a:off x="4076280" y="5790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 flipH="1">
            <a:off x="4038480" y="6172200"/>
            <a:ext cx="7632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5" name=""/>
          <p:cNvCxnSpPr>
            <a:endCxn id="1104" idx="0"/>
          </p:cNvCxnSpPr>
          <p:nvPr/>
        </p:nvCxnSpPr>
        <p:spPr>
          <a:xfrm>
            <a:off x="4076280" y="6019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6" name=""/>
          <p:cNvSpPr/>
          <p:nvPr/>
        </p:nvSpPr>
        <p:spPr>
          <a:xfrm flipH="1">
            <a:off x="4038480" y="6400800"/>
            <a:ext cx="76320" cy="76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>
            <a:off x="4076280" y="6248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8" name=""/>
          <p:cNvSpPr/>
          <p:nvPr/>
        </p:nvSpPr>
        <p:spPr>
          <a:xfrm flipV="1">
            <a:off x="5943600" y="3352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23888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0" name=""/>
          <p:cNvCxnSpPr>
            <a:endCxn id="1109" idx="0"/>
          </p:cNvCxnSpPr>
          <p:nvPr/>
        </p:nvCxnSpPr>
        <p:spPr>
          <a:xfrm>
            <a:off x="739116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1" name=""/>
          <p:cNvSpPr/>
          <p:nvPr/>
        </p:nvSpPr>
        <p:spPr>
          <a:xfrm flipH="1">
            <a:off x="4191120" y="457200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fter the Search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6386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386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386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6386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8" name=""/>
          <p:cNvCxnSpPr>
            <a:stCxn id="1114" idx="4"/>
            <a:endCxn id="1115" idx="0"/>
          </p:cNvCxnSpPr>
          <p:nvPr/>
        </p:nvCxnSpPr>
        <p:spPr>
          <a:xfrm>
            <a:off x="57909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9" name=""/>
          <p:cNvCxnSpPr>
            <a:stCxn id="1115" idx="4"/>
            <a:endCxn id="1116" idx="0"/>
          </p:cNvCxnSpPr>
          <p:nvPr/>
        </p:nvCxnSpPr>
        <p:spPr>
          <a:xfrm>
            <a:off x="57909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0" name=""/>
          <p:cNvCxnSpPr>
            <a:stCxn id="1116" idx="4"/>
            <a:endCxn id="1117" idx="0"/>
          </p:cNvCxnSpPr>
          <p:nvPr/>
        </p:nvCxnSpPr>
        <p:spPr>
          <a:xfrm>
            <a:off x="57909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7" idx="4"/>
          </p:cNvCxnSpPr>
          <p:nvPr/>
        </p:nvCxnSpPr>
        <p:spPr>
          <a:xfrm>
            <a:off x="57909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56386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6386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4" name=""/>
          <p:cNvCxnSpPr>
            <a:stCxn id="1122" idx="4"/>
            <a:endCxn id="1123" idx="0"/>
          </p:cNvCxnSpPr>
          <p:nvPr/>
        </p:nvCxnSpPr>
        <p:spPr>
          <a:xfrm>
            <a:off x="57909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638680" y="1752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638680" y="213372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638680" y="2514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289548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25" idx="4"/>
            <a:endCxn id="1126" idx="0"/>
          </p:cNvCxnSpPr>
          <p:nvPr/>
        </p:nvCxnSpPr>
        <p:spPr>
          <a:xfrm>
            <a:off x="57909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0" name=""/>
          <p:cNvCxnSpPr>
            <a:stCxn id="1126" idx="4"/>
            <a:endCxn id="1127" idx="0"/>
          </p:cNvCxnSpPr>
          <p:nvPr/>
        </p:nvCxnSpPr>
        <p:spPr>
          <a:xfrm>
            <a:off x="57909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1" name=""/>
          <p:cNvCxnSpPr>
            <a:stCxn id="1127" idx="4"/>
            <a:endCxn id="1128" idx="0"/>
          </p:cNvCxnSpPr>
          <p:nvPr/>
        </p:nvCxnSpPr>
        <p:spPr>
          <a:xfrm>
            <a:off x="57909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2" name=""/>
          <p:cNvCxnSpPr>
            <a:stCxn id="1128" idx="4"/>
          </p:cNvCxnSpPr>
          <p:nvPr/>
        </p:nvCxnSpPr>
        <p:spPr>
          <a:xfrm>
            <a:off x="57909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56386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stCxn id="1133" idx="4"/>
          </p:cNvCxnSpPr>
          <p:nvPr/>
        </p:nvCxnSpPr>
        <p:spPr>
          <a:xfrm>
            <a:off x="57909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5790240" y="57150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943960" y="312408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467480" y="18288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467480" y="2209680"/>
            <a:ext cx="3049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259092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467480" y="297180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7" idx="4"/>
            <a:endCxn id="1138" idx="0"/>
          </p:cNvCxnSpPr>
          <p:nvPr/>
        </p:nvCxnSpPr>
        <p:spPr>
          <a:xfrm>
            <a:off x="7619760" y="2057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4"/>
            <a:endCxn id="1139" idx="0"/>
          </p:cNvCxnSpPr>
          <p:nvPr/>
        </p:nvCxnSpPr>
        <p:spPr>
          <a:xfrm>
            <a:off x="7619760" y="24382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4"/>
            <a:endCxn id="1140" idx="0"/>
          </p:cNvCxnSpPr>
          <p:nvPr/>
        </p:nvCxnSpPr>
        <p:spPr>
          <a:xfrm>
            <a:off x="7619760" y="28191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83808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s that are prefixes of some negative are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negatives are a true subset of complete negatives, positives are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roxi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sed on observ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useful:  in some reactive syste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ce can be extended into an error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05720" y="1752480"/>
            <a:ext cx="1752480" cy="13716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6933960" y="1676520"/>
            <a:ext cx="1600200" cy="144756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of the Tra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hat do we do with the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on code that app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n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ll positives/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and 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s/negativ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us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 positives into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difference in invariants across positives and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828800" y="2438280"/>
            <a:ext cx="5715000" cy="1373760"/>
            <a:chOff x="1828800" y="2438280"/>
            <a:chExt cx="5715000" cy="1373760"/>
          </a:xfrm>
        </p:grpSpPr>
        <p:sp>
          <p:nvSpPr>
            <p:cNvPr id="1150" name=""/>
            <p:cNvSpPr/>
            <p:nvPr/>
          </p:nvSpPr>
          <p:spPr>
            <a:xfrm>
              <a:off x="182880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19920" y="2438280"/>
              <a:ext cx="1523880" cy="12193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3720" y="34131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s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05520" y="34131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ga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866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0866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6" name=""/>
            <p:cNvCxnSpPr>
              <a:stCxn id="1154" idx="4"/>
              <a:endCxn id="1155" idx="0"/>
            </p:cNvCxnSpPr>
            <p:nvPr/>
          </p:nvCxnSpPr>
          <p:spPr>
            <a:xfrm>
              <a:off x="71244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7" name=""/>
            <p:cNvSpPr/>
            <p:nvPr/>
          </p:nvSpPr>
          <p:spPr>
            <a:xfrm flipH="1">
              <a:off x="70866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8" name=""/>
            <p:cNvCxnSpPr>
              <a:endCxn id="1157" idx="0"/>
            </p:cNvCxnSpPr>
            <p:nvPr/>
          </p:nvCxnSpPr>
          <p:spPr>
            <a:xfrm>
              <a:off x="71244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9" name=""/>
            <p:cNvSpPr/>
            <p:nvPr/>
          </p:nvSpPr>
          <p:spPr>
            <a:xfrm flipH="1">
              <a:off x="7086600" y="335268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0" name=""/>
            <p:cNvCxnSpPr>
              <a:endCxn id="1159" idx="0"/>
            </p:cNvCxnSpPr>
            <p:nvPr/>
          </p:nvCxnSpPr>
          <p:spPr>
            <a:xfrm>
              <a:off x="71244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1" name=""/>
            <p:cNvSpPr/>
            <p:nvPr/>
          </p:nvSpPr>
          <p:spPr>
            <a:xfrm>
              <a:off x="68580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580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3" name=""/>
            <p:cNvCxnSpPr>
              <a:stCxn id="1161" idx="4"/>
              <a:endCxn id="1162" idx="0"/>
            </p:cNvCxnSpPr>
            <p:nvPr/>
          </p:nvCxnSpPr>
          <p:spPr>
            <a:xfrm>
              <a:off x="68958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4" name=""/>
            <p:cNvSpPr/>
            <p:nvPr/>
          </p:nvSpPr>
          <p:spPr>
            <a:xfrm flipH="1">
              <a:off x="68580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5" name=""/>
            <p:cNvCxnSpPr>
              <a:endCxn id="1164" idx="0"/>
            </p:cNvCxnSpPr>
            <p:nvPr/>
          </p:nvCxnSpPr>
          <p:spPr>
            <a:xfrm>
              <a:off x="68958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6" name=""/>
            <p:cNvSpPr/>
            <p:nvPr/>
          </p:nvSpPr>
          <p:spPr>
            <a:xfrm flipH="1">
              <a:off x="68580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7" name=""/>
            <p:cNvCxnSpPr>
              <a:endCxn id="1166" idx="0"/>
            </p:cNvCxnSpPr>
            <p:nvPr/>
          </p:nvCxnSpPr>
          <p:spPr>
            <a:xfrm>
              <a:off x="68958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8" name=""/>
            <p:cNvSpPr/>
            <p:nvPr/>
          </p:nvSpPr>
          <p:spPr>
            <a:xfrm>
              <a:off x="6400800" y="27432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400800" y="2971800"/>
              <a:ext cx="7632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0" name=""/>
            <p:cNvCxnSpPr>
              <a:stCxn id="1168" idx="4"/>
              <a:endCxn id="1169" idx="0"/>
            </p:cNvCxnSpPr>
            <p:nvPr/>
          </p:nvCxnSpPr>
          <p:spPr>
            <a:xfrm>
              <a:off x="6438600" y="28191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1" name=""/>
            <p:cNvSpPr/>
            <p:nvPr/>
          </p:nvSpPr>
          <p:spPr>
            <a:xfrm flipH="1">
              <a:off x="6400800" y="3200400"/>
              <a:ext cx="76320" cy="75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2" name=""/>
            <p:cNvCxnSpPr>
              <a:endCxn id="1171" idx="0"/>
            </p:cNvCxnSpPr>
            <p:nvPr/>
          </p:nvCxnSpPr>
          <p:spPr>
            <a:xfrm>
              <a:off x="6438600" y="30477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3" name=""/>
            <p:cNvSpPr/>
            <p:nvPr/>
          </p:nvSpPr>
          <p:spPr>
            <a:xfrm flipH="1">
              <a:off x="6400800" y="342900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4" name=""/>
            <p:cNvCxnSpPr>
              <a:endCxn id="1173" idx="0"/>
            </p:cNvCxnSpPr>
            <p:nvPr/>
          </p:nvCxnSpPr>
          <p:spPr>
            <a:xfrm>
              <a:off x="6438600" y="3276360"/>
              <a:ext cx="108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5" name=""/>
            <p:cNvSpPr/>
            <p:nvPr/>
          </p:nvSpPr>
          <p:spPr>
            <a:xfrm>
              <a:off x="6629400" y="28191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629400" y="304776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7" name=""/>
            <p:cNvCxnSpPr>
              <a:stCxn id="1175" idx="4"/>
              <a:endCxn id="1176" idx="0"/>
            </p:cNvCxnSpPr>
            <p:nvPr/>
          </p:nvCxnSpPr>
          <p:spPr>
            <a:xfrm>
              <a:off x="6667200" y="28951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 flipH="1">
              <a:off x="6629400" y="32763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9" name=""/>
            <p:cNvCxnSpPr>
              <a:endCxn id="1178" idx="0"/>
            </p:cNvCxnSpPr>
            <p:nvPr/>
          </p:nvCxnSpPr>
          <p:spPr>
            <a:xfrm>
              <a:off x="6667200" y="31237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0" name=""/>
            <p:cNvSpPr/>
            <p:nvPr/>
          </p:nvSpPr>
          <p:spPr>
            <a:xfrm flipH="1">
              <a:off x="6629400" y="350496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1" name=""/>
            <p:cNvCxnSpPr>
              <a:endCxn id="1180" idx="0"/>
            </p:cNvCxnSpPr>
            <p:nvPr/>
          </p:nvCxnSpPr>
          <p:spPr>
            <a:xfrm>
              <a:off x="6667200" y="335232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2" name=""/>
            <p:cNvSpPr/>
            <p:nvPr/>
          </p:nvSpPr>
          <p:spPr>
            <a:xfrm>
              <a:off x="220968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20968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4" name=""/>
            <p:cNvCxnSpPr>
              <a:stCxn id="1182" idx="4"/>
              <a:endCxn id="1183" idx="0"/>
            </p:cNvCxnSpPr>
            <p:nvPr/>
          </p:nvCxnSpPr>
          <p:spPr>
            <a:xfrm>
              <a:off x="224748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5" name=""/>
            <p:cNvSpPr/>
            <p:nvPr/>
          </p:nvSpPr>
          <p:spPr>
            <a:xfrm flipH="1">
              <a:off x="220968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6" name=""/>
            <p:cNvCxnSpPr>
              <a:endCxn id="1185" idx="0"/>
            </p:cNvCxnSpPr>
            <p:nvPr/>
          </p:nvCxnSpPr>
          <p:spPr>
            <a:xfrm>
              <a:off x="224748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7" name=""/>
            <p:cNvSpPr/>
            <p:nvPr/>
          </p:nvSpPr>
          <p:spPr>
            <a:xfrm flipH="1">
              <a:off x="220968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8" name=""/>
            <p:cNvCxnSpPr>
              <a:endCxn id="1187" idx="0"/>
            </p:cNvCxnSpPr>
            <p:nvPr/>
          </p:nvCxnSpPr>
          <p:spPr>
            <a:xfrm>
              <a:off x="224748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9" name=""/>
            <p:cNvSpPr/>
            <p:nvPr/>
          </p:nvSpPr>
          <p:spPr>
            <a:xfrm>
              <a:off x="2743200" y="26668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2743200" y="2895480"/>
              <a:ext cx="76320" cy="763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1" name=""/>
            <p:cNvCxnSpPr>
              <a:stCxn id="1189" idx="4"/>
              <a:endCxn id="1190" idx="0"/>
            </p:cNvCxnSpPr>
            <p:nvPr/>
          </p:nvCxnSpPr>
          <p:spPr>
            <a:xfrm>
              <a:off x="2781000" y="27428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2" name=""/>
            <p:cNvSpPr/>
            <p:nvPr/>
          </p:nvSpPr>
          <p:spPr>
            <a:xfrm flipH="1">
              <a:off x="2743200" y="312408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3" name=""/>
            <p:cNvCxnSpPr>
              <a:endCxn id="1192" idx="0"/>
            </p:cNvCxnSpPr>
            <p:nvPr/>
          </p:nvCxnSpPr>
          <p:spPr>
            <a:xfrm>
              <a:off x="2781000" y="29714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4" name=""/>
            <p:cNvSpPr/>
            <p:nvPr/>
          </p:nvSpPr>
          <p:spPr>
            <a:xfrm flipH="1">
              <a:off x="2743200" y="3352680"/>
              <a:ext cx="76320" cy="763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5" name=""/>
            <p:cNvCxnSpPr>
              <a:endCxn id="1194" idx="0"/>
            </p:cNvCxnSpPr>
            <p:nvPr/>
          </p:nvCxnSpPr>
          <p:spPr>
            <a:xfrm>
              <a:off x="2781000" y="3200040"/>
              <a:ext cx="108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nalysis by Code Lin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581280" y="198108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ur example trace, the line(s) in the real cause will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 trace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ppear in negative 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will be identified as genuine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which thread executed the code and any nondeterministic choice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ustom define equivalences to allow for looser definition of “the same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2" name=""/>
          <p:cNvCxnSpPr>
            <a:stCxn id="1198" idx="4"/>
            <a:endCxn id="1199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3" name=""/>
          <p:cNvCxnSpPr>
            <a:stCxn id="1199" idx="4"/>
            <a:endCxn id="1200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4" name=""/>
          <p:cNvCxnSpPr>
            <a:stCxn id="1200" idx="4"/>
            <a:endCxn id="1201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"/>
          <p:cNvCxnSpPr>
            <a:stCxn id="1201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6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6" idx="4"/>
            <a:endCxn id="1207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9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3" name=""/>
          <p:cNvCxnSpPr>
            <a:stCxn id="1209" idx="4"/>
            <a:endCxn id="1210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10" idx="4"/>
            <a:endCxn id="1211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11" idx="4"/>
            <a:endCxn id="1212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12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7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8" name=""/>
          <p:cNvCxnSpPr>
            <a:stCxn id="1217" idx="4"/>
          </p:cNvCxnSpPr>
          <p:nvPr/>
        </p:nvCxnSpPr>
        <p:spPr>
          <a:xfrm>
            <a:off x="2590560" y="351936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37880" y="31957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066680" y="3200400"/>
            <a:ext cx="1828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7720" y="36576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odel checker finds a bug, it report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unter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even an exact trace of the program failing is not what w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nt for most bu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mmon Ground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38280" y="365760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8280" y="4038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438280" y="441972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3828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9" name=""/>
          <p:cNvCxnSpPr>
            <a:stCxn id="1225" idx="4"/>
            <a:endCxn id="1226" idx="0"/>
          </p:cNvCxnSpPr>
          <p:nvPr/>
        </p:nvCxnSpPr>
        <p:spPr>
          <a:xfrm>
            <a:off x="2590560" y="3885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"/>
          <p:cNvCxnSpPr>
            <a:stCxn id="1226" idx="4"/>
            <a:endCxn id="1227" idx="0"/>
          </p:cNvCxnSpPr>
          <p:nvPr/>
        </p:nvCxnSpPr>
        <p:spPr>
          <a:xfrm>
            <a:off x="2590560" y="4267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"/>
          <p:cNvCxnSpPr>
            <a:stCxn id="1227" idx="4"/>
            <a:endCxn id="1228" idx="0"/>
          </p:cNvCxnSpPr>
          <p:nvPr/>
        </p:nvCxnSpPr>
        <p:spPr>
          <a:xfrm>
            <a:off x="2590560" y="4647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8" idx="4"/>
          </p:cNvCxnSpPr>
          <p:nvPr/>
        </p:nvCxnSpPr>
        <p:spPr>
          <a:xfrm>
            <a:off x="259056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3" name=""/>
          <p:cNvSpPr/>
          <p:nvPr/>
        </p:nvSpPr>
        <p:spPr>
          <a:xfrm>
            <a:off x="243828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438280" y="556272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5" name=""/>
          <p:cNvCxnSpPr>
            <a:stCxn id="1233" idx="4"/>
            <a:endCxn id="1234" idx="0"/>
          </p:cNvCxnSpPr>
          <p:nvPr/>
        </p:nvCxnSpPr>
        <p:spPr>
          <a:xfrm>
            <a:off x="259056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6" name=""/>
          <p:cNvSpPr/>
          <p:nvPr/>
        </p:nvSpPr>
        <p:spPr>
          <a:xfrm>
            <a:off x="243828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3828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43828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438280" y="2895480"/>
            <a:ext cx="304920" cy="228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stCxn id="1236" idx="4"/>
            <a:endCxn id="1237" idx="0"/>
          </p:cNvCxnSpPr>
          <p:nvPr/>
        </p:nvCxnSpPr>
        <p:spPr>
          <a:xfrm>
            <a:off x="259056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37" idx="4"/>
            <a:endCxn id="1238" idx="0"/>
          </p:cNvCxnSpPr>
          <p:nvPr/>
        </p:nvCxnSpPr>
        <p:spPr>
          <a:xfrm>
            <a:off x="259056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38" idx="4"/>
            <a:endCxn id="1239" idx="0"/>
          </p:cNvCxnSpPr>
          <p:nvPr/>
        </p:nvCxnSpPr>
        <p:spPr>
          <a:xfrm>
            <a:off x="2590560" y="2742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3" name=""/>
          <p:cNvCxnSpPr>
            <a:stCxn id="1239" idx="4"/>
          </p:cNvCxnSpPr>
          <p:nvPr/>
        </p:nvCxnSpPr>
        <p:spPr>
          <a:xfrm>
            <a:off x="2590560" y="3124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4" name=""/>
          <p:cNvSpPr/>
          <p:nvPr/>
        </p:nvSpPr>
        <p:spPr>
          <a:xfrm>
            <a:off x="2438280" y="327672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"/>
          <p:cNvCxnSpPr>
            <a:stCxn id="1244" idx="4"/>
          </p:cNvCxnSpPr>
          <p:nvPr/>
        </p:nvCxnSpPr>
        <p:spPr>
          <a:xfrm>
            <a:off x="2590560" y="3504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6" name=""/>
          <p:cNvSpPr/>
          <p:nvPr/>
        </p:nvSpPr>
        <p:spPr>
          <a:xfrm>
            <a:off x="989640" y="563868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67400" y="32004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029200" y="480060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9" name=""/>
          <p:cNvCxnSpPr>
            <a:stCxn id="1248" idx="4"/>
          </p:cNvCxnSpPr>
          <p:nvPr/>
        </p:nvCxnSpPr>
        <p:spPr>
          <a:xfrm>
            <a:off x="5181120" y="5028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0" name=""/>
          <p:cNvSpPr/>
          <p:nvPr/>
        </p:nvSpPr>
        <p:spPr>
          <a:xfrm>
            <a:off x="5029200" y="5181480"/>
            <a:ext cx="30492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562720"/>
            <a:ext cx="304920" cy="2286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stCxn id="1250" idx="4"/>
            <a:endCxn id="1251" idx="0"/>
          </p:cNvCxnSpPr>
          <p:nvPr/>
        </p:nvCxnSpPr>
        <p:spPr>
          <a:xfrm>
            <a:off x="5181120" y="5410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3" name=""/>
          <p:cNvSpPr/>
          <p:nvPr/>
        </p:nvSpPr>
        <p:spPr>
          <a:xfrm>
            <a:off x="5029200" y="17524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213372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29200" y="251460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4"/>
            <a:endCxn id="1254" idx="0"/>
          </p:cNvCxnSpPr>
          <p:nvPr/>
        </p:nvCxnSpPr>
        <p:spPr>
          <a:xfrm>
            <a:off x="5181120" y="1981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4"/>
            <a:endCxn id="1255" idx="0"/>
          </p:cNvCxnSpPr>
          <p:nvPr/>
        </p:nvCxnSpPr>
        <p:spPr>
          <a:xfrm>
            <a:off x="5181120" y="23619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8" name=""/>
          <p:cNvCxnSpPr>
            <a:stCxn id="1255" idx="4"/>
          </p:cNvCxnSpPr>
          <p:nvPr/>
        </p:nvCxnSpPr>
        <p:spPr>
          <a:xfrm>
            <a:off x="5181120" y="2742840"/>
            <a:ext cx="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5029200" y="342900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3809880"/>
            <a:ext cx="30492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1" name=""/>
          <p:cNvCxnSpPr>
            <a:stCxn id="1259" idx="4"/>
            <a:endCxn id="1260" idx="0"/>
          </p:cNvCxnSpPr>
          <p:nvPr/>
        </p:nvCxnSpPr>
        <p:spPr>
          <a:xfrm>
            <a:off x="5181120" y="36572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endCxn id="1248" idx="0"/>
          </p:cNvCxnSpPr>
          <p:nvPr/>
        </p:nvCxnSpPr>
        <p:spPr>
          <a:xfrm>
            <a:off x="518112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3" name=""/>
          <p:cNvSpPr/>
          <p:nvPr/>
        </p:nvSpPr>
        <p:spPr>
          <a:xfrm>
            <a:off x="5323320" y="5715000"/>
            <a:ext cx="36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n set a minimum 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suffix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21200" y="198108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pre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91520" y="5181480"/>
            <a:ext cx="21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suf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rol flow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44880" y="320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819520" y="2819520"/>
            <a:ext cx="380880" cy="190476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8320" y="32767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342864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82440" y="342900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make it brea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formation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so that minimal way to break (transformation from each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earest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run code line analysis over transformation code only (very useful in some c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dentify type of err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y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be transformed into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ly altering thread schedul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error is essentially concurrency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Invariant Differenc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certain control locations at which to observe data values in our t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 dynamic invariant detection algorithm to compute invariants across these locations for all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neg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 all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pos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e discovered in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24382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stack with an inter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initializes the stack to a rand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size then random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es and pops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5800" y="5562720"/>
            <a:ext cx="395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RIGINAL COUNTER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ack overflow for stack siz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array out of bounds on st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35800" y="4952880"/>
            <a:ext cx="296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analysis with a sear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h of 50 and compu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ri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91120" y="1905120"/>
            <a:ext cx="4419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 lin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in the push method appears in all neg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1905120"/>
            <a:ext cx="44193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aria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positives, on entry to the push method, this invariant hol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009900"/>
                </a:solidFill>
                <a:latin typeface="Lucida Console"/>
              </a:rPr>
              <a:t>&gt;</a:t>
            </a:r>
            <a:r>
              <a:rPr b="0" lang="en-US" sz="2000" spc="-1" strike="noStrike">
                <a:solidFill>
                  <a:srgbClr val="0099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egatives, however the invarian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stack.length </a:t>
            </a:r>
            <a:r>
              <a:rPr b="1" lang="en-US" sz="2800" spc="-1" strike="noStrike">
                <a:solidFill>
                  <a:srgbClr val="cc0000"/>
                </a:solidFill>
                <a:latin typeface="Lucida Console"/>
              </a:rPr>
              <a:t>&gt;=</a:t>
            </a:r>
            <a:r>
              <a:rPr b="0" lang="en-US" sz="2000" spc="-1" strike="noStrike">
                <a:solidFill>
                  <a:srgbClr val="cc0000"/>
                </a:solidFill>
                <a:latin typeface="Lucida Console"/>
              </a:rPr>
              <a:t>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Stack Exampl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676520" y="9907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38480" y="1905120"/>
            <a:ext cx="49532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ormations from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tack size from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a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a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34800" y="1811160"/>
            <a:ext cx="3746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Stack (int s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 = new int[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void push (int 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stack[top++] 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public int pop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top--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 stack[t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can we get more information from a counterexam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if we had some successful runs to compare to, or other failing runs in which to look for common element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way of debugging by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we can automate it using the model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reads to be created and de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ime budgets for various thre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riginal counter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ssertion about the time budget of a thread f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analysis with size limit of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DEOS Error Analysi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read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for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el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ready in the 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wait until next 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rupt and system clock ticks and afterwards a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62120" y="5105520"/>
            <a:ext cx="7848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OS error requires deletion (which appears in the set of code found in all negatives) but also relies upon specific timing, as indicated by the transfor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e and Free Will in Error Traces” (TACAS 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M group independently investigated very similar concepts this summer (submitted to PO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quite similar in spirit, lacks invariants and transformation approaches, but has some niceties with respect to source cod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Zeller:  work on isolating error-causing thread schedules and cause-effect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algorithms for generation of the traces (try bounded model che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approaches to analy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ation of erro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of causalit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9" idx="4"/>
            <a:endCxn id="190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0" idx="4"/>
            <a:endCxn id="191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4"/>
            <a:endCxn id="192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7" idx="4"/>
            <a:endCxn id="198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0" idx="4"/>
            <a:endCxn id="201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1" idx="4"/>
            <a:endCxn id="202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2" idx="4"/>
            <a:endCxn id="203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3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8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1405440" y="556272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3" idx="4"/>
            <a:endCxn id="214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4" idx="4"/>
            <a:endCxn id="215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5" idx="4"/>
            <a:endCxn id="216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6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4"/>
            <a:endCxn id="222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4"/>
            <a:endCxn id="225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5" idx="4"/>
            <a:endCxn id="226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7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ounterexampl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886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4267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4648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8" idx="4"/>
            <a:endCxn id="239" idx="0"/>
          </p:cNvCxnSpPr>
          <p:nvPr/>
        </p:nvCxnSpPr>
        <p:spPr>
          <a:xfrm>
            <a:off x="1294920" y="3733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9" idx="4"/>
            <a:endCxn id="240" idx="0"/>
          </p:cNvCxnSpPr>
          <p:nvPr/>
        </p:nvCxnSpPr>
        <p:spPr>
          <a:xfrm>
            <a:off x="1294920" y="4114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0" idx="4"/>
            <a:endCxn id="241" idx="0"/>
          </p:cNvCxnSpPr>
          <p:nvPr/>
        </p:nvCxnSpPr>
        <p:spPr>
          <a:xfrm>
            <a:off x="1294920" y="4495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1" idx="4"/>
          </p:cNvCxnSpPr>
          <p:nvPr/>
        </p:nvCxnSpPr>
        <p:spPr>
          <a:xfrm>
            <a:off x="1294920" y="4876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143000" y="5029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541008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4"/>
            <a:endCxn id="247" idx="0"/>
          </p:cNvCxnSpPr>
          <p:nvPr/>
        </p:nvCxnSpPr>
        <p:spPr>
          <a:xfrm>
            <a:off x="12949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143000" y="1600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9810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3623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7432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9" idx="4"/>
            <a:endCxn id="250" idx="0"/>
          </p:cNvCxnSpPr>
          <p:nvPr/>
        </p:nvCxnSpPr>
        <p:spPr>
          <a:xfrm>
            <a:off x="1294920" y="1828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0" idx="4"/>
            <a:endCxn id="251" idx="0"/>
          </p:cNvCxnSpPr>
          <p:nvPr/>
        </p:nvCxnSpPr>
        <p:spPr>
          <a:xfrm>
            <a:off x="1294920" y="2209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1" idx="4"/>
            <a:endCxn id="252" idx="0"/>
          </p:cNvCxnSpPr>
          <p:nvPr/>
        </p:nvCxnSpPr>
        <p:spPr>
          <a:xfrm>
            <a:off x="1294920" y="25905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4"/>
          </p:cNvCxnSpPr>
          <p:nvPr/>
        </p:nvCxnSpPr>
        <p:spPr>
          <a:xfrm>
            <a:off x="1294920" y="2971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1143000" y="312408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4"/>
          </p:cNvCxnSpPr>
          <p:nvPr/>
        </p:nvCxnSpPr>
        <p:spPr>
          <a:xfrm>
            <a:off x="1294920" y="3352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294200" y="556272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8280" y="297180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21337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:  generate other traces that can give you more information about what is going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4" idx="4"/>
            <a:endCxn id="265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5" idx="4"/>
            <a:endCxn id="266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6" idx="4"/>
            <a:endCxn id="267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7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5" idx="4"/>
            <a:endCxn id="276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4"/>
            <a:endCxn id="277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7" idx="4"/>
            <a:endCxn id="278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8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3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Positives and Negativ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3581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9880" y="3962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9880" y="4343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472428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0" idx="4"/>
            <a:endCxn id="291" idx="0"/>
          </p:cNvCxnSpPr>
          <p:nvPr/>
        </p:nvCxnSpPr>
        <p:spPr>
          <a:xfrm>
            <a:off x="396216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1" idx="4"/>
            <a:endCxn id="292" idx="0"/>
          </p:cNvCxnSpPr>
          <p:nvPr/>
        </p:nvCxnSpPr>
        <p:spPr>
          <a:xfrm>
            <a:off x="396216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4"/>
            <a:endCxn id="293" idx="0"/>
          </p:cNvCxnSpPr>
          <p:nvPr/>
        </p:nvCxnSpPr>
        <p:spPr>
          <a:xfrm>
            <a:off x="396216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3" idx="4"/>
          </p:cNvCxnSpPr>
          <p:nvPr/>
        </p:nvCxnSpPr>
        <p:spPr>
          <a:xfrm>
            <a:off x="3962160" y="4952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09880" y="5105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5486400"/>
            <a:ext cx="30492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8" idx="4"/>
            <a:endCxn id="299" idx="0"/>
          </p:cNvCxnSpPr>
          <p:nvPr/>
        </p:nvCxnSpPr>
        <p:spPr>
          <a:xfrm>
            <a:off x="3962160" y="5333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809880" y="167652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057400"/>
            <a:ext cx="3049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2438280"/>
            <a:ext cx="3049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2819520"/>
            <a:ext cx="3049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1" idx="4"/>
            <a:endCxn id="302" idx="0"/>
          </p:cNvCxnSpPr>
          <p:nvPr/>
        </p:nvCxnSpPr>
        <p:spPr>
          <a:xfrm>
            <a:off x="3962160" y="1904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302" idx="4"/>
            <a:endCxn id="303" idx="0"/>
          </p:cNvCxnSpPr>
          <p:nvPr/>
        </p:nvCxnSpPr>
        <p:spPr>
          <a:xfrm>
            <a:off x="396216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3" idx="4"/>
            <a:endCxn id="304" idx="0"/>
          </p:cNvCxnSpPr>
          <p:nvPr/>
        </p:nvCxnSpPr>
        <p:spPr>
          <a:xfrm>
            <a:off x="3962160" y="2666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304" idx="4"/>
          </p:cNvCxnSpPr>
          <p:nvPr/>
        </p:nvCxnSpPr>
        <p:spPr>
          <a:xfrm>
            <a:off x="396216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809880" y="3200400"/>
            <a:ext cx="30492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9" idx="4"/>
          </p:cNvCxnSpPr>
          <p:nvPr/>
        </p:nvCxnSpPr>
        <p:spPr>
          <a:xfrm>
            <a:off x="396216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3427920" y="5943600"/>
            <a:ext cx="14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516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3581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34340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472428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4"/>
            <a:endCxn id="314" idx="0"/>
          </p:cNvCxnSpPr>
          <p:nvPr/>
        </p:nvCxnSpPr>
        <p:spPr>
          <a:xfrm>
            <a:off x="5943240" y="3809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4"/>
            <a:endCxn id="315" idx="0"/>
          </p:cNvCxnSpPr>
          <p:nvPr/>
        </p:nvCxnSpPr>
        <p:spPr>
          <a:xfrm>
            <a:off x="5943240" y="4190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/>
          <p:nvPr/>
        </p:nvCxnSpPr>
        <p:spPr>
          <a:xfrm>
            <a:off x="5952600" y="495432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/>
          <p:nvPr/>
        </p:nvCxnSpPr>
        <p:spPr>
          <a:xfrm>
            <a:off x="5952600" y="5335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791320" y="5105520"/>
            <a:ext cx="30456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5486400"/>
            <a:ext cx="30456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819520"/>
            <a:ext cx="30456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3" idx="4"/>
          </p:cNvCxnSpPr>
          <p:nvPr/>
        </p:nvCxnSpPr>
        <p:spPr>
          <a:xfrm>
            <a:off x="5943240" y="30477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791320" y="32004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4"/>
          </p:cNvCxnSpPr>
          <p:nvPr/>
        </p:nvCxnSpPr>
        <p:spPr>
          <a:xfrm>
            <a:off x="5943240" y="3428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5936400" y="2209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ocation, same err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6600" y="304812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al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03" idx="4"/>
            <a:endCxn id="323" idx="0"/>
          </p:cNvCxnSpPr>
          <p:nvPr/>
        </p:nvCxnSpPr>
        <p:spPr>
          <a:xfrm>
            <a:off x="3962160" y="2666880"/>
            <a:ext cx="19818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9552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5943240" y="4571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5332680" y="594360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080" y="5334120"/>
            <a:ext cx="178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ssert (x &lt; 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x = 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22:28:05Z</dcterms:created>
  <dc:creator>Alex David Groce</dc:creator>
  <dc:description/>
  <dc:language>en-US</dc:language>
  <cp:lastModifiedBy>Alex David Groce</cp:lastModifiedBy>
  <dcterms:modified xsi:type="dcterms:W3CDTF">2002-09-16T20:19:45Z</dcterms:modified>
  <cp:revision>121</cp:revision>
  <dc:subject/>
  <dc:title>Structural Heuristics for Directed Model Checking of Java Programs  </dc:title>
</cp:coreProperties>
</file>