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7FC-E9E1-4C83-BF06-B7967ACF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AD9-DAA3-4712-B14B-6B7F5A0C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592-A75B-4229-AB21-4E70AE7F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C7E-A7AF-4A47-9975-DC14A6FC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580-6F4A-41C7-8438-CECFCFF2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C69-2A81-44D4-ABCC-A59D1AB7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A96-A77A-4367-AA9A-BFD6CECC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E6D-91C0-4625-9F28-68D86FB6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F54-B772-48B6-A717-2CA2D7F8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B6F-8783-4A89-A520-FE958A12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8E7-C977-433E-A719-5E4AB5B3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A72-AA27-4C08-8C1B-CE7B38C9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5B96-ABB9-4310-85CC-A38404C8D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ing from Concrete to Symbolic Model Check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a Predicat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em Viss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ina Pasareanu and Radek Pelanek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Software Engineering Grou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A Ames Research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792520"/>
            <a:ext cx="249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=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le (x&gt;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x = x -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sert fal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81280"/>
            <a:ext cx="2666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2640" y="3048120"/>
            <a:ext cx="250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traction Mapp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(x&g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5720" y="1676520"/>
            <a:ext cx="87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p concrete states to abstract states for state s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00800" y="2743200"/>
            <a:ext cx="1173600" cy="2057400"/>
            <a:chOff x="6400800" y="2743200"/>
            <a:chExt cx="1173600" cy="2057400"/>
          </a:xfrm>
        </p:grpSpPr>
        <p:sp>
          <p:nvSpPr>
            <p:cNvPr id="120" name=""/>
            <p:cNvSpPr/>
            <p:nvPr/>
          </p:nvSpPr>
          <p:spPr>
            <a:xfrm>
              <a:off x="6400800" y="274320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358128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4419360"/>
              <a:ext cx="9144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"/>
            <p:cNvCxnSpPr>
              <a:stCxn id="120" idx="4"/>
              <a:endCxn id="121" idx="0"/>
            </p:cNvCxnSpPr>
            <p:nvPr/>
          </p:nvCxnSpPr>
          <p:spPr>
            <a:xfrm>
              <a:off x="6857640" y="312408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1" idx="4"/>
              <a:endCxn id="122" idx="0"/>
            </p:cNvCxnSpPr>
            <p:nvPr/>
          </p:nvCxnSpPr>
          <p:spPr>
            <a:xfrm>
              <a:off x="6857640" y="396216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2" idx="6"/>
              <a:endCxn id="121" idx="6"/>
            </p:cNvCxnSpPr>
            <p:nvPr/>
          </p:nvCxnSpPr>
          <p:spPr>
            <a:xfrm flipV="1">
              <a:off x="7315200" y="3771000"/>
              <a:ext cx="2160" cy="839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26" name=""/>
          <p:cNvSpPr/>
          <p:nvPr/>
        </p:nvSpPr>
        <p:spPr>
          <a:xfrm>
            <a:off x="1677240" y="6019920"/>
            <a:ext cx="57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Always traverse only feasibl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51520" y="5181480"/>
            <a:ext cx="61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nder-approximation of th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rete, May &amp; Mus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2280" y="1600200"/>
            <a:ext cx="2286000" cy="3200400"/>
            <a:chOff x="152280" y="1600200"/>
            <a:chExt cx="2286000" cy="3200400"/>
          </a:xfrm>
        </p:grpSpPr>
        <p:sp>
          <p:nvSpPr>
            <p:cNvPr id="130" name=""/>
            <p:cNvSpPr/>
            <p:nvPr/>
          </p:nvSpPr>
          <p:spPr>
            <a:xfrm>
              <a:off x="838080" y="16002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80" y="34290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3880" y="34290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3880" y="43434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280" y="43434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280" y="25146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25146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"/>
            <p:cNvCxnSpPr>
              <a:stCxn id="130" idx="4"/>
              <a:endCxn id="135" idx="0"/>
            </p:cNvCxnSpPr>
            <p:nvPr/>
          </p:nvCxnSpPr>
          <p:spPr>
            <a:xfrm flipH="1">
              <a:off x="608760" y="205740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0" idx="4"/>
              <a:endCxn id="136" idx="0"/>
            </p:cNvCxnSpPr>
            <p:nvPr/>
          </p:nvCxnSpPr>
          <p:spPr>
            <a:xfrm>
              <a:off x="1294920" y="205740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5" idx="4"/>
              <a:endCxn id="131" idx="0"/>
            </p:cNvCxnSpPr>
            <p:nvPr/>
          </p:nvCxnSpPr>
          <p:spPr>
            <a:xfrm>
              <a:off x="609120" y="297180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6" idx="4"/>
              <a:endCxn id="132" idx="0"/>
            </p:cNvCxnSpPr>
            <p:nvPr/>
          </p:nvCxnSpPr>
          <p:spPr>
            <a:xfrm>
              <a:off x="1980720" y="297180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31" idx="4"/>
              <a:endCxn id="134" idx="0"/>
            </p:cNvCxnSpPr>
            <p:nvPr/>
          </p:nvCxnSpPr>
          <p:spPr>
            <a:xfrm>
              <a:off x="609120" y="388620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2" idx="4"/>
              <a:endCxn id="133" idx="0"/>
            </p:cNvCxnSpPr>
            <p:nvPr/>
          </p:nvCxnSpPr>
          <p:spPr>
            <a:xfrm>
              <a:off x="1980720" y="388620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43" name=""/>
          <p:cNvSpPr/>
          <p:nvPr/>
        </p:nvSpPr>
        <p:spPr>
          <a:xfrm>
            <a:off x="383040" y="525780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r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55200" y="1600200"/>
            <a:ext cx="2693880" cy="4604760"/>
            <a:chOff x="3355200" y="1600200"/>
            <a:chExt cx="2693880" cy="4604760"/>
          </a:xfrm>
        </p:grpSpPr>
        <p:grpSp>
          <p:nvGrpSpPr>
            <p:cNvPr id="145" name=""/>
            <p:cNvGrpSpPr/>
            <p:nvPr/>
          </p:nvGrpSpPr>
          <p:grpSpPr>
            <a:xfrm>
              <a:off x="3429000" y="1600200"/>
              <a:ext cx="2286000" cy="3200400"/>
              <a:chOff x="3429000" y="1600200"/>
              <a:chExt cx="2286000" cy="3200400"/>
            </a:xfrm>
          </p:grpSpPr>
          <p:sp>
            <p:nvSpPr>
              <p:cNvPr id="146" name=""/>
              <p:cNvSpPr/>
              <p:nvPr/>
            </p:nvSpPr>
            <p:spPr>
              <a:xfrm>
                <a:off x="4114800" y="16002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14800" y="34290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00600" y="43434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429000" y="43434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,!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29000" y="25146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00600" y="25146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2" name=""/>
              <p:cNvCxnSpPr>
                <a:stCxn id="146" idx="4"/>
                <a:endCxn id="150" idx="0"/>
              </p:cNvCxnSpPr>
              <p:nvPr/>
            </p:nvCxnSpPr>
            <p:spPr>
              <a:xfrm flipH="1">
                <a:off x="3885480" y="20574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3" name=""/>
              <p:cNvCxnSpPr>
                <a:stCxn id="146" idx="4"/>
                <a:endCxn id="151" idx="0"/>
              </p:cNvCxnSpPr>
              <p:nvPr/>
            </p:nvCxnSpPr>
            <p:spPr>
              <a:xfrm>
                <a:off x="4571640" y="20574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4" name=""/>
              <p:cNvCxnSpPr>
                <a:stCxn id="151" idx="4"/>
                <a:endCxn id="147" idx="0"/>
              </p:cNvCxnSpPr>
              <p:nvPr/>
            </p:nvCxnSpPr>
            <p:spPr>
              <a:xfrm flipH="1">
                <a:off x="4571280" y="29718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47" idx="4"/>
                <a:endCxn id="148" idx="0"/>
              </p:cNvCxnSpPr>
              <p:nvPr/>
            </p:nvCxnSpPr>
            <p:spPr>
              <a:xfrm>
                <a:off x="4571640" y="38862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6" name=""/>
              <p:cNvCxnSpPr>
                <a:stCxn id="147" idx="4"/>
                <a:endCxn id="149" idx="0"/>
              </p:cNvCxnSpPr>
              <p:nvPr/>
            </p:nvCxnSpPr>
            <p:spPr>
              <a:xfrm flipH="1">
                <a:off x="3885480" y="38862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7" name=""/>
              <p:cNvCxnSpPr>
                <a:stCxn id="150" idx="4"/>
                <a:endCxn id="147" idx="0"/>
              </p:cNvCxnSpPr>
              <p:nvPr/>
            </p:nvCxnSpPr>
            <p:spPr>
              <a:xfrm>
                <a:off x="3885840" y="29718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158" name=""/>
            <p:cNvSpPr/>
            <p:nvPr/>
          </p:nvSpPr>
          <p:spPr>
            <a:xfrm>
              <a:off x="3355200" y="5257800"/>
              <a:ext cx="269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y Transitions</a:t>
              </a:r>
              <a:br>
                <a:rPr sz="2800"/>
              </a:b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p = (x &lt; 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250680" y="1600200"/>
            <a:ext cx="2792880" cy="4149720"/>
            <a:chOff x="6250680" y="1600200"/>
            <a:chExt cx="2792880" cy="4149720"/>
          </a:xfrm>
        </p:grpSpPr>
        <p:grpSp>
          <p:nvGrpSpPr>
            <p:cNvPr id="160" name=""/>
            <p:cNvGrpSpPr/>
            <p:nvPr/>
          </p:nvGrpSpPr>
          <p:grpSpPr>
            <a:xfrm>
              <a:off x="6324480" y="1600200"/>
              <a:ext cx="2286000" cy="2286000"/>
              <a:chOff x="6324480" y="1600200"/>
              <a:chExt cx="2286000" cy="228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7010280" y="16002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10280" y="34290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5146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696080" y="25146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" name=""/>
              <p:cNvCxnSpPr>
                <a:stCxn id="161" idx="4"/>
                <a:endCxn id="163" idx="0"/>
              </p:cNvCxnSpPr>
              <p:nvPr/>
            </p:nvCxnSpPr>
            <p:spPr>
              <a:xfrm flipH="1">
                <a:off x="6780960" y="20574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>
                <a:stCxn id="161" idx="4"/>
                <a:endCxn id="164" idx="0"/>
              </p:cNvCxnSpPr>
              <p:nvPr/>
            </p:nvCxnSpPr>
            <p:spPr>
              <a:xfrm>
                <a:off x="7467120" y="20574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67" name=""/>
              <p:cNvCxnSpPr>
                <a:stCxn id="164" idx="4"/>
                <a:endCxn id="162" idx="0"/>
              </p:cNvCxnSpPr>
              <p:nvPr/>
            </p:nvCxnSpPr>
            <p:spPr>
              <a:xfrm flipH="1">
                <a:off x="7466760" y="29718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>
                <a:stCxn id="163" idx="4"/>
                <a:endCxn id="162" idx="0"/>
              </p:cNvCxnSpPr>
              <p:nvPr/>
            </p:nvCxnSpPr>
            <p:spPr>
              <a:xfrm>
                <a:off x="6781320" y="29718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169" name=""/>
            <p:cNvSpPr/>
            <p:nvPr/>
          </p:nvSpPr>
          <p:spPr>
            <a:xfrm>
              <a:off x="6707160" y="53816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50680" y="4343400"/>
              <a:ext cx="279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ust Transitions</a:t>
              </a:r>
              <a:br>
                <a:rPr sz="2800"/>
              </a:b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p = (x &lt; 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46748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315200" y="2514600"/>
            <a:ext cx="1465200" cy="761760"/>
            <a:chOff x="7315200" y="2514600"/>
            <a:chExt cx="1465200" cy="761760"/>
          </a:xfrm>
        </p:grpSpPr>
        <p:sp>
          <p:nvSpPr>
            <p:cNvPr id="173" name=""/>
            <p:cNvSpPr/>
            <p:nvPr/>
          </p:nvSpPr>
          <p:spPr>
            <a:xfrm>
              <a:off x="7315200" y="2514600"/>
              <a:ext cx="137160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31040" y="26668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95880" y="44956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791320" y="4343400"/>
            <a:ext cx="1604880" cy="761760"/>
            <a:chOff x="5791320" y="4343400"/>
            <a:chExt cx="1604880" cy="761760"/>
          </a:xfrm>
        </p:grpSpPr>
        <p:sp>
          <p:nvSpPr>
            <p:cNvPr id="177" name=""/>
            <p:cNvSpPr/>
            <p:nvPr/>
          </p:nvSpPr>
          <p:spPr>
            <a:xfrm>
              <a:off x="5791320" y="4343400"/>
              <a:ext cx="152388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82760" y="449568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,!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09588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91320" y="2514600"/>
            <a:ext cx="1371600" cy="761760"/>
            <a:chOff x="5791320" y="2514600"/>
            <a:chExt cx="1371600" cy="761760"/>
          </a:xfrm>
        </p:grpSpPr>
        <p:sp>
          <p:nvSpPr>
            <p:cNvPr id="181" name=""/>
            <p:cNvSpPr/>
            <p:nvPr/>
          </p:nvSpPr>
          <p:spPr>
            <a:xfrm>
              <a:off x="5791320" y="2514600"/>
              <a:ext cx="137160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92760" y="26668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rete &amp;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" y="1752480"/>
            <a:ext cx="2286000" cy="3200400"/>
            <a:chOff x="228600" y="1752480"/>
            <a:chExt cx="2286000" cy="3200400"/>
          </a:xfrm>
        </p:grpSpPr>
        <p:sp>
          <p:nvSpPr>
            <p:cNvPr id="185" name=""/>
            <p:cNvSpPr/>
            <p:nvPr/>
          </p:nvSpPr>
          <p:spPr>
            <a:xfrm>
              <a:off x="914400" y="17524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600" y="35812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0200" y="35812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00200" y="44956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" y="44956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26668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200" y="26668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"/>
            <p:cNvCxnSpPr>
              <a:stCxn id="185" idx="4"/>
              <a:endCxn id="190" idx="0"/>
            </p:cNvCxnSpPr>
            <p:nvPr/>
          </p:nvCxnSpPr>
          <p:spPr>
            <a:xfrm flipH="1">
              <a:off x="685080" y="220968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5" idx="4"/>
              <a:endCxn id="191" idx="0"/>
            </p:cNvCxnSpPr>
            <p:nvPr/>
          </p:nvCxnSpPr>
          <p:spPr>
            <a:xfrm>
              <a:off x="1371240" y="220968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90" idx="4"/>
              <a:endCxn id="186" idx="0"/>
            </p:cNvCxnSpPr>
            <p:nvPr/>
          </p:nvCxnSpPr>
          <p:spPr>
            <a:xfrm>
              <a:off x="685440" y="31240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91" idx="4"/>
              <a:endCxn id="187" idx="0"/>
            </p:cNvCxnSpPr>
            <p:nvPr/>
          </p:nvCxnSpPr>
          <p:spPr>
            <a:xfrm>
              <a:off x="2057040" y="31240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86" idx="4"/>
              <a:endCxn id="189" idx="0"/>
            </p:cNvCxnSpPr>
            <p:nvPr/>
          </p:nvCxnSpPr>
          <p:spPr>
            <a:xfrm>
              <a:off x="685440" y="40384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87" idx="4"/>
              <a:endCxn id="188" idx="0"/>
            </p:cNvCxnSpPr>
            <p:nvPr/>
          </p:nvCxnSpPr>
          <p:spPr>
            <a:xfrm>
              <a:off x="2057040" y="40384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98" name=""/>
          <p:cNvSpPr/>
          <p:nvPr/>
        </p:nvSpPr>
        <p:spPr>
          <a:xfrm>
            <a:off x="6781680" y="1752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3581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3581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4"/>
            <a:endCxn id="179" idx="0"/>
          </p:cNvCxnSpPr>
          <p:nvPr/>
        </p:nvCxnSpPr>
        <p:spPr>
          <a:xfrm flipH="1">
            <a:off x="6552360" y="2209680"/>
            <a:ext cx="686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8" idx="4"/>
            <a:endCxn id="171" idx="0"/>
          </p:cNvCxnSpPr>
          <p:nvPr/>
        </p:nvCxnSpPr>
        <p:spPr>
          <a:xfrm>
            <a:off x="7238520" y="2209680"/>
            <a:ext cx="686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79" idx="4"/>
            <a:endCxn id="199" idx="0"/>
          </p:cNvCxnSpPr>
          <p:nvPr/>
        </p:nvCxnSpPr>
        <p:spPr>
          <a:xfrm>
            <a:off x="6552720" y="31240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71" idx="4"/>
            <a:endCxn id="200" idx="0"/>
          </p:cNvCxnSpPr>
          <p:nvPr/>
        </p:nvCxnSpPr>
        <p:spPr>
          <a:xfrm>
            <a:off x="7924320" y="31240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4"/>
            <a:endCxn id="175" idx="0"/>
          </p:cNvCxnSpPr>
          <p:nvPr/>
        </p:nvCxnSpPr>
        <p:spPr>
          <a:xfrm>
            <a:off x="6552720" y="40384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06" name=""/>
          <p:cNvGrpSpPr/>
          <p:nvPr/>
        </p:nvGrpSpPr>
        <p:grpSpPr>
          <a:xfrm>
            <a:off x="6477120" y="1600200"/>
            <a:ext cx="1541160" cy="761760"/>
            <a:chOff x="6477120" y="1600200"/>
            <a:chExt cx="1541160" cy="761760"/>
          </a:xfrm>
        </p:grpSpPr>
        <p:sp>
          <p:nvSpPr>
            <p:cNvPr id="207" name=""/>
            <p:cNvSpPr/>
            <p:nvPr/>
          </p:nvSpPr>
          <p:spPr>
            <a:xfrm>
              <a:off x="6477120" y="1600200"/>
              <a:ext cx="152388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68920" y="182880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019920" y="3429000"/>
            <a:ext cx="2438280" cy="761760"/>
            <a:chOff x="6019920" y="3429000"/>
            <a:chExt cx="2438280" cy="761760"/>
          </a:xfrm>
        </p:grpSpPr>
        <p:sp>
          <p:nvSpPr>
            <p:cNvPr id="210" name=""/>
            <p:cNvSpPr/>
            <p:nvPr/>
          </p:nvSpPr>
          <p:spPr>
            <a:xfrm>
              <a:off x="6019920" y="3429000"/>
              <a:ext cx="243828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11720" y="35812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669760" y="3048120"/>
            <a:ext cx="27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bstraction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(x&lt;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3505320"/>
            <a:ext cx="2819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88000" y="4266720"/>
            <a:ext cx="3044160" cy="1603080"/>
            <a:chOff x="3888000" y="4266720"/>
            <a:chExt cx="3044160" cy="1603080"/>
          </a:xfrm>
        </p:grpSpPr>
        <p:sp>
          <p:nvSpPr>
            <p:cNvPr id="215" name=""/>
            <p:cNvSpPr/>
            <p:nvPr/>
          </p:nvSpPr>
          <p:spPr>
            <a:xfrm>
              <a:off x="3888000" y="5410080"/>
              <a:ext cx="3044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ransition not “exact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410080" y="4266720"/>
              <a:ext cx="1143000" cy="1143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inement &amp;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16002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429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3429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8" idx="4"/>
            <a:endCxn id="223" idx="0"/>
          </p:cNvCxnSpPr>
          <p:nvPr/>
        </p:nvCxnSpPr>
        <p:spPr>
          <a:xfrm flipH="1">
            <a:off x="913680" y="2057400"/>
            <a:ext cx="686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4" idx="0"/>
          </p:cNvCxnSpPr>
          <p:nvPr/>
        </p:nvCxnSpPr>
        <p:spPr>
          <a:xfrm>
            <a:off x="1599840" y="2057400"/>
            <a:ext cx="686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3" idx="4"/>
            <a:endCxn id="219" idx="0"/>
          </p:cNvCxnSpPr>
          <p:nvPr/>
        </p:nvCxnSpPr>
        <p:spPr>
          <a:xfrm>
            <a:off x="914040" y="29718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4" idx="4"/>
            <a:endCxn id="220" idx="0"/>
          </p:cNvCxnSpPr>
          <p:nvPr/>
        </p:nvCxnSpPr>
        <p:spPr>
          <a:xfrm>
            <a:off x="2285640" y="29718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9" idx="4"/>
            <a:endCxn id="222" idx="0"/>
          </p:cNvCxnSpPr>
          <p:nvPr/>
        </p:nvCxnSpPr>
        <p:spPr>
          <a:xfrm>
            <a:off x="91404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0" idx="4"/>
            <a:endCxn id="221" idx="0"/>
          </p:cNvCxnSpPr>
          <p:nvPr/>
        </p:nvCxnSpPr>
        <p:spPr>
          <a:xfrm>
            <a:off x="228564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" name=""/>
          <p:cNvGrpSpPr/>
          <p:nvPr/>
        </p:nvGrpSpPr>
        <p:grpSpPr>
          <a:xfrm>
            <a:off x="3200400" y="3124080"/>
            <a:ext cx="2819520" cy="642600"/>
            <a:chOff x="3200400" y="3124080"/>
            <a:chExt cx="2819520" cy="642600"/>
          </a:xfrm>
        </p:grpSpPr>
        <p:sp>
          <p:nvSpPr>
            <p:cNvPr id="232" name=""/>
            <p:cNvSpPr/>
            <p:nvPr/>
          </p:nvSpPr>
          <p:spPr>
            <a:xfrm>
              <a:off x="3355200" y="3124080"/>
              <a:ext cx="242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fter Refinement Ste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 = (x&lt;2); q = x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0400" y="3429000"/>
              <a:ext cx="2819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019920" y="1523880"/>
            <a:ext cx="2895480" cy="3505320"/>
            <a:chOff x="6019920" y="1523880"/>
            <a:chExt cx="2895480" cy="3505320"/>
          </a:xfrm>
        </p:grpSpPr>
        <p:sp>
          <p:nvSpPr>
            <p:cNvPr id="235" name=""/>
            <p:cNvSpPr/>
            <p:nvPr/>
          </p:nvSpPr>
          <p:spPr>
            <a:xfrm>
              <a:off x="7010280" y="16765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24480" y="35053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96080" y="35053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6080" y="44197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24480" y="44197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25909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6080" y="25909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"/>
            <p:cNvCxnSpPr>
              <a:stCxn id="235" idx="4"/>
              <a:endCxn id="240" idx="0"/>
            </p:cNvCxnSpPr>
            <p:nvPr/>
          </p:nvCxnSpPr>
          <p:spPr>
            <a:xfrm flipH="1">
              <a:off x="6780960" y="213372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5" idx="4"/>
              <a:endCxn id="241" idx="0"/>
            </p:cNvCxnSpPr>
            <p:nvPr/>
          </p:nvCxnSpPr>
          <p:spPr>
            <a:xfrm>
              <a:off x="7467120" y="213372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40" idx="4"/>
              <a:endCxn id="236" idx="0"/>
            </p:cNvCxnSpPr>
            <p:nvPr/>
          </p:nvCxnSpPr>
          <p:spPr>
            <a:xfrm>
              <a:off x="6781320" y="304812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41" idx="4"/>
              <a:endCxn id="237" idx="0"/>
            </p:cNvCxnSpPr>
            <p:nvPr/>
          </p:nvCxnSpPr>
          <p:spPr>
            <a:xfrm>
              <a:off x="8152920" y="304812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6" idx="4"/>
              <a:endCxn id="239" idx="0"/>
            </p:cNvCxnSpPr>
            <p:nvPr/>
          </p:nvCxnSpPr>
          <p:spPr>
            <a:xfrm>
              <a:off x="6781320" y="396252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7" idx="4"/>
              <a:endCxn id="238" idx="0"/>
            </p:cNvCxnSpPr>
            <p:nvPr/>
          </p:nvCxnSpPr>
          <p:spPr>
            <a:xfrm>
              <a:off x="8152920" y="396252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48" name=""/>
            <p:cNvGrpSpPr/>
            <p:nvPr/>
          </p:nvGrpSpPr>
          <p:grpSpPr>
            <a:xfrm>
              <a:off x="6019920" y="1523880"/>
              <a:ext cx="2895480" cy="3505320"/>
              <a:chOff x="6019920" y="1523880"/>
              <a:chExt cx="2895480" cy="3505320"/>
            </a:xfrm>
          </p:grpSpPr>
          <p:sp>
            <p:nvSpPr>
              <p:cNvPr id="249" name=""/>
              <p:cNvSpPr/>
              <p:nvPr/>
            </p:nvSpPr>
            <p:spPr>
              <a:xfrm>
                <a:off x="6781680" y="152388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43800" y="34290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95880" y="34290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!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43800" y="25146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95880" y="243828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!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67480" y="43434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!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19920" y="43434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!p,!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792520"/>
            <a:ext cx="249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=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le (x&gt;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x = x -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sert fal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3581280"/>
            <a:ext cx="2666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2640" y="3048120"/>
            <a:ext cx="250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traction Mapp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(x&g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400800" y="2743200"/>
            <a:ext cx="1173600" cy="2057400"/>
            <a:chOff x="6400800" y="2743200"/>
            <a:chExt cx="1173600" cy="2057400"/>
          </a:xfrm>
        </p:grpSpPr>
        <p:sp>
          <p:nvSpPr>
            <p:cNvPr id="261" name=""/>
            <p:cNvSpPr/>
            <p:nvPr/>
          </p:nvSpPr>
          <p:spPr>
            <a:xfrm>
              <a:off x="6400800" y="274320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0800" y="358128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00800" y="4419360"/>
              <a:ext cx="9144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"/>
            <p:cNvCxnSpPr>
              <a:stCxn id="261" idx="4"/>
              <a:endCxn id="262" idx="0"/>
            </p:cNvCxnSpPr>
            <p:nvPr/>
          </p:nvCxnSpPr>
          <p:spPr>
            <a:xfrm>
              <a:off x="6857640" y="312408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  <a:endCxn id="263" idx="0"/>
            </p:cNvCxnSpPr>
            <p:nvPr/>
          </p:nvCxnSpPr>
          <p:spPr>
            <a:xfrm>
              <a:off x="6857640" y="396216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3" idx="6"/>
              <a:endCxn id="262" idx="6"/>
            </p:cNvCxnSpPr>
            <p:nvPr/>
          </p:nvCxnSpPr>
          <p:spPr>
            <a:xfrm flipV="1">
              <a:off x="7315200" y="3771000"/>
              <a:ext cx="2160" cy="839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in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037040" y="2438280"/>
            <a:ext cx="2546640" cy="2590920"/>
            <a:chOff x="4037040" y="2438280"/>
            <a:chExt cx="2546640" cy="2590920"/>
          </a:xfrm>
        </p:grpSpPr>
        <p:sp>
          <p:nvSpPr>
            <p:cNvPr id="269" name=""/>
            <p:cNvSpPr/>
            <p:nvPr/>
          </p:nvSpPr>
          <p:spPr>
            <a:xfrm>
              <a:off x="5410080" y="243828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0080" y="3276360"/>
              <a:ext cx="9144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4647960"/>
              <a:ext cx="9144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2" name=""/>
            <p:cNvCxnSpPr>
              <a:stCxn id="269" idx="4"/>
              <a:endCxn id="270" idx="0"/>
            </p:cNvCxnSpPr>
            <p:nvPr/>
          </p:nvCxnSpPr>
          <p:spPr>
            <a:xfrm>
              <a:off x="5866920" y="281916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70" idx="4"/>
              <a:endCxn id="271" idx="0"/>
            </p:cNvCxnSpPr>
            <p:nvPr/>
          </p:nvCxnSpPr>
          <p:spPr>
            <a:xfrm>
              <a:off x="5866920" y="3657240"/>
              <a:ext cx="1080" cy="99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71" idx="6"/>
              <a:endCxn id="270" idx="6"/>
            </p:cNvCxnSpPr>
            <p:nvPr/>
          </p:nvCxnSpPr>
          <p:spPr>
            <a:xfrm flipV="1">
              <a:off x="6324480" y="3466800"/>
              <a:ext cx="2160" cy="1372320"/>
            </a:xfrm>
            <a:prstGeom prst="curvedConnector5">
              <a:avLst>
                <a:gd name="adj1" fmla="val 14400000"/>
                <a:gd name="adj2" fmla="val 49986"/>
                <a:gd name="adj3" fmla="val 1440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4037040" y="396216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 = x –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190760"/>
              <a:ext cx="5331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818080" y="4648320"/>
            <a:ext cx="2516040" cy="398880"/>
            <a:chOff x="2818080" y="4648320"/>
            <a:chExt cx="2516040" cy="398880"/>
          </a:xfrm>
        </p:grpSpPr>
        <p:sp>
          <p:nvSpPr>
            <p:cNvPr id="278" name=""/>
            <p:cNvSpPr/>
            <p:nvPr/>
          </p:nvSpPr>
          <p:spPr>
            <a:xfrm>
              <a:off x="2818080" y="464832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{x &gt; 0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809880" y="4876920"/>
              <a:ext cx="1524240" cy="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H="1">
            <a:off x="4038120" y="34290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906920" y="3200400"/>
            <a:ext cx="2086200" cy="1371600"/>
            <a:chOff x="1906920" y="3200400"/>
            <a:chExt cx="2086200" cy="1371600"/>
          </a:xfrm>
        </p:grpSpPr>
        <p:sp>
          <p:nvSpPr>
            <p:cNvPr id="282" name=""/>
            <p:cNvSpPr/>
            <p:nvPr/>
          </p:nvSpPr>
          <p:spPr>
            <a:xfrm>
              <a:off x="2588760" y="32004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{x – 1  &gt; 0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906920" y="3657600"/>
              <a:ext cx="1380240" cy="914400"/>
              <a:chOff x="1906920" y="3657600"/>
              <a:chExt cx="1380240" cy="91440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3276720" y="3657600"/>
                <a:ext cx="0" cy="914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6920" y="3886200"/>
                <a:ext cx="138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wp(p,x=x-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228600" y="1295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ck if the induced abstract transition is a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rans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not, add new predic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3560" y="5486400"/>
            <a:ext cx="742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&gt; 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 abstraction predicates and repeat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lobally for all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cally only for the transition (location) it re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126960" y="2441520"/>
            <a:ext cx="2109960" cy="987480"/>
            <a:chOff x="3126960" y="2441520"/>
            <a:chExt cx="2109960" cy="987480"/>
          </a:xfrm>
        </p:grpSpPr>
        <p:sp>
          <p:nvSpPr>
            <p:cNvPr id="289" name=""/>
            <p:cNvSpPr/>
            <p:nvPr/>
          </p:nvSpPr>
          <p:spPr>
            <a:xfrm>
              <a:off x="3126960" y="2441520"/>
              <a:ext cx="2109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Only 1 DP ca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19720" y="2895480"/>
              <a:ext cx="228600" cy="5335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876920" y="1828800"/>
            <a:ext cx="4038480" cy="2209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2286000"/>
            <a:ext cx="3200400" cy="1295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29200" y="2438280"/>
            <a:ext cx="2133720" cy="99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828800"/>
            <a:ext cx="4038480" cy="2209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2590920"/>
            <a:ext cx="14479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2286000"/>
            <a:ext cx="320040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213372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514600" y="2895480"/>
            <a:ext cx="8380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6560" y="24908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2590920"/>
            <a:ext cx="144756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154720" y="2514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289548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289548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160" y="68580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 Abs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920" y="685800"/>
            <a:ext cx="17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9240" y="4343400"/>
            <a:ext cx="396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property 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-approximation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nter-example driven refin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nsive computation to calcula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13320" y="4343400"/>
            <a:ext cx="345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ing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-approximation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ion driven refin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vial computation to calcula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abstraction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s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454760" y="1219320"/>
            <a:ext cx="6224760" cy="1557000"/>
            <a:chOff x="1454760" y="1219320"/>
            <a:chExt cx="6224760" cy="1557000"/>
          </a:xfrm>
        </p:grpSpPr>
        <p:sp>
          <p:nvSpPr>
            <p:cNvPr id="311" name=""/>
            <p:cNvSpPr/>
            <p:nvPr/>
          </p:nvSpPr>
          <p:spPr>
            <a:xfrm>
              <a:off x="1454760" y="1219320"/>
              <a:ext cx="6224760" cy="15570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arch tries to compute 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finite reachable bisimulation quo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is is only possible i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finite reachable bisimulation quotient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exi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259092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673440" y="476424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16240" y="2935440"/>
            <a:ext cx="28195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73440" y="2935440"/>
            <a:ext cx="18288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3" idx="2"/>
            <a:endCxn id="314" idx="2"/>
          </p:cNvCxnSpPr>
          <p:nvPr/>
        </p:nvCxnSpPr>
        <p:spPr>
          <a:xfrm flipH="1" flipV="1">
            <a:off x="3215880" y="3392280"/>
            <a:ext cx="457920" cy="18295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13" idx="6"/>
            <a:endCxn id="314" idx="6"/>
          </p:cNvCxnSpPr>
          <p:nvPr/>
        </p:nvCxnSpPr>
        <p:spPr>
          <a:xfrm flipV="1">
            <a:off x="5502240" y="3392280"/>
            <a:ext cx="534240" cy="18295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4511520" y="3316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499284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572000" y="3468600"/>
            <a:ext cx="1584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57920" y="293544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5680" y="28591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807160" y="3087720"/>
            <a:ext cx="38088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25720" y="4114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9720" y="31240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p(p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378160" y="3240000"/>
            <a:ext cx="91440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2152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9720" y="5946840"/>
            <a:ext cx="89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new predicates are infinitely required to refine the unreachabl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ea the algorithm will not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87760" y="1447920"/>
            <a:ext cx="20109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0; 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(y &gt;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x +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600560" y="3429000"/>
            <a:ext cx="1029600" cy="2133720"/>
            <a:chOff x="1600560" y="3429000"/>
            <a:chExt cx="1029600" cy="2133720"/>
          </a:xfrm>
        </p:grpSpPr>
        <p:grpSp>
          <p:nvGrpSpPr>
            <p:cNvPr id="332" name=""/>
            <p:cNvGrpSpPr/>
            <p:nvPr/>
          </p:nvGrpSpPr>
          <p:grpSpPr>
            <a:xfrm>
              <a:off x="1600560" y="3429000"/>
              <a:ext cx="1029600" cy="2133720"/>
              <a:chOff x="1600560" y="3429000"/>
              <a:chExt cx="1029600" cy="2133720"/>
            </a:xfrm>
          </p:grpSpPr>
          <p:sp>
            <p:nvSpPr>
              <p:cNvPr id="333" name=""/>
              <p:cNvSpPr/>
              <p:nvPr/>
            </p:nvSpPr>
            <p:spPr>
              <a:xfrm>
                <a:off x="1600560" y="3429000"/>
                <a:ext cx="10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y &gt;= 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76520" y="3962520"/>
                <a:ext cx="68580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676520" y="4572000"/>
                <a:ext cx="68580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76520" y="5181480"/>
                <a:ext cx="68580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7" name=""/>
              <p:cNvCxnSpPr>
                <a:stCxn id="334" idx="4"/>
                <a:endCxn id="335" idx="0"/>
              </p:cNvCxnSpPr>
              <p:nvPr/>
            </p:nvCxnSpPr>
            <p:spPr>
              <a:xfrm>
                <a:off x="2018880" y="4343040"/>
                <a:ext cx="1080" cy="2293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338" name=""/>
              <p:cNvCxnSpPr>
                <a:stCxn id="335" idx="4"/>
                <a:endCxn id="336" idx="0"/>
              </p:cNvCxnSpPr>
              <p:nvPr/>
            </p:nvCxnSpPr>
            <p:spPr>
              <a:xfrm>
                <a:off x="2018880" y="4952520"/>
                <a:ext cx="1080" cy="2293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cxnSp>
          <p:nvCxnSpPr>
            <p:cNvPr id="339" name=""/>
            <p:cNvCxnSpPr/>
            <p:nvPr/>
          </p:nvCxnSpPr>
          <p:spPr>
            <a:xfrm flipV="1">
              <a:off x="2362320" y="4762080"/>
              <a:ext cx="2160" cy="610560"/>
            </a:xfrm>
            <a:prstGeom prst="curvedConnector5">
              <a:avLst>
                <a:gd name="adj1" fmla="val 14400000"/>
                <a:gd name="adj2" fmla="val 49970"/>
                <a:gd name="adj3" fmla="val 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40" name=""/>
          <p:cNvGrpSpPr/>
          <p:nvPr/>
        </p:nvGrpSpPr>
        <p:grpSpPr>
          <a:xfrm>
            <a:off x="2743200" y="3124080"/>
            <a:ext cx="2122560" cy="2438640"/>
            <a:chOff x="2743200" y="3124080"/>
            <a:chExt cx="2122560" cy="2438640"/>
          </a:xfrm>
        </p:grpSpPr>
        <p:sp>
          <p:nvSpPr>
            <p:cNvPr id="341" name=""/>
            <p:cNvSpPr/>
            <p:nvPr/>
          </p:nvSpPr>
          <p:spPr>
            <a:xfrm>
              <a:off x="3733920" y="39625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457200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33920" y="5181480"/>
              <a:ext cx="6858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4" name=""/>
            <p:cNvCxnSpPr>
              <a:stCxn id="341" idx="4"/>
              <a:endCxn id="342" idx="0"/>
            </p:cNvCxnSpPr>
            <p:nvPr/>
          </p:nvCxnSpPr>
          <p:spPr>
            <a:xfrm>
              <a:off x="4076280" y="434304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5" name=""/>
            <p:cNvCxnSpPr>
              <a:stCxn id="342" idx="4"/>
              <a:endCxn id="343" idx="0"/>
            </p:cNvCxnSpPr>
            <p:nvPr/>
          </p:nvCxnSpPr>
          <p:spPr>
            <a:xfrm>
              <a:off x="4076280" y="495252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6" name=""/>
            <p:cNvCxnSpPr>
              <a:stCxn id="343" idx="6"/>
              <a:endCxn id="342" idx="6"/>
            </p:cNvCxnSpPr>
            <p:nvPr/>
          </p:nvCxnSpPr>
          <p:spPr>
            <a:xfrm flipV="1">
              <a:off x="4419720" y="4762080"/>
              <a:ext cx="2160" cy="610560"/>
            </a:xfrm>
            <a:prstGeom prst="curvedConnector5">
              <a:avLst>
                <a:gd name="adj1" fmla="val 14400000"/>
                <a:gd name="adj2" fmla="val 49970"/>
                <a:gd name="adj3" fmla="val 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47" name=""/>
            <p:cNvSpPr/>
            <p:nvPr/>
          </p:nvSpPr>
          <p:spPr>
            <a:xfrm>
              <a:off x="3505320" y="3124080"/>
              <a:ext cx="136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 &gt;=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x+y &gt;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43200" y="4648320"/>
              <a:ext cx="609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800600" y="2743200"/>
            <a:ext cx="3823920" cy="2819520"/>
            <a:chOff x="4800600" y="2743200"/>
            <a:chExt cx="3823920" cy="2819520"/>
          </a:xfrm>
        </p:grpSpPr>
        <p:sp>
          <p:nvSpPr>
            <p:cNvPr id="350" name=""/>
            <p:cNvSpPr/>
            <p:nvPr/>
          </p:nvSpPr>
          <p:spPr>
            <a:xfrm>
              <a:off x="5638680" y="39625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,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38680" y="457200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,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8680" y="5181480"/>
              <a:ext cx="6858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,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50" idx="4"/>
              <a:endCxn id="351" idx="0"/>
            </p:cNvCxnSpPr>
            <p:nvPr/>
          </p:nvCxnSpPr>
          <p:spPr>
            <a:xfrm>
              <a:off x="5981400" y="434304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51" idx="4"/>
              <a:endCxn id="352" idx="0"/>
            </p:cNvCxnSpPr>
            <p:nvPr/>
          </p:nvCxnSpPr>
          <p:spPr>
            <a:xfrm>
              <a:off x="5981400" y="495252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5" name=""/>
            <p:cNvCxnSpPr>
              <a:stCxn id="352" idx="6"/>
              <a:endCxn id="351" idx="6"/>
            </p:cNvCxnSpPr>
            <p:nvPr/>
          </p:nvCxnSpPr>
          <p:spPr>
            <a:xfrm flipV="1">
              <a:off x="6324120" y="4762080"/>
              <a:ext cx="2520" cy="610560"/>
            </a:xfrm>
            <a:prstGeom prst="curvedConnector5">
              <a:avLst>
                <a:gd name="adj1" fmla="val 14400000"/>
                <a:gd name="adj2" fmla="val 49970"/>
                <a:gd name="adj3" fmla="val 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334480" y="2743200"/>
              <a:ext cx="152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 &gt;=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+y &gt;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2x+y &gt;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0600" y="4648320"/>
              <a:ext cx="609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4320" y="4648320"/>
              <a:ext cx="609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34320" y="4008600"/>
              <a:ext cx="79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689760" y="586728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refinement only refines the unreachable state sp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ified Bak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13160" y="990720"/>
            <a:ext cx="201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tru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x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(x&lt;=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23560" y="990720"/>
            <a:ext cx="18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tru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y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(y&lt;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5000" y="3429000"/>
            <a:ext cx="3989160" cy="3218040"/>
            <a:chOff x="225000" y="3429000"/>
            <a:chExt cx="3989160" cy="3218040"/>
          </a:xfrm>
        </p:grpSpPr>
        <p:sp>
          <p:nvSpPr>
            <p:cNvPr id="365" name=""/>
            <p:cNvSpPr/>
            <p:nvPr/>
          </p:nvSpPr>
          <p:spPr>
            <a:xfrm>
              <a:off x="225000" y="3809880"/>
              <a:ext cx="39891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1</a:t>
              </a:r>
              <a:r>
                <a:rPr b="0" lang="en-US" sz="18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st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4 concrete states and 20 abstract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x+1 &lt;= y, x &lt;= y+1, y &gt;= 0 and x &lt;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2</a:t>
              </a:r>
              <a:r>
                <a:rPr b="0" lang="en-US" sz="18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nd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9 concrete state and 21 abs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x+2&lt;=y, y&lt;= 0, x &lt;= -1 and x &lt;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3</a:t>
              </a:r>
              <a:r>
                <a:rPr b="0" lang="en-US" sz="18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rd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5 concrete states and 33 abs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30600" y="34290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66"/>
                  </a:solidFill>
                  <a:latin typeface="Arial"/>
                </a:rPr>
                <a:t>DF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4572000" y="1295280"/>
            <a:ext cx="0" cy="152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491800" y="2895480"/>
            <a:ext cx="3408480" cy="3948840"/>
            <a:chOff x="5491800" y="2895480"/>
            <a:chExt cx="3408480" cy="3948840"/>
          </a:xfrm>
        </p:grpSpPr>
        <p:sp>
          <p:nvSpPr>
            <p:cNvPr id="369" name=""/>
            <p:cNvSpPr/>
            <p:nvPr/>
          </p:nvSpPr>
          <p:spPr>
            <a:xfrm>
              <a:off x="5491800" y="3343320"/>
              <a:ext cx="3408480" cy="35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1</a:t>
              </a:r>
              <a:r>
                <a:rPr b="0" lang="en-US" sz="16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st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18 concrete states and 12 abstrac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+1 &lt;= y, x &lt;= y+1 and y &gt;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2</a:t>
              </a:r>
              <a:r>
                <a:rPr b="0" lang="en-US" sz="16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nd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6 concrete state and 19 abstr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+2&lt;=y, y&gt;=1 and x &lt;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3</a:t>
              </a:r>
              <a:r>
                <a:rPr b="0" lang="en-US" sz="16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rd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44 concrete states and 32 abstr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y &lt;= 1, x &lt;= 0 and y &gt;=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4</a:t>
              </a:r>
              <a:r>
                <a:rPr b="0" lang="en-US" sz="16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th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48 concrete, 36 abstr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60160" y="28954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66"/>
                  </a:solidFill>
                  <a:latin typeface="Arial"/>
                </a:rPr>
                <a:t>BF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597040" y="4495680"/>
            <a:ext cx="4829040" cy="64260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rch Order Matter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over-approximation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er-example based refin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-approximation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inement based on abstraction’s exact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weight framework for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generation environment built arou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F with symbolic exec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predicate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against other test-case generation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 Container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bolic Execution and 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implementation is for a simple input langu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ml using Simplify as a decision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ould like to integrate the technique in Java Pathfinder (JPF) that supports symbolic execution (using the Omega Libr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llow application to programs with complex data structures (obje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Concrete to Symbol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1981080"/>
            <a:ext cx="673200" cy="3962520"/>
          </a:xfrm>
          <a:custGeom>
            <a:avLst/>
            <a:gdLst/>
            <a:ahLst/>
            <a:rect l="l" t="t" r="r" b="b"/>
            <a:pathLst>
              <a:path w="424" h="2496">
                <a:moveTo>
                  <a:pt x="304" y="0"/>
                </a:moveTo>
                <a:cubicBezTo>
                  <a:pt x="152" y="272"/>
                  <a:pt x="0" y="544"/>
                  <a:pt x="16" y="816"/>
                </a:cubicBezTo>
                <a:cubicBezTo>
                  <a:pt x="32" y="1088"/>
                  <a:pt x="376" y="1352"/>
                  <a:pt x="400" y="1632"/>
                </a:cubicBezTo>
                <a:cubicBezTo>
                  <a:pt x="424" y="1912"/>
                  <a:pt x="200" y="2352"/>
                  <a:pt x="160" y="2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56120" y="1484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=1, 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41680" y="601992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rete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81280" y="3886200"/>
            <a:ext cx="1600200" cy="0"/>
          </a:xfrm>
          <a:prstGeom prst="line">
            <a:avLst/>
          </a:prstGeom>
          <a:ln w="88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2057400"/>
            <a:ext cx="672840" cy="3962520"/>
          </a:xfrm>
          <a:custGeom>
            <a:avLst/>
            <a:gdLst/>
            <a:ahLst/>
            <a:rect l="l" t="t" r="r" b="b"/>
            <a:pathLst>
              <a:path w="424" h="2496">
                <a:moveTo>
                  <a:pt x="304" y="0"/>
                </a:moveTo>
                <a:cubicBezTo>
                  <a:pt x="152" y="272"/>
                  <a:pt x="0" y="544"/>
                  <a:pt x="16" y="816"/>
                </a:cubicBezTo>
                <a:cubicBezTo>
                  <a:pt x="32" y="1088"/>
                  <a:pt x="376" y="1352"/>
                  <a:pt x="400" y="1632"/>
                </a:cubicBezTo>
                <a:cubicBezTo>
                  <a:pt x="424" y="1912"/>
                  <a:pt x="200" y="2352"/>
                  <a:pt x="160" y="2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45160" y="1981080"/>
            <a:ext cx="1579680" cy="4038840"/>
          </a:xfrm>
          <a:custGeom>
            <a:avLst/>
            <a:gdLst/>
            <a:ahLst/>
            <a:rect l="l" t="t" r="r" b="b"/>
            <a:pathLst>
              <a:path w="995" h="2889">
                <a:moveTo>
                  <a:pt x="383" y="83"/>
                </a:moveTo>
                <a:cubicBezTo>
                  <a:pt x="368" y="107"/>
                  <a:pt x="362" y="132"/>
                  <a:pt x="349" y="157"/>
                </a:cubicBezTo>
                <a:cubicBezTo>
                  <a:pt x="342" y="187"/>
                  <a:pt x="328" y="204"/>
                  <a:pt x="316" y="232"/>
                </a:cubicBezTo>
                <a:cubicBezTo>
                  <a:pt x="307" y="254"/>
                  <a:pt x="305" y="279"/>
                  <a:pt x="295" y="300"/>
                </a:cubicBezTo>
                <a:cubicBezTo>
                  <a:pt x="283" y="325"/>
                  <a:pt x="260" y="342"/>
                  <a:pt x="248" y="367"/>
                </a:cubicBezTo>
                <a:cubicBezTo>
                  <a:pt x="245" y="374"/>
                  <a:pt x="244" y="381"/>
                  <a:pt x="241" y="388"/>
                </a:cubicBezTo>
                <a:cubicBezTo>
                  <a:pt x="237" y="397"/>
                  <a:pt x="232" y="406"/>
                  <a:pt x="227" y="415"/>
                </a:cubicBezTo>
                <a:cubicBezTo>
                  <a:pt x="210" y="491"/>
                  <a:pt x="160" y="559"/>
                  <a:pt x="133" y="632"/>
                </a:cubicBezTo>
                <a:cubicBezTo>
                  <a:pt x="109" y="698"/>
                  <a:pt x="148" y="615"/>
                  <a:pt x="112" y="693"/>
                </a:cubicBezTo>
                <a:cubicBezTo>
                  <a:pt x="104" y="711"/>
                  <a:pt x="85" y="747"/>
                  <a:pt x="85" y="747"/>
                </a:cubicBezTo>
                <a:cubicBezTo>
                  <a:pt x="71" y="812"/>
                  <a:pt x="54" y="873"/>
                  <a:pt x="38" y="937"/>
                </a:cubicBezTo>
                <a:cubicBezTo>
                  <a:pt x="28" y="1031"/>
                  <a:pt x="20" y="1128"/>
                  <a:pt x="4" y="1221"/>
                </a:cubicBezTo>
                <a:cubicBezTo>
                  <a:pt x="11" y="1386"/>
                  <a:pt x="0" y="1420"/>
                  <a:pt x="85" y="1540"/>
                </a:cubicBezTo>
                <a:cubicBezTo>
                  <a:pt x="107" y="1571"/>
                  <a:pt x="109" y="1589"/>
                  <a:pt x="146" y="1607"/>
                </a:cubicBezTo>
                <a:cubicBezTo>
                  <a:pt x="174" y="1648"/>
                  <a:pt x="192" y="1695"/>
                  <a:pt x="221" y="1736"/>
                </a:cubicBezTo>
                <a:cubicBezTo>
                  <a:pt x="231" y="1770"/>
                  <a:pt x="242" y="1808"/>
                  <a:pt x="261" y="1838"/>
                </a:cubicBezTo>
                <a:cubicBezTo>
                  <a:pt x="285" y="1931"/>
                  <a:pt x="306" y="2026"/>
                  <a:pt x="316" y="2122"/>
                </a:cubicBezTo>
                <a:cubicBezTo>
                  <a:pt x="314" y="2224"/>
                  <a:pt x="313" y="2325"/>
                  <a:pt x="309" y="2427"/>
                </a:cubicBezTo>
                <a:cubicBezTo>
                  <a:pt x="306" y="2496"/>
                  <a:pt x="266" y="2559"/>
                  <a:pt x="248" y="2624"/>
                </a:cubicBezTo>
                <a:cubicBezTo>
                  <a:pt x="232" y="2681"/>
                  <a:pt x="221" y="2737"/>
                  <a:pt x="180" y="2780"/>
                </a:cubicBezTo>
                <a:cubicBezTo>
                  <a:pt x="168" y="2815"/>
                  <a:pt x="167" y="2796"/>
                  <a:pt x="214" y="2827"/>
                </a:cubicBezTo>
                <a:cubicBezTo>
                  <a:pt x="256" y="2855"/>
                  <a:pt x="328" y="2868"/>
                  <a:pt x="377" y="2875"/>
                </a:cubicBezTo>
                <a:cubicBezTo>
                  <a:pt x="399" y="2878"/>
                  <a:pt x="422" y="2879"/>
                  <a:pt x="444" y="2881"/>
                </a:cubicBezTo>
                <a:cubicBezTo>
                  <a:pt x="473" y="2883"/>
                  <a:pt x="503" y="2886"/>
                  <a:pt x="532" y="2888"/>
                </a:cubicBezTo>
                <a:cubicBezTo>
                  <a:pt x="593" y="2886"/>
                  <a:pt x="654" y="2889"/>
                  <a:pt x="715" y="2881"/>
                </a:cubicBezTo>
                <a:cubicBezTo>
                  <a:pt x="720" y="2880"/>
                  <a:pt x="777" y="2801"/>
                  <a:pt x="783" y="2793"/>
                </a:cubicBezTo>
                <a:cubicBezTo>
                  <a:pt x="797" y="2754"/>
                  <a:pt x="814" y="2718"/>
                  <a:pt x="824" y="2678"/>
                </a:cubicBezTo>
                <a:cubicBezTo>
                  <a:pt x="830" y="2607"/>
                  <a:pt x="826" y="2401"/>
                  <a:pt x="885" y="2312"/>
                </a:cubicBezTo>
                <a:cubicBezTo>
                  <a:pt x="895" y="2272"/>
                  <a:pt x="903" y="2236"/>
                  <a:pt x="919" y="2197"/>
                </a:cubicBezTo>
                <a:cubicBezTo>
                  <a:pt x="928" y="2138"/>
                  <a:pt x="938" y="2080"/>
                  <a:pt x="946" y="2021"/>
                </a:cubicBezTo>
                <a:cubicBezTo>
                  <a:pt x="956" y="1855"/>
                  <a:pt x="995" y="1665"/>
                  <a:pt x="898" y="1519"/>
                </a:cubicBezTo>
                <a:cubicBezTo>
                  <a:pt x="868" y="1383"/>
                  <a:pt x="769" y="1273"/>
                  <a:pt x="695" y="1160"/>
                </a:cubicBezTo>
                <a:cubicBezTo>
                  <a:pt x="673" y="1126"/>
                  <a:pt x="654" y="1088"/>
                  <a:pt x="634" y="1052"/>
                </a:cubicBezTo>
                <a:cubicBezTo>
                  <a:pt x="622" y="1031"/>
                  <a:pt x="593" y="991"/>
                  <a:pt x="593" y="991"/>
                </a:cubicBezTo>
                <a:cubicBezTo>
                  <a:pt x="575" y="912"/>
                  <a:pt x="577" y="925"/>
                  <a:pt x="587" y="801"/>
                </a:cubicBezTo>
                <a:cubicBezTo>
                  <a:pt x="591" y="756"/>
                  <a:pt x="651" y="670"/>
                  <a:pt x="675" y="638"/>
                </a:cubicBezTo>
                <a:cubicBezTo>
                  <a:pt x="719" y="580"/>
                  <a:pt x="759" y="511"/>
                  <a:pt x="797" y="449"/>
                </a:cubicBezTo>
                <a:cubicBezTo>
                  <a:pt x="821" y="411"/>
                  <a:pt x="834" y="371"/>
                  <a:pt x="858" y="333"/>
                </a:cubicBezTo>
                <a:cubicBezTo>
                  <a:pt x="868" y="298"/>
                  <a:pt x="877" y="274"/>
                  <a:pt x="898" y="245"/>
                </a:cubicBezTo>
                <a:cubicBezTo>
                  <a:pt x="912" y="190"/>
                  <a:pt x="943" y="144"/>
                  <a:pt x="959" y="90"/>
                </a:cubicBezTo>
                <a:cubicBezTo>
                  <a:pt x="891" y="19"/>
                  <a:pt x="741" y="28"/>
                  <a:pt x="654" y="22"/>
                </a:cubicBezTo>
                <a:cubicBezTo>
                  <a:pt x="592" y="0"/>
                  <a:pt x="625" y="9"/>
                  <a:pt x="492" y="22"/>
                </a:cubicBezTo>
                <a:cubicBezTo>
                  <a:pt x="471" y="24"/>
                  <a:pt x="431" y="35"/>
                  <a:pt x="431" y="35"/>
                </a:cubicBezTo>
                <a:cubicBezTo>
                  <a:pt x="418" y="48"/>
                  <a:pt x="401" y="55"/>
                  <a:pt x="390" y="69"/>
                </a:cubicBezTo>
                <a:cubicBezTo>
                  <a:pt x="385" y="75"/>
                  <a:pt x="385" y="83"/>
                  <a:pt x="383" y="90"/>
                </a:cubicBezTo>
                <a:cubicBezTo>
                  <a:pt x="376" y="114"/>
                  <a:pt x="374" y="124"/>
                  <a:pt x="383" y="83"/>
                </a:cubicBezTo>
                <a:close/>
              </a:path>
            </a:pathLst>
          </a:custGeom>
          <a:solidFill>
            <a:srgbClr val="ffff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39600" y="152388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&gt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28080" y="60958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mbolic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sible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e the concrete program on valid inpu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all predicates in path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constraints over all combinations of these 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results as inputs for step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no new predicates are found, or, if an error is found, 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2209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tatic void method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(x &gt; 0) &amp;&amp; (y &lt; 10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y &lt; 5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x &gt; 0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96120" y="11430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1) + {tr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657040" y="2286000"/>
            <a:ext cx="3119040" cy="1957320"/>
            <a:chOff x="5657040" y="2286000"/>
            <a:chExt cx="3119040" cy="1957320"/>
          </a:xfrm>
        </p:grpSpPr>
        <p:sp>
          <p:nvSpPr>
            <p:cNvPr id="389" name=""/>
            <p:cNvSpPr/>
            <p:nvPr/>
          </p:nvSpPr>
          <p:spPr>
            <a:xfrm>
              <a:off x="6856560" y="228600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92960" y="3087720"/>
              <a:ext cx="7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 &lt;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950160" y="2655720"/>
              <a:ext cx="761760" cy="457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035760" y="3417840"/>
              <a:ext cx="761760" cy="457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57040" y="38750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11920" y="2655720"/>
              <a:ext cx="762120" cy="457200"/>
            </a:xfrm>
            <a:prstGeom prst="line">
              <a:avLst/>
            </a:prstGeom>
            <a:ln w="93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7520" y="3417840"/>
              <a:ext cx="762120" cy="457200"/>
            </a:xfrm>
            <a:prstGeom prst="line">
              <a:avLst/>
            </a:prstGeom>
            <a:ln w="93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245280" y="4648320"/>
            <a:ext cx="2492640" cy="779760"/>
            <a:chOff x="6245280" y="4648320"/>
            <a:chExt cx="2492640" cy="779760"/>
          </a:xfrm>
        </p:grpSpPr>
        <p:sp>
          <p:nvSpPr>
            <p:cNvPr id="397" name=""/>
            <p:cNvSpPr/>
            <p:nvPr/>
          </p:nvSpPr>
          <p:spPr>
            <a:xfrm>
              <a:off x="6245280" y="4648320"/>
              <a:ext cx="24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1 = 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47080" y="502920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2 = y &lt;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7620120" y="16765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15200" y="3911760"/>
            <a:ext cx="0" cy="73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15240" y="601992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1) + {p1,p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3657600" y="5791320"/>
            <a:ext cx="1828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80880" y="4648320"/>
            <a:ext cx="3048120" cy="1600200"/>
            <a:chOff x="380880" y="4648320"/>
            <a:chExt cx="3048120" cy="1600200"/>
          </a:xfrm>
        </p:grpSpPr>
        <p:sp>
          <p:nvSpPr>
            <p:cNvPr id="405" name=""/>
            <p:cNvSpPr/>
            <p:nvPr/>
          </p:nvSpPr>
          <p:spPr>
            <a:xfrm>
              <a:off x="513720" y="5116680"/>
              <a:ext cx="2811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1,!p2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→ method(1,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!p1,p2  → method(-1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!p1,!p2 → method(-1,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1040" y="4699080"/>
              <a:ext cx="21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lve Constra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0880" y="4648320"/>
              <a:ext cx="3048120" cy="160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2209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tatic void method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(x &gt; 0) &amp;&amp; (y &lt; 10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y &lt; 5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x &gt; 0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396120" y="1143000"/>
            <a:ext cx="27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6) + {p1,!p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6560" y="22860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 &amp;&amp; y &lt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92960" y="30877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 &lt;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950160" y="2655720"/>
            <a:ext cx="76176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035760" y="3417840"/>
            <a:ext cx="76176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470000" y="3962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11920" y="2655720"/>
            <a:ext cx="76212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97520" y="3417840"/>
            <a:ext cx="76212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245280" y="4648320"/>
            <a:ext cx="2492640" cy="779760"/>
            <a:chOff x="6245280" y="4648320"/>
            <a:chExt cx="2492640" cy="779760"/>
          </a:xfrm>
        </p:grpSpPr>
        <p:sp>
          <p:nvSpPr>
            <p:cNvPr id="419" name=""/>
            <p:cNvSpPr/>
            <p:nvPr/>
          </p:nvSpPr>
          <p:spPr>
            <a:xfrm>
              <a:off x="6245280" y="4648320"/>
              <a:ext cx="24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1 = 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46720" y="5029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!p2 = y &lt;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620120" y="16765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315200" y="3911760"/>
            <a:ext cx="0" cy="73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14880" y="6019920"/>
            <a:ext cx="27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6) + {p1,!p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(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2280" y="2209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tatic void method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(x &gt; 0) &amp;&amp; (y &lt; 10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y &lt; 5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x &gt; 0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04680" y="114300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-1,1) + {!p1,p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94440" y="22860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 &amp;&amp; y &lt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315200" y="31240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6095520" y="2666880"/>
            <a:ext cx="76212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308440" y="3809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0" y="2666880"/>
            <a:ext cx="762120" cy="4572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320880" y="4648320"/>
            <a:ext cx="2562840" cy="779760"/>
            <a:chOff x="6320880" y="4648320"/>
            <a:chExt cx="2562840" cy="779760"/>
          </a:xfrm>
        </p:grpSpPr>
        <p:sp>
          <p:nvSpPr>
            <p:cNvPr id="434" name=""/>
            <p:cNvSpPr/>
            <p:nvPr/>
          </p:nvSpPr>
          <p:spPr>
            <a:xfrm>
              <a:off x="6320880" y="4648320"/>
              <a:ext cx="256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!p1 = 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22680" y="5029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!p3 = x &gt;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6858000" y="16765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315200" y="3911760"/>
            <a:ext cx="0" cy="73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08880" y="6019920"/>
            <a:ext cx="32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-1,1) + {!p1,p2,!p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3657600" y="5791320"/>
            <a:ext cx="1828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5181480"/>
            <a:ext cx="28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!p1,p3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→ method(1,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1040" y="475776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ve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724280"/>
            <a:ext cx="3048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96080" y="3429000"/>
            <a:ext cx="762120" cy="4572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934320" y="3429000"/>
            <a:ext cx="76176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52280" y="2209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tatic void method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(x &gt; 0) &amp;&amp; (y &lt; 10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y &lt; 5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x &gt; 0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633640" y="1143000"/>
            <a:ext cx="28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11) + {!p1,p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244920" y="4648320"/>
            <a:ext cx="2562840" cy="779760"/>
            <a:chOff x="6244920" y="4648320"/>
            <a:chExt cx="2562840" cy="779760"/>
          </a:xfrm>
        </p:grpSpPr>
        <p:sp>
          <p:nvSpPr>
            <p:cNvPr id="450" name=""/>
            <p:cNvSpPr/>
            <p:nvPr/>
          </p:nvSpPr>
          <p:spPr>
            <a:xfrm>
              <a:off x="6244920" y="4648320"/>
              <a:ext cx="256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!p1 = 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47080" y="502920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3 = y &lt;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086600" y="17524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3911760"/>
            <a:ext cx="0" cy="73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14880" y="6019920"/>
            <a:ext cx="28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11) + {!p1,p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70760" y="22860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 &amp;&amp; y &lt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391520" y="31240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6171840" y="2666880"/>
            <a:ext cx="76212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6319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934320" y="2666880"/>
            <a:ext cx="761760" cy="4572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3429000"/>
            <a:ext cx="76212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7009920" y="3429000"/>
            <a:ext cx="762120" cy="4572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 of Part 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ed under-approximation based search with refin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ward weakest preconditio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 symbolic executio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than automated refinement we use user-provided abst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is to generate test-cases to achieve high behavioral coverage for Java container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icit-State (1-step)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5120" y="1357560"/>
            <a:ext cx="533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 dfs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top(Stac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transitions t enabled in 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' = successor(s) after executing 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‘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T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‘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'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 s from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0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0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2514600"/>
            <a:ext cx="182880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2514600"/>
            <a:ext cx="76212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2286000"/>
            <a:ext cx="320040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2514600"/>
            <a:ext cx="373356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56480" y="2514600"/>
            <a:ext cx="3669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V (m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is the seq. length of API ca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is the number of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the parameters of th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986560" y="2717640"/>
            <a:ext cx="7642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114440" y="3429000"/>
            <a:ext cx="6858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14600" y="4876920"/>
            <a:ext cx="4038480" cy="1752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techniques for se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-cases from ENV(m,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btain maximum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at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57200" y="2743200"/>
            <a:ext cx="8687880" cy="1849680"/>
            <a:chOff x="457200" y="2743200"/>
            <a:chExt cx="8687880" cy="1849680"/>
          </a:xfrm>
        </p:grpSpPr>
        <p:sp>
          <p:nvSpPr>
            <p:cNvPr id="47" name=""/>
            <p:cNvSpPr/>
            <p:nvPr/>
          </p:nvSpPr>
          <p:spPr>
            <a:xfrm>
              <a:off x="457200" y="2792520"/>
              <a:ext cx="2498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1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x = 2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2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while (x&gt;0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3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x = x - 1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4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ssert false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8120" y="3581280"/>
              <a:ext cx="2666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22640" y="3048120"/>
              <a:ext cx="250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bstraction Mapping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 = (x&gt;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36240" y="2743200"/>
              <a:ext cx="3408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1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p = 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2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while (p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3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p = !p ? F : T | F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4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ssert false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ate Cover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8120" y="1625760"/>
            <a:ext cx="824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ver all combinations of a given set of predic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each branch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288880" y="2895480"/>
            <a:ext cx="44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66"/>
                </a:solidFill>
                <a:uFillTx/>
                <a:latin typeface="Arial"/>
              </a:rPr>
              <a:t>Red-Black Tree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oot = nu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left = nu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right = nu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parent = nu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color =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iques Conside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 model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atching on complete st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ion 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atching on abstract (partial)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ic Ex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matching using subsumption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ma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8080" y="3505320"/>
            <a:ext cx="73915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1600200"/>
            <a:ext cx="30481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 instr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1600200"/>
            <a:ext cx="12189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3733920"/>
            <a:ext cx="16761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0" y="2666880"/>
            <a:ext cx="152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29000" y="3733920"/>
            <a:ext cx="2209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ion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66680" y="3733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ag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97640" y="48006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990720" y="3657600"/>
            <a:ext cx="4800600" cy="1143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133360" y="28954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76720" y="2895480"/>
            <a:ext cx="1295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1447920"/>
            <a:ext cx="6324480" cy="18288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2895480"/>
            <a:ext cx="3581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Outp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1981080"/>
            <a:ext cx="73915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case numb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'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+R+P-REDro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'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put(0);put(4);put(5);put(1);put(2);put(3);remove(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54640" y="15238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ique ID for th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5240" y="13716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Branch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708960" y="13716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dica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71800" y="1828800"/>
            <a:ext cx="53352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724280" y="1676520"/>
            <a:ext cx="533520" cy="380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019560" y="1676520"/>
            <a:ext cx="14475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9240" y="312408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Test-case to achieve abov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286000" y="2743200"/>
            <a:ext cx="762120" cy="45720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12000" y="3809880"/>
            <a:ext cx="8151120" cy="2913480"/>
            <a:chOff x="612000" y="3809880"/>
            <a:chExt cx="8151120" cy="2913480"/>
          </a:xfrm>
        </p:grpSpPr>
        <p:sp>
          <p:nvSpPr>
            <p:cNvPr id="506" name=""/>
            <p:cNvSpPr/>
            <p:nvPr/>
          </p:nvSpPr>
          <p:spPr>
            <a:xfrm>
              <a:off x="2819520" y="4800600"/>
              <a:ext cx="5943600" cy="192276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est case number 7 for '32,L-R-P+RED'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X2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== X1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&amp;&amp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X2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&lt; X0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&amp;&amp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X1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&lt; X0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</a:rPr>
                <a:t>put(X0);put(X1);remove(X2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19520" y="3809880"/>
              <a:ext cx="5943600" cy="82548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est case number 7 for '32,L-R-P+RED'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ut(1);put(0);remove(0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74120" y="380988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cr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74120" y="480060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ymbo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66880" y="5257800"/>
              <a:ext cx="228600" cy="10666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93960" y="5410080"/>
              <a:ext cx="167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66"/>
                  </a:solidFill>
                  <a:latin typeface="Arial"/>
                </a:rPr>
                <a:t>Path Con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ith solu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2000" y="632448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ff"/>
                  </a:solidFill>
                  <a:latin typeface="Arial"/>
                </a:rPr>
                <a:t>Symbolic T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6553080"/>
              <a:ext cx="76176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vironment Skele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360" y="1295280"/>
            <a:ext cx="6257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 : sequenc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 : paramet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: abstractio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(int i = 0; i &lt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i++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 x = Verify.random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 (Verify.random(1)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0: put(x); break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1: remove(x); break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.ignoreIf(checkAbstractState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bolic Environment Skele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85345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 : sequenc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: abstractio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(int i = 0; i &lt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i++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icInteger x = new SymbolicInteger(“X“+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 (Verify.random(1)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0: put(x); break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1: remove(x); break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.ignoreIf(checkAbstractState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straction 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state to an abstract version and backtrack if the abstract state was seen before, i.e. discard test-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ping can be lossy o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ion mappings can be created by the user/t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ault abstraction mappings ar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ault Mapp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the heap of th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tructure of the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augmented with non-data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augmented with symbolic constraints on the data in the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quires checking constraint sub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nearization 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ing Structu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19810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66880" y="2666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09880" y="2666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09680" y="33526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33526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"/>
          <p:cNvCxnSpPr>
            <a:stCxn id="523" idx="3"/>
            <a:endCxn id="524" idx="0"/>
          </p:cNvCxnSpPr>
          <p:nvPr/>
        </p:nvCxnSpPr>
        <p:spPr>
          <a:xfrm flipH="1">
            <a:off x="2932920" y="2306160"/>
            <a:ext cx="4215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24" idx="3"/>
            <a:endCxn id="526" idx="0"/>
          </p:cNvCxnSpPr>
          <p:nvPr/>
        </p:nvCxnSpPr>
        <p:spPr>
          <a:xfrm flipH="1">
            <a:off x="2475720" y="29919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24" idx="5"/>
            <a:endCxn id="527" idx="0"/>
          </p:cNvCxnSpPr>
          <p:nvPr/>
        </p:nvCxnSpPr>
        <p:spPr>
          <a:xfrm>
            <a:off x="3122640" y="29919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1" name=""/>
          <p:cNvCxnSpPr>
            <a:stCxn id="523" idx="5"/>
            <a:endCxn id="525" idx="0"/>
          </p:cNvCxnSpPr>
          <p:nvPr/>
        </p:nvCxnSpPr>
        <p:spPr>
          <a:xfrm>
            <a:off x="3731760" y="23061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4648320" y="274320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48320" y="289548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67280" y="42670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952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00600" y="56386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56386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"/>
          <p:cNvCxnSpPr>
            <a:stCxn id="534" idx="3"/>
            <a:endCxn id="535" idx="0"/>
          </p:cNvCxnSpPr>
          <p:nvPr/>
        </p:nvCxnSpPr>
        <p:spPr>
          <a:xfrm flipH="1">
            <a:off x="5524200" y="459216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9" name=""/>
          <p:cNvCxnSpPr>
            <a:stCxn id="535" idx="3"/>
            <a:endCxn id="536" idx="0"/>
          </p:cNvCxnSpPr>
          <p:nvPr/>
        </p:nvCxnSpPr>
        <p:spPr>
          <a:xfrm flipH="1">
            <a:off x="5066640" y="52779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5" idx="5"/>
            <a:endCxn id="537" idx="0"/>
          </p:cNvCxnSpPr>
          <p:nvPr/>
        </p:nvCxnSpPr>
        <p:spPr>
          <a:xfrm>
            <a:off x="5713200" y="52779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1" name=""/>
          <p:cNvSpPr/>
          <p:nvPr/>
        </p:nvSpPr>
        <p:spPr>
          <a:xfrm>
            <a:off x="4419720" y="563868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19720" y="579132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72200" y="63244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37" idx="5"/>
            <a:endCxn id="543" idx="0"/>
          </p:cNvCxnSpPr>
          <p:nvPr/>
        </p:nvCxnSpPr>
        <p:spPr>
          <a:xfrm>
            <a:off x="6170400" y="59637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5" name=""/>
          <p:cNvSpPr/>
          <p:nvPr/>
        </p:nvSpPr>
        <p:spPr>
          <a:xfrm flipH="1">
            <a:off x="4419360" y="5486400"/>
            <a:ext cx="228600" cy="4572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28800" y="4114800"/>
            <a:ext cx="571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5484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7450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878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62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880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19810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2666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2666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952880" y="33526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33526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"/>
          <p:cNvCxnSpPr>
            <a:stCxn id="552" idx="3"/>
            <a:endCxn id="553" idx="0"/>
          </p:cNvCxnSpPr>
          <p:nvPr/>
        </p:nvCxnSpPr>
        <p:spPr>
          <a:xfrm flipH="1">
            <a:off x="5676120" y="2306160"/>
            <a:ext cx="4215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58" name=""/>
          <p:cNvCxnSpPr>
            <a:stCxn id="553" idx="3"/>
            <a:endCxn id="555" idx="0"/>
          </p:cNvCxnSpPr>
          <p:nvPr/>
        </p:nvCxnSpPr>
        <p:spPr>
          <a:xfrm flipH="1">
            <a:off x="5218920" y="29919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59" name=""/>
          <p:cNvCxnSpPr>
            <a:stCxn id="553" idx="5"/>
            <a:endCxn id="556" idx="0"/>
          </p:cNvCxnSpPr>
          <p:nvPr/>
        </p:nvCxnSpPr>
        <p:spPr>
          <a:xfrm>
            <a:off x="5865840" y="29919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60" name=""/>
          <p:cNvCxnSpPr>
            <a:stCxn id="552" idx="5"/>
            <a:endCxn id="554" idx="0"/>
          </p:cNvCxnSpPr>
          <p:nvPr/>
        </p:nvCxnSpPr>
        <p:spPr>
          <a:xfrm>
            <a:off x="6474960" y="23061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61" name=""/>
          <p:cNvSpPr/>
          <p:nvPr/>
        </p:nvSpPr>
        <p:spPr>
          <a:xfrm>
            <a:off x="609804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882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310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69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6312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8120" y="48006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38280" y="54864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81280" y="54864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981080" y="61722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19520" y="61722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"/>
          <p:cNvCxnSpPr>
            <a:stCxn id="566" idx="3"/>
            <a:endCxn id="567" idx="0"/>
          </p:cNvCxnSpPr>
          <p:nvPr/>
        </p:nvCxnSpPr>
        <p:spPr>
          <a:xfrm flipH="1">
            <a:off x="2704320" y="5125680"/>
            <a:ext cx="4215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7" idx="3"/>
            <a:endCxn id="569" idx="0"/>
          </p:cNvCxnSpPr>
          <p:nvPr/>
        </p:nvCxnSpPr>
        <p:spPr>
          <a:xfrm flipH="1">
            <a:off x="2247120" y="581148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7" idx="5"/>
            <a:endCxn id="570" idx="0"/>
          </p:cNvCxnSpPr>
          <p:nvPr/>
        </p:nvCxnSpPr>
        <p:spPr>
          <a:xfrm>
            <a:off x="2894040" y="581148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66" idx="5"/>
            <a:endCxn id="568" idx="0"/>
          </p:cNvCxnSpPr>
          <p:nvPr/>
        </p:nvCxnSpPr>
        <p:spPr>
          <a:xfrm>
            <a:off x="3503160" y="512568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312624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164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59200" y="61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97640" y="61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594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54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3592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78720" y="56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56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50320" y="63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41920" y="2133720"/>
            <a:ext cx="2387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 2 3 -1 -1 4 -1 -1 5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742800" y="2057400"/>
            <a:ext cx="2387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 2 3 -1 -1 4 -1 -1 5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65960" y="4876920"/>
            <a:ext cx="2387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 2 3 -1 -1 4 -1 -1 5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490440" y="4876920"/>
            <a:ext cx="2387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 2 3 -1 -1 4 -1 5 -1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629400" y="3581280"/>
            <a:ext cx="53352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707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1320" y="3581280"/>
            <a:ext cx="53316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6908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48520" y="2895480"/>
            <a:ext cx="53316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326280" y="2895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0" y="2209680"/>
            <a:ext cx="53352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35760" y="2209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arization + Mapp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2133720"/>
            <a:ext cx="5335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2819520"/>
            <a:ext cx="5335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2819520"/>
            <a:ext cx="5335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523880" y="350532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598" idx="3"/>
            <a:endCxn id="599" idx="0"/>
          </p:cNvCxnSpPr>
          <p:nvPr/>
        </p:nvCxnSpPr>
        <p:spPr>
          <a:xfrm flipH="1">
            <a:off x="1409400" y="245880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599" idx="3"/>
            <a:endCxn id="601" idx="0"/>
          </p:cNvCxnSpPr>
          <p:nvPr/>
        </p:nvCxnSpPr>
        <p:spPr>
          <a:xfrm flipH="1">
            <a:off x="951840" y="314460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5" name=""/>
          <p:cNvCxnSpPr>
            <a:stCxn id="599" idx="5"/>
            <a:endCxn id="602" idx="0"/>
          </p:cNvCxnSpPr>
          <p:nvPr/>
        </p:nvCxnSpPr>
        <p:spPr>
          <a:xfrm>
            <a:off x="1598400" y="3144600"/>
            <a:ext cx="1926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598" idx="5"/>
            <a:endCxn id="600" idx="0"/>
          </p:cNvCxnSpPr>
          <p:nvPr/>
        </p:nvCxnSpPr>
        <p:spPr>
          <a:xfrm>
            <a:off x="2207880" y="245880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18306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20760" y="2819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3560" y="3505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02000" y="3505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363760" y="2819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19680" y="1295280"/>
            <a:ext cx="28591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67080" y="289548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267080" y="304812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266720" y="2743200"/>
            <a:ext cx="228600" cy="4572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91520" y="2895480"/>
            <a:ext cx="53316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595" idx="3"/>
            <a:endCxn id="593" idx="0"/>
          </p:cNvCxnSpPr>
          <p:nvPr/>
        </p:nvCxnSpPr>
        <p:spPr>
          <a:xfrm flipH="1">
            <a:off x="6514920" y="253476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8" name=""/>
          <p:cNvCxnSpPr>
            <a:stCxn id="593" idx="3"/>
            <a:endCxn id="591" idx="0"/>
          </p:cNvCxnSpPr>
          <p:nvPr/>
        </p:nvCxnSpPr>
        <p:spPr>
          <a:xfrm flipH="1">
            <a:off x="6057360" y="32205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593" idx="5"/>
            <a:endCxn id="589" idx="0"/>
          </p:cNvCxnSpPr>
          <p:nvPr/>
        </p:nvCxnSpPr>
        <p:spPr>
          <a:xfrm>
            <a:off x="6703920" y="32205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595" idx="5"/>
            <a:endCxn id="616" idx="0"/>
          </p:cNvCxnSpPr>
          <p:nvPr/>
        </p:nvCxnSpPr>
        <p:spPr>
          <a:xfrm>
            <a:off x="7313400" y="25347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1" name=""/>
          <p:cNvSpPr/>
          <p:nvPr/>
        </p:nvSpPr>
        <p:spPr>
          <a:xfrm>
            <a:off x="7469280" y="2895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26280" y="1371600"/>
            <a:ext cx="276768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066680" y="426708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nearization takes a mapping object as parameter to indicate how each node in the heap should be linear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example above each node gets, besides the unique identifier, a mapping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r”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f the original structure had a red  node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b”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f the original structure had a black node in that position. If we also added the key values for each node the linearization  might have look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910600" y="6248520"/>
            <a:ext cx="3422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straction Mapp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6765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,a’ i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{preds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</a:t>
            </a: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wp(a’,T) /\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dd transitio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2971800"/>
            <a:ext cx="2743200" cy="3568680"/>
            <a:chOff x="685800" y="2971800"/>
            <a:chExt cx="2743200" cy="3568680"/>
          </a:xfrm>
        </p:grpSpPr>
        <p:sp>
          <p:nvSpPr>
            <p:cNvPr id="54" name=""/>
            <p:cNvSpPr/>
            <p:nvPr/>
          </p:nvSpPr>
          <p:spPr>
            <a:xfrm>
              <a:off x="1066680" y="4800600"/>
              <a:ext cx="1828800" cy="9144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54640" y="4114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85800" y="2971800"/>
              <a:ext cx="2743200" cy="914400"/>
              <a:chOff x="685800" y="2971800"/>
              <a:chExt cx="2743200" cy="914400"/>
            </a:xfrm>
          </p:grpSpPr>
          <p:sp>
            <p:nvSpPr>
              <p:cNvPr id="57" name=""/>
              <p:cNvSpPr/>
              <p:nvPr/>
            </p:nvSpPr>
            <p:spPr>
              <a:xfrm>
                <a:off x="685800" y="3048120"/>
                <a:ext cx="1143000" cy="685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wp(a’,T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00200" y="2971800"/>
                <a:ext cx="1828800" cy="914400"/>
              </a:xfrm>
              <a:prstGeom prst="ellipse">
                <a:avLst/>
              </a:prstGeom>
              <a:solidFill>
                <a:srgbClr val="cc99ff">
                  <a:alpha val="6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99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1373040" y="601992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a → 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068840" y="22860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y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6440" y="2286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t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486400" y="2666880"/>
            <a:ext cx="2590920" cy="3949560"/>
            <a:chOff x="5486400" y="2666880"/>
            <a:chExt cx="2590920" cy="3949560"/>
          </a:xfrm>
        </p:grpSpPr>
        <p:sp>
          <p:nvSpPr>
            <p:cNvPr id="63" name=""/>
            <p:cNvSpPr/>
            <p:nvPr/>
          </p:nvSpPr>
          <p:spPr>
            <a:xfrm>
              <a:off x="5867280" y="2971800"/>
              <a:ext cx="1828800" cy="914400"/>
            </a:xfrm>
            <a:prstGeom prst="ellipse">
              <a:avLst/>
            </a:prstGeom>
            <a:solidFill>
              <a:srgbClr val="cc99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743200"/>
              <a:ext cx="2590920" cy="11430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7280" y="4876920"/>
              <a:ext cx="1828800" cy="9144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5240" y="41911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6640" y="266688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wp(a’,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9960" y="609588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a → 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bolic Exec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440800" y="198108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ymbolic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28800" y="28954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62320" y="35812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42670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00200" y="42670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"/>
          <p:cNvCxnSpPr>
            <a:stCxn id="627" idx="3"/>
            <a:endCxn id="628" idx="0"/>
          </p:cNvCxnSpPr>
          <p:nvPr/>
        </p:nvCxnSpPr>
        <p:spPr>
          <a:xfrm flipH="1">
            <a:off x="1485720" y="322056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628" idx="3"/>
            <a:endCxn id="630" idx="0"/>
          </p:cNvCxnSpPr>
          <p:nvPr/>
        </p:nvCxnSpPr>
        <p:spPr>
          <a:xfrm flipH="1">
            <a:off x="1028160" y="39063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4" name=""/>
          <p:cNvCxnSpPr>
            <a:stCxn id="628" idx="5"/>
            <a:endCxn id="631" idx="0"/>
          </p:cNvCxnSpPr>
          <p:nvPr/>
        </p:nvCxnSpPr>
        <p:spPr>
          <a:xfrm>
            <a:off x="1674720" y="39063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27" idx="5"/>
            <a:endCxn id="629" idx="0"/>
          </p:cNvCxnSpPr>
          <p:nvPr/>
        </p:nvCxnSpPr>
        <p:spPr>
          <a:xfrm>
            <a:off x="2284200" y="32205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>
            <a:off x="1906920" y="2895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97080" y="3581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39880" y="4267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78320" y="4267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40080" y="3581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3600" y="3276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048120"/>
            <a:ext cx="15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gt; x2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gt; x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 x4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5 &gt;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298520" y="51814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33160" y="510552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mbolic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sumption Chec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16002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47920" y="22860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0920" y="22860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90720" y="29718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28800" y="29718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"/>
          <p:cNvCxnSpPr>
            <a:stCxn id="646" idx="3"/>
            <a:endCxn id="647" idx="0"/>
          </p:cNvCxnSpPr>
          <p:nvPr/>
        </p:nvCxnSpPr>
        <p:spPr>
          <a:xfrm flipH="1">
            <a:off x="1714320" y="192528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7" idx="3"/>
            <a:endCxn id="649" idx="0"/>
          </p:cNvCxnSpPr>
          <p:nvPr/>
        </p:nvCxnSpPr>
        <p:spPr>
          <a:xfrm flipH="1">
            <a:off x="1256760" y="261108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47" idx="5"/>
            <a:endCxn id="650" idx="0"/>
          </p:cNvCxnSpPr>
          <p:nvPr/>
        </p:nvCxnSpPr>
        <p:spPr>
          <a:xfrm>
            <a:off x="1903320" y="261108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6" idx="5"/>
            <a:endCxn id="648" idx="0"/>
          </p:cNvCxnSpPr>
          <p:nvPr/>
        </p:nvCxnSpPr>
        <p:spPr>
          <a:xfrm>
            <a:off x="2512800" y="192528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55" name=""/>
          <p:cNvSpPr/>
          <p:nvPr/>
        </p:nvSpPr>
        <p:spPr>
          <a:xfrm>
            <a:off x="2135520" y="1600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525680" y="2286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068480" y="2971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06920" y="2971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668680" y="2286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92200" y="19810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715000" y="1752480"/>
            <a:ext cx="15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gt; x2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gt; x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 x4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5 &gt;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057400" y="43434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47920" y="50292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90920" y="50292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57150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28800" y="57150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"/>
          <p:cNvCxnSpPr>
            <a:stCxn id="662" idx="3"/>
            <a:endCxn id="663" idx="0"/>
          </p:cNvCxnSpPr>
          <p:nvPr/>
        </p:nvCxnSpPr>
        <p:spPr>
          <a:xfrm flipH="1">
            <a:off x="1714320" y="466848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3" idx="3"/>
            <a:endCxn id="665" idx="0"/>
          </p:cNvCxnSpPr>
          <p:nvPr/>
        </p:nvCxnSpPr>
        <p:spPr>
          <a:xfrm flipH="1">
            <a:off x="1256760" y="535428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9" name=""/>
          <p:cNvCxnSpPr>
            <a:stCxn id="663" idx="5"/>
            <a:endCxn id="666" idx="0"/>
          </p:cNvCxnSpPr>
          <p:nvPr/>
        </p:nvCxnSpPr>
        <p:spPr>
          <a:xfrm>
            <a:off x="1903320" y="535428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0" name=""/>
          <p:cNvCxnSpPr>
            <a:stCxn id="662" idx="5"/>
            <a:endCxn id="664" idx="0"/>
          </p:cNvCxnSpPr>
          <p:nvPr/>
        </p:nvCxnSpPr>
        <p:spPr>
          <a:xfrm>
            <a:off x="2512800" y="466848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71" name=""/>
          <p:cNvSpPr/>
          <p:nvPr/>
        </p:nvSpPr>
        <p:spPr>
          <a:xfrm>
            <a:off x="2135520" y="4343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25680" y="5029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68480" y="5715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06920" y="5715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668680" y="5029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192200" y="47242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715000" y="4495680"/>
            <a:ext cx="15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gt; x2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gt; x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 x4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5 &gt;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133720" y="380988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133720" y="396252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400800" y="3429000"/>
            <a:ext cx="0" cy="838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666880" y="61722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only it was this simp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Ready for Checking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ential El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7400" y="17524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24382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90920" y="24382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90720" y="31240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828800" y="31240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8" name=""/>
          <p:cNvCxnSpPr>
            <a:stCxn id="683" idx="3"/>
            <a:endCxn id="684" idx="0"/>
          </p:cNvCxnSpPr>
          <p:nvPr/>
        </p:nvCxnSpPr>
        <p:spPr>
          <a:xfrm flipH="1">
            <a:off x="1714320" y="207756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4" idx="3"/>
            <a:endCxn id="686" idx="0"/>
          </p:cNvCxnSpPr>
          <p:nvPr/>
        </p:nvCxnSpPr>
        <p:spPr>
          <a:xfrm flipH="1">
            <a:off x="1256760" y="27633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4" idx="5"/>
            <a:endCxn id="687" idx="0"/>
          </p:cNvCxnSpPr>
          <p:nvPr/>
        </p:nvCxnSpPr>
        <p:spPr>
          <a:xfrm>
            <a:off x="1903320" y="27633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3" idx="5"/>
            <a:endCxn id="685" idx="0"/>
          </p:cNvCxnSpPr>
          <p:nvPr/>
        </p:nvCxnSpPr>
        <p:spPr>
          <a:xfrm>
            <a:off x="2512800" y="20775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2135520" y="1752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2438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068480" y="312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906920" y="312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668680" y="2438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417920" y="1752480"/>
            <a:ext cx="291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 &lt; s2 &amp; s4 &gt; s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 &lt; s1 &amp; s4 &lt; s5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s2 &amp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gt; s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576880" y="17128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92520" y="2362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125880" y="2438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11280" y="312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364120" y="312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658680" y="22096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5640" y="4135320"/>
            <a:ext cx="7515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1,s2,s3,s4,s5 such th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= s1 &amp; x2 = s4 &amp; x3 = s3 &amp; x4 = s5 &amp; x5 = s2  &amp;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427560" y="5305320"/>
            <a:ext cx="291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gt; x2 &amp; x2 &gt; x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 x4 &amp; x5 &gt;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ing Sub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69240" y="156060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tate = C1 &amp; C2 &amp;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981080"/>
            <a:ext cx="39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 state  = C1’ &amp; C2’ &amp;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674600" y="1778040"/>
            <a:ext cx="31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c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=&gt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293480" y="3200400"/>
            <a:ext cx="570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!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is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!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ne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\/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!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1 &amp; C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… &amp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!C1’ \/ !C2’ \/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1 &amp; C2 &amp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!C1’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\/ (C1 &amp; C2 &amp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!C2’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\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44600" y="259092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66"/>
                </a:solidFill>
                <a:uFillTx/>
                <a:latin typeface="Arial"/>
              </a:rPr>
              <a:t>Oops: Negation and Or doesn’t work in our version of the Omega Li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directional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sumption Chec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tr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more general th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increase chances of getting a match in the fu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on path from 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.e. don’t backtr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imately for each shape we want to use disjunction of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echnicality prevents us – bug in omega li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-Black 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Memory runs are not re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dth-first Search unless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Length = Valu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non-symbolic sear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compare under Branch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haustive Techni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nch Cover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152280" y="2438280"/>
          <a:ext cx="8763120" cy="2070360"/>
        </p:xfrm>
        <a:graphic>
          <a:graphicData uri="http://schemas.openxmlformats.org/drawingml/2006/table">
            <a:tbl>
              <a:tblPr/>
              <a:tblGrid>
                <a:gridCol w="2895840"/>
                <a:gridCol w="914400"/>
                <a:gridCol w="990360"/>
                <a:gridCol w="990720"/>
                <a:gridCol w="13716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M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+C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6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– S+S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"/>
          <p:cNvSpPr/>
          <p:nvPr/>
        </p:nvSpPr>
        <p:spPr>
          <a:xfrm>
            <a:off x="2214000" y="533412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al Branch Coverage is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-Approximation Techni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nch Cover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152280" y="2438280"/>
          <a:ext cx="8610840" cy="3105360"/>
        </p:xfrm>
        <a:graphic>
          <a:graphicData uri="http://schemas.openxmlformats.org/drawingml/2006/table">
            <a:tbl>
              <a:tblPr/>
              <a:tblGrid>
                <a:gridCol w="2054520"/>
                <a:gridCol w="947520"/>
                <a:gridCol w="1106640"/>
                <a:gridCol w="1342800"/>
                <a:gridCol w="1579680"/>
                <a:gridCol w="1579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.3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.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5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-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– S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4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"/>
          <p:cNvSpPr/>
          <p:nvPr/>
        </p:nvSpPr>
        <p:spPr>
          <a:xfrm>
            <a:off x="2289960" y="609588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al Branch Coverage is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haustive Techni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dicate Cover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52280" y="2438280"/>
          <a:ext cx="8763120" cy="2070360"/>
        </p:xfrm>
        <a:graphic>
          <a:graphicData uri="http://schemas.openxmlformats.org/drawingml/2006/table">
            <a:tbl>
              <a:tblPr/>
              <a:tblGrid>
                <a:gridCol w="2590920"/>
                <a:gridCol w="1066680"/>
                <a:gridCol w="1067040"/>
                <a:gridCol w="1218960"/>
                <a:gridCol w="1371600"/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M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+C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– S+S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"/>
          <p:cNvSpPr/>
          <p:nvPr/>
        </p:nvSpPr>
        <p:spPr>
          <a:xfrm>
            <a:off x="2214720" y="53341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al Predicate Coverage is 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-Approximation Techni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dicate Cover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152280" y="2438280"/>
          <a:ext cx="8610840" cy="3105360"/>
        </p:xfrm>
        <a:graphic>
          <a:graphicData uri="http://schemas.openxmlformats.org/drawingml/2006/table">
            <a:tbl>
              <a:tblPr/>
              <a:tblGrid>
                <a:gridCol w="2054520"/>
                <a:gridCol w="947520"/>
                <a:gridCol w="1106640"/>
                <a:gridCol w="1342800"/>
                <a:gridCol w="1579680"/>
                <a:gridCol w="1579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-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.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– S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.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7" name=""/>
          <p:cNvSpPr/>
          <p:nvPr/>
        </p:nvSpPr>
        <p:spPr>
          <a:xfrm>
            <a:off x="2291040" y="609588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al Predicate Coverage is 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1447920"/>
            <a:ext cx="8687880" cy="1849680"/>
            <a:chOff x="457200" y="1447920"/>
            <a:chExt cx="8687880" cy="1849680"/>
          </a:xfrm>
        </p:grpSpPr>
        <p:sp>
          <p:nvSpPr>
            <p:cNvPr id="71" name=""/>
            <p:cNvSpPr/>
            <p:nvPr/>
          </p:nvSpPr>
          <p:spPr>
            <a:xfrm>
              <a:off x="457200" y="1497240"/>
              <a:ext cx="2498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1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x = 2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2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while (x&gt;0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3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2800" spc="-1" strike="noStrike">
                  <a:solidFill>
                    <a:srgbClr val="bbe0e3"/>
                  </a:solidFill>
                  <a:latin typeface="Arial"/>
                </a:rPr>
                <a:t>x = x - 1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4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ssert false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2286000"/>
              <a:ext cx="2666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22640" y="1752840"/>
              <a:ext cx="250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bstraction Mapping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 = (x&gt;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36240" y="1447920"/>
              <a:ext cx="3408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1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p = 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2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while (p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3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2800" spc="-1" strike="noStrike">
                  <a:solidFill>
                    <a:srgbClr val="bbe0e3"/>
                  </a:solidFill>
                  <a:latin typeface="Arial"/>
                </a:rPr>
                <a:t>p = !p ? F : T | F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4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ssert false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09480" y="434340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wp(p,x=x-1) /\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d 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p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2800" y="571500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p(p,x=x-1) /\ !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00" y="373392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x – 1 &gt; 0}   x = x – 1 {p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3429000"/>
            <a:ext cx="5486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160" y="426708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wp(!p,x=x-1) /\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d 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!p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28360" y="373392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x – 1 &lt;= 0}   x = x – 1 {!p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440" y="5105520"/>
            <a:ext cx="24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wp(!p,x=x-1) /\ !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d !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!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5840" y="5867280"/>
            <a:ext cx="29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!p → wp(!p,x=x-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!p→ !p i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ra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simple coverage such as branch coverage, all the techniques work well, including the exhaustive on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aking the coverage more “behavioral”, even by a small increment, kills off the exhaustive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Blown Model Checking doesn’t work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close cousin, that only looks at the relevant state at the relevant time, scales much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ch - full coverage af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: 536s &amp; 584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: 10s &amp; 17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ate – best coverage af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: 79 covered with 543s &amp; 309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: 95 covered with 350s &amp; 228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ic techniques have a slight edge over concrete ones for exhaustiv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for Predicate Coverage (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Concrete(95): 350s &amp; 228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Symbolic(95): 123s &amp; 62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results indicate symbolic under-approximation based search is less efficient than concr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experimentation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ar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ms to work rather well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always have an edge on memory, since it uses almost 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most likely have an edge on speed, since it needs to do little additional work – it will however redo work of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in general do worse on test-case length, since it requires longer sequences to achieve more complex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Order Matters for the lossy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FS is inherently better than D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occasion though it is the other way 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 &amp; 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d how predicate abstraction can be used for an under-approximation based search with refin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d how a lightweight variant, where the abstraction mapping is given and no refinement is done, can be used for bug-finding and test-case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rive predicates for analyzing containers automatically through the use of symbolic execution during refin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we derive shape predicates automaticall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in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2440" y="1523880"/>
            <a:ext cx="340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le (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p = !p ? F : T | 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sert fal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94000" y="1600200"/>
            <a:ext cx="45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easibl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F),2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360" y="266688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 x=2 {x&gt;0}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 x=2 {x&gt;0}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 x=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{x&lt;=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1320" y="3962520"/>
            <a:ext cx="31114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{x &gt; 1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x -1 {x &gt; 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2280" y="4952880"/>
            <a:ext cx="2895840" cy="1600200"/>
            <a:chOff x="152280" y="4952880"/>
            <a:chExt cx="2895840" cy="1600200"/>
          </a:xfrm>
        </p:grpSpPr>
        <p:sp>
          <p:nvSpPr>
            <p:cNvPr id="89" name=""/>
            <p:cNvSpPr/>
            <p:nvPr/>
          </p:nvSpPr>
          <p:spPr>
            <a:xfrm>
              <a:off x="1066680" y="4952880"/>
              <a:ext cx="106704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280" y="5867280"/>
              <a:ext cx="106704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5867280"/>
              <a:ext cx="106704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9" idx="3"/>
              <a:endCxn id="90" idx="0"/>
            </p:cNvCxnSpPr>
            <p:nvPr/>
          </p:nvCxnSpPr>
          <p:spPr>
            <a:xfrm flipH="1">
              <a:off x="685800" y="5538240"/>
              <a:ext cx="536760" cy="3290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9" idx="5"/>
              <a:endCxn id="91" idx="0"/>
            </p:cNvCxnSpPr>
            <p:nvPr/>
          </p:nvCxnSpPr>
          <p:spPr>
            <a:xfrm>
              <a:off x="1978200" y="5538240"/>
              <a:ext cx="536760" cy="3290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4495680" y="5029200"/>
            <a:ext cx="2895480" cy="1600200"/>
            <a:chOff x="4495680" y="5029200"/>
            <a:chExt cx="2895480" cy="1600200"/>
          </a:xfrm>
        </p:grpSpPr>
        <p:sp>
          <p:nvSpPr>
            <p:cNvPr id="95" name=""/>
            <p:cNvSpPr/>
            <p:nvPr/>
          </p:nvSpPr>
          <p:spPr>
            <a:xfrm>
              <a:off x="5410080" y="50292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5680" y="59436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24480" y="59436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"/>
            <p:cNvCxnSpPr>
              <a:stCxn id="95" idx="3"/>
              <a:endCxn id="96" idx="0"/>
            </p:cNvCxnSpPr>
            <p:nvPr/>
          </p:nvCxnSpPr>
          <p:spPr>
            <a:xfrm flipH="1">
              <a:off x="5028120" y="5614560"/>
              <a:ext cx="537480" cy="3290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>
              <a:stCxn id="95" idx="5"/>
              <a:endCxn id="97" idx="0"/>
            </p:cNvCxnSpPr>
            <p:nvPr/>
          </p:nvCxnSpPr>
          <p:spPr>
            <a:xfrm>
              <a:off x="6321240" y="5614560"/>
              <a:ext cx="536760" cy="3290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00" name=""/>
          <p:cNvGrpSpPr/>
          <p:nvPr/>
        </p:nvGrpSpPr>
        <p:grpSpPr>
          <a:xfrm>
            <a:off x="7772400" y="5029200"/>
            <a:ext cx="1066680" cy="1600200"/>
            <a:chOff x="7772400" y="5029200"/>
            <a:chExt cx="1066680" cy="1600200"/>
          </a:xfrm>
        </p:grpSpPr>
        <p:sp>
          <p:nvSpPr>
            <p:cNvPr id="101" name=""/>
            <p:cNvSpPr/>
            <p:nvPr/>
          </p:nvSpPr>
          <p:spPr>
            <a:xfrm>
              <a:off x="7772400" y="50292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2400" y="59436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"/>
            <p:cNvCxnSpPr>
              <a:stCxn id="101" idx="4"/>
              <a:endCxn id="102" idx="0"/>
            </p:cNvCxnSpPr>
            <p:nvPr/>
          </p:nvCxnSpPr>
          <p:spPr>
            <a:xfrm>
              <a:off x="8305200" y="5714640"/>
              <a:ext cx="1080" cy="2293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04" name=""/>
          <p:cNvSpPr/>
          <p:nvPr/>
        </p:nvSpPr>
        <p:spPr>
          <a:xfrm>
            <a:off x="3352680" y="5791320"/>
            <a:ext cx="10670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26480" y="46483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4520" y="4648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409720" y="380988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Go Outside the Box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her than over-approximate and refine, we under-approximate and re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ly complements existing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restrict ourselves only to feasible behaviors when under-approximating then all safety property violations will be pre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on top of classic explicit-state model checking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ic Explicit-State 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1357560"/>
            <a:ext cx="533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 dfs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top(Stac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transitions t enabled in 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' = successor(s) after executing 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' NOT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s' in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'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 s from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s0 in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0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icit-State (1-step)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1357560"/>
            <a:ext cx="533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 dfs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top(Stac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transitions t enabled in 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' = successor(s) after executing 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‘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T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‘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'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 s from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0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0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2:02:38Z</dcterms:created>
  <dc:creator>Willem Visser</dc:creator>
  <dc:description/>
  <dc:language>en-US</dc:language>
  <cp:lastModifiedBy>Willem Visser</cp:lastModifiedBy>
  <dcterms:modified xsi:type="dcterms:W3CDTF">2005-03-04T13:06:33Z</dcterms:modified>
  <cp:revision>157</cp:revision>
  <dc:subject/>
  <dc:title>Abstraction Sear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1049539</vt:r8>
  </property>
  <property fmtid="{D5CDD505-2E9C-101B-9397-08002B2CF9AE}" pid="3" name="_AuthorEmail">
    <vt:lpwstr>wvisser@email.arc.nasa.gov</vt:lpwstr>
  </property>
  <property fmtid="{D5CDD505-2E9C-101B-9397-08002B2CF9AE}" pid="4" name="_AuthorEmailDisplayName">
    <vt:lpwstr>Willem Visser</vt:lpwstr>
  </property>
  <property fmtid="{D5CDD505-2E9C-101B-9397-08002B2CF9AE}" pid="5" name="_EmailSubject">
    <vt:lpwstr>Your slides for SVC seminar talk at CMU?</vt:lpwstr>
  </property>
</Properties>
</file>