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7E97-1CED-4F75-A38F-A92E7B418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o hide the next 5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nly relevant for pure literals. Should change the definition, saying that we can always switch the value of a misassigned pure lite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o hide the next 5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right: at least one of e1,e2 is non-cond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right: at least one of e1,e2 is non-cond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Refinement, can also do equi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Refinement, can also do equi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Refinement, can also do equi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 dr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5A67-E166-4976-AEF6-BAC6D61A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9441-AD09-4861-B6EF-863EC301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8626-82C7-4453-8E91-37A61257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3677-C7F0-4FEE-97EE-85626A78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D031-AD80-4A22-8A8A-D4125CA2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0274-40DB-46DF-97DE-1DE8F515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786B-24F0-43EB-9D3D-91DC95E4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679B-8486-4B65-8840-5D0D887E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FBA0-A99C-4691-BFD5-01B9D8FC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12D7-D70C-4FD9-B71F-BCF53B03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40F7-F064-4995-A824-CDFCB7A3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247D-847D-4285-A0FE-BAD3D516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4C99-0582-48AF-B19D-90231A26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61E0-542F-498A-9163-409D875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4420-379E-44D8-8A58-966EB836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F740-BDB1-440C-8986-8A295E50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9556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85BE-9D3B-4A0C-930D-5AFBA551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2ED08-07C1-44B6-B0AE-660D9340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EDE4-1B63-40D7-91F2-ABE42465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DB90-117A-4CC0-9775-F1E7DC74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44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98F7-4692-4810-BCB3-985B1C06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CDCA-7D50-4F21-824F-936611BC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9556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7351-8F72-415F-A842-5CF39B8A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9556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5CAF-FF5D-4E29-83BD-B64AD91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ED3A-BA97-4D56-BF15-DCBE7C130C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A567-F755-4D36-8A60-C683D1C52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(Yet another) decision procedure for Equality Logic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Times New Roman"/>
              </a:rPr>
              <a:t>Ofer Strichman and Orly Meir</a:t>
            </a: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666699"/>
                </a:solidFill>
                <a:latin typeface="Times New Roman"/>
              </a:rPr>
              <a:t>Technion</a:t>
            </a:r>
            <a:endParaRPr b="0" lang="en-US" sz="30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5229360"/>
            <a:ext cx="927000" cy="129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6860-D6FF-46CD-B8F2-A0D9F2971A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Dfn: A graph is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horda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f every cycle of size 4 or more has a chord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How to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make a graph chorda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? eliminate vertices one at a time, and connect their neighbors.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276720" y="4003560"/>
            <a:ext cx="2447640" cy="1873080"/>
            <a:chOff x="3276720" y="4003560"/>
            <a:chExt cx="2447640" cy="1873080"/>
          </a:xfrm>
        </p:grpSpPr>
        <p:sp>
          <p:nvSpPr>
            <p:cNvPr id="262" name=""/>
            <p:cNvSpPr/>
            <p:nvPr/>
          </p:nvSpPr>
          <p:spPr>
            <a:xfrm>
              <a:off x="3348000" y="436392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45160" y="4457520"/>
              <a:ext cx="792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06680" y="5800680"/>
              <a:ext cx="2173320" cy="3240"/>
            </a:xfrm>
            <a:custGeom>
              <a:avLst/>
              <a:gdLst/>
              <a:ahLst/>
              <a:rect l="l" t="t" r="r" b="b"/>
              <a:pathLst>
                <a:path w="1369" h="2">
                  <a:moveTo>
                    <a:pt x="0" y="2"/>
                  </a:moveTo>
                  <a:lnTo>
                    <a:pt x="13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46440" y="4073400"/>
              <a:ext cx="1057320" cy="287280"/>
            </a:xfrm>
            <a:custGeom>
              <a:avLst/>
              <a:gdLst/>
              <a:ahLst/>
              <a:rect l="l" t="t" r="r" b="b"/>
              <a:pathLst>
                <a:path w="666" h="181">
                  <a:moveTo>
                    <a:pt x="0" y="0"/>
                  </a:moveTo>
                  <a:lnTo>
                    <a:pt x="666" y="1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76720" y="42922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76720" y="57322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80000" y="573372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81800" y="429228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27640" y="400356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09920" y="4078080"/>
              <a:ext cx="1017720" cy="270000"/>
            </a:xfrm>
            <a:custGeom>
              <a:avLst/>
              <a:gdLst/>
              <a:ahLst/>
              <a:rect l="l" t="t" r="r" b="b"/>
              <a:pathLst>
                <a:path w="641" h="170">
                  <a:moveTo>
                    <a:pt x="0" y="170"/>
                  </a:moveTo>
                  <a:lnTo>
                    <a:pt x="6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V="1">
            <a:off x="4402080" y="3919680"/>
            <a:ext cx="216000" cy="28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533920" y="4232160"/>
            <a:ext cx="216000" cy="28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33840" y="4140360"/>
            <a:ext cx="1079640" cy="1612800"/>
          </a:xfrm>
          <a:custGeom>
            <a:avLst/>
            <a:gdLst/>
            <a:ahLst/>
            <a:rect l="l" t="t" r="r" b="b"/>
            <a:pathLst>
              <a:path w="680" h="1016">
                <a:moveTo>
                  <a:pt x="0" y="0"/>
                </a:moveTo>
                <a:lnTo>
                  <a:pt x="680" y="1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82920" y="4400640"/>
            <a:ext cx="2217960" cy="1377720"/>
          </a:xfrm>
          <a:custGeom>
            <a:avLst/>
            <a:gdLst/>
            <a:ahLst/>
            <a:rect l="l" t="t" r="r" b="b"/>
            <a:pathLst>
              <a:path w="1397" h="868">
                <a:moveTo>
                  <a:pt x="1397" y="8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228840" y="4219560"/>
            <a:ext cx="216000" cy="28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7989-51F5-421B-BC4E-44810BBD0F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n a chordal graph, it is sufficient to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onstrain only triangle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Polynomial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# of edges and constraint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# constraints = 3 </a:t>
            </a:r>
            <a:r>
              <a:rPr b="0" lang="en-US" sz="2800" spc="-1" strike="noStrike">
                <a:solidFill>
                  <a:srgbClr val="666699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#triangl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276720" y="2565360"/>
            <a:ext cx="2447640" cy="1873080"/>
            <a:chOff x="3276720" y="2565360"/>
            <a:chExt cx="2447640" cy="1873080"/>
          </a:xfrm>
        </p:grpSpPr>
        <p:sp>
          <p:nvSpPr>
            <p:cNvPr id="280" name=""/>
            <p:cNvSpPr/>
            <p:nvPr/>
          </p:nvSpPr>
          <p:spPr>
            <a:xfrm>
              <a:off x="3348000" y="292572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45160" y="3019320"/>
              <a:ext cx="792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06680" y="4362480"/>
              <a:ext cx="2173320" cy="3240"/>
            </a:xfrm>
            <a:custGeom>
              <a:avLst/>
              <a:gdLst/>
              <a:ahLst/>
              <a:rect l="l" t="t" r="r" b="b"/>
              <a:pathLst>
                <a:path w="1369" h="2">
                  <a:moveTo>
                    <a:pt x="0" y="2"/>
                  </a:moveTo>
                  <a:lnTo>
                    <a:pt x="13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6440" y="2635200"/>
              <a:ext cx="1057320" cy="287280"/>
            </a:xfrm>
            <a:custGeom>
              <a:avLst/>
              <a:gdLst/>
              <a:ahLst/>
              <a:rect l="l" t="t" r="r" b="b"/>
              <a:pathLst>
                <a:path w="666" h="181">
                  <a:moveTo>
                    <a:pt x="0" y="0"/>
                  </a:moveTo>
                  <a:lnTo>
                    <a:pt x="666" y="1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76720" y="28540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76720" y="42940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80000" y="429552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1800" y="285408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27640" y="256536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09920" y="2639880"/>
              <a:ext cx="1017720" cy="270000"/>
            </a:xfrm>
            <a:custGeom>
              <a:avLst/>
              <a:gdLst/>
              <a:ahLst/>
              <a:rect l="l" t="t" r="r" b="b"/>
              <a:pathLst>
                <a:path w="641" h="170">
                  <a:moveTo>
                    <a:pt x="0" y="170"/>
                  </a:moveTo>
                  <a:lnTo>
                    <a:pt x="64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546440" y="2666880"/>
            <a:ext cx="1054440" cy="1650960"/>
          </a:xfrm>
          <a:custGeom>
            <a:avLst/>
            <a:gdLst/>
            <a:ahLst/>
            <a:rect l="l" t="t" r="r" b="b"/>
            <a:pathLst>
              <a:path w="664" h="1040">
                <a:moveTo>
                  <a:pt x="0" y="0"/>
                </a:moveTo>
                <a:lnTo>
                  <a:pt x="664" y="10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82920" y="2975040"/>
            <a:ext cx="2197080" cy="1404720"/>
          </a:xfrm>
          <a:custGeom>
            <a:avLst/>
            <a:gdLst/>
            <a:ahLst/>
            <a:rect l="l" t="t" r="r" b="b"/>
            <a:pathLst>
              <a:path w="1384" h="885">
                <a:moveTo>
                  <a:pt x="1384" y="88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36920" y="4457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25800" y="3357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78160" y="2422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9800" y="234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89440" y="350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78160" y="3129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97080" y="3129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66760" y="330660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ff"/>
                </a:solidFill>
                <a:latin typeface="Times New Roman"/>
              </a:rPr>
              <a:t>Contradicti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19640" y="4365720"/>
            <a:ext cx="2147760" cy="14040"/>
          </a:xfrm>
          <a:custGeom>
            <a:avLst/>
            <a:gdLst/>
            <a:ahLst/>
            <a:rect l="l" t="t" r="r" b="b"/>
            <a:pathLst>
              <a:path w="1353" h="9">
                <a:moveTo>
                  <a:pt x="0" y="9"/>
                </a:moveTo>
                <a:lnTo>
                  <a:pt x="1353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40080" y="3009960"/>
            <a:ext cx="12600" cy="1282680"/>
          </a:xfrm>
          <a:custGeom>
            <a:avLst/>
            <a:gdLst/>
            <a:ahLst/>
            <a:rect l="l" t="t" r="r" b="b"/>
            <a:pathLst>
              <a:path w="8" h="808">
                <a:moveTo>
                  <a:pt x="8" y="80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03440" y="2971800"/>
            <a:ext cx="2171880" cy="1384200"/>
          </a:xfrm>
          <a:custGeom>
            <a:avLst/>
            <a:gdLst/>
            <a:ahLst/>
            <a:rect l="l" t="t" r="r" b="b"/>
            <a:pathLst>
              <a:path w="1368" h="872">
                <a:moveTo>
                  <a:pt x="0" y="0"/>
                </a:moveTo>
                <a:lnTo>
                  <a:pt x="1368" y="872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B35A-DC32-449C-99D6-F214AABF00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3128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mprovement</a:t>
            </a:r>
            <a:br>
              <a:rPr sz="3600"/>
            </a:b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Reduced Transitivity Constraints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(R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o far w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did not consider the polarity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of the edges.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ssuming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Negation Normal Form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53840" y="2205000"/>
            <a:ext cx="403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157560" y="4743360"/>
            <a:ext cx="1440000" cy="110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94400" y="4743360"/>
            <a:ext cx="1152360" cy="110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30640" y="590868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50120" y="576900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23480" y="436248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27040" y="5769000"/>
            <a:ext cx="2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46512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59280" y="5802480"/>
            <a:ext cx="14256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21200" y="5823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20" y="443376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(polar) Equality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9388400">
            <a:off x="3709440" y="50130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3135000">
            <a:off x="5169240" y="5033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88400" y="5808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551D-24B7-44CD-B598-2E04DAEA83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otonicity of NN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3: NNF formulas are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monotonically satisfied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in CNF this is simply th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pure literal rul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be in NNF and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satisfiable.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3 implies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Deri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by switching the value of a ‘mis-assigned’ pure literal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92B3-C08F-4947-B795-4742942A43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laim: in the following grap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ufficient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is is only true because of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monotonicity of NNF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an extension of th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pure litera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rule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395280" y="31284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mprovement</a:t>
            </a:r>
            <a:br>
              <a:rPr sz="3600"/>
            </a:b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Reduced Transitivity Constraints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(R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68200" y="2492280"/>
            <a:ext cx="2992680" cy="2272320"/>
            <a:chOff x="2968200" y="2492280"/>
            <a:chExt cx="2992680" cy="2272320"/>
          </a:xfrm>
        </p:grpSpPr>
        <p:grpSp>
          <p:nvGrpSpPr>
            <p:cNvPr id="325" name=""/>
            <p:cNvGrpSpPr/>
            <p:nvPr/>
          </p:nvGrpSpPr>
          <p:grpSpPr>
            <a:xfrm>
              <a:off x="2968200" y="2852640"/>
              <a:ext cx="2681640" cy="1845360"/>
              <a:chOff x="2968200" y="2852640"/>
              <a:chExt cx="2681640" cy="1845360"/>
            </a:xfrm>
          </p:grpSpPr>
          <p:sp>
            <p:nvSpPr>
              <p:cNvPr id="326" name=""/>
              <p:cNvSpPr/>
              <p:nvPr/>
            </p:nvSpPr>
            <p:spPr>
              <a:xfrm>
                <a:off x="3274920" y="2923920"/>
                <a:ext cx="0" cy="14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21000" y="2965320"/>
                <a:ext cx="2187720" cy="1326960"/>
              </a:xfrm>
              <a:custGeom>
                <a:avLst/>
                <a:gdLst/>
                <a:ahLst/>
                <a:rect l="l" t="t" r="r" b="b"/>
                <a:pathLst>
                  <a:path w="644" h="404">
                    <a:moveTo>
                      <a:pt x="0" y="0"/>
                    </a:moveTo>
                    <a:lnTo>
                      <a:pt x="644" y="40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46560" y="4335120"/>
                <a:ext cx="2173320" cy="3240"/>
              </a:xfrm>
              <a:custGeom>
                <a:avLst/>
                <a:gdLst/>
                <a:ahLst/>
                <a:rect l="l" t="t" r="r" b="b"/>
                <a:pathLst>
                  <a:path w="1369" h="2">
                    <a:moveTo>
                      <a:pt x="0" y="2"/>
                    </a:moveTo>
                    <a:lnTo>
                      <a:pt x="136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3640" y="2852640"/>
                <a:ext cx="142920" cy="1429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3640" y="4292280"/>
                <a:ext cx="142920" cy="1429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06920" y="4294080"/>
                <a:ext cx="142920" cy="1429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68200" y="346356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10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277880" y="429228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10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277880" y="328428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10"/>
                  </a:rPr>
                  <a:t>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3065760" y="43657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60000" y="249228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50560" y="429264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876200">
              <a:off x="3996000" y="3429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44600" y="40766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2560" y="3271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027840" y="2633760"/>
            <a:ext cx="192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lowing e.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7A7F-6A80-4139-9526-5DFE07B261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9999ff"/>
                </a:solidFill>
                <a:latin typeface="cmr10"/>
              </a:rPr>
              <a:t>Equality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predic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{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hich we can break to two se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Equality Grap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a.k.a “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E-graph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”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923200" y="4941720"/>
            <a:ext cx="3376440" cy="1805400"/>
            <a:chOff x="2923200" y="4941720"/>
            <a:chExt cx="3376440" cy="1805400"/>
          </a:xfrm>
        </p:grpSpPr>
        <p:sp>
          <p:nvSpPr>
            <p:cNvPr id="345" name=""/>
            <p:cNvSpPr/>
            <p:nvPr/>
          </p:nvSpPr>
          <p:spPr>
            <a:xfrm>
              <a:off x="3230640" y="5308560"/>
              <a:ext cx="1274760" cy="1122480"/>
            </a:xfrm>
            <a:custGeom>
              <a:avLst/>
              <a:gdLst/>
              <a:ahLst/>
              <a:rect l="l" t="t" r="r" b="b"/>
              <a:pathLst>
                <a:path w="803" h="707">
                  <a:moveTo>
                    <a:pt x="0" y="707"/>
                  </a:moveTo>
                  <a:lnTo>
                    <a:pt x="8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7680" y="5321160"/>
              <a:ext cx="1309680" cy="1109880"/>
            </a:xfrm>
            <a:custGeom>
              <a:avLst/>
              <a:gdLst/>
              <a:ahLst/>
              <a:rect l="l" t="t" r="r" b="b"/>
              <a:pathLst>
                <a:path w="825" h="699">
                  <a:moveTo>
                    <a:pt x="0" y="0"/>
                  </a:moveTo>
                  <a:lnTo>
                    <a:pt x="825" y="6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03720" y="648828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23200" y="63482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6560" y="49417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00120" y="634824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00720" y="523080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2360" y="638172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94280" y="640224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E6B03-EBBA-48CC-AF9C-FED38168EC9E}" type="slidenum">
              <a:t>15</a:t>
            </a:fld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unsatisfiab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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satisfiab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graph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represents an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abstraction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of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t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ignores the Boolean structure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of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923200" y="2633760"/>
            <a:ext cx="3376440" cy="1805040"/>
            <a:chOff x="2923200" y="2633760"/>
            <a:chExt cx="3376440" cy="1805040"/>
          </a:xfrm>
        </p:grpSpPr>
        <p:sp>
          <p:nvSpPr>
            <p:cNvPr id="357" name=""/>
            <p:cNvSpPr/>
            <p:nvPr/>
          </p:nvSpPr>
          <p:spPr>
            <a:xfrm>
              <a:off x="3230640" y="3000240"/>
              <a:ext cx="1274760" cy="1122120"/>
            </a:xfrm>
            <a:custGeom>
              <a:avLst/>
              <a:gdLst/>
              <a:ahLst/>
              <a:rect l="l" t="t" r="r" b="b"/>
              <a:pathLst>
                <a:path w="803" h="707">
                  <a:moveTo>
                    <a:pt x="0" y="707"/>
                  </a:moveTo>
                  <a:lnTo>
                    <a:pt x="8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7680" y="3012840"/>
              <a:ext cx="1309680" cy="1109520"/>
            </a:xfrm>
            <a:custGeom>
              <a:avLst/>
              <a:gdLst/>
              <a:ahLst/>
              <a:rect l="l" t="t" r="r" b="b"/>
              <a:pathLst>
                <a:path w="825" h="699">
                  <a:moveTo>
                    <a:pt x="0" y="0"/>
                  </a:moveTo>
                  <a:lnTo>
                    <a:pt x="825" y="6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03720" y="41799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23200" y="40399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96560" y="26337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00120" y="40399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00720" y="2922480"/>
              <a:ext cx="14292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32360" y="4073400"/>
              <a:ext cx="14256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94280" y="4093920"/>
              <a:ext cx="14292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1D20-60BA-4F7D-A778-E53A45A47D9E}" type="slidenum">
              <a:t>16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Equality Path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a path made of equalities.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e write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*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Disequality Path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a path made of equalities and exactly one disequa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e 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9480" indent="-3394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99ff"/>
                </a:solidFill>
                <a:latin typeface="Times New Roman"/>
              </a:rPr>
              <a:t>Contradictory Cycle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wo nodes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.t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orm a contradictory cyc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81760" y="833400"/>
            <a:ext cx="3376440" cy="1805400"/>
            <a:chOff x="3281760" y="833400"/>
            <a:chExt cx="3376440" cy="1805400"/>
          </a:xfrm>
        </p:grpSpPr>
        <p:sp>
          <p:nvSpPr>
            <p:cNvPr id="369" name=""/>
            <p:cNvSpPr/>
            <p:nvPr/>
          </p:nvSpPr>
          <p:spPr>
            <a:xfrm>
              <a:off x="3589200" y="1200240"/>
              <a:ext cx="1274760" cy="1122480"/>
            </a:xfrm>
            <a:custGeom>
              <a:avLst/>
              <a:gdLst/>
              <a:ahLst/>
              <a:rect l="l" t="t" r="r" b="b"/>
              <a:pathLst>
                <a:path w="803" h="707">
                  <a:moveTo>
                    <a:pt x="0" y="707"/>
                  </a:moveTo>
                  <a:lnTo>
                    <a:pt x="8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16240" y="1212840"/>
              <a:ext cx="1309680" cy="1109880"/>
            </a:xfrm>
            <a:custGeom>
              <a:avLst/>
              <a:gdLst/>
              <a:ahLst/>
              <a:rect l="l" t="t" r="r" b="b"/>
              <a:pathLst>
                <a:path w="825" h="699">
                  <a:moveTo>
                    <a:pt x="0" y="0"/>
                  </a:moveTo>
                  <a:lnTo>
                    <a:pt x="825" y="6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62280" y="23799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81760" y="22399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55120" y="8334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58680" y="223992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59280" y="11224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90920" y="227340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252840" y="229392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5039-EAEE-4933-A2A9-79819B6F74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4: Every contradictory cycle is either simple or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ontains a simple contradictory cyc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059280" y="1557360"/>
            <a:ext cx="2447640" cy="1584360"/>
            <a:chOff x="3059280" y="1557360"/>
            <a:chExt cx="2447640" cy="1584360"/>
          </a:xfrm>
        </p:grpSpPr>
        <p:sp>
          <p:nvSpPr>
            <p:cNvPr id="381" name=""/>
            <p:cNvSpPr/>
            <p:nvPr/>
          </p:nvSpPr>
          <p:spPr>
            <a:xfrm>
              <a:off x="3130560" y="162864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27720" y="1722600"/>
              <a:ext cx="7920" cy="1274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76640" y="1670040"/>
              <a:ext cx="1022400" cy="641520"/>
            </a:xfrm>
            <a:custGeom>
              <a:avLst/>
              <a:gdLst/>
              <a:ahLst/>
              <a:rect l="l" t="t" r="r" b="b"/>
              <a:pathLst>
                <a:path w="644" h="404">
                  <a:moveTo>
                    <a:pt x="0" y="0"/>
                  </a:moveTo>
                  <a:lnTo>
                    <a:pt x="644" y="4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32240" y="2400480"/>
              <a:ext cx="1035000" cy="622080"/>
            </a:xfrm>
            <a:custGeom>
              <a:avLst/>
              <a:gdLst/>
              <a:ahLst/>
              <a:rect l="l" t="t" r="r" b="b"/>
              <a:pathLst>
                <a:path w="652" h="392">
                  <a:moveTo>
                    <a:pt x="0" y="0"/>
                  </a:moveTo>
                  <a:lnTo>
                    <a:pt x="652" y="3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01840" y="2381400"/>
              <a:ext cx="1035360" cy="661680"/>
            </a:xfrm>
            <a:custGeom>
              <a:avLst/>
              <a:gdLst/>
              <a:ahLst/>
              <a:rect l="l" t="t" r="r" b="b"/>
              <a:pathLst>
                <a:path w="652" h="417">
                  <a:moveTo>
                    <a:pt x="0" y="417"/>
                  </a:move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4840" y="1676520"/>
              <a:ext cx="1035360" cy="622080"/>
            </a:xfrm>
            <a:custGeom>
              <a:avLst/>
              <a:gdLst/>
              <a:ahLst/>
              <a:rect l="l" t="t" r="r" b="b"/>
              <a:pathLst>
                <a:path w="652" h="392">
                  <a:moveTo>
                    <a:pt x="0" y="392"/>
                  </a:moveTo>
                  <a:lnTo>
                    <a:pt x="6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59280" y="155736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59280" y="2997360"/>
              <a:ext cx="14256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11640" y="2276640"/>
              <a:ext cx="142920" cy="142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62560" y="299880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64000" y="155736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88DF-133E-43F9-8CAF-DCF0A88D82B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Dfn: A contradictory Cycle C is 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constrained unde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 does not allow this assignment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971640" y="4344840"/>
            <a:ext cx="5065560" cy="1747800"/>
            <a:chOff x="971640" y="4344840"/>
            <a:chExt cx="5065560" cy="1747800"/>
          </a:xfrm>
        </p:grpSpPr>
        <p:sp>
          <p:nvSpPr>
            <p:cNvPr id="395" name=""/>
            <p:cNvSpPr/>
            <p:nvPr/>
          </p:nvSpPr>
          <p:spPr>
            <a:xfrm>
              <a:off x="2908440" y="5045040"/>
              <a:ext cx="322200" cy="933480"/>
            </a:xfrm>
            <a:custGeom>
              <a:avLst/>
              <a:gdLst/>
              <a:ahLst/>
              <a:rect l="l" t="t" r="r" b="b"/>
              <a:pathLst>
                <a:path w="203" h="588">
                  <a:moveTo>
                    <a:pt x="203" y="58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92840" y="4917960"/>
              <a:ext cx="74520" cy="1060560"/>
            </a:xfrm>
            <a:custGeom>
              <a:avLst/>
              <a:gdLst/>
              <a:ahLst/>
              <a:rect l="l" t="t" r="r" b="b"/>
              <a:pathLst>
                <a:path w="47" h="668">
                  <a:moveTo>
                    <a:pt x="0" y="0"/>
                  </a:moveTo>
                  <a:lnTo>
                    <a:pt x="47" y="6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03720" y="60354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56000" y="434484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32000" y="592920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94280" y="594972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43280" y="492120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6000" y="47764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46240" y="4410000"/>
              <a:ext cx="1422720" cy="507960"/>
            </a:xfrm>
            <a:custGeom>
              <a:avLst/>
              <a:gdLst/>
              <a:ahLst/>
              <a:rect l="l" t="t" r="r" b="b"/>
              <a:pathLst>
                <a:path w="896" h="320">
                  <a:moveTo>
                    <a:pt x="896" y="0"/>
                  </a:moveTo>
                  <a:lnTo>
                    <a:pt x="0" y="3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00720" y="4416120"/>
              <a:ext cx="1328760" cy="387360"/>
            </a:xfrm>
            <a:custGeom>
              <a:avLst/>
              <a:gdLst/>
              <a:ahLst/>
              <a:rect l="l" t="t" r="r" b="b"/>
              <a:pathLst>
                <a:path w="837" h="244">
                  <a:moveTo>
                    <a:pt x="837" y="24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71640" y="51512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29440" y="5706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01680" y="52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65440" y="4633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5560" y="45860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53080" y="5281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4067280" y="2060640"/>
            <a:ext cx="217440" cy="187308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17800" y="2048040"/>
            <a:ext cx="505080" cy="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C417-E987-46D0-946F-563BB9FD258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Log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Domain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bm10"/>
              </a:rPr>
              <a:t>N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satisfiability problem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is there an assignment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at satisf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When is Equality Logic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usefu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?..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470400" y="1197000"/>
            <a:ext cx="3979080" cy="368280"/>
            <a:chOff x="3470400" y="1197000"/>
            <a:chExt cx="3979080" cy="368280"/>
          </a:xfrm>
        </p:grpSpPr>
        <p:sp>
          <p:nvSpPr>
            <p:cNvPr id="119" name=""/>
            <p:cNvSpPr/>
            <p:nvPr/>
          </p:nvSpPr>
          <p:spPr>
            <a:xfrm>
              <a:off x="3470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8968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5476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476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02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42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8FE8-A56C-43D3-A887-B749A6FEAD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s solid and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re dashed be a simple (contradictory) cycle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be a formula over the Boolean variables encoding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C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e say that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C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constrained i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with respec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f every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s.t.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F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…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T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ontradict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DCC1-486C-4704-8662-1B75AC3739A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i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onstrains all simple contradictory cycles,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53352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or every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5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5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5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533520" indent="-53352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s satisfiable if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atisfiab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000" y="5877000"/>
            <a:ext cx="1800000" cy="792000"/>
          </a:xfrm>
          <a:prstGeom prst="wedgeRoundRectCallout">
            <a:avLst>
              <a:gd name="adj1" fmla="val -8995"/>
              <a:gd name="adj2" fmla="val -101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Times New Roman"/>
              </a:rPr>
              <a:t>The Equality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59280" y="3933720"/>
            <a:ext cx="1944720" cy="792360"/>
          </a:xfrm>
          <a:prstGeom prst="wedgeRoundRectCallout">
            <a:avLst>
              <a:gd name="adj1" fmla="val -12041"/>
              <a:gd name="adj2" fmla="val -10110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Times New Roman"/>
              </a:rPr>
              <a:t>From the Spars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7881-73CD-4E72-871D-2027E887E30E}" type="slidenum">
              <a:t>21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 of the mai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6699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atisfiable </a:t>
            </a:r>
            <a:r>
              <a:rPr b="0" lang="en-US" sz="28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Æ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s satisfiable </a:t>
            </a:r>
            <a:r>
              <a:rPr b="0" lang="en-US" sz="28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Æ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atisfiabl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666699"/>
                </a:solidFill>
                <a:latin typeface="Wingdings"/>
                <a:ea typeface="Wingdings"/>
              </a:rPr>
              <a:t>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) Proof strategy: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Let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be a satisfying assignment to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e will construc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hat satisfi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From this we will conclude tha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 baseline="1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s satisfiabl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65080" y="615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7451640" y="587700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22382" y="10800"/>
                </a:moveTo>
                <a:lnTo>
                  <a:pt x="11877" y="17806"/>
                </a:lnTo>
                <a:lnTo>
                  <a:pt x="11877" y="3794"/>
                </a:lnTo>
                <a:close/>
              </a:path>
              <a:path fill="darken" w="37766" h="21600">
                <a:moveTo>
                  <a:pt x="24227" y="3794"/>
                </a:moveTo>
                <a:lnTo>
                  <a:pt x="24227" y="17806"/>
                </a:lnTo>
                <a:lnTo>
                  <a:pt x="25890" y="17806"/>
                </a:lnTo>
                <a:lnTo>
                  <a:pt x="25890" y="379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6160" y="611676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cc33"/>
                </a:solidFill>
                <a:latin typeface="Times New Roman"/>
              </a:rPr>
              <a:t>Skip p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324D-13DD-4020-8194-89FDA55A2EE7}" type="slidenum">
              <a:t>22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s for the 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Violating cycl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under an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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is assignment violate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but not necessaril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205080" y="3133800"/>
            <a:ext cx="2244960" cy="1439640"/>
            <a:chOff x="3205080" y="3133800"/>
            <a:chExt cx="2244960" cy="1439640"/>
          </a:xfrm>
        </p:grpSpPr>
        <p:sp>
          <p:nvSpPr>
            <p:cNvPr id="427" name=""/>
            <p:cNvSpPr/>
            <p:nvPr/>
          </p:nvSpPr>
          <p:spPr>
            <a:xfrm>
              <a:off x="3205080" y="3133800"/>
              <a:ext cx="0" cy="1439640"/>
            </a:xfrm>
            <a:prstGeom prst="line">
              <a:avLst/>
            </a:prstGeom>
            <a:ln w="936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51160" y="3174840"/>
              <a:ext cx="2187720" cy="1327320"/>
            </a:xfrm>
            <a:custGeom>
              <a:avLst/>
              <a:gdLst/>
              <a:ahLst/>
              <a:rect l="l" t="t" r="r" b="b"/>
              <a:pathLst>
                <a:path w="644" h="404">
                  <a:moveTo>
                    <a:pt x="0" y="0"/>
                  </a:moveTo>
                  <a:lnTo>
                    <a:pt x="644" y="404"/>
                  </a:lnTo>
                </a:path>
              </a:pathLst>
            </a:custGeom>
            <a:noFill/>
            <a:ln w="9360">
              <a:solidFill>
                <a:srgbClr val="ff33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76720" y="4545000"/>
              <a:ext cx="2173320" cy="3240"/>
            </a:xfrm>
            <a:custGeom>
              <a:avLst/>
              <a:gdLst/>
              <a:ahLst/>
              <a:rect l="l" t="t" r="r" b="b"/>
              <a:pathLst>
                <a:path w="1369" h="2">
                  <a:moveTo>
                    <a:pt x="0" y="2"/>
                  </a:moveTo>
                  <a:lnTo>
                    <a:pt x="1369" y="0"/>
                  </a:lnTo>
                </a:path>
              </a:pathLst>
            </a:custGeom>
            <a:noFill/>
            <a:ln w="9360">
              <a:solidFill>
                <a:srgbClr val="ff3300"/>
              </a:solidFill>
              <a:prstDash val="lgDashDot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3133800" y="3062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33800" y="4502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37080" y="45036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38960" y="3710160"/>
            <a:ext cx="38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11280" y="4502160"/>
            <a:ext cx="45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mmi10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38200" y="3429000"/>
            <a:ext cx="45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mmi10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97080" y="4214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09800" y="3565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69080" y="343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64000" y="2852640"/>
            <a:ext cx="1079640" cy="1079640"/>
          </a:xfrm>
          <a:prstGeom prst="wedgeRectCallout">
            <a:avLst>
              <a:gd name="adj1" fmla="val -76472"/>
              <a:gd name="adj2" fmla="val 8088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ther dashed or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65080" y="6157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34DF-B8C8-4054-8774-AB8C5299CDC6}" type="slidenum">
              <a:t>23</a:t>
            </a:fld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definitions for the 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363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 edg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666699"/>
                </a:solidFill>
                <a:latin typeface="Times New Roman"/>
              </a:rPr>
              <a:t>equal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under an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f there is an equality path between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ll assign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und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Deno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33640" y="334980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79720" y="339084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05280" y="476100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62360" y="3278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62360" y="4718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66000" y="471960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26000" y="4430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38360" y="3781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81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79720" y="4829040"/>
            <a:ext cx="2262240" cy="471600"/>
          </a:xfrm>
          <a:custGeom>
            <a:avLst/>
            <a:gdLst/>
            <a:ahLst/>
            <a:rect l="l" t="t" r="r" b="b"/>
            <a:pathLst>
              <a:path w="1425" h="493">
                <a:moveTo>
                  <a:pt x="0" y="14"/>
                </a:moveTo>
                <a:cubicBezTo>
                  <a:pt x="1" y="33"/>
                  <a:pt x="2" y="128"/>
                  <a:pt x="20" y="158"/>
                </a:cubicBezTo>
                <a:cubicBezTo>
                  <a:pt x="25" y="166"/>
                  <a:pt x="72" y="199"/>
                  <a:pt x="82" y="206"/>
                </a:cubicBezTo>
                <a:cubicBezTo>
                  <a:pt x="90" y="219"/>
                  <a:pt x="93" y="235"/>
                  <a:pt x="102" y="247"/>
                </a:cubicBezTo>
                <a:cubicBezTo>
                  <a:pt x="117" y="265"/>
                  <a:pt x="146" y="279"/>
                  <a:pt x="164" y="295"/>
                </a:cubicBezTo>
                <a:cubicBezTo>
                  <a:pt x="199" y="326"/>
                  <a:pt x="223" y="361"/>
                  <a:pt x="274" y="364"/>
                </a:cubicBezTo>
                <a:cubicBezTo>
                  <a:pt x="359" y="368"/>
                  <a:pt x="443" y="369"/>
                  <a:pt x="528" y="371"/>
                </a:cubicBezTo>
                <a:cubicBezTo>
                  <a:pt x="589" y="387"/>
                  <a:pt x="650" y="403"/>
                  <a:pt x="713" y="412"/>
                </a:cubicBezTo>
                <a:cubicBezTo>
                  <a:pt x="718" y="412"/>
                  <a:pt x="876" y="422"/>
                  <a:pt x="925" y="391"/>
                </a:cubicBezTo>
                <a:cubicBezTo>
                  <a:pt x="958" y="371"/>
                  <a:pt x="939" y="380"/>
                  <a:pt x="987" y="364"/>
                </a:cubicBezTo>
                <a:cubicBezTo>
                  <a:pt x="994" y="362"/>
                  <a:pt x="1008" y="357"/>
                  <a:pt x="1008" y="357"/>
                </a:cubicBezTo>
                <a:cubicBezTo>
                  <a:pt x="1055" y="362"/>
                  <a:pt x="1074" y="361"/>
                  <a:pt x="1110" y="384"/>
                </a:cubicBezTo>
                <a:cubicBezTo>
                  <a:pt x="1142" y="432"/>
                  <a:pt x="1122" y="421"/>
                  <a:pt x="1158" y="432"/>
                </a:cubicBezTo>
                <a:cubicBezTo>
                  <a:pt x="1160" y="439"/>
                  <a:pt x="1159" y="449"/>
                  <a:pt x="1165" y="453"/>
                </a:cubicBezTo>
                <a:cubicBezTo>
                  <a:pt x="1182" y="465"/>
                  <a:pt x="1233" y="480"/>
                  <a:pt x="1254" y="487"/>
                </a:cubicBezTo>
                <a:cubicBezTo>
                  <a:pt x="1320" y="483"/>
                  <a:pt x="1351" y="493"/>
                  <a:pt x="1398" y="460"/>
                </a:cubicBezTo>
                <a:cubicBezTo>
                  <a:pt x="1425" y="350"/>
                  <a:pt x="1382" y="264"/>
                  <a:pt x="1323" y="179"/>
                </a:cubicBezTo>
                <a:cubicBezTo>
                  <a:pt x="1308" y="134"/>
                  <a:pt x="1288" y="80"/>
                  <a:pt x="1337" y="48"/>
                </a:cubicBezTo>
                <a:cubicBezTo>
                  <a:pt x="1344" y="27"/>
                  <a:pt x="1343" y="10"/>
                  <a:pt x="136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53080" y="49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86160" y="4878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04520" y="46162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60320" y="47386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48360" y="3859200"/>
            <a:ext cx="1511280" cy="649440"/>
          </a:xfrm>
          <a:prstGeom prst="wedgeRectCallout">
            <a:avLst>
              <a:gd name="adj1" fmla="val -145902"/>
              <a:gd name="adj2" fmla="val 8545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64000" y="3139920"/>
            <a:ext cx="1511640" cy="649440"/>
          </a:xfrm>
          <a:prstGeom prst="wedgeRectCallout">
            <a:avLst>
              <a:gd name="adj1" fmla="val -32981"/>
              <a:gd name="adj2" fmla="val 14437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23240" y="29242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444840" y="2103480"/>
            <a:ext cx="1198440" cy="358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451480" y="3298680"/>
            <a:ext cx="1308240" cy="3272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7035840" y="4019400"/>
            <a:ext cx="1308240" cy="3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1B0F-77DF-4049-B72E-EBD0D005891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definitions for the 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363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 edg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666699"/>
                </a:solidFill>
                <a:latin typeface="Times New Roman"/>
              </a:rPr>
              <a:t>disequal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 under an assign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f there is a disequality path between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i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mmi10"/>
              </a:rPr>
              <a:t>j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n which the solid edge is the only one assigned false by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Deno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33640" y="334980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79720" y="339084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05280" y="476100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762360" y="3278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62360" y="47181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66000" y="471960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26000" y="4430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38360" y="37814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81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79720" y="4829040"/>
            <a:ext cx="2262240" cy="471600"/>
          </a:xfrm>
          <a:custGeom>
            <a:avLst/>
            <a:gdLst/>
            <a:ahLst/>
            <a:rect l="l" t="t" r="r" b="b"/>
            <a:pathLst>
              <a:path w="1425" h="493">
                <a:moveTo>
                  <a:pt x="0" y="14"/>
                </a:moveTo>
                <a:cubicBezTo>
                  <a:pt x="1" y="33"/>
                  <a:pt x="2" y="128"/>
                  <a:pt x="20" y="158"/>
                </a:cubicBezTo>
                <a:cubicBezTo>
                  <a:pt x="25" y="166"/>
                  <a:pt x="72" y="199"/>
                  <a:pt x="82" y="206"/>
                </a:cubicBezTo>
                <a:cubicBezTo>
                  <a:pt x="90" y="219"/>
                  <a:pt x="93" y="235"/>
                  <a:pt x="102" y="247"/>
                </a:cubicBezTo>
                <a:cubicBezTo>
                  <a:pt x="117" y="265"/>
                  <a:pt x="146" y="279"/>
                  <a:pt x="164" y="295"/>
                </a:cubicBezTo>
                <a:cubicBezTo>
                  <a:pt x="199" y="326"/>
                  <a:pt x="223" y="361"/>
                  <a:pt x="274" y="364"/>
                </a:cubicBezTo>
                <a:cubicBezTo>
                  <a:pt x="359" y="368"/>
                  <a:pt x="443" y="369"/>
                  <a:pt x="528" y="371"/>
                </a:cubicBezTo>
                <a:cubicBezTo>
                  <a:pt x="589" y="387"/>
                  <a:pt x="650" y="403"/>
                  <a:pt x="713" y="412"/>
                </a:cubicBezTo>
                <a:cubicBezTo>
                  <a:pt x="718" y="412"/>
                  <a:pt x="876" y="422"/>
                  <a:pt x="925" y="391"/>
                </a:cubicBezTo>
                <a:cubicBezTo>
                  <a:pt x="958" y="371"/>
                  <a:pt x="939" y="380"/>
                  <a:pt x="987" y="364"/>
                </a:cubicBezTo>
                <a:cubicBezTo>
                  <a:pt x="994" y="362"/>
                  <a:pt x="1008" y="357"/>
                  <a:pt x="1008" y="357"/>
                </a:cubicBezTo>
                <a:cubicBezTo>
                  <a:pt x="1055" y="362"/>
                  <a:pt x="1074" y="361"/>
                  <a:pt x="1110" y="384"/>
                </a:cubicBezTo>
                <a:cubicBezTo>
                  <a:pt x="1142" y="432"/>
                  <a:pt x="1122" y="421"/>
                  <a:pt x="1158" y="432"/>
                </a:cubicBezTo>
                <a:cubicBezTo>
                  <a:pt x="1160" y="439"/>
                  <a:pt x="1159" y="449"/>
                  <a:pt x="1165" y="453"/>
                </a:cubicBezTo>
                <a:cubicBezTo>
                  <a:pt x="1182" y="465"/>
                  <a:pt x="1233" y="480"/>
                  <a:pt x="1254" y="487"/>
                </a:cubicBezTo>
                <a:cubicBezTo>
                  <a:pt x="1320" y="483"/>
                  <a:pt x="1351" y="493"/>
                  <a:pt x="1398" y="460"/>
                </a:cubicBezTo>
                <a:cubicBezTo>
                  <a:pt x="1425" y="350"/>
                  <a:pt x="1382" y="264"/>
                  <a:pt x="1323" y="179"/>
                </a:cubicBezTo>
                <a:cubicBezTo>
                  <a:pt x="1308" y="134"/>
                  <a:pt x="1288" y="80"/>
                  <a:pt x="1337" y="48"/>
                </a:cubicBezTo>
                <a:cubicBezTo>
                  <a:pt x="1344" y="27"/>
                  <a:pt x="1343" y="10"/>
                  <a:pt x="136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53080" y="49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86160" y="4878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04520" y="46162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60320" y="47386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6920" y="5229360"/>
            <a:ext cx="1511640" cy="649080"/>
          </a:xfrm>
          <a:prstGeom prst="wedgeRectCallout">
            <a:avLst>
              <a:gd name="adj1" fmla="val 149263"/>
              <a:gd name="adj2" fmla="val -166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03280" y="3357720"/>
            <a:ext cx="1511280" cy="649080"/>
          </a:xfrm>
          <a:prstGeom prst="wedgeRectCallout">
            <a:avLst>
              <a:gd name="adj1" fmla="val 110296"/>
              <a:gd name="adj2" fmla="val 9669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3240" y="292428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2193840" y="2563920"/>
            <a:ext cx="1198800" cy="3585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1476360" y="3500280"/>
            <a:ext cx="1308240" cy="3272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917640" y="5373720"/>
            <a:ext cx="1307880" cy="3268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1476360" y="3500280"/>
            <a:ext cx="1308240" cy="3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1A8A-BB4F-4AEF-8E94-3A64FA07C54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848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Observation 1: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e combination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s impossible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br>
              <a:rPr sz="2800"/>
            </a:b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(recal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 baseline="15000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119880" indent="-119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Observation 2: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olid, then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575960" y="2565360"/>
            <a:ext cx="3119400" cy="2220120"/>
            <a:chOff x="4575960" y="2565360"/>
            <a:chExt cx="3119400" cy="2220120"/>
          </a:xfrm>
        </p:grpSpPr>
        <p:sp>
          <p:nvSpPr>
            <p:cNvPr id="489" name=""/>
            <p:cNvSpPr/>
            <p:nvPr/>
          </p:nvSpPr>
          <p:spPr>
            <a:xfrm>
              <a:off x="5005440" y="2925720"/>
              <a:ext cx="144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51520" y="2967120"/>
              <a:ext cx="2187360" cy="1326960"/>
            </a:xfrm>
            <a:custGeom>
              <a:avLst/>
              <a:gdLst/>
              <a:ahLst/>
              <a:rect l="l" t="t" r="r" b="b"/>
              <a:pathLst>
                <a:path w="644" h="404">
                  <a:moveTo>
                    <a:pt x="0" y="0"/>
                  </a:moveTo>
                  <a:lnTo>
                    <a:pt x="644" y="4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76720" y="4336920"/>
              <a:ext cx="2173320" cy="3240"/>
            </a:xfrm>
            <a:custGeom>
              <a:avLst/>
              <a:gdLst/>
              <a:ahLst/>
              <a:rect l="l" t="t" r="r" b="b"/>
              <a:pathLst>
                <a:path w="1369" h="2">
                  <a:moveTo>
                    <a:pt x="0" y="2"/>
                  </a:moveTo>
                  <a:lnTo>
                    <a:pt x="13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33800" y="285444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33800" y="42940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37440" y="42958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69080" y="322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7440" y="35020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24360" y="4005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75960" y="4257720"/>
              <a:ext cx="363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31760" y="4379760"/>
              <a:ext cx="363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95040" y="2565360"/>
              <a:ext cx="363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6372360" y="5516640"/>
            <a:ext cx="1307880" cy="3268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3762360" y="1954080"/>
            <a:ext cx="4810320" cy="33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5C44-E5A7-4359-A4CE-91C8C9F2DB2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nstruct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25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1: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t is 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the case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ssig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F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27600" y="1413000"/>
            <a:ext cx="4316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2: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Otherwise it is </a:t>
            </a:r>
            <a:r>
              <a:rPr b="0" i="1" lang="en-US" sz="2400" spc="-1" strike="noStrike">
                <a:solidFill>
                  <a:srgbClr val="666699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the case that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ssig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T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00720" y="141300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46160" y="3130560"/>
            <a:ext cx="1440" cy="1440000"/>
          </a:xfrm>
          <a:prstGeom prst="line">
            <a:avLst/>
          </a:prstGeom>
          <a:ln w="93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92240" y="3171960"/>
            <a:ext cx="2187360" cy="132696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17440" y="454176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74880" y="3059280"/>
            <a:ext cx="14256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74880" y="449892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78160" y="450072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09800" y="342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20720" y="357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36720" y="4211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60920" y="5950080"/>
            <a:ext cx="3243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n all other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38880" y="3135240"/>
            <a:ext cx="144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84960" y="3176640"/>
            <a:ext cx="2187360" cy="132696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10160" y="454644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67240" y="30639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67240" y="45036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70880" y="45054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02520" y="343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2160" y="3711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86160" y="4216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91640" y="37893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62920" y="36399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2843280" y="1949400"/>
            <a:ext cx="1307880" cy="327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615240" y="44737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71040" y="45957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4320" y="27813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003640" y="2276640"/>
            <a:ext cx="1308240" cy="3268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5049000" y="45259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04800" y="457524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25240" y="28335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92F2-7A25-4348-BF55-2430084536C1}" type="slidenum">
              <a:t>27</a:t>
            </a:fld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nstruct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tarting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, repeat until convergence: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= F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in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cycl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:= T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in 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cycl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triangles now satisf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is still satisfied (monotonicity of NNF)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Left to prove: all contradictory cycles are still satisfied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6C26-1CF6-408A-81B9-9C105CFC994B}" type="slidenum">
              <a:t>28</a:t>
            </a:fld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nvariant: contradictory cycles are not violating throughout the reconstruction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ontradicts the precondition to make this assignment…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2520" y="320688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468600" y="324792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94160" y="461808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51240" y="313524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51240" y="457524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54520" y="457668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86520" y="350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86160" y="3782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70160" y="428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33000" y="45975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88800" y="46465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08880" y="290520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55280" y="40053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492360" y="2852640"/>
            <a:ext cx="2554200" cy="1699920"/>
            <a:chOff x="3492360" y="2852640"/>
            <a:chExt cx="2554200" cy="1699920"/>
          </a:xfrm>
        </p:grpSpPr>
        <p:sp>
          <p:nvSpPr>
            <p:cNvPr id="554" name=""/>
            <p:cNvSpPr/>
            <p:nvPr/>
          </p:nvSpPr>
          <p:spPr>
            <a:xfrm flipV="1">
              <a:off x="5724360" y="3284280"/>
              <a:ext cx="0" cy="126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51640" y="314172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25800" y="36450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92360" y="321300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57440" y="2852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950760" y="301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176480" y="5300640"/>
            <a:ext cx="1307880" cy="32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7A2F-90D4-4C6C-AAFD-506390EEAF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ity Log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8480" y="1413000"/>
            <a:ext cx="8436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Mainly when combined with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Uninterpreted Functions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…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Mainly used in proving equivalences, but not only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70400" y="1197000"/>
            <a:ext cx="3979080" cy="368280"/>
            <a:chOff x="3470400" y="1197000"/>
            <a:chExt cx="3979080" cy="368280"/>
          </a:xfrm>
        </p:grpSpPr>
        <p:sp>
          <p:nvSpPr>
            <p:cNvPr id="128" name=""/>
            <p:cNvSpPr/>
            <p:nvPr/>
          </p:nvSpPr>
          <p:spPr>
            <a:xfrm>
              <a:off x="3470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8968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5476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9476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02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42400" y="119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E850-4E96-4615-9F58-5F542EBC87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Invariant: contradictory cycles are not violating throughout the reconstruction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ontradicts the precondition to make this assignment…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22520" y="3206880"/>
            <a:ext cx="180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68600" y="324792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94160" y="461808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1240" y="313524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51240" y="457524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54520" y="457668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86520" y="350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86160" y="3782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70160" y="428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33000" y="459756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88800" y="464652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08880" y="2905200"/>
            <a:ext cx="36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50760" y="301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18560" y="37101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389240" y="3212640"/>
            <a:ext cx="1958760" cy="1478520"/>
            <a:chOff x="1389240" y="3212640"/>
            <a:chExt cx="1958760" cy="1478520"/>
          </a:xfrm>
        </p:grpSpPr>
        <p:sp>
          <p:nvSpPr>
            <p:cNvPr id="578" name=""/>
            <p:cNvSpPr/>
            <p:nvPr/>
          </p:nvSpPr>
          <p:spPr>
            <a:xfrm flipH="1">
              <a:off x="1476000" y="46530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1476360" y="3212640"/>
              <a:ext cx="187164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89240" y="453708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25440" y="3573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70520" y="432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93880" y="5303880"/>
            <a:ext cx="1307880" cy="32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7A1C-FDBC-4060-9924-ACE32CBC22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ying RT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How can we use the theorem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without enumerating contradictory cycle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?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nswer: 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onsider the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hordal graph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onstrain triangles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if they are part of a (simple) contradictory cycl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How?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11D5-6D3E-4EE5-A3CB-37F728A10B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TC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99"/>
                </a:solidFill>
                <a:latin typeface="Times New Roman"/>
              </a:rPr>
              <a:t>Bi-Connected Component (BCC)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– maximal set of edges s.t. any two edges in the set lie on a common simple cycle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5880" indent="-335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Find all BCC-s with one solid edge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35880" indent="-3358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dd solid chords from the graph, and auxiliary dashed chords to make the BCC chordal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050920" y="4723920"/>
            <a:ext cx="2160720" cy="1584720"/>
            <a:chOff x="2050920" y="4723920"/>
            <a:chExt cx="2160720" cy="1584720"/>
          </a:xfrm>
        </p:grpSpPr>
        <p:sp>
          <p:nvSpPr>
            <p:cNvPr id="589" name=""/>
            <p:cNvSpPr/>
            <p:nvPr/>
          </p:nvSpPr>
          <p:spPr>
            <a:xfrm>
              <a:off x="2700360" y="5877000"/>
              <a:ext cx="15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700360" y="5157720"/>
              <a:ext cx="79200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92360" y="5157720"/>
              <a:ext cx="71928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700360" y="4724280"/>
              <a:ext cx="0" cy="115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00360" y="4724280"/>
              <a:ext cx="792000" cy="433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211640" y="4724280"/>
              <a:ext cx="0" cy="115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492360" y="4724280"/>
              <a:ext cx="719280" cy="433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87760" y="473724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3634920" y="5877000"/>
              <a:ext cx="57636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2700000" y="5876640"/>
              <a:ext cx="93492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2050920" y="5229000"/>
              <a:ext cx="64944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050920" y="4723920"/>
              <a:ext cx="649440" cy="50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00360" y="4724280"/>
              <a:ext cx="1511280" cy="1152720"/>
            </a:xfrm>
            <a:custGeom>
              <a:avLst/>
              <a:gdLst/>
              <a:ahLst/>
              <a:rect l="l" t="t" r="r" b="b"/>
              <a:pathLst>
                <a:path w="952" h="726">
                  <a:moveTo>
                    <a:pt x="0" y="726"/>
                  </a:moveTo>
                  <a:cubicBezTo>
                    <a:pt x="11" y="537"/>
                    <a:pt x="22" y="348"/>
                    <a:pt x="181" y="227"/>
                  </a:cubicBezTo>
                  <a:cubicBezTo>
                    <a:pt x="340" y="106"/>
                    <a:pt x="646" y="53"/>
                    <a:pt x="9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905A-A8B4-46D5-B043-4A0AFB9E74E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Focus on Bi-connected dashed component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built on top of a solid edge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Includes all contradictory cycles involving this edg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3840" y="5092560"/>
            <a:ext cx="196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903840" y="4145040"/>
            <a:ext cx="102852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32360" y="4145040"/>
            <a:ext cx="93492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903840" y="357336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03840" y="3573360"/>
            <a:ext cx="102852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867280" y="357336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932000" y="3573360"/>
            <a:ext cx="93492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591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117760" y="5092560"/>
            <a:ext cx="749160" cy="56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903480" y="5092200"/>
            <a:ext cx="1214280" cy="56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3059280" y="4238640"/>
            <a:ext cx="844560" cy="853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059280" y="3573360"/>
            <a:ext cx="844560" cy="66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F153-A0CA-4808-8A29-B1FBBD41FC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Make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the component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hordal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hordal-ity guarantees: every cycle contains a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simplicial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vertex, i.e. a vertex that its neighbors are connected.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03840" y="5092560"/>
            <a:ext cx="196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3903840" y="4145040"/>
            <a:ext cx="102852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32360" y="4145040"/>
            <a:ext cx="93492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3903840" y="357336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03840" y="3573360"/>
            <a:ext cx="102852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867280" y="3573360"/>
            <a:ext cx="0" cy="15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932000" y="3573360"/>
            <a:ext cx="93492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3591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117760" y="5092560"/>
            <a:ext cx="749160" cy="56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3903480" y="5092200"/>
            <a:ext cx="1214280" cy="56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3059280" y="4238640"/>
            <a:ext cx="844560" cy="853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3059280" y="3573360"/>
            <a:ext cx="844560" cy="66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03840" y="3573360"/>
            <a:ext cx="1963440" cy="1519200"/>
          </a:xfrm>
          <a:custGeom>
            <a:avLst/>
            <a:gdLst/>
            <a:ahLst/>
            <a:rect l="l" t="t" r="r" b="b"/>
            <a:pathLst>
              <a:path w="952" h="726">
                <a:moveTo>
                  <a:pt x="0" y="726"/>
                </a:moveTo>
                <a:cubicBezTo>
                  <a:pt x="11" y="537"/>
                  <a:pt x="22" y="348"/>
                  <a:pt x="181" y="227"/>
                </a:cubicBezTo>
                <a:cubicBezTo>
                  <a:pt x="340" y="106"/>
                  <a:pt x="646" y="53"/>
                  <a:pt x="952" y="0"/>
                </a:cubicBezTo>
              </a:path>
            </a:pathLst>
          </a:custGeom>
          <a:noFill/>
          <a:ln w="93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2D3A7-C097-4F05-89FB-66663907E2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TC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onstraints cache: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058920" y="3512880"/>
            <a:ext cx="2850840" cy="2176200"/>
            <a:chOff x="3058920" y="3512880"/>
            <a:chExt cx="2850840" cy="2176200"/>
          </a:xfrm>
        </p:grpSpPr>
        <p:sp>
          <p:nvSpPr>
            <p:cNvPr id="633" name=""/>
            <p:cNvSpPr/>
            <p:nvPr/>
          </p:nvSpPr>
          <p:spPr>
            <a:xfrm>
              <a:off x="3915000" y="5096880"/>
              <a:ext cx="1993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3915000" y="4108320"/>
              <a:ext cx="1045080" cy="988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60080" y="4108680"/>
              <a:ext cx="948240" cy="988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3915000" y="3512880"/>
              <a:ext cx="2880" cy="158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915000" y="3513240"/>
              <a:ext cx="1045080" cy="59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5908680" y="3512880"/>
              <a:ext cx="1080" cy="158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960080" y="3513240"/>
              <a:ext cx="948240" cy="59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98080" y="3531240"/>
              <a:ext cx="19922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148720" y="5096880"/>
              <a:ext cx="759600" cy="59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3914640" y="5096520"/>
              <a:ext cx="1233720" cy="59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3058920" y="4206240"/>
              <a:ext cx="855720" cy="89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059280" y="3512880"/>
              <a:ext cx="855720" cy="69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15000" y="3513240"/>
              <a:ext cx="1993680" cy="1583640"/>
            </a:xfrm>
            <a:custGeom>
              <a:avLst/>
              <a:gdLst/>
              <a:ahLst/>
              <a:rect l="l" t="t" r="r" b="b"/>
              <a:pathLst>
                <a:path w="952" h="726">
                  <a:moveTo>
                    <a:pt x="0" y="726"/>
                  </a:moveTo>
                  <a:cubicBezTo>
                    <a:pt x="11" y="537"/>
                    <a:pt x="22" y="348"/>
                    <a:pt x="181" y="227"/>
                  </a:cubicBezTo>
                  <a:cubicBezTo>
                    <a:pt x="340" y="106"/>
                    <a:pt x="646" y="53"/>
                    <a:pt x="9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755960" y="478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68680" y="4264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82920" y="4264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95800" y="358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48040" y="3137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25880" y="4078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46480" y="358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21000" y="459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00800" y="5238720"/>
            <a:ext cx="5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81480" y="531504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936960" y="4113360"/>
            <a:ext cx="1017720" cy="97776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36960" y="5091120"/>
            <a:ext cx="1967040" cy="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4680" y="4113360"/>
            <a:ext cx="949320" cy="97776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957920" y="3512880"/>
            <a:ext cx="950760" cy="60012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08680" y="3513240"/>
            <a:ext cx="0" cy="157788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0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08600" y="3513240"/>
            <a:ext cx="1900080" cy="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41640" y="3513240"/>
            <a:ext cx="1016280" cy="600120"/>
          </a:xfrm>
          <a:prstGeom prst="line">
            <a:avLst/>
          </a:prstGeom>
          <a:ln w="76320">
            <a:solidFill>
              <a:srgbClr val="33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E24A-1BAD-41CB-A868-B5E9730F2B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ain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radictory cy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50920" y="112356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onstraints cache: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666699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3009600" y="3500280"/>
            <a:ext cx="2930400" cy="2152440"/>
            <a:chOff x="3009600" y="3500280"/>
            <a:chExt cx="2930400" cy="2152440"/>
          </a:xfrm>
        </p:grpSpPr>
        <p:sp>
          <p:nvSpPr>
            <p:cNvPr id="667" name=""/>
            <p:cNvSpPr/>
            <p:nvPr/>
          </p:nvSpPr>
          <p:spPr>
            <a:xfrm>
              <a:off x="3889440" y="5067000"/>
              <a:ext cx="2049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889440" y="4088880"/>
              <a:ext cx="1074240" cy="97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64040" y="4089240"/>
              <a:ext cx="974520" cy="97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889440" y="3500280"/>
              <a:ext cx="2880" cy="156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89440" y="3500280"/>
              <a:ext cx="1074240" cy="588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938920" y="3500280"/>
              <a:ext cx="1080" cy="156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963680" y="3500280"/>
              <a:ext cx="974520" cy="588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72520" y="3517920"/>
              <a:ext cx="20476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5157360" y="5067000"/>
              <a:ext cx="780840" cy="58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3889080" y="5066640"/>
              <a:ext cx="1268280" cy="58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3009600" y="4185360"/>
              <a:ext cx="879480" cy="88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009960" y="3500280"/>
              <a:ext cx="879480" cy="68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89440" y="3500280"/>
              <a:ext cx="2049120" cy="1566720"/>
            </a:xfrm>
            <a:custGeom>
              <a:avLst/>
              <a:gdLst/>
              <a:ahLst/>
              <a:rect l="l" t="t" r="r" b="b"/>
              <a:pathLst>
                <a:path w="952" h="726">
                  <a:moveTo>
                    <a:pt x="0" y="726"/>
                  </a:moveTo>
                  <a:cubicBezTo>
                    <a:pt x="11" y="537"/>
                    <a:pt x="22" y="348"/>
                    <a:pt x="181" y="227"/>
                  </a:cubicBezTo>
                  <a:cubicBezTo>
                    <a:pt x="340" y="106"/>
                    <a:pt x="646" y="53"/>
                    <a:pt x="9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4811400" y="4789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460840" y="4286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282920" y="426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71760" y="363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802040" y="3205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5240" y="410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63760" y="363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87520" y="459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602320" y="5221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307040" y="52941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25800" y="4091040"/>
            <a:ext cx="1032120" cy="987480"/>
          </a:xfrm>
          <a:custGeom>
            <a:avLst/>
            <a:gdLst/>
            <a:ahLst/>
            <a:rect l="l" t="t" r="r" b="b"/>
            <a:pathLst>
              <a:path w="650" h="622">
                <a:moveTo>
                  <a:pt x="0" y="622"/>
                </a:moveTo>
                <a:lnTo>
                  <a:pt x="650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941640" y="5081760"/>
            <a:ext cx="2009880" cy="2880"/>
          </a:xfrm>
          <a:custGeom>
            <a:avLst/>
            <a:gdLst/>
            <a:ahLst/>
            <a:rect l="l" t="t" r="r" b="b"/>
            <a:pathLst>
              <a:path w="1266" h="2">
                <a:moveTo>
                  <a:pt x="0" y="0"/>
                </a:moveTo>
                <a:lnTo>
                  <a:pt x="1266" y="2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57920" y="4091040"/>
            <a:ext cx="977760" cy="961920"/>
          </a:xfrm>
          <a:custGeom>
            <a:avLst/>
            <a:gdLst/>
            <a:ahLst/>
            <a:rect l="l" t="t" r="r" b="b"/>
            <a:pathLst>
              <a:path w="616" h="606">
                <a:moveTo>
                  <a:pt x="0" y="0"/>
                </a:moveTo>
                <a:lnTo>
                  <a:pt x="616" y="606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73760" y="3544920"/>
            <a:ext cx="961920" cy="561960"/>
          </a:xfrm>
          <a:custGeom>
            <a:avLst/>
            <a:gdLst/>
            <a:ahLst/>
            <a:rect l="l" t="t" r="r" b="b"/>
            <a:pathLst>
              <a:path w="606" h="354">
                <a:moveTo>
                  <a:pt x="0" y="354"/>
                </a:moveTo>
                <a:lnTo>
                  <a:pt x="606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942160" y="3543480"/>
            <a:ext cx="1440" cy="1535040"/>
          </a:xfrm>
          <a:custGeom>
            <a:avLst/>
            <a:gdLst/>
            <a:ahLst/>
            <a:rect l="l" t="t" r="r" b="b"/>
            <a:pathLst>
              <a:path w="1" h="967">
                <a:moveTo>
                  <a:pt x="1" y="0"/>
                </a:moveTo>
                <a:lnTo>
                  <a:pt x="0" y="967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35400" y="4070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51280" y="3497400"/>
            <a:ext cx="2084400" cy="1546200"/>
          </a:xfrm>
          <a:custGeom>
            <a:avLst/>
            <a:gdLst/>
            <a:ahLst/>
            <a:rect l="l" t="t" r="r" b="b"/>
            <a:pathLst>
              <a:path w="1313" h="974">
                <a:moveTo>
                  <a:pt x="1313" y="0"/>
                </a:moveTo>
                <a:cubicBezTo>
                  <a:pt x="1129" y="55"/>
                  <a:pt x="422" y="171"/>
                  <a:pt x="211" y="333"/>
                </a:cubicBezTo>
                <a:cubicBezTo>
                  <a:pt x="0" y="495"/>
                  <a:pt x="80" y="841"/>
                  <a:pt x="45" y="974"/>
                </a:cubicBezTo>
              </a:path>
            </a:pathLst>
          </a:custGeom>
          <a:noFill/>
          <a:ln w="76320">
            <a:solidFill>
              <a:srgbClr val="3399ff">
                <a:alpha val="4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48120" y="4127400"/>
            <a:ext cx="1017720" cy="903240"/>
          </a:xfrm>
          <a:custGeom>
            <a:avLst/>
            <a:gdLst/>
            <a:ahLst/>
            <a:rect l="l" t="t" r="r" b="b"/>
            <a:pathLst>
              <a:path w="641" h="569">
                <a:moveTo>
                  <a:pt x="0" y="569"/>
                </a:moveTo>
                <a:lnTo>
                  <a:pt x="89" y="360"/>
                </a:lnTo>
                <a:lnTo>
                  <a:pt x="225" y="200"/>
                </a:lnTo>
                <a:lnTo>
                  <a:pt x="369" y="80"/>
                </a:lnTo>
                <a:lnTo>
                  <a:pt x="641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DD31-C78B-4852-8E3C-F3D074F884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104292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04292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8764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8764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3236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93236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5964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5" name=""/>
          <p:cNvCxnSpPr>
            <a:stCxn id="699" idx="4"/>
            <a:endCxn id="698" idx="0"/>
          </p:cNvCxnSpPr>
          <p:nvPr/>
        </p:nvCxnSpPr>
        <p:spPr>
          <a:xfrm>
            <a:off x="1186920" y="306972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6" name=""/>
          <p:cNvCxnSpPr>
            <a:stCxn id="698" idx="6"/>
            <a:endCxn id="701" idx="2"/>
          </p:cNvCxnSpPr>
          <p:nvPr/>
        </p:nvCxnSpPr>
        <p:spPr>
          <a:xfrm>
            <a:off x="1330200" y="4868640"/>
            <a:ext cx="16581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07" name=""/>
          <p:cNvCxnSpPr>
            <a:stCxn id="699" idx="6"/>
          </p:cNvCxnSpPr>
          <p:nvPr/>
        </p:nvCxnSpPr>
        <p:spPr>
          <a:xfrm>
            <a:off x="1329840" y="2925360"/>
            <a:ext cx="16599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08" name=""/>
          <p:cNvCxnSpPr>
            <a:stCxn id="701" idx="0"/>
            <a:endCxn id="700" idx="4"/>
          </p:cNvCxnSpPr>
          <p:nvPr/>
        </p:nvCxnSpPr>
        <p:spPr>
          <a:xfrm flipV="1">
            <a:off x="3131640" y="306936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09" name=""/>
          <p:cNvCxnSpPr>
            <a:stCxn id="700" idx="6"/>
            <a:endCxn id="702" idx="2"/>
          </p:cNvCxnSpPr>
          <p:nvPr/>
        </p:nvCxnSpPr>
        <p:spPr>
          <a:xfrm>
            <a:off x="3274920" y="2925360"/>
            <a:ext cx="16581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0" name=""/>
          <p:cNvCxnSpPr>
            <a:endCxn id="703" idx="2"/>
          </p:cNvCxnSpPr>
          <p:nvPr/>
        </p:nvCxnSpPr>
        <p:spPr>
          <a:xfrm>
            <a:off x="3276360" y="4868640"/>
            <a:ext cx="1656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1" name=""/>
          <p:cNvCxnSpPr>
            <a:stCxn id="703" idx="0"/>
            <a:endCxn id="702" idx="4"/>
          </p:cNvCxnSpPr>
          <p:nvPr/>
        </p:nvCxnSpPr>
        <p:spPr>
          <a:xfrm flipV="1">
            <a:off x="5076360" y="306936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2" name=""/>
          <p:cNvCxnSpPr>
            <a:stCxn id="702" idx="6"/>
            <a:endCxn id="704" idx="0"/>
          </p:cNvCxnSpPr>
          <p:nvPr/>
        </p:nvCxnSpPr>
        <p:spPr>
          <a:xfrm>
            <a:off x="5219280" y="2925720"/>
            <a:ext cx="1585080" cy="17992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3" name=""/>
          <p:cNvCxnSpPr>
            <a:stCxn id="703" idx="6"/>
            <a:endCxn id="704" idx="2"/>
          </p:cNvCxnSpPr>
          <p:nvPr/>
        </p:nvCxnSpPr>
        <p:spPr>
          <a:xfrm>
            <a:off x="5219640" y="4868640"/>
            <a:ext cx="1440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4" name=""/>
          <p:cNvCxnSpPr>
            <a:stCxn id="698" idx="7"/>
            <a:endCxn id="700" idx="3"/>
          </p:cNvCxnSpPr>
          <p:nvPr/>
        </p:nvCxnSpPr>
        <p:spPr>
          <a:xfrm flipV="1">
            <a:off x="1287360" y="3026520"/>
            <a:ext cx="174384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5" name=""/>
          <p:cNvCxnSpPr>
            <a:stCxn id="701" idx="7"/>
            <a:endCxn id="702" idx="3"/>
          </p:cNvCxnSpPr>
          <p:nvPr/>
        </p:nvCxnSpPr>
        <p:spPr>
          <a:xfrm flipV="1">
            <a:off x="3232080" y="3026520"/>
            <a:ext cx="174384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16" name=""/>
          <p:cNvCxnSpPr>
            <a:stCxn id="704" idx="4"/>
            <a:endCxn id="701" idx="4"/>
          </p:cNvCxnSpPr>
          <p:nvPr/>
        </p:nvCxnSpPr>
        <p:spPr>
          <a:xfrm rot="5400000">
            <a:off x="4966560" y="3178080"/>
            <a:ext cx="2160" cy="3672720"/>
          </a:xfrm>
          <a:prstGeom prst="curvedConnector5">
            <a:avLst>
              <a:gd name="adj1" fmla="val 47400000"/>
              <a:gd name="adj2" fmla="val 49995"/>
              <a:gd name="adj3" fmla="val 4740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17" name=""/>
          <p:cNvSpPr/>
          <p:nvPr/>
        </p:nvSpPr>
        <p:spPr>
          <a:xfrm>
            <a:off x="766800" y="249228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38080" y="4869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927520" y="2421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782800" y="494172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15160" y="494172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87880" y="249228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87880" y="4869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55640" y="1484280"/>
            <a:ext cx="684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The constraint </a:t>
            </a:r>
            <a:r>
              <a:rPr b="0" lang="en-US" sz="2000" spc="-1" strike="noStrike">
                <a:solidFill>
                  <a:srgbClr val="666699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,6 </a:t>
            </a:r>
            <a:r>
              <a:rPr b="0" lang="en-US" sz="2000" spc="-1" strike="noStrike">
                <a:solidFill>
                  <a:srgbClr val="666699"/>
                </a:solidFill>
                <a:latin typeface="cmsy10"/>
              </a:rPr>
              <a:t>Æ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3,5 </a:t>
            </a:r>
            <a:r>
              <a:rPr b="0" lang="en-US" sz="2000" spc="-1" strike="noStrike">
                <a:solidFill>
                  <a:srgbClr val="6666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666699"/>
                </a:solidFill>
                <a:latin typeface="Times New Roman"/>
              </a:rPr>
              <a:t>5,6</a:t>
            </a:r>
            <a:r>
              <a:rPr b="0" lang="en-US" sz="1800" spc="-1" strike="noStrike" baseline="-25000">
                <a:solidFill>
                  <a:srgbClr val="6666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is not adde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dictory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87280" y="2924280"/>
            <a:ext cx="194472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32000" y="2924280"/>
            <a:ext cx="194472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8920" y="4869000"/>
            <a:ext cx="180036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03640" y="4869000"/>
            <a:ext cx="180000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19640" y="4869000"/>
            <a:ext cx="151308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8728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258920" y="2997360"/>
            <a:ext cx="1800360" cy="180000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3203640" y="2997360"/>
            <a:ext cx="1800000" cy="180000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3200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07672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19640" y="2924280"/>
            <a:ext cx="1584360" cy="180000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56360" y="148428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Times New Roman"/>
              </a:rPr>
              <a:t>cac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125760" y="2133720"/>
            <a:ext cx="182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,6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,6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/>
          <p:nvPr/>
        </p:nvCxnSpPr>
        <p:spPr>
          <a:xfrm rot="5400000">
            <a:off x="4966560" y="3178080"/>
            <a:ext cx="2160" cy="3672720"/>
          </a:xfrm>
          <a:prstGeom prst="curvedConnector5">
            <a:avLst>
              <a:gd name="adj1" fmla="val 47400000"/>
              <a:gd name="adj2" fmla="val 49995"/>
              <a:gd name="adj3" fmla="val 47400000"/>
            </a:avLst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3203640" y="4869000"/>
            <a:ext cx="1800000" cy="301320"/>
          </a:xfrm>
          <a:custGeom>
            <a:avLst/>
            <a:gdLst/>
            <a:ahLst/>
            <a:rect l="l" t="t" r="r" b="b"/>
            <a:pathLst>
              <a:path w="1134" h="190">
                <a:moveTo>
                  <a:pt x="0" y="46"/>
                </a:moveTo>
                <a:cubicBezTo>
                  <a:pt x="223" y="118"/>
                  <a:pt x="446" y="190"/>
                  <a:pt x="635" y="182"/>
                </a:cubicBezTo>
                <a:cubicBezTo>
                  <a:pt x="824" y="174"/>
                  <a:pt x="979" y="87"/>
                  <a:pt x="1134" y="0"/>
                </a:cubicBezTo>
              </a:path>
            </a:pathLst>
          </a:custGeom>
          <a:noFill/>
          <a:ln w="76320">
            <a:solidFill>
              <a:srgbClr val="99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0400" y="6021360"/>
            <a:ext cx="592632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problem: constrain simple contradictory cycles in P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B41B-0DDE-4B6E-B0E8-30EF88AFDD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04292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4292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8764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8764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32360" y="2781360"/>
            <a:ext cx="287280" cy="28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3236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659640" y="4724280"/>
            <a:ext cx="287280" cy="289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3" idx="4"/>
            <a:endCxn id="742" idx="0"/>
          </p:cNvCxnSpPr>
          <p:nvPr/>
        </p:nvCxnSpPr>
        <p:spPr>
          <a:xfrm>
            <a:off x="1186920" y="306972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42" idx="6"/>
            <a:endCxn id="745" idx="2"/>
          </p:cNvCxnSpPr>
          <p:nvPr/>
        </p:nvCxnSpPr>
        <p:spPr>
          <a:xfrm>
            <a:off x="1330200" y="4868640"/>
            <a:ext cx="16581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1" name=""/>
          <p:cNvCxnSpPr>
            <a:stCxn id="743" idx="6"/>
          </p:cNvCxnSpPr>
          <p:nvPr/>
        </p:nvCxnSpPr>
        <p:spPr>
          <a:xfrm>
            <a:off x="1329840" y="2925360"/>
            <a:ext cx="16599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2" name=""/>
          <p:cNvCxnSpPr>
            <a:stCxn id="745" idx="0"/>
            <a:endCxn id="744" idx="4"/>
          </p:cNvCxnSpPr>
          <p:nvPr/>
        </p:nvCxnSpPr>
        <p:spPr>
          <a:xfrm flipV="1">
            <a:off x="3131640" y="306936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3" name=""/>
          <p:cNvCxnSpPr>
            <a:stCxn id="744" idx="6"/>
            <a:endCxn id="746" idx="2"/>
          </p:cNvCxnSpPr>
          <p:nvPr/>
        </p:nvCxnSpPr>
        <p:spPr>
          <a:xfrm>
            <a:off x="3274920" y="2925360"/>
            <a:ext cx="16581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4" name=""/>
          <p:cNvCxnSpPr>
            <a:endCxn id="747" idx="2"/>
          </p:cNvCxnSpPr>
          <p:nvPr/>
        </p:nvCxnSpPr>
        <p:spPr>
          <a:xfrm>
            <a:off x="3276360" y="4868640"/>
            <a:ext cx="1656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5" name=""/>
          <p:cNvCxnSpPr>
            <a:stCxn id="747" idx="0"/>
            <a:endCxn id="746" idx="4"/>
          </p:cNvCxnSpPr>
          <p:nvPr/>
        </p:nvCxnSpPr>
        <p:spPr>
          <a:xfrm flipV="1">
            <a:off x="5076360" y="3069360"/>
            <a:ext cx="1080" cy="16549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6" name=""/>
          <p:cNvCxnSpPr>
            <a:stCxn id="746" idx="6"/>
            <a:endCxn id="748" idx="0"/>
          </p:cNvCxnSpPr>
          <p:nvPr/>
        </p:nvCxnSpPr>
        <p:spPr>
          <a:xfrm>
            <a:off x="5219280" y="2925720"/>
            <a:ext cx="1585080" cy="17992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7" name=""/>
          <p:cNvCxnSpPr>
            <a:stCxn id="747" idx="6"/>
            <a:endCxn id="748" idx="2"/>
          </p:cNvCxnSpPr>
          <p:nvPr/>
        </p:nvCxnSpPr>
        <p:spPr>
          <a:xfrm>
            <a:off x="5219640" y="4868640"/>
            <a:ext cx="1440360" cy="10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8" name=""/>
          <p:cNvCxnSpPr>
            <a:stCxn id="742" idx="7"/>
            <a:endCxn id="744" idx="3"/>
          </p:cNvCxnSpPr>
          <p:nvPr/>
        </p:nvCxnSpPr>
        <p:spPr>
          <a:xfrm flipV="1">
            <a:off x="1287360" y="3026520"/>
            <a:ext cx="174384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59" name=""/>
          <p:cNvCxnSpPr>
            <a:stCxn id="745" idx="7"/>
            <a:endCxn id="746" idx="3"/>
          </p:cNvCxnSpPr>
          <p:nvPr/>
        </p:nvCxnSpPr>
        <p:spPr>
          <a:xfrm flipV="1">
            <a:off x="3232080" y="3026520"/>
            <a:ext cx="174384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60" name=""/>
          <p:cNvCxnSpPr>
            <a:stCxn id="748" idx="4"/>
            <a:endCxn id="745" idx="4"/>
          </p:cNvCxnSpPr>
          <p:nvPr/>
        </p:nvCxnSpPr>
        <p:spPr>
          <a:xfrm rot="5400000">
            <a:off x="4966560" y="3178080"/>
            <a:ext cx="2160" cy="3672720"/>
          </a:xfrm>
          <a:prstGeom prst="curvedConnector5">
            <a:avLst>
              <a:gd name="adj1" fmla="val 47400000"/>
              <a:gd name="adj2" fmla="val 49995"/>
              <a:gd name="adj3" fmla="val 4740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61" name=""/>
          <p:cNvSpPr/>
          <p:nvPr/>
        </p:nvSpPr>
        <p:spPr>
          <a:xfrm>
            <a:off x="766800" y="249228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38080" y="4869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927520" y="2421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82800" y="494172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15160" y="494172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087880" y="249228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087880" y="4869000"/>
            <a:ext cx="36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8" name=""/>
          <p:cNvCxnSpPr>
            <a:stCxn id="747" idx="4"/>
            <a:endCxn id="742" idx="4"/>
          </p:cNvCxnSpPr>
          <p:nvPr/>
        </p:nvCxnSpPr>
        <p:spPr>
          <a:xfrm rot="5400000">
            <a:off x="3130560" y="3069360"/>
            <a:ext cx="2160" cy="3890160"/>
          </a:xfrm>
          <a:prstGeom prst="curvedConnector5">
            <a:avLst>
              <a:gd name="adj1" fmla="val 49800000"/>
              <a:gd name="adj2" fmla="val 49995"/>
              <a:gd name="adj3" fmla="val 4980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69" name=""/>
          <p:cNvCxnSpPr>
            <a:stCxn id="747" idx="1"/>
            <a:endCxn id="743" idx="5"/>
          </p:cNvCxnSpPr>
          <p:nvPr/>
        </p:nvCxnSpPr>
        <p:spPr>
          <a:xfrm flipH="1" flipV="1">
            <a:off x="1287000" y="3026520"/>
            <a:ext cx="3688560" cy="17406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70" name=""/>
          <p:cNvCxnSpPr>
            <a:stCxn id="743" idx="0"/>
            <a:endCxn id="746" idx="0"/>
          </p:cNvCxnSpPr>
          <p:nvPr/>
        </p:nvCxnSpPr>
        <p:spPr>
          <a:xfrm flipH="1" rot="16200000">
            <a:off x="3131280" y="837000"/>
            <a:ext cx="2160" cy="389016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71" name=""/>
          <p:cNvSpPr/>
          <p:nvPr/>
        </p:nvSpPr>
        <p:spPr>
          <a:xfrm>
            <a:off x="250920" y="1197000"/>
            <a:ext cx="68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the constraint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,6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,5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,6</a:t>
            </a:r>
            <a:r>
              <a:rPr b="0" lang="en-US" sz="1800" spc="-1" strike="noStrike" baseline="-25000">
                <a:solidFill>
                  <a:srgbClr val="6666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is  not added, though neede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268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Suppose the graph has 3 more 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dictory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flipV="1">
            <a:off x="1269720" y="3021840"/>
            <a:ext cx="3688560" cy="1740600"/>
          </a:xfrm>
          <a:prstGeom prst="straightConnector1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cxnSp>
        <p:nvCxnSpPr>
          <p:cNvPr id="775" name=""/>
          <p:cNvCxnSpPr/>
          <p:nvPr/>
        </p:nvCxnSpPr>
        <p:spPr>
          <a:xfrm rot="5400000">
            <a:off x="3130560" y="3069360"/>
            <a:ext cx="2160" cy="3890160"/>
          </a:xfrm>
          <a:prstGeom prst="curvedConnector5">
            <a:avLst>
              <a:gd name="adj1" fmla="val 49800000"/>
              <a:gd name="adj2" fmla="val 49995"/>
              <a:gd name="adj3" fmla="val 49800000"/>
            </a:avLst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cxnSp>
        <p:nvCxnSpPr>
          <p:cNvPr id="776" name=""/>
          <p:cNvCxnSpPr/>
          <p:nvPr/>
        </p:nvCxnSpPr>
        <p:spPr>
          <a:xfrm flipH="1" rot="16200000">
            <a:off x="3131280" y="837000"/>
            <a:ext cx="2160" cy="389016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sp>
        <p:nvSpPr>
          <p:cNvPr id="777" name=""/>
          <p:cNvSpPr/>
          <p:nvPr/>
        </p:nvSpPr>
        <p:spPr>
          <a:xfrm>
            <a:off x="118728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76720" y="3068640"/>
            <a:ext cx="0" cy="165564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03640" y="4869000"/>
            <a:ext cx="180000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/>
          <p:nvPr/>
        </p:nvCxnSpPr>
        <p:spPr>
          <a:xfrm rot="5400000">
            <a:off x="4966560" y="3178080"/>
            <a:ext cx="2160" cy="3672720"/>
          </a:xfrm>
          <a:prstGeom prst="curvedConnector5">
            <a:avLst>
              <a:gd name="adj1" fmla="val 47400000"/>
              <a:gd name="adj2" fmla="val 49995"/>
              <a:gd name="adj3" fmla="val 47400000"/>
            </a:avLst>
          </a:prstGeom>
          <a:ln w="76320">
            <a:solidFill>
              <a:srgbClr val="9999ff">
                <a:alpha val="49000"/>
              </a:srgbClr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5219640" y="4869000"/>
            <a:ext cx="1513080" cy="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219640" y="2924280"/>
            <a:ext cx="1584360" cy="1800000"/>
          </a:xfrm>
          <a:prstGeom prst="line">
            <a:avLst/>
          </a:prstGeom>
          <a:ln w="76320">
            <a:solidFill>
              <a:srgbClr val="9999ff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156360" y="148428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Times New Roman"/>
              </a:rPr>
              <a:t>cac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25760" y="2133720"/>
            <a:ext cx="1826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,6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,6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4360" y="14842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Here we will stop, although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40400" y="6021360"/>
            <a:ext cx="592632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problem: constrain simple contradictory cycles in P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E475-B39D-4BD5-9981-ABB061E8FB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/>
          <a:stretch/>
        </p:blipFill>
        <p:spPr>
          <a:xfrm>
            <a:off x="184320" y="1666800"/>
            <a:ext cx="8820000" cy="411012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835280" y="5491080"/>
            <a:ext cx="1079280" cy="289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60840" y="5491080"/>
            <a:ext cx="1079640" cy="289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C9BE-2DFD-42D7-B8A8-9A4EF29CA6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no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64760" y="1484280"/>
            <a:ext cx="403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850120" y="3573360"/>
            <a:ext cx="3376440" cy="1805400"/>
            <a:chOff x="2850120" y="3573360"/>
            <a:chExt cx="3376440" cy="1805400"/>
          </a:xfrm>
        </p:grpSpPr>
        <p:sp>
          <p:nvSpPr>
            <p:cNvPr id="137" name=""/>
            <p:cNvSpPr/>
            <p:nvPr/>
          </p:nvSpPr>
          <p:spPr>
            <a:xfrm flipV="1">
              <a:off x="3157560" y="3954600"/>
              <a:ext cx="1440000" cy="11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94400" y="3954600"/>
              <a:ext cx="1152360" cy="11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30640" y="51195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50120" y="4979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23480" y="357336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27040" y="497988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386244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59280" y="5013360"/>
              <a:ext cx="14256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1200" y="5033880"/>
              <a:ext cx="142920" cy="1429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20760" y="299736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(non-polar)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Equality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640" y="5583240"/>
            <a:ext cx="41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Gives an abstract view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7575-BBE1-45C4-9BB8-D26A8EFFE9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Circuit Transform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59280" y="1413000"/>
            <a:ext cx="5695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 pipeline processes data in stag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Data is processed in parallel – as in an assembly lin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Formal Model: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539640" y="1197000"/>
          <a:ext cx="214308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21430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468360" y="1197000"/>
            <a:ext cx="2374920" cy="1511280"/>
          </a:xfrm>
          <a:prstGeom prst="rect">
            <a:avLst/>
          </a:prstGeom>
          <a:solidFill>
            <a:srgbClr val="99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68360" y="2781360"/>
            <a:ext cx="2374920" cy="2016000"/>
          </a:xfrm>
          <a:prstGeom prst="rect">
            <a:avLst/>
          </a:prstGeom>
          <a:solidFill>
            <a:srgbClr val="99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8360" y="4869000"/>
            <a:ext cx="2374920" cy="1871640"/>
          </a:xfrm>
          <a:prstGeom prst="rect">
            <a:avLst/>
          </a:prstGeom>
          <a:solidFill>
            <a:srgbClr val="9999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69440" y="12682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ag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80" y="5877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ag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41080" y="2852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tag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3564000" y="3357720"/>
            <a:ext cx="3384360" cy="19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BC1E-F0A4-4050-89F0-33F13718C450}" type="slidenum">
              <a:t>40</a:t>
            </a:fld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Circuit Transform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59280" y="1413000"/>
            <a:ext cx="5695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he maximum clock frequency depends on the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longest path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between two latch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Note that the output of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is used</a:t>
            </a:r>
            <a:br>
              <a:rPr sz="2400"/>
            </a:b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s input to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k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e want to speed up the design by postponing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k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to the third stage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539640" y="1197000"/>
          <a:ext cx="214308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21430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>
            <a:off x="1332000" y="2781360"/>
            <a:ext cx="576000" cy="1368360"/>
          </a:xfrm>
          <a:prstGeom prst="rect">
            <a:avLst/>
          </a:prstGeom>
          <a:solidFill>
            <a:srgbClr val="ff33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0259-ED80-45F6-BE9C-FE634F45158E}" type="slidenum">
              <a:t>41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Circuit Transform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1692360" y="1197000"/>
          <a:ext cx="166356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197000"/>
                    <a:ext cx="16635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"/>
          <p:cNvGraphicFramePr/>
          <p:nvPr/>
        </p:nvGraphicFramePr>
        <p:xfrm>
          <a:off x="5219640" y="1197000"/>
          <a:ext cx="1670040" cy="42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197000"/>
                    <a:ext cx="16700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"/>
          <p:cNvSpPr/>
          <p:nvPr/>
        </p:nvSpPr>
        <p:spPr>
          <a:xfrm>
            <a:off x="3924360" y="3429000"/>
            <a:ext cx="865080" cy="647640"/>
          </a:xfrm>
          <a:prstGeom prst="rightArrow">
            <a:avLst>
              <a:gd name="adj1" fmla="val 50000"/>
              <a:gd name="adj2" fmla="val 33394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5"/>
          <a:stretch/>
        </p:blipFill>
        <p:spPr>
          <a:xfrm>
            <a:off x="5076720" y="5661000"/>
            <a:ext cx="2448000" cy="100800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6"/>
          <a:stretch/>
        </p:blipFill>
        <p:spPr>
          <a:xfrm>
            <a:off x="1627200" y="5535720"/>
            <a:ext cx="2136600" cy="124128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4121280" y="426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41800" y="402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E6D08-F1DF-4F87-B64A-D34D04D49DB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a compil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63640" y="1268280"/>
            <a:ext cx="346716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rce progra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94920" y="1268280"/>
            <a:ext cx="353844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arget progra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3440" y="4149720"/>
            <a:ext cx="85312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Need to prove tha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)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4189320" y="234936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77280" y="1916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Comp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6200000">
            <a:off x="3203280" y="3357360"/>
            <a:ext cx="216000" cy="33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5760 h 3384360"/>
              <a:gd name="textAreaBottom" fmla="*/ 328860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7"/>
                </a:lnTo>
                <a:cubicBezTo>
                  <a:pt x="10800" y="9824"/>
                  <a:pt x="5400" y="10800"/>
                  <a:pt x="0" y="10800"/>
                </a:cubicBezTo>
                <a:cubicBezTo>
                  <a:pt x="5400" y="10800"/>
                  <a:pt x="10800" y="11777"/>
                  <a:pt x="10800" y="12753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773440" y="5229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6200000">
            <a:off x="7308000" y="422172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6800 h 1656000"/>
              <a:gd name="textAreaBottom" fmla="*/ 16092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7"/>
                </a:lnTo>
                <a:cubicBezTo>
                  <a:pt x="10800" y="9824"/>
                  <a:pt x="5400" y="10800"/>
                  <a:pt x="0" y="10800"/>
                </a:cubicBezTo>
                <a:cubicBezTo>
                  <a:pt x="5400" y="10800"/>
                  <a:pt x="10800" y="11777"/>
                  <a:pt x="10800" y="12753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950880" y="51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8C124-938F-4AB3-91C9-E2BA0C542FF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a compil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3440" y="4149720"/>
            <a:ext cx="85312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Need to prove tha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)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16200000">
            <a:off x="1764360" y="4724640"/>
            <a:ext cx="142920" cy="57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360"/>
              <a:gd name="textAreaBottom" fmla="*/ 560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42320" y="5157720"/>
            <a:ext cx="3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16200000">
            <a:off x="3348720" y="4724640"/>
            <a:ext cx="142920" cy="57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360"/>
              <a:gd name="textAreaBottom" fmla="*/ 560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226680" y="5157720"/>
            <a:ext cx="3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16200000">
            <a:off x="4860000" y="4724640"/>
            <a:ext cx="142920" cy="57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360"/>
              <a:gd name="textAreaBottom" fmla="*/ 560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09160" y="508464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16200000">
            <a:off x="7272360" y="4827600"/>
            <a:ext cx="71280" cy="1440000"/>
          </a:xfrm>
          <a:custGeom>
            <a:avLst/>
            <a:gdLst>
              <a:gd name="textAreaLeft" fmla="*/ 45720 w 71280"/>
              <a:gd name="textAreaRight" fmla="*/ 71640 w 71280"/>
              <a:gd name="textAreaTop" fmla="*/ 40680 h 1440000"/>
              <a:gd name="textAreaBottom" fmla="*/ 139932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084080" y="558324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g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rot="16200000">
            <a:off x="6733440" y="4724640"/>
            <a:ext cx="142920" cy="57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360"/>
              <a:gd name="textAreaBottom" fmla="*/ 5601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611040" y="5157720"/>
            <a:ext cx="3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6200000">
            <a:off x="7812720" y="4724640"/>
            <a:ext cx="142920" cy="57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6200 h 576000"/>
              <a:gd name="textAreaBottom" fmla="*/ 5598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7"/>
                  <a:pt x="10800" y="1953"/>
                </a:cubicBezTo>
                <a:lnTo>
                  <a:pt x="10800" y="8846"/>
                </a:lnTo>
                <a:cubicBezTo>
                  <a:pt x="10800" y="9823"/>
                  <a:pt x="5400" y="10799"/>
                  <a:pt x="0" y="10799"/>
                </a:cubicBezTo>
                <a:cubicBezTo>
                  <a:pt x="5400" y="10799"/>
                  <a:pt x="10800" y="11776"/>
                  <a:pt x="10800" y="12752"/>
                </a:cubicBezTo>
                <a:lnTo>
                  <a:pt x="10800" y="19647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90680" y="5157720"/>
            <a:ext cx="33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364000" y="1268280"/>
            <a:ext cx="346716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Source progra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5280" y="1268280"/>
            <a:ext cx="353844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arget program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mmi10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mr10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rot="10800000">
            <a:off x="4189320" y="234936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77280" y="1916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  <a:ea typeface="Arial"/>
              </a:rPr>
              <a:t>Comp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6A5B2-531F-40DA-AE2D-496AD73F1DD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"/>
          <p:cNvGrpSpPr/>
          <p:nvPr/>
        </p:nvGrpSpPr>
        <p:grpSpPr>
          <a:xfrm>
            <a:off x="433440" y="4149720"/>
            <a:ext cx="8531280" cy="2519280"/>
            <a:chOff x="433440" y="4149720"/>
            <a:chExt cx="8531280" cy="2519280"/>
          </a:xfrm>
        </p:grpSpPr>
        <p:sp>
          <p:nvSpPr>
            <p:cNvPr id="846" name=""/>
            <p:cNvSpPr/>
            <p:nvPr/>
          </p:nvSpPr>
          <p:spPr>
            <a:xfrm>
              <a:off x="433440" y="4149720"/>
              <a:ext cx="853128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5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99"/>
                  </a:solidFill>
                  <a:latin typeface="Times New Roman"/>
                </a:rPr>
                <a:t>Need to prove that:</a:t>
              </a: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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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) 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sy10"/>
                </a:rPr>
                <a:t>$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mmi10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mmi10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5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6200000">
              <a:off x="1764360" y="4724640"/>
              <a:ext cx="142920" cy="576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360"/>
                <a:gd name="textAreaBottom" fmla="*/ 5601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42320" y="5157720"/>
              <a:ext cx="33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3348720" y="4724640"/>
              <a:ext cx="142920" cy="576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360"/>
                <a:gd name="textAreaBottom" fmla="*/ 5601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26680" y="5157720"/>
              <a:ext cx="33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16200000">
              <a:off x="4860000" y="4724640"/>
              <a:ext cx="142920" cy="576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360"/>
                <a:gd name="textAreaBottom" fmla="*/ 5601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09160" y="508464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g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16200000">
              <a:off x="7272360" y="4827600"/>
              <a:ext cx="71280" cy="144000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40680 h 1440000"/>
                <a:gd name="textAreaBottom" fmla="*/ 139932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84080" y="558324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g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16200000">
              <a:off x="6733440" y="4724640"/>
              <a:ext cx="142920" cy="5763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360"/>
                <a:gd name="textAreaBottom" fmla="*/ 5601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11040" y="5157720"/>
              <a:ext cx="33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16200000">
              <a:off x="7812720" y="4724640"/>
              <a:ext cx="142920" cy="57600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6200 h 576000"/>
                <a:gd name="textAreaBottom" fmla="*/ 5598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77"/>
                    <a:pt x="10800" y="1953"/>
                  </a:cubicBezTo>
                  <a:lnTo>
                    <a:pt x="10800" y="8846"/>
                  </a:lnTo>
                  <a:cubicBezTo>
                    <a:pt x="10800" y="9823"/>
                    <a:pt x="5400" y="10799"/>
                    <a:pt x="0" y="10799"/>
                  </a:cubicBezTo>
                  <a:cubicBezTo>
                    <a:pt x="5400" y="10799"/>
                    <a:pt x="10800" y="11776"/>
                    <a:pt x="10800" y="12752"/>
                  </a:cubicBezTo>
                  <a:lnTo>
                    <a:pt x="10800" y="19647"/>
                  </a:lnTo>
                  <a:cubicBezTo>
                    <a:pt x="10800" y="20624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90680" y="5157720"/>
              <a:ext cx="33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410760" y="2305080"/>
            <a:ext cx="8326800" cy="35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Instead, prov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   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under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  <a:ea typeface="Arial"/>
              </a:rPr>
              <a:t>functional consistency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Arial"/>
              </a:rPr>
              <a:t>: for every uninterpreted function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Which translates to (via Ackermann’s reductio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a compil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617400" y="5605560"/>
            <a:ext cx="7351920" cy="60300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711360" y="2973240"/>
            <a:ext cx="7313400" cy="3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8151-67E0-45B9-AE0F-23687757372C}" type="slidenum">
              <a:t>45</a:t>
            </a:fld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08721E-007 L 0.00191 -0.46681 E">
                                      <p:cBhvr>
                                        <p:cTn id="694" dur="2000" fill="hold"/>
                                        <p:tgtEl>
                                          <p:spTgt spid="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5592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Encode all edges with Boolean variabl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his is an abstraction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ransitivity of equality is lost!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Must add transitivity constraints!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6644880" y="200988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66080" y="1670040"/>
            <a:ext cx="1022400" cy="6415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91280" y="2381400"/>
            <a:ext cx="1035000" cy="661680"/>
          </a:xfrm>
          <a:custGeom>
            <a:avLst/>
            <a:gdLst/>
            <a:ahLst/>
            <a:rect l="l" t="t" r="r" b="b"/>
            <a:pathLst>
              <a:path w="652" h="417">
                <a:moveTo>
                  <a:pt x="0" y="417"/>
                </a:move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15573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299736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01080" y="227664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395600">
            <a:off x="7454880" y="165096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0005800">
            <a:off x="7440840" y="263268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36240" y="110340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87120" y="220500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74400" y="304308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43BA-739B-44B4-9929-E51A01BAC9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640" y="155592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-31896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Transitivity Constraint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: For each cycle of size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, forbid a true assignment to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edg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0"/>
                <a:tab algn="l" pos="627120"/>
                <a:tab algn="l" pos="187956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6644880" y="200988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20000" y="162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66080" y="1670040"/>
            <a:ext cx="1022400" cy="6415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1280" y="2381400"/>
            <a:ext cx="1035000" cy="661680"/>
          </a:xfrm>
          <a:custGeom>
            <a:avLst/>
            <a:gdLst/>
            <a:ahLst/>
            <a:rect l="l" t="t" r="r" b="b"/>
            <a:pathLst>
              <a:path w="652" h="417">
                <a:moveTo>
                  <a:pt x="0" y="417"/>
                </a:move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155736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48360" y="299736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01080" y="227664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395600">
            <a:off x="7454880" y="165096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20005800">
            <a:off x="7440840" y="263268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6240" y="110340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87120" y="220500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74400" y="3043080"/>
            <a:ext cx="43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5950080"/>
            <a:ext cx="3240000" cy="0"/>
          </a:xfrm>
          <a:prstGeom prst="line">
            <a:avLst/>
          </a:prstGeom>
          <a:ln w="763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CEBB-9A0F-4969-BBFD-23A33F507F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1: It is sufficient to constrain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simple cycles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 only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3500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56080" y="3594240"/>
            <a:ext cx="792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05000" y="3541680"/>
            <a:ext cx="1022400" cy="6415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0960" y="4272120"/>
            <a:ext cx="1035000" cy="62208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0" y="0"/>
                </a:moveTo>
                <a:lnTo>
                  <a:pt x="652" y="3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30560" y="4253040"/>
            <a:ext cx="1035000" cy="662040"/>
          </a:xfrm>
          <a:custGeom>
            <a:avLst/>
            <a:gdLst/>
            <a:ahLst/>
            <a:rect l="l" t="t" r="r" b="b"/>
            <a:pathLst>
              <a:path w="652" h="417">
                <a:moveTo>
                  <a:pt x="0" y="417"/>
                </a:move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73560" y="3548160"/>
            <a:ext cx="1035000" cy="622080"/>
          </a:xfrm>
          <a:custGeom>
            <a:avLst/>
            <a:gdLst/>
            <a:ahLst/>
            <a:rect l="l" t="t" r="r" b="b"/>
            <a:pathLst>
              <a:path w="652" h="392">
                <a:moveTo>
                  <a:pt x="0" y="392"/>
                </a:moveTo>
                <a:lnTo>
                  <a:pt x="6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3429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486900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4148280"/>
            <a:ext cx="14256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487044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3429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52200" y="40402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44560" y="35020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320" y="35020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7680" y="393372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320" y="443700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71560" y="446256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0920" y="3881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36720" y="4726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4720" y="4726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720" y="321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9800" y="321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5344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59320" y="3568680"/>
            <a:ext cx="1800" cy="1346400"/>
          </a:xfrm>
          <a:custGeom>
            <a:avLst/>
            <a:gdLst/>
            <a:ahLst/>
            <a:rect l="l" t="t" r="r" b="b"/>
            <a:pathLst>
              <a:path w="1" h="848">
                <a:moveTo>
                  <a:pt x="0" y="0"/>
                </a:moveTo>
                <a:lnTo>
                  <a:pt x="0" y="848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41880" y="4254480"/>
            <a:ext cx="1066680" cy="660600"/>
          </a:xfrm>
          <a:custGeom>
            <a:avLst/>
            <a:gdLst/>
            <a:ahLst/>
            <a:rect l="l" t="t" r="r" b="b"/>
            <a:pathLst>
              <a:path w="672" h="416">
                <a:moveTo>
                  <a:pt x="0" y="0"/>
                </a:moveTo>
                <a:lnTo>
                  <a:pt x="672" y="416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543480"/>
            <a:ext cx="1041480" cy="647640"/>
          </a:xfrm>
          <a:custGeom>
            <a:avLst/>
            <a:gdLst/>
            <a:ahLst/>
            <a:rect l="l" t="t" r="r" b="b"/>
            <a:pathLst>
              <a:path w="656" h="408">
                <a:moveTo>
                  <a:pt x="0" y="408"/>
                </a:moveTo>
                <a:lnTo>
                  <a:pt x="656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3D54-1394-4BD8-B8CB-AC3E759D7B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hm-2: It is sufficient to constrain 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hord-free simple cycl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3500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56080" y="3594240"/>
            <a:ext cx="7920" cy="12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05000" y="3541680"/>
            <a:ext cx="2187720" cy="1327320"/>
          </a:xfrm>
          <a:custGeom>
            <a:avLst/>
            <a:gdLst/>
            <a:ahLst/>
            <a:rect l="l" t="t" r="r" b="b"/>
            <a:pathLst>
              <a:path w="644" h="404">
                <a:moveTo>
                  <a:pt x="0" y="0"/>
                </a:moveTo>
                <a:lnTo>
                  <a:pt x="644" y="4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30560" y="4911840"/>
            <a:ext cx="2173320" cy="3240"/>
          </a:xfrm>
          <a:custGeom>
            <a:avLst/>
            <a:gdLst/>
            <a:ahLst/>
            <a:rect l="l" t="t" r="r" b="b"/>
            <a:pathLst>
              <a:path w="1369" h="2">
                <a:moveTo>
                  <a:pt x="0" y="2"/>
                </a:moveTo>
                <a:lnTo>
                  <a:pt x="136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08240" y="3492360"/>
            <a:ext cx="2162160" cy="20880"/>
          </a:xfrm>
          <a:custGeom>
            <a:avLst/>
            <a:gdLst/>
            <a:ahLst/>
            <a:rect l="l" t="t" r="r" b="b"/>
            <a:pathLst>
              <a:path w="1362" h="13">
                <a:moveTo>
                  <a:pt x="0" y="13"/>
                </a:moveTo>
                <a:lnTo>
                  <a:pt x="136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3429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87640" y="4869000"/>
            <a:ext cx="142920" cy="1425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91280" y="4870440"/>
            <a:ext cx="14256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92720" y="3429000"/>
            <a:ext cx="142920" cy="14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52200" y="404028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61880" y="317484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87680" y="407664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1880" y="486900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61880" y="386064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33800" y="2924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53080" y="386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5800" y="50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3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1440" y="3645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515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10040" y="4902120"/>
            <a:ext cx="2147760" cy="14400"/>
          </a:xfrm>
          <a:custGeom>
            <a:avLst/>
            <a:gdLst/>
            <a:ahLst/>
            <a:rect l="l" t="t" r="r" b="b"/>
            <a:pathLst>
              <a:path w="1353" h="9">
                <a:moveTo>
                  <a:pt x="0" y="9"/>
                </a:moveTo>
                <a:lnTo>
                  <a:pt x="1353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3500280"/>
            <a:ext cx="11160" cy="1401840"/>
          </a:xfrm>
          <a:custGeom>
            <a:avLst/>
            <a:gdLst/>
            <a:ahLst/>
            <a:rect l="l" t="t" r="r" b="b"/>
            <a:pathLst>
              <a:path w="7" h="883">
                <a:moveTo>
                  <a:pt x="0" y="883"/>
                </a:moveTo>
                <a:lnTo>
                  <a:pt x="7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60720" y="3517920"/>
            <a:ext cx="2298600" cy="1397160"/>
          </a:xfrm>
          <a:custGeom>
            <a:avLst/>
            <a:gdLst/>
            <a:ahLst/>
            <a:rect l="l" t="t" r="r" b="b"/>
            <a:pathLst>
              <a:path w="1448" h="880">
                <a:moveTo>
                  <a:pt x="1448" y="88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3500280"/>
            <a:ext cx="11160" cy="1401840"/>
          </a:xfrm>
          <a:custGeom>
            <a:avLst/>
            <a:gdLst/>
            <a:ahLst/>
            <a:rect l="l" t="t" r="r" b="b"/>
            <a:pathLst>
              <a:path w="7" h="883">
                <a:moveTo>
                  <a:pt x="0" y="883"/>
                </a:moveTo>
                <a:lnTo>
                  <a:pt x="7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19400" y="3492360"/>
            <a:ext cx="2227320" cy="7920"/>
          </a:xfrm>
          <a:custGeom>
            <a:avLst/>
            <a:gdLst/>
            <a:ahLst/>
            <a:rect l="l" t="t" r="r" b="b"/>
            <a:pathLst>
              <a:path w="1403" h="5">
                <a:moveTo>
                  <a:pt x="0" y="5"/>
                </a:moveTo>
                <a:lnTo>
                  <a:pt x="1403" y="0"/>
                </a:lnTo>
              </a:path>
            </a:pathLst>
          </a:custGeom>
          <a:noFill/>
          <a:ln w="76320">
            <a:solidFill>
              <a:srgbClr val="33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82B5-CC88-4844-B758-68B7D4E163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till, there can be an exponential number of chord-free simple cycles…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Solution: make the graph ‘</a:t>
            </a: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chordal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’!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3259080"/>
            <a:ext cx="498600" cy="451080"/>
          </a:xfrm>
          <a:custGeom>
            <a:avLst/>
            <a:gdLst/>
            <a:ahLst/>
            <a:rect l="l" t="t" r="r" b="b"/>
            <a:pathLst>
              <a:path w="314" h="284">
                <a:moveTo>
                  <a:pt x="314" y="0"/>
                </a:moveTo>
                <a:lnTo>
                  <a:pt x="0" y="2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16560" y="2797200"/>
            <a:ext cx="506520" cy="404640"/>
          </a:xfrm>
          <a:custGeom>
            <a:avLst/>
            <a:gdLst/>
            <a:ahLst/>
            <a:rect l="l" t="t" r="r" b="b"/>
            <a:pathLst>
              <a:path w="436" h="354">
                <a:moveTo>
                  <a:pt x="0" y="0"/>
                </a:moveTo>
                <a:lnTo>
                  <a:pt x="436" y="3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4520" y="3184560"/>
            <a:ext cx="10332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32680" y="370188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11920" y="318456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4120" y="2717640"/>
            <a:ext cx="10332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43440" y="2793960"/>
            <a:ext cx="489240" cy="411120"/>
          </a:xfrm>
          <a:custGeom>
            <a:avLst/>
            <a:gdLst/>
            <a:ahLst/>
            <a:rect l="l" t="t" r="r" b="b"/>
            <a:pathLst>
              <a:path w="308" h="259">
                <a:moveTo>
                  <a:pt x="308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43440" y="3271680"/>
            <a:ext cx="500040" cy="447840"/>
          </a:xfrm>
          <a:custGeom>
            <a:avLst/>
            <a:gdLst/>
            <a:ahLst/>
            <a:rect l="l" t="t" r="r" b="b"/>
            <a:pathLst>
              <a:path w="315" h="282">
                <a:moveTo>
                  <a:pt x="0" y="0"/>
                </a:moveTo>
                <a:lnTo>
                  <a:pt x="315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43680" y="3267000"/>
            <a:ext cx="518760" cy="443160"/>
          </a:xfrm>
          <a:custGeom>
            <a:avLst/>
            <a:gdLst/>
            <a:ahLst/>
            <a:rect l="l" t="t" r="r" b="b"/>
            <a:pathLst>
              <a:path w="327" h="279">
                <a:moveTo>
                  <a:pt x="327" y="0"/>
                </a:moveTo>
                <a:lnTo>
                  <a:pt x="0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29280" y="2787480"/>
            <a:ext cx="523800" cy="417600"/>
          </a:xfrm>
          <a:custGeom>
            <a:avLst/>
            <a:gdLst/>
            <a:ahLst/>
            <a:rect l="l" t="t" r="r" b="b"/>
            <a:pathLst>
              <a:path w="330" h="263">
                <a:moveTo>
                  <a:pt x="0" y="0"/>
                </a:moveTo>
                <a:lnTo>
                  <a:pt x="330" y="2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65800" y="317484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43600" y="369252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45040" y="270828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62640" y="2784600"/>
            <a:ext cx="480960" cy="411120"/>
          </a:xfrm>
          <a:custGeom>
            <a:avLst/>
            <a:gdLst/>
            <a:ahLst/>
            <a:rect l="l" t="t" r="r" b="b"/>
            <a:pathLst>
              <a:path w="303" h="259">
                <a:moveTo>
                  <a:pt x="303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62640" y="3271680"/>
            <a:ext cx="485640" cy="443160"/>
          </a:xfrm>
          <a:custGeom>
            <a:avLst/>
            <a:gdLst/>
            <a:ahLst/>
            <a:rect l="l" t="t" r="r" b="b"/>
            <a:pathLst>
              <a:path w="306" h="279">
                <a:moveTo>
                  <a:pt x="0" y="0"/>
                </a:moveTo>
                <a:lnTo>
                  <a:pt x="306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71520" y="29894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0560" y="3249720"/>
            <a:ext cx="496800" cy="446040"/>
          </a:xfrm>
          <a:custGeom>
            <a:avLst/>
            <a:gdLst/>
            <a:ahLst/>
            <a:rect l="l" t="t" r="r" b="b"/>
            <a:pathLst>
              <a:path w="313" h="281">
                <a:moveTo>
                  <a:pt x="313" y="0"/>
                </a:moveTo>
                <a:lnTo>
                  <a:pt x="0" y="2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90840" y="2787480"/>
            <a:ext cx="506520" cy="405000"/>
          </a:xfrm>
          <a:custGeom>
            <a:avLst/>
            <a:gdLst/>
            <a:ahLst/>
            <a:rect l="l" t="t" r="r" b="b"/>
            <a:pathLst>
              <a:path w="436" h="354">
                <a:moveTo>
                  <a:pt x="0" y="0"/>
                </a:moveTo>
                <a:lnTo>
                  <a:pt x="436" y="3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27360" y="317484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05160" y="369252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317484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06600" y="2708280"/>
            <a:ext cx="104760" cy="103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09800" y="2784600"/>
            <a:ext cx="495360" cy="401400"/>
          </a:xfrm>
          <a:custGeom>
            <a:avLst/>
            <a:gdLst/>
            <a:ahLst/>
            <a:rect l="l" t="t" r="r" b="b"/>
            <a:pathLst>
              <a:path w="312" h="253">
                <a:moveTo>
                  <a:pt x="312" y="0"/>
                </a:moveTo>
                <a:lnTo>
                  <a:pt x="0" y="2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4480" y="3267000"/>
            <a:ext cx="490680" cy="447840"/>
          </a:xfrm>
          <a:custGeom>
            <a:avLst/>
            <a:gdLst/>
            <a:ahLst/>
            <a:rect l="l" t="t" r="r" b="b"/>
            <a:pathLst>
              <a:path w="309" h="282">
                <a:moveTo>
                  <a:pt x="0" y="0"/>
                </a:moveTo>
                <a:lnTo>
                  <a:pt x="309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3228840"/>
            <a:ext cx="4907160" cy="992160"/>
          </a:xfrm>
          <a:custGeom>
            <a:avLst/>
            <a:gdLst/>
            <a:ahLst/>
            <a:rect l="l" t="t" r="r" b="b"/>
            <a:pathLst>
              <a:path w="3091" h="625">
                <a:moveTo>
                  <a:pt x="157" y="7"/>
                </a:moveTo>
                <a:lnTo>
                  <a:pt x="0" y="7"/>
                </a:lnTo>
                <a:lnTo>
                  <a:pt x="5" y="625"/>
                </a:lnTo>
                <a:lnTo>
                  <a:pt x="3091" y="625"/>
                </a:lnTo>
                <a:lnTo>
                  <a:pt x="3091" y="5"/>
                </a:lnTo>
                <a:lnTo>
                  <a:pt x="27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395280" y="38592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Equality to Propositional Logic</a:t>
            </a:r>
            <a:br>
              <a:rPr sz="3600"/>
            </a:b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Bryant &amp; Velev</a:t>
            </a:r>
            <a:r>
              <a:rPr b="0" lang="en-US" sz="36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CAV’00 – the 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Sparse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84360" y="2708280"/>
            <a:ext cx="4907160" cy="1512720"/>
          </a:xfrm>
          <a:custGeom>
            <a:avLst/>
            <a:gdLst/>
            <a:ahLst/>
            <a:rect l="l" t="t" r="r" b="b"/>
            <a:pathLst>
              <a:path w="3091" h="953">
                <a:moveTo>
                  <a:pt x="181" y="318"/>
                </a:moveTo>
                <a:lnTo>
                  <a:pt x="0" y="318"/>
                </a:lnTo>
                <a:lnTo>
                  <a:pt x="0" y="953"/>
                </a:lnTo>
                <a:lnTo>
                  <a:pt x="3084" y="953"/>
                </a:lnTo>
                <a:lnTo>
                  <a:pt x="3091" y="326"/>
                </a:lnTo>
                <a:lnTo>
                  <a:pt x="2767" y="318"/>
                </a:lnTo>
                <a:lnTo>
                  <a:pt x="2404" y="0"/>
                </a:lnTo>
                <a:lnTo>
                  <a:pt x="2041" y="318"/>
                </a:lnTo>
                <a:lnTo>
                  <a:pt x="1633" y="46"/>
                </a:lnTo>
                <a:lnTo>
                  <a:pt x="1243" y="334"/>
                </a:lnTo>
                <a:lnTo>
                  <a:pt x="899" y="318"/>
                </a:lnTo>
                <a:lnTo>
                  <a:pt x="544" y="46"/>
                </a:lnTo>
                <a:lnTo>
                  <a:pt x="181" y="318"/>
                </a:lnTo>
                <a:close/>
              </a:path>
            </a:pathLst>
          </a:custGeom>
          <a:noFill/>
          <a:ln w="76320">
            <a:solidFill>
              <a:srgbClr val="9999ff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707E-164F-4900-9230-CCBFDF110B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4T04:36:09Z</dcterms:created>
  <dc:creator>Strichman</dc:creator>
  <dc:description/>
  <dc:language>en-US</dc:language>
  <cp:lastModifiedBy>Strichman</cp:lastModifiedBy>
  <dcterms:modified xsi:type="dcterms:W3CDTF">2005-02-28T19:39:28Z</dcterms:modified>
  <cp:revision>147</cp:revision>
  <dc:subject/>
  <dc:title>Equality Logic and Uninterpreted Functions</dc:title>
</cp:coreProperties>
</file>