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B35A25-85C8-4311-B224-FFB8F674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 Need to show a trace for the deadl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 connector that can retur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it deadlocks if component is 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E21-E0F4-468D-A6F0-ACA8E701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DCB-29E3-462E-BAA6-6AE6A6D5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3E6-786C-427E-BCDB-76B3ED2F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529-36F6-4A18-B407-5917A0DD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A8BB-F1E4-4E6C-8B25-8029E47C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1DEE-1D13-4C8C-AEEC-E9D7829E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1C72-5609-426F-A7F5-A784AFE9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9DBF-9D2E-42E3-AEA7-A3591FD4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BF63-AD59-430A-B32B-66EC49F7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30E-8D37-4978-9FB8-D7B064FF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3B03-76E7-4B99-B941-686BE2B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3FC-DA4B-4A1D-A5DA-A739B2FE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E811-3C8F-459E-8944-B5177FB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ACCE-0341-45A2-BB4B-AAA168D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ABE0-FF27-484F-968C-6EDFE9F7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DE9A-57D4-4E0F-B0B1-AD8EB5CE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CC7A-A5C1-4ACE-9879-A08BC61B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70F-6202-43C2-A889-69592E2C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C6B-81D4-4A74-B9F6-1598C31D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AAC-9D32-45F2-A65B-0330DD39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8CC-B916-44A8-9168-60A29A2D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31F-36D5-4C5D-BE1D-AF66CDE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B15-7B9D-4E63-9E60-CB5514B2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057-EF40-49DB-8E7E-435D349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C273-F522-4A76-AD4A-FBE3EFF91A10}" type="slidenum">
              <a:rPr b="0" lang="en-US" sz="2400" spc="-1" strike="noStrike">
                <a:solidFill>
                  <a:srgbClr val="2a3d7a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2" marL="1370160" indent="-22860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3" marL="1712880" indent="-228600">
              <a:spcBef>
                <a:spcPts val="700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A0A1-44AF-4131-A443-89131FB2C7D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914400" indent="227160" algn="ctr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3" marL="1371600" indent="112680" algn="ctr">
              <a:spcBef>
                <a:spcPts val="45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5b524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515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ahoma"/>
              </a:rPr>
              <a:t>A partial semantics of connector transformations</a:t>
            </a:r>
            <a:endParaRPr b="1" lang="en-US" sz="4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Bridget Spitznagel</a:t>
            </a:r>
            <a:endParaRPr b="0" lang="en-US" sz="2800" spc="-1" strike="noStrike">
              <a:solidFill>
                <a:srgbClr val="b0ae6a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ae6a"/>
                </a:solidFill>
                <a:latin typeface="Tahoma"/>
              </a:rPr>
              <a:t>Specification and Verification Center – March 26, 2002</a:t>
            </a: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b0ae6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scribing simple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Introduction of running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Viewing as a “labelled transition system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Overview of common FSP operator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0E5-8FE6-44C3-9084-0A511AD229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imple exampl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 Wright: a connector is composed of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role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processes, representing interfaces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nd a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glue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process, that sticks them togeth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63760" y="3760920"/>
                <a:ext cx="611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nector</m:t>
                        </m:r>
                        <m:r>
                          <m:rPr>
                            <m:lit/>
                            <m:nor/>
                          </m:rPr>
                          <m:t xml:space="preserve"> ProcedureCall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Caller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Defin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fin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D85-2193-4922-8E5E-2D7C68E9329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19560" y="4772160"/>
                <a:ext cx="494028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nector</m:t>
                        </m:r>
                        <m:r>
                          <m:rPr>
                            <m:lit/>
                            <m:nor/>
                          </m:rPr>
                          <m:t xml:space="preserve"> ProcedureCall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Caller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Role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Defin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all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all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fin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ll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Defin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turn</m:t>
                        </m:r>
                        <m:r>
                          <m:t xml:space="preserve">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ll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turn</m:t>
                            </m:r>
                          </m:e>
                        </m:ba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Glu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Use a similar format in FS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Glue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Glue | defin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ProcCall = (caller:Caller || definer:Definer || 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61A-D3EE-497C-94B9-8E5DD7B21B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2057400"/>
            <a:ext cx="4191120" cy="41148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LTS Analys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.call, caller.retur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efin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similar to Caller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Glu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.call, definer.cal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.return, definer.retur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ProcCall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oles || Glue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37" name="caller1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308320" cy="993600"/>
          </a:xfrm>
          <a:prstGeom prst="rect">
            <a:avLst/>
          </a:prstGeom>
          <a:ln w="0">
            <a:noFill/>
          </a:ln>
        </p:spPr>
      </p:pic>
      <p:pic>
        <p:nvPicPr>
          <p:cNvPr id="138" name="glue1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2721240" cy="1349280"/>
          </a:xfrm>
          <a:prstGeom prst="rect">
            <a:avLst/>
          </a:prstGeom>
          <a:ln w="0">
            <a:noFill/>
          </a:ln>
        </p:spPr>
      </p:pic>
      <p:pic>
        <p:nvPicPr>
          <p:cNvPr id="139" name="conn1" descr=""/>
          <p:cNvPicPr/>
          <p:nvPr/>
        </p:nvPicPr>
        <p:blipFill>
          <a:blip r:embed="rId3"/>
          <a:stretch/>
        </p:blipFill>
        <p:spPr>
          <a:xfrm>
            <a:off x="849240" y="4724280"/>
            <a:ext cx="3875040" cy="1360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48320" y="1523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i="1" lang="en-US" sz="1800" spc="-1" strike="noStrike">
                <a:solidFill>
                  <a:srgbClr val="5b5249"/>
                </a:solidFill>
                <a:latin typeface="Tahoma"/>
              </a:rPr>
              <a:t>labelled transition system”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226-4AD4-40DE-B65B-886370F92E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SP operators seen so far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ngage in event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5b5249"/>
                </a:solidFill>
                <a:uFillTx/>
                <a:latin typeface="Tahoma"/>
              </a:rPr>
              <a:t>the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ct like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 | b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Q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ngage in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nd then act like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5b5249"/>
                </a:solidFill>
                <a:uFillTx/>
                <a:latin typeface="Tahoma"/>
              </a:rPr>
              <a:t>o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ngage in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 b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nd then act like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 || Q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un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in </a:t>
            </a:r>
            <a:r>
              <a:rPr b="0" i="1" lang="en-US" sz="2400" spc="-1" strike="noStrike" u="sng">
                <a:solidFill>
                  <a:srgbClr val="5b5249"/>
                </a:solidFill>
                <a:uFillTx/>
                <a:latin typeface="Tahoma"/>
              </a:rPr>
              <a:t>parallel</a:t>
            </a: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synch on shared event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oo: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dd prefix “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foo.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” to every event in process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C2A-51C1-47E7-A5D3-B531BA3FC8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Others you’ll see today: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/{bar/foo}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place every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foo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vent in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ith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ba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42440" indent="-22392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foo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foo.a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…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becomes 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bar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bar.a </a:t>
            </a:r>
            <a:r>
              <a:rPr b="0" i="1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…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\{foo}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hide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foo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vents from observer (replace w/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tau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42440" indent="-22392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P\{foo} || Q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will not synch on 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foo, foo.a,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tc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P[n:0..5] = (when (n&lt;5)    a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[n+1]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 when (n==5)   b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[0]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06200" indent="-446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parameterization, guards …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077-4279-4BF4-ABB1-EB08A8FFC4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… You can!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No-op; revised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on error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16640" indent="-450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-over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BD8-78E8-4FF0-B213-60E4C566AE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No-op augmentation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sert a piece that “does nothing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Between the Caller and the Glu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27672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327672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fin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65760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26708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426708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fin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64832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724280"/>
            <a:ext cx="304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267080"/>
            <a:ext cx="38088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648320"/>
            <a:ext cx="3049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733920" y="5257800"/>
            <a:ext cx="1752480" cy="685800"/>
            <a:chOff x="3733920" y="5257800"/>
            <a:chExt cx="1752480" cy="685800"/>
          </a:xfrm>
        </p:grpSpPr>
        <p:sp>
          <p:nvSpPr>
            <p:cNvPr id="159" name=""/>
            <p:cNvSpPr/>
            <p:nvPr/>
          </p:nvSpPr>
          <p:spPr>
            <a:xfrm>
              <a:off x="4572000" y="5638680"/>
              <a:ext cx="7621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5257800"/>
              <a:ext cx="380880" cy="685800"/>
            </a:xfrm>
            <a:prstGeom prst="rect">
              <a:avLst/>
            </a:prstGeom>
            <a:solidFill>
              <a:srgbClr val="c3e684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86200" y="5638680"/>
              <a:ext cx="3049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3920" y="5562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5562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7017120" y="342900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ahoma"/>
              </a:rPr>
              <a:t>Original syste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52040" y="4387680"/>
            <a:ext cx="133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ahoma"/>
              </a:rPr>
              <a:t>New syste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36560" y="545472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Tahoma"/>
              </a:rPr>
              <a:t>New connector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664-1E49-4BCC-BC8B-2F1C471B1C3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81080" y="5486400"/>
            <a:ext cx="57150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terposing a new piec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OldGlue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defin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Glue           | defin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Wrap = (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wrap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Wrap   | wrap.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Wrap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NewProcCall = (caller:Caller || definer:Definer || OldGlue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/{wrap.caller/caller} || Wra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162920" y="1828800"/>
            <a:ext cx="1752480" cy="685800"/>
            <a:chOff x="7162920" y="1828800"/>
            <a:chExt cx="1752480" cy="685800"/>
          </a:xfrm>
        </p:grpSpPr>
        <p:sp>
          <p:nvSpPr>
            <p:cNvPr id="171" name=""/>
            <p:cNvSpPr/>
            <p:nvPr/>
          </p:nvSpPr>
          <p:spPr>
            <a:xfrm>
              <a:off x="8001000" y="2209680"/>
              <a:ext cx="7621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0120" y="1828800"/>
              <a:ext cx="380880" cy="685800"/>
            </a:xfrm>
            <a:prstGeom prst="rect">
              <a:avLst/>
            </a:prstGeom>
            <a:solidFill>
              <a:srgbClr val="c3e684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2209680"/>
              <a:ext cx="3049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7631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90720" y="6099120"/>
            <a:ext cx="79246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0ae6a"/>
                </a:solidFill>
                <a:latin typeface="Tahoma"/>
              </a:rPr>
              <a:t>Compare: ||ProcCall = (caller:Caller || definer:Definer || Glue)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1B7-5AA5-4E64-A3CC-57F26C9F01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057400"/>
            <a:ext cx="8153280" cy="38862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||NewProcCall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179" name="caller4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332080" cy="925560"/>
          </a:xfrm>
          <a:prstGeom prst="rect">
            <a:avLst/>
          </a:prstGeom>
          <a:ln w="0">
            <a:noFill/>
          </a:ln>
        </p:spPr>
      </p:pic>
      <p:pic>
        <p:nvPicPr>
          <p:cNvPr id="180" name="conn4" descr=""/>
          <p:cNvPicPr/>
          <p:nvPr/>
        </p:nvPicPr>
        <p:blipFill>
          <a:blip r:embed="rId2"/>
          <a:stretch/>
        </p:blipFill>
        <p:spPr>
          <a:xfrm>
            <a:off x="1981080" y="4800600"/>
            <a:ext cx="6023160" cy="960480"/>
          </a:xfrm>
          <a:prstGeom prst="rect">
            <a:avLst/>
          </a:prstGeom>
          <a:ln w="0">
            <a:noFill/>
          </a:ln>
        </p:spPr>
      </p:pic>
      <p:pic>
        <p:nvPicPr>
          <p:cNvPr id="181" name="definer4" descr=""/>
          <p:cNvPicPr/>
          <p:nvPr/>
        </p:nvPicPr>
        <p:blipFill>
          <a:blip r:embed="rId3"/>
          <a:stretch/>
        </p:blipFill>
        <p:spPr>
          <a:xfrm>
            <a:off x="5943600" y="2209680"/>
            <a:ext cx="257184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oldglue4" descr=""/>
          <p:cNvPicPr/>
          <p:nvPr/>
        </p:nvPicPr>
        <p:blipFill>
          <a:blip r:embed="rId4"/>
          <a:stretch/>
        </p:blipFill>
        <p:spPr>
          <a:xfrm>
            <a:off x="5029200" y="3200400"/>
            <a:ext cx="3406680" cy="1279440"/>
          </a:xfrm>
          <a:prstGeom prst="rect">
            <a:avLst/>
          </a:prstGeom>
          <a:ln w="0">
            <a:noFill/>
          </a:ln>
        </p:spPr>
      </p:pic>
      <p:pic>
        <p:nvPicPr>
          <p:cNvPr id="183" name="wrap4" descr=""/>
          <p:cNvPicPr/>
          <p:nvPr/>
        </p:nvPicPr>
        <p:blipFill>
          <a:blip r:embed="rId5"/>
          <a:stretch/>
        </p:blipFill>
        <p:spPr>
          <a:xfrm>
            <a:off x="1219320" y="3200400"/>
            <a:ext cx="3154320" cy="1303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83920" y="5969160"/>
            <a:ext cx="33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If we hide the </a:t>
            </a:r>
            <a:r>
              <a:rPr b="0" i="1" lang="en-US" sz="2000" spc="-1" strike="noStrike">
                <a:solidFill>
                  <a:srgbClr val="cc3300"/>
                </a:solidFill>
                <a:latin typeface="Tahoma"/>
              </a:rPr>
              <a:t>wrap</a:t>
            </a: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 events…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09880" y="4648320"/>
            <a:ext cx="3451320" cy="1218960"/>
            <a:chOff x="3809880" y="4648320"/>
            <a:chExt cx="3451320" cy="1218960"/>
          </a:xfrm>
        </p:grpSpPr>
        <p:sp>
          <p:nvSpPr>
            <p:cNvPr id="186" name=""/>
            <p:cNvSpPr/>
            <p:nvPr/>
          </p:nvSpPr>
          <p:spPr>
            <a:xfrm>
              <a:off x="3809880" y="4648320"/>
              <a:ext cx="76212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53080" y="4648320"/>
              <a:ext cx="70812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88" name="j0158061" descr=""/>
          <p:cNvPicPr/>
          <p:nvPr/>
        </p:nvPicPr>
        <p:blipFill>
          <a:blip r:embed="rId6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F55-88B7-4AD5-92A1-9BD283AA5C2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tate of the research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hat you will be seeing is a </a:t>
            </a: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first ste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toward providing a formal basi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lthough it is preliminary, it is interesting stuff, and demonstrates several things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D24-54E0-4E1F-9EC7-B618CF5BDA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24480" y="3886200"/>
            <a:ext cx="152424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4724280"/>
            <a:ext cx="4038840" cy="16002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057400"/>
            <a:ext cx="4343400" cy="144792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||NewProcCall \ {wrap}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3505320"/>
            <a:ext cx="7391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|NewProcCall = (caller:Caller || definer:Definer || OldGlue/{wrap.caller/caller} || Wrap)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\ {wrap}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By inspection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ame as the original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(as intended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194" name="conn4a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4171680" cy="1292040"/>
          </a:xfrm>
          <a:prstGeom prst="rect">
            <a:avLst/>
          </a:prstGeom>
          <a:ln w="0">
            <a:noFill/>
          </a:ln>
        </p:spPr>
      </p:pic>
      <p:pic>
        <p:nvPicPr>
          <p:cNvPr id="195" name="conn1" descr=""/>
          <p:cNvPicPr/>
          <p:nvPr/>
        </p:nvPicPr>
        <p:blipFill>
          <a:blip r:embed="rId2"/>
          <a:stretch/>
        </p:blipFill>
        <p:spPr>
          <a:xfrm>
            <a:off x="5040360" y="4888080"/>
            <a:ext cx="3875040" cy="1360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00400" y="5715000"/>
            <a:ext cx="1600200" cy="380880"/>
          </a:xfrm>
          <a:custGeom>
            <a:avLst/>
            <a:gdLst>
              <a:gd name="textAreaLeft" fmla="*/ 249840 w 1600200"/>
              <a:gd name="textAreaRight" fmla="*/ 1433520 w 1600200"/>
              <a:gd name="textAreaTop" fmla="*/ 110880 h 380880"/>
              <a:gd name="textAreaBottom" fmla="*/ 27000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6300"/>
                </a:moveTo>
                <a:lnTo>
                  <a:pt x="16200" y="63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5300"/>
                </a:lnTo>
                <a:lnTo>
                  <a:pt x="3375" y="15300"/>
                </a:lnTo>
                <a:close/>
              </a:path>
              <a:path w="21600" h="21600">
                <a:moveTo>
                  <a:pt x="0" y="6300"/>
                </a:moveTo>
                <a:lnTo>
                  <a:pt x="675" y="6300"/>
                </a:lnTo>
                <a:lnTo>
                  <a:pt x="675" y="15300"/>
                </a:lnTo>
                <a:lnTo>
                  <a:pt x="0" y="15300"/>
                </a:lnTo>
                <a:close/>
              </a:path>
              <a:path w="21600" h="21600">
                <a:moveTo>
                  <a:pt x="1350" y="6300"/>
                </a:moveTo>
                <a:lnTo>
                  <a:pt x="2700" y="6300"/>
                </a:lnTo>
                <a:lnTo>
                  <a:pt x="2700" y="15300"/>
                </a:lnTo>
                <a:lnTo>
                  <a:pt x="1350" y="15300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8FD-D27C-48AB-A423-872474F379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Ok, let’s “do something” now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crease fault-tolerance of a connector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Hmmm.  Need error events in the connector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oy examples don’t often include thes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Need to revise our example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efiner can “crash” silently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Glue can “time out” contacting the Definer (return an error instead of relaying the call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Wi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deadlock if </a:t>
            </a: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origina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 is used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2" marL="1315080" indent="-219240"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aller expects return; Definer sends error, expects cal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93B-5DA4-4FA3-991D-C7C2CEC0CD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971800" y="4724280"/>
            <a:ext cx="327672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2971800"/>
            <a:ext cx="36576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990720"/>
            <a:ext cx="3124080" cy="15238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With original call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Defin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Defin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| crash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END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\ {crash}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Glue = (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defin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 = (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efin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| caller.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FGlue)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|FaultyRPC =(caller:Caller || definer:FDefiner || FGlue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943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(You can revise the caller to remove deadlock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5" name="err1a" descr=""/>
          <p:cNvPicPr/>
          <p:nvPr/>
        </p:nvPicPr>
        <p:blipFill>
          <a:blip r:embed="rId1"/>
          <a:stretch/>
        </p:blipFill>
        <p:spPr>
          <a:xfrm>
            <a:off x="6156360" y="1066680"/>
            <a:ext cx="2835360" cy="13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E12-79BC-41F4-ADF7-4A0DDA020F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257800" y="2514600"/>
            <a:ext cx="25146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With an error-aware call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ryCall = (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| 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Caller)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Defin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Defin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crash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END) \ {crash}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Glue = (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ryCall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defin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ryCall = (defin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caller.error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Glue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|FaultyRPC =(caller:Caller || definer:FDefiner || FGlue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CB1-191C-4277-B775-6A4C22D5A2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1981080"/>
            <a:ext cx="7925040" cy="45720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||FaultyRPC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11" name="definer5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3600360" cy="1108080"/>
          </a:xfrm>
          <a:prstGeom prst="rect">
            <a:avLst/>
          </a:prstGeom>
          <a:ln w="0">
            <a:noFill/>
          </a:ln>
        </p:spPr>
      </p:pic>
      <p:pic>
        <p:nvPicPr>
          <p:cNvPr id="212" name="caller5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354400" cy="960480"/>
          </a:xfrm>
          <a:prstGeom prst="rect">
            <a:avLst/>
          </a:prstGeom>
          <a:ln w="0">
            <a:noFill/>
          </a:ln>
        </p:spPr>
      </p:pic>
      <p:pic>
        <p:nvPicPr>
          <p:cNvPr id="213" name="conn5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6778440" cy="2114640"/>
          </a:xfrm>
          <a:prstGeom prst="rect">
            <a:avLst/>
          </a:prstGeom>
          <a:ln w="0">
            <a:noFill/>
          </a:ln>
        </p:spPr>
      </p:pic>
      <p:pic>
        <p:nvPicPr>
          <p:cNvPr id="214" name="glue5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2982960" cy="1292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047760" y="2133720"/>
            <a:ext cx="35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(with the error-aware caller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4952880"/>
            <a:ext cx="3657600" cy="160020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029200"/>
            <a:ext cx="1600200" cy="12952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8" name="j0158061" descr=""/>
          <p:cNvPicPr/>
          <p:nvPr/>
        </p:nvPicPr>
        <p:blipFill>
          <a:blip r:embed="rId5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3AD-42DA-496A-86F5-C9EF1EE6C0D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No-op; revised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on error 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-over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915-FBE8-4F55-986C-0D26D112FF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3880" y="4572000"/>
            <a:ext cx="723924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terposing a “retry”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Definer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Retry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ry.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ry   | retry.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ry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 | retry.caller.error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retry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Retr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ReProcCall = (caller:Caller || definer:FDefiner || FGlue/{retry.caller/caller} || Retry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162920" y="1828800"/>
            <a:ext cx="1752480" cy="685800"/>
            <a:chOff x="7162920" y="1828800"/>
            <a:chExt cx="1752480" cy="685800"/>
          </a:xfrm>
        </p:grpSpPr>
        <p:sp>
          <p:nvSpPr>
            <p:cNvPr id="225" name=""/>
            <p:cNvSpPr/>
            <p:nvPr/>
          </p:nvSpPr>
          <p:spPr>
            <a:xfrm>
              <a:off x="8001000" y="2209680"/>
              <a:ext cx="7621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0120" y="1828800"/>
              <a:ext cx="380880" cy="685800"/>
            </a:xfrm>
            <a:prstGeom prst="rect">
              <a:avLst/>
            </a:prstGeom>
            <a:solidFill>
              <a:srgbClr val="c3e684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2209680"/>
              <a:ext cx="30492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29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63120" y="2133720"/>
              <a:ext cx="152280" cy="15228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0CE-8A8F-4C78-936F-6097F78FDA2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124080"/>
            <a:ext cx="8001000" cy="31244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1" name="connmonster6" descr=""/>
          <p:cNvPicPr/>
          <p:nvPr/>
        </p:nvPicPr>
        <p:blipFill>
          <a:blip r:embed="rId1"/>
          <a:stretch/>
        </p:blipFill>
        <p:spPr>
          <a:xfrm>
            <a:off x="733320" y="3200400"/>
            <a:ext cx="7801200" cy="2914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Two modes of operation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2101680"/>
            <a:ext cx="769608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tates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, (1, 2), 4, 5, 6 represent normal operation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tates 3, 9 are post-crash steady state.  7, 8, 10 = transitional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95280" y="4191120"/>
            <a:ext cx="4800600" cy="1218960"/>
            <a:chOff x="1295280" y="4191120"/>
            <a:chExt cx="4800600" cy="1218960"/>
          </a:xfrm>
        </p:grpSpPr>
        <p:sp>
          <p:nvSpPr>
            <p:cNvPr id="235" name=""/>
            <p:cNvSpPr/>
            <p:nvPr/>
          </p:nvSpPr>
          <p:spPr>
            <a:xfrm>
              <a:off x="1295280" y="4191120"/>
              <a:ext cx="213372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4800" y="4191120"/>
              <a:ext cx="1981080" cy="12189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371600" y="3962520"/>
            <a:ext cx="7162920" cy="1981080"/>
            <a:chOff x="1371600" y="3962520"/>
            <a:chExt cx="7162920" cy="1981080"/>
          </a:xfrm>
        </p:grpSpPr>
        <p:grpSp>
          <p:nvGrpSpPr>
            <p:cNvPr id="238" name=""/>
            <p:cNvGrpSpPr/>
            <p:nvPr/>
          </p:nvGrpSpPr>
          <p:grpSpPr>
            <a:xfrm>
              <a:off x="3429000" y="4191120"/>
              <a:ext cx="5105520" cy="1218960"/>
              <a:chOff x="3429000" y="4191120"/>
              <a:chExt cx="5105520" cy="1218960"/>
            </a:xfrm>
          </p:grpSpPr>
          <p:sp>
            <p:nvSpPr>
              <p:cNvPr id="239" name=""/>
              <p:cNvSpPr/>
              <p:nvPr/>
            </p:nvSpPr>
            <p:spPr>
              <a:xfrm>
                <a:off x="3429000" y="4191120"/>
                <a:ext cx="685800" cy="1218960"/>
              </a:xfrm>
              <a:prstGeom prst="rect">
                <a:avLst/>
              </a:prstGeom>
              <a:solidFill>
                <a:srgbClr val="c9ddf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95880" y="4191120"/>
                <a:ext cx="2438640" cy="1218960"/>
              </a:xfrm>
              <a:prstGeom prst="rect">
                <a:avLst/>
              </a:prstGeom>
              <a:solidFill>
                <a:srgbClr val="c9ddf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371600" y="3962520"/>
              <a:ext cx="4572000" cy="198108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42" name="j0158061" descr=""/>
          <p:cNvPicPr/>
          <p:nvPr/>
        </p:nvPicPr>
        <p:blipFill>
          <a:blip r:embed="rId2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E85-79B6-41C0-BA8C-5A5FBEB7A9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finite vs. finite retr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his Retry process will always keep trying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ven if the Definer crashed!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ansmit” is not always the right solu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actually want to retry “a few time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If we get too many errors in a row, retur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(Then let another kind of fix handle the error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n write a retry that “counts”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9FF-4C37-41FA-A445-3C0C712882E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 “counting retry”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onst T = 1  </a:t>
            </a: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/* retries to attempt, per call */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= Retry[0]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[n:0..T] = (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ry.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[0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retry.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ry[0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en (n&lt;T)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retry.caller.error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ry.caller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n+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en (n==T)  retry.caller.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caller.error 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ry[0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079360" y="5775480"/>
            <a:ext cx="58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b5249"/>
                </a:solidFill>
                <a:latin typeface="Tahoma"/>
              </a:rPr>
              <a:t>Can be used in place of the “infinite” Retry process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6CA-6679-4150-8D6E-79E7CC95433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protocol of a connector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pose one of several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do nothing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retry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fail over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e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tate and check a property that should resul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pply to more than one connector typ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9144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This is a preview of the conclus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5E7-F333-43F5-9000-2F54BE2097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1905120"/>
            <a:ext cx="7772400" cy="4724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finite vs. finite retry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50" name="retry6" descr=""/>
          <p:cNvPicPr/>
          <p:nvPr/>
        </p:nvPicPr>
        <p:blipFill>
          <a:blip r:embed="rId1"/>
          <a:stretch/>
        </p:blipFill>
        <p:spPr>
          <a:xfrm>
            <a:off x="1219320" y="3570120"/>
            <a:ext cx="7337160" cy="2982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14400" y="1981080"/>
            <a:ext cx="3886200" cy="1752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2" name="retry6inf" descr=""/>
          <p:cNvPicPr/>
          <p:nvPr/>
        </p:nvPicPr>
        <p:blipFill>
          <a:blip r:embed="rId2"/>
          <a:stretch/>
        </p:blipFill>
        <p:spPr>
          <a:xfrm>
            <a:off x="1020600" y="1989000"/>
            <a:ext cx="3703680" cy="1668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065560" y="23623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0, 2, 3 (left) = 0, 6, 7 (below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E43-4C4F-40AB-8C5C-7839CC85254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No-op; revised exampl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ae6a"/>
                </a:solidFill>
                <a:latin typeface="Tahoma"/>
              </a:rPr>
              <a:t>Retry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55080" indent="-423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-over on erro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5160" indent="-42516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51E-48B4-494A-A59C-7075F751CE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nterposing a “fail over”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ller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Definer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 = (…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ackup = (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ackup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Glue = (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defin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Glue       | defin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Glu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(we are adding a reliable Definer and a reliable Glue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8001000" y="220968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1828800"/>
            <a:ext cx="38088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2209680"/>
            <a:ext cx="3049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2133720"/>
            <a:ext cx="152280" cy="152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763120" y="2133720"/>
            <a:ext cx="152280" cy="152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2362320"/>
            <a:ext cx="762120" cy="3045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763120" y="2590920"/>
            <a:ext cx="15228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E24-8B4A-475D-B8D9-6803BF9A952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… “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ail over” continued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ailover = (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pri.caller.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ailover | pri.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Failover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| pri.caller.error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k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ToBk),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ToBk = (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bk.caller.call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ToBk     |  bk.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caller.return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ToBk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FailoverProcCall = (caller:Caller ||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pri.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:FDefiner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pri: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|| Failover || bk:BGlue || bk.definer:Backu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71B-D105-455A-9B62-5AE1E2F1F3A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1981080"/>
            <a:ext cx="6934320" cy="2895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ailov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69" name="failover7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697800" cy="2708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070640" y="5029200"/>
            <a:ext cx="76618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0, 5, 6 are pre-error operation; 2, 3, 4 = post-error steady stat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248-2865-4023-85B0-F686F5869EE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762120"/>
            <a:ext cx="8534520" cy="56386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2" name="left8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305560" cy="3038760"/>
          </a:xfrm>
          <a:prstGeom prst="rect">
            <a:avLst/>
          </a:prstGeom>
          <a:ln w="0">
            <a:noFill/>
          </a:ln>
        </p:spPr>
      </p:pic>
      <p:pic>
        <p:nvPicPr>
          <p:cNvPr id="273" name="right8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4492440" cy="2590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09480" y="365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3920" y="3657600"/>
            <a:ext cx="32821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0—2, 9—11 repres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pre-crash operatio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3—8 represent post-cras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teady-stat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12—16 are the transition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1752480"/>
            <a:ext cx="4038840" cy="106704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33520" y="1676520"/>
            <a:ext cx="8305560" cy="990360"/>
            <a:chOff x="533520" y="1676520"/>
            <a:chExt cx="8305560" cy="990360"/>
          </a:xfrm>
        </p:grpSpPr>
        <p:sp>
          <p:nvSpPr>
            <p:cNvPr id="278" name=""/>
            <p:cNvSpPr/>
            <p:nvPr/>
          </p:nvSpPr>
          <p:spPr>
            <a:xfrm>
              <a:off x="533520" y="1676520"/>
              <a:ext cx="2057400" cy="91440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81680" y="1752480"/>
              <a:ext cx="2057400" cy="91440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80" name="j0158061" descr=""/>
          <p:cNvPicPr/>
          <p:nvPr/>
        </p:nvPicPr>
        <p:blipFill>
          <a:blip r:embed="rId3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4B0-0F1C-43C9-BF6E-005364B9A192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… You can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+ fail-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6FD-E0A0-4E25-AA23-0CB1EF6BA33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81080" y="2590920"/>
            <a:ext cx="54104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4038480"/>
            <a:ext cx="9907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etry, Failover: a review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ReProcCall = (caller:Caller || definer:FDefiner || FGlue/{retry.caller/caller} || Retry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FailoverProcCall = (caller:Caller || pri.definer:FDefiner || pri:FGlue || Failover || bk:BGlue || bk.definer:Backup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’ll replace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FGlue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in FailoverProcCall with the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FGlue/{retry.caller/caller} || Retr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“glue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 rot="7531800">
            <a:off x="6591240" y="3238200"/>
            <a:ext cx="1066680" cy="53352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3e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318-A839-42CC-869C-1B02DBE3931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ahoma"/>
              </a:rPr>
              <a:t>Retry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plus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Failover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 = (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Definer = (…).  FGlue = (…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Backup = (…).  BGlue = (…).  Failover = (…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etry = Retry[0],  Retry[n:0..T] = (…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Both = (caller:Caller 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.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finer:FDefiner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: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Glue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/{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.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retry.caller/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.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caller}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pri: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Retr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Failover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k:BGlue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||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bk.definer:Backup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ADC-19F3-4AC7-AF46-FD8E555327E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huge" descr=""/>
          <p:cNvPicPr/>
          <p:nvPr/>
        </p:nvPicPr>
        <p:blipFill>
          <a:blip r:embed="rId1"/>
          <a:stretch/>
        </p:blipFill>
        <p:spPr>
          <a:xfrm>
            <a:off x="257040" y="2057400"/>
            <a:ext cx="8886960" cy="4381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938040" y="838080"/>
            <a:ext cx="47239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7-12 represent “backup” oper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The rest of 0-16 is “primary” oper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17-25 cover the transition to backu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3276720"/>
            <a:ext cx="6629400" cy="3200400"/>
            <a:chOff x="457200" y="3276720"/>
            <a:chExt cx="6629400" cy="3200400"/>
          </a:xfrm>
        </p:grpSpPr>
        <p:sp>
          <p:nvSpPr>
            <p:cNvPr id="293" name=""/>
            <p:cNvSpPr/>
            <p:nvPr/>
          </p:nvSpPr>
          <p:spPr>
            <a:xfrm>
              <a:off x="3200400" y="4191120"/>
              <a:ext cx="2209680" cy="114300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" y="3276720"/>
              <a:ext cx="6629400" cy="320040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934320" y="4114800"/>
            <a:ext cx="2209680" cy="114300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3886200"/>
            <a:ext cx="2590920" cy="152388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33526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</a:rPr>
              <a:t>No longer small enough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2a3d7a"/>
                </a:solidFill>
                <a:latin typeface="Tahoma"/>
              </a:rPr>
              <a:t>to check “by inspection”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6932520" y="579132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(26 stat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99" name="j0158061" descr=""/>
          <p:cNvPicPr/>
          <p:nvPr/>
        </p:nvPicPr>
        <p:blipFill>
          <a:blip r:embed="rId2"/>
          <a:stretch/>
        </p:blipFill>
        <p:spPr>
          <a:xfrm>
            <a:off x="0" y="6477120"/>
            <a:ext cx="5284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CD0-DCCB-45E2-8017-61E4160F2568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 road map for the talk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scribing simple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FEA-909E-484E-8E92-C6FD117E5D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499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… You can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 any errors make it to the caller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Has the augmentation affected a role interfac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E34-5388-4384-B0F8-4CA8E00F638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Does caller see any errors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No, because we are using the caller that doesn’t handle errors, and see no deadlock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But what if we were using the </a:t>
            </a:r>
            <a:r>
              <a:rPr b="0" i="1" lang="en-US" sz="2400" spc="-1" strike="noStrike">
                <a:solidFill>
                  <a:srgbClr val="5b5249"/>
                </a:solidFill>
                <a:latin typeface="Tahoma"/>
              </a:rPr>
              <a:t>other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ller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could add a process to detect errors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DetectErrors = (caller.error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ERROR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Rephrased as a safety property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propert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NoErrors = STOP + {caller.error}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an also add a liveness property: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ahoma"/>
              </a:rPr>
              <a:t>progres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CallerOk = {caller.return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64B-E16A-45AA-A9E6-283C0068824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It works?  Boring…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Let’s look at a case in which we </a:t>
            </a:r>
            <a:r>
              <a:rPr b="0" i="1" lang="en-US" sz="2800" spc="-1" strike="noStrike">
                <a:solidFill>
                  <a:srgbClr val="5b5249"/>
                </a:solidFill>
                <a:latin typeface="Tahoma"/>
              </a:rPr>
              <a:t>do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have to catch a plausible mistak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or simple hard-wired case, mistakes are (comparatively) obvious by textual inspe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ake a look at what happens when you begin to make a </a:t>
            </a: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generic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template/pattern for an augmentation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F59-966E-43A8-813D-0B95DEB615C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arameterizing our Wr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ap = (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.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wrap.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ap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 = {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Initiat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ap = (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wrap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Wrap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, erro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3200400"/>
            <a:ext cx="8153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5791320"/>
            <a:ext cx="8153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35520" y="586728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0ae6a"/>
                </a:solidFill>
                <a:latin typeface="Wingdings"/>
                <a:ea typeface="Wingdings"/>
              </a:rPr>
              <a:t></a:t>
            </a:r>
            <a:r>
              <a:rPr b="0" i="1" lang="en-US" sz="1800" spc="-1" strike="noStrike">
                <a:solidFill>
                  <a:srgbClr val="b0ae6a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b0ae6a"/>
                </a:solidFill>
                <a:latin typeface="Tahoma"/>
              </a:rPr>
              <a:t>to apply to the exception-handling call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7F1-FCBE-4696-BE12-A762EFFCA0D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6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lient = (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),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un = (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esult[v:M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  |  hid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Close),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Close = (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ND) \{hide}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rver = (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),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un = (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hide[e:M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esult[e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Run                         | 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ND) \{hide}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Glue = (client.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server.open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Glue                                     | client.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server.request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Glue                                         | server.result[v:M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client.result[v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Glue                                | client.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server.close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END)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||Conn = (client:Client || server:Server || Glue)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t R1 = {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client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t R1Initiates = {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open, request, close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esult[v:M]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Wrap = (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wrap.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Wrap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| wrap.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0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 Wrap).</a:t>
            </a: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27432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0ae6a"/>
                </a:solidFill>
                <a:latin typeface="Tahoma"/>
              </a:rPr>
              <a:t>Parameterizing a wrapper can enable us to apply it to more than one connector typ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724280"/>
            <a:ext cx="8153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A00-C157-42FB-B415-F886C93B1269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648320" y="2971800"/>
            <a:ext cx="761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A plausible mistak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 = {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calle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Initiat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call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et R1Engages = {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turn, erro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… … …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ailover = (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pri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ail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pri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Fail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pri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error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bk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call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oBk)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oBk = (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Initiat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bk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oBk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| bk.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:R1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:R1Engages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[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.[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 ToBk)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448-F77E-4243-BEF2-A4BEF963DA7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Catching the mistak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 a large system, won’t notice by inspe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Of text (many lines) or LTS (many states)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dd our NoErrors “safety”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3581280"/>
            <a:ext cx="75438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Composition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FPC = caller:Caller || pri.def:FDefiner || pri:FGlue || pri:Retry || Failover || bk:BGlue || bk.def:Backup || NoError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State Space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2 * 3 * 3 * 8 * 8 * 3 * 2 * 1 = 2 ** 1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Composing..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property NoErrors violation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-- States: 42 Transitions: 66 Memory used: 2577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ahoma"/>
              </a:rPr>
              <a:t>Composed in 401m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D78-3249-464B-B316-63D229C053B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410080" y="762120"/>
            <a:ext cx="3581640" cy="144756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Effect on role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Make sure caller’s interface has not changed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24120" indent="-40968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void unpleasant ramifications for component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11480" indent="-411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Given the interface it “used to” have, we can check the new connector for conformance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property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Interface = (call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return </a:t>
            </a:r>
            <a:r>
              <a:rPr b="0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ldInterface) + {error}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||MyConnector = (caller:Caller || … || …                        || caller:OldInterface)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1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pic>
        <p:nvPicPr>
          <p:cNvPr id="323" name="oldinterface1" descr=""/>
          <p:cNvPicPr/>
          <p:nvPr/>
        </p:nvPicPr>
        <p:blipFill>
          <a:blip r:embed="rId1"/>
          <a:stretch/>
        </p:blipFill>
        <p:spPr>
          <a:xfrm>
            <a:off x="5486400" y="838080"/>
            <a:ext cx="3451320" cy="12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A2A-F2F3-43A7-988D-6695C4AC56D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1106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oad map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Describing simple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FSP vs. Wrigh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Augmenting connectors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omposing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c3e68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ae6a"/>
                </a:solidFill>
                <a:latin typeface="Tahoma"/>
              </a:rPr>
              <a:t>Checking a property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C7F-2E9A-4998-B423-A25E50D6368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Main 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protocol of a connector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pose one of several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do nothing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retry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 “fail over” aug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e two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+ fail ov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75600" indent="-43236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Check safety propertie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uture work includes generaliz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A7D-62EE-496C-831B-05D25DB3825E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want to understand, analyze, verify the software systems we build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bility to do this depends on the model chose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 use an </a:t>
            </a:r>
            <a:r>
              <a:rPr b="0" i="1" lang="en-US" sz="2800" spc="-1" strike="noStrike">
                <a:solidFill>
                  <a:srgbClr val="5b5249"/>
                </a:solidFill>
                <a:latin typeface="Tahoma"/>
              </a:rPr>
              <a:t>architectural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 model as a vehicle for reasoning about complex system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Systems are composed of: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nent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nnecto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PC, events, streams, etc.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18148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18148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556272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6720" y="5187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ahoma"/>
              </a:rPr>
              <a:t>rpc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942-D00D-424C-9793-20CFF350B8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protocol of a connector in FSP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pose one of several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 nothing”, “retry”, “fail over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e multiple augmentation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Apply same one to multiple connector typ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eck that desired properties hold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333-3D37-4626-9A35-EE58450F1BBF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-ilities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able, reusable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an relate model to implement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Structurally similar to interceptors/wrapper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In other work, transformation patterns encoded in operations made available by stubgen tools, e.g. “add a role”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try + failover + JavaRMI = example you saw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Trace problems from model to imple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96120" indent="-44172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Refine to implementation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D74-B11A-4F44-BE86-779509901E91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System assembly in practice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From independently developed parts… that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might not match each other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might not match system requirements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you might not have source code to tinker with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Interceptors provide hooks into connecto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rappers are chunks of code between part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often ad hoc,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nd/or single-use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 they wrap the component or the connector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105520"/>
            <a:ext cx="121896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5105520"/>
            <a:ext cx="1219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5486400"/>
            <a:ext cx="76212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5105520"/>
            <a:ext cx="228600" cy="685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105520"/>
            <a:ext cx="228600" cy="685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CAB-EA5F-4969-BD3E-B321CEAC04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What does &lt;addition x&gt; do?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How can we talk about an augmentation more precisely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How does a specific augmentation affect the protocol of a specific connector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Are existing properties maintained… or gon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lvl="1" marL="965160" indent="-428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Does a desirable new property emerge?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hat happens when you put two together?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anted: A more principled basis for creation, understanding, and application of wrappers…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D4B-A44C-48CC-8F0C-851BDDB3D5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First…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haracterize the </a:t>
            </a:r>
            <a:r>
              <a:rPr b="1" lang="en-US" sz="2800" spc="-1" strike="noStrike">
                <a:solidFill>
                  <a:srgbClr val="5b5249"/>
                </a:solidFill>
                <a:latin typeface="Tahoma"/>
              </a:rPr>
              <a:t>protocols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f connector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Earlier work in this area has used process algebras like CSP and CC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Wright [Allen/Garlan]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We’ve chosen FSP “Finite State Processes”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Easy to learn, sufficiently powerful for the task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Using such a basis, perhaps we can describe “connector wrappers” in terms of </a:t>
            </a: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transformations</a:t>
            </a: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 of these protocols.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F97-9E06-4C76-AF71-A6B61D6064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Properties of our approach</a:t>
            </a:r>
            <a:endParaRPr b="0" lang="en-US" sz="4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he specific approach we take is motivated by a desire for good engineering properties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ahoma"/>
              </a:rPr>
              <a:t>Formal specification as an engineering artifact</a:t>
            </a:r>
            <a:endParaRPr b="0" lang="en-US" sz="24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Compositional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Reusabl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Traceable/refineable to an implementation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Maintainabl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ahoma"/>
              </a:rPr>
              <a:t>Extensible</a:t>
            </a: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  <a:p>
            <a:pPr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3CF-107E-48AE-A63D-29AA901060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6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rite</cp:lastModifiedBy>
  <dcterms:modified xsi:type="dcterms:W3CDTF">2002-07-19T16:09:35Z</dcterms:modified>
  <cp:revision>484</cp:revision>
  <dc:subject/>
  <dc:title>PowerPoint Presentation</dc:title>
</cp:coreProperties>
</file>