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09028E-939A-43A4-A456-30B43BEAC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 Need to show a trace for the deadl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connector that can retur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it deadlocks if component is 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connector that can retur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it deadlocks if component is 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connector that can retur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it deadlocks if component is 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connector that can retur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it deadlocks if component is 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361-5F66-4288-BB5F-D4766E23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046-2A5A-466F-A79D-8CE02A1C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316-73A2-4A27-91EE-A140D344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9AE-126A-477B-B1A8-78A7236B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9047-04EE-4BA6-A18C-35E7324A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89B8-CFBF-4041-A3B6-2AACFF04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C020-6821-4A70-8E90-1A39DF3B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4569-6D8B-42E0-A14A-78D831CE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58A4-CED6-4DB8-BC66-82F94DB9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8951-1E07-40B7-868D-54ED61FD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D3B2-F85C-482F-9F27-8440D156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31F-577C-442B-A7DA-F6F0AD8B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8555-67D7-43FB-B449-0A567366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B4DF-2BD5-46DB-8701-C33D7ED4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9006-09A7-48C2-BF1B-A94EBB6F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09C4-F19E-45B2-BEB8-BF64F57E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7E1D-7470-4C8C-BC36-700FD67C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B6D-630E-40F5-B938-44619924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637-240B-4E3E-B03A-B7DAD086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51A-EA42-4D3B-BB1A-5547CAF4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B7A-543B-4CE1-AC7A-75A6EF0F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8C0-973A-40CD-BFB7-74EBDBE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F1A-7386-4D4C-AAAD-3EA18F8F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63F-A0F4-47DD-B25F-B4DDEBD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D20F-078D-4852-B1AC-5CCA4E0A9217}" type="slidenum">
              <a:rPr b="0" lang="en-US" sz="2400" spc="-1" strike="noStrike">
                <a:solidFill>
                  <a:srgbClr val="2a3d7a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3" marL="1712880" indent="-228600">
              <a:spcBef>
                <a:spcPts val="700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E1CD-4527-4EFC-B3D3-F8D65CC4B94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914400" indent="227160" algn="ctr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3" marL="1371600" indent="112680" algn="ctr">
              <a:spcBef>
                <a:spcPts val="45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515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ahoma"/>
              </a:rPr>
              <a:t>A partial semantics of connector transformations</a:t>
            </a:r>
            <a:endParaRPr b="1" lang="en-US" sz="40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Bridget Spitznagel</a:t>
            </a:r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ae6a"/>
                </a:solidFill>
                <a:latin typeface="Tahoma"/>
              </a:rPr>
              <a:t>Specification and Verification Center – March 26, 2002</a:t>
            </a: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b0ae6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scribing simple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Introduction of running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Viewing as a “labelled transition system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Overview of common FSP operator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0DD-0903-46BE-9C88-D277980196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Simple exampl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 Wright: a connector is composed of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role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processes, representing interfaces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nd a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glue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process, that sticks them togeth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63760" y="3760920"/>
                <a:ext cx="611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nector</m:t>
                        </m:r>
                        <m:r>
                          <m:rPr>
                            <m:lit/>
                            <m:nor/>
                          </m:rPr>
                          <m:t xml:space="preserve"> ProcedureCall 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Role</m:t>
                        </m:r>
                        <m:r>
                          <m:rPr>
                            <m:lit/>
                            <m:nor/>
                          </m:rPr>
                          <m:t xml:space="preserve"> Caller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return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Call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Role</m:t>
                        </m:r>
                        <m:r>
                          <m:rPr>
                            <m:lit/>
                            <m:nor/>
                          </m:rPr>
                          <m:t xml:space="preserve"> Defin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all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Defin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all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all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fin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Defin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turn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ll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5C1-47AA-4D53-9235-A9F3F271E49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319560" y="4772160"/>
                <a:ext cx="494028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nector</m:t>
                        </m:r>
                        <m:r>
                          <m:rPr>
                            <m:lit/>
                            <m:nor/>
                          </m:rPr>
                          <m:t xml:space="preserve"> ProcedureCall 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Role</m:t>
                        </m:r>
                        <m:r>
                          <m:rPr>
                            <m:lit/>
                            <m:nor/>
                          </m:rPr>
                          <m:t xml:space="preserve"> Caller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return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Call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Role</m:t>
                        </m:r>
                        <m:r>
                          <m:rPr>
                            <m:lit/>
                            <m:nor/>
                          </m:rPr>
                          <m:t xml:space="preserve"> Defin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all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Defin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all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all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fin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Defin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turn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ll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Use a similar format in FS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fin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Defin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Glue = (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defin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Glue | defin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Glu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ProcCall = (caller:Caller || definer:Definer || Glu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88F-B101-41EC-97FA-558C625B5A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2057400"/>
            <a:ext cx="4191120" cy="41148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LTS Analys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aller.call, caller.return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efin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similar to Caller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Glu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aller.call, definer.cal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aller.return, definer.return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ProcCall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Roles || Glue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37" name="caller1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308320" cy="993600"/>
          </a:xfrm>
          <a:prstGeom prst="rect">
            <a:avLst/>
          </a:prstGeom>
          <a:ln w="0">
            <a:noFill/>
          </a:ln>
        </p:spPr>
      </p:pic>
      <p:pic>
        <p:nvPicPr>
          <p:cNvPr id="138" name="glue1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2721240" cy="1349280"/>
          </a:xfrm>
          <a:prstGeom prst="rect">
            <a:avLst/>
          </a:prstGeom>
          <a:ln w="0">
            <a:noFill/>
          </a:ln>
        </p:spPr>
      </p:pic>
      <p:pic>
        <p:nvPicPr>
          <p:cNvPr id="139" name="conn1" descr=""/>
          <p:cNvPicPr/>
          <p:nvPr/>
        </p:nvPicPr>
        <p:blipFill>
          <a:blip r:embed="rId3"/>
          <a:stretch/>
        </p:blipFill>
        <p:spPr>
          <a:xfrm>
            <a:off x="849240" y="4724280"/>
            <a:ext cx="3875040" cy="1360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48320" y="1523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5b5249"/>
                </a:solidFill>
                <a:latin typeface="Tahoma"/>
              </a:rPr>
              <a:t>labelled transition system”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C2B-D342-44EB-ADE8-16FFD59F9A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FSP operators seen so far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engage in event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5b5249"/>
                </a:solidFill>
                <a:uFillTx/>
                <a:latin typeface="Tahoma"/>
              </a:rPr>
              <a:t>the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act like process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 | b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Q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engage in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and then act like process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5b5249"/>
                </a:solidFill>
                <a:uFillTx/>
                <a:latin typeface="Tahoma"/>
              </a:rPr>
              <a:t>o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engage in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 b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and then act like process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P || Q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un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in </a:t>
            </a:r>
            <a:r>
              <a:rPr b="0" i="1" lang="en-US" sz="2400" spc="-1" strike="noStrike" u="sng">
                <a:solidFill>
                  <a:srgbClr val="5b5249"/>
                </a:solidFill>
                <a:uFillTx/>
                <a:latin typeface="Tahoma"/>
              </a:rPr>
              <a:t>parallel</a:t>
            </a:r>
            <a:r>
              <a:rPr b="0" i="1" lang="en-US" sz="2400" spc="-1" strike="noStrike">
                <a:solidFill>
                  <a:srgbClr val="5b5249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synch on shared event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oo: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dd prefix “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foo.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” to every event in process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1BE-A433-451B-B4B6-25970121CB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Others you’ll see today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P/{bar/foo}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06200" indent="-446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place every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foo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event in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ith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ba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42440" indent="-22392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foo </a:t>
            </a:r>
            <a:r>
              <a:rPr b="0" i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foo.a </a:t>
            </a:r>
            <a:r>
              <a:rPr b="0" i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…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becomes 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bar </a:t>
            </a:r>
            <a:r>
              <a:rPr b="0" i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bar.a </a:t>
            </a:r>
            <a:r>
              <a:rPr b="0" i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…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P\{foo}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06200" indent="-446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hide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foo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events from observer (replace w/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tau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42440" indent="-22392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P\{foo} || Q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will not synch on 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foo, foo.a,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etc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P[n:0..5] = (when (n&lt;5)    a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[n+1]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 when (n==5)   b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[0]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06200" indent="-446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parameterization, guards …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57D-E176-49FB-9848-73C295BBB38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… You can!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No-op; revised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on error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ail-over o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A43-E5E6-477D-940B-BF547FE7A6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No-op augmentation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sert a piece that “does nothing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Between the Caller and the Glu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276720"/>
            <a:ext cx="121932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3276720"/>
            <a:ext cx="121896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fin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65760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4267080"/>
            <a:ext cx="121932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4267080"/>
            <a:ext cx="121896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fin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64832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724280"/>
            <a:ext cx="304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267080"/>
            <a:ext cx="380880" cy="6858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648320"/>
            <a:ext cx="3049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733920" y="5257800"/>
            <a:ext cx="1752480" cy="685800"/>
            <a:chOff x="3733920" y="5257800"/>
            <a:chExt cx="1752480" cy="685800"/>
          </a:xfrm>
        </p:grpSpPr>
        <p:sp>
          <p:nvSpPr>
            <p:cNvPr id="159" name=""/>
            <p:cNvSpPr/>
            <p:nvPr/>
          </p:nvSpPr>
          <p:spPr>
            <a:xfrm>
              <a:off x="4572000" y="5638680"/>
              <a:ext cx="7621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1120" y="5257800"/>
              <a:ext cx="380880" cy="685800"/>
            </a:xfrm>
            <a:prstGeom prst="rect">
              <a:avLst/>
            </a:prstGeom>
            <a:solidFill>
              <a:srgbClr val="c3e684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86200" y="5638680"/>
              <a:ext cx="3049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3920" y="5562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120" y="5562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017120" y="3429000"/>
            <a:ext cx="16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ahoma"/>
              </a:rPr>
              <a:t>Original syste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52040" y="4387680"/>
            <a:ext cx="133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ahoma"/>
              </a:rPr>
              <a:t>New syste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36560" y="5454720"/>
            <a:ext cx="16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ahoma"/>
              </a:rPr>
              <a:t>New connecto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677-0520-4DD5-B79C-845F79A368E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981080" y="5486400"/>
            <a:ext cx="571500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terposing a new piec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fin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Defin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OldGlue = (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defin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ldGlue           | defin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ldGlu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Wrap = (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wrap.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Wrap   | wrap.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Wrap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NewProcCall = (caller:Caller || definer:Definer || OldGlue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/{wrap.caller/caller} || Wrap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162920" y="1828800"/>
            <a:ext cx="1752480" cy="685800"/>
            <a:chOff x="7162920" y="1828800"/>
            <a:chExt cx="1752480" cy="685800"/>
          </a:xfrm>
        </p:grpSpPr>
        <p:sp>
          <p:nvSpPr>
            <p:cNvPr id="171" name=""/>
            <p:cNvSpPr/>
            <p:nvPr/>
          </p:nvSpPr>
          <p:spPr>
            <a:xfrm>
              <a:off x="8001000" y="2209680"/>
              <a:ext cx="7621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20120" y="1828800"/>
              <a:ext cx="380880" cy="685800"/>
            </a:xfrm>
            <a:prstGeom prst="rect">
              <a:avLst/>
            </a:prstGeom>
            <a:solidFill>
              <a:srgbClr val="c3e684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2209680"/>
              <a:ext cx="3049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62920" y="2133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63120" y="2133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90720" y="6099120"/>
            <a:ext cx="79246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0ae6a"/>
                </a:solidFill>
                <a:latin typeface="Tahoma"/>
              </a:rPr>
              <a:t>Compare: ||ProcCall = (caller:Caller || definer:Definer || Glue)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B57-FA5E-4006-9EBD-9EDBCCBCA6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2057400"/>
            <a:ext cx="8153280" cy="38862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||NewProcCall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pic>
        <p:nvPicPr>
          <p:cNvPr id="179" name="caller4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2332080" cy="925560"/>
          </a:xfrm>
          <a:prstGeom prst="rect">
            <a:avLst/>
          </a:prstGeom>
          <a:ln w="0">
            <a:noFill/>
          </a:ln>
        </p:spPr>
      </p:pic>
      <p:pic>
        <p:nvPicPr>
          <p:cNvPr id="180" name="conn4" descr=""/>
          <p:cNvPicPr/>
          <p:nvPr/>
        </p:nvPicPr>
        <p:blipFill>
          <a:blip r:embed="rId2"/>
          <a:stretch/>
        </p:blipFill>
        <p:spPr>
          <a:xfrm>
            <a:off x="1981080" y="4800600"/>
            <a:ext cx="6023160" cy="960480"/>
          </a:xfrm>
          <a:prstGeom prst="rect">
            <a:avLst/>
          </a:prstGeom>
          <a:ln w="0">
            <a:noFill/>
          </a:ln>
        </p:spPr>
      </p:pic>
      <p:pic>
        <p:nvPicPr>
          <p:cNvPr id="181" name="definer4" descr=""/>
          <p:cNvPicPr/>
          <p:nvPr/>
        </p:nvPicPr>
        <p:blipFill>
          <a:blip r:embed="rId3"/>
          <a:stretch/>
        </p:blipFill>
        <p:spPr>
          <a:xfrm>
            <a:off x="5943600" y="2209680"/>
            <a:ext cx="2571840" cy="936720"/>
          </a:xfrm>
          <a:prstGeom prst="rect">
            <a:avLst/>
          </a:prstGeom>
          <a:ln w="0">
            <a:noFill/>
          </a:ln>
        </p:spPr>
      </p:pic>
      <p:pic>
        <p:nvPicPr>
          <p:cNvPr id="182" name="oldglue4" descr=""/>
          <p:cNvPicPr/>
          <p:nvPr/>
        </p:nvPicPr>
        <p:blipFill>
          <a:blip r:embed="rId4"/>
          <a:stretch/>
        </p:blipFill>
        <p:spPr>
          <a:xfrm>
            <a:off x="5029200" y="3200400"/>
            <a:ext cx="3406680" cy="1279440"/>
          </a:xfrm>
          <a:prstGeom prst="rect">
            <a:avLst/>
          </a:prstGeom>
          <a:ln w="0">
            <a:noFill/>
          </a:ln>
        </p:spPr>
      </p:pic>
      <p:pic>
        <p:nvPicPr>
          <p:cNvPr id="183" name="wrap4" descr=""/>
          <p:cNvPicPr/>
          <p:nvPr/>
        </p:nvPicPr>
        <p:blipFill>
          <a:blip r:embed="rId5"/>
          <a:stretch/>
        </p:blipFill>
        <p:spPr>
          <a:xfrm>
            <a:off x="1219320" y="3200400"/>
            <a:ext cx="3154320" cy="1303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83920" y="5969160"/>
            <a:ext cx="33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If we hide the </a:t>
            </a:r>
            <a:r>
              <a:rPr b="0" i="1" lang="en-US" sz="2000" spc="-1" strike="noStrike">
                <a:solidFill>
                  <a:srgbClr val="cc3300"/>
                </a:solidFill>
                <a:latin typeface="Tahoma"/>
              </a:rPr>
              <a:t>wrap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events…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09880" y="4648320"/>
            <a:ext cx="3451320" cy="1218960"/>
            <a:chOff x="3809880" y="4648320"/>
            <a:chExt cx="3451320" cy="1218960"/>
          </a:xfrm>
        </p:grpSpPr>
        <p:sp>
          <p:nvSpPr>
            <p:cNvPr id="186" name=""/>
            <p:cNvSpPr/>
            <p:nvPr/>
          </p:nvSpPr>
          <p:spPr>
            <a:xfrm>
              <a:off x="3809880" y="4648320"/>
              <a:ext cx="762120" cy="12189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53080" y="4648320"/>
              <a:ext cx="708120" cy="12189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88" name="j0158061" descr=""/>
          <p:cNvPicPr/>
          <p:nvPr/>
        </p:nvPicPr>
        <p:blipFill>
          <a:blip r:embed="rId6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074-88F9-4922-92EE-580C13CDC29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State of the research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hat you will be seeing is a </a:t>
            </a: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first step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toward providing a formal basis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lthough it is preliminary, it is interesting stuff, and demonstrates several things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ABB-4F1F-4EFE-A2F9-6E6C190714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24480" y="3886200"/>
            <a:ext cx="152424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4724280"/>
            <a:ext cx="4038840" cy="16002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057400"/>
            <a:ext cx="4343400" cy="144792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||NewProcCall \ {wrap}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3505320"/>
            <a:ext cx="7391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|NewProcCall = (caller:Caller || definer:Definer || OldGlue/{wrap.caller/caller} || Wrap)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\ {wrap}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By inspection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ame as the original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(as intended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94" name="conn4a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4171680" cy="1292040"/>
          </a:xfrm>
          <a:prstGeom prst="rect">
            <a:avLst/>
          </a:prstGeom>
          <a:ln w="0">
            <a:noFill/>
          </a:ln>
        </p:spPr>
      </p:pic>
      <p:pic>
        <p:nvPicPr>
          <p:cNvPr id="195" name="conn1" descr=""/>
          <p:cNvPicPr/>
          <p:nvPr/>
        </p:nvPicPr>
        <p:blipFill>
          <a:blip r:embed="rId2"/>
          <a:stretch/>
        </p:blipFill>
        <p:spPr>
          <a:xfrm>
            <a:off x="5040360" y="4888080"/>
            <a:ext cx="3875040" cy="1360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00400" y="5715000"/>
            <a:ext cx="1600200" cy="380880"/>
          </a:xfrm>
          <a:custGeom>
            <a:avLst/>
            <a:gdLst>
              <a:gd name="textAreaLeft" fmla="*/ 249840 w 1600200"/>
              <a:gd name="textAreaRight" fmla="*/ 1433520 w 1600200"/>
              <a:gd name="textAreaTop" fmla="*/ 110880 h 380880"/>
              <a:gd name="textAreaBottom" fmla="*/ 27000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6300"/>
                </a:moveTo>
                <a:lnTo>
                  <a:pt x="16200" y="63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5300"/>
                </a:lnTo>
                <a:lnTo>
                  <a:pt x="3375" y="15300"/>
                </a:lnTo>
                <a:close/>
              </a:path>
              <a:path w="21600" h="21600">
                <a:moveTo>
                  <a:pt x="0" y="6300"/>
                </a:moveTo>
                <a:lnTo>
                  <a:pt x="675" y="6300"/>
                </a:lnTo>
                <a:lnTo>
                  <a:pt x="675" y="15300"/>
                </a:lnTo>
                <a:lnTo>
                  <a:pt x="0" y="15300"/>
                </a:lnTo>
                <a:close/>
              </a:path>
              <a:path w="21600" h="21600">
                <a:moveTo>
                  <a:pt x="1350" y="6300"/>
                </a:moveTo>
                <a:lnTo>
                  <a:pt x="2700" y="6300"/>
                </a:lnTo>
                <a:lnTo>
                  <a:pt x="2700" y="15300"/>
                </a:lnTo>
                <a:lnTo>
                  <a:pt x="1350" y="15300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B43-AB43-43E7-B17B-4BA5319B71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Ok, let’s “do something” now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crease fault-tolerance of a connector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Hmmm.  Need error events in the connector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oy examples don’t often include thes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Need to revise our example…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efiner can “crash” silently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Glue can “time out” contacting the Definer (return an error instead of relaying the call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Wi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deadlock if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origina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 is used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15080" indent="-21924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aller expects return; Definer sends error, expects cal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D8E-DB31-41E6-BA99-CBCB5C8B56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971800" y="4724280"/>
            <a:ext cx="327672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2971800"/>
            <a:ext cx="365760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990720"/>
            <a:ext cx="3124080" cy="15238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With original call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Defin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Defin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| crash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END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\ {crash}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Glue = (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ryCall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defin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)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ryCall = (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efin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| caller.error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FGlue)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|FaultyRPC =(caller:Caller || definer:FDefiner || FGlue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943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ahoma"/>
              </a:rPr>
              <a:t>(You can revise the caller to remove deadlock…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5" name="err1a" descr=""/>
          <p:cNvPicPr/>
          <p:nvPr/>
        </p:nvPicPr>
        <p:blipFill>
          <a:blip r:embed="rId1"/>
          <a:stretch/>
        </p:blipFill>
        <p:spPr>
          <a:xfrm>
            <a:off x="6156360" y="1066680"/>
            <a:ext cx="2835360" cy="13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6F5-9305-4874-A546-4E354DCF036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257800" y="2514600"/>
            <a:ext cx="251460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With an error-aware call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ry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ryCall = (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| error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Caller)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Defin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Defin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crash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END) \ {crash}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Glue = (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TryCall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defin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)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ryCall = (defin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caller.error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|FaultyRPC =(caller:Caller || definer:FDefiner || FGlue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75A-45CB-4EC0-A1AD-06F75D18D80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09480" y="1981080"/>
            <a:ext cx="7925040" cy="45720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||FaultyRPC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pic>
        <p:nvPicPr>
          <p:cNvPr id="211" name="definer5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3600360" cy="1108080"/>
          </a:xfrm>
          <a:prstGeom prst="rect">
            <a:avLst/>
          </a:prstGeom>
          <a:ln w="0">
            <a:noFill/>
          </a:ln>
        </p:spPr>
      </p:pic>
      <p:pic>
        <p:nvPicPr>
          <p:cNvPr id="212" name="caller5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2354400" cy="960480"/>
          </a:xfrm>
          <a:prstGeom prst="rect">
            <a:avLst/>
          </a:prstGeom>
          <a:ln w="0">
            <a:noFill/>
          </a:ln>
        </p:spPr>
      </p:pic>
      <p:pic>
        <p:nvPicPr>
          <p:cNvPr id="213" name="conn5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6778440" cy="2114640"/>
          </a:xfrm>
          <a:prstGeom prst="rect">
            <a:avLst/>
          </a:prstGeom>
          <a:ln w="0">
            <a:noFill/>
          </a:ln>
        </p:spPr>
      </p:pic>
      <p:pic>
        <p:nvPicPr>
          <p:cNvPr id="214" name="glue5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2982960" cy="1292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047760" y="2133720"/>
            <a:ext cx="35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(with the error-aware caller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4952880"/>
            <a:ext cx="3657600" cy="1600200"/>
          </a:xfrm>
          <a:prstGeom prst="ellipse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029200"/>
            <a:ext cx="1600200" cy="129528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8" name="j0158061" descr=""/>
          <p:cNvPicPr/>
          <p:nvPr/>
        </p:nvPicPr>
        <p:blipFill>
          <a:blip r:embed="rId5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8DB-B553-49E0-BCE1-A2B6B4EC2BEE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No-op; revised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on error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ail-over o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E62-0F5C-43A3-82F1-9997ECFB10A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3880" y="4572000"/>
            <a:ext cx="723924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terposing a “retry”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Definer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Glue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Retry = (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ry.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ry   | retry.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ry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 | retry.caller.error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retry.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Retry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ReProcCall = (caller:Caller || definer:FDefiner || FGlue/{retry.caller/caller} || Retry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162920" y="1828800"/>
            <a:ext cx="1752480" cy="685800"/>
            <a:chOff x="7162920" y="1828800"/>
            <a:chExt cx="1752480" cy="685800"/>
          </a:xfrm>
        </p:grpSpPr>
        <p:sp>
          <p:nvSpPr>
            <p:cNvPr id="225" name=""/>
            <p:cNvSpPr/>
            <p:nvPr/>
          </p:nvSpPr>
          <p:spPr>
            <a:xfrm>
              <a:off x="8001000" y="2209680"/>
              <a:ext cx="7621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0120" y="1828800"/>
              <a:ext cx="380880" cy="685800"/>
            </a:xfrm>
            <a:prstGeom prst="rect">
              <a:avLst/>
            </a:prstGeom>
            <a:solidFill>
              <a:srgbClr val="c3e684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5200" y="2209680"/>
              <a:ext cx="3049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62920" y="2133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63120" y="2133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1F6-016B-4F56-9D25-77F0F3E7CBF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124080"/>
            <a:ext cx="8001000" cy="31244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1" name="connmonster6" descr=""/>
          <p:cNvPicPr/>
          <p:nvPr/>
        </p:nvPicPr>
        <p:blipFill>
          <a:blip r:embed="rId1"/>
          <a:stretch/>
        </p:blipFill>
        <p:spPr>
          <a:xfrm>
            <a:off x="733320" y="3200400"/>
            <a:ext cx="7801200" cy="29145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Two modes of operation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2101680"/>
            <a:ext cx="769608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tates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, (1, 2), 4, 5, 6 represent normal operation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tates 3, 9 are post-crash steady state.  7, 8, 10 = transitiona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95280" y="4191120"/>
            <a:ext cx="4800600" cy="1218960"/>
            <a:chOff x="1295280" y="4191120"/>
            <a:chExt cx="4800600" cy="1218960"/>
          </a:xfrm>
        </p:grpSpPr>
        <p:sp>
          <p:nvSpPr>
            <p:cNvPr id="235" name=""/>
            <p:cNvSpPr/>
            <p:nvPr/>
          </p:nvSpPr>
          <p:spPr>
            <a:xfrm>
              <a:off x="1295280" y="4191120"/>
              <a:ext cx="2133720" cy="12189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4800" y="4191120"/>
              <a:ext cx="1981080" cy="12189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371600" y="3962520"/>
            <a:ext cx="7162920" cy="1981080"/>
            <a:chOff x="1371600" y="3962520"/>
            <a:chExt cx="7162920" cy="1981080"/>
          </a:xfrm>
        </p:grpSpPr>
        <p:grpSp>
          <p:nvGrpSpPr>
            <p:cNvPr id="238" name=""/>
            <p:cNvGrpSpPr/>
            <p:nvPr/>
          </p:nvGrpSpPr>
          <p:grpSpPr>
            <a:xfrm>
              <a:off x="3429000" y="4191120"/>
              <a:ext cx="5105520" cy="1218960"/>
              <a:chOff x="3429000" y="4191120"/>
              <a:chExt cx="5105520" cy="1218960"/>
            </a:xfrm>
          </p:grpSpPr>
          <p:sp>
            <p:nvSpPr>
              <p:cNvPr id="239" name=""/>
              <p:cNvSpPr/>
              <p:nvPr/>
            </p:nvSpPr>
            <p:spPr>
              <a:xfrm>
                <a:off x="3429000" y="4191120"/>
                <a:ext cx="685800" cy="1218960"/>
              </a:xfrm>
              <a:prstGeom prst="rect">
                <a:avLst/>
              </a:prstGeom>
              <a:solidFill>
                <a:srgbClr val="c9ddf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95880" y="4191120"/>
                <a:ext cx="2438640" cy="1218960"/>
              </a:xfrm>
              <a:prstGeom prst="rect">
                <a:avLst/>
              </a:prstGeom>
              <a:solidFill>
                <a:srgbClr val="c9ddf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371600" y="3962520"/>
              <a:ext cx="4572000" cy="198108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42" name="j0158061" descr=""/>
          <p:cNvPicPr/>
          <p:nvPr/>
        </p:nvPicPr>
        <p:blipFill>
          <a:blip r:embed="rId2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D49-B698-46AD-A16A-3136DD6022F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finite vs. finite retr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his Retry process will always keep trying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Even if the Definer crashed!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ansmit” is not always the right solu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 actually want to retry “a few times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If we get too many errors in a row, retur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(Then let another kind of fix handle the error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n write a retry that “counts”…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CD2-5456-4E5C-AF8D-830AE27C78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A “counting retry”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onst T = 1  </a:t>
            </a: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/* retries to attempt, per call */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= Retry[0]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[n:0..T] = (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ry.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[0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retry.call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ry[0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en (n&lt;T)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retry.caller.error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ry.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n+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en (n==T)  retry.caller.error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caller.error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ry[0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079360" y="5775480"/>
            <a:ext cx="58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Can be used in place of the “infinite” Retry proces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9AC-BF61-417E-A30A-16FC6F651F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aracterize protocol of a connector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erpose one of several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do nothing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retry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fail over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e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tate and check a property that should resul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pply to more than one connector typ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9144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This is a preview of the conclus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125-8682-4448-8BCE-BA4516FA5A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14400" y="1905120"/>
            <a:ext cx="7772400" cy="47242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finite vs. finite retr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pic>
        <p:nvPicPr>
          <p:cNvPr id="250" name="retry6" descr=""/>
          <p:cNvPicPr/>
          <p:nvPr/>
        </p:nvPicPr>
        <p:blipFill>
          <a:blip r:embed="rId1"/>
          <a:stretch/>
        </p:blipFill>
        <p:spPr>
          <a:xfrm>
            <a:off x="1219320" y="3570120"/>
            <a:ext cx="7337160" cy="2982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14400" y="1981080"/>
            <a:ext cx="3886200" cy="17528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2" name="retry6inf" descr=""/>
          <p:cNvPicPr/>
          <p:nvPr/>
        </p:nvPicPr>
        <p:blipFill>
          <a:blip r:embed="rId2"/>
          <a:stretch/>
        </p:blipFill>
        <p:spPr>
          <a:xfrm>
            <a:off x="1020600" y="1989000"/>
            <a:ext cx="3703680" cy="1668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065560" y="236232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0, 2, 3 (left) = 0, 6, 7 (below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ACB-35AD-4C6C-9747-11D689FD0E1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No-op; revised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Retry o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ail-over o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B23-8E4E-40E0-B72A-D906ED4C3EA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terposing a “fail over”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ller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Definer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Glue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Backup = (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ackup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BGlue = (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defin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Glue       | defin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Glu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ahoma"/>
              </a:rPr>
              <a:t>(we are adding a reliable Definer and a reliable Glue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8001000" y="220968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0120" y="1828800"/>
            <a:ext cx="380880" cy="6858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2209680"/>
            <a:ext cx="3049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920" y="2133720"/>
            <a:ext cx="152280" cy="1522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763120" y="2133720"/>
            <a:ext cx="152280" cy="1522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2362320"/>
            <a:ext cx="762120" cy="3045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763120" y="2590920"/>
            <a:ext cx="15228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92F-C66B-4412-934C-C3CBA9FB216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… “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fail over” continued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ailover = (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ri.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ailover | pri.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Failover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| pri.caller.error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k.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ToBk),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ToBk = (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k.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ToBk     |  bk.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ToBk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FailoverProcCall = (caller:Caller ||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pri.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finer:FDefiner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pri: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Glue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|| Failover || bk:BGlue || bk.definer:Backup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983-5449-4CAF-8E83-3914EDD8DF7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1981080"/>
            <a:ext cx="6934320" cy="28958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Failov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pic>
        <p:nvPicPr>
          <p:cNvPr id="269" name="failover7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6697800" cy="2708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070640" y="5029200"/>
            <a:ext cx="76618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0, 5, 6 are pre-error operation; 2, 3, 4 = post-error steady state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70B-D339-4BD2-B35E-9B324ADDB840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762120"/>
            <a:ext cx="8534520" cy="56386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2" name="left8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305560" cy="3038760"/>
          </a:xfrm>
          <a:prstGeom prst="rect">
            <a:avLst/>
          </a:prstGeom>
          <a:ln w="0">
            <a:noFill/>
          </a:ln>
        </p:spPr>
      </p:pic>
      <p:pic>
        <p:nvPicPr>
          <p:cNvPr id="273" name="right8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4492440" cy="2590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09480" y="365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3920" y="3657600"/>
            <a:ext cx="32821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0—2, 9—11 represen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pre-crash operation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3—8 represent post-cras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teady-state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12—16 are the transition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1752480"/>
            <a:ext cx="4038840" cy="106704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33520" y="1676520"/>
            <a:ext cx="8305560" cy="990360"/>
            <a:chOff x="533520" y="1676520"/>
            <a:chExt cx="8305560" cy="990360"/>
          </a:xfrm>
        </p:grpSpPr>
        <p:sp>
          <p:nvSpPr>
            <p:cNvPr id="278" name=""/>
            <p:cNvSpPr/>
            <p:nvPr/>
          </p:nvSpPr>
          <p:spPr>
            <a:xfrm>
              <a:off x="533520" y="1676520"/>
              <a:ext cx="2057400" cy="91440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81680" y="1752480"/>
              <a:ext cx="2057400" cy="91440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80" name="j0158061" descr=""/>
          <p:cNvPicPr/>
          <p:nvPr/>
        </p:nvPicPr>
        <p:blipFill>
          <a:blip r:embed="rId3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F00A-0439-4E73-83FE-80B403AD8D39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Augmenting connectors in FSP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… You can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+ fail-ov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EFC-0EED-46DB-A04F-2B6AB4187CB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81080" y="2590920"/>
            <a:ext cx="54104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4038480"/>
            <a:ext cx="9907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etry, Failover: a review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ReProcCall = (caller:Caller || definer:FDefiner || FGlue/{retry.caller/caller} || Retry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FailoverProcCall = (caller:Caller || pri.definer:FDefiner || pri:FGlue || Failover || bk:BGlue || bk.definer:Backup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’ll replace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FGlue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in FailoverProcCall with the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FGlue/{retry.caller/caller} || Retry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“glue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 rot="7531800">
            <a:off x="6591240" y="3238200"/>
            <a:ext cx="1066680" cy="53352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3e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4D6-51B0-4CB5-A09E-2A0B23399EE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Retry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plus </a:t>
            </a: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Failov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Definer = (…).  FGlue = (…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Backup = (…).  BGlue = (…).  Failover = (…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etry = Retry[0],  Retry[n:0..T] = (…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Both = (caller:Caller 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.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finer:FDefiner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: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Glue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/{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.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retry.caller/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.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caller}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: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Retr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Failover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bk:BGlue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bk.definer:Backup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F8A-AC9E-471D-AE14-42D500950A7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huge" descr=""/>
          <p:cNvPicPr/>
          <p:nvPr/>
        </p:nvPicPr>
        <p:blipFill>
          <a:blip r:embed="rId1"/>
          <a:stretch/>
        </p:blipFill>
        <p:spPr>
          <a:xfrm>
            <a:off x="257040" y="2057400"/>
            <a:ext cx="8886960" cy="43815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938040" y="838080"/>
            <a:ext cx="47239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7-12 represent “backup” oper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The rest of 0-16 is “primary” oper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17-25 cover the transition to backu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3276720"/>
            <a:ext cx="6629400" cy="3200400"/>
            <a:chOff x="457200" y="3276720"/>
            <a:chExt cx="6629400" cy="3200400"/>
          </a:xfrm>
        </p:grpSpPr>
        <p:sp>
          <p:nvSpPr>
            <p:cNvPr id="293" name=""/>
            <p:cNvSpPr/>
            <p:nvPr/>
          </p:nvSpPr>
          <p:spPr>
            <a:xfrm>
              <a:off x="3200400" y="4191120"/>
              <a:ext cx="2209680" cy="114300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7200" y="3276720"/>
              <a:ext cx="6629400" cy="320040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934320" y="4114800"/>
            <a:ext cx="2209680" cy="114300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3886200"/>
            <a:ext cx="2590920" cy="1523880"/>
          </a:xfrm>
          <a:prstGeom prst="ellipse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33526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</a:rPr>
              <a:t>No longer small enough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Tahoma"/>
              </a:rPr>
              <a:t>to check “by inspection”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6932520" y="579132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(26 stat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9" name="j0158061" descr=""/>
          <p:cNvPicPr/>
          <p:nvPr/>
        </p:nvPicPr>
        <p:blipFill>
          <a:blip r:embed="rId2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136-7FE9-4528-8C92-F5DC8EB9AF23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A road map for the talk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scribing simple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ACF-D6E5-439B-8C54-9E8F856CC9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499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… You can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o any errors make it to the caller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Has the augmentation affected a role interface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B4A-DD43-43F4-A6B4-454B9C03FF0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Does caller see any errors?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No, because we are using the caller that doesn’t handle errors, and see no deadlocks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But what if we were using the </a:t>
            </a:r>
            <a:r>
              <a:rPr b="0" i="1" lang="en-US" sz="2400" spc="-1" strike="noStrike">
                <a:solidFill>
                  <a:srgbClr val="5b5249"/>
                </a:solidFill>
                <a:latin typeface="Tahoma"/>
              </a:rPr>
              <a:t>other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 could add a process to detect errors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tectErrors = (caller.error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ERRO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Rephrased as a safety property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property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NoErrors = STOP + {caller.error}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n also add a liveness property: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rogres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Ok = {caller.return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F3F-383B-4874-AA14-9FB8C15E15D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t works?  Boring…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Let’s look at a case in which we </a:t>
            </a:r>
            <a:r>
              <a:rPr b="0" i="1" lang="en-US" sz="2800" spc="-1" strike="noStrike">
                <a:solidFill>
                  <a:srgbClr val="5b5249"/>
                </a:solidFill>
                <a:latin typeface="Tahoma"/>
              </a:rPr>
              <a:t>do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have to catch a plausible mistak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or simple hard-wired case, mistakes are (comparatively) obvious by textual inspe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ake a look at what happens when you begin to make a </a:t>
            </a: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generic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template/pattern for an augmentation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CCF-858A-408A-82F2-C8FCA4A9F66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arameterizing our Wr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Wrap = (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.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wrap.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Wrap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 = {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Initiat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Engag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Wrap = (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Initiat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wrap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Engag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Engag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, erro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3200400"/>
            <a:ext cx="81536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5791320"/>
            <a:ext cx="81536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35520" y="586728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0ae6a"/>
                </a:solidFill>
                <a:latin typeface="Wingdings"/>
                <a:ea typeface="Wingdings"/>
              </a:rPr>
              <a:t></a:t>
            </a:r>
            <a:r>
              <a:rPr b="0" i="1" lang="en-US" sz="1800" spc="-1" strike="noStrike">
                <a:solidFill>
                  <a:srgbClr val="b0ae6a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b0ae6a"/>
                </a:solidFill>
                <a:latin typeface="Tahoma"/>
              </a:rPr>
              <a:t>to apply to the exception-handling call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ACA-7DA7-4756-BFD0-B51A3EB6429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68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lient = (open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un),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Run = (request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esult[v:M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un  |  hid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Close),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lose = (clos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END) \{hide}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rver = (open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un),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Run = (request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hide[e:M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esult[e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un                         | clos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END) \{hide}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Glue = (client.open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server.open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Glue                                     | client.request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server.request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Glue                                         | server.result[v:M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client.result[v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Glue                                | client.clos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server.clos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END)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||Conn = (client:Client || server:Server || Glue)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t R1 = {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client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t R1Initiates = {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open, request, close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t R1Engages = {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esult[v:M]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Wrap = ([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:R1Initiates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wrap.[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Wrap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| wrap.[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:R1Engages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[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Wrap)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6172200" y="274320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0ae6a"/>
                </a:solidFill>
                <a:latin typeface="Tahoma"/>
              </a:rPr>
              <a:t>Parameterizing a wrapper can enable us to apply it to more than one connector typ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4724280"/>
            <a:ext cx="81536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0FF-D618-4C07-9829-7F0A68FF4321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648320" y="2971800"/>
            <a:ext cx="761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A plausible mistak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 = {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Initiat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Engag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, erro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… … …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ailover = (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Initiat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pri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ailov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pri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Engag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ailov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pri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error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bk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ToBk)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oBk = (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Initiat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bk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ToBk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bk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Engag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ToBk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C57-6E5D-48C5-AF46-D29D92FC4E5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atching the mistak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 a large system, won’t notice by inspe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Of text (many lines) or LTS (many states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dd our NoErrors “safety”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3581280"/>
            <a:ext cx="75438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Composition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FPC = caller:Caller || pri.def:FDefiner || pri:FGlue || pri:Retry || Failover || bk:BGlue || bk.def:Backup || NoError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State Sp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2 * 3 * 3 * 8 * 8 * 3 * 2 * 1 = 2 ** 1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Composing..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property NoErrors violation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-- States: 42 Transitions: 66 Memory used: 2577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Composed in 401m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BB6-B655-4987-9996-2AE580DB48A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410080" y="762120"/>
            <a:ext cx="3581640" cy="144756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Effect on role?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-411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Make sure caller’s interface has not changed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24120" indent="-40968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void unpleasant ramifications for component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11480" indent="-411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Given the interface it “used to” have, we can check the new connector for conformance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property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ldInterface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ldInterface) + {error}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MyConnector = (caller:Caller || … || …                        || caller:OldInterfac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323" name="oldinterface1" descr=""/>
          <p:cNvPicPr/>
          <p:nvPr/>
        </p:nvPicPr>
        <p:blipFill>
          <a:blip r:embed="rId1"/>
          <a:stretch/>
        </p:blipFill>
        <p:spPr>
          <a:xfrm>
            <a:off x="5486400" y="838080"/>
            <a:ext cx="3451320" cy="12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048-F4AE-4FBB-AE56-20AAF16D45D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simple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FSP vs. Wrigh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512-69D6-4158-8E33-F034ED93AA78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Main result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aracterize protocol of a connector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erpose one of several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do nothing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retry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fail over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e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+ fail ov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heck safety propertie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uture work includes generaliza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C630-89EE-415F-802F-6F8A62AAAA55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 want to understand, analyze, verify the software systems we build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bility to do this depends on the model chose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 use an </a:t>
            </a:r>
            <a:r>
              <a:rPr b="0" i="1" lang="en-US" sz="2800" spc="-1" strike="noStrike">
                <a:solidFill>
                  <a:srgbClr val="5b5249"/>
                </a:solidFill>
                <a:latin typeface="Tahoma"/>
              </a:rPr>
              <a:t>architectural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 model as a vehicle for reasoning about complex system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ystems are composed of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nent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nnector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PC, events, streams, etc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181480"/>
            <a:ext cx="121896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181480"/>
            <a:ext cx="121932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556272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56720" y="5187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rpc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734-60FF-49DB-A13F-A586344E65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aracterize protocol of a connector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erpose one of several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o nothing”, “retry”, “fail over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e multiple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pply same one to multiple connector typ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eck that desired properties hold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967-72E1-434F-A7C0-64D9354E5C83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-ilitie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able, reusable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n relate model to implementa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tructurally similar to interceptors/wrapper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In other work, transformation patterns encoded in operations made available by stubgen tools, e.g. “add a role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+ failover + JavaRMI = example you saw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race problems from model to imple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fine to imple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B24-17C3-47C0-9795-9EF119D09754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System assembly in practic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rom independently developed parts… tha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might not match each oth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might not match system requirement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you might not have source code to tinker with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erceptors provide hooks into connector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rappers are chunks of code between part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often ad hoc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nd/or single-us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o they wrap the component or the connector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5105520"/>
            <a:ext cx="121896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5105520"/>
            <a:ext cx="121932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548640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5105520"/>
            <a:ext cx="228600" cy="685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5105520"/>
            <a:ext cx="228600" cy="685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4E2-5651-4D07-9088-F962249890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What does &lt;addition x&gt; do?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How can we talk about an augmentation more precisely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How does a specific augmentation affect the protocol of a specific connector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re existing properties maintained… or gone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oes a desirable new property emerge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hat happens when you put two together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anted: A more principled basis for creation, understanding, and application of wrappers…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490-C577-4409-B8CA-A97A88B7E2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First…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aracterize the </a:t>
            </a: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protocols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f connector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Earlier work in this area has used process algebras like CSP and CCS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Wright [Allen/Garlan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’ve chosen FSP “Finite State Processes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Easy to learn, sufficiently powerful for the task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Using such a basis, perhaps we can describe “connector wrappers” in terms of </a:t>
            </a: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transformations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f these protocols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9EE-9824-47FB-97A0-8F5064CBAA7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roperties of our approach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he specific approach we take is motivated by a desire for good engineering properti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ormal specification as an engineering artifact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itiona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Reusabl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raceable/refineable to an implementa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Maintainabl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Extensibl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D1E-CB79-4625-8B59-BB5FBCF62B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rite</cp:lastModifiedBy>
  <dcterms:modified xsi:type="dcterms:W3CDTF">2002-07-19T16:09:35Z</dcterms:modified>
  <cp:revision>484</cp:revision>
  <dc:subject/>
  <dc:title>PowerPoint Presentation</dc:title>
</cp:coreProperties>
</file>