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2C0F89-094F-46ED-9908-FFDB184D9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 Need to show a trace for the deadl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829-B03B-43D8-94E0-1335B5A5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5EB-3ECE-402C-8640-4DC79090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A89-A6F2-49CD-ABA5-AE739B61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9E0-54B7-4B22-A90E-0D28C8D6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C384-AF0F-4EDF-BD2E-DA960FBB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181E-4371-4876-B821-A3223611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CE2-D123-4865-A4DA-8001217B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72AB-F3A4-4DAB-AEFA-55B101E4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83D9-BC63-4F27-AD62-50D668C3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DB62-1487-42BE-94AD-E223993F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B6F2-CF91-45E9-867D-9340D974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FED-8DA4-4418-A674-0BDA69F1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B294-C73E-41E4-9F55-B94BE55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13C1-5A21-4879-B1ED-B75BD462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E3AF-773C-4876-A40D-71E92F23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6B1D-CB10-45FF-986A-AF991051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27DF-20F2-44B7-99F2-4B959180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89D-83A9-4D70-BFAA-A9899A8A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2C5-7984-49A0-A36A-9EE481DA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670-EEBE-47D9-AA55-C59345B7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C31-63DB-48FA-A07F-7E8E8FE4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964-A08F-46BF-A986-A65ACF48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E8B-6601-4DAE-ABE3-2D7EF9C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C42-3CB1-4162-A028-DF4A1A22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5505-AB80-409E-9AC8-649D19155C4C}" type="slidenum">
              <a:rPr b="0" lang="en-US" sz="2400" spc="-1" strike="noStrike">
                <a:solidFill>
                  <a:srgbClr val="2a3d7a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3" marL="1712880" indent="-228600">
              <a:spcBef>
                <a:spcPts val="700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980F-DF61-49B0-888B-7F384849647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914400" indent="227160" algn="ctr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3" marL="1371600" indent="112680" algn="ctr">
              <a:spcBef>
                <a:spcPts val="45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515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ahoma"/>
              </a:rPr>
              <a:t>A partial semantics of connector transformations</a:t>
            </a:r>
            <a:endParaRPr b="1" lang="en-US" sz="4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Bridget Spitznagel</a:t>
            </a: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ae6a"/>
                </a:solidFill>
                <a:latin typeface="Tahoma"/>
              </a:rPr>
              <a:t>Specification and Verification Center – March 26, 2002</a:t>
            </a: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b0ae6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scribing simple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Introduction of running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Viewing as a “labelled transition system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Overview of common FSP operator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B2D-84E8-45DE-919E-F21CC16B6B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imple exampl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 Wright: a connector is composed of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role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processes, representing interfaces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nd a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glue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process, that sticks them togeth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63760" y="3760920"/>
                <a:ext cx="611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nector</m:t>
                        </m:r>
                        <m:r>
                          <m:rPr>
                            <m:lit/>
                            <m:nor/>
                          </m:rPr>
                          <m:t xml:space="preserve"> ProcedureCall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Caller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Defin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fin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CD8-06C7-4074-9906-1EC21CEEBE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19560" y="4772160"/>
                <a:ext cx="494028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nector</m:t>
                        </m:r>
                        <m:r>
                          <m:rPr>
                            <m:lit/>
                            <m:nor/>
                          </m:rPr>
                          <m:t xml:space="preserve"> ProcedureCall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Caller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Defin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fin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Use a similar format in FS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Glue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Glue | defin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ProcCall = (caller:Caller || definer:Definer || 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14C-4F7C-4D13-8D69-FC51BDDAF8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2057400"/>
            <a:ext cx="4191120" cy="41148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LTS Analys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.call, caller.retur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efin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similar to Caller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Glu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.call, definer.cal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.return, definer.retur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ProcCal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oles || Glue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37" name="caller1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308320" cy="993600"/>
          </a:xfrm>
          <a:prstGeom prst="rect">
            <a:avLst/>
          </a:prstGeom>
          <a:ln w="0">
            <a:noFill/>
          </a:ln>
        </p:spPr>
      </p:pic>
      <p:pic>
        <p:nvPicPr>
          <p:cNvPr id="138" name="glue1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2721240" cy="1349280"/>
          </a:xfrm>
          <a:prstGeom prst="rect">
            <a:avLst/>
          </a:prstGeom>
          <a:ln w="0">
            <a:noFill/>
          </a:ln>
        </p:spPr>
      </p:pic>
      <p:pic>
        <p:nvPicPr>
          <p:cNvPr id="139" name="conn1" descr=""/>
          <p:cNvPicPr/>
          <p:nvPr/>
        </p:nvPicPr>
        <p:blipFill>
          <a:blip r:embed="rId3"/>
          <a:stretch/>
        </p:blipFill>
        <p:spPr>
          <a:xfrm>
            <a:off x="849240" y="4724280"/>
            <a:ext cx="3875040" cy="136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8320" y="1523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5b5249"/>
                </a:solidFill>
                <a:latin typeface="Tahoma"/>
              </a:rPr>
              <a:t>labelled transition system”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709-8BD2-4BD7-BE51-C3B01C45F5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SP operators seen so far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ngage in event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5b5249"/>
                </a:solidFill>
                <a:uFillTx/>
                <a:latin typeface="Tahoma"/>
              </a:rPr>
              <a:t>the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ct like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 | b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Q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ngage in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nd then act like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5b5249"/>
                </a:solidFill>
                <a:uFillTx/>
                <a:latin typeface="Tahoma"/>
              </a:rPr>
              <a:t>o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ngage in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 b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nd then act like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 || Q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un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in </a:t>
            </a:r>
            <a:r>
              <a:rPr b="0" i="1" lang="en-US" sz="2400" spc="-1" strike="noStrike" u="sng">
                <a:solidFill>
                  <a:srgbClr val="5b5249"/>
                </a:solidFill>
                <a:uFillTx/>
                <a:latin typeface="Tahoma"/>
              </a:rPr>
              <a:t>parallel</a:t>
            </a: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synch on shared event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oo: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dd prefix “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foo.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” to every event in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323-4545-4349-9C0E-C108080F9F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Others you’ll see today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/{bar/foo}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place every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foo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vent in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ith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ba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42440" indent="-22392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foo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foo.a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…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becomes 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bar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bar.a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…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\{foo}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hide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foo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vents from observer (replace w/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tau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42440" indent="-22392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P\{foo} || Q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will not synch on 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foo, foo.a,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tc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[n:0..5] = (when (n&lt;5)    a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[n+1]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 when (n==5)   b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[0]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parameterization, guards …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AC0-2BD5-4500-80E9-B778B46AED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… You can!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No-op; revised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on error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-over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F34-F451-4317-ACAA-1C565B501D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No-op augmentation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sert a piece that “does nothing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Between the Caller and the Glu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27672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327672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fin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65760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26708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426708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fin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64832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724280"/>
            <a:ext cx="30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267080"/>
            <a:ext cx="38088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648320"/>
            <a:ext cx="3049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733920" y="5257800"/>
            <a:ext cx="1752480" cy="685800"/>
            <a:chOff x="3733920" y="5257800"/>
            <a:chExt cx="1752480" cy="685800"/>
          </a:xfrm>
        </p:grpSpPr>
        <p:sp>
          <p:nvSpPr>
            <p:cNvPr id="159" name=""/>
            <p:cNvSpPr/>
            <p:nvPr/>
          </p:nvSpPr>
          <p:spPr>
            <a:xfrm>
              <a:off x="4572000" y="5638680"/>
              <a:ext cx="7621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5257800"/>
              <a:ext cx="380880" cy="685800"/>
            </a:xfrm>
            <a:prstGeom prst="rect">
              <a:avLst/>
            </a:prstGeom>
            <a:solidFill>
              <a:srgbClr val="c3e684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86200" y="5638680"/>
              <a:ext cx="3049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3920" y="5562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5562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017120" y="342900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ahoma"/>
              </a:rPr>
              <a:t>Original syste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52040" y="4387680"/>
            <a:ext cx="133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ahoma"/>
              </a:rPr>
              <a:t>New syste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36560" y="545472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ahoma"/>
              </a:rPr>
              <a:t>New connecto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780-2BA4-43E3-B731-8E5CABD694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81080" y="5486400"/>
            <a:ext cx="57150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terposing a new piec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OldGlue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Glue           | defin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Wrap = (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wrap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Wrap   | wrap.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Wrap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NewProcCall = (caller:Caller || definer:Definer || OldGlue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/{wrap.caller/caller} || Wra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162920" y="1828800"/>
            <a:ext cx="1752480" cy="685800"/>
            <a:chOff x="7162920" y="1828800"/>
            <a:chExt cx="1752480" cy="685800"/>
          </a:xfrm>
        </p:grpSpPr>
        <p:sp>
          <p:nvSpPr>
            <p:cNvPr id="171" name=""/>
            <p:cNvSpPr/>
            <p:nvPr/>
          </p:nvSpPr>
          <p:spPr>
            <a:xfrm>
              <a:off x="8001000" y="2209680"/>
              <a:ext cx="7621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0120" y="1828800"/>
              <a:ext cx="380880" cy="685800"/>
            </a:xfrm>
            <a:prstGeom prst="rect">
              <a:avLst/>
            </a:prstGeom>
            <a:solidFill>
              <a:srgbClr val="c3e684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2209680"/>
              <a:ext cx="3049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631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90720" y="6099120"/>
            <a:ext cx="7924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0ae6a"/>
                </a:solidFill>
                <a:latin typeface="Tahoma"/>
              </a:rPr>
              <a:t>Compare: ||ProcCall = (caller:Caller || definer:Definer || Glue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385-892C-48A2-A211-E682AA2A6B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057400"/>
            <a:ext cx="8153280" cy="38862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||NewProcCall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179" name="caller4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332080" cy="925560"/>
          </a:xfrm>
          <a:prstGeom prst="rect">
            <a:avLst/>
          </a:prstGeom>
          <a:ln w="0">
            <a:noFill/>
          </a:ln>
        </p:spPr>
      </p:pic>
      <p:pic>
        <p:nvPicPr>
          <p:cNvPr id="180" name="conn4" descr=""/>
          <p:cNvPicPr/>
          <p:nvPr/>
        </p:nvPicPr>
        <p:blipFill>
          <a:blip r:embed="rId2"/>
          <a:stretch/>
        </p:blipFill>
        <p:spPr>
          <a:xfrm>
            <a:off x="1981080" y="4800600"/>
            <a:ext cx="6023160" cy="960480"/>
          </a:xfrm>
          <a:prstGeom prst="rect">
            <a:avLst/>
          </a:prstGeom>
          <a:ln w="0">
            <a:noFill/>
          </a:ln>
        </p:spPr>
      </p:pic>
      <p:pic>
        <p:nvPicPr>
          <p:cNvPr id="181" name="definer4" descr=""/>
          <p:cNvPicPr/>
          <p:nvPr/>
        </p:nvPicPr>
        <p:blipFill>
          <a:blip r:embed="rId3"/>
          <a:stretch/>
        </p:blipFill>
        <p:spPr>
          <a:xfrm>
            <a:off x="5943600" y="2209680"/>
            <a:ext cx="257184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oldglue4" descr=""/>
          <p:cNvPicPr/>
          <p:nvPr/>
        </p:nvPicPr>
        <p:blipFill>
          <a:blip r:embed="rId4"/>
          <a:stretch/>
        </p:blipFill>
        <p:spPr>
          <a:xfrm>
            <a:off x="5029200" y="3200400"/>
            <a:ext cx="3406680" cy="1279440"/>
          </a:xfrm>
          <a:prstGeom prst="rect">
            <a:avLst/>
          </a:prstGeom>
          <a:ln w="0">
            <a:noFill/>
          </a:ln>
        </p:spPr>
      </p:pic>
      <p:pic>
        <p:nvPicPr>
          <p:cNvPr id="183" name="wrap4" descr=""/>
          <p:cNvPicPr/>
          <p:nvPr/>
        </p:nvPicPr>
        <p:blipFill>
          <a:blip r:embed="rId5"/>
          <a:stretch/>
        </p:blipFill>
        <p:spPr>
          <a:xfrm>
            <a:off x="1219320" y="3200400"/>
            <a:ext cx="3154320" cy="1303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83920" y="5969160"/>
            <a:ext cx="33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If we hide the </a:t>
            </a:r>
            <a:r>
              <a:rPr b="0" i="1" lang="en-US" sz="2000" spc="-1" strike="noStrike">
                <a:solidFill>
                  <a:srgbClr val="cc3300"/>
                </a:solidFill>
                <a:latin typeface="Tahoma"/>
              </a:rPr>
              <a:t>wrap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events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09880" y="4648320"/>
            <a:ext cx="3451320" cy="1218960"/>
            <a:chOff x="3809880" y="4648320"/>
            <a:chExt cx="3451320" cy="1218960"/>
          </a:xfrm>
        </p:grpSpPr>
        <p:sp>
          <p:nvSpPr>
            <p:cNvPr id="186" name=""/>
            <p:cNvSpPr/>
            <p:nvPr/>
          </p:nvSpPr>
          <p:spPr>
            <a:xfrm>
              <a:off x="3809880" y="4648320"/>
              <a:ext cx="76212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53080" y="4648320"/>
              <a:ext cx="70812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88" name="j0158061" descr=""/>
          <p:cNvPicPr/>
          <p:nvPr/>
        </p:nvPicPr>
        <p:blipFill>
          <a:blip r:embed="rId6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190-89AB-4EAC-A7C0-BC3BFF91C60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tate of the research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hat you will be seeing is a </a:t>
            </a: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first ste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toward providing a formal basi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lthough it is preliminary, it is interesting stuff, and demonstrates several things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530-80CE-470C-9A39-5427D9D496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24480" y="3886200"/>
            <a:ext cx="152424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4724280"/>
            <a:ext cx="4038840" cy="16002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057400"/>
            <a:ext cx="4343400" cy="144792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||NewProcCall \ {wrap}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3505320"/>
            <a:ext cx="7391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|NewProcCall = (caller:Caller || definer:Definer || OldGlue/{wrap.caller/caller} || Wrap)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\ {wrap}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By inspection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ame as the original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(as intended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94" name="conn4a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4171680" cy="1292040"/>
          </a:xfrm>
          <a:prstGeom prst="rect">
            <a:avLst/>
          </a:prstGeom>
          <a:ln w="0">
            <a:noFill/>
          </a:ln>
        </p:spPr>
      </p:pic>
      <p:pic>
        <p:nvPicPr>
          <p:cNvPr id="195" name="conn1" descr=""/>
          <p:cNvPicPr/>
          <p:nvPr/>
        </p:nvPicPr>
        <p:blipFill>
          <a:blip r:embed="rId2"/>
          <a:stretch/>
        </p:blipFill>
        <p:spPr>
          <a:xfrm>
            <a:off x="5040360" y="4888080"/>
            <a:ext cx="3875040" cy="1360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00400" y="5715000"/>
            <a:ext cx="1600200" cy="380880"/>
          </a:xfrm>
          <a:custGeom>
            <a:avLst/>
            <a:gdLst>
              <a:gd name="textAreaLeft" fmla="*/ 249840 w 1600200"/>
              <a:gd name="textAreaRight" fmla="*/ 1433520 w 1600200"/>
              <a:gd name="textAreaTop" fmla="*/ 110880 h 380880"/>
              <a:gd name="textAreaBottom" fmla="*/ 27000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6300"/>
                </a:moveTo>
                <a:lnTo>
                  <a:pt x="16200" y="6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5300"/>
                </a:lnTo>
                <a:lnTo>
                  <a:pt x="3375" y="15300"/>
                </a:lnTo>
                <a:close/>
              </a:path>
              <a:path w="21600" h="21600">
                <a:moveTo>
                  <a:pt x="0" y="6300"/>
                </a:moveTo>
                <a:lnTo>
                  <a:pt x="675" y="6300"/>
                </a:lnTo>
                <a:lnTo>
                  <a:pt x="675" y="15300"/>
                </a:lnTo>
                <a:lnTo>
                  <a:pt x="0" y="15300"/>
                </a:lnTo>
                <a:close/>
              </a:path>
              <a:path w="21600" h="21600">
                <a:moveTo>
                  <a:pt x="1350" y="6300"/>
                </a:moveTo>
                <a:lnTo>
                  <a:pt x="2700" y="6300"/>
                </a:lnTo>
                <a:lnTo>
                  <a:pt x="2700" y="15300"/>
                </a:lnTo>
                <a:lnTo>
                  <a:pt x="1350" y="15300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7F7-2ADC-40ED-BDB9-1ADCD390F3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Ok, let’s “do something” now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crease fault-tolerance of a connector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Hmmm.  Need error events in the connector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oy examples don’t often include thes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Need to revise our example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efiner can “crash” silently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Glue can “time out” contacting the Definer (return an error instead of relaying the call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Wi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deadlock if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origina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 is used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15080" indent="-21924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 expects return; Definer sends error, expects cal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E3B-E4D0-46DD-8E28-52BE1B7464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971800" y="4724280"/>
            <a:ext cx="327672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2971800"/>
            <a:ext cx="36576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990720"/>
            <a:ext cx="3124080" cy="15238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With original call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Defin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Defin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| crash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END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\ {crash}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Glue = (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defin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 = (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efin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| caller.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FGlue)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|FaultyRPC =(caller:Caller || definer:FDefiner || FGlue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943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(You can revise the caller to remove deadlock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5" name="err1a" descr=""/>
          <p:cNvPicPr/>
          <p:nvPr/>
        </p:nvPicPr>
        <p:blipFill>
          <a:blip r:embed="rId1"/>
          <a:stretch/>
        </p:blipFill>
        <p:spPr>
          <a:xfrm>
            <a:off x="6156360" y="1066680"/>
            <a:ext cx="2835360" cy="13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B3B-9F1F-4911-B9BA-DF9D5D8CE78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257800" y="2514600"/>
            <a:ext cx="25146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With an error-aware call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 = (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| 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Caller)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Defin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Defin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crash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ND) \ {crash}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Glue = (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ryCall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defin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ryCall = (defin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caller.error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|FaultyRPC =(caller:Caller || definer:FDefiner || FGlue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054-6EC8-4794-B27F-7E6EF549BDF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1981080"/>
            <a:ext cx="7925040" cy="45720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||FaultyRPC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11" name="definer5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3600360" cy="1108080"/>
          </a:xfrm>
          <a:prstGeom prst="rect">
            <a:avLst/>
          </a:prstGeom>
          <a:ln w="0">
            <a:noFill/>
          </a:ln>
        </p:spPr>
      </p:pic>
      <p:pic>
        <p:nvPicPr>
          <p:cNvPr id="212" name="caller5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354400" cy="960480"/>
          </a:xfrm>
          <a:prstGeom prst="rect">
            <a:avLst/>
          </a:prstGeom>
          <a:ln w="0">
            <a:noFill/>
          </a:ln>
        </p:spPr>
      </p:pic>
      <p:pic>
        <p:nvPicPr>
          <p:cNvPr id="213" name="conn5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6778440" cy="2114640"/>
          </a:xfrm>
          <a:prstGeom prst="rect">
            <a:avLst/>
          </a:prstGeom>
          <a:ln w="0">
            <a:noFill/>
          </a:ln>
        </p:spPr>
      </p:pic>
      <p:pic>
        <p:nvPicPr>
          <p:cNvPr id="214" name="glue5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2982960" cy="1292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047760" y="2133720"/>
            <a:ext cx="35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(with the error-aware caller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4952880"/>
            <a:ext cx="3657600" cy="160020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029200"/>
            <a:ext cx="1600200" cy="12952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8" name="j0158061" descr=""/>
          <p:cNvPicPr/>
          <p:nvPr/>
        </p:nvPicPr>
        <p:blipFill>
          <a:blip r:embed="rId5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580-38B7-4C71-8EA8-4BDDC732873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No-op; revised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on error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-over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97B-B42B-42F8-A0CB-B67D391AB99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3880" y="4572000"/>
            <a:ext cx="723924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terposing a “retry”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Definer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Retry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ry.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ry   | retry.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ry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 | retry.caller.error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retry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Retr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ReProcCall = (caller:Caller || definer:FDefiner || FGlue/{retry.caller/caller} || Retry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162920" y="1828800"/>
            <a:ext cx="1752480" cy="685800"/>
            <a:chOff x="7162920" y="1828800"/>
            <a:chExt cx="1752480" cy="685800"/>
          </a:xfrm>
        </p:grpSpPr>
        <p:sp>
          <p:nvSpPr>
            <p:cNvPr id="225" name=""/>
            <p:cNvSpPr/>
            <p:nvPr/>
          </p:nvSpPr>
          <p:spPr>
            <a:xfrm>
              <a:off x="8001000" y="2209680"/>
              <a:ext cx="7621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0120" y="1828800"/>
              <a:ext cx="380880" cy="685800"/>
            </a:xfrm>
            <a:prstGeom prst="rect">
              <a:avLst/>
            </a:prstGeom>
            <a:solidFill>
              <a:srgbClr val="c3e684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2209680"/>
              <a:ext cx="3049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29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631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419-C583-4050-8F2B-0535902FC42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124080"/>
            <a:ext cx="8001000" cy="31244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1" name="connmonster6" descr=""/>
          <p:cNvPicPr/>
          <p:nvPr/>
        </p:nvPicPr>
        <p:blipFill>
          <a:blip r:embed="rId1"/>
          <a:stretch/>
        </p:blipFill>
        <p:spPr>
          <a:xfrm>
            <a:off x="733320" y="3200400"/>
            <a:ext cx="7801200" cy="2914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Two modes of operation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2101680"/>
            <a:ext cx="769608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tates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, (1, 2), 4, 5, 6 represent normal operatio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tates 3, 9 are post-crash steady state.  7, 8, 10 = transitiona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95280" y="4191120"/>
            <a:ext cx="4800600" cy="1218960"/>
            <a:chOff x="1295280" y="4191120"/>
            <a:chExt cx="4800600" cy="1218960"/>
          </a:xfrm>
        </p:grpSpPr>
        <p:sp>
          <p:nvSpPr>
            <p:cNvPr id="235" name=""/>
            <p:cNvSpPr/>
            <p:nvPr/>
          </p:nvSpPr>
          <p:spPr>
            <a:xfrm>
              <a:off x="1295280" y="4191120"/>
              <a:ext cx="213372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4800" y="4191120"/>
              <a:ext cx="198108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371600" y="3962520"/>
            <a:ext cx="7162920" cy="1981080"/>
            <a:chOff x="1371600" y="3962520"/>
            <a:chExt cx="7162920" cy="1981080"/>
          </a:xfrm>
        </p:grpSpPr>
        <p:grpSp>
          <p:nvGrpSpPr>
            <p:cNvPr id="238" name=""/>
            <p:cNvGrpSpPr/>
            <p:nvPr/>
          </p:nvGrpSpPr>
          <p:grpSpPr>
            <a:xfrm>
              <a:off x="3429000" y="4191120"/>
              <a:ext cx="5105520" cy="1218960"/>
              <a:chOff x="3429000" y="4191120"/>
              <a:chExt cx="5105520" cy="1218960"/>
            </a:xfrm>
          </p:grpSpPr>
          <p:sp>
            <p:nvSpPr>
              <p:cNvPr id="239" name=""/>
              <p:cNvSpPr/>
              <p:nvPr/>
            </p:nvSpPr>
            <p:spPr>
              <a:xfrm>
                <a:off x="3429000" y="4191120"/>
                <a:ext cx="685800" cy="1218960"/>
              </a:xfrm>
              <a:prstGeom prst="rect">
                <a:avLst/>
              </a:prstGeom>
              <a:solidFill>
                <a:srgbClr val="c9ddf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95880" y="4191120"/>
                <a:ext cx="2438640" cy="1218960"/>
              </a:xfrm>
              <a:prstGeom prst="rect">
                <a:avLst/>
              </a:prstGeom>
              <a:solidFill>
                <a:srgbClr val="c9ddf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371600" y="3962520"/>
              <a:ext cx="4572000" cy="198108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42" name="j0158061" descr=""/>
          <p:cNvPicPr/>
          <p:nvPr/>
        </p:nvPicPr>
        <p:blipFill>
          <a:blip r:embed="rId2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E08-431D-4886-9A41-69C03F373D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finite vs. finite retr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his Retry process will always keep trying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ven if the Definer crashed!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ansmit” is not always the right solu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actually want to retry “a few time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If we get too many errors in a row, retur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(Then let another kind of fix handle the error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n write a retry that “counts”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485-07D1-41D1-A970-A031314FDC9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 “counting retry”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onst T = 1  </a:t>
            </a: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/* retries to attempt, per call */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= Retry[0]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[n:0..T] = (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ry.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[0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retry.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ry[0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en (n&lt;T)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retry.caller.error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ry.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n+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en (n==T)  retry.caller.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caller.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ry[0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079360" y="5775480"/>
            <a:ext cx="58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Can be used in place of the “infinite” Retry proces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5CD-DDFE-4A8B-84D0-D7B4E83C43F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protocol of a connector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pose one of several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do nothing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retry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fail over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e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tate and check a property that should resul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pply to more than one connector typ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9144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This is a preview of the conclus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584-DD50-4B2A-B5EF-DEE08F4EEA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1905120"/>
            <a:ext cx="7772400" cy="4724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finite vs. finite retr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50" name="retry6" descr=""/>
          <p:cNvPicPr/>
          <p:nvPr/>
        </p:nvPicPr>
        <p:blipFill>
          <a:blip r:embed="rId1"/>
          <a:stretch/>
        </p:blipFill>
        <p:spPr>
          <a:xfrm>
            <a:off x="1219320" y="3570120"/>
            <a:ext cx="7337160" cy="2982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14400" y="1981080"/>
            <a:ext cx="3886200" cy="1752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2" name="retry6inf" descr=""/>
          <p:cNvPicPr/>
          <p:nvPr/>
        </p:nvPicPr>
        <p:blipFill>
          <a:blip r:embed="rId2"/>
          <a:stretch/>
        </p:blipFill>
        <p:spPr>
          <a:xfrm>
            <a:off x="1020600" y="1989000"/>
            <a:ext cx="3703680" cy="1668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065560" y="23623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0, 2, 3 (left) = 0, 6, 7 (below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5CB-6F33-4792-B826-DF8089F321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No-op; revised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Retry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-over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40D-1F63-4C66-BC71-F64E83A1449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terposing a “fail over”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Definer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ackup = (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ackup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Glue = (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defin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Glue       | defin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(we are adding a reliable Definer and a reliable Glue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8001000" y="220968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1828800"/>
            <a:ext cx="38088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2209680"/>
            <a:ext cx="3049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763120" y="2133720"/>
            <a:ext cx="152280" cy="152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2362320"/>
            <a:ext cx="762120" cy="3045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763120" y="2590920"/>
            <a:ext cx="15228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89D-76B1-47C0-8E3E-8BEBE64E20E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… “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ail over” continued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ailover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ri.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ailover | pri.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Failover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| pri.caller.error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k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ToBk),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ToBk = (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k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ToBk     |  bk.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ToBk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FailoverProcCall = (caller:Caller ||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pri.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:FDefiner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pri: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|| Failover || bk:BGlue || bk.definer:Backu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58F-26BA-47A7-AC83-66A9003F1CB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1981080"/>
            <a:ext cx="6934320" cy="2895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ailov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69" name="failover7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697800" cy="2708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070640" y="5029200"/>
            <a:ext cx="76618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0, 5, 6 are pre-error operation; 2, 3, 4 = post-error steady stat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3BF-DDF8-4D16-B952-B24C53F459DC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762120"/>
            <a:ext cx="8534520" cy="56386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2" name="left8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305560" cy="3038760"/>
          </a:xfrm>
          <a:prstGeom prst="rect">
            <a:avLst/>
          </a:prstGeom>
          <a:ln w="0">
            <a:noFill/>
          </a:ln>
        </p:spPr>
      </p:pic>
      <p:pic>
        <p:nvPicPr>
          <p:cNvPr id="273" name="right8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4492440" cy="2590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09480" y="365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3920" y="3657600"/>
            <a:ext cx="32821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0—2, 9—11 repres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pre-crash operatio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3—8 represent post-cras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teady-stat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12—16 are the transitio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1752480"/>
            <a:ext cx="4038840" cy="106704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33520" y="1676520"/>
            <a:ext cx="8305560" cy="990360"/>
            <a:chOff x="533520" y="1676520"/>
            <a:chExt cx="8305560" cy="990360"/>
          </a:xfrm>
        </p:grpSpPr>
        <p:sp>
          <p:nvSpPr>
            <p:cNvPr id="278" name=""/>
            <p:cNvSpPr/>
            <p:nvPr/>
          </p:nvSpPr>
          <p:spPr>
            <a:xfrm>
              <a:off x="533520" y="1676520"/>
              <a:ext cx="2057400" cy="91440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81680" y="1752480"/>
              <a:ext cx="2057400" cy="91440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80" name="j0158061" descr=""/>
          <p:cNvPicPr/>
          <p:nvPr/>
        </p:nvPicPr>
        <p:blipFill>
          <a:blip r:embed="rId3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485-72FF-4FAA-B61C-A9DDCF116EEA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… You can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+ fail-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1BF-0D0D-49C3-9FB8-0575291DB21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81080" y="2590920"/>
            <a:ext cx="54104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4038480"/>
            <a:ext cx="9907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etry, Failover: a review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ReProcCall = (caller:Caller || definer:FDefiner || FGlue/{retry.caller/caller} || Retry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FailoverProcCall = (caller:Caller || pri.definer:FDefiner || pri:FGlue || Failover || bk:BGlue || bk.definer:Backup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’ll replace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FGlue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in FailoverProcCall with the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FGlue/{retry.caller/caller} || Retr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“glue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 rot="7531800">
            <a:off x="6591240" y="3238200"/>
            <a:ext cx="1066680" cy="53352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3e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0AE-9BCB-4B21-9ECB-69324991EA5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Retry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plus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Failov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Definer = (…).  FGlue = (…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Backup = (…).  BGlue = (…).  Failover = (…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etry = Retry[0],  Retry[n:0..T] = (…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Both = (caller:Caller 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.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:FDefiner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: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/{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.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retry.caller/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.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caller}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: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Retr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Failover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k:BGlue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k.definer:Backu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026-B6C3-4173-BC1C-A0B827C9DC6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huge" descr=""/>
          <p:cNvPicPr/>
          <p:nvPr/>
        </p:nvPicPr>
        <p:blipFill>
          <a:blip r:embed="rId1"/>
          <a:stretch/>
        </p:blipFill>
        <p:spPr>
          <a:xfrm>
            <a:off x="257040" y="2057400"/>
            <a:ext cx="8886960" cy="4381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938040" y="838080"/>
            <a:ext cx="47239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7-12 represent “backup” oper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The rest of 0-16 is “primary” oper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17-25 cover the transition to backu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3276720"/>
            <a:ext cx="6629400" cy="3200400"/>
            <a:chOff x="457200" y="3276720"/>
            <a:chExt cx="6629400" cy="3200400"/>
          </a:xfrm>
        </p:grpSpPr>
        <p:sp>
          <p:nvSpPr>
            <p:cNvPr id="293" name=""/>
            <p:cNvSpPr/>
            <p:nvPr/>
          </p:nvSpPr>
          <p:spPr>
            <a:xfrm>
              <a:off x="3200400" y="4191120"/>
              <a:ext cx="2209680" cy="114300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" y="3276720"/>
              <a:ext cx="6629400" cy="320040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934320" y="4114800"/>
            <a:ext cx="2209680" cy="114300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3886200"/>
            <a:ext cx="2590920" cy="152388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33526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</a:rPr>
              <a:t>No longer small enough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Tahoma"/>
              </a:rPr>
              <a:t>to check “by inspection”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6932520" y="579132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(26 stat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9" name="j0158061" descr=""/>
          <p:cNvPicPr/>
          <p:nvPr/>
        </p:nvPicPr>
        <p:blipFill>
          <a:blip r:embed="rId2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80E-5728-4720-AA09-BBEFC832EF8A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 road map for the talk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scribing simple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073-7547-459E-B116-E91C01B1C7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… You can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 any errors make it to the caller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Has the augmentation affected a role interfac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019-61D1-4B4F-9786-E2E4F446912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Does caller see any errors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No, because we are using the caller that doesn’t handle errors, and see no deadlock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But what if we were using the </a:t>
            </a: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other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could add a process to detect errors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tectErrors = (caller.error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ERRO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Rephrased as a safety property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propert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NoErrors = STOP + {caller.error}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n also add a liveness property: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rogres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Ok = {caller.return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5A1-8560-49CE-B368-16CE79578DF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t works?  Boring…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Let’s look at a case in which we </a:t>
            </a:r>
            <a:r>
              <a:rPr b="0" i="1" lang="en-US" sz="2800" spc="-1" strike="noStrike">
                <a:solidFill>
                  <a:srgbClr val="5b5249"/>
                </a:solidFill>
                <a:latin typeface="Tahoma"/>
              </a:rPr>
              <a:t>do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have to catch a plausible mistak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or simple hard-wired case, mistakes are (comparatively) obvious by textual inspe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ake a look at what happens when you begin to make a </a:t>
            </a: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generic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template/pattern for an augmentation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4D2-1F77-43E7-B4B8-620AA0EED5B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arameterizing our Wr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ap = (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.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wrap.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ap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 = {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Initiat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ap = (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wrap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, erro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3200400"/>
            <a:ext cx="8153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5791320"/>
            <a:ext cx="8153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35520" y="586728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0ae6a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b0ae6a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b0ae6a"/>
                </a:solidFill>
                <a:latin typeface="Tahoma"/>
              </a:rPr>
              <a:t>to apply to the exception-handling call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EB7-DE4E-4752-98E8-8ECACD484C8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6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lient = (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),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un = (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esult[v:M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  |  hid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Close),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lose = (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ND) \{hide}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rver = (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),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un = (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hide[e:M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esult[e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                         | 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ND) \{hide}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Glue = (client.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server.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Glue                                     | client.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server.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Glue                                         | server.result[v:M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client.result[v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Glue                                | client.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server.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ND)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||Conn = (client:Client || server:Server || Glue)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t R1 = {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client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t R1Initiates = {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open, request, close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esult[v:M]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Wrap = (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wrap.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Wrap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| wrap.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Wrap)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27432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0ae6a"/>
                </a:solidFill>
                <a:latin typeface="Tahoma"/>
              </a:rPr>
              <a:t>Parameterizing a wrapper can enable us to apply it to more than one connector typ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724280"/>
            <a:ext cx="8153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D49-537C-4A4F-A952-FADFFB23BB6A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648320" y="2971800"/>
            <a:ext cx="761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 plausible mistak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 = {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Initiat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, erro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… … …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over = (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pri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ail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pri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ail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pri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error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bk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oBk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oBk = (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bk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oBk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bk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oBk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66B-D2FD-4354-A1A3-AEEE01DA5AE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atching the mistak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 a large system, won’t notice by inspe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Of text (many lines) or LTS (many states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dd our NoErrors “safety”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3581280"/>
            <a:ext cx="75438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Composition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FPC = caller:Caller || pri.def:FDefiner || pri:FGlue || pri:Retry || Failover || bk:BGlue || bk.def:Backup || NoErro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State Sp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2 * 3 * 3 * 8 * 8 * 3 * 2 * 1 = 2 ** 1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Composing..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property NoErrors violation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-- States: 42 Transitions: 66 Memory used: 2577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Composed in 401m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2F3-37B2-4B23-B3DC-A194413140B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410080" y="762120"/>
            <a:ext cx="3581640" cy="144756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Effect on role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Make sure caller’s interface has not changed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24120" indent="-409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void unpleasant ramifications for component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11480" indent="-411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Given the interface it “used to” have, we can check the new connector for conformance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propert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Interface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Interface) + {error}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MyConnector = (caller:Caller || … || …                        || caller:OldInterfac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323" name="oldinterface1" descr=""/>
          <p:cNvPicPr/>
          <p:nvPr/>
        </p:nvPicPr>
        <p:blipFill>
          <a:blip r:embed="rId1"/>
          <a:stretch/>
        </p:blipFill>
        <p:spPr>
          <a:xfrm>
            <a:off x="5486400" y="838080"/>
            <a:ext cx="3451320" cy="12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8D1-3EEC-43F5-80C9-92207D88D0C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simple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FSP vs. Wrigh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405-6078-4EB6-811F-78FEFCE1946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Main 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protocol of a connector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pose one of several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do nothing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retry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fail over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e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+ fail 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heck safety propertie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uture work includes generaliz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03C-399F-44B8-8F94-1A0F24F890E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want to understand, analyze, verify the software systems we build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bility to do this depends on the model chose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use an </a:t>
            </a:r>
            <a:r>
              <a:rPr b="0" i="1" lang="en-US" sz="2800" spc="-1" strike="noStrike">
                <a:solidFill>
                  <a:srgbClr val="5b5249"/>
                </a:solidFill>
                <a:latin typeface="Tahoma"/>
              </a:rPr>
              <a:t>architectural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model as a vehicle for reasoning about complex system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ystems are composed of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nent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nnecto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PC, events, streams, etc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18148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18148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56272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6720" y="5187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pc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AB0-7FDB-4779-A578-B3582790C1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protocol of a connector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pose one of several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 nothing”, “retry”, “fail over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e multiple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pply same one to multiple connector typ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eck that desired properties hold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FBC-E8BB-4DC6-8230-FE308AEEFEC4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-ilitie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able, reusable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n relate model to implement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tructurally similar to interceptors/wrapper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In other work, transformation patterns encoded in operations made available by stubgen tools, e.g. “add a role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+ failover + JavaRMI = example you saw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race problems from model to imple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fine to imple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FBC-7902-4958-AEDB-CB8A6F165359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ystem assembly in practic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rom independently developed parts… tha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might not match each oth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might not match system requirement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you might not have source code to tinker with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ceptors provide hooks into connecto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rappers are chunks of code between part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often ad hoc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nd/or single-us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 they wrap the component or the connector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10552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510552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548640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5105520"/>
            <a:ext cx="228600" cy="685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105520"/>
            <a:ext cx="22860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4C6-D30C-402D-8916-3247FB529E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What does &lt;addition x&gt; do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How can we talk about an augmentation more precisely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How does a specific augmentation affect the protocol of a specific connector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re existing properties maintained… or gon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es a desirable new property emerg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hat happens when you put two together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anted: A more principled basis for creation, understanding, and application of wrappers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792-B030-463E-80BA-5D9F214CA6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irst…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the </a:t>
            </a: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protocols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f connecto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Earlier work in this area has used process algebras like CSP and CC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ight [Allen/Garlan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’ve chosen FSP “Finite State Processe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asy to learn, sufficiently powerful for the task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Using such a basis, perhaps we can describe “connector wrappers” in terms of </a:t>
            </a: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transformations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f these protocol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BAF-DA09-49FE-9BFC-4A7067CABC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roperties of our approach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he specific approach we take is motivated by a desire for good engineering properti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ormal specification as an engineering artifact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itiona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Reusabl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raceable/refineable to an implement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Maintainabl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Extensibl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104-D455-4CFE-B656-AF816E43E0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rite</cp:lastModifiedBy>
  <dcterms:modified xsi:type="dcterms:W3CDTF">2002-07-19T16:09:35Z</dcterms:modified>
  <cp:revision>484</cp:revision>
  <dc:subject/>
  <dc:title>PowerPoint Presentation</dc:title>
</cp:coreProperties>
</file>