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100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2688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6040"/>
            <a:ext cx="305100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7720" y="8726040"/>
            <a:ext cx="30513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BFCA7C-88D0-4C19-A819-C3031FEE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4960" y="5105520"/>
            <a:ext cx="4230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S: 14; RHS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6400" y="5105520"/>
            <a:ext cx="4227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887-60F0-436A-B9DA-32B443BB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FEC0-D3C4-459C-A2BE-B5733A4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8135-19F3-4ED1-9697-3FEB9636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AD9C-186C-4EFF-B051-0D0E412E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35AF-6C4E-4365-99FE-FE24C75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B8D9-4BCE-42E0-A172-B2FC8DB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9B35-00C9-44EB-8630-9067016F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585B-2523-401D-B06E-3ABE2CB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0A50-E507-426F-B819-A1085B8F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160E-EAA8-4FE8-ABA6-97EF35B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7207-9A3F-407B-AB4F-DB651AC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606-3A1D-4909-8BF2-1DBDE71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20832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0EFF-8AA3-4111-9011-14768214DFC1}" type="slidenum">
              <a:rPr b="0" lang="en-US" sz="9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732280" y="63241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soning About Exception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ing Model Che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4960" y="4683240"/>
            <a:ext cx="64008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omputer Science Department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arnegie Mellon University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Pittsburgh, PA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2976480"/>
            <a:ext cx="653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d Simm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Gar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annette M. W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rge Fairbanks, Gil Tolle, Balaji Sarpeshkar, Joe Ji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tcha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ception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(Nested)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 and Return Statem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8077-1C1E-4268-B0B6-9731920CF1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Exception Hierarch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95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 extends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0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Preprocess IEL Code to Determine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row” Explicitly Sets Exception and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ts Par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Ex&gt; (e1’ = 1 &amp; e0’ = 1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atching “Catch” Clears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N+1&gt; (e0’ = 0 &amp; e1’ = 0 &amp; e2’ = 0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E7C3-1556-48B2-BCD7-9F5F494F8A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 the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 x := x /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= x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tore State of Exceptions Upon Enter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estore Exception State at End of Finally Block, Unless a New Exception Was Raised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558E-FA93-4638-8EDD-5E74736AA2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ested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8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tore State of Exceptions Upon Entering Finally 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Plus Keep Track of “nesting level” and “exception level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Increment “nesting level” on Entering, and Decrement on Exit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Before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Entering Finally Block with an Exception,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et “exception level” to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Propagate Exception on Exit if “exception level” equals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4200" y="16686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13840" y="23083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28200" y="2738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000" y="31701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4920" y="1679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9240" y="234000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1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45960" y="10764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; EL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1720" y="1298520"/>
            <a:ext cx="3269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catch e2 {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ly {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F280-5608-4694-9DC7-E3AA5A2B8C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Break and Return State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” and “Return” Interact in Interesting Ways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ith Exceptions and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68600" y="542916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pproach: Treat “Break” and “Return” as Exceptions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at do not Propagat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6076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78C8-F0D7-4226-8EB7-45E98AD672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ample: Vending Mach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of Vending Machin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vends product, if it has that product in stock and sufficient $$ put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Java program that has significant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SE article by Sinha &amp; Harr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y that if Money is Put in the Machine, Eventually it will either Return Money or Vend Prod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analysis is insu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-coded IEL program from Java sourc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I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PED trans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 bug in the pro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ould keep on adding money indefinitely – no lim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D8D3-394C-46AD-9E0B-C4E0EFFB0A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ngoing and Future Wor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ing Java </a:t>
            </a: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EL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ser and Most of Translator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Difficulty in Dealing with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 data structures, Inheritan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memory al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dd Specification Language to I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e Other Languages (C++, Lisp)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Resumption Model of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est on Software with Significan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CDC2-744D-4C40-8FB8-D58F13B2D9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hy Model Check Exceptions?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pproach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tch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ding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B05D-9829-4975-ABF6-612DA35085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ceptions in Programming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aising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w of named/typed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by nearest matching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may form inheritance hierarc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ly / Unwind-pro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d in both nominal and exceptional si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mantic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Ter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Java, Lis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Resum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esa, Eiffel, T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7A32-B6C8-45BE-B549-C3999167EA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hy Har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n-Local Flow of Contro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ontext of “Catch” Frames Determined Dynamicall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 Adds Additional Pathway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27600"/>
            <a:ext cx="77724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Hard to Reason About All Possible Execution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Impossible To Do So Purely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C2AE-A4EF-497E-9521-18FD0A595D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view of Our Approac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2147760"/>
            <a:ext cx="1722600" cy="970200"/>
            <a:chOff x="685800" y="2147760"/>
            <a:chExt cx="1722600" cy="970200"/>
          </a:xfrm>
        </p:grpSpPr>
        <p:sp>
          <p:nvSpPr>
            <p:cNvPr id="60" name=""/>
            <p:cNvSpPr/>
            <p:nvPr/>
          </p:nvSpPr>
          <p:spPr>
            <a:xfrm>
              <a:off x="977760" y="2206800"/>
              <a:ext cx="11383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2147760"/>
              <a:ext cx="1722600" cy="9702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08400" y="2147760"/>
            <a:ext cx="2300040" cy="970200"/>
            <a:chOff x="2408400" y="2147760"/>
            <a:chExt cx="2300040" cy="970200"/>
          </a:xfrm>
        </p:grpSpPr>
        <p:sp>
          <p:nvSpPr>
            <p:cNvPr id="63" name=""/>
            <p:cNvSpPr/>
            <p:nvPr/>
          </p:nvSpPr>
          <p:spPr>
            <a:xfrm>
              <a:off x="240840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986200" y="2147760"/>
              <a:ext cx="1722240" cy="970200"/>
              <a:chOff x="2986200" y="2147760"/>
              <a:chExt cx="1722240" cy="970200"/>
            </a:xfrm>
          </p:grpSpPr>
          <p:sp>
            <p:nvSpPr>
              <p:cNvPr id="65" name=""/>
              <p:cNvSpPr/>
              <p:nvPr/>
            </p:nvSpPr>
            <p:spPr>
              <a:xfrm>
                <a:off x="32781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I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86200" y="2147760"/>
                <a:ext cx="172224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5335560" y="3117960"/>
            <a:ext cx="1722600" cy="1967760"/>
            <a:chOff x="5335560" y="3117960"/>
            <a:chExt cx="1722600" cy="1967760"/>
          </a:xfrm>
        </p:grpSpPr>
        <p:grpSp>
          <p:nvGrpSpPr>
            <p:cNvPr id="68" name=""/>
            <p:cNvGrpSpPr/>
            <p:nvPr/>
          </p:nvGrpSpPr>
          <p:grpSpPr>
            <a:xfrm>
              <a:off x="5335560" y="3554280"/>
              <a:ext cx="1722600" cy="1531440"/>
              <a:chOff x="5335560" y="3554280"/>
              <a:chExt cx="1722600" cy="1531440"/>
            </a:xfrm>
          </p:grpSpPr>
          <p:sp>
            <p:nvSpPr>
              <p:cNvPr id="69" name=""/>
              <p:cNvSpPr/>
              <p:nvPr/>
            </p:nvSpPr>
            <p:spPr>
              <a:xfrm>
                <a:off x="5627520" y="3613320"/>
                <a:ext cx="1138320" cy="14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Cou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Exam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5560" y="355428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197760" y="3117960"/>
              <a:ext cx="0" cy="4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08440" y="2147760"/>
            <a:ext cx="2300400" cy="970200"/>
            <a:chOff x="4708440" y="2147760"/>
            <a:chExt cx="2300400" cy="970200"/>
          </a:xfrm>
        </p:grpSpPr>
        <p:sp>
          <p:nvSpPr>
            <p:cNvPr id="73" name=""/>
            <p:cNvSpPr/>
            <p:nvPr/>
          </p:nvSpPr>
          <p:spPr>
            <a:xfrm>
              <a:off x="470844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286240" y="2147760"/>
              <a:ext cx="1722600" cy="970200"/>
              <a:chOff x="5286240" y="2147760"/>
              <a:chExt cx="1722600" cy="970200"/>
            </a:xfrm>
          </p:grpSpPr>
          <p:sp>
            <p:nvSpPr>
              <p:cNvPr id="75" name=""/>
              <p:cNvSpPr/>
              <p:nvPr/>
            </p:nvSpPr>
            <p:spPr>
              <a:xfrm>
                <a:off x="55785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MOP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86240" y="214776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116080" y="3117600"/>
            <a:ext cx="3170160" cy="1606680"/>
            <a:chOff x="2116080" y="3117600"/>
            <a:chExt cx="3170160" cy="1606680"/>
          </a:xfrm>
        </p:grpSpPr>
        <p:sp>
          <p:nvSpPr>
            <p:cNvPr id="78" name=""/>
            <p:cNvSpPr/>
            <p:nvPr/>
          </p:nvSpPr>
          <p:spPr>
            <a:xfrm flipV="1">
              <a:off x="4094280" y="3117600"/>
              <a:ext cx="119196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116080" y="3754440"/>
              <a:ext cx="1978200" cy="969840"/>
              <a:chOff x="2116080" y="3754440"/>
              <a:chExt cx="1978200" cy="969840"/>
            </a:xfrm>
          </p:grpSpPr>
          <p:sp>
            <p:nvSpPr>
              <p:cNvPr id="80" name=""/>
              <p:cNvSpPr/>
              <p:nvPr/>
            </p:nvSpPr>
            <p:spPr>
              <a:xfrm>
                <a:off x="2174760" y="4039920"/>
                <a:ext cx="186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ahoma"/>
                  </a:rPr>
                  <a:t>Specif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16080" y="3754440"/>
                <a:ext cx="1978200" cy="96984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 flipV="1">
            <a:off x="2508120" y="3117960"/>
            <a:ext cx="478080" cy="6364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24C5-DACF-48A2-991B-E7CFD11F83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mediate Exception Language (IEL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ptures Commonalities of Exception Handling Among Different Language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cuses on Control-Flow Constructs Relevant to Reasoning Abou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/Throw/Fin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on and Conditio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archical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value-returning functions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3246-17F3-48F8-A791-BF95AFC6FB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EL Example: Resource Lo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002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ocked: int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0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rue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Exception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unlock() */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35480" y="1295280"/>
            <a:ext cx="3647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1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random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p) throw 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DFFA-CBD0-4E77-B59A-8315081B5B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Checker for Push-Down Automata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Schwoon’s PhD 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mbolic Model Che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Procedures with Local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Explicitly Handle Frame Axi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ies LTL State Reachability Formula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cannot handle LTL formulae involving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D07B-6145-4F12-AF63-23A9B3045D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anslating IE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reate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Loca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Translation Rules for Each IEL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Assign ( x := y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(x’ = y &amp; frameAllExcept(x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onditional ( if p then stmt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“if true” (p = 1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’&gt; “if false” (p = 0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mt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&lt;procN’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hrow ( throw ex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Ex&gt; (ex’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ry/Catch ( try { tryblock } catch ex { catchblock}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&lt;procTry&gt; “jump past catch” (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Catch&gt; “caught ex” (ex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N&gt; “didn’t catch ex” (ex = 0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tch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1078-1D44-4332-A97F-0EAF354D08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3:55:44Z</dcterms:created>
  <dc:creator>snooze</dc:creator>
  <dc:description/>
  <dc:language>en-US</dc:language>
  <cp:lastModifiedBy>Reid Simmons</cp:lastModifiedBy>
  <cp:lastPrinted>1999-08-28T18:05:51Z</cp:lastPrinted>
  <dcterms:modified xsi:type="dcterms:W3CDTF">2003-05-01T13:40:40Z</dcterms:modified>
  <cp:revision>388</cp:revision>
  <dc:subject/>
  <dc:title>Theory Generation for Security Protocols</dc:title>
</cp:coreProperties>
</file>