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5100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87720" y="0"/>
            <a:ext cx="305136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26880" y="688680"/>
            <a:ext cx="459252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lick to move the slid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26040"/>
            <a:ext cx="3051000" cy="459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87720" y="8726040"/>
            <a:ext cx="3051360" cy="459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25029F6-8CE2-4A4B-817B-CB1AE44414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227240" y="68904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74960" y="5105520"/>
            <a:ext cx="423000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ide: Can handle probabilistic CTL and knowledge at the leav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F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urier New"/>
              </a:rPr>
              <a:t>&gt;0.9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ow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)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227240" y="68904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HS: 14; RHS: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22544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76400" y="5105520"/>
            <a:ext cx="422712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ide: Can handle probabilistic CTL and knowledge at the leav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F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urier New"/>
              </a:rPr>
              <a:t>&gt;0.9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ow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)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22544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EF8E2-B322-4229-9DD7-94C3578BC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8260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66E78-773A-4154-BB34-178976775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826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826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60E4A-756C-440C-87F9-2292F78B0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826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826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826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E29ED-B862-44D7-9D07-EABD304FD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31D8E-22B4-485C-BD1C-51565024B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5F29B-C0DC-471C-AB75-95625B0DB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9FF6A-A349-4F1A-8D78-2CC81422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43633-39A9-407C-89A1-A47DC544A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F5995-F9A2-472B-A4B1-9B8FF8682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826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AC6B3-ACF3-46FB-9026-709EAD02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826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A75DE-7CEA-4AD4-8414-6090EBE9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8260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5A9F5-0C8C-464F-AE65-2D207C37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lick to edit the title text forma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208320" y="63241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3333c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3CDBE-2A85-468C-822D-4FBE0BA2CDEF}" type="slidenum">
              <a:rPr b="0" lang="en-US" sz="900" spc="-1" strike="noStrike">
                <a:solidFill>
                  <a:srgbClr val="3333cc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685800" y="63241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3333c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Tahom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5732280" y="6324120"/>
            <a:ext cx="27255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3333c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Tahoma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asoning About Exceptions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ing Model Checking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34960" y="4683240"/>
            <a:ext cx="640080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Tahoma"/>
              </a:rPr>
              <a:t>Computer Science Department</a:t>
            </a:r>
            <a:endParaRPr b="0" lang="en-US" sz="1600" spc="-1" strike="noStrike">
              <a:solidFill>
                <a:srgbClr val="ff6600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Tahoma"/>
              </a:rPr>
              <a:t>Carnegie Mellon University</a:t>
            </a:r>
            <a:endParaRPr b="0" lang="en-US" sz="1600" spc="-1" strike="noStrike">
              <a:solidFill>
                <a:srgbClr val="ff6600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Tahoma"/>
              </a:rPr>
              <a:t>Pittsburgh, PA</a:t>
            </a:r>
            <a:endParaRPr b="0" lang="en-US" sz="1600" spc="-1" strike="noStrike">
              <a:solidFill>
                <a:srgbClr val="ff6600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1305000" y="2976480"/>
            <a:ext cx="6530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d Simm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vid Garl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eannette M. Wing</a:t>
            </a: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rge Fairbanks, Gil Tolle, Balaji Sarpeshkar, Joe Jia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Gotchas”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Exception Hierarchy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(Nested) Finally Blocks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Break and Return Statements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ay 1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1FF6B-CE09-4E5D-80B3-97C4898C3D5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Exceptions and Model Check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odeling Exception Hierarchy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95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ception e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ception e1 extends e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e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 catch e0 {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66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Preprocess IEL Code to Determine Hierarchy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Throw” Explicitly Sets Exception and </a:t>
            </a:r>
            <a:r>
              <a:rPr b="0" i="1" lang="en-US" sz="2400" spc="-1" strike="noStrike">
                <a:solidFill>
                  <a:srgbClr val="800080"/>
                </a:solidFill>
                <a:latin typeface="Tahoma"/>
              </a:rPr>
              <a:t>All</a:t>
            </a: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 Its Parents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 &lt;procN&gt; --&gt; q &lt;procEx&gt; (e1’ = 1 &amp; e0’ = 1 &amp; …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Matching “Catch” Clears </a:t>
            </a:r>
            <a:r>
              <a:rPr b="0" i="1" lang="en-US" sz="2400" spc="-1" strike="noStrike">
                <a:solidFill>
                  <a:srgbClr val="800080"/>
                </a:solidFill>
                <a:latin typeface="Tahoma"/>
              </a:rPr>
              <a:t>All</a:t>
            </a: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 Exceptions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 &lt;procN&gt; --&gt; q &lt;procN+1&gt; (e0’ = 0 &amp; e1’ = 0 &amp; e2’ = 0 &amp; …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ay 1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D6BD0-E21F-460D-AE83-F9BEF84F5B1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Exceptions and Model Check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odeling Finally Bloc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4" marL="1974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974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q then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974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 finally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974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974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f p then throw e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974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 catch e1 { x := x / 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974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= x + 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974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Store State of Exceptions Upon Entering Finally Block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Clear All Exceptions Before Executing Finally Block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Restore Exception State at End of Finally Block, Unless a New Exception Was Raised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ay 1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A8434-868F-4277-BB03-94470D377BC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Exceptions and Model Check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odeling </a:t>
            </a:r>
            <a:r>
              <a:rPr b="0" i="1" lang="en-US" sz="2800" spc="-1" strike="noStrike">
                <a:solidFill>
                  <a:srgbClr val="3333cc"/>
                </a:solidFill>
                <a:latin typeface="Tahoma"/>
              </a:rPr>
              <a:t>Nested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Finally Bloc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298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4" marL="20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row e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} finally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f p then throw e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} finally {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x := x + 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x := x + 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66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ahoma"/>
              </a:rPr>
              <a:t>Store State of Exceptions Upon Entering Finally </a:t>
            </a:r>
            <a:endParaRPr b="0" lang="en-US" sz="2000" spc="-1" strike="noStrike">
              <a:solidFill>
                <a:srgbClr val="ff6600"/>
              </a:solidFill>
              <a:latin typeface="Tahoma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80"/>
                </a:solidFill>
                <a:latin typeface="Tahoma"/>
              </a:rPr>
              <a:t>Plus Keep Track of “nesting level” and “exception level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ahoma"/>
              </a:rPr>
              <a:t>Increment “nesting level” on Entering, and Decrement on Exit</a:t>
            </a:r>
            <a:endParaRPr b="0" lang="en-US" sz="2000" spc="-1" strike="noStrike">
              <a:solidFill>
                <a:srgbClr val="ff66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ahoma"/>
              </a:rPr>
              <a:t>Clear All Exceptions Before Executing Finally Block</a:t>
            </a:r>
            <a:endParaRPr b="0" lang="en-US" sz="2000" spc="-1" strike="noStrike">
              <a:solidFill>
                <a:srgbClr val="ff66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Tahoma"/>
              </a:rPr>
              <a:t>Before</a:t>
            </a:r>
            <a:r>
              <a:rPr b="0" lang="en-US" sz="2000" spc="-1" strike="noStrike">
                <a:solidFill>
                  <a:srgbClr val="ff6600"/>
                </a:solidFill>
                <a:latin typeface="Tahoma"/>
              </a:rPr>
              <a:t> Entering Finally Block with an Exception, </a:t>
            </a:r>
            <a:br>
              <a:rPr sz="2000"/>
            </a:br>
            <a:r>
              <a:rPr b="0" lang="en-US" sz="2000" spc="-1" strike="noStrike">
                <a:solidFill>
                  <a:srgbClr val="ff6600"/>
                </a:solidFill>
                <a:latin typeface="Tahoma"/>
              </a:rPr>
              <a:t>Set “exception level” to “nesting level”</a:t>
            </a:r>
            <a:endParaRPr b="0" lang="en-US" sz="2000" spc="-1" strike="noStrike">
              <a:solidFill>
                <a:srgbClr val="ff66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ahoma"/>
              </a:rPr>
              <a:t>Propagate Exception on Exit if “exception level” equals “nesting level”</a:t>
            </a:r>
            <a:endParaRPr b="0" lang="en-US" sz="20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3544200" y="1668600"/>
            <a:ext cx="7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ahoma"/>
              </a:rPr>
              <a:t>NL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13840" y="2308320"/>
            <a:ext cx="7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ahoma"/>
              </a:rPr>
              <a:t>NL =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28200" y="2738520"/>
            <a:ext cx="7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ahoma"/>
              </a:rPr>
              <a:t>NL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44000" y="3170160"/>
            <a:ext cx="7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ahoma"/>
              </a:rPr>
              <a:t>NL =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34920" y="1679400"/>
            <a:ext cx="66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ahoma"/>
              </a:rPr>
              <a:t>EL =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39240" y="234000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ahoma"/>
              </a:rPr>
              <a:t>EL = 1/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145960" y="1076400"/>
            <a:ext cx="134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ahoma"/>
              </a:rPr>
              <a:t>NL = 0; EL = 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31720" y="1298520"/>
            <a:ext cx="32698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row e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} finally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row e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} catch e2 { 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nally {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x := x +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ay 1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8F344-A923-40F0-8D75-42765019C66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Exceptions and Model Check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50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9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9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odeling Break and Return Statemen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Break” and “Return” Interact in Interesting Ways </a:t>
            </a:r>
            <a:br>
              <a:rPr sz="2400"/>
            </a:b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with Exceptions and Finally Blocks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768600" y="5429160"/>
            <a:ext cx="760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Approach: Treat “Break” and “Return” as Exceptions </a:t>
            </a:r>
            <a:br>
              <a:rPr sz="2400"/>
            </a:b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that do not Propagate!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60760" y="2043000"/>
            <a:ext cx="2579760" cy="73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while (x &lt; 5) </a:t>
            </a:r>
            <a:r>
              <a:rPr b="0" lang="en-US" sz="1300" spc="-1" strike="noStrike">
                <a:solidFill>
                  <a:srgbClr val="cc0000"/>
                </a:solidFill>
                <a:latin typeface="Tahoma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cc0000"/>
                </a:solidFill>
                <a:latin typeface="Tahoma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try 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if x = 3 then </a:t>
            </a:r>
            <a:r>
              <a:rPr b="0" lang="en-US" sz="1300" spc="-1" strike="noStrike">
                <a:solidFill>
                  <a:srgbClr val="006600"/>
                </a:solidFill>
                <a:latin typeface="Tahoma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try </a:t>
            </a:r>
            <a:r>
              <a:rPr b="0" lang="en-US" sz="1300" spc="-1" strike="noStrike">
                <a:solidFill>
                  <a:srgbClr val="800080"/>
                </a:solidFill>
                <a:latin typeface="Tahoma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break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1300" spc="-1" strike="noStrike">
                <a:solidFill>
                  <a:srgbClr val="800080"/>
                </a:solidFill>
                <a:latin typeface="Tahoma"/>
              </a:rPr>
              <a:t>}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finally </a:t>
            </a:r>
            <a:r>
              <a:rPr b="0" lang="en-US" sz="1300" spc="-1" strike="noStrike">
                <a:solidFill>
                  <a:srgbClr val="00cc99"/>
                </a:solidFill>
                <a:latin typeface="Tahoma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try </a:t>
            </a:r>
            <a:r>
              <a:rPr b="0" lang="en-US" sz="1300" spc="-1" strike="noStrike">
                <a:solidFill>
                  <a:srgbClr val="800080"/>
                </a:solidFill>
                <a:latin typeface="Tahoma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throw e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n-US" sz="1300" spc="-1" strike="noStrike">
                <a:solidFill>
                  <a:srgbClr val="800080"/>
                </a:solidFill>
                <a:latin typeface="Tahoma"/>
              </a:rPr>
              <a:t>}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finally </a:t>
            </a:r>
            <a:r>
              <a:rPr b="0" lang="en-US" sz="1300" spc="-1" strike="noStrike">
                <a:solidFill>
                  <a:srgbClr val="3333cc"/>
                </a:solidFill>
                <a:latin typeface="Tahoma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x := x * 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1200" spc="-1" strike="noStrike">
                <a:solidFill>
                  <a:srgbClr val="00cc99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200" spc="-1" strike="noStrike">
                <a:solidFill>
                  <a:srgbClr val="006600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6600"/>
                </a:solidFill>
                <a:latin typeface="Tahoma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} catch e1 {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x := x+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cc0000"/>
                </a:solidFill>
                <a:latin typeface="Tahoma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x := x - 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38280" y="2043000"/>
            <a:ext cx="2579760" cy="73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while (x &lt; 5) </a:t>
            </a:r>
            <a:r>
              <a:rPr b="0" lang="en-US" sz="1300" spc="-1" strike="noStrike">
                <a:solidFill>
                  <a:srgbClr val="cc0000"/>
                </a:solidFill>
                <a:latin typeface="Tahoma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cc0000"/>
                </a:solidFill>
                <a:latin typeface="Tahoma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try 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if x = 3 then </a:t>
            </a:r>
            <a:r>
              <a:rPr b="0" lang="en-US" sz="1300" spc="-1" strike="noStrike">
                <a:solidFill>
                  <a:srgbClr val="006600"/>
                </a:solidFill>
                <a:latin typeface="Tahoma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try </a:t>
            </a:r>
            <a:r>
              <a:rPr b="0" lang="en-US" sz="1300" spc="-1" strike="noStrike">
                <a:solidFill>
                  <a:srgbClr val="800080"/>
                </a:solidFill>
                <a:latin typeface="Tahoma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throw e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1300" spc="-1" strike="noStrike">
                <a:solidFill>
                  <a:srgbClr val="800080"/>
                </a:solidFill>
                <a:latin typeface="Tahoma"/>
              </a:rPr>
              <a:t>}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finally </a:t>
            </a:r>
            <a:r>
              <a:rPr b="0" lang="en-US" sz="1300" spc="-1" strike="noStrike">
                <a:solidFill>
                  <a:srgbClr val="00cc99"/>
                </a:solidFill>
                <a:latin typeface="Tahoma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try </a:t>
            </a:r>
            <a:r>
              <a:rPr b="0" lang="en-US" sz="1300" spc="-1" strike="noStrike">
                <a:solidFill>
                  <a:srgbClr val="800080"/>
                </a:solidFill>
                <a:latin typeface="Tahoma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break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n-US" sz="1300" spc="-1" strike="noStrike">
                <a:solidFill>
                  <a:srgbClr val="800080"/>
                </a:solidFill>
                <a:latin typeface="Tahoma"/>
              </a:rPr>
              <a:t>}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finally </a:t>
            </a:r>
            <a:r>
              <a:rPr b="0" lang="en-US" sz="1300" spc="-1" strike="noStrike">
                <a:solidFill>
                  <a:srgbClr val="3333cc"/>
                </a:solidFill>
                <a:latin typeface="Tahoma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x := x * 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1200" spc="-1" strike="noStrike">
                <a:solidFill>
                  <a:srgbClr val="00cc99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200" spc="-1" strike="noStrike">
                <a:solidFill>
                  <a:srgbClr val="006600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6600"/>
                </a:solidFill>
                <a:latin typeface="Tahoma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} catch e1 {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x := x+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cc0000"/>
                </a:solidFill>
                <a:latin typeface="Tahoma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x := x - 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ay 1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C7E10-4D3E-452C-98EB-1106C8797D7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Exceptions and Model Check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xample: Vending Machin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Model of Vending Machine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chine vends product, if it has that product in stock and sufficient $$ put 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resented by Java program that has significant exce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TSE article by Sinha &amp; Harro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Verify that if Money is Put in the Machine, Eventually it will either Return Money or Vend Product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c analysis is insuffici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-coded IEL program from Java source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utomated IEL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OPED trans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nd bug in the program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could keep on adding money indefinitely – no lim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ay 1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547BA-EDA5-4DDD-A0FB-33B89866EE8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Exceptions and Model Check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ngoing and Future Work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Translating Java </a:t>
            </a:r>
            <a:r>
              <a:rPr b="0" lang="en-US" sz="2400" spc="-1" strike="noStrike">
                <a:solidFill>
                  <a:srgbClr val="ff66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 IEL 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ork in Prog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ser and Most of Translator Exi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 Difficulty in Dealing with Ob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ex data structures, Inheritance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ynamic memory allo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Add Specification Language to IEL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Translate Other Languages (C++, Lisp)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Model Resumption Model of Exceptions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Test on Software with Significant Exceptions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ay 1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10904-5F05-4824-AEA0-0A98A4D8CF3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Exceptions and Model Check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utlin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Why Model Check Exceptions?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Approach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tcha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Example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nding Mach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ay 1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F3E0D-8764-40AD-B38B-491FD684112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Exceptions and Model Check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xceptions in Programming Langu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Raising Exceptions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ow of named/typed exce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tch by nearest matching hand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ceptions may form inheritance hierarch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Clean up” Construct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ally / Unwind-prot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ecuted in both nominal and exceptional situ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Semantics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Tahoma"/>
              </a:rPr>
              <a:t>Termin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C++, Java, Lis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Resump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Mesa, Eiffel, TD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ay 1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F59CD-839D-4210-8EA0-6116B50C7E6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Exceptions and Model Check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hy Hard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Non-Local Flow of Control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Context of “Catch” Frames Determined Dynamically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Clean Up” Construct Adds Additional Pathways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3927600"/>
            <a:ext cx="7772400" cy="18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ahoma"/>
              </a:rPr>
              <a:t>Hard to Reason About All Possible Execution Pa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ahoma"/>
              </a:rPr>
              <a:t>Impossible To Do So Purely Lo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ay 1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E3F72-1225-44E5-8912-299D688757D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Exceptions and Model Check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verview of Our Approach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685800" y="2147760"/>
            <a:ext cx="1722600" cy="970200"/>
            <a:chOff x="685800" y="2147760"/>
            <a:chExt cx="1722600" cy="970200"/>
          </a:xfrm>
        </p:grpSpPr>
        <p:sp>
          <p:nvSpPr>
            <p:cNvPr id="60" name=""/>
            <p:cNvSpPr/>
            <p:nvPr/>
          </p:nvSpPr>
          <p:spPr>
            <a:xfrm>
              <a:off x="977760" y="2206800"/>
              <a:ext cx="113832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66"/>
                  </a:solidFill>
                  <a:latin typeface="Tahoma"/>
                </a:rPr>
                <a:t>Sour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66"/>
                  </a:solidFill>
                  <a:latin typeface="Tahoma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5800" y="2147760"/>
              <a:ext cx="1722600" cy="970200"/>
            </a:xfrm>
            <a:prstGeom prst="rect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2408400" y="2147760"/>
            <a:ext cx="2300040" cy="970200"/>
            <a:chOff x="2408400" y="2147760"/>
            <a:chExt cx="2300040" cy="970200"/>
          </a:xfrm>
        </p:grpSpPr>
        <p:sp>
          <p:nvSpPr>
            <p:cNvPr id="63" name=""/>
            <p:cNvSpPr/>
            <p:nvPr/>
          </p:nvSpPr>
          <p:spPr>
            <a:xfrm>
              <a:off x="2408400" y="2606760"/>
              <a:ext cx="57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2986200" y="2147760"/>
              <a:ext cx="1722240" cy="970200"/>
              <a:chOff x="2986200" y="2147760"/>
              <a:chExt cx="1722240" cy="970200"/>
            </a:xfrm>
          </p:grpSpPr>
          <p:sp>
            <p:nvSpPr>
              <p:cNvPr id="65" name=""/>
              <p:cNvSpPr/>
              <p:nvPr/>
            </p:nvSpPr>
            <p:spPr>
              <a:xfrm>
                <a:off x="3278160" y="2433600"/>
                <a:ext cx="1138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66"/>
                    </a:solidFill>
                    <a:latin typeface="Tahoma"/>
                  </a:rPr>
                  <a:t>IE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986200" y="2147760"/>
                <a:ext cx="1722240" cy="970200"/>
              </a:xfrm>
              <a:prstGeom prst="rect">
                <a:avLst/>
              </a:prstGeom>
              <a:noFill/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" name=""/>
          <p:cNvGrpSpPr/>
          <p:nvPr/>
        </p:nvGrpSpPr>
        <p:grpSpPr>
          <a:xfrm>
            <a:off x="5335560" y="3117960"/>
            <a:ext cx="1722600" cy="1967760"/>
            <a:chOff x="5335560" y="3117960"/>
            <a:chExt cx="1722600" cy="1967760"/>
          </a:xfrm>
        </p:grpSpPr>
        <p:grpSp>
          <p:nvGrpSpPr>
            <p:cNvPr id="68" name=""/>
            <p:cNvGrpSpPr/>
            <p:nvPr/>
          </p:nvGrpSpPr>
          <p:grpSpPr>
            <a:xfrm>
              <a:off x="5335560" y="3554280"/>
              <a:ext cx="1722600" cy="1531440"/>
              <a:chOff x="5335560" y="3554280"/>
              <a:chExt cx="1722600" cy="1531440"/>
            </a:xfrm>
          </p:grpSpPr>
          <p:sp>
            <p:nvSpPr>
              <p:cNvPr id="69" name=""/>
              <p:cNvSpPr/>
              <p:nvPr/>
            </p:nvSpPr>
            <p:spPr>
              <a:xfrm>
                <a:off x="5627520" y="3613320"/>
                <a:ext cx="1138320" cy="147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66"/>
                    </a:solidFill>
                    <a:latin typeface="Tahoma"/>
                  </a:rPr>
                  <a:t>Count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66"/>
                    </a:solidFill>
                    <a:latin typeface="Tahoma"/>
                  </a:rPr>
                  <a:t>Exampl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335560" y="3554280"/>
                <a:ext cx="1722600" cy="970200"/>
              </a:xfrm>
              <a:prstGeom prst="rect">
                <a:avLst/>
              </a:prstGeom>
              <a:noFill/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" name=""/>
            <p:cNvSpPr/>
            <p:nvPr/>
          </p:nvSpPr>
          <p:spPr>
            <a:xfrm>
              <a:off x="6197760" y="3117960"/>
              <a:ext cx="0" cy="43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4708440" y="2147760"/>
            <a:ext cx="2300400" cy="970200"/>
            <a:chOff x="4708440" y="2147760"/>
            <a:chExt cx="2300400" cy="970200"/>
          </a:xfrm>
        </p:grpSpPr>
        <p:sp>
          <p:nvSpPr>
            <p:cNvPr id="73" name=""/>
            <p:cNvSpPr/>
            <p:nvPr/>
          </p:nvSpPr>
          <p:spPr>
            <a:xfrm>
              <a:off x="4708440" y="2606760"/>
              <a:ext cx="57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5286240" y="2147760"/>
              <a:ext cx="1722600" cy="970200"/>
              <a:chOff x="5286240" y="2147760"/>
              <a:chExt cx="1722600" cy="970200"/>
            </a:xfrm>
          </p:grpSpPr>
          <p:sp>
            <p:nvSpPr>
              <p:cNvPr id="75" name=""/>
              <p:cNvSpPr/>
              <p:nvPr/>
            </p:nvSpPr>
            <p:spPr>
              <a:xfrm>
                <a:off x="5578560" y="2433600"/>
                <a:ext cx="1138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66"/>
                    </a:solidFill>
                    <a:latin typeface="Tahoma"/>
                  </a:rPr>
                  <a:t>MOPE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286240" y="2147760"/>
                <a:ext cx="1722600" cy="970200"/>
              </a:xfrm>
              <a:prstGeom prst="rect">
                <a:avLst/>
              </a:prstGeom>
              <a:noFill/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7" name=""/>
          <p:cNvGrpSpPr/>
          <p:nvPr/>
        </p:nvGrpSpPr>
        <p:grpSpPr>
          <a:xfrm>
            <a:off x="2116080" y="3117600"/>
            <a:ext cx="3170160" cy="1606680"/>
            <a:chOff x="2116080" y="3117600"/>
            <a:chExt cx="3170160" cy="1606680"/>
          </a:xfrm>
        </p:grpSpPr>
        <p:sp>
          <p:nvSpPr>
            <p:cNvPr id="78" name=""/>
            <p:cNvSpPr/>
            <p:nvPr/>
          </p:nvSpPr>
          <p:spPr>
            <a:xfrm flipV="1">
              <a:off x="4094280" y="3117600"/>
              <a:ext cx="1191960" cy="74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2116080" y="3754440"/>
              <a:ext cx="1978200" cy="969840"/>
              <a:chOff x="2116080" y="3754440"/>
              <a:chExt cx="1978200" cy="969840"/>
            </a:xfrm>
          </p:grpSpPr>
          <p:sp>
            <p:nvSpPr>
              <p:cNvPr id="80" name=""/>
              <p:cNvSpPr/>
              <p:nvPr/>
            </p:nvSpPr>
            <p:spPr>
              <a:xfrm>
                <a:off x="2174760" y="4039920"/>
                <a:ext cx="1860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0080"/>
                    </a:solidFill>
                    <a:latin typeface="Tahoma"/>
                  </a:rPr>
                  <a:t>Specification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116080" y="3754440"/>
                <a:ext cx="1978200" cy="969840"/>
              </a:xfrm>
              <a:prstGeom prst="rect">
                <a:avLst/>
              </a:prstGeom>
              <a:noFill/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"/>
          <p:cNvSpPr/>
          <p:nvPr/>
        </p:nvSpPr>
        <p:spPr>
          <a:xfrm flipV="1">
            <a:off x="2508120" y="3117960"/>
            <a:ext cx="478080" cy="6364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ay 1,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4E279-E5E4-4EDE-A1EE-F63BA07BB22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Exceptions and Model Check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rmediate Exception Language (IEL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Captures Commonalities of Exception Handling Among Different Languages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Focuses on Control-Flow Constructs Relevant to Reasoning About Exceptions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tch/Throw/Fin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eration and Conditiona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eak and Retur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ign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archical Exce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Minimal Data Representation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value-returning functions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ay 1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177CC-A5B6-42A1-BBFF-354CF29F50C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Exceptions and Model Check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EL Example: Resource Locking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1294920"/>
            <a:ext cx="30020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r locked: int</a:t>
            </a:r>
            <a:endParaRPr b="0" lang="en-US" sz="1800" spc="-1" strike="noStrike">
              <a:solidFill>
                <a:srgbClr val="ff66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ception e1</a:t>
            </a:r>
            <a:endParaRPr b="0" lang="en-US" sz="1800" spc="-1" strike="noStrike">
              <a:solidFill>
                <a:srgbClr val="ff66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cedure </a:t>
            </a:r>
            <a:r>
              <a:rPr b="0" lang="en-US" sz="1800" spc="-1" strike="noStrike">
                <a:solidFill>
                  <a:srgbClr val="800080"/>
                </a:solidFill>
                <a:latin typeface="Tahoma"/>
              </a:rPr>
              <a:t>mai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() {</a:t>
            </a:r>
            <a:endParaRPr b="0" lang="en-US" sz="1800" spc="-1" strike="noStrike">
              <a:solidFill>
                <a:srgbClr val="ff66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cked := 0</a:t>
            </a:r>
            <a:endParaRPr b="0" lang="en-US" sz="1800" spc="-1" strike="noStrike">
              <a:solidFill>
                <a:srgbClr val="ff66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ile true {</a:t>
            </a:r>
            <a:endParaRPr b="0" lang="en-US" sz="1800" spc="-1" strike="noStrike">
              <a:solidFill>
                <a:srgbClr val="ff66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y {</a:t>
            </a:r>
            <a:endParaRPr b="0" lang="en-US" sz="1800" spc="-1" strike="noStrike">
              <a:solidFill>
                <a:srgbClr val="ff66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ck()</a:t>
            </a:r>
            <a:endParaRPr b="0" lang="en-US" sz="1800" spc="-1" strike="noStrike">
              <a:solidFill>
                <a:srgbClr val="ff66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ndomException()</a:t>
            </a:r>
            <a:endParaRPr b="0" lang="en-US" sz="1800" spc="-1" strike="noStrike">
              <a:solidFill>
                <a:srgbClr val="ff66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ock()</a:t>
            </a:r>
            <a:endParaRPr b="0" lang="en-US" sz="1800" spc="-1" strike="noStrike">
              <a:solidFill>
                <a:srgbClr val="ff66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 catch e1 {</a:t>
            </a:r>
            <a:endParaRPr b="0" lang="en-US" sz="1800" spc="-1" strike="noStrike">
              <a:solidFill>
                <a:srgbClr val="ff66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* unlock() */</a:t>
            </a:r>
            <a:endParaRPr b="0" lang="en-US" sz="1800" spc="-1" strike="noStrike">
              <a:solidFill>
                <a:srgbClr val="ff66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ff66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ff66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ff66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4335480" y="1295280"/>
            <a:ext cx="36478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cedure </a:t>
            </a:r>
            <a:r>
              <a:rPr b="0" lang="en-US" sz="1800" spc="-1" strike="noStrike">
                <a:solidFill>
                  <a:srgbClr val="800080"/>
                </a:solidFill>
                <a:latin typeface="Tahoma"/>
              </a:rPr>
              <a:t>lock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f locked = 1 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rro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f locked = 0 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cked :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cedure </a:t>
            </a:r>
            <a:r>
              <a:rPr b="0" lang="en-US" sz="1800" spc="-1" strike="noStrike">
                <a:solidFill>
                  <a:srgbClr val="800080"/>
                </a:solidFill>
                <a:latin typeface="Tahoma"/>
              </a:rPr>
              <a:t>randomExceptio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f (p) throw e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ay 1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594FE-6250-4AE0-88E9-7BE96DB1D9B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Exceptions and Model Check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OP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Model Checker for Push-Down Automata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efan Schwoon’s PhD The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ymbolic Model Check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s Procedures with Local Variab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Explicitly Handle Frame Axio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Verifies LTL State Reachability Formulae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ly cannot handle LTL formulae involving variab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66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Minimal Data Representation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ay 1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BF11C-06EE-4427-AB42-51474F31CFB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Exceptions and Model Check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anslating IEL </a:t>
            </a: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MOP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Create </a:t>
            </a:r>
            <a:r>
              <a:rPr b="0" i="1" lang="en-US" sz="2400" spc="-1" strike="noStrike">
                <a:solidFill>
                  <a:srgbClr val="800080"/>
                </a:solidFill>
                <a:latin typeface="Tahoma"/>
              </a:rPr>
              <a:t>Local</a:t>
            </a: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 Translation Rules for Each IEL Construct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Assign ( x := y)</a:t>
            </a:r>
            <a:endParaRPr b="0" lang="en-US" sz="1800" spc="-1" strike="noStrike">
              <a:solidFill>
                <a:srgbClr val="ff6600"/>
              </a:solidFill>
              <a:latin typeface="Tahoma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 &lt;procN&gt; --&gt; q &lt;procN+1&gt; (x’ = y &amp; frameAllExcept(x)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Conditional ( if p then stmt)</a:t>
            </a:r>
            <a:endParaRPr b="0" lang="en-US" sz="1800" spc="-1" strike="noStrike">
              <a:solidFill>
                <a:srgbClr val="ff6600"/>
              </a:solidFill>
              <a:latin typeface="Tahoma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 &lt;procN&gt; --&gt; q &lt;procN+1&gt; “if true” (p = 1 &amp; frameAll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 &lt;procN&gt; --&gt; q &lt;procN’&gt; “if false” (p = 0 &amp; frameAll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mt…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&lt;procN’&gt; …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Throw ( throw ex)</a:t>
            </a:r>
            <a:endParaRPr b="0" lang="en-US" sz="1800" spc="-1" strike="noStrike">
              <a:solidFill>
                <a:srgbClr val="ff6600"/>
              </a:solidFill>
              <a:latin typeface="Tahoma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 &lt;procN&gt; --&gt; q &lt;procEx&gt; (ex’ = 1 &amp; …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Try/Catch ( try { tryblock } catch ex { catchblock})</a:t>
            </a:r>
            <a:endParaRPr b="0" lang="en-US" sz="1800" spc="-1" strike="noStrike">
              <a:solidFill>
                <a:srgbClr val="ff6600"/>
              </a:solidFill>
              <a:latin typeface="Tahoma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 &lt;procN&gt; --&gt; q&lt;procTry&gt; “jump past catch” (frameAll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 &lt;procEx&gt; --&gt; q&lt;procCatch&gt; “caught ex” (ex = 1 &amp; …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 &lt;procEx&gt; --&gt; q&lt;procN&gt; “didn’t catch ex” (ex = 0 &amp; …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atchBlock translation…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yBlock translation…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 &lt;procN&gt; …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ay 1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B6C33-A162-493D-8BE7-D8B8F1D7378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Exceptions and Model Check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9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9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9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9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9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9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4T03:55:44Z</dcterms:created>
  <dc:creator>snooze</dc:creator>
  <dc:description/>
  <dc:language>en-US</dc:language>
  <cp:lastModifiedBy>Reid Simmons</cp:lastModifiedBy>
  <cp:lastPrinted>1999-08-28T18:05:51Z</cp:lastPrinted>
  <dcterms:modified xsi:type="dcterms:W3CDTF">2003-05-01T13:40:40Z</dcterms:modified>
  <cp:revision>388</cp:revision>
  <dc:subject/>
  <dc:title>Theory Generation for Security Protocols</dc:title>
</cp:coreProperties>
</file>