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100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7720" y="0"/>
            <a:ext cx="30513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26880" y="688680"/>
            <a:ext cx="459252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6040"/>
            <a:ext cx="305100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7720" y="8726040"/>
            <a:ext cx="305136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0E6AA53-CC98-4EAA-84F3-784223AA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4960" y="5105520"/>
            <a:ext cx="4230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272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S: 14; RHS: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6400" y="5105520"/>
            <a:ext cx="4227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Can handle probabilistic CTL and knowledge at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urier New"/>
              </a:rPr>
              <a:t>&gt;0.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25440" y="68904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7800" y="4362120"/>
            <a:ext cx="5162760" cy="41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0B0D-4F67-4B03-9651-8C999EC6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EE13-AC71-488F-9C27-9C607A1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89FE-DB63-40E2-BB36-CB18318E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909A-3BE6-4C61-804D-E3DE14CC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E799-70BC-4D18-8CC0-4D48438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50D1-A76B-41D1-BAC0-B2CAD0EA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4E74-336A-4201-A4D9-32C4C782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7504-CE6E-477E-88E9-2F000BC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4EF1-FF12-4280-A6F4-D4EBDF00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B994-62A8-4275-8CFE-8BA8F1CE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2880-B284-45FC-A0C3-D79A475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C3D0-E71C-40C5-A713-F039222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20832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8403-08FA-402D-9DA1-512AED40D741}" type="slidenum">
              <a:rPr b="0" lang="en-US" sz="9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5732280" y="6324120"/>
            <a:ext cx="2725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asoning About Exceptions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ing Model Che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34960" y="4683240"/>
            <a:ext cx="64008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omputer Science Department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Carnegie Mellon University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Tahoma"/>
              </a:rPr>
              <a:t>Pittsburgh, PA</a:t>
            </a: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2976480"/>
            <a:ext cx="653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d Simm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Gar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annette M. W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rge Fairbanks, Gil Tolle, Balaji Sarpeshkar, Joe Ji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otcha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ception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(Nested)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 and Return Statem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D326-A245-418C-ACAA-01DA6FD7CD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Exception Hierarch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95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 extends e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0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Preprocess IEL Code to Determine Hierarch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row” Explicitly Sets Exception and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ts Parent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Ex&gt; (e1’ = 1 &amp; e0’ = 1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atching “Catch” Clears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&lt;procN&gt; --&gt; q &lt;procN+1&gt; (e0’ = 0 &amp; e1’ = 0 &amp; e2’ = 0 &amp;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C5D3-9FA3-4CE3-8844-6DB5FB47AC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 the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 x := x / 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= x +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tore State of Exceptions Upon Enter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estore Exception State at End of Finally Block, Unless a New Exception Was Raised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2CF5-0E6B-414D-A9E9-E873B4BDD6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ested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inally Bloc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8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 p then throw e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tore State of Exceptions Upon Entering Finally 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Plus Keep Track of “nesting level” and “exception level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Increment “nesting level” on Entering, and Decrement on Exit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lear All Exceptions Before Executing Finally Block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Before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Entering Finally Block with an Exception,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Set “exception level” to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Propagate Exception on Exit if “exception level” equals “nesting level”</a:t>
            </a: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4200" y="16686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13840" y="23083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28200" y="27385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4000" y="317016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4920" y="16794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9240" y="234000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EL = 1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45960" y="10764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ahoma"/>
              </a:rPr>
              <a:t>NL = 0; EL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1720" y="1298520"/>
            <a:ext cx="3269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finall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row 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 catch e2 {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ly {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E270-BEDA-4265-8452-2659BD4A80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deling Break and Return State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Break” and “Return” Interact in Interesting Ways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ith Exceptions and Finally Block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68600" y="5429160"/>
            <a:ext cx="760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Approach: Treat “Break” and “Return” as Exceptions 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at do not Propagat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6076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2043000"/>
            <a:ext cx="2579760" cy="73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hile (x &lt; 5) </a:t>
            </a: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if x = 3 then </a:t>
            </a: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hrow 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00cc99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try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rea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300" spc="-1" strike="noStrike">
                <a:solidFill>
                  <a:srgbClr val="800080"/>
                </a:solidFill>
                <a:latin typeface="Tahoma"/>
              </a:rPr>
              <a:t>}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finally </a:t>
            </a:r>
            <a:r>
              <a:rPr b="0" lang="en-US" sz="13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*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200" spc="-1" strike="noStrike">
                <a:solidFill>
                  <a:srgbClr val="00cc99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66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} catch e1 {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+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x := x -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D6B9-1732-4CE7-892C-C9C184D4B5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ample: Vending Mach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of Vending Machin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vends product, if it has that product in stock and sufficient $$ put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Java program that has significant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SE article by Sinha &amp; Harr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y that if Money is Put in the Machine, Eventually it will either Return Money or Vend Prod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analysis is insuffic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-coded IEL program from Java sourc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I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PED trans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 bug in the pro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ould keep on adding money indefinitely – no lim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F3B4-BA75-4C91-AA73-414785D6E5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ngoing and Future Wor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ing Java </a:t>
            </a: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EL 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in Prog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ser and Most of Translator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 Difficulty in Dealing with Ob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x data structures, Inheritanc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memory al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dd Specification Language to IE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ranslate Other Languages (C++, Lisp)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Resumption Model of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est on Software with Significan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462-1A90-4824-8044-A39E2D7D71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Why Model Check Exceptions?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Approach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tch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ding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3025-9D00-423F-95B3-FC1B0610F8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ceptions in Programming Langu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Raising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w of named/typed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by nearest matching hand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 may form inheritance hierarc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ly / Unwind-pro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d in both nominal and exceptional sit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emantic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Termin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Java, Lis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Resum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esa, Eiffel, T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DF58-51C2-4F04-9589-1EB795D262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hy Har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n-Local Flow of Control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ontext of “Catch” Frames Determined Dynamically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lean Up” Construct Adds Additional Pathway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27600"/>
            <a:ext cx="77724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Hard to Reason About All Possible Execution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Impossible To Do So Purely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7128-A28D-4536-A07C-18CD053457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view of Our Approac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2147760"/>
            <a:ext cx="1722600" cy="970200"/>
            <a:chOff x="685800" y="2147760"/>
            <a:chExt cx="1722600" cy="970200"/>
          </a:xfrm>
        </p:grpSpPr>
        <p:sp>
          <p:nvSpPr>
            <p:cNvPr id="60" name=""/>
            <p:cNvSpPr/>
            <p:nvPr/>
          </p:nvSpPr>
          <p:spPr>
            <a:xfrm>
              <a:off x="977760" y="2206800"/>
              <a:ext cx="11383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2147760"/>
              <a:ext cx="1722600" cy="9702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08400" y="2147760"/>
            <a:ext cx="2300040" cy="970200"/>
            <a:chOff x="2408400" y="2147760"/>
            <a:chExt cx="2300040" cy="970200"/>
          </a:xfrm>
        </p:grpSpPr>
        <p:sp>
          <p:nvSpPr>
            <p:cNvPr id="63" name=""/>
            <p:cNvSpPr/>
            <p:nvPr/>
          </p:nvSpPr>
          <p:spPr>
            <a:xfrm>
              <a:off x="240840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986200" y="2147760"/>
              <a:ext cx="1722240" cy="970200"/>
              <a:chOff x="2986200" y="2147760"/>
              <a:chExt cx="1722240" cy="970200"/>
            </a:xfrm>
          </p:grpSpPr>
          <p:sp>
            <p:nvSpPr>
              <p:cNvPr id="65" name=""/>
              <p:cNvSpPr/>
              <p:nvPr/>
            </p:nvSpPr>
            <p:spPr>
              <a:xfrm>
                <a:off x="32781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I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86200" y="2147760"/>
                <a:ext cx="172224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5335560" y="3117960"/>
            <a:ext cx="1722600" cy="1967760"/>
            <a:chOff x="5335560" y="3117960"/>
            <a:chExt cx="1722600" cy="1967760"/>
          </a:xfrm>
        </p:grpSpPr>
        <p:grpSp>
          <p:nvGrpSpPr>
            <p:cNvPr id="68" name=""/>
            <p:cNvGrpSpPr/>
            <p:nvPr/>
          </p:nvGrpSpPr>
          <p:grpSpPr>
            <a:xfrm>
              <a:off x="5335560" y="3554280"/>
              <a:ext cx="1722600" cy="1531440"/>
              <a:chOff x="5335560" y="3554280"/>
              <a:chExt cx="1722600" cy="1531440"/>
            </a:xfrm>
          </p:grpSpPr>
          <p:sp>
            <p:nvSpPr>
              <p:cNvPr id="69" name=""/>
              <p:cNvSpPr/>
              <p:nvPr/>
            </p:nvSpPr>
            <p:spPr>
              <a:xfrm>
                <a:off x="5627520" y="3613320"/>
                <a:ext cx="1138320" cy="14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Coun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Examp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335560" y="355428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197760" y="3117960"/>
              <a:ext cx="0" cy="4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08440" y="2147760"/>
            <a:ext cx="2300400" cy="970200"/>
            <a:chOff x="4708440" y="2147760"/>
            <a:chExt cx="2300400" cy="970200"/>
          </a:xfrm>
        </p:grpSpPr>
        <p:sp>
          <p:nvSpPr>
            <p:cNvPr id="73" name=""/>
            <p:cNvSpPr/>
            <p:nvPr/>
          </p:nvSpPr>
          <p:spPr>
            <a:xfrm>
              <a:off x="4708440" y="260676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286240" y="2147760"/>
              <a:ext cx="1722600" cy="970200"/>
              <a:chOff x="5286240" y="2147760"/>
              <a:chExt cx="1722600" cy="970200"/>
            </a:xfrm>
          </p:grpSpPr>
          <p:sp>
            <p:nvSpPr>
              <p:cNvPr id="75" name=""/>
              <p:cNvSpPr/>
              <p:nvPr/>
            </p:nvSpPr>
            <p:spPr>
              <a:xfrm>
                <a:off x="5578560" y="2433600"/>
                <a:ext cx="113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66"/>
                    </a:solidFill>
                    <a:latin typeface="Tahoma"/>
                  </a:rPr>
                  <a:t>MOP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286240" y="2147760"/>
                <a:ext cx="1722600" cy="970200"/>
              </a:xfrm>
              <a:prstGeom prst="rect">
                <a:avLst/>
              </a:prstGeom>
              <a:noFill/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116080" y="3117600"/>
            <a:ext cx="3170160" cy="1606680"/>
            <a:chOff x="2116080" y="3117600"/>
            <a:chExt cx="3170160" cy="1606680"/>
          </a:xfrm>
        </p:grpSpPr>
        <p:sp>
          <p:nvSpPr>
            <p:cNvPr id="78" name=""/>
            <p:cNvSpPr/>
            <p:nvPr/>
          </p:nvSpPr>
          <p:spPr>
            <a:xfrm flipV="1">
              <a:off x="4094280" y="3117600"/>
              <a:ext cx="1191960" cy="74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116080" y="3754440"/>
              <a:ext cx="1978200" cy="969840"/>
              <a:chOff x="2116080" y="3754440"/>
              <a:chExt cx="1978200" cy="969840"/>
            </a:xfrm>
          </p:grpSpPr>
          <p:sp>
            <p:nvSpPr>
              <p:cNvPr id="80" name=""/>
              <p:cNvSpPr/>
              <p:nvPr/>
            </p:nvSpPr>
            <p:spPr>
              <a:xfrm>
                <a:off x="2174760" y="4039920"/>
                <a:ext cx="186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ahoma"/>
                  </a:rPr>
                  <a:t>Specif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16080" y="3754440"/>
                <a:ext cx="1978200" cy="96984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 flipV="1">
            <a:off x="2508120" y="3117960"/>
            <a:ext cx="478080" cy="6364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C26A-5E36-4595-A7AC-748FAF7CF4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rmediate Exception Language (IEL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aptures Commonalities of Exception Handling Among Different Language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Focuses on Control-Flow Constructs Relevant to Reasoning About Exceptions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/Throw/Fin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on and Conditio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and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archical 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value-returning functions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4713-9AD5-48FE-A128-8423BB4758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EL Example: Resource Lock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002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ocked: int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ception e1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0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true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Exception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ock(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catch e1 {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unlock() */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35480" y="1295280"/>
            <a:ext cx="3647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1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locked = 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ked :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randomExcep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p) throw 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137C-B0EC-4275-8696-EF20AC9322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odel Checker for Push-Down Automata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efan Schwoon’s PhD The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mbolic Model Che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Procedures with Local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Explicitly Handle Frame Axi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erifies LTL State Reachability Formulae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ly cannot handle LTL formulae involving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66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Minimal Data Representation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6D5D-607D-4019-94F0-CA76FFA37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anslating IE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MOP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reate </a:t>
            </a:r>
            <a:r>
              <a:rPr b="0" i="1" lang="en-US" sz="2400" spc="-1" strike="noStrike">
                <a:solidFill>
                  <a:srgbClr val="800080"/>
                </a:solidFill>
                <a:latin typeface="Tahoma"/>
              </a:rPr>
              <a:t>Local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Translation Rules for Each IEL Construct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Assign ( x := y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(x’ = y &amp; frameAllExcept(x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onditional ( if p then stmt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+1&gt; “if true” (p = 1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N’&gt; “if false” (p = 0 &amp; 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mt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&lt;procN’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hrow ( throw ex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 &lt;procEx&gt; (ex’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Try/Catch ( try { tryblock } catch ex { catchblock})</a:t>
            </a:r>
            <a:endParaRPr b="0" lang="en-US" sz="1800" spc="-1" strike="noStrike">
              <a:solidFill>
                <a:srgbClr val="ff66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--&gt; q&lt;procTry&gt; “jump past catch” (frameAl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Catch&gt; “caught ex” (ex = 1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Ex&gt; --&gt; q&lt;procN&gt; “didn’t catch ex” (ex = 0 &amp; …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tch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yBlock translation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&lt;procN&gt; 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ay 1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F4A6-7F15-4370-BF34-16D476919C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Exceptions and Model Chec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03:55:44Z</dcterms:created>
  <dc:creator>snooze</dc:creator>
  <dc:description/>
  <dc:language>en-US</dc:language>
  <cp:lastModifiedBy>Reid Simmons</cp:lastModifiedBy>
  <cp:lastPrinted>1999-08-28T18:05:51Z</cp:lastPrinted>
  <dcterms:modified xsi:type="dcterms:W3CDTF">2003-05-01T13:40:40Z</dcterms:modified>
  <cp:revision>388</cp:revision>
  <dc:subject/>
  <dc:title>Theory Generation for Security Protocols</dc:title>
</cp:coreProperties>
</file>