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32B7-A835-467E-990E-4689C7082EB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910800" y="4330800"/>
            <a:ext cx="503244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Img"/>
          </p:nvPr>
        </p:nvSpPr>
        <p:spPr>
          <a:xfrm>
            <a:off x="1158840" y="690120"/>
            <a:ext cx="4540320" cy="3405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c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884760" y="866124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82960" y="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82960" y="866124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0800" y="4330800"/>
            <a:ext cx="503244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lo, and thank you all for co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name is Oleg Sheyner.  I am a graduate student working with Jeannette Wing, and she invited me here to give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let’s jump right into i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c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0800" y="4330800"/>
            <a:ext cx="503244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n attack graph produced a few years ago by a professional Red Team as part of a DARPA stu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 flows from left to right; the initial nodes on the left represent the state of the network be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penetration has occurred.  Each edge in the graph corresponds to a penetration step taken by a hypothe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uder, leading to another node that represents the new state of the network, and so on until the intru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hes his goal.  A single path from a node on the left to a node on the right represents a sequen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ack steps executed by the intruder in the course of the att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graph was created by hand [c], which as you can imagine can be a tedious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0800" y="4330800"/>
            <a:ext cx="503244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gin, define more precisely what we meant by ‘attack’, ‘attack scenario’, and ‘attack graph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0800" y="4330800"/>
            <a:ext cx="503244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rable properties for automatically-generated attack gra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0800" y="4330800"/>
            <a:ext cx="503244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attack graphs are useful, but generating them by hand is less than ideal.  The process is labor-intensive, error-pron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mpractical for large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c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 would like is to generate such graphs automatically, and then get the computer to help the system administrator with post-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is ta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c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ally, we’d like generation to be fast, automatic, and scalable.  Further, the attack graphs that we produce should neither mi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ack scenarios nor include states that do not figure in any scenar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1EF5-81E3-48A9-90AE-FB473EA00CC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method consists of two phases.  In the first phase we create an appropriate model of the network and specify 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ity property that we desire to hold.  The model and the property are handed off to a generator that creates an attack grap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ing all attack scenarios that lead to a violation of the security prop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c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second phase the raw attack graph may be annotated with additional relevant information and handed off to vari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is tools.  I will cover some of the analyses to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0800" y="4330800"/>
            <a:ext cx="503244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c attack graph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33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33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33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583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583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583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33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-360"/>
            <a:ext cx="7086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33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33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33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c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238c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lvl="1" marL="861840" indent="-341280">
              <a:lnSpc>
                <a:spcPct val="90000"/>
              </a:lnSpc>
              <a:spcBef>
                <a:spcPts val="624"/>
              </a:spcBef>
              <a:buClr>
                <a:srgbClr val="0238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lvl="2" marL="1204920" indent="-228600">
              <a:lnSpc>
                <a:spcPct val="90000"/>
              </a:lnSpc>
              <a:spcBef>
                <a:spcPts val="624"/>
              </a:spcBef>
              <a:buClr>
                <a:srgbClr val="0238c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lvl="3" marL="1546200" indent="-119160">
              <a:lnSpc>
                <a:spcPct val="90000"/>
              </a:lnSpc>
              <a:spcBef>
                <a:spcPts val="624"/>
              </a:spcBef>
              <a:buClr>
                <a:srgbClr val="0238c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lvl="4" marL="1828800">
              <a:lnSpc>
                <a:spcPct val="90000"/>
              </a:lnSpc>
              <a:spcBef>
                <a:spcPts val="624"/>
              </a:spcBef>
              <a:buClr>
                <a:srgbClr val="0238c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lvl="5" marL="18288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lvl="6" marL="18288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228600" y="76320"/>
            <a:ext cx="838080" cy="9954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528120" y="6553080"/>
            <a:ext cx="31417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ff"/>
                </a:solidFill>
                <a:latin typeface="Arial"/>
              </a:rPr>
              <a:t>Generation of Scenario Graphs Using Model Check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414200" y="6553080"/>
            <a:ext cx="11102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ff"/>
                </a:solidFill>
                <a:latin typeface="Arial"/>
              </a:rPr>
              <a:t>HCES 05/01/2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6.png"/><Relationship Id="rId13" Type="http://schemas.openxmlformats.org/officeDocument/2006/relationships/image" Target="../media/image12.jpe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587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38c0"/>
                </a:solidFill>
                <a:latin typeface="Arial"/>
              </a:rPr>
              <a:t>Generation of Scenario Graphs Using Model Checking</a:t>
            </a:r>
            <a:endParaRPr b="1" lang="en-US" sz="3600" spc="-1" strike="noStrike">
              <a:solidFill>
                <a:srgbClr val="0238c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238c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Somesh Jha (University of Wisconsin), Oleg Sheyner (CMU),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Jeannette Wing (CMU)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c0"/>
                </a:solidFill>
                <a:latin typeface="Arial"/>
              </a:rPr>
              <a:t>Explicit-State Algorithm (Cont.)</a:t>
            </a: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4416480"/>
            <a:ext cx="384120" cy="384120"/>
          </a:xfrm>
          <a:prstGeom prst="ellipse">
            <a:avLst/>
          </a:prstGeom>
          <a:noFill/>
          <a:ln w="19080">
            <a:solidFill>
              <a:srgbClr val="0238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38c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52480" y="1981080"/>
            <a:ext cx="384120" cy="384120"/>
          </a:xfrm>
          <a:prstGeom prst="ellipse">
            <a:avLst/>
          </a:prstGeom>
          <a:noFill/>
          <a:ln w="19080">
            <a:solidFill>
              <a:srgbClr val="0238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38c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3581280"/>
            <a:ext cx="384120" cy="384120"/>
          </a:xfrm>
          <a:prstGeom prst="ellipse">
            <a:avLst/>
          </a:prstGeom>
          <a:noFill/>
          <a:ln w="19080">
            <a:solidFill>
              <a:srgbClr val="0238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38c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2743200"/>
            <a:ext cx="384120" cy="384120"/>
          </a:xfrm>
          <a:prstGeom prst="ellipse">
            <a:avLst/>
          </a:prstGeom>
          <a:noFill/>
          <a:ln w="19080">
            <a:solidFill>
              <a:srgbClr val="0238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38c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43000" y="1752480"/>
            <a:ext cx="304920" cy="990720"/>
          </a:xfrm>
          <a:prstGeom prst="line">
            <a:avLst/>
          </a:prstGeom>
          <a:ln w="19080">
            <a:solidFill>
              <a:srgbClr val="0238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2057040" y="1752480"/>
            <a:ext cx="228600" cy="304920"/>
          </a:xfrm>
          <a:prstGeom prst="line">
            <a:avLst/>
          </a:prstGeom>
          <a:ln w="19080">
            <a:solidFill>
              <a:srgbClr val="0238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523520" y="2362320"/>
            <a:ext cx="304920" cy="380880"/>
          </a:xfrm>
          <a:prstGeom prst="line">
            <a:avLst/>
          </a:prstGeom>
          <a:ln w="19080">
            <a:solidFill>
              <a:srgbClr val="0238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9080">
            <a:solidFill>
              <a:srgbClr val="0238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38280" y="3962520"/>
            <a:ext cx="0" cy="457200"/>
          </a:xfrm>
          <a:prstGeom prst="line">
            <a:avLst/>
          </a:prstGeom>
          <a:ln w="19080">
            <a:solidFill>
              <a:srgbClr val="0238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362320" y="4800240"/>
            <a:ext cx="228600" cy="228960"/>
            <a:chOff x="2362320" y="4800240"/>
            <a:chExt cx="228600" cy="228960"/>
          </a:xfrm>
        </p:grpSpPr>
        <p:sp>
          <p:nvSpPr>
            <p:cNvPr id="233" name=""/>
            <p:cNvSpPr/>
            <p:nvPr/>
          </p:nvSpPr>
          <p:spPr>
            <a:xfrm>
              <a:off x="2362320" y="4800600"/>
              <a:ext cx="0" cy="22860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362320" y="5029200"/>
              <a:ext cx="228600" cy="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2590920" y="4800240"/>
              <a:ext cx="0" cy="22860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200400" y="3578400"/>
            <a:ext cx="384120" cy="384120"/>
          </a:xfrm>
          <a:prstGeom prst="ellipse">
            <a:avLst/>
          </a:prstGeom>
          <a:noFill/>
          <a:ln w="19080">
            <a:solidFill>
              <a:srgbClr val="0238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38c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52680" y="3124080"/>
            <a:ext cx="0" cy="457200"/>
          </a:xfrm>
          <a:prstGeom prst="line">
            <a:avLst/>
          </a:prstGeom>
          <a:ln w="19080">
            <a:solidFill>
              <a:srgbClr val="0238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276720" y="3962160"/>
            <a:ext cx="228600" cy="228960"/>
            <a:chOff x="3276720" y="3962160"/>
            <a:chExt cx="228600" cy="228960"/>
          </a:xfrm>
        </p:grpSpPr>
        <p:sp>
          <p:nvSpPr>
            <p:cNvPr id="239" name=""/>
            <p:cNvSpPr/>
            <p:nvPr/>
          </p:nvSpPr>
          <p:spPr>
            <a:xfrm>
              <a:off x="3276720" y="3962520"/>
              <a:ext cx="0" cy="22860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76720" y="4191120"/>
              <a:ext cx="228600" cy="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3505320" y="3962160"/>
              <a:ext cx="0" cy="22860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371600" y="3123720"/>
            <a:ext cx="228600" cy="228960"/>
            <a:chOff x="1371600" y="3123720"/>
            <a:chExt cx="228600" cy="228960"/>
          </a:xfrm>
        </p:grpSpPr>
        <p:sp>
          <p:nvSpPr>
            <p:cNvPr id="243" name=""/>
            <p:cNvSpPr/>
            <p:nvPr/>
          </p:nvSpPr>
          <p:spPr>
            <a:xfrm>
              <a:off x="1371600" y="3124080"/>
              <a:ext cx="0" cy="22860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71600" y="3352680"/>
              <a:ext cx="228600" cy="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1600200" y="3123720"/>
              <a:ext cx="0" cy="22860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914400" y="1371600"/>
            <a:ext cx="384120" cy="384120"/>
          </a:xfrm>
          <a:prstGeom prst="ellipse">
            <a:avLst/>
          </a:prstGeom>
          <a:noFill/>
          <a:ln w="1908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38c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95280" y="3578400"/>
            <a:ext cx="384120" cy="384120"/>
          </a:xfrm>
          <a:prstGeom prst="ellipse">
            <a:avLst/>
          </a:prstGeom>
          <a:solidFill>
            <a:srgbClr val="ff00ff"/>
          </a:solidFill>
          <a:ln w="19080">
            <a:solidFill>
              <a:srgbClr val="0238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38c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2760" y="2743200"/>
            <a:ext cx="384120" cy="384120"/>
          </a:xfrm>
          <a:prstGeom prst="ellipse">
            <a:avLst/>
          </a:prstGeom>
          <a:solidFill>
            <a:srgbClr val="ff00ff"/>
          </a:solidFill>
          <a:ln w="19080">
            <a:solidFill>
              <a:srgbClr val="0238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38c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2971440" y="2286000"/>
            <a:ext cx="304920" cy="457200"/>
          </a:xfrm>
          <a:prstGeom prst="line">
            <a:avLst/>
          </a:prstGeom>
          <a:ln w="19080">
            <a:solidFill>
              <a:srgbClr val="0238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599840" y="3048120"/>
            <a:ext cx="762120" cy="609480"/>
          </a:xfrm>
          <a:prstGeom prst="line">
            <a:avLst/>
          </a:prstGeom>
          <a:ln w="19080">
            <a:solidFill>
              <a:srgbClr val="0238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3430080" y="2514600"/>
            <a:ext cx="228600" cy="304920"/>
          </a:xfrm>
          <a:prstGeom prst="line">
            <a:avLst/>
          </a:prstGeom>
          <a:ln w="19080">
            <a:solidFill>
              <a:srgbClr val="0238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66880" y="1981080"/>
            <a:ext cx="384120" cy="384120"/>
          </a:xfrm>
          <a:prstGeom prst="ellipse">
            <a:avLst/>
          </a:prstGeom>
          <a:noFill/>
          <a:ln w="19080">
            <a:solidFill>
              <a:srgbClr val="0238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38c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24080" y="2743200"/>
            <a:ext cx="384120" cy="384120"/>
          </a:xfrm>
          <a:prstGeom prst="ellipse">
            <a:avLst/>
          </a:prstGeom>
          <a:noFill/>
          <a:ln w="19080">
            <a:solidFill>
              <a:srgbClr val="0238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38c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14600" y="1752480"/>
            <a:ext cx="228600" cy="304920"/>
          </a:xfrm>
          <a:prstGeom prst="line">
            <a:avLst/>
          </a:prstGeom>
          <a:ln w="19080">
            <a:solidFill>
              <a:srgbClr val="0238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2514240" y="2362320"/>
            <a:ext cx="228600" cy="380880"/>
          </a:xfrm>
          <a:prstGeom prst="line">
            <a:avLst/>
          </a:prstGeom>
          <a:ln w="19080">
            <a:solidFill>
              <a:srgbClr val="0238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6880" y="2895480"/>
            <a:ext cx="457200" cy="0"/>
          </a:xfrm>
          <a:prstGeom prst="line">
            <a:avLst/>
          </a:prstGeom>
          <a:ln w="19080">
            <a:solidFill>
              <a:srgbClr val="0238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371600" y="3962160"/>
            <a:ext cx="228600" cy="228960"/>
            <a:chOff x="1371600" y="3962160"/>
            <a:chExt cx="228600" cy="228960"/>
          </a:xfrm>
        </p:grpSpPr>
        <p:sp>
          <p:nvSpPr>
            <p:cNvPr id="258" name=""/>
            <p:cNvSpPr/>
            <p:nvPr/>
          </p:nvSpPr>
          <p:spPr>
            <a:xfrm>
              <a:off x="1371600" y="3962520"/>
              <a:ext cx="0" cy="22860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371600" y="4191120"/>
              <a:ext cx="228600" cy="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1600200" y="3962160"/>
              <a:ext cx="0" cy="22860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3578400" y="2135160"/>
            <a:ext cx="384120" cy="384120"/>
          </a:xfrm>
          <a:prstGeom prst="ellipse">
            <a:avLst/>
          </a:prstGeom>
          <a:noFill/>
          <a:ln w="1908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38c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05000" y="1373040"/>
            <a:ext cx="384120" cy="384480"/>
          </a:xfrm>
          <a:prstGeom prst="ellipse">
            <a:avLst/>
          </a:prstGeom>
          <a:noFill/>
          <a:ln w="1908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38c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47520" y="1066680"/>
            <a:ext cx="400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Find </a:t>
            </a:r>
            <a:r>
              <a:rPr b="1" lang="en-US" sz="1800" spc="-1" strike="noStrike">
                <a:solidFill>
                  <a:srgbClr val="00ae00"/>
                </a:solidFill>
                <a:latin typeface="Arial"/>
              </a:rPr>
              <a:t>strongly conn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</a:rPr>
              <a:t>components 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SCCs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)  (R. Tarjan ’7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51200" y="1905120"/>
            <a:ext cx="416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Collect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SCCs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 with acceptance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4495680" y="3657600"/>
            <a:ext cx="2212920" cy="2209680"/>
            <a:chOff x="4495680" y="3657600"/>
            <a:chExt cx="2212920" cy="2209680"/>
          </a:xfrm>
        </p:grpSpPr>
        <p:sp>
          <p:nvSpPr>
            <p:cNvPr id="266" name=""/>
            <p:cNvSpPr/>
            <p:nvPr/>
          </p:nvSpPr>
          <p:spPr>
            <a:xfrm>
              <a:off x="4495680" y="5254560"/>
              <a:ext cx="384120" cy="384120"/>
            </a:xfrm>
            <a:prstGeom prst="ellipse">
              <a:avLst/>
            </a:prstGeom>
            <a:solidFill>
              <a:srgbClr val="ff00ff"/>
            </a:solidFill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238c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83160" y="4419720"/>
              <a:ext cx="384120" cy="384120"/>
            </a:xfrm>
            <a:prstGeom prst="ellipse">
              <a:avLst/>
            </a:prstGeom>
            <a:solidFill>
              <a:srgbClr val="ff00ff"/>
            </a:solidFill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238c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6171840" y="3962520"/>
              <a:ext cx="304920" cy="45720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67280" y="3657600"/>
              <a:ext cx="384120" cy="384120"/>
            </a:xfrm>
            <a:prstGeom prst="ellipse">
              <a:avLst/>
            </a:prstGeom>
            <a:noFill/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238c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24480" y="4419720"/>
              <a:ext cx="384120" cy="384120"/>
            </a:xfrm>
            <a:prstGeom prst="ellipse">
              <a:avLst/>
            </a:prstGeom>
            <a:noFill/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238c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5714640" y="4038480"/>
              <a:ext cx="228600" cy="38124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67280" y="4572000"/>
              <a:ext cx="457200" cy="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4572000" y="5638320"/>
              <a:ext cx="228600" cy="228960"/>
              <a:chOff x="4572000" y="5638320"/>
              <a:chExt cx="228600" cy="228960"/>
            </a:xfrm>
          </p:grpSpPr>
          <p:sp>
            <p:nvSpPr>
              <p:cNvPr id="274" name=""/>
              <p:cNvSpPr/>
              <p:nvPr/>
            </p:nvSpPr>
            <p:spPr>
              <a:xfrm>
                <a:off x="4572000" y="5638680"/>
                <a:ext cx="0" cy="22860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572000" y="5867280"/>
                <a:ext cx="228600" cy="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4800600" y="5638320"/>
                <a:ext cx="0" cy="22860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7" name=""/>
          <p:cNvSpPr/>
          <p:nvPr/>
        </p:nvSpPr>
        <p:spPr>
          <a:xfrm>
            <a:off x="5029920" y="2452680"/>
            <a:ext cx="32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Add paths from initial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4800240" y="3048120"/>
            <a:ext cx="2362680" cy="2284200"/>
            <a:chOff x="4800240" y="3048120"/>
            <a:chExt cx="2362680" cy="2284200"/>
          </a:xfrm>
        </p:grpSpPr>
        <p:sp>
          <p:nvSpPr>
            <p:cNvPr id="279" name=""/>
            <p:cNvSpPr/>
            <p:nvPr/>
          </p:nvSpPr>
          <p:spPr>
            <a:xfrm flipH="1">
              <a:off x="4800240" y="4722840"/>
              <a:ext cx="762120" cy="60948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6630840" y="4189320"/>
              <a:ext cx="228600" cy="30492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715000" y="3427560"/>
              <a:ext cx="228600" cy="30456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778800" y="3809880"/>
              <a:ext cx="384120" cy="384480"/>
            </a:xfrm>
            <a:prstGeom prst="ellipse">
              <a:avLst/>
            </a:prstGeom>
            <a:noFill/>
            <a:ln w="1908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238c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05400" y="3048120"/>
              <a:ext cx="384480" cy="384120"/>
            </a:xfrm>
            <a:prstGeom prst="ellipse">
              <a:avLst/>
            </a:prstGeom>
            <a:noFill/>
            <a:ln w="1908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238c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833 -0.25537 L 3.61111E-006 5.10062E-006 E">
                                      <p:cBhvr>
                                        <p:cTn id="162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667 -0.27759 L -6.66667E-006 -8.12167E-006 E">
                                      <p:cBhvr>
                                        <p:cTn id="170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c0"/>
                </a:solidFill>
                <a:latin typeface="Arial"/>
              </a:rPr>
              <a:t>Performance</a:t>
            </a: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2057400" y="990720"/>
          <a:ext cx="5029200" cy="371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990720"/>
                    <a:ext cx="5029200" cy="37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"/>
          <p:cNvSpPr/>
          <p:nvPr/>
        </p:nvSpPr>
        <p:spPr>
          <a:xfrm>
            <a:off x="3489480" y="5446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50760" y="5334120"/>
            <a:ext cx="34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Linear Regression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</a:t>
            </a:r>
            <a:r>
              <a:rPr b="1" lang="en-US" sz="1800" spc="-1" strike="noStrike" baseline="30000">
                <a:solidFill>
                  <a:srgbClr val="fc0128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ae00"/>
                </a:solidFill>
                <a:latin typeface="Arial"/>
              </a:rPr>
              <a:t>0.99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c0"/>
                </a:solidFill>
                <a:latin typeface="Arial"/>
              </a:rPr>
              <a:t>State Hashing</a:t>
            </a: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2666880" y="1919160"/>
            <a:ext cx="2057400" cy="3796920"/>
            <a:chOff x="2666880" y="1919160"/>
            <a:chExt cx="2057400" cy="3796920"/>
          </a:xfrm>
        </p:grpSpPr>
        <p:sp>
          <p:nvSpPr>
            <p:cNvPr id="291" name=""/>
            <p:cNvSpPr/>
            <p:nvPr/>
          </p:nvSpPr>
          <p:spPr>
            <a:xfrm>
              <a:off x="3054960" y="1919160"/>
              <a:ext cx="121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238c0"/>
                  </a:solidFill>
                  <a:latin typeface="Arial"/>
                </a:rPr>
                <a:t>Full S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355920" y="3505320"/>
              <a:ext cx="66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e00"/>
                  </a:solidFill>
                  <a:latin typeface="Arial"/>
                </a:rPr>
                <a:t>O(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743560" y="4357800"/>
              <a:ext cx="173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238c0"/>
                  </a:solidFill>
                  <a:latin typeface="Arial"/>
                </a:rPr>
                <a:t>Full State Siz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121200" y="5073480"/>
              <a:ext cx="122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Comple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Cover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66880" y="2590920"/>
              <a:ext cx="20574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666880" y="4191120"/>
              <a:ext cx="20574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666880" y="4952880"/>
              <a:ext cx="20574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459720" y="1752480"/>
            <a:ext cx="2207160" cy="4114800"/>
            <a:chOff x="459720" y="1752480"/>
            <a:chExt cx="2207160" cy="4114800"/>
          </a:xfrm>
        </p:grpSpPr>
        <p:sp>
          <p:nvSpPr>
            <p:cNvPr id="299" name=""/>
            <p:cNvSpPr/>
            <p:nvPr/>
          </p:nvSpPr>
          <p:spPr>
            <a:xfrm>
              <a:off x="1061640" y="191916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238c0"/>
                  </a:solidFill>
                  <a:latin typeface="Arial"/>
                </a:rPr>
                <a:t>Metho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84080" y="3429000"/>
              <a:ext cx="157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e00"/>
                  </a:solidFill>
                  <a:latin typeface="Arial"/>
                </a:rPr>
                <a:t>Perform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e00"/>
                  </a:solidFill>
                  <a:latin typeface="Arial"/>
                </a:rPr>
                <a:t>(Amortize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59720" y="4235400"/>
              <a:ext cx="2172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238c0"/>
                  </a:solidFill>
                  <a:latin typeface="Arial"/>
                </a:rPr>
                <a:t>Memory Overh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238c0"/>
                  </a:solidFill>
                  <a:latin typeface="Arial"/>
                </a:rPr>
                <a:t>per S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4440" y="5195880"/>
              <a:ext cx="17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Completen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666880" y="1752480"/>
              <a:ext cx="0" cy="4114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724280" y="1752480"/>
            <a:ext cx="2057400" cy="4114800"/>
            <a:chOff x="4724280" y="1752480"/>
            <a:chExt cx="2057400" cy="4114800"/>
          </a:xfrm>
        </p:grpSpPr>
        <p:sp>
          <p:nvSpPr>
            <p:cNvPr id="305" name=""/>
            <p:cNvSpPr/>
            <p:nvPr/>
          </p:nvSpPr>
          <p:spPr>
            <a:xfrm>
              <a:off x="4724280" y="2590920"/>
              <a:ext cx="20574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724280" y="4191120"/>
              <a:ext cx="20574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4952880"/>
              <a:ext cx="20574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949280" y="1919160"/>
              <a:ext cx="167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238c0"/>
                  </a:solidFill>
                  <a:latin typeface="Arial"/>
                </a:rPr>
                <a:t>Hashcompa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413320" y="3505320"/>
              <a:ext cx="66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e00"/>
                  </a:solidFill>
                  <a:latin typeface="Arial"/>
                </a:rPr>
                <a:t>O(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04240" y="435780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238c0"/>
                  </a:solidFill>
                  <a:latin typeface="Arial"/>
                </a:rPr>
                <a:t>8 by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179320" y="5073480"/>
              <a:ext cx="122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Part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Cover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1752480"/>
              <a:ext cx="0" cy="4114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781680" y="1752480"/>
            <a:ext cx="2057400" cy="4114800"/>
            <a:chOff x="6781680" y="1752480"/>
            <a:chExt cx="2057400" cy="4114800"/>
          </a:xfrm>
        </p:grpSpPr>
        <p:sp>
          <p:nvSpPr>
            <p:cNvPr id="314" name=""/>
            <p:cNvSpPr/>
            <p:nvPr/>
          </p:nvSpPr>
          <p:spPr>
            <a:xfrm>
              <a:off x="7171920" y="1919160"/>
              <a:ext cx="13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238c0"/>
                  </a:solidFill>
                  <a:latin typeface="Arial"/>
                </a:rPr>
                <a:t>Traceba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87320" y="3504960"/>
              <a:ext cx="161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e00"/>
                  </a:solidFill>
                  <a:latin typeface="Arial"/>
                </a:rPr>
                <a:t>O(E)O(depth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285680" y="435744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238c0"/>
                  </a:solidFill>
                  <a:latin typeface="Arial"/>
                </a:rPr>
                <a:t>14 by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6000" y="5073480"/>
              <a:ext cx="122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Comple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Cover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781680" y="2590560"/>
              <a:ext cx="20574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781680" y="4190760"/>
              <a:ext cx="20574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781680" y="4952880"/>
              <a:ext cx="20574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81680" y="1752480"/>
              <a:ext cx="0" cy="4114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57200" y="2401920"/>
            <a:ext cx="8015400" cy="369396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c0"/>
                </a:solidFill>
                <a:latin typeface="Arial"/>
              </a:rPr>
              <a:t>Example  Attack Graph</a:t>
            </a: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183280" y="1905120"/>
            <a:ext cx="532800" cy="685800"/>
            <a:chOff x="5183280" y="1905120"/>
            <a:chExt cx="532800" cy="685800"/>
          </a:xfrm>
        </p:grpSpPr>
        <p:sp>
          <p:nvSpPr>
            <p:cNvPr id="325" name=""/>
            <p:cNvSpPr/>
            <p:nvPr/>
          </p:nvSpPr>
          <p:spPr>
            <a:xfrm>
              <a:off x="5486400" y="2362320"/>
              <a:ext cx="228600" cy="228600"/>
            </a:xfrm>
            <a:prstGeom prst="ellipse">
              <a:avLst/>
            </a:prstGeom>
            <a:solidFill>
              <a:srgbClr val="fc0128"/>
            </a:solidFill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83280" y="1905120"/>
              <a:ext cx="53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c0128"/>
                  </a:solidFill>
                  <a:latin typeface="Arial"/>
                </a:rPr>
                <a:t>Beg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4345200" y="2362320"/>
            <a:ext cx="1369800" cy="761760"/>
            <a:chOff x="4345200" y="2362320"/>
            <a:chExt cx="1369800" cy="761760"/>
          </a:xfrm>
        </p:grpSpPr>
        <p:grpSp>
          <p:nvGrpSpPr>
            <p:cNvPr id="328" name=""/>
            <p:cNvGrpSpPr/>
            <p:nvPr/>
          </p:nvGrpSpPr>
          <p:grpSpPr>
            <a:xfrm>
              <a:off x="5486400" y="2590920"/>
              <a:ext cx="228600" cy="533160"/>
              <a:chOff x="5486400" y="2590920"/>
              <a:chExt cx="228600" cy="533160"/>
            </a:xfrm>
          </p:grpSpPr>
          <p:sp>
            <p:nvSpPr>
              <p:cNvPr id="329" name=""/>
              <p:cNvSpPr/>
              <p:nvPr/>
            </p:nvSpPr>
            <p:spPr>
              <a:xfrm>
                <a:off x="5486400" y="2895480"/>
                <a:ext cx="228600" cy="228600"/>
              </a:xfrm>
              <a:prstGeom prst="ellipse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638680" y="2590920"/>
                <a:ext cx="0" cy="304560"/>
              </a:xfrm>
              <a:prstGeom prst="line">
                <a:avLst/>
              </a:prstGeom>
              <a:ln w="1908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4345200" y="2362320"/>
              <a:ext cx="1101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c0128"/>
                  </a:solidFill>
                  <a:latin typeface="Arial"/>
                </a:rPr>
                <a:t>IIS buff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c0128"/>
                  </a:solidFill>
                  <a:latin typeface="Arial"/>
                </a:rPr>
                <a:t>overflo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ae00"/>
                  </a:solidFill>
                  <a:latin typeface="Arial"/>
                </a:rPr>
                <a:t>CAN-2002-036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3735720" y="3048120"/>
            <a:ext cx="1750680" cy="533160"/>
            <a:chOff x="3735720" y="3048120"/>
            <a:chExt cx="1750680" cy="533160"/>
          </a:xfrm>
        </p:grpSpPr>
        <p:grpSp>
          <p:nvGrpSpPr>
            <p:cNvPr id="333" name=""/>
            <p:cNvGrpSpPr/>
            <p:nvPr/>
          </p:nvGrpSpPr>
          <p:grpSpPr>
            <a:xfrm>
              <a:off x="4876920" y="3048120"/>
              <a:ext cx="609480" cy="533160"/>
              <a:chOff x="4876920" y="3048120"/>
              <a:chExt cx="609480" cy="533160"/>
            </a:xfrm>
          </p:grpSpPr>
          <p:sp>
            <p:nvSpPr>
              <p:cNvPr id="334" name=""/>
              <p:cNvSpPr/>
              <p:nvPr/>
            </p:nvSpPr>
            <p:spPr>
              <a:xfrm>
                <a:off x="4876920" y="3352680"/>
                <a:ext cx="228600" cy="228600"/>
              </a:xfrm>
              <a:prstGeom prst="ellipse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5105520" y="3048120"/>
                <a:ext cx="380880" cy="304560"/>
              </a:xfrm>
              <a:prstGeom prst="line">
                <a:avLst/>
              </a:prstGeom>
              <a:ln w="1908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3735720" y="3048120"/>
              <a:ext cx="1102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c0128"/>
                  </a:solidFill>
                  <a:latin typeface="Arial"/>
                </a:rPr>
                <a:t>Squid portsc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ae00"/>
                  </a:solidFill>
                  <a:latin typeface="Arial"/>
                </a:rPr>
                <a:t>CVE-2001-10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1906560" y="3352680"/>
            <a:ext cx="2970000" cy="685800"/>
            <a:chOff x="1906560" y="3352680"/>
            <a:chExt cx="2970000" cy="685800"/>
          </a:xfrm>
        </p:grpSpPr>
        <p:grpSp>
          <p:nvGrpSpPr>
            <p:cNvPr id="338" name=""/>
            <p:cNvGrpSpPr/>
            <p:nvPr/>
          </p:nvGrpSpPr>
          <p:grpSpPr>
            <a:xfrm>
              <a:off x="2971800" y="3505320"/>
              <a:ext cx="1904760" cy="533160"/>
              <a:chOff x="2971800" y="3505320"/>
              <a:chExt cx="1904760" cy="533160"/>
            </a:xfrm>
          </p:grpSpPr>
          <p:sp>
            <p:nvSpPr>
              <p:cNvPr id="339" name=""/>
              <p:cNvSpPr/>
              <p:nvPr/>
            </p:nvSpPr>
            <p:spPr>
              <a:xfrm>
                <a:off x="2971800" y="3809880"/>
                <a:ext cx="228600" cy="228600"/>
              </a:xfrm>
              <a:prstGeom prst="ellipse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3200040" y="3505320"/>
                <a:ext cx="1676520" cy="380880"/>
              </a:xfrm>
              <a:prstGeom prst="line">
                <a:avLst/>
              </a:prstGeom>
              <a:ln w="1908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1906560" y="3352680"/>
              <a:ext cx="1086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c0128"/>
                  </a:solidFill>
                  <a:latin typeface="Arial"/>
                </a:rPr>
                <a:t>LICQ remote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c0128"/>
                  </a:solidFill>
                  <a:latin typeface="Arial"/>
                </a:rPr>
                <a:t>to-us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ae00"/>
                  </a:solidFill>
                  <a:latin typeface="Arial"/>
                </a:rPr>
                <a:t>CVE-2001-043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306360" y="3733920"/>
            <a:ext cx="2665440" cy="838080"/>
            <a:chOff x="306360" y="3733920"/>
            <a:chExt cx="2665440" cy="838080"/>
          </a:xfrm>
        </p:grpSpPr>
        <p:grpSp>
          <p:nvGrpSpPr>
            <p:cNvPr id="343" name=""/>
            <p:cNvGrpSpPr/>
            <p:nvPr/>
          </p:nvGrpSpPr>
          <p:grpSpPr>
            <a:xfrm>
              <a:off x="990720" y="3962520"/>
              <a:ext cx="1981080" cy="609480"/>
              <a:chOff x="990720" y="3962520"/>
              <a:chExt cx="1981080" cy="609480"/>
            </a:xfrm>
          </p:grpSpPr>
          <p:sp>
            <p:nvSpPr>
              <p:cNvPr id="344" name=""/>
              <p:cNvSpPr/>
              <p:nvPr/>
            </p:nvSpPr>
            <p:spPr>
              <a:xfrm>
                <a:off x="990720" y="4343400"/>
                <a:ext cx="228600" cy="228600"/>
              </a:xfrm>
              <a:prstGeom prst="ellipse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1219320" y="3962520"/>
                <a:ext cx="1752480" cy="457200"/>
              </a:xfrm>
              <a:prstGeom prst="line">
                <a:avLst/>
              </a:prstGeom>
              <a:ln w="1908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306360" y="3733920"/>
              <a:ext cx="1086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c0128"/>
                  </a:solidFill>
                  <a:latin typeface="Arial"/>
                </a:rPr>
                <a:t>Local buff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c0128"/>
                  </a:solidFill>
                  <a:latin typeface="Arial"/>
                </a:rPr>
                <a:t>overflo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ae00"/>
                  </a:solidFill>
                  <a:latin typeface="Arial"/>
                </a:rPr>
                <a:t>CVE-2002-00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154440" y="4495680"/>
            <a:ext cx="835920" cy="533520"/>
            <a:chOff x="154440" y="4495680"/>
            <a:chExt cx="835920" cy="533520"/>
          </a:xfrm>
        </p:grpSpPr>
        <p:grpSp>
          <p:nvGrpSpPr>
            <p:cNvPr id="348" name=""/>
            <p:cNvGrpSpPr/>
            <p:nvPr/>
          </p:nvGrpSpPr>
          <p:grpSpPr>
            <a:xfrm>
              <a:off x="457200" y="4495680"/>
              <a:ext cx="533160" cy="533520"/>
              <a:chOff x="457200" y="4495680"/>
              <a:chExt cx="533160" cy="533520"/>
            </a:xfrm>
          </p:grpSpPr>
          <p:sp>
            <p:nvSpPr>
              <p:cNvPr id="349" name=""/>
              <p:cNvSpPr/>
              <p:nvPr/>
            </p:nvSpPr>
            <p:spPr>
              <a:xfrm>
                <a:off x="457200" y="4800600"/>
                <a:ext cx="228600" cy="228600"/>
              </a:xfrm>
              <a:prstGeom prst="ellipse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685440" y="4495680"/>
                <a:ext cx="304920" cy="304920"/>
              </a:xfrm>
              <a:prstGeom prst="line">
                <a:avLst/>
              </a:prstGeom>
              <a:ln w="1908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154440" y="4495680"/>
              <a:ext cx="54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c0128"/>
                  </a:solidFill>
                  <a:latin typeface="Arial"/>
                </a:rPr>
                <a:t>Done!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2576880" y="838080"/>
            <a:ext cx="37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Security property (LTL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 (intruder.privilege(host) </a:t>
            </a:r>
            <a:r>
              <a:rPr b="1" lang="en-US" sz="1800" spc="-1" strike="noStrike">
                <a:solidFill>
                  <a:srgbClr val="00ae00"/>
                </a:solidFill>
                <a:latin typeface="Arial"/>
              </a:rPr>
              <a:t>&lt;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 roo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c0"/>
                </a:solidFill>
                <a:latin typeface="Arial"/>
              </a:rPr>
              <a:t>Application: Attack Graphs</a:t>
            </a: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284440" y="1488960"/>
            <a:ext cx="2846520" cy="1158480"/>
            <a:chOff x="5284440" y="1488960"/>
            <a:chExt cx="2846520" cy="1158480"/>
          </a:xfrm>
        </p:grpSpPr>
        <p:grpSp>
          <p:nvGrpSpPr>
            <p:cNvPr id="355" name=""/>
            <p:cNvGrpSpPr/>
            <p:nvPr/>
          </p:nvGrpSpPr>
          <p:grpSpPr>
            <a:xfrm>
              <a:off x="6734160" y="1488960"/>
              <a:ext cx="1396800" cy="1158480"/>
              <a:chOff x="6734160" y="1488960"/>
              <a:chExt cx="1396800" cy="1158480"/>
            </a:xfrm>
          </p:grpSpPr>
          <p:pic>
            <p:nvPicPr>
              <p:cNvPr id="35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133400" y="1756080"/>
                <a:ext cx="69804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"/>
              <p:cNvSpPr/>
              <p:nvPr/>
            </p:nvSpPr>
            <p:spPr>
              <a:xfrm>
                <a:off x="6734160" y="1488960"/>
                <a:ext cx="1396800" cy="1158480"/>
              </a:xfrm>
              <a:prstGeom prst="verticalScroll">
                <a:avLst>
                  <a:gd name="adj" fmla="val 12500"/>
                </a:avLst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833880" y="2023560"/>
                <a:ext cx="1197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ff"/>
                    </a:solidFill>
                    <a:latin typeface="Times New Roman"/>
                  </a:rPr>
                  <a:t>System and Goal Specificat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 flipH="1">
              <a:off x="5284440" y="2279520"/>
              <a:ext cx="1584360" cy="64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4141800" y="1486080"/>
            <a:ext cx="1143000" cy="1758600"/>
            <a:chOff x="4141800" y="1486080"/>
            <a:chExt cx="1143000" cy="1758600"/>
          </a:xfrm>
        </p:grpSpPr>
        <p:grpSp>
          <p:nvGrpSpPr>
            <p:cNvPr id="361" name=""/>
            <p:cNvGrpSpPr/>
            <p:nvPr/>
          </p:nvGrpSpPr>
          <p:grpSpPr>
            <a:xfrm>
              <a:off x="4495680" y="2000160"/>
              <a:ext cx="457200" cy="666000"/>
              <a:chOff x="4495680" y="2000160"/>
              <a:chExt cx="457200" cy="666000"/>
            </a:xfrm>
          </p:grpSpPr>
          <p:pic>
            <p:nvPicPr>
              <p:cNvPr id="36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495680" y="2000160"/>
                <a:ext cx="179280" cy="28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73600" y="2000160"/>
                <a:ext cx="179280" cy="28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647960" y="2380680"/>
                <a:ext cx="179640" cy="28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 flipH="1">
                <a:off x="4723920" y="2190240"/>
                <a:ext cx="152280" cy="19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572000" y="2285640"/>
                <a:ext cx="75960" cy="9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572000" y="20948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4305240" y="153972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ff"/>
                  </a:solidFill>
                  <a:latin typeface="Times New Roman"/>
                </a:rPr>
                <a:t>Model Buil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41800" y="1486080"/>
              <a:ext cx="1143000" cy="129528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72160" y="2787480"/>
              <a:ext cx="0" cy="4572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797280" y="3260880"/>
            <a:ext cx="2070000" cy="1160280"/>
            <a:chOff x="3797280" y="3260880"/>
            <a:chExt cx="2070000" cy="1160280"/>
          </a:xfrm>
        </p:grpSpPr>
        <p:pic>
          <p:nvPicPr>
            <p:cNvPr id="372" name="" descr=""/>
            <p:cNvPicPr/>
            <p:nvPr/>
          </p:nvPicPr>
          <p:blipFill>
            <a:blip r:embed="rId5"/>
            <a:stretch/>
          </p:blipFill>
          <p:spPr>
            <a:xfrm>
              <a:off x="4952880" y="3809880"/>
              <a:ext cx="60984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3940200" y="3686040"/>
              <a:ext cx="735120" cy="7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4229280" y="33210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ff"/>
                  </a:solidFill>
                  <a:latin typeface="Times New Roman"/>
                </a:rPr>
                <a:t>Attack Graph Generator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97280" y="3260880"/>
              <a:ext cx="2070000" cy="1160280"/>
            </a:xfrm>
            <a:prstGeom prst="rect">
              <a:avLst/>
            </a:prstGeom>
            <a:noFill/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3770280" y="4421160"/>
            <a:ext cx="2059200" cy="1928880"/>
            <a:chOff x="3770280" y="4421160"/>
            <a:chExt cx="2059200" cy="1928880"/>
          </a:xfrm>
        </p:grpSpPr>
        <p:pic>
          <p:nvPicPr>
            <p:cNvPr id="377" name="" descr=""/>
            <p:cNvPicPr/>
            <p:nvPr/>
          </p:nvPicPr>
          <p:blipFill>
            <a:blip r:embed="rId7"/>
            <a:stretch/>
          </p:blipFill>
          <p:spPr>
            <a:xfrm>
              <a:off x="3886200" y="5305320"/>
              <a:ext cx="190512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4370400" y="50450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ff"/>
                  </a:solidFill>
                  <a:latin typeface="Times New Roman"/>
                </a:rPr>
                <a:t>Attack Grap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ff"/>
                  </a:solidFill>
                  <a:latin typeface="Times New Roman"/>
                </a:rPr>
                <a:t>Analyzer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3770280" y="4421160"/>
              <a:ext cx="2059200" cy="1928880"/>
              <a:chOff x="3770280" y="4421160"/>
              <a:chExt cx="2059200" cy="1928880"/>
            </a:xfrm>
          </p:grpSpPr>
          <p:sp>
            <p:nvSpPr>
              <p:cNvPr id="380" name=""/>
              <p:cNvSpPr/>
              <p:nvPr/>
            </p:nvSpPr>
            <p:spPr>
              <a:xfrm>
                <a:off x="4772160" y="4421160"/>
                <a:ext cx="0" cy="5493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770280" y="4970520"/>
                <a:ext cx="2059200" cy="1379520"/>
              </a:xfrm>
              <a:prstGeom prst="rect">
                <a:avLst/>
              </a:pr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2" name=""/>
          <p:cNvGrpSpPr/>
          <p:nvPr/>
        </p:nvGrpSpPr>
        <p:grpSpPr>
          <a:xfrm>
            <a:off x="3124080" y="1631880"/>
            <a:ext cx="990720" cy="1289880"/>
            <a:chOff x="3124080" y="1631880"/>
            <a:chExt cx="990720" cy="1289880"/>
          </a:xfrm>
        </p:grpSpPr>
        <p:grpSp>
          <p:nvGrpSpPr>
            <p:cNvPr id="383" name=""/>
            <p:cNvGrpSpPr/>
            <p:nvPr/>
          </p:nvGrpSpPr>
          <p:grpSpPr>
            <a:xfrm>
              <a:off x="3124080" y="1631880"/>
              <a:ext cx="990720" cy="647640"/>
              <a:chOff x="3124080" y="1631880"/>
              <a:chExt cx="990720" cy="647640"/>
            </a:xfrm>
          </p:grpSpPr>
          <p:sp>
            <p:nvSpPr>
              <p:cNvPr id="384" name=""/>
              <p:cNvSpPr/>
              <p:nvPr/>
            </p:nvSpPr>
            <p:spPr>
              <a:xfrm>
                <a:off x="3124080" y="2279520"/>
                <a:ext cx="990720" cy="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238560" y="1631880"/>
                <a:ext cx="838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ff"/>
                    </a:solidFill>
                    <a:latin typeface="Times New Roman"/>
                  </a:rPr>
                  <a:t>Host Configuration Dat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3238560" y="2416320"/>
              <a:ext cx="838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ff"/>
                  </a:solidFill>
                  <a:latin typeface="Times New Roman"/>
                </a:rPr>
                <a:t>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ff"/>
                  </a:solidFill>
                  <a:latin typeface="Times New Roman"/>
                </a:rPr>
                <a:t>Configuration 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685800" y="1147680"/>
            <a:ext cx="2616120" cy="3008520"/>
            <a:chOff x="685800" y="1147680"/>
            <a:chExt cx="2616120" cy="3008520"/>
          </a:xfrm>
        </p:grpSpPr>
        <p:sp>
          <p:nvSpPr>
            <p:cNvPr id="388" name=""/>
            <p:cNvSpPr/>
            <p:nvPr/>
          </p:nvSpPr>
          <p:spPr>
            <a:xfrm>
              <a:off x="2108160" y="2643120"/>
              <a:ext cx="838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8000"/>
                  </a:solidFill>
                  <a:latin typeface="Times New Roman"/>
                </a:rPr>
                <a:t>MIT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685800" y="1147680"/>
              <a:ext cx="2616120" cy="3008520"/>
              <a:chOff x="685800" y="1147680"/>
              <a:chExt cx="2616120" cy="3008520"/>
            </a:xfrm>
          </p:grpSpPr>
          <p:sp>
            <p:nvSpPr>
              <p:cNvPr id="390" name=""/>
              <p:cNvSpPr/>
              <p:nvPr/>
            </p:nvSpPr>
            <p:spPr>
              <a:xfrm>
                <a:off x="2298600" y="2279520"/>
                <a:ext cx="530280" cy="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676520" y="1600200"/>
                <a:ext cx="0" cy="137160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371600" y="1609560"/>
                <a:ext cx="304920" cy="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371600" y="2298600"/>
                <a:ext cx="304920" cy="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9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85800" y="2109960"/>
                <a:ext cx="417600" cy="53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85800" y="1432080"/>
                <a:ext cx="417600" cy="53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2676600" y="173052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ff"/>
                    </a:solidFill>
                    <a:latin typeface="Times New Roman"/>
                  </a:rPr>
                  <a:t>SQ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ff"/>
                    </a:solidFill>
                    <a:latin typeface="Times New Roman"/>
                  </a:rPr>
                  <a:t>databas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9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841480" y="2041560"/>
                <a:ext cx="2826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1981080" y="2000160"/>
                <a:ext cx="317520" cy="59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" name=""/>
              <p:cNvSpPr/>
              <p:nvPr/>
            </p:nvSpPr>
            <p:spPr>
              <a:xfrm>
                <a:off x="1917720" y="170496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ff"/>
                    </a:solidFill>
                    <a:latin typeface="Times New Roman"/>
                  </a:rPr>
                  <a:t>Outpos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ff"/>
                    </a:solidFill>
                    <a:latin typeface="Times New Roman"/>
                  </a:rPr>
                  <a:t>Serv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371600" y="2971800"/>
                <a:ext cx="304920" cy="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85800" y="344484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ff"/>
                    </a:solidFill>
                    <a:latin typeface="Times New Roman"/>
                  </a:rPr>
                  <a:t>Outpos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ff"/>
                    </a:solidFill>
                    <a:latin typeface="Times New Roman"/>
                  </a:rPr>
                  <a:t>Client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0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85800" y="2787480"/>
                <a:ext cx="417600" cy="53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>
                <a:off x="1676520" y="2295360"/>
                <a:ext cx="304560" cy="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158840" y="1147680"/>
                <a:ext cx="2143080" cy="3008520"/>
              </a:xfrm>
              <a:custGeom>
                <a:avLst/>
                <a:gdLst/>
                <a:ahLst/>
                <a:rect l="l" t="t" r="r" b="b"/>
                <a:pathLst>
                  <a:path w="1350" h="1895">
                    <a:moveTo>
                      <a:pt x="825" y="0"/>
                    </a:moveTo>
                    <a:lnTo>
                      <a:pt x="1075" y="115"/>
                    </a:lnTo>
                    <a:lnTo>
                      <a:pt x="1318" y="359"/>
                    </a:lnTo>
                    <a:lnTo>
                      <a:pt x="1350" y="845"/>
                    </a:lnTo>
                    <a:lnTo>
                      <a:pt x="1088" y="1242"/>
                    </a:lnTo>
                    <a:lnTo>
                      <a:pt x="332" y="1792"/>
                    </a:lnTo>
                    <a:lnTo>
                      <a:pt x="0" y="1895"/>
                    </a:lnTo>
                  </a:path>
                </a:pathLst>
              </a:custGeom>
              <a:noFill/>
              <a:ln w="9360">
                <a:solidFill>
                  <a:srgbClr val="3333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5" name=""/>
          <p:cNvGrpSpPr/>
          <p:nvPr/>
        </p:nvGrpSpPr>
        <p:grpSpPr>
          <a:xfrm>
            <a:off x="1322280" y="3844800"/>
            <a:ext cx="2474640" cy="2283120"/>
            <a:chOff x="1322280" y="3844800"/>
            <a:chExt cx="2474640" cy="2283120"/>
          </a:xfrm>
        </p:grpSpPr>
        <p:sp>
          <p:nvSpPr>
            <p:cNvPr id="406" name=""/>
            <p:cNvSpPr/>
            <p:nvPr/>
          </p:nvSpPr>
          <p:spPr>
            <a:xfrm>
              <a:off x="1322280" y="4199040"/>
              <a:ext cx="1828800" cy="1455480"/>
            </a:xfrm>
            <a:prstGeom prst="rect">
              <a:avLst/>
            </a:prstGeom>
            <a:noFill/>
            <a:ln w="2844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1332000" y="3844800"/>
              <a:ext cx="2464920" cy="2283120"/>
              <a:chOff x="1332000" y="3844800"/>
              <a:chExt cx="2464920" cy="2283120"/>
            </a:xfrm>
          </p:grpSpPr>
          <p:sp>
            <p:nvSpPr>
              <p:cNvPr id="408" name=""/>
              <p:cNvSpPr/>
              <p:nvPr/>
            </p:nvSpPr>
            <p:spPr>
              <a:xfrm flipH="1">
                <a:off x="3150720" y="3965760"/>
                <a:ext cx="646200" cy="59364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0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1332000" y="3844800"/>
                <a:ext cx="1819080" cy="1209960"/>
              </a:xfrm>
              <a:prstGeom prst="rect">
                <a:avLst/>
              </a:prstGeom>
              <a:ln w="28440">
                <a:solidFill>
                  <a:srgbClr val="00ae00"/>
                </a:solidFill>
                <a:miter/>
              </a:ln>
            </p:spPr>
          </p:pic>
          <p:sp>
            <p:nvSpPr>
              <p:cNvPr id="410" name=""/>
              <p:cNvSpPr/>
              <p:nvPr/>
            </p:nvSpPr>
            <p:spPr>
              <a:xfrm>
                <a:off x="1789200" y="5759640"/>
                <a:ext cx="91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ff"/>
                    </a:solidFill>
                    <a:latin typeface="Times New Roman"/>
                  </a:rPr>
                  <a:t>Graph</a:t>
                </a:r>
                <a:r>
                  <a:rPr b="0" lang="en-US" sz="900" spc="-1" strike="noStrike">
                    <a:solidFill>
                      <a:srgbClr val="0000ff"/>
                    </a:solidFill>
                    <a:latin typeface="Times New Roman"/>
                  </a:rPr>
                  <a:t>ical User Interfac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05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c0"/>
                </a:solidFill>
                <a:latin typeface="Arial"/>
              </a:rPr>
              <a:t>Example of Attack Graph Developed by a Professional Red Team</a:t>
            </a: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1920" y="4695840"/>
            <a:ext cx="7270920" cy="3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2000"/>
          </a:bodyPr>
          <a:p>
            <a:pPr marL="14400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marL="144000" indent="-144000">
              <a:lnSpc>
                <a:spcPct val="90000"/>
              </a:lnSpc>
              <a:spcBef>
                <a:spcPts val="499"/>
              </a:spcBef>
              <a:buClr>
                <a:srgbClr val="0238c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238c0"/>
                </a:solidFill>
                <a:latin typeface="Arial"/>
              </a:rPr>
              <a:t>Sandia Red Team “White Board” attack tree from DARPA CC20008 Information battle space preparation experiment</a:t>
            </a:r>
            <a:endParaRPr b="1" lang="en-US" sz="1600" spc="-1" strike="noStrike">
              <a:solidFill>
                <a:srgbClr val="0238c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839440" cy="4663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52280" y="1081080"/>
            <a:ext cx="8839440" cy="4664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2280" y="5470560"/>
            <a:ext cx="452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ndia Red Team “White Board” attack graph from DARPA CC20008 Information battle space preparation experi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6033960"/>
            <a:ext cx="276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Drawn By H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c0"/>
                </a:solidFill>
                <a:latin typeface="Arial"/>
              </a:rPr>
              <a:t>Definitions</a:t>
            </a: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238c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Given 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lvl="1" marL="861840" indent="-341280">
              <a:lnSpc>
                <a:spcPct val="90000"/>
              </a:lnSpc>
              <a:spcBef>
                <a:spcPts val="561"/>
              </a:spcBef>
              <a:buClr>
                <a:srgbClr val="0238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a finite state model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M</a:t>
            </a: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lvl="1" marL="861840" indent="-341280">
              <a:lnSpc>
                <a:spcPct val="90000"/>
              </a:lnSpc>
              <a:spcBef>
                <a:spcPts val="561"/>
              </a:spcBef>
              <a:buClr>
                <a:srgbClr val="0238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a correctness property </a:t>
            </a:r>
            <a:r>
              <a:rPr b="0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</a:t>
            </a: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lvl="1" marL="861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238c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An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failure scenario</a:t>
            </a: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 is an execution of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M </a:t>
            </a: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that violates </a:t>
            </a:r>
            <a:r>
              <a:rPr b="0" lang="en-US" sz="2000" spc="-1" strike="noStrike">
                <a:solidFill>
                  <a:srgbClr val="33cc33"/>
                </a:solidFill>
                <a:latin typeface="Symbol"/>
                <a:ea typeface="Symbol"/>
              </a:rPr>
              <a:t></a:t>
            </a: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238c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An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cenario graph</a:t>
            </a: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 is a set of failure scenarios of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c0"/>
                </a:solidFill>
                <a:latin typeface="Arial"/>
              </a:rPr>
              <a:t>Properties of Scenario Graphs</a:t>
            </a: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238c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xhaustive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lvl="1" marL="861840" indent="-341280">
              <a:lnSpc>
                <a:spcPct val="90000"/>
              </a:lnSpc>
              <a:spcBef>
                <a:spcPts val="561"/>
              </a:spcBef>
              <a:buClr>
                <a:srgbClr val="0238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All possible failure scenarios are represented in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238c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uccinct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lvl="1" marL="861840" indent="-341280">
              <a:lnSpc>
                <a:spcPct val="90000"/>
              </a:lnSpc>
              <a:spcBef>
                <a:spcPts val="561"/>
              </a:spcBef>
              <a:buClr>
                <a:srgbClr val="0238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Only relevant states are contained in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lvl="1" marL="861840" indent="-341280">
              <a:lnSpc>
                <a:spcPct val="90000"/>
              </a:lnSpc>
              <a:spcBef>
                <a:spcPts val="561"/>
              </a:spcBef>
              <a:buClr>
                <a:srgbClr val="0238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Only relevant transitions are contained in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. </a:t>
            </a: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lvl="1" marL="861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c0"/>
                </a:solidFill>
                <a:latin typeface="Arial"/>
              </a:rPr>
              <a:t>Problem Statement</a:t>
            </a: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362240"/>
            <a:ext cx="83725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oblem: </a:t>
            </a: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Generating scenario graphs by hand is tedious, error-prone, and impractical for large systems.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Our Goal:</a:t>
            </a: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 Automate the generation and analysis of scenario graphs.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00a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</a:rPr>
              <a:t>Generation</a:t>
            </a: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238c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238c0"/>
                </a:solidFill>
                <a:latin typeface="Arial"/>
              </a:rPr>
              <a:t>Must be fast and completely automatic</a:t>
            </a:r>
            <a:endParaRPr b="1" lang="en-US" sz="1600" spc="-1" strike="noStrike">
              <a:solidFill>
                <a:srgbClr val="0238c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238c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238c0"/>
                </a:solidFill>
                <a:latin typeface="Arial"/>
              </a:rPr>
              <a:t>Must handle large, realistic examples</a:t>
            </a:r>
            <a:endParaRPr b="1" lang="en-US" sz="1600" spc="-1" strike="noStrike">
              <a:solidFill>
                <a:srgbClr val="0238c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238c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238c0"/>
                </a:solidFill>
                <a:latin typeface="Arial"/>
              </a:rPr>
              <a:t>Should guarantee properties of scenario graphs</a:t>
            </a:r>
            <a:endParaRPr b="1" lang="en-US" sz="1600" spc="-1" strike="noStrike">
              <a:solidFill>
                <a:srgbClr val="0238c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238c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00a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</a:rPr>
              <a:t>Analysis</a:t>
            </a: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238c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238c0"/>
                </a:solidFill>
                <a:latin typeface="Arial"/>
              </a:rPr>
              <a:t>Enables tool-aided post-generation analysis</a:t>
            </a:r>
            <a:endParaRPr b="1" lang="en-US" sz="1600" spc="-1" strike="noStrike">
              <a:solidFill>
                <a:srgbClr val="0238c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c0"/>
                </a:solidFill>
                <a:latin typeface="Arial"/>
              </a:rPr>
              <a:t>Overview of Our Method</a:t>
            </a: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93560" y="1236600"/>
            <a:ext cx="7680600" cy="2302200"/>
            <a:chOff x="493560" y="1236600"/>
            <a:chExt cx="7680600" cy="2302200"/>
          </a:xfrm>
        </p:grpSpPr>
        <p:sp>
          <p:nvSpPr>
            <p:cNvPr id="63" name=""/>
            <p:cNvSpPr/>
            <p:nvPr/>
          </p:nvSpPr>
          <p:spPr>
            <a:xfrm>
              <a:off x="493560" y="2197080"/>
              <a:ext cx="113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ahoma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05200" y="2114640"/>
              <a:ext cx="147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31880" y="1236600"/>
              <a:ext cx="22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99"/>
                  </a:solidFill>
                  <a:latin typeface="Tahoma"/>
                </a:rPr>
                <a:t>System Mo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46720" y="1236600"/>
              <a:ext cx="282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99"/>
                  </a:solidFill>
                  <a:latin typeface="Tahoma"/>
                </a:rPr>
                <a:t>Correctness Proper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624120" y="2023920"/>
              <a:ext cx="1722600" cy="576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27400" y="1649520"/>
              <a:ext cx="57780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5144760" y="1633680"/>
              <a:ext cx="52380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29000" y="3139920"/>
              <a:ext cx="231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cenario Grap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45000" y="2600280"/>
              <a:ext cx="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93560" y="3537000"/>
            <a:ext cx="8239320" cy="2815200"/>
            <a:chOff x="493560" y="3537000"/>
            <a:chExt cx="8239320" cy="2815200"/>
          </a:xfrm>
        </p:grpSpPr>
        <p:grpSp>
          <p:nvGrpSpPr>
            <p:cNvPr id="73" name=""/>
            <p:cNvGrpSpPr/>
            <p:nvPr/>
          </p:nvGrpSpPr>
          <p:grpSpPr>
            <a:xfrm>
              <a:off x="2043000" y="5110200"/>
              <a:ext cx="1727280" cy="642600"/>
              <a:chOff x="2043000" y="5110200"/>
              <a:chExt cx="1727280" cy="642600"/>
            </a:xfrm>
          </p:grpSpPr>
          <p:sp>
            <p:nvSpPr>
              <p:cNvPr id="74" name=""/>
              <p:cNvSpPr/>
              <p:nvPr/>
            </p:nvSpPr>
            <p:spPr>
              <a:xfrm>
                <a:off x="2043000" y="5110200"/>
                <a:ext cx="1435320" cy="601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043000" y="5110200"/>
                <a:ext cx="1727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Minimization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nalyz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1170000" y="4275000"/>
              <a:ext cx="2771640" cy="2066040"/>
              <a:chOff x="1170000" y="4275000"/>
              <a:chExt cx="2771640" cy="2066040"/>
            </a:xfrm>
          </p:grpSpPr>
          <p:sp>
            <p:nvSpPr>
              <p:cNvPr id="77" name=""/>
              <p:cNvSpPr/>
              <p:nvPr/>
            </p:nvSpPr>
            <p:spPr>
              <a:xfrm>
                <a:off x="1170000" y="4275000"/>
                <a:ext cx="2600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8000"/>
                    </a:solidFill>
                    <a:latin typeface="Tahoma"/>
                  </a:rPr>
                  <a:t>Query:</a:t>
                </a:r>
                <a:r>
                  <a:rPr b="0" i="1" lang="en-US" sz="1400" spc="-1" strike="noStrike">
                    <a:solidFill>
                      <a:srgbClr val="008000"/>
                    </a:solidFill>
                    <a:latin typeface="Tahoma"/>
                  </a:rPr>
                  <a:t> What system transitions lead to failure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637000" y="5711760"/>
                <a:ext cx="1440" cy="32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959120" y="6033960"/>
                <a:ext cx="1982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Scenario Subgrap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5965920" y="5203800"/>
              <a:ext cx="83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4545000" y="4098960"/>
              <a:ext cx="4043520" cy="2047680"/>
              <a:chOff x="4545000" y="4098960"/>
              <a:chExt cx="4043520" cy="2047680"/>
            </a:xfrm>
          </p:grpSpPr>
          <p:sp>
            <p:nvSpPr>
              <p:cNvPr id="82" name=""/>
              <p:cNvSpPr/>
              <p:nvPr/>
            </p:nvSpPr>
            <p:spPr>
              <a:xfrm>
                <a:off x="8051760" y="567216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" name=""/>
              <p:cNvGrpSpPr/>
              <p:nvPr/>
            </p:nvGrpSpPr>
            <p:grpSpPr>
              <a:xfrm>
                <a:off x="7513560" y="5070600"/>
                <a:ext cx="1074960" cy="642600"/>
                <a:chOff x="7513560" y="5070600"/>
                <a:chExt cx="1074960" cy="64260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7537320" y="5081760"/>
                  <a:ext cx="1032120" cy="601560"/>
                </a:xfrm>
                <a:prstGeom prst="rect">
                  <a:avLst/>
                </a:prstGeom>
                <a:noFill/>
                <a:ln cap="rnd" w="284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7513560" y="5070600"/>
                  <a:ext cx="10749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Cost</a:t>
                  </a:r>
                  <a:br>
                    <a:rPr sz="1800"/>
                  </a:b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Analyz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" name=""/>
              <p:cNvSpPr/>
              <p:nvPr/>
            </p:nvSpPr>
            <p:spPr>
              <a:xfrm>
                <a:off x="4545000" y="4098960"/>
                <a:ext cx="3246480" cy="9716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493560" y="3537000"/>
              <a:ext cx="8239320" cy="1867320"/>
              <a:chOff x="493560" y="3537000"/>
              <a:chExt cx="8239320" cy="1867320"/>
            </a:xfrm>
          </p:grpSpPr>
          <p:grpSp>
            <p:nvGrpSpPr>
              <p:cNvPr id="88" name=""/>
              <p:cNvGrpSpPr/>
              <p:nvPr/>
            </p:nvGrpSpPr>
            <p:grpSpPr>
              <a:xfrm>
                <a:off x="493560" y="3701880"/>
                <a:ext cx="8239320" cy="1702440"/>
                <a:chOff x="493560" y="3701880"/>
                <a:chExt cx="8239320" cy="170244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504720" y="3701880"/>
                  <a:ext cx="8228160" cy="0"/>
                </a:xfrm>
                <a:prstGeom prst="line">
                  <a:avLst/>
                </a:prstGeom>
                <a:ln cap="rnd" w="9360">
                  <a:solidFill>
                    <a:srgbClr val="ff33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493560" y="5005440"/>
                  <a:ext cx="1138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3300"/>
                      </a:solidFill>
                      <a:latin typeface="Tahoma"/>
                    </a:rPr>
                    <a:t>Phase 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3079800" y="3537000"/>
                <a:ext cx="1652400" cy="1573200"/>
                <a:chOff x="3079800" y="3537000"/>
                <a:chExt cx="1652400" cy="1573200"/>
              </a:xfrm>
            </p:grpSpPr>
            <p:sp>
              <p:nvSpPr>
                <p:cNvPr id="92" name=""/>
                <p:cNvSpPr/>
                <p:nvPr/>
              </p:nvSpPr>
              <p:spPr>
                <a:xfrm flipH="1">
                  <a:off x="3095640" y="4098960"/>
                  <a:ext cx="1449360" cy="1011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079800" y="3701880"/>
                  <a:ext cx="1652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990099"/>
                      </a:solidFill>
                      <a:latin typeface="Tahoma"/>
                    </a:rPr>
                    <a:t>Annotation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545000" y="3537000"/>
                  <a:ext cx="0" cy="56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5" name=""/>
            <p:cNvGrpSpPr/>
            <p:nvPr/>
          </p:nvGrpSpPr>
          <p:grpSpPr>
            <a:xfrm>
              <a:off x="4041720" y="4098960"/>
              <a:ext cx="1467000" cy="1625400"/>
              <a:chOff x="4041720" y="4098960"/>
              <a:chExt cx="1467000" cy="162540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4041720" y="5081760"/>
                <a:ext cx="1467000" cy="642600"/>
                <a:chOff x="4041720" y="5081760"/>
                <a:chExt cx="1467000" cy="64260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4041720" y="5081760"/>
                  <a:ext cx="1467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Reliability</a:t>
                  </a:r>
                  <a:br>
                    <a:rPr sz="1800"/>
                  </a:b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Analyz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041720" y="5110200"/>
                  <a:ext cx="1243080" cy="601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" name=""/>
              <p:cNvSpPr/>
              <p:nvPr/>
            </p:nvSpPr>
            <p:spPr>
              <a:xfrm>
                <a:off x="4545000" y="4098960"/>
                <a:ext cx="0" cy="101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3624120" y="4275000"/>
              <a:ext cx="3484800" cy="2077200"/>
              <a:chOff x="3624120" y="4275000"/>
              <a:chExt cx="3484800" cy="2077200"/>
            </a:xfrm>
          </p:grpSpPr>
          <p:sp>
            <p:nvSpPr>
              <p:cNvPr id="101" name=""/>
              <p:cNvSpPr/>
              <p:nvPr/>
            </p:nvSpPr>
            <p:spPr>
              <a:xfrm>
                <a:off x="4545000" y="4275000"/>
                <a:ext cx="2563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8000"/>
                    </a:solidFill>
                    <a:latin typeface="Tahoma"/>
                  </a:rPr>
                  <a:t>Query:</a:t>
                </a:r>
                <a:r>
                  <a:rPr b="0" i="1" lang="en-US" sz="1400" spc="-1" strike="noStrike">
                    <a:solidFill>
                      <a:srgbClr val="008000"/>
                    </a:solidFill>
                    <a:latin typeface="Tahoma"/>
                  </a:rPr>
                  <a:t> What is the likelihood of failure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624120" y="6045120"/>
                <a:ext cx="254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Probabilistic Scenario Grap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545000" y="5722920"/>
                <a:ext cx="0" cy="32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c0"/>
                </a:solidFill>
                <a:latin typeface="Arial"/>
              </a:rPr>
              <a:t>Symbolic Scenario Graph Generation</a:t>
            </a: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24"/>
              </a:spcBef>
              <a:buClr>
                <a:srgbClr val="ff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nputs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561"/>
              </a:spcBef>
              <a:buClr>
                <a:srgbClr val="99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S</a:t>
            </a:r>
            <a:r>
              <a:rPr b="1" lang="en-US" sz="1800" spc="-1" strike="noStrike" baseline="-25000">
                <a:solidFill>
                  <a:srgbClr val="80008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99"/>
                </a:solidFill>
                <a:latin typeface="Symbol"/>
                <a:ea typeface="Symbol"/>
              </a:rPr>
              <a:t>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 S, R </a:t>
            </a:r>
            <a:r>
              <a:rPr b="0" lang="en-US" sz="2000" spc="-1" strike="noStrike">
                <a:solidFill>
                  <a:srgbClr val="990099"/>
                </a:solidFill>
                <a:latin typeface="Symbol"/>
                <a:ea typeface="Symbol"/>
              </a:rPr>
              <a:t>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 S X S</a:t>
            </a: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561"/>
              </a:spcBef>
              <a:buClr>
                <a:srgbClr val="33cc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Symbol"/>
                <a:ea typeface="Symbol"/>
              </a:rPr>
              <a:t></a:t>
            </a:r>
            <a:r>
              <a:rPr b="1" lang="en-US" sz="1800" spc="-1" strike="noStrike">
                <a:solidFill>
                  <a:srgbClr val="0238c0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AG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 (~unsafe)  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(a safety property)</a:t>
            </a: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24"/>
              </a:spcBef>
              <a:buClr>
                <a:srgbClr val="ff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Output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Scenario graph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 = (S</a:t>
            </a:r>
            <a:r>
              <a:rPr b="1" lang="en-US" sz="2000" spc="-1" strike="noStrike" baseline="-25000">
                <a:solidFill>
                  <a:srgbClr val="33cc33"/>
                </a:solidFill>
                <a:latin typeface="Arial"/>
              </a:rPr>
              <a:t>unsafe</a:t>
            </a: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, S</a:t>
            </a:r>
            <a:r>
              <a:rPr b="1" lang="en-US" sz="2000" spc="-1" strike="noStrike" baseline="-25000">
                <a:solidFill>
                  <a:srgbClr val="0238c0"/>
                </a:solidFill>
                <a:latin typeface="Arial"/>
              </a:rPr>
              <a:t>0</a:t>
            </a:r>
            <a:r>
              <a:rPr b="1" lang="en-US" sz="2400" spc="-1" strike="noStrike" baseline="30000">
                <a:solidFill>
                  <a:srgbClr val="33cc33"/>
                </a:solidFill>
                <a:latin typeface="Symbol"/>
                <a:ea typeface="Symbol"/>
              </a:rPr>
              <a:t></a:t>
            </a: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, R</a:t>
            </a:r>
            <a:r>
              <a:rPr b="1" lang="en-US" sz="2400" spc="-1" strike="noStrike" baseline="30000">
                <a:solidFill>
                  <a:srgbClr val="33cc33"/>
                </a:solidFill>
                <a:latin typeface="Symbol"/>
                <a:ea typeface="Symbol"/>
              </a:rPr>
              <a:t></a:t>
            </a:r>
            <a:r>
              <a:rPr b="1" lang="en-US" sz="2400" spc="-1" strike="noStrike" baseline="-25000">
                <a:solidFill>
                  <a:srgbClr val="33cc33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24"/>
              </a:spcBef>
              <a:buClr>
                <a:srgbClr val="ff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lgorithm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24"/>
              </a:spcBef>
              <a:buClr>
                <a:srgbClr val="0238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S</a:t>
            </a:r>
            <a:r>
              <a:rPr b="1" lang="en-US" sz="1800" spc="-1" strike="noStrike" baseline="-25000">
                <a:solidFill>
                  <a:srgbClr val="33cc33"/>
                </a:solidFill>
                <a:latin typeface="Arial"/>
              </a:rPr>
              <a:t>unsafe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b744d2"/>
                </a:solidFill>
                <a:latin typeface="Arial"/>
              </a:rPr>
              <a:t>modelCheck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S</a:t>
            </a:r>
            <a:r>
              <a:rPr b="1" lang="en-US" sz="1800" spc="-1" strike="noStrike" baseline="-25000">
                <a:solidFill>
                  <a:srgbClr val="80008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cc33"/>
                </a:solidFill>
                <a:latin typeface="Symbol"/>
                <a:ea typeface="Symbol"/>
              </a:rPr>
              <a:t>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(* Use an iterative algorithm derived from the fixpoint characterization of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AG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 operator. *)</a:t>
            </a: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561"/>
              </a:spcBef>
              <a:buClr>
                <a:srgbClr val="0238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S</a:t>
            </a:r>
            <a:r>
              <a:rPr b="1" lang="en-US" sz="1800" spc="-1" strike="noStrike" baseline="-25000">
                <a:solidFill>
                  <a:srgbClr val="0238c0"/>
                </a:solidFill>
                <a:latin typeface="Arial"/>
              </a:rPr>
              <a:t>0</a:t>
            </a:r>
            <a:r>
              <a:rPr b="1" lang="en-US" sz="2000" spc="-1" strike="noStrike" baseline="30000">
                <a:solidFill>
                  <a:srgbClr val="33cc33"/>
                </a:solidFill>
                <a:latin typeface="Symbol"/>
                <a:ea typeface="Symbol"/>
              </a:rPr>
              <a:t></a:t>
            </a:r>
            <a:r>
              <a:rPr b="1" lang="en-US" sz="2000" spc="-1" strike="noStrike">
                <a:solidFill>
                  <a:srgbClr val="33cc33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238c0"/>
                </a:solidFill>
                <a:latin typeface="Symbol"/>
                <a:ea typeface="Symbol"/>
              </a:rPr>
              <a:t></a:t>
            </a: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S</a:t>
            </a:r>
            <a:r>
              <a:rPr b="1" lang="en-US" sz="1800" spc="-1" strike="noStrike" baseline="-25000">
                <a:solidFill>
                  <a:srgbClr val="800080"/>
                </a:solidFill>
                <a:latin typeface="Arial"/>
              </a:rPr>
              <a:t>0</a:t>
            </a:r>
            <a:r>
              <a:rPr b="1" lang="en-US" sz="1800" spc="-1" strike="noStrike" baseline="-25000">
                <a:solidFill>
                  <a:srgbClr val="0238c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238c0"/>
                </a:solidFill>
                <a:latin typeface="Symbol"/>
                <a:ea typeface="Symbol"/>
              </a:rPr>
              <a:t>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S</a:t>
            </a:r>
            <a:r>
              <a:rPr b="1" lang="en-US" sz="1800" spc="-1" strike="noStrike" baseline="-25000">
                <a:solidFill>
                  <a:srgbClr val="33cc33"/>
                </a:solidFill>
                <a:latin typeface="Arial"/>
              </a:rPr>
              <a:t>unsafe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561"/>
              </a:spcBef>
              <a:buClr>
                <a:srgbClr val="0238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33cc33"/>
                </a:solidFill>
                <a:latin typeface="Symbol"/>
                <a:ea typeface="Symbol"/>
              </a:rPr>
              <a:t></a:t>
            </a:r>
            <a:r>
              <a:rPr b="1" lang="en-US" sz="2000" spc="-1" strike="noStrike" baseline="-25000">
                <a:solidFill>
                  <a:srgbClr val="33cc33"/>
                </a:solidFill>
                <a:latin typeface="Symbol"/>
                <a:ea typeface="Symbol"/>
              </a:rPr>
              <a:t></a:t>
            </a:r>
            <a:r>
              <a:rPr b="1" lang="en-US" sz="2000" spc="-1" strike="noStrike">
                <a:solidFill>
                  <a:srgbClr val="0238c0"/>
                </a:solidFill>
                <a:latin typeface="Symbol"/>
                <a:ea typeface="Symbol"/>
              </a:rPr>
              <a:t>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238c0"/>
                </a:solidFill>
                <a:latin typeface="Symbol"/>
                <a:ea typeface="Symbol"/>
              </a:rPr>
              <a:t>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(S</a:t>
            </a:r>
            <a:r>
              <a:rPr b="1" lang="en-US" sz="1800" spc="-1" strike="noStrike" baseline="-25000">
                <a:solidFill>
                  <a:srgbClr val="33cc33"/>
                </a:solidFill>
                <a:latin typeface="Arial"/>
              </a:rPr>
              <a:t>unsafe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 X S</a:t>
            </a:r>
            <a:r>
              <a:rPr b="1" lang="en-US" sz="1800" spc="-1" strike="noStrike" baseline="-25000">
                <a:solidFill>
                  <a:srgbClr val="33cc33"/>
                </a:solidFill>
                <a:latin typeface="Arial"/>
              </a:rPr>
              <a:t>unsafe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c0"/>
                </a:solidFill>
                <a:latin typeface="Arial"/>
              </a:rPr>
              <a:t>Explicit-State Scenario Graph Generation</a:t>
            </a: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238c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Based o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Automata-Theoretic Model Checking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0238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Interpret both model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 and correctness property </a:t>
            </a:r>
            <a:r>
              <a:rPr b="1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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 as Buchi automata.</a:t>
            </a: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0238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</a:t>
            </a:r>
            <a:r>
              <a:rPr b="1" lang="en-US" sz="2400" spc="-1" strike="noStrike">
                <a:solidFill>
                  <a:srgbClr val="0238c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induce languages L(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), L(</a:t>
            </a:r>
            <a:r>
              <a:rPr b="1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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).</a:t>
            </a: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0238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L(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)\L(</a:t>
            </a:r>
            <a:r>
              <a:rPr b="1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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) = executions of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 that violate </a:t>
            </a:r>
            <a:r>
              <a:rPr b="1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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0238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Construct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238c0"/>
                </a:solidFill>
                <a:latin typeface="Symbol"/>
                <a:ea typeface="Symbol"/>
              </a:rPr>
              <a:t>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ae00"/>
                </a:solidFill>
                <a:latin typeface="Arial"/>
              </a:rPr>
              <a:t>~</a:t>
            </a:r>
            <a:r>
              <a:rPr b="1" lang="en-US" sz="2000" spc="-1" strike="noStrike">
                <a:solidFill>
                  <a:srgbClr val="33cc33"/>
                </a:solidFill>
                <a:latin typeface="Symbol"/>
                <a:ea typeface="Symbol"/>
              </a:rPr>
              <a:t></a:t>
            </a:r>
            <a:r>
              <a:rPr b="1" lang="en-US" sz="1800" spc="-1" strike="noStrike">
                <a:solidFill>
                  <a:srgbClr val="0238c0"/>
                </a:solidFill>
                <a:latin typeface="Arial"/>
              </a:rPr>
              <a:t> by computing intersection of Buchi automata.</a:t>
            </a:r>
            <a:endParaRPr b="1" lang="en-US" sz="1800" spc="-1" strike="noStrike">
              <a:solidFill>
                <a:srgbClr val="0238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238c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</a:t>
            </a: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can be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any</a:t>
            </a:r>
            <a:r>
              <a:rPr b="1" lang="en-US" sz="2000" spc="-1" strike="noStrike">
                <a:solidFill>
                  <a:srgbClr val="0238c0"/>
                </a:solidFill>
                <a:latin typeface="Arial"/>
              </a:rPr>
              <a:t> LTL property.</a:t>
            </a:r>
            <a:endParaRPr b="1" lang="en-US" sz="2000" spc="-1" strike="noStrike">
              <a:solidFill>
                <a:srgbClr val="0238c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4572000" y="806400"/>
            <a:ext cx="3357000" cy="642600"/>
            <a:chOff x="4572000" y="806400"/>
            <a:chExt cx="3357000" cy="642600"/>
          </a:xfrm>
        </p:grpSpPr>
        <p:sp>
          <p:nvSpPr>
            <p:cNvPr id="109" name=""/>
            <p:cNvSpPr/>
            <p:nvPr/>
          </p:nvSpPr>
          <p:spPr>
            <a:xfrm>
              <a:off x="4572000" y="909720"/>
              <a:ext cx="265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238c0"/>
                  </a:solidFill>
                  <a:latin typeface="Arial"/>
                </a:rPr>
                <a:t>LTL Property </a:t>
              </a:r>
              <a:r>
                <a:rPr b="1" lang="en-US" sz="2400" spc="-1" strike="noStrike">
                  <a:solidFill>
                    <a:srgbClr val="33cc33"/>
                  </a:solidFill>
                  <a:latin typeface="Symbol"/>
                  <a:ea typeface="Symbol"/>
                </a:rPr>
                <a:t></a:t>
              </a:r>
              <a:r>
                <a:rPr b="1" lang="en-US" sz="2400" spc="-1" strike="noStrike">
                  <a:solidFill>
                    <a:srgbClr val="fc0128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88400" y="806400"/>
              <a:ext cx="84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0128"/>
                  </a:solidFill>
                  <a:latin typeface="Arial"/>
                </a:rPr>
                <a:t>F</a:t>
              </a:r>
              <a:r>
                <a:rPr b="1" lang="en-US" sz="3600" spc="-1" strike="noStrike">
                  <a:solidFill>
                    <a:srgbClr val="0238c0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00ae00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c0"/>
                </a:solidFill>
                <a:latin typeface="Arial"/>
              </a:rPr>
              <a:t>Explicit-State Algorithm Illustrated</a:t>
            </a:r>
            <a:endParaRPr b="1" lang="en-US" sz="2800" spc="-1" strike="noStrike">
              <a:solidFill>
                <a:srgbClr val="0238c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523760" y="909720"/>
            <a:ext cx="3321720" cy="464400"/>
            <a:chOff x="4523760" y="909720"/>
            <a:chExt cx="3321720" cy="464400"/>
          </a:xfrm>
        </p:grpSpPr>
        <p:sp>
          <p:nvSpPr>
            <p:cNvPr id="113" name=""/>
            <p:cNvSpPr/>
            <p:nvPr/>
          </p:nvSpPr>
          <p:spPr>
            <a:xfrm>
              <a:off x="6564240" y="914400"/>
              <a:ext cx="12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238c0"/>
                  </a:solidFill>
                  <a:latin typeface="Arial"/>
                </a:rPr>
                <a:t>Never </a:t>
              </a:r>
              <a:r>
                <a:rPr b="1" lang="en-US" sz="2400" spc="-1" strike="noStrike">
                  <a:solidFill>
                    <a:srgbClr val="00ae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23760" y="909720"/>
              <a:ext cx="161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238c0"/>
                  </a:solidFill>
                  <a:latin typeface="Arial"/>
                </a:rPr>
                <a:t>¬</a:t>
              </a:r>
              <a:r>
                <a:rPr b="1" lang="en-US" sz="2400" spc="-1" strike="noStrike">
                  <a:solidFill>
                    <a:srgbClr val="33cc33"/>
                  </a:solidFill>
                  <a:latin typeface="Symbol"/>
                  <a:ea typeface="Symbol"/>
                </a:rPr>
                <a:t></a:t>
              </a:r>
              <a:r>
                <a:rPr b="1" lang="en-US" sz="2400" spc="-1" strike="noStrike">
                  <a:solidFill>
                    <a:srgbClr val="0238c0"/>
                  </a:solidFill>
                  <a:latin typeface="Arial"/>
                </a:rPr>
                <a:t> = </a:t>
              </a:r>
              <a:r>
                <a:rPr b="1" lang="en-US" sz="2400" spc="-1" strike="noStrike">
                  <a:solidFill>
                    <a:srgbClr val="fc0128"/>
                  </a:solidFill>
                  <a:latin typeface="Arial"/>
                </a:rPr>
                <a:t>G</a:t>
              </a:r>
              <a:r>
                <a:rPr b="1" lang="en-US" sz="2400" spc="-1" strike="noStrike">
                  <a:solidFill>
                    <a:srgbClr val="0238c0"/>
                  </a:solidFill>
                  <a:latin typeface="Arial"/>
                </a:rPr>
                <a:t> ¬</a:t>
              </a:r>
              <a:r>
                <a:rPr b="1" lang="en-US" sz="2400" spc="-1" strike="noStrike">
                  <a:solidFill>
                    <a:srgbClr val="00ae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85800" y="932040"/>
            <a:ext cx="3047760" cy="4478040"/>
            <a:chOff x="685800" y="932040"/>
            <a:chExt cx="3047760" cy="4478040"/>
          </a:xfrm>
        </p:grpSpPr>
        <p:grpSp>
          <p:nvGrpSpPr>
            <p:cNvPr id="116" name=""/>
            <p:cNvGrpSpPr/>
            <p:nvPr/>
          </p:nvGrpSpPr>
          <p:grpSpPr>
            <a:xfrm>
              <a:off x="685800" y="1752480"/>
              <a:ext cx="3047760" cy="3657600"/>
              <a:chOff x="685800" y="1752480"/>
              <a:chExt cx="3047760" cy="3657600"/>
            </a:xfrm>
          </p:grpSpPr>
          <p:sp>
            <p:nvSpPr>
              <p:cNvPr id="117" name=""/>
              <p:cNvSpPr/>
              <p:nvPr/>
            </p:nvSpPr>
            <p:spPr>
              <a:xfrm>
                <a:off x="2057400" y="4797360"/>
                <a:ext cx="384120" cy="384120"/>
              </a:xfrm>
              <a:prstGeom prst="ellipse">
                <a:avLst/>
              </a:prstGeom>
              <a:solidFill>
                <a:srgbClr val="ff00ff"/>
              </a:solidFill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238c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523880" y="2361960"/>
                <a:ext cx="384120" cy="384120"/>
              </a:xfrm>
              <a:prstGeom prst="ellipse">
                <a:avLst/>
              </a:prstGeom>
              <a:noFill/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238c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057400" y="3962160"/>
                <a:ext cx="384120" cy="384120"/>
              </a:xfrm>
              <a:prstGeom prst="ellipse">
                <a:avLst/>
              </a:prstGeom>
              <a:noFill/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238c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066680" y="3124080"/>
                <a:ext cx="384120" cy="384120"/>
              </a:xfrm>
              <a:prstGeom prst="ellipse">
                <a:avLst/>
              </a:prstGeom>
              <a:noFill/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238c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914400" y="2133360"/>
                <a:ext cx="304560" cy="99072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1828440" y="2133360"/>
                <a:ext cx="228600" cy="30492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1294920" y="2743200"/>
                <a:ext cx="304920" cy="38088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3504960"/>
                <a:ext cx="0" cy="45720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209680" y="4343400"/>
                <a:ext cx="0" cy="45720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2133360" y="5181120"/>
                <a:ext cx="228600" cy="228960"/>
                <a:chOff x="2133360" y="5181120"/>
                <a:chExt cx="228600" cy="22896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2133360" y="5181480"/>
                  <a:ext cx="0" cy="22860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133360" y="5410080"/>
                  <a:ext cx="228600" cy="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V="1">
                  <a:off x="2361960" y="5181120"/>
                  <a:ext cx="0" cy="22860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" name=""/>
              <p:cNvSpPr/>
              <p:nvPr/>
            </p:nvSpPr>
            <p:spPr>
              <a:xfrm>
                <a:off x="2971800" y="3959280"/>
                <a:ext cx="384120" cy="384120"/>
              </a:xfrm>
              <a:prstGeom prst="ellipse">
                <a:avLst/>
              </a:prstGeom>
              <a:noFill/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238c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124080" y="3504960"/>
                <a:ext cx="0" cy="45720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3047760" y="4343040"/>
                <a:ext cx="228600" cy="228960"/>
                <a:chOff x="3047760" y="4343040"/>
                <a:chExt cx="228600" cy="22896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3047760" y="4343400"/>
                  <a:ext cx="0" cy="22860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047760" y="4572000"/>
                  <a:ext cx="228600" cy="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V="1">
                  <a:off x="3276360" y="4343040"/>
                  <a:ext cx="0" cy="22860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1143000" y="3504600"/>
                <a:ext cx="228600" cy="228960"/>
                <a:chOff x="1143000" y="3504600"/>
                <a:chExt cx="228600" cy="22896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1143000" y="3504960"/>
                  <a:ext cx="0" cy="22860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143000" y="3733560"/>
                  <a:ext cx="228600" cy="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1371600" y="3504600"/>
                  <a:ext cx="0" cy="22860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" name=""/>
              <p:cNvSpPr/>
              <p:nvPr/>
            </p:nvSpPr>
            <p:spPr>
              <a:xfrm>
                <a:off x="685800" y="1752480"/>
                <a:ext cx="384120" cy="384120"/>
              </a:xfrm>
              <a:prstGeom prst="ellipse">
                <a:avLst/>
              </a:prstGeom>
              <a:noFill/>
              <a:ln w="1908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238c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" name=""/>
              <p:cNvGrpSpPr/>
              <p:nvPr/>
            </p:nvGrpSpPr>
            <p:grpSpPr>
              <a:xfrm>
                <a:off x="1066680" y="1753920"/>
                <a:ext cx="2666880" cy="2817720"/>
                <a:chOff x="1066680" y="1753920"/>
                <a:chExt cx="2666880" cy="28177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066680" y="3958920"/>
                  <a:ext cx="384120" cy="384120"/>
                </a:xfrm>
                <a:prstGeom prst="ellipse">
                  <a:avLst/>
                </a:prstGeom>
                <a:solidFill>
                  <a:srgbClr val="ff00ff"/>
                </a:solidFill>
                <a:ln w="19080">
                  <a:solidFill>
                    <a:srgbClr val="0238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238c0"/>
                      </a:solidFill>
                      <a:latin typeface="Arial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054160" y="3124080"/>
                  <a:ext cx="384120" cy="384120"/>
                </a:xfrm>
                <a:prstGeom prst="ellipse">
                  <a:avLst/>
                </a:prstGeom>
                <a:solidFill>
                  <a:srgbClr val="ff00ff"/>
                </a:solidFill>
                <a:ln w="19080">
                  <a:solidFill>
                    <a:srgbClr val="0238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238c0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H="1" flipV="1">
                  <a:off x="2742480" y="2666880"/>
                  <a:ext cx="304920" cy="45720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>
                  <a:off x="1370880" y="3428640"/>
                  <a:ext cx="762120" cy="60984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3201480" y="2895480"/>
                  <a:ext cx="228600" cy="30456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438280" y="2361960"/>
                  <a:ext cx="384120" cy="384120"/>
                </a:xfrm>
                <a:prstGeom prst="ellipse">
                  <a:avLst/>
                </a:prstGeom>
                <a:noFill/>
                <a:ln w="19080">
                  <a:solidFill>
                    <a:srgbClr val="0238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238c0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95480" y="3124080"/>
                  <a:ext cx="384120" cy="384120"/>
                </a:xfrm>
                <a:prstGeom prst="ellipse">
                  <a:avLst/>
                </a:prstGeom>
                <a:noFill/>
                <a:ln w="19080">
                  <a:solidFill>
                    <a:srgbClr val="0238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238c0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285640" y="2133360"/>
                  <a:ext cx="228600" cy="30492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>
                  <a:off x="2285280" y="2742840"/>
                  <a:ext cx="228600" cy="38124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438280" y="3276360"/>
                  <a:ext cx="457200" cy="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2" name=""/>
                <p:cNvGrpSpPr/>
                <p:nvPr/>
              </p:nvGrpSpPr>
              <p:grpSpPr>
                <a:xfrm>
                  <a:off x="1142640" y="4342680"/>
                  <a:ext cx="228600" cy="228960"/>
                  <a:chOff x="1142640" y="4342680"/>
                  <a:chExt cx="228600" cy="22896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>
                    <a:off x="1142640" y="4343040"/>
                    <a:ext cx="0" cy="228600"/>
                  </a:xfrm>
                  <a:prstGeom prst="line">
                    <a:avLst/>
                  </a:prstGeom>
                  <a:ln w="19080">
                    <a:solidFill>
                      <a:srgbClr val="0238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1142640" y="4571640"/>
                    <a:ext cx="228600" cy="0"/>
                  </a:xfrm>
                  <a:prstGeom prst="line">
                    <a:avLst/>
                  </a:prstGeom>
                  <a:ln w="19080">
                    <a:solidFill>
                      <a:srgbClr val="0238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flipV="1">
                    <a:off x="1371240" y="4342680"/>
                    <a:ext cx="0" cy="228600"/>
                  </a:xfrm>
                  <a:prstGeom prst="line">
                    <a:avLst/>
                  </a:prstGeom>
                  <a:ln w="19080">
                    <a:solidFill>
                      <a:srgbClr val="0238c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6" name=""/>
                <p:cNvSpPr/>
                <p:nvPr/>
              </p:nvSpPr>
              <p:spPr>
                <a:xfrm>
                  <a:off x="3349440" y="2516040"/>
                  <a:ext cx="384120" cy="384120"/>
                </a:xfrm>
                <a:prstGeom prst="ellipse">
                  <a:avLst/>
                </a:prstGeom>
                <a:noFill/>
                <a:ln w="19080">
                  <a:solidFill>
                    <a:srgbClr val="00a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238c0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976040" y="1753920"/>
                  <a:ext cx="384480" cy="384120"/>
                </a:xfrm>
                <a:prstGeom prst="ellipse">
                  <a:avLst/>
                </a:prstGeom>
                <a:noFill/>
                <a:ln w="19080">
                  <a:solidFill>
                    <a:srgbClr val="00a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238c0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8" name=""/>
            <p:cNvSpPr/>
            <p:nvPr/>
          </p:nvSpPr>
          <p:spPr>
            <a:xfrm>
              <a:off x="1660680" y="932040"/>
              <a:ext cx="140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238c0"/>
                  </a:solidFill>
                  <a:latin typeface="Arial"/>
                </a:rPr>
                <a:t>Model </a:t>
              </a:r>
              <a:r>
                <a:rPr b="1" lang="en-US" sz="2400" spc="-1" strike="noStrike">
                  <a:solidFill>
                    <a:srgbClr val="fc0128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3963960" y="1523880"/>
            <a:ext cx="78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230a2"/>
                </a:solidFill>
                <a:latin typeface="Arial"/>
                <a:ea typeface="Arial"/>
              </a:rPr>
              <a:t>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191120" y="3048120"/>
            <a:ext cx="3047400" cy="3657600"/>
            <a:chOff x="4191120" y="3048120"/>
            <a:chExt cx="3047400" cy="3657600"/>
          </a:xfrm>
        </p:grpSpPr>
        <p:sp>
          <p:nvSpPr>
            <p:cNvPr id="161" name=""/>
            <p:cNvSpPr/>
            <p:nvPr/>
          </p:nvSpPr>
          <p:spPr>
            <a:xfrm>
              <a:off x="5562360" y="6093000"/>
              <a:ext cx="383760" cy="384120"/>
            </a:xfrm>
            <a:prstGeom prst="ellipse">
              <a:avLst/>
            </a:prstGeom>
            <a:noFill/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238c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28840" y="3657600"/>
              <a:ext cx="383760" cy="384120"/>
            </a:xfrm>
            <a:prstGeom prst="ellipse">
              <a:avLst/>
            </a:prstGeom>
            <a:noFill/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238c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62360" y="5257800"/>
              <a:ext cx="383760" cy="384120"/>
            </a:xfrm>
            <a:prstGeom prst="ellipse">
              <a:avLst/>
            </a:prstGeom>
            <a:noFill/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238c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1640" y="4419720"/>
              <a:ext cx="383760" cy="384120"/>
            </a:xfrm>
            <a:prstGeom prst="ellipse">
              <a:avLst/>
            </a:prstGeom>
            <a:noFill/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238c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19360" y="3429000"/>
              <a:ext cx="304560" cy="99072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5333760" y="3429000"/>
              <a:ext cx="228240" cy="30492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800240" y="4038840"/>
              <a:ext cx="304560" cy="38088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14640" y="4800600"/>
              <a:ext cx="0" cy="45720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14640" y="5639040"/>
              <a:ext cx="0" cy="45720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6476760"/>
              <a:ext cx="228240" cy="228960"/>
              <a:chOff x="5638680" y="6476760"/>
              <a:chExt cx="228240" cy="228960"/>
            </a:xfrm>
          </p:grpSpPr>
          <p:sp>
            <p:nvSpPr>
              <p:cNvPr id="171" name=""/>
              <p:cNvSpPr/>
              <p:nvPr/>
            </p:nvSpPr>
            <p:spPr>
              <a:xfrm>
                <a:off x="5638680" y="6477120"/>
                <a:ext cx="0" cy="22860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638680" y="6705720"/>
                <a:ext cx="228240" cy="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5866920" y="6476760"/>
                <a:ext cx="0" cy="22860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6476760" y="5254920"/>
              <a:ext cx="383760" cy="384120"/>
            </a:xfrm>
            <a:prstGeom prst="ellipse">
              <a:avLst/>
            </a:prstGeom>
            <a:noFill/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238c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29040" y="4800600"/>
              <a:ext cx="0" cy="457200"/>
            </a:xfrm>
            <a:prstGeom prst="line">
              <a:avLst/>
            </a:prstGeom>
            <a:ln w="19080">
              <a:solidFill>
                <a:srgbClr val="0238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6553080" y="5638680"/>
              <a:ext cx="228240" cy="228960"/>
              <a:chOff x="6553080" y="5638680"/>
              <a:chExt cx="228240" cy="228960"/>
            </a:xfrm>
          </p:grpSpPr>
          <p:sp>
            <p:nvSpPr>
              <p:cNvPr id="177" name=""/>
              <p:cNvSpPr/>
              <p:nvPr/>
            </p:nvSpPr>
            <p:spPr>
              <a:xfrm>
                <a:off x="6553080" y="5639040"/>
                <a:ext cx="0" cy="22860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553080" y="5867640"/>
                <a:ext cx="228240" cy="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6781320" y="5638680"/>
                <a:ext cx="0" cy="22860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4647960" y="4800240"/>
              <a:ext cx="228240" cy="228960"/>
              <a:chOff x="4647960" y="4800240"/>
              <a:chExt cx="228240" cy="228960"/>
            </a:xfrm>
          </p:grpSpPr>
          <p:sp>
            <p:nvSpPr>
              <p:cNvPr id="181" name=""/>
              <p:cNvSpPr/>
              <p:nvPr/>
            </p:nvSpPr>
            <p:spPr>
              <a:xfrm>
                <a:off x="4647960" y="4800600"/>
                <a:ext cx="0" cy="22860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647960" y="5029200"/>
                <a:ext cx="228240" cy="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4876200" y="4800240"/>
                <a:ext cx="0" cy="22860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4191120" y="3048120"/>
              <a:ext cx="383760" cy="384120"/>
            </a:xfrm>
            <a:prstGeom prst="ellipse">
              <a:avLst/>
            </a:prstGeom>
            <a:noFill/>
            <a:ln w="1908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238c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4571640" y="3049560"/>
              <a:ext cx="2666880" cy="2817720"/>
              <a:chOff x="4571640" y="3049560"/>
              <a:chExt cx="2666880" cy="2817720"/>
            </a:xfrm>
          </p:grpSpPr>
          <p:sp>
            <p:nvSpPr>
              <p:cNvPr id="186" name=""/>
              <p:cNvSpPr/>
              <p:nvPr/>
            </p:nvSpPr>
            <p:spPr>
              <a:xfrm>
                <a:off x="4571640" y="5254560"/>
                <a:ext cx="384120" cy="384120"/>
              </a:xfrm>
              <a:prstGeom prst="ellipse">
                <a:avLst/>
              </a:prstGeom>
              <a:solidFill>
                <a:srgbClr val="ff00ff"/>
              </a:solidFill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238c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559120" y="4419720"/>
                <a:ext cx="384120" cy="384120"/>
              </a:xfrm>
              <a:prstGeom prst="ellipse">
                <a:avLst/>
              </a:prstGeom>
              <a:solidFill>
                <a:srgbClr val="ff00ff"/>
              </a:solidFill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238c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 flipV="1">
                <a:off x="6247440" y="3962520"/>
                <a:ext cx="304920" cy="45720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4875840" y="4724280"/>
                <a:ext cx="762120" cy="60984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6706440" y="4191120"/>
                <a:ext cx="228600" cy="30456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943240" y="3657600"/>
                <a:ext cx="384120" cy="384120"/>
              </a:xfrm>
              <a:prstGeom prst="ellipse">
                <a:avLst/>
              </a:prstGeom>
              <a:noFill/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238c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400440" y="4419720"/>
                <a:ext cx="384120" cy="384120"/>
              </a:xfrm>
              <a:prstGeom prst="ellipse">
                <a:avLst/>
              </a:prstGeom>
              <a:noFill/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238c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790600" y="3429000"/>
                <a:ext cx="228600" cy="30492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5790240" y="4038480"/>
                <a:ext cx="228600" cy="38124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943240" y="4572000"/>
                <a:ext cx="457200" cy="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6" name=""/>
              <p:cNvGrpSpPr/>
              <p:nvPr/>
            </p:nvGrpSpPr>
            <p:grpSpPr>
              <a:xfrm>
                <a:off x="4647600" y="5638320"/>
                <a:ext cx="228600" cy="228960"/>
                <a:chOff x="4647600" y="5638320"/>
                <a:chExt cx="228600" cy="22896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4647600" y="5638680"/>
                  <a:ext cx="0" cy="22860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647600" y="5867280"/>
                  <a:ext cx="228600" cy="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V="1">
                  <a:off x="4876200" y="5638320"/>
                  <a:ext cx="0" cy="22860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>
                <a:off x="6854400" y="3811680"/>
                <a:ext cx="384120" cy="384120"/>
              </a:xfrm>
              <a:prstGeom prst="ellipse">
                <a:avLst/>
              </a:prstGeom>
              <a:noFill/>
              <a:ln w="1908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238c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481000" y="3049560"/>
                <a:ext cx="384480" cy="384120"/>
              </a:xfrm>
              <a:prstGeom prst="ellipse">
                <a:avLst/>
              </a:prstGeom>
              <a:noFill/>
              <a:ln w="1908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238c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2" name=""/>
          <p:cNvGrpSpPr/>
          <p:nvPr/>
        </p:nvGrpSpPr>
        <p:grpSpPr>
          <a:xfrm>
            <a:off x="5181480" y="1447920"/>
            <a:ext cx="2060640" cy="1143000"/>
            <a:chOff x="5181480" y="1447920"/>
            <a:chExt cx="2060640" cy="1143000"/>
          </a:xfrm>
        </p:grpSpPr>
        <p:sp>
          <p:nvSpPr>
            <p:cNvPr id="203" name=""/>
            <p:cNvSpPr/>
            <p:nvPr/>
          </p:nvSpPr>
          <p:spPr>
            <a:xfrm>
              <a:off x="6095880" y="144792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ff99cc"/>
            </a:solidFill>
            <a:ln w="19080">
              <a:solidFill>
                <a:srgbClr val="0238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5181480" y="1978200"/>
              <a:ext cx="2060640" cy="612720"/>
              <a:chOff x="5181480" y="1978200"/>
              <a:chExt cx="2060640" cy="612720"/>
            </a:xfrm>
          </p:grpSpPr>
          <p:sp>
            <p:nvSpPr>
              <p:cNvPr id="205" name=""/>
              <p:cNvSpPr/>
              <p:nvPr/>
            </p:nvSpPr>
            <p:spPr>
              <a:xfrm>
                <a:off x="5181480" y="1978200"/>
                <a:ext cx="384120" cy="384120"/>
              </a:xfrm>
              <a:prstGeom prst="ellipse">
                <a:avLst/>
              </a:prstGeom>
              <a:solidFill>
                <a:srgbClr val="ff00ff"/>
              </a:solidFill>
              <a:ln w="1908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238c0"/>
                    </a:solidFill>
                    <a:latin typeface="Arial"/>
                  </a:rPr>
                  <a:t>¬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022800" y="1978200"/>
                <a:ext cx="384120" cy="384120"/>
              </a:xfrm>
              <a:prstGeom prst="ellipse">
                <a:avLst/>
              </a:prstGeom>
              <a:noFill/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238c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5257800" y="2359080"/>
                <a:ext cx="228600" cy="228960"/>
                <a:chOff x="5257800" y="2359080"/>
                <a:chExt cx="228600" cy="2289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5257800" y="2359440"/>
                  <a:ext cx="0" cy="22860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257800" y="2588040"/>
                  <a:ext cx="228600" cy="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V="1">
                  <a:off x="5486400" y="2359080"/>
                  <a:ext cx="0" cy="22860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" name=""/>
              <p:cNvSpPr/>
              <p:nvPr/>
            </p:nvSpPr>
            <p:spPr>
              <a:xfrm>
                <a:off x="5562720" y="2130840"/>
                <a:ext cx="460080" cy="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858000" y="1978200"/>
                <a:ext cx="384120" cy="384120"/>
              </a:xfrm>
              <a:prstGeom prst="ellipse">
                <a:avLst/>
              </a:prstGeom>
              <a:noFill/>
              <a:ln w="19080">
                <a:solidFill>
                  <a:srgbClr val="0238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ae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3" name=""/>
              <p:cNvGrpSpPr/>
              <p:nvPr/>
            </p:nvGrpSpPr>
            <p:grpSpPr>
              <a:xfrm>
                <a:off x="6934320" y="2361960"/>
                <a:ext cx="228600" cy="228960"/>
                <a:chOff x="6934320" y="2361960"/>
                <a:chExt cx="228600" cy="22896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6934320" y="2362320"/>
                  <a:ext cx="0" cy="22860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934320" y="2590920"/>
                  <a:ext cx="228600" cy="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V="1">
                  <a:off x="7162920" y="2361960"/>
                  <a:ext cx="0" cy="228600"/>
                </a:xfrm>
                <a:prstGeom prst="line">
                  <a:avLst/>
                </a:prstGeom>
                <a:ln w="19080">
                  <a:solidFill>
                    <a:srgbClr val="0238c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" name=""/>
              <p:cNvSpPr/>
              <p:nvPr/>
            </p:nvSpPr>
            <p:spPr>
              <a:xfrm>
                <a:off x="6397560" y="2130840"/>
                <a:ext cx="460440" cy="0"/>
              </a:xfrm>
              <a:prstGeom prst="line">
                <a:avLst/>
              </a:prstGeom>
              <a:ln w="19080">
                <a:solidFill>
                  <a:srgbClr val="0238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8" name=""/>
          <p:cNvGrpSpPr/>
          <p:nvPr/>
        </p:nvGrpSpPr>
        <p:grpSpPr>
          <a:xfrm>
            <a:off x="3962520" y="2895480"/>
            <a:ext cx="3124080" cy="3810240"/>
            <a:chOff x="3962520" y="2895480"/>
            <a:chExt cx="3124080" cy="3810240"/>
          </a:xfrm>
        </p:grpSpPr>
        <p:sp>
          <p:nvSpPr>
            <p:cNvPr id="219" name=""/>
            <p:cNvSpPr/>
            <p:nvPr/>
          </p:nvSpPr>
          <p:spPr>
            <a:xfrm>
              <a:off x="5181480" y="5105520"/>
              <a:ext cx="1905120" cy="1600200"/>
            </a:xfrm>
            <a:prstGeom prst="ellipse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62520" y="2895480"/>
              <a:ext cx="1600200" cy="2210040"/>
            </a:xfrm>
            <a:prstGeom prst="ellipse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1752480" y="4572000"/>
            <a:ext cx="1067040" cy="1066680"/>
          </a:xfrm>
          <a:prstGeom prst="ellipse">
            <a:avLst/>
          </a:prstGeom>
          <a:noFill/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1T13:08:49Z</dcterms:created>
  <dc:creator>Oleg Sheyner</dc:creator>
  <dc:description/>
  <dc:language>en-US</dc:language>
  <cp:lastModifiedBy> </cp:lastModifiedBy>
  <cp:lastPrinted>1998-01-21T17:12:46Z</cp:lastPrinted>
  <dcterms:modified xsi:type="dcterms:W3CDTF">2003-05-01T10:59:30Z</dcterms:modified>
  <cp:revision>838</cp:revision>
  <dc:subject/>
  <dc:title>No Slide Title</dc:title>
</cp:coreProperties>
</file>