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7B8E-A0CF-4189-B6B2-0961B329C9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2960" y="866124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lo, and thank you all for co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name is Oleg Sheyner.  I am a graduate student working with Jeannette Wing, and she invited me here to give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let’s jump right into i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attack graph produced a few years ago by a professional Red Team as part of a DARPA stu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flows from left to right; the initial nodes on the left represent the state of the network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enetration has occurred.  Each edge in the graph corresponds to a penetration step taken by a hypothe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der, leading to another node that represents the new state of the network, and so on until the intr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his goal.  A single path from a node on the left to a node on the right represents a sequ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 steps executed by the intruder in the course of the at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raph was created by hand [c], which as you can imagine can be a tedi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gin, define more precisely what we meant by ‘attack’, ‘attack scenario’, and ‘attack graph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able properties for automatically-generated attack 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ttack graphs are useful, but generating them by hand is less than ideal.  The process is labor-intensive, error-pro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mpractical for larg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ould like is to generate such graphs automatically, and then get the computer to help the system administrator with post-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lly, we’d like generation to be fast, automatic, and scalable.  Further, the attack graphs that we produce should neither m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 scenarios nor include states that do not figure in any scen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F042-6990-42B6-94C3-26AC98907C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method consists of two phases.  In the first phase we create an appropriate model of the network and specify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ty property that we desire to hold.  The model and the property are handed off to a generator that creates an attack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all attack scenarios that lead to a violation of the security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hase the raw attack graph may be annotated with additional relevant information and handed off to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tools.  I will cover some of the analyse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attack graph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2" marL="1204920" indent="-22860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3" marL="1546200" indent="-11916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5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6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838080" cy="995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28120" y="6553080"/>
            <a:ext cx="3141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Generation of Scenario Graphs Using Model Check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14200" y="6553080"/>
            <a:ext cx="1110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HCES 05/01/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38c0"/>
                </a:solidFill>
                <a:latin typeface="Arial"/>
              </a:rPr>
              <a:t>Generation of Scenario Graphs Using Model Checking</a:t>
            </a:r>
            <a:endParaRPr b="1" lang="en-US" sz="36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omesh Jha (University of Wisconsin), Oleg Sheyner (CMU),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Jeannette Wing (CMU)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plicit-State Algorithm (Cont.)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4164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19810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5812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274320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752480"/>
            <a:ext cx="304920" cy="9907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057040" y="1752480"/>
            <a:ext cx="228600" cy="3049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523520" y="2362320"/>
            <a:ext cx="304920" cy="38088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362320" y="4800240"/>
            <a:ext cx="228600" cy="228960"/>
            <a:chOff x="2362320" y="4800240"/>
            <a:chExt cx="228600" cy="228960"/>
          </a:xfrm>
        </p:grpSpPr>
        <p:sp>
          <p:nvSpPr>
            <p:cNvPr id="233" name=""/>
            <p:cNvSpPr/>
            <p:nvPr/>
          </p:nvSpPr>
          <p:spPr>
            <a:xfrm>
              <a:off x="2362320" y="480060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62320" y="502920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590920" y="480024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200400" y="357840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76720" y="3962160"/>
            <a:ext cx="228600" cy="228960"/>
            <a:chOff x="3276720" y="3962160"/>
            <a:chExt cx="228600" cy="228960"/>
          </a:xfrm>
        </p:grpSpPr>
        <p:sp>
          <p:nvSpPr>
            <p:cNvPr id="239" name=""/>
            <p:cNvSpPr/>
            <p:nvPr/>
          </p:nvSpPr>
          <p:spPr>
            <a:xfrm>
              <a:off x="3276720" y="396252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76720" y="419112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505320" y="396216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371600" y="3123720"/>
            <a:ext cx="228600" cy="228960"/>
            <a:chOff x="1371600" y="3123720"/>
            <a:chExt cx="228600" cy="228960"/>
          </a:xfrm>
        </p:grpSpPr>
        <p:sp>
          <p:nvSpPr>
            <p:cNvPr id="243" name=""/>
            <p:cNvSpPr/>
            <p:nvPr/>
          </p:nvSpPr>
          <p:spPr>
            <a:xfrm>
              <a:off x="1371600" y="312408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600200" y="312372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" y="1371600"/>
            <a:ext cx="384120" cy="384120"/>
          </a:xfrm>
          <a:prstGeom prst="ellipse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3578400"/>
            <a:ext cx="384120" cy="38412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2760" y="2743200"/>
            <a:ext cx="384120" cy="38412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971440" y="2286000"/>
            <a:ext cx="30492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99840" y="3048120"/>
            <a:ext cx="762120" cy="60948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30080" y="2514600"/>
            <a:ext cx="228600" cy="3049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19810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274320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1752480"/>
            <a:ext cx="228600" cy="3049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514240" y="2362320"/>
            <a:ext cx="228600" cy="38088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895480"/>
            <a:ext cx="457200" cy="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371600" y="3962160"/>
            <a:ext cx="228600" cy="228960"/>
            <a:chOff x="1371600" y="3962160"/>
            <a:chExt cx="228600" cy="228960"/>
          </a:xfrm>
        </p:grpSpPr>
        <p:sp>
          <p:nvSpPr>
            <p:cNvPr id="258" name=""/>
            <p:cNvSpPr/>
            <p:nvPr/>
          </p:nvSpPr>
          <p:spPr>
            <a:xfrm>
              <a:off x="1371600" y="396252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1600" y="419112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600200" y="396216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578400" y="2135160"/>
            <a:ext cx="384120" cy="384120"/>
          </a:xfrm>
          <a:prstGeom prst="ellipse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5000" y="1373040"/>
            <a:ext cx="384120" cy="384480"/>
          </a:xfrm>
          <a:prstGeom prst="ellipse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47520" y="1066680"/>
            <a:ext cx="40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Find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strongly 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components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CC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  (R. Tarjan ’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51200" y="190512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Collec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CC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with acceptance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495680" y="3657600"/>
            <a:ext cx="2212920" cy="2209680"/>
            <a:chOff x="4495680" y="3657600"/>
            <a:chExt cx="2212920" cy="2209680"/>
          </a:xfrm>
        </p:grpSpPr>
        <p:sp>
          <p:nvSpPr>
            <p:cNvPr id="266" name=""/>
            <p:cNvSpPr/>
            <p:nvPr/>
          </p:nvSpPr>
          <p:spPr>
            <a:xfrm>
              <a:off x="4495680" y="5254560"/>
              <a:ext cx="384120" cy="38412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3160" y="4419720"/>
              <a:ext cx="384120" cy="38412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71840" y="3962520"/>
              <a:ext cx="30492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67280" y="3657600"/>
              <a:ext cx="38412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4419720"/>
              <a:ext cx="38412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714640" y="4038480"/>
              <a:ext cx="228600" cy="38124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4572000"/>
              <a:ext cx="4572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72000" y="5638320"/>
              <a:ext cx="228600" cy="228960"/>
              <a:chOff x="4572000" y="5638320"/>
              <a:chExt cx="228600" cy="2289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72000" y="563868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72000" y="5867280"/>
                <a:ext cx="22860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4800600" y="563832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"/>
          <p:cNvSpPr/>
          <p:nvPr/>
        </p:nvSpPr>
        <p:spPr>
          <a:xfrm>
            <a:off x="5029920" y="245268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dd paths from initial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800240" y="3048120"/>
            <a:ext cx="2362680" cy="2284200"/>
            <a:chOff x="4800240" y="3048120"/>
            <a:chExt cx="2362680" cy="2284200"/>
          </a:xfrm>
        </p:grpSpPr>
        <p:sp>
          <p:nvSpPr>
            <p:cNvPr id="279" name=""/>
            <p:cNvSpPr/>
            <p:nvPr/>
          </p:nvSpPr>
          <p:spPr>
            <a:xfrm flipH="1">
              <a:off x="4800240" y="4722840"/>
              <a:ext cx="762120" cy="60948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630840" y="4189320"/>
              <a:ext cx="228600" cy="30492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15000" y="3427560"/>
              <a:ext cx="228600" cy="30456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78800" y="3809880"/>
              <a:ext cx="384120" cy="38448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05400" y="3048120"/>
              <a:ext cx="384480" cy="38412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833 -0.25537 L 3.61111E-006 5.10062E-006 E">
                                      <p:cBhvr>
                                        <p:cTn id="162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7 -0.27759 L -6.66667E-006 -8.12167E-006 E">
                                      <p:cBhvr>
                                        <p:cTn id="17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057400" y="990720"/>
          <a:ext cx="5029200" cy="37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029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348948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50760" y="533412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Linear Regressio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0.9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State Hashing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666880" y="1919160"/>
            <a:ext cx="2057400" cy="3796920"/>
            <a:chOff x="2666880" y="1919160"/>
            <a:chExt cx="2057400" cy="3796920"/>
          </a:xfrm>
        </p:grpSpPr>
        <p:sp>
          <p:nvSpPr>
            <p:cNvPr id="291" name=""/>
            <p:cNvSpPr/>
            <p:nvPr/>
          </p:nvSpPr>
          <p:spPr>
            <a:xfrm>
              <a:off x="3054960" y="191916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Full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55920" y="35053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43560" y="4357800"/>
              <a:ext cx="17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Full State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21200" y="507348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mp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6880" y="25909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6880" y="41911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495288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59720" y="1752480"/>
            <a:ext cx="2207160" cy="4114800"/>
            <a:chOff x="459720" y="1752480"/>
            <a:chExt cx="2207160" cy="4114800"/>
          </a:xfrm>
        </p:grpSpPr>
        <p:sp>
          <p:nvSpPr>
            <p:cNvPr id="299" name=""/>
            <p:cNvSpPr/>
            <p:nvPr/>
          </p:nvSpPr>
          <p:spPr>
            <a:xfrm>
              <a:off x="1061640" y="191916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4080" y="3429000"/>
              <a:ext cx="157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(Amortize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9720" y="4235400"/>
              <a:ext cx="217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Memory 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per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4440" y="5195880"/>
              <a:ext cx="17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mplete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6880" y="1752480"/>
              <a:ext cx="0" cy="4114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1752480"/>
            <a:ext cx="2057400" cy="4114800"/>
            <a:chOff x="4724280" y="1752480"/>
            <a:chExt cx="2057400" cy="4114800"/>
          </a:xfrm>
        </p:grpSpPr>
        <p:sp>
          <p:nvSpPr>
            <p:cNvPr id="305" name=""/>
            <p:cNvSpPr/>
            <p:nvPr/>
          </p:nvSpPr>
          <p:spPr>
            <a:xfrm>
              <a:off x="4724280" y="25909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24280" y="41911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495288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49280" y="191916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Hashcomp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13320" y="35053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04240" y="4357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79320" y="507348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ar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1752480"/>
              <a:ext cx="0" cy="4114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81680" y="1752480"/>
            <a:ext cx="2057400" cy="4114800"/>
            <a:chOff x="6781680" y="1752480"/>
            <a:chExt cx="2057400" cy="4114800"/>
          </a:xfrm>
        </p:grpSpPr>
        <p:sp>
          <p:nvSpPr>
            <p:cNvPr id="314" name=""/>
            <p:cNvSpPr/>
            <p:nvPr/>
          </p:nvSpPr>
          <p:spPr>
            <a:xfrm>
              <a:off x="7171920" y="19191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Traceb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87320" y="350496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O(E)O(dept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85680" y="43574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14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6000" y="507348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mp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81680" y="259056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1680" y="419076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81680" y="495288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1680" y="1752480"/>
              <a:ext cx="0" cy="4114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2401920"/>
            <a:ext cx="8015400" cy="36939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ample  Attack Graph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183280" y="1905120"/>
            <a:ext cx="532800" cy="685800"/>
            <a:chOff x="5183280" y="1905120"/>
            <a:chExt cx="532800" cy="685800"/>
          </a:xfrm>
        </p:grpSpPr>
        <p:sp>
          <p:nvSpPr>
            <p:cNvPr id="325" name=""/>
            <p:cNvSpPr/>
            <p:nvPr/>
          </p:nvSpPr>
          <p:spPr>
            <a:xfrm>
              <a:off x="5486400" y="2362320"/>
              <a:ext cx="228600" cy="228600"/>
            </a:xfrm>
            <a:prstGeom prst="ellipse">
              <a:avLst/>
            </a:prstGeom>
            <a:solidFill>
              <a:srgbClr val="fc0128"/>
            </a:solidFill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83280" y="190512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Beg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345200" y="2362320"/>
            <a:ext cx="1369800" cy="761760"/>
            <a:chOff x="4345200" y="2362320"/>
            <a:chExt cx="1369800" cy="761760"/>
          </a:xfrm>
        </p:grpSpPr>
        <p:grpSp>
          <p:nvGrpSpPr>
            <p:cNvPr id="328" name=""/>
            <p:cNvGrpSpPr/>
            <p:nvPr/>
          </p:nvGrpSpPr>
          <p:grpSpPr>
            <a:xfrm>
              <a:off x="5486400" y="2590920"/>
              <a:ext cx="228600" cy="533160"/>
              <a:chOff x="5486400" y="2590920"/>
              <a:chExt cx="22860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5486400" y="289548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2590920"/>
                <a:ext cx="0" cy="30456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4345200" y="2362320"/>
              <a:ext cx="110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IIS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over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AN-2002-036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735720" y="3048120"/>
            <a:ext cx="1750680" cy="533160"/>
            <a:chOff x="3735720" y="3048120"/>
            <a:chExt cx="1750680" cy="533160"/>
          </a:xfrm>
        </p:grpSpPr>
        <p:grpSp>
          <p:nvGrpSpPr>
            <p:cNvPr id="333" name=""/>
            <p:cNvGrpSpPr/>
            <p:nvPr/>
          </p:nvGrpSpPr>
          <p:grpSpPr>
            <a:xfrm>
              <a:off x="4876920" y="3048120"/>
              <a:ext cx="609480" cy="533160"/>
              <a:chOff x="4876920" y="3048120"/>
              <a:chExt cx="609480" cy="533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876920" y="335268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105520" y="3048120"/>
                <a:ext cx="380880" cy="30456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3735720" y="3048120"/>
              <a:ext cx="1102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Squid portsc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VE-2001-10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906560" y="3352680"/>
            <a:ext cx="2970000" cy="685800"/>
            <a:chOff x="1906560" y="3352680"/>
            <a:chExt cx="2970000" cy="685800"/>
          </a:xfrm>
        </p:grpSpPr>
        <p:grpSp>
          <p:nvGrpSpPr>
            <p:cNvPr id="338" name=""/>
            <p:cNvGrpSpPr/>
            <p:nvPr/>
          </p:nvGrpSpPr>
          <p:grpSpPr>
            <a:xfrm>
              <a:off x="2971800" y="3505320"/>
              <a:ext cx="1904760" cy="533160"/>
              <a:chOff x="2971800" y="3505320"/>
              <a:chExt cx="1904760" cy="533160"/>
            </a:xfrm>
          </p:grpSpPr>
          <p:sp>
            <p:nvSpPr>
              <p:cNvPr id="339" name=""/>
              <p:cNvSpPr/>
              <p:nvPr/>
            </p:nvSpPr>
            <p:spPr>
              <a:xfrm>
                <a:off x="2971800" y="380988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200040" y="3505320"/>
                <a:ext cx="1676520" cy="38088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1906560" y="3352680"/>
              <a:ext cx="108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LICQ remot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to-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VE-2001-04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06360" y="3733920"/>
            <a:ext cx="2665440" cy="838080"/>
            <a:chOff x="306360" y="3733920"/>
            <a:chExt cx="2665440" cy="838080"/>
          </a:xfrm>
        </p:grpSpPr>
        <p:grpSp>
          <p:nvGrpSpPr>
            <p:cNvPr id="343" name=""/>
            <p:cNvGrpSpPr/>
            <p:nvPr/>
          </p:nvGrpSpPr>
          <p:grpSpPr>
            <a:xfrm>
              <a:off x="990720" y="3962520"/>
              <a:ext cx="1981080" cy="609480"/>
              <a:chOff x="990720" y="3962520"/>
              <a:chExt cx="1981080" cy="609480"/>
            </a:xfrm>
          </p:grpSpPr>
          <p:sp>
            <p:nvSpPr>
              <p:cNvPr id="344" name=""/>
              <p:cNvSpPr/>
              <p:nvPr/>
            </p:nvSpPr>
            <p:spPr>
              <a:xfrm>
                <a:off x="990720" y="434340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219320" y="3962520"/>
                <a:ext cx="1752480" cy="45720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06360" y="3733920"/>
              <a:ext cx="108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Local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over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VE-2002-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54440" y="4495680"/>
            <a:ext cx="835920" cy="533520"/>
            <a:chOff x="154440" y="4495680"/>
            <a:chExt cx="835920" cy="533520"/>
          </a:xfrm>
        </p:grpSpPr>
        <p:grpSp>
          <p:nvGrpSpPr>
            <p:cNvPr id="348" name=""/>
            <p:cNvGrpSpPr/>
            <p:nvPr/>
          </p:nvGrpSpPr>
          <p:grpSpPr>
            <a:xfrm>
              <a:off x="457200" y="4495680"/>
              <a:ext cx="533160" cy="533520"/>
              <a:chOff x="457200" y="4495680"/>
              <a:chExt cx="533160" cy="533520"/>
            </a:xfrm>
          </p:grpSpPr>
          <p:sp>
            <p:nvSpPr>
              <p:cNvPr id="349" name=""/>
              <p:cNvSpPr/>
              <p:nvPr/>
            </p:nvSpPr>
            <p:spPr>
              <a:xfrm>
                <a:off x="457200" y="480060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85440" y="4495680"/>
                <a:ext cx="304920" cy="30492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54440" y="449568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Done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576880" y="838080"/>
            <a:ext cx="37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ecurity property (LTL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(intruder.privilege(host)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ro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Application: Attack Graphs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284440" y="1488960"/>
            <a:ext cx="2846520" cy="1158480"/>
            <a:chOff x="5284440" y="1488960"/>
            <a:chExt cx="2846520" cy="1158480"/>
          </a:xfrm>
        </p:grpSpPr>
        <p:grpSp>
          <p:nvGrpSpPr>
            <p:cNvPr id="355" name=""/>
            <p:cNvGrpSpPr/>
            <p:nvPr/>
          </p:nvGrpSpPr>
          <p:grpSpPr>
            <a:xfrm>
              <a:off x="6734160" y="1488960"/>
              <a:ext cx="1396800" cy="1158480"/>
              <a:chOff x="6734160" y="1488960"/>
              <a:chExt cx="1396800" cy="1158480"/>
            </a:xfrm>
          </p:grpSpPr>
          <p:pic>
            <p:nvPicPr>
              <p:cNvPr id="3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33400" y="1756080"/>
                <a:ext cx="69804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6734160" y="1488960"/>
                <a:ext cx="1396800" cy="1158480"/>
              </a:xfrm>
              <a:prstGeom prst="verticalScroll">
                <a:avLst>
                  <a:gd name="adj" fmla="val 12500"/>
                </a:avLst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33880" y="2023560"/>
                <a:ext cx="119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System and Goal Specif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H="1">
              <a:off x="5284440" y="2279520"/>
              <a:ext cx="1584360" cy="6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141800" y="1486080"/>
            <a:ext cx="1143000" cy="1758600"/>
            <a:chOff x="4141800" y="1486080"/>
            <a:chExt cx="1143000" cy="1758600"/>
          </a:xfrm>
        </p:grpSpPr>
        <p:grpSp>
          <p:nvGrpSpPr>
            <p:cNvPr id="361" name=""/>
            <p:cNvGrpSpPr/>
            <p:nvPr/>
          </p:nvGrpSpPr>
          <p:grpSpPr>
            <a:xfrm>
              <a:off x="4495680" y="2000160"/>
              <a:ext cx="457200" cy="666000"/>
              <a:chOff x="4495680" y="2000160"/>
              <a:chExt cx="457200" cy="666000"/>
            </a:xfrm>
          </p:grpSpPr>
          <p:pic>
            <p:nvPicPr>
              <p:cNvPr id="3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2000160"/>
                <a:ext cx="17928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3600" y="2000160"/>
                <a:ext cx="17928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7960" y="2380680"/>
                <a:ext cx="17964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flipH="1">
                <a:off x="4723920" y="2190240"/>
                <a:ext cx="152280" cy="1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72000" y="2285640"/>
                <a:ext cx="759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0" y="2094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4305240" y="15397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Model Buil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41800" y="1486080"/>
              <a:ext cx="1143000" cy="12952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72160" y="2787480"/>
              <a:ext cx="0" cy="457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797280" y="3260880"/>
            <a:ext cx="2070000" cy="1160280"/>
            <a:chOff x="3797280" y="3260880"/>
            <a:chExt cx="2070000" cy="1160280"/>
          </a:xfrm>
        </p:grpSpPr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4952880" y="3809880"/>
              <a:ext cx="609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3940200" y="3686040"/>
              <a:ext cx="73512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4229280" y="33210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Attack Graph Generato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97280" y="3260880"/>
              <a:ext cx="2070000" cy="1160280"/>
            </a:xfrm>
            <a:prstGeom prst="rect">
              <a:avLst/>
            </a:prstGeom>
            <a:noFill/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770280" y="4421160"/>
            <a:ext cx="2059200" cy="1928880"/>
            <a:chOff x="3770280" y="4421160"/>
            <a:chExt cx="2059200" cy="1928880"/>
          </a:xfrm>
        </p:grpSpPr>
        <p:pic>
          <p:nvPicPr>
            <p:cNvPr id="377" name="" descr=""/>
            <p:cNvPicPr/>
            <p:nvPr/>
          </p:nvPicPr>
          <p:blipFill>
            <a:blip r:embed="rId7"/>
            <a:stretch/>
          </p:blipFill>
          <p:spPr>
            <a:xfrm>
              <a:off x="3886200" y="5305320"/>
              <a:ext cx="19051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370400" y="50450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Attack Grap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Analyz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770280" y="4421160"/>
              <a:ext cx="2059200" cy="1928880"/>
              <a:chOff x="3770280" y="4421160"/>
              <a:chExt cx="2059200" cy="1928880"/>
            </a:xfrm>
          </p:grpSpPr>
          <p:sp>
            <p:nvSpPr>
              <p:cNvPr id="380" name=""/>
              <p:cNvSpPr/>
              <p:nvPr/>
            </p:nvSpPr>
            <p:spPr>
              <a:xfrm>
                <a:off x="4772160" y="4421160"/>
                <a:ext cx="0" cy="549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770280" y="4970520"/>
                <a:ext cx="2059200" cy="1379520"/>
              </a:xfrm>
              <a:prstGeom prst="rect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3124080" y="1631880"/>
            <a:ext cx="990720" cy="1289880"/>
            <a:chOff x="3124080" y="1631880"/>
            <a:chExt cx="990720" cy="1289880"/>
          </a:xfrm>
        </p:grpSpPr>
        <p:grpSp>
          <p:nvGrpSpPr>
            <p:cNvPr id="383" name=""/>
            <p:cNvGrpSpPr/>
            <p:nvPr/>
          </p:nvGrpSpPr>
          <p:grpSpPr>
            <a:xfrm>
              <a:off x="3124080" y="1631880"/>
              <a:ext cx="990720" cy="647640"/>
              <a:chOff x="3124080" y="1631880"/>
              <a:chExt cx="990720" cy="647640"/>
            </a:xfrm>
          </p:grpSpPr>
          <p:sp>
            <p:nvSpPr>
              <p:cNvPr id="384" name=""/>
              <p:cNvSpPr/>
              <p:nvPr/>
            </p:nvSpPr>
            <p:spPr>
              <a:xfrm>
                <a:off x="3124080" y="2279520"/>
                <a:ext cx="9907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238560" y="1631880"/>
                <a:ext cx="838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Host Configuration 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3238560" y="2416320"/>
              <a:ext cx="838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Configuration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85800" y="1147680"/>
            <a:ext cx="2616120" cy="3008520"/>
            <a:chOff x="685800" y="1147680"/>
            <a:chExt cx="2616120" cy="3008520"/>
          </a:xfrm>
        </p:grpSpPr>
        <p:sp>
          <p:nvSpPr>
            <p:cNvPr id="388" name=""/>
            <p:cNvSpPr/>
            <p:nvPr/>
          </p:nvSpPr>
          <p:spPr>
            <a:xfrm>
              <a:off x="2108160" y="2643120"/>
              <a:ext cx="83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Times New Roman"/>
                </a:rPr>
                <a:t>MIT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85800" y="1147680"/>
              <a:ext cx="2616120" cy="3008520"/>
              <a:chOff x="685800" y="1147680"/>
              <a:chExt cx="2616120" cy="3008520"/>
            </a:xfrm>
          </p:grpSpPr>
          <p:sp>
            <p:nvSpPr>
              <p:cNvPr id="390" name=""/>
              <p:cNvSpPr/>
              <p:nvPr/>
            </p:nvSpPr>
            <p:spPr>
              <a:xfrm>
                <a:off x="2298600" y="2279520"/>
                <a:ext cx="5302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76520" y="1600200"/>
                <a:ext cx="0" cy="13716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71600" y="1609560"/>
                <a:ext cx="304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71600" y="2298600"/>
                <a:ext cx="304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85800" y="2109960"/>
                <a:ext cx="4176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85800" y="1432080"/>
                <a:ext cx="41760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2676600" y="17305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SQ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databa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41480" y="2041560"/>
                <a:ext cx="2826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81080" y="2000160"/>
                <a:ext cx="31752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1917720" y="170496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Outpos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Serv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371600" y="2971800"/>
                <a:ext cx="304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344484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Outpos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Cli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5800" y="2787480"/>
                <a:ext cx="41760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676520" y="2295360"/>
                <a:ext cx="30456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58840" y="1147680"/>
                <a:ext cx="2143080" cy="3008520"/>
              </a:xfrm>
              <a:custGeom>
                <a:avLst/>
                <a:gdLst/>
                <a:ahLst/>
                <a:rect l="l" t="t" r="r" b="b"/>
                <a:pathLst>
                  <a:path w="1350" h="1895">
                    <a:moveTo>
                      <a:pt x="825" y="0"/>
                    </a:moveTo>
                    <a:lnTo>
                      <a:pt x="1075" y="115"/>
                    </a:lnTo>
                    <a:lnTo>
                      <a:pt x="1318" y="359"/>
                    </a:lnTo>
                    <a:lnTo>
                      <a:pt x="1350" y="845"/>
                    </a:lnTo>
                    <a:lnTo>
                      <a:pt x="1088" y="1242"/>
                    </a:lnTo>
                    <a:lnTo>
                      <a:pt x="332" y="1792"/>
                    </a:lnTo>
                    <a:lnTo>
                      <a:pt x="0" y="1895"/>
                    </a:lnTo>
                  </a:path>
                </a:pathLst>
              </a:custGeom>
              <a:noFill/>
              <a:ln w="936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1322280" y="3844800"/>
            <a:ext cx="2474640" cy="2283120"/>
            <a:chOff x="1322280" y="3844800"/>
            <a:chExt cx="2474640" cy="2283120"/>
          </a:xfrm>
        </p:grpSpPr>
        <p:sp>
          <p:nvSpPr>
            <p:cNvPr id="406" name=""/>
            <p:cNvSpPr/>
            <p:nvPr/>
          </p:nvSpPr>
          <p:spPr>
            <a:xfrm>
              <a:off x="1322280" y="4199040"/>
              <a:ext cx="1828800" cy="1455480"/>
            </a:xfrm>
            <a:prstGeom prst="rect">
              <a:avLst/>
            </a:prstGeom>
            <a:noFill/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332000" y="3844800"/>
              <a:ext cx="2464920" cy="2283120"/>
              <a:chOff x="1332000" y="3844800"/>
              <a:chExt cx="2464920" cy="2283120"/>
            </a:xfrm>
          </p:grpSpPr>
          <p:sp>
            <p:nvSpPr>
              <p:cNvPr id="408" name=""/>
              <p:cNvSpPr/>
              <p:nvPr/>
            </p:nvSpPr>
            <p:spPr>
              <a:xfrm flipH="1">
                <a:off x="3150720" y="3965760"/>
                <a:ext cx="646200" cy="5936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32000" y="3844800"/>
                <a:ext cx="1819080" cy="1209960"/>
              </a:xfrm>
              <a:prstGeom prst="rect">
                <a:avLst/>
              </a:prstGeom>
              <a:ln w="28440">
                <a:solidFill>
                  <a:srgbClr val="00ae00"/>
                </a:solidFill>
                <a:miter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1789200" y="57596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Times New Roman"/>
                  </a:rPr>
                  <a:t>Graph</a:t>
                </a: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ical User Interfa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ample of Attack Graph Developed by a Professional Red Team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4695840"/>
            <a:ext cx="7270920" cy="3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2000"/>
          </a:bodyPr>
          <a:p>
            <a:pPr marL="1440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144000" indent="-1440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Sandia Red Team “White Board” attack tree from DARPA CC20008 Information battle space preparation experiment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66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081080"/>
            <a:ext cx="8839440" cy="4664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5470560"/>
            <a:ext cx="452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ndia Red Team “White Board” attack graph from DARPA CC20008 Information battle space preparation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6033960"/>
            <a:ext cx="276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rawn By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Definitions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Given 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 finite state model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 correctness property </a:t>
            </a: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ailure scenario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is an execution of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that violates </a:t>
            </a: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cenario graph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is a set of failure scenarios of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Properties of Scenario Graphs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xhaustive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ll possible failure scenarios are represented i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uccinct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Only relevant states are contained i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Only relevant transitions are contained i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Problem Statement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362240"/>
            <a:ext cx="8372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blem: 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Generating scenario graphs by hand is tedious, error-prone, and impractical for large systems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ur Goal: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Automate the generation and analysis of scenario graphs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Generation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Must be fast and completely automatic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Must handle large, realistic examples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Should guarantee properties of scenario graphs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Analysis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Enables tool-aided post-generation analysis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Overview of Our Method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3560" y="1236600"/>
            <a:ext cx="7680600" cy="2302200"/>
            <a:chOff x="493560" y="1236600"/>
            <a:chExt cx="7680600" cy="2302200"/>
          </a:xfrm>
        </p:grpSpPr>
        <p:sp>
          <p:nvSpPr>
            <p:cNvPr id="63" name=""/>
            <p:cNvSpPr/>
            <p:nvPr/>
          </p:nvSpPr>
          <p:spPr>
            <a:xfrm>
              <a:off x="493560" y="2197080"/>
              <a:ext cx="11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ahoma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5200" y="211464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31880" y="123660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</a:rPr>
                <a:t>System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46720" y="1236600"/>
              <a:ext cx="282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</a:rPr>
                <a:t>Correctness 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24120" y="2023920"/>
              <a:ext cx="1722600" cy="576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7400" y="1649520"/>
              <a:ext cx="57780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144760" y="1633680"/>
              <a:ext cx="52380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29000" y="3139920"/>
              <a:ext cx="23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cenario 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45000" y="260028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93560" y="3537000"/>
            <a:ext cx="8239320" cy="2815200"/>
            <a:chOff x="493560" y="3537000"/>
            <a:chExt cx="8239320" cy="2815200"/>
          </a:xfrm>
        </p:grpSpPr>
        <p:grpSp>
          <p:nvGrpSpPr>
            <p:cNvPr id="73" name=""/>
            <p:cNvGrpSpPr/>
            <p:nvPr/>
          </p:nvGrpSpPr>
          <p:grpSpPr>
            <a:xfrm>
              <a:off x="2043000" y="5110200"/>
              <a:ext cx="1727280" cy="642600"/>
              <a:chOff x="2043000" y="5110200"/>
              <a:chExt cx="1727280" cy="642600"/>
            </a:xfrm>
          </p:grpSpPr>
          <p:sp>
            <p:nvSpPr>
              <p:cNvPr id="74" name=""/>
              <p:cNvSpPr/>
              <p:nvPr/>
            </p:nvSpPr>
            <p:spPr>
              <a:xfrm>
                <a:off x="2043000" y="5110200"/>
                <a:ext cx="1435320" cy="601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43000" y="5110200"/>
                <a:ext cx="172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inimiz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nalyz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170000" y="4275000"/>
              <a:ext cx="2771640" cy="2066040"/>
              <a:chOff x="1170000" y="4275000"/>
              <a:chExt cx="2771640" cy="2066040"/>
            </a:xfrm>
          </p:grpSpPr>
          <p:sp>
            <p:nvSpPr>
              <p:cNvPr id="77" name=""/>
              <p:cNvSpPr/>
              <p:nvPr/>
            </p:nvSpPr>
            <p:spPr>
              <a:xfrm>
                <a:off x="1170000" y="4275000"/>
                <a:ext cx="2600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Tahoma"/>
                  </a:rPr>
                  <a:t>Query:</a:t>
                </a:r>
                <a:r>
                  <a:rPr b="0" i="1" lang="en-US" sz="1400" spc="-1" strike="noStrike">
                    <a:solidFill>
                      <a:srgbClr val="008000"/>
                    </a:solidFill>
                    <a:latin typeface="Tahoma"/>
                  </a:rPr>
                  <a:t> What system transitions lead to failur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37000" y="5711760"/>
                <a:ext cx="144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59120" y="6033960"/>
                <a:ext cx="1982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cenario Subgrap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965920" y="5203800"/>
              <a:ext cx="8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545000" y="4098960"/>
              <a:ext cx="4043520" cy="2047680"/>
              <a:chOff x="4545000" y="4098960"/>
              <a:chExt cx="4043520" cy="2047680"/>
            </a:xfrm>
          </p:grpSpPr>
          <p:sp>
            <p:nvSpPr>
              <p:cNvPr id="82" name=""/>
              <p:cNvSpPr/>
              <p:nvPr/>
            </p:nvSpPr>
            <p:spPr>
              <a:xfrm>
                <a:off x="8051760" y="56721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513560" y="5070600"/>
                <a:ext cx="1074960" cy="642600"/>
                <a:chOff x="7513560" y="5070600"/>
                <a:chExt cx="1074960" cy="6426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7537320" y="5081760"/>
                  <a:ext cx="1032120" cy="601560"/>
                </a:xfrm>
                <a:prstGeom prst="rect">
                  <a:avLst/>
                </a:prstGeom>
                <a:noFill/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13560" y="5070600"/>
                  <a:ext cx="1074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ost</a:t>
                  </a:r>
                  <a:br>
                    <a:rPr sz="1800"/>
                  </a:b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nalyz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4545000" y="4098960"/>
                <a:ext cx="3246480" cy="97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93560" y="3537000"/>
              <a:ext cx="8239320" cy="1867320"/>
              <a:chOff x="493560" y="3537000"/>
              <a:chExt cx="8239320" cy="18673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493560" y="3701880"/>
                <a:ext cx="8239320" cy="1702440"/>
                <a:chOff x="493560" y="3701880"/>
                <a:chExt cx="8239320" cy="17024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04720" y="3701880"/>
                  <a:ext cx="8228160" cy="0"/>
                </a:xfrm>
                <a:prstGeom prst="line">
                  <a:avLst/>
                </a:prstGeom>
                <a:ln cap="rnd" w="9360">
                  <a:solidFill>
                    <a:srgbClr val="ff33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3560" y="5005440"/>
                  <a:ext cx="1138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3300"/>
                      </a:solidFill>
                      <a:latin typeface="Tahoma"/>
                    </a:rPr>
                    <a:t>Phase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079800" y="3537000"/>
                <a:ext cx="1652400" cy="1573200"/>
                <a:chOff x="3079800" y="3537000"/>
                <a:chExt cx="1652400" cy="157320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3095640" y="4098960"/>
                  <a:ext cx="1449360" cy="101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079800" y="3701880"/>
                  <a:ext cx="1652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990099"/>
                      </a:solidFill>
                      <a:latin typeface="Tahoma"/>
                    </a:rPr>
                    <a:t>Annota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45000" y="3537000"/>
                  <a:ext cx="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" name=""/>
            <p:cNvGrpSpPr/>
            <p:nvPr/>
          </p:nvGrpSpPr>
          <p:grpSpPr>
            <a:xfrm>
              <a:off x="4041720" y="4098960"/>
              <a:ext cx="1467000" cy="1625400"/>
              <a:chOff x="4041720" y="4098960"/>
              <a:chExt cx="1467000" cy="16254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4041720" y="5081760"/>
                <a:ext cx="1467000" cy="642600"/>
                <a:chOff x="4041720" y="5081760"/>
                <a:chExt cx="1467000" cy="642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041720" y="5081760"/>
                  <a:ext cx="1467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Reliability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nalyz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041720" y="5110200"/>
                  <a:ext cx="1243080" cy="601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545000" y="4098960"/>
                <a:ext cx="0" cy="10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24120" y="4275000"/>
              <a:ext cx="3484800" cy="2077200"/>
              <a:chOff x="3624120" y="4275000"/>
              <a:chExt cx="3484800" cy="2077200"/>
            </a:xfrm>
          </p:grpSpPr>
          <p:sp>
            <p:nvSpPr>
              <p:cNvPr id="101" name=""/>
              <p:cNvSpPr/>
              <p:nvPr/>
            </p:nvSpPr>
            <p:spPr>
              <a:xfrm>
                <a:off x="4545000" y="4275000"/>
                <a:ext cx="256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Tahoma"/>
                  </a:rPr>
                  <a:t>Query:</a:t>
                </a:r>
                <a:r>
                  <a:rPr b="0" i="1" lang="en-US" sz="1400" spc="-1" strike="noStrike">
                    <a:solidFill>
                      <a:srgbClr val="008000"/>
                    </a:solidFill>
                    <a:latin typeface="Tahoma"/>
                  </a:rPr>
                  <a:t> What is the likelihood of failur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24120" y="6045120"/>
                <a:ext cx="254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robabilistic Scenario Grap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45000" y="5722920"/>
                <a:ext cx="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Symbolic Scenario Graph Generation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puts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S, R </a:t>
            </a:r>
            <a:r>
              <a:rPr b="0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S X S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33cc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G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(~unsafe) 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a safety property)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utput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cenario grap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= (S</a:t>
            </a:r>
            <a:r>
              <a:rPr b="1" lang="en-US" sz="20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, S</a:t>
            </a:r>
            <a:r>
              <a:rPr b="1" lang="en-US" sz="2000" spc="-1" strike="noStrike" baseline="-25000">
                <a:solidFill>
                  <a:srgbClr val="0238c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, R</a:t>
            </a:r>
            <a:r>
              <a:rPr b="1" lang="en-US" sz="24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lgorithm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b744d2"/>
                </a:solidFill>
                <a:latin typeface="Arial"/>
              </a:rPr>
              <a:t>modelCheck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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* Use an iterative algorithm derived from the fixpoint characterization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operator. *)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238c0"/>
                </a:solidFill>
                <a:latin typeface="Arial"/>
              </a:rPr>
              <a:t>0</a:t>
            </a:r>
            <a:r>
              <a:rPr b="1" lang="en-US" sz="20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238c0"/>
                </a:solidFill>
                <a:latin typeface="Symbol"/>
                <a:ea typeface="Symbol"/>
              </a:rPr>
              <a:t>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238c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</a:t>
            </a:r>
            <a:r>
              <a:rPr b="1" lang="en-US" sz="2000" spc="-1" strike="noStrike">
                <a:solidFill>
                  <a:srgbClr val="0238c0"/>
                </a:solidFill>
                <a:latin typeface="Symbol"/>
                <a:ea typeface="Symbol"/>
              </a:rPr>
              <a:t>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X 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plicit-State Scenario Graph Generation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Based o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Automata-Theoretic Model Checking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Interpret both model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and correctness property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as Buchi automata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induce languages L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, L(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L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\L(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 = executions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that violate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Construc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by computing intersection of Buchi automata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can b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LTL property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572000" y="806400"/>
            <a:ext cx="3357000" cy="642600"/>
            <a:chOff x="4572000" y="806400"/>
            <a:chExt cx="3357000" cy="642600"/>
          </a:xfrm>
        </p:grpSpPr>
        <p:sp>
          <p:nvSpPr>
            <p:cNvPr id="109" name=""/>
            <p:cNvSpPr/>
            <p:nvPr/>
          </p:nvSpPr>
          <p:spPr>
            <a:xfrm>
              <a:off x="4572000" y="909720"/>
              <a:ext cx="265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LTL Property </a:t>
              </a:r>
              <a:r>
                <a:rPr b="1" lang="en-US" sz="24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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8400" y="806400"/>
              <a:ext cx="84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0128"/>
                  </a:solidFill>
                  <a:latin typeface="Arial"/>
                </a:rPr>
                <a:t>F</a:t>
              </a:r>
              <a:r>
                <a:rPr b="1" lang="en-US" sz="3600" spc="-1" strike="noStrike">
                  <a:solidFill>
                    <a:srgbClr val="0238c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ae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plicit-State Algorithm Illustrated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23760" y="909720"/>
            <a:ext cx="3321720" cy="464400"/>
            <a:chOff x="4523760" y="909720"/>
            <a:chExt cx="3321720" cy="464400"/>
          </a:xfrm>
        </p:grpSpPr>
        <p:sp>
          <p:nvSpPr>
            <p:cNvPr id="113" name=""/>
            <p:cNvSpPr/>
            <p:nvPr/>
          </p:nvSpPr>
          <p:spPr>
            <a:xfrm>
              <a:off x="6564240" y="914400"/>
              <a:ext cx="12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Never 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23760" y="909720"/>
              <a:ext cx="16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¬</a:t>
              </a:r>
              <a:r>
                <a:rPr b="1" lang="en-US" sz="24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</a:t>
              </a: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 = 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 ¬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85800" y="932040"/>
            <a:ext cx="3047760" cy="4478040"/>
            <a:chOff x="685800" y="932040"/>
            <a:chExt cx="3047760" cy="4478040"/>
          </a:xfrm>
        </p:grpSpPr>
        <p:grpSp>
          <p:nvGrpSpPr>
            <p:cNvPr id="116" name=""/>
            <p:cNvGrpSpPr/>
            <p:nvPr/>
          </p:nvGrpSpPr>
          <p:grpSpPr>
            <a:xfrm>
              <a:off x="685800" y="1752480"/>
              <a:ext cx="3047760" cy="3657600"/>
              <a:chOff x="685800" y="1752480"/>
              <a:chExt cx="3047760" cy="3657600"/>
            </a:xfrm>
          </p:grpSpPr>
          <p:sp>
            <p:nvSpPr>
              <p:cNvPr id="117" name=""/>
              <p:cNvSpPr/>
              <p:nvPr/>
            </p:nvSpPr>
            <p:spPr>
              <a:xfrm>
                <a:off x="2057400" y="479736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23880" y="236196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57400" y="396216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6680" y="31240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14400" y="2133360"/>
                <a:ext cx="304560" cy="99072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828440" y="2133360"/>
                <a:ext cx="228600" cy="30492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294920" y="2743200"/>
                <a:ext cx="304920" cy="38088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3504960"/>
                <a:ext cx="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09680" y="4343400"/>
                <a:ext cx="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133360" y="5181120"/>
                <a:ext cx="228600" cy="228960"/>
                <a:chOff x="2133360" y="5181120"/>
                <a:chExt cx="228600" cy="228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133360" y="51814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33360" y="54100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2361960" y="5181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2971800" y="39592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24080" y="3504960"/>
                <a:ext cx="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3047760" y="4343040"/>
                <a:ext cx="228600" cy="228960"/>
                <a:chOff x="3047760" y="4343040"/>
                <a:chExt cx="228600" cy="228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047760" y="434340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47760" y="457200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3276360" y="434304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143000" y="3504600"/>
                <a:ext cx="228600" cy="228960"/>
                <a:chOff x="1143000" y="3504600"/>
                <a:chExt cx="228600" cy="2289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143000" y="35049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143000" y="373356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371600" y="350460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685800" y="17524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1066680" y="1753920"/>
                <a:ext cx="2666880" cy="2817720"/>
                <a:chOff x="1066680" y="1753920"/>
                <a:chExt cx="2666880" cy="2817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066680" y="3958920"/>
                  <a:ext cx="384120" cy="384120"/>
                </a:xfrm>
                <a:prstGeom prst="ellipse">
                  <a:avLst/>
                </a:prstGeom>
                <a:solidFill>
                  <a:srgbClr val="ff00ff"/>
                </a:solidFill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054160" y="3124080"/>
                  <a:ext cx="384120" cy="384120"/>
                </a:xfrm>
                <a:prstGeom prst="ellipse">
                  <a:avLst/>
                </a:prstGeom>
                <a:solidFill>
                  <a:srgbClr val="ff00ff"/>
                </a:solidFill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2742480" y="2666880"/>
                  <a:ext cx="304920" cy="4572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1370880" y="3428640"/>
                  <a:ext cx="762120" cy="60984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201480" y="2895480"/>
                  <a:ext cx="228600" cy="30456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2361960"/>
                  <a:ext cx="384120" cy="384120"/>
                </a:xfrm>
                <a:prstGeom prst="ellipse">
                  <a:avLst/>
                </a:prstGeom>
                <a:noFill/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95480" y="3124080"/>
                  <a:ext cx="384120" cy="384120"/>
                </a:xfrm>
                <a:prstGeom prst="ellipse">
                  <a:avLst/>
                </a:prstGeom>
                <a:noFill/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285640" y="2133360"/>
                  <a:ext cx="228600" cy="30492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2285280" y="2742840"/>
                  <a:ext cx="228600" cy="38124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438280" y="3276360"/>
                  <a:ext cx="4572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1142640" y="4342680"/>
                  <a:ext cx="228600" cy="228960"/>
                  <a:chOff x="1142640" y="4342680"/>
                  <a:chExt cx="228600" cy="2289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1142640" y="434304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238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142640" y="457164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238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1371240" y="434268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238c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3349440" y="2516040"/>
                  <a:ext cx="384120" cy="384120"/>
                </a:xfrm>
                <a:prstGeom prst="ellipse">
                  <a:avLst/>
                </a:prstGeom>
                <a:noFill/>
                <a:ln w="1908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76040" y="1753920"/>
                  <a:ext cx="384480" cy="384120"/>
                </a:xfrm>
                <a:prstGeom prst="ellipse">
                  <a:avLst/>
                </a:prstGeom>
                <a:noFill/>
                <a:ln w="1908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1660680" y="93204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Model 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963960" y="152388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230a2"/>
                </a:solidFill>
                <a:latin typeface="Arial"/>
                <a:ea typeface="Arial"/>
              </a:rPr>
              <a:t>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191120" y="3048120"/>
            <a:ext cx="3047400" cy="3657600"/>
            <a:chOff x="4191120" y="3048120"/>
            <a:chExt cx="3047400" cy="3657600"/>
          </a:xfrm>
        </p:grpSpPr>
        <p:sp>
          <p:nvSpPr>
            <p:cNvPr id="161" name=""/>
            <p:cNvSpPr/>
            <p:nvPr/>
          </p:nvSpPr>
          <p:spPr>
            <a:xfrm>
              <a:off x="5562360" y="609300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28840" y="365760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360" y="525780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1640" y="441972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360" y="3429000"/>
              <a:ext cx="304560" cy="99072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333760" y="3429000"/>
              <a:ext cx="228240" cy="30492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800240" y="4038840"/>
              <a:ext cx="304560" cy="38088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4640" y="4800600"/>
              <a:ext cx="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4640" y="5639040"/>
              <a:ext cx="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6476760"/>
              <a:ext cx="228240" cy="228960"/>
              <a:chOff x="5638680" y="6476760"/>
              <a:chExt cx="228240" cy="228960"/>
            </a:xfrm>
          </p:grpSpPr>
          <p:sp>
            <p:nvSpPr>
              <p:cNvPr id="171" name=""/>
              <p:cNvSpPr/>
              <p:nvPr/>
            </p:nvSpPr>
            <p:spPr>
              <a:xfrm>
                <a:off x="5638680" y="647712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38680" y="6705720"/>
                <a:ext cx="2282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5866920" y="647676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476760" y="525492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040" y="4800600"/>
              <a:ext cx="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553080" y="5638680"/>
              <a:ext cx="228240" cy="228960"/>
              <a:chOff x="6553080" y="5638680"/>
              <a:chExt cx="228240" cy="228960"/>
            </a:xfrm>
          </p:grpSpPr>
          <p:sp>
            <p:nvSpPr>
              <p:cNvPr id="177" name=""/>
              <p:cNvSpPr/>
              <p:nvPr/>
            </p:nvSpPr>
            <p:spPr>
              <a:xfrm>
                <a:off x="6553080" y="563904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53080" y="5867640"/>
                <a:ext cx="2282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781320" y="563868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647960" y="4800240"/>
              <a:ext cx="228240" cy="228960"/>
              <a:chOff x="4647960" y="4800240"/>
              <a:chExt cx="228240" cy="228960"/>
            </a:xfrm>
          </p:grpSpPr>
          <p:sp>
            <p:nvSpPr>
              <p:cNvPr id="181" name=""/>
              <p:cNvSpPr/>
              <p:nvPr/>
            </p:nvSpPr>
            <p:spPr>
              <a:xfrm>
                <a:off x="4647960" y="480060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47960" y="5029200"/>
                <a:ext cx="2282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876200" y="480024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91120" y="3048120"/>
              <a:ext cx="383760" cy="38412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571640" y="3049560"/>
              <a:ext cx="2666880" cy="2817720"/>
              <a:chOff x="4571640" y="3049560"/>
              <a:chExt cx="2666880" cy="2817720"/>
            </a:xfrm>
          </p:grpSpPr>
          <p:sp>
            <p:nvSpPr>
              <p:cNvPr id="186" name=""/>
              <p:cNvSpPr/>
              <p:nvPr/>
            </p:nvSpPr>
            <p:spPr>
              <a:xfrm>
                <a:off x="4571640" y="525456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59120" y="441972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6247440" y="3962520"/>
                <a:ext cx="30492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875840" y="4724280"/>
                <a:ext cx="762120" cy="60984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06440" y="4191120"/>
                <a:ext cx="228600" cy="30456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43240" y="365760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00440" y="441972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90600" y="3429000"/>
                <a:ext cx="228600" cy="30492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790240" y="4038480"/>
                <a:ext cx="228600" cy="38124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943240" y="4572000"/>
                <a:ext cx="45720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4647600" y="5638320"/>
                <a:ext cx="228600" cy="228960"/>
                <a:chOff x="4647600" y="5638320"/>
                <a:chExt cx="228600" cy="2289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647600" y="56386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47600" y="58672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4876200" y="56383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6854400" y="38116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81000" y="3049560"/>
                <a:ext cx="384480" cy="384120"/>
              </a:xfrm>
              <a:prstGeom prst="ellipse">
                <a:avLst/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181480" y="1447920"/>
            <a:ext cx="2060640" cy="1143000"/>
            <a:chOff x="5181480" y="1447920"/>
            <a:chExt cx="2060640" cy="1143000"/>
          </a:xfrm>
        </p:grpSpPr>
        <p:sp>
          <p:nvSpPr>
            <p:cNvPr id="203" name=""/>
            <p:cNvSpPr/>
            <p:nvPr/>
          </p:nvSpPr>
          <p:spPr>
            <a:xfrm>
              <a:off x="6095880" y="144792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ff99cc"/>
            </a:solidFill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181480" y="1978200"/>
              <a:ext cx="2060640" cy="612720"/>
              <a:chOff x="5181480" y="1978200"/>
              <a:chExt cx="2060640" cy="612720"/>
            </a:xfrm>
          </p:grpSpPr>
          <p:sp>
            <p:nvSpPr>
              <p:cNvPr id="205" name=""/>
              <p:cNvSpPr/>
              <p:nvPr/>
            </p:nvSpPr>
            <p:spPr>
              <a:xfrm>
                <a:off x="5181480" y="197820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¬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22800" y="197820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5257800" y="2359080"/>
                <a:ext cx="228600" cy="228960"/>
                <a:chOff x="5257800" y="2359080"/>
                <a:chExt cx="228600" cy="2289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257800" y="235944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57800" y="25880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5486400" y="23590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562720" y="2130840"/>
                <a:ext cx="46008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58000" y="197820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ae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6934320" y="2361960"/>
                <a:ext cx="228600" cy="228960"/>
                <a:chOff x="6934320" y="2361960"/>
                <a:chExt cx="228600" cy="228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934320" y="23623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934320" y="259092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7162920" y="23619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6397560" y="2130840"/>
                <a:ext cx="4604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3962520" y="2895480"/>
            <a:ext cx="3124080" cy="3810240"/>
            <a:chOff x="3962520" y="2895480"/>
            <a:chExt cx="3124080" cy="3810240"/>
          </a:xfrm>
        </p:grpSpPr>
        <p:sp>
          <p:nvSpPr>
            <p:cNvPr id="219" name=""/>
            <p:cNvSpPr/>
            <p:nvPr/>
          </p:nvSpPr>
          <p:spPr>
            <a:xfrm>
              <a:off x="5181480" y="5105520"/>
              <a:ext cx="1905120" cy="1600200"/>
            </a:xfrm>
            <a:prstGeom prst="ellipse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2895480"/>
              <a:ext cx="1600200" cy="2210040"/>
            </a:xfrm>
            <a:prstGeom prst="ellipse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752480" y="4572000"/>
            <a:ext cx="1067040" cy="1066680"/>
          </a:xfrm>
          <a:prstGeom prst="ellipse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3:08:49Z</dcterms:created>
  <dc:creator>Oleg Sheyner</dc:creator>
  <dc:description/>
  <dc:language>en-US</dc:language>
  <cp:lastModifiedBy> </cp:lastModifiedBy>
  <cp:lastPrinted>1998-01-21T17:12:46Z</cp:lastPrinted>
  <dcterms:modified xsi:type="dcterms:W3CDTF">2003-05-01T10:59:30Z</dcterms:modified>
  <cp:revision>838</cp:revision>
  <dc:subject/>
  <dc:title>No Slide Title</dc:title>
</cp:coreProperties>
</file>