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6D77-5B84-429F-8A80-08241B898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E7FF-8ABB-47C8-B0C9-5524C9022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ED6E-7F62-4A17-871B-7504116C4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0404-32DE-487A-A786-2CE021270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30DE-F733-4913-893D-DEE050AFC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B7A7-3B7D-48F7-8C35-0B08A2848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DA2E-6A58-4E70-9122-3ABAE5B5C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D55D-6613-4FCA-8AEA-171CDE1A8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5EA2-DC18-4556-9198-F66CD2E69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7223-7A7B-4403-931F-4CC7F2B6F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0E58-C18A-4CBB-9101-43999EBDF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66DE-609E-45CC-8408-BC570CD1B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42B6-9D19-4EF7-96D7-7A845BD6A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1717-782A-482D-AE6E-6E8CB90E3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DB96-60E4-4863-B76F-411656381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BABF-722F-40E6-A567-E1087FE3B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FF50-4249-468D-A3A2-B56FE706B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6620-0A8E-4875-AA62-8EFA0FF04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C293-7043-4251-9119-4BA51B9D6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BD64-3BDD-43CC-BA35-7CD699FA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B842-06CF-4419-B6F1-A7E0A07C2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1CD0-DCBF-405D-81B9-06CD83512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BEAF-D6A9-47AC-A7A9-F02D16076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FF82-DC38-4421-BB00-B30EC12E6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6A5D-75AE-49E8-8132-41E4C7350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09C6-B9CD-4663-8367-40A5D0712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0F45-41B7-44A7-88B0-148605D33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AE35-E3BC-4C35-B52F-A36717F87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02F8-5A3F-44FA-A67B-EFEB9E21B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8D1D-FA2D-4676-8156-60D9C11A1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2944-513E-412F-B187-416602A4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5326-FE60-4956-8B73-BECCDA1E6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2B44-E3F5-444F-8F7A-7C0D1F731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E2F9-E7A9-4991-AC6C-96810BBBC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5D83-CEE0-4C60-A004-551CA912A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CE8A-7231-4E7A-B133-420F46BD8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FC3E-8B5C-4A32-9529-1AB2319C8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8AD0-8260-4415-BB4A-8361A401B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4398-E245-45FE-BE8A-545121207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223F-188B-4336-AAE2-418420D63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88BC-4544-486C-84E5-C1E4DEA0D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7CE-7CF0-4C23-B756-E18B643D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67344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B91-CFA5-4E71-B247-5948E7A7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760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9A6-F83B-4FB3-A33B-17D17173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36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788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36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788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173-47CD-46D5-B165-4BCAD4C9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B192-2E4A-4310-BA7B-8555835A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4533-09AC-406B-9186-1A13A65C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DDC5-BA7C-42A2-8147-8F62181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3C39-5864-4389-8E16-1766560E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A339-D9BF-4F33-8C00-B63A0F7D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F9B4-58A9-4C17-8C59-C53FD043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CD48-64C2-4909-8389-3D7DC207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334-1DB3-4E71-AFB9-A24C0FDD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FEE0-7ED3-41EE-824A-041EC400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0930-DFD4-405A-A58C-EC42DF2C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67344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19B0-2142-46FF-8B4E-A8533212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0689-7A4E-41CC-889A-1C471B35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06632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3673440"/>
            <a:ext cx="26334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EE4C-D073-4036-9561-D0025BA6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ECA-D02A-4C8F-9A5F-342F3A94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6F9-418A-4BEC-BE37-4114C2DC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7C4-2E14-4179-BAEE-EAB556C5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4F9-E598-4651-A20B-EC71BFCA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831-D204-4C42-AE93-7C3BB78F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7600" y="367344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1DB-18C9-442F-A811-8E0BC9CC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066320"/>
            <a:ext cx="399096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81788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897-836A-4A6F-BA25-5A707370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b919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550"/>
              </a:spcBef>
              <a:buClr>
                <a:srgbClr val="b919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2600" y="62928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92800"/>
            <a:ext cx="109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0B50-06C5-43E9-BB41-74AFF9EC948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6432480"/>
            <a:ext cx="1828800" cy="338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65240" y="6437160"/>
            <a:ext cx="685800" cy="360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76320">
            <a:solidFill>
              <a:srgbClr val="b91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971800" y="6229080"/>
            <a:ext cx="34034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AFDF-4C32-4222-AF4E-7C41931F6A5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320" y="6400800"/>
            <a:ext cx="1828800" cy="338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981080" y="6381720"/>
            <a:ext cx="762120" cy="399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2133720"/>
            <a:ext cx="8382240" cy="0"/>
          </a:xfrm>
          <a:prstGeom prst="line">
            <a:avLst/>
          </a:prstGeom>
          <a:ln w="76320">
            <a:solidFill>
              <a:srgbClr val="b91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b91928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201"/>
              </a:spcBef>
              <a:buClr>
                <a:srgbClr val="b91928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chine Translation</a:t>
            </a:r>
            <a:br>
              <a:rPr sz="2000"/>
            </a:b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2895120"/>
            <a:ext cx="6400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tephan Voge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pring Semester 2011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B589-96C5-459C-AA52-A7FD13057D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traction of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each source phrase length 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each start position j1 = 1 … J – 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each end position j2 = j1 + l – 1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n_i = min{ a(j) : j = j1 … j2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x_i = max{ a(j) : j = j1 … j2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Phrase =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j1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…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j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rgetPhrase = 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min_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… 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max_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ore SourcePhrase ‘#’ TargetPhr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ining in both directions and combine phrase pa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culate probabilit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uning: take only n-best translations for each source phr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16A-D649-4E69-A60E-B69BB9982F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aling with Asymmetr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d alignment models are asymmetric; Viterbi path h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source words – one target word al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no one source word – multiple target words al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in alignment model also in reverse direction, i.e. target -&gt; sour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ing both Viterbi path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: extract phrases from both directions and merge t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’ Viterbi paths and extract phrase pairs according to resulting patt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FCE-57F1-4B8A-9C90-67769E0FF0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bine Viterbi Pa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4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62960" y="1599840"/>
            <a:ext cx="8694720" cy="4777560"/>
            <a:chOff x="462960" y="1599840"/>
            <a:chExt cx="8694720" cy="4777560"/>
          </a:xfrm>
        </p:grpSpPr>
        <p:sp>
          <p:nvSpPr>
            <p:cNvPr id="489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19520" y="4191120"/>
              <a:ext cx="182520" cy="18576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0648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90920" y="3048120"/>
              <a:ext cx="2438280" cy="15238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76920" y="2133720"/>
              <a:ext cx="1981080" cy="10666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19320" y="4419720"/>
              <a:ext cx="1523880" cy="10666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43200" y="3200400"/>
              <a:ext cx="1219320" cy="76212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2120" y="4876920"/>
              <a:ext cx="1066680" cy="10666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13560" y="2819520"/>
              <a:ext cx="182520" cy="18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13560" y="3246480"/>
              <a:ext cx="182520" cy="1825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13560" y="37036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833960" y="26319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-&gt;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849800" y="30481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-&gt;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47640" y="350532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sec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B43-F9A5-45A5-B2D9-F8F472E9E9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bine Viterbi Path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sections: high precision, but low rec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on: lower precision, but higher rec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ined: start from intersection and fill gaps according to points in un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erent heuristics have been us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eh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ality of phrase translation pairs depends 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ality of word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ality of combination of Viterbi path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8F1-3DAF-4515-AB10-863AA9F960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u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w-Dia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w-Diag-Fin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CA0-E0EF-414A-AEA4-96B3DEEA122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u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establish word alignments based on the two GIZA++ alignments, a number of heuristics may be applied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 heuristic: grow-diag-fin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s with the intersection of the two al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hen adds additional alignment point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possible alignment method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 (only add block-neighboring point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-diag (without final step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333-0D8C-4804-969C-F68FFAE374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GROW Heu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W-DIAG-FINAL(e2f,f2e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ighboring = ((-1,0),(0,-1),(1,0),(0,1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-1,-1),(-1,1),(1,-1),(1,1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ignment = intersect(e2f,f2e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W-DIAG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6553080" y="3809880"/>
          <a:ext cx="1702080" cy="1714680"/>
        </p:xfrm>
        <a:graphic>
          <a:graphicData uri="http://schemas.openxmlformats.org/drawingml/2006/table">
            <a:tbl>
              <a:tblPr/>
              <a:tblGrid>
                <a:gridCol w="567000"/>
                <a:gridCol w="568080"/>
                <a:gridCol w="567000"/>
              </a:tblGrid>
              <a:tr h="571680"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"/>
          <p:cNvSpPr/>
          <p:nvPr/>
        </p:nvSpPr>
        <p:spPr>
          <a:xfrm>
            <a:off x="457200" y="3886200"/>
            <a:ext cx="5562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neighborh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rizontal and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‘diag’ then also the co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clear if sequence in neighborhood makes a dif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599-ADC0-4025-87EA-CA0537126A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GROW Heu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OW-DIAG(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erate intersection and un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_points = intersection        // start with interse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rate until no new points ad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op over current_points p         // expand existing po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op over neighboring_points p’  // here ‘diag’ comes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p’ in union                 // select from un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row or col un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p’ to current_po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3E5-2B38-4AF3-82B6-F064A87538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GROW Heuristics: Adding Fin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al(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op over points in un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r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l empty         // row or col or both are f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point to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al-And(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op over points in un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r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l empty         // row and col are both f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point to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al adds disconnected po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‘And’ makes it more restric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can still remain gaps, resulting from originally non-aligned and NULL aligned pos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26F-0774-424A-8397-B33E56EC1A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ading-Off Phrase Pai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act phrase pairs consistent with the word alignment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ds in phrase pair are only aligned to each other, and not to words outs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A) = { (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j+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}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all (i',j') in A : j&lt;=j' &lt;= j+m &lt;-&gt; i &lt;= i' &lt;= i+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mally:  set of phrase pair such that for all points in alignment, if j’ is within a source phrase then i’ is within the corresponding target phr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 gaps allow to extract additional phrase pai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B82-20FA-451E-8325-C33F7EDBCA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Phrase Align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rase Pairs from Viterbi Align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Analy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rase Pair Extraction as Sentence Split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itional Phrase Pair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48A-6DEF-4B4F-905C-16067ED64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coring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5334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frequency – both dir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features (lexical weigh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889280" y="4191120"/>
                <a:ext cx="46958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|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|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|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2971800" y="1525680"/>
                <a:ext cx="251460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|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f</m:t>
                                </m:r>
                              </m:sub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unt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|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e</m:t>
                                </m:r>
                              </m:sub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unt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889280" y="5102280"/>
                <a:ext cx="4763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|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|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|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364-5CC2-4DFB-8178-48ECBC0C97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vergen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4876560"/>
            <a:ext cx="8178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ract all n:m blocks (phrase-pairs ) which have at least one link inside and no conflicting link (i.e. in same rows and columns) outs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l extract many blocks when alignment has ga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not all possible blocks sh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301040" y="1066680"/>
            <a:ext cx="5937480" cy="3813480"/>
            <a:chOff x="1301040" y="1066680"/>
            <a:chExt cx="5937480" cy="3813480"/>
          </a:xfrm>
        </p:grpSpPr>
        <p:sp>
          <p:nvSpPr>
            <p:cNvPr id="643" name=""/>
            <p:cNvSpPr/>
            <p:nvPr/>
          </p:nvSpPr>
          <p:spPr>
            <a:xfrm flipV="1">
              <a:off x="1621440" y="1066680"/>
              <a:ext cx="0" cy="330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21440" y="4370040"/>
              <a:ext cx="56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52480" y="411084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44160" y="378036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36200" y="340308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21440" y="401616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21440" y="366228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21440" y="330804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21440" y="295416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21440" y="260028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21440" y="224640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21440" y="189216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21440" y="153828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21440" y="1184400"/>
              <a:ext cx="5617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201348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0516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79720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318924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58092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7296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436464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475668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14836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554040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593244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632412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71616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7107840" y="1066680"/>
              <a:ext cx="0" cy="3303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1960" y="340308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69760" y="234108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279400" y="198720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45160" y="198720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37200" y="198720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429240" y="163296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20920" y="1302480"/>
              <a:ext cx="156240" cy="14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89200" y="307260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80880" y="201060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36200" y="2751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27880" y="3813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56640" y="416736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11960" y="2364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40360" y="165672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32400" y="204372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24080" y="133560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16120" y="2751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07800" y="3813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9840" y="3426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91880" y="275148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83560" y="204372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46840" y="4167360"/>
              <a:ext cx="93600" cy="84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52480" y="165672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57840" y="308484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49880" y="165672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19920" y="202284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25280" y="343872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17320" y="379260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01040" y="414648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93080" y="236448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84760" y="130248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76800" y="273060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68480" y="379260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860520" y="1668960"/>
              <a:ext cx="116640" cy="10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17640" y="383904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817640" y="2777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17640" y="242316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17640" y="202032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20480" y="136152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09320" y="1715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09320" y="278712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09320" y="4193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601360" y="383904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01360" y="3131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01360" y="2069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01360" y="136152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93040" y="1715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993040" y="207936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93040" y="278712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85080" y="343620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85080" y="383904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76760" y="383904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76760" y="4193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168800" y="4193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168800" y="3131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68800" y="2069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68800" y="136152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60840" y="1715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60840" y="2777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60840" y="348516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60840" y="384912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98160" y="348516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52520" y="242316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520" y="2069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52520" y="1715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55720" y="1725480"/>
              <a:ext cx="5400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55720" y="136152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28280" y="172548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65960" y="136152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531120" y="2433240"/>
              <a:ext cx="5400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19960" y="314136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923160" y="313128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912000" y="348516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465960" y="4203000"/>
              <a:ext cx="5400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73920" y="419328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28280" y="383904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44560" y="419328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47400" y="3485160"/>
              <a:ext cx="5400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36240" y="277740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44560" y="3141360"/>
              <a:ext cx="54360" cy="4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85080" y="1361520"/>
              <a:ext cx="54360" cy="4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80480" y="437004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83840" y="437004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02840" y="4016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01040" y="118440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364640" y="2187360"/>
              <a:ext cx="848880" cy="117972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83560" y="1479600"/>
              <a:ext cx="1697760" cy="8254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48320" y="3249360"/>
              <a:ext cx="1306080" cy="8254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797200" y="2954160"/>
              <a:ext cx="1175400" cy="70776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56280" y="3603240"/>
              <a:ext cx="914040" cy="8254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05160" y="3308040"/>
              <a:ext cx="783720" cy="3538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59960" y="4049280"/>
              <a:ext cx="326160" cy="294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042280" y="3696840"/>
              <a:ext cx="326160" cy="294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51080" y="2246400"/>
              <a:ext cx="1997280" cy="10864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03160" y="2271240"/>
              <a:ext cx="326160" cy="294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38120" y="2246400"/>
              <a:ext cx="718200" cy="70776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48360" y="1892160"/>
              <a:ext cx="1175400" cy="3538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57200" y="1213920"/>
              <a:ext cx="326160" cy="294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65160" y="1575360"/>
              <a:ext cx="326160" cy="294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74840" y="2600280"/>
              <a:ext cx="1697760" cy="109476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40360" y="2954160"/>
              <a:ext cx="2024280" cy="76680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385-D5A2-4AAD-8DE7-BC300E7AC7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ad Phrase Pairs from Perfect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 for phrase pairs extracted from different word align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WA-0.1  high precision W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wa-0.9 high recall W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g-*: human WA, PP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and without gaps in W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: IBM4 symmetriz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ndom: random targ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generation f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ppy W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4029120" y="1600200"/>
            <a:ext cx="5038560" cy="467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3F3-6F37-459B-B80E-5C791FC336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aling with Memory Limit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rase translation tables are memory kill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 of phrases quickly exceeds number of words in corp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 required is multiple of memory for corp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have corpora of 200 million words -&g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1 billion phrase pai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trict phr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take short ones (default: 7 wor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take frequent 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ion mod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 only phrases required for test sentences (i.e. extract from large phrase translation tab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ract and store only required phrase pairs (i.e. part of training cycle at evaluation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309-90B7-4DCB-9693-D83AFD0599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(Source)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92468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 corpus: 40k sentences with 400k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467000" y="1635120"/>
          <a:ext cx="5619600" cy="2590920"/>
        </p:xfrm>
        <a:graphic>
          <a:graphicData uri="http://schemas.openxmlformats.org/drawingml/2006/table">
            <a:tbl>
              <a:tblPr/>
              <a:tblGrid>
                <a:gridCol w="668160"/>
                <a:gridCol w="1238400"/>
                <a:gridCol w="1238040"/>
                <a:gridCol w="1236960"/>
                <a:gridCol w="1238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eq &gt;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,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6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3,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7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,5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0,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,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,5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0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8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5,9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6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457200" y="4800600"/>
            <a:ext cx="792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phrases quickly exceeds number of words i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s are for source phrases only; each phrase typically has multiple translations (factor 5 –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CC7-CC83-4082-AC15-90657FB172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alyzing Phrase Table: Sp-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of src-tgt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ll-beha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too many unbalanced phrase pai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685800" y="2806560"/>
          <a:ext cx="7797960" cy="2679840"/>
        </p:xfrm>
        <a:graphic>
          <a:graphicData uri="http://schemas.openxmlformats.org/drawingml/2006/table">
            <a:tbl>
              <a:tblPr/>
              <a:tblGrid>
                <a:gridCol w="641520"/>
                <a:gridCol w="1022040"/>
                <a:gridCol w="1022400"/>
                <a:gridCol w="1022400"/>
                <a:gridCol w="1022400"/>
                <a:gridCol w="1022400"/>
                <a:gridCol w="1022400"/>
                <a:gridCol w="1022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,6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9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,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3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,4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,2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5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8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,3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,7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,1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,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,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,8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7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,5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,7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9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8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,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206-6B9D-43F9-9EA9-B053AC770C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n Things Go Wro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nese-English phrase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of src-tgt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her flat distribution – rather str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304920" y="2895480"/>
          <a:ext cx="8610480" cy="2857680"/>
        </p:xfrm>
        <a:graphic>
          <a:graphicData uri="http://schemas.openxmlformats.org/drawingml/2006/table">
            <a:tbl>
              <a:tblPr/>
              <a:tblGrid>
                <a:gridCol w="630000"/>
                <a:gridCol w="1140120"/>
                <a:gridCol w="1139760"/>
                <a:gridCol w="1139760"/>
                <a:gridCol w="1141200"/>
                <a:gridCol w="1140120"/>
                <a:gridCol w="1139760"/>
                <a:gridCol w="113976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42,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259,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482,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702,9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909,6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88,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59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8,8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43,2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325,6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44,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2,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,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0,7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,5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7,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1,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0,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,6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,6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,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7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,4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,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,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8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482-F00D-4E9C-9A9E-CB6128F5551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n Things Go Wro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quency of phrase pa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: some high frequency words end up with large number of translations (very nois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prune phrase table before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ed in deco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1523880" y="3352680"/>
          <a:ext cx="6096240" cy="2679840"/>
        </p:xfrm>
        <a:graphic>
          <a:graphicData uri="http://schemas.openxmlformats.org/drawingml/2006/table">
            <a:tbl>
              <a:tblPr/>
              <a:tblGrid>
                <a:gridCol w="470880"/>
                <a:gridCol w="1406160"/>
                <a:gridCol w="1406880"/>
                <a:gridCol w="1406160"/>
                <a:gridCol w="140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sr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pai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pairs/#sr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,544,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51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75,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433,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,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7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30,6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,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4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9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7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E56-134A-4EA8-B26A-2ED9A149A79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Viterbi 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ider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phrases up to any leng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not store all phrase pairs -&gt; search them on the f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quality translation pai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lance with word-based trans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273-A897-4D31-8328-A7ADEC882E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 As Sentence Split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4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translation for one source phr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62960" y="1599840"/>
            <a:ext cx="6928560" cy="4811040"/>
            <a:chOff x="462960" y="1599840"/>
            <a:chExt cx="6928560" cy="4811040"/>
          </a:xfrm>
        </p:grpSpPr>
        <p:sp>
          <p:nvSpPr>
            <p:cNvPr id="795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66880" y="1752480"/>
              <a:ext cx="1828800" cy="4114800"/>
            </a:xfrm>
            <a:prstGeom prst="rect">
              <a:avLst/>
            </a:prstGeom>
            <a:solidFill>
              <a:srgbClr val="ff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8A7-3121-4226-B2B1-922D365E17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lignment 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8178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hinese word aligned to multi-word English phr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lexicon individual entries with ‘the’, ‘development’, ‘of’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to generate from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 translation ‘development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if insertions of ‘the’ and ‘of’ improves LM prob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ier to generate if we have phrase pairs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736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7A5-8603-4762-94D9-D340B5199D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178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e would like to fi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462960" y="1599840"/>
            <a:ext cx="6928560" cy="4811040"/>
            <a:chOff x="462960" y="1599840"/>
            <a:chExt cx="6928560" cy="4811040"/>
          </a:xfrm>
        </p:grpSpPr>
        <p:sp>
          <p:nvSpPr>
            <p:cNvPr id="919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8080" y="3124080"/>
              <a:ext cx="6400800" cy="914400"/>
            </a:xfrm>
            <a:prstGeom prst="rect">
              <a:avLst/>
            </a:prstGeom>
            <a:solidFill>
              <a:srgbClr val="ff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66880" y="1752480"/>
              <a:ext cx="1828800" cy="4114800"/>
            </a:xfrm>
            <a:prstGeom prst="rect">
              <a:avLst/>
            </a:prstGeom>
            <a:solidFill>
              <a:srgbClr val="ff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8000" y="3581280"/>
              <a:ext cx="42444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8000" y="3048120"/>
              <a:ext cx="42444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406440" y="228600"/>
            <a:ext cx="835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 As Sentence Spl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8B0-13E6-4EB2-9309-83E54ADA13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388620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culate modified IBM1 word alignment: don’t sum over words in ‘forbidden’ (grey) are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arget phrase boundaries which maximize sentence alignment prob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ify boundaries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ulate sentence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e b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"/>
          <p:cNvSpPr/>
          <p:nvPr/>
        </p:nvSpPr>
        <p:spPr>
          <a:xfrm>
            <a:off x="4724280" y="1600200"/>
            <a:ext cx="4114800" cy="441972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852520" y="6060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300440" y="6060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411440" y="43848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335120" y="3013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724280" y="3276720"/>
            <a:ext cx="1219320" cy="1371600"/>
          </a:xfrm>
          <a:prstGeom prst="rect">
            <a:avLst/>
          </a:prstGeom>
          <a:solidFill>
            <a:srgbClr val="dddddd"/>
          </a:solidFill>
          <a:ln w="0">
            <a:solidFill>
              <a:srgbClr val="5e574e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943600" y="1600200"/>
            <a:ext cx="1523880" cy="1676520"/>
          </a:xfrm>
          <a:prstGeom prst="rect">
            <a:avLst/>
          </a:prstGeom>
          <a:solidFill>
            <a:srgbClr val="dddddd"/>
          </a:solidFill>
          <a:ln w="0">
            <a:solidFill>
              <a:srgbClr val="5e574e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467480" y="3276720"/>
            <a:ext cx="1371600" cy="1371600"/>
          </a:xfrm>
          <a:prstGeom prst="rect">
            <a:avLst/>
          </a:prstGeom>
          <a:solidFill>
            <a:srgbClr val="dddddd"/>
          </a:solidFill>
          <a:ln w="0">
            <a:solidFill>
              <a:srgbClr val="5e574e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943600" y="4648320"/>
            <a:ext cx="1523880" cy="1371600"/>
          </a:xfrm>
          <a:prstGeom prst="rect">
            <a:avLst/>
          </a:prstGeom>
          <a:solidFill>
            <a:srgbClr val="dddddd"/>
          </a:solidFill>
          <a:ln w="0">
            <a:solidFill>
              <a:srgbClr val="5e574e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4197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 As Sentence Split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FDE-9CE6-4741-A35C-3DF00655A6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Extraction via Sentence Split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modified IBM1 word alignment: don’t sum over words in ‘forbidden’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+ 1 is length of target phras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Pr(</a:t>
            </a: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 are normalized over columns, i.e.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target boundaries to maximize sentence alignment prob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argma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 baseline="-5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 baseline="-5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{ P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 baseline="-5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 baseline="-5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|t)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981080" y="2435400"/>
                <a:ext cx="4724640" cy="24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∉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×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×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∉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952880" y="1752480"/>
                <a:ext cx="1219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742-C667-456C-A80D-9DA859E164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62960" y="1599840"/>
            <a:ext cx="7080840" cy="4811040"/>
            <a:chOff x="462960" y="1599840"/>
            <a:chExt cx="7080840" cy="4811040"/>
          </a:xfrm>
        </p:grpSpPr>
        <p:sp>
          <p:nvSpPr>
            <p:cNvPr id="1066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495680" y="1752480"/>
              <a:ext cx="27432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95680" y="49528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38080" y="49528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38080" y="1752480"/>
              <a:ext cx="18288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66880" y="40384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B36-D29F-423B-94D6-64207331F1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462960" y="1599840"/>
            <a:ext cx="7157160" cy="4811040"/>
            <a:chOff x="462960" y="1599840"/>
            <a:chExt cx="7157160" cy="4811040"/>
          </a:xfrm>
        </p:grpSpPr>
        <p:sp>
          <p:nvSpPr>
            <p:cNvPr id="1197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95680" y="1752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95680" y="49528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38080" y="49528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38080" y="1752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666880" y="35812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A81-047C-4545-96F0-62C4CA5D7C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462960" y="1599840"/>
            <a:ext cx="7233120" cy="4811040"/>
            <a:chOff x="462960" y="1599840"/>
            <a:chExt cx="7233120" cy="4811040"/>
          </a:xfrm>
        </p:grpSpPr>
        <p:sp>
          <p:nvSpPr>
            <p:cNvPr id="1329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495680" y="17524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495680" y="49528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38080" y="49528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38080" y="17524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66880" y="31240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020-0A97-42B9-9408-23FAAC0064F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462960" y="1599840"/>
            <a:ext cx="7309440" cy="4811040"/>
            <a:chOff x="462960" y="1599840"/>
            <a:chExt cx="7309440" cy="4811040"/>
          </a:xfrm>
        </p:grpSpPr>
        <p:sp>
          <p:nvSpPr>
            <p:cNvPr id="1462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495680" y="1752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95680" y="44956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38080" y="44956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38080" y="1752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666880" y="35812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687-E072-47D9-A2F3-0B7093D31F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462960" y="1599840"/>
            <a:ext cx="7385760" cy="4811040"/>
            <a:chOff x="462960" y="1599840"/>
            <a:chExt cx="7385760" cy="4811040"/>
          </a:xfrm>
        </p:grpSpPr>
        <p:sp>
          <p:nvSpPr>
            <p:cNvPr id="1596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495680" y="17524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495680" y="44956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38080" y="44956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38080" y="17524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666880" y="31240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71A-492E-4555-B6DD-3D36DFA113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462960" y="1599840"/>
            <a:ext cx="7461720" cy="4811040"/>
            <a:chOff x="462960" y="1599840"/>
            <a:chExt cx="7461720" cy="4811040"/>
          </a:xfrm>
        </p:grpSpPr>
        <p:sp>
          <p:nvSpPr>
            <p:cNvPr id="1731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95680" y="17524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495680" y="44956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38080" y="44956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38080" y="17524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666880" y="26668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644-E345-49F4-B430-F94B7C0825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62960" y="1599840"/>
            <a:ext cx="7538040" cy="4811040"/>
            <a:chOff x="462960" y="1599840"/>
            <a:chExt cx="7538040" cy="4811040"/>
          </a:xfrm>
        </p:grpSpPr>
        <p:sp>
          <p:nvSpPr>
            <p:cNvPr id="1867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495680" y="17524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495680" y="4038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38080" y="4038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38080" y="17524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666880" y="31240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39E-A593-41B0-85E2-6EA62F0FE5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y Phrase to Phrase Transl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ptures n x m align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s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 reord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nsates segmentation err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491000"/>
            <a:ext cx="3581280" cy="38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3041640"/>
            <a:ext cx="4267080" cy="731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3094200"/>
            <a:ext cx="3733560" cy="411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981080" y="4475160"/>
            <a:ext cx="2362320" cy="706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343400" y="1295280"/>
            <a:ext cx="4343400" cy="105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ED7-9E55-45F5-A66A-0B360F16A3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462960" y="1599840"/>
            <a:ext cx="7614360" cy="4811040"/>
            <a:chOff x="462960" y="1599840"/>
            <a:chExt cx="7614360" cy="4811040"/>
          </a:xfrm>
        </p:grpSpPr>
        <p:sp>
          <p:nvSpPr>
            <p:cNvPr id="2004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95680" y="17524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95680" y="4038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38080" y="4038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38080" y="17524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666880" y="26668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01000" y="4343400"/>
              <a:ext cx="76320" cy="15238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F57-F839-41E1-A107-F4A6D637422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"/>
          <p:cNvGrpSpPr/>
          <p:nvPr/>
        </p:nvGrpSpPr>
        <p:grpSpPr>
          <a:xfrm>
            <a:off x="462960" y="1599840"/>
            <a:ext cx="7690320" cy="4811040"/>
            <a:chOff x="462960" y="1599840"/>
            <a:chExt cx="7690320" cy="4811040"/>
          </a:xfrm>
        </p:grpSpPr>
        <p:sp>
          <p:nvSpPr>
            <p:cNvPr id="2142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495680" y="1752480"/>
              <a:ext cx="27432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495680" y="3581280"/>
              <a:ext cx="27432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38080" y="3581280"/>
              <a:ext cx="18288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38080" y="17524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666880" y="26668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001000" y="4343400"/>
              <a:ext cx="76320" cy="15238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077320" y="5334120"/>
              <a:ext cx="7596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699-4F31-4D2F-B468-0BA749CE2D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optimal bound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80" name=""/>
          <p:cNvGrpSpPr/>
          <p:nvPr/>
        </p:nvGrpSpPr>
        <p:grpSpPr>
          <a:xfrm>
            <a:off x="462960" y="1599840"/>
            <a:ext cx="7766640" cy="4811040"/>
            <a:chOff x="462960" y="1599840"/>
            <a:chExt cx="7766640" cy="4811040"/>
          </a:xfrm>
        </p:grpSpPr>
        <p:sp>
          <p:nvSpPr>
            <p:cNvPr id="2281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495680" y="1752480"/>
              <a:ext cx="274320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495680" y="3581280"/>
              <a:ext cx="27432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38080" y="3581280"/>
              <a:ext cx="1828800" cy="22860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38080" y="1752480"/>
              <a:ext cx="182880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666880" y="22096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001000" y="4343400"/>
              <a:ext cx="76320" cy="152388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077320" y="5334120"/>
              <a:ext cx="75960" cy="53316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53280" y="5638680"/>
              <a:ext cx="76320" cy="228600"/>
            </a:xfrm>
            <a:prstGeom prst="rect">
              <a:avLst/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ADA-459C-4FAA-BF67-247DCD088BD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 – Best Resul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al target phr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20" name=""/>
          <p:cNvGrpSpPr/>
          <p:nvPr/>
        </p:nvGrpSpPr>
        <p:grpSpPr>
          <a:xfrm>
            <a:off x="462960" y="1599840"/>
            <a:ext cx="7766640" cy="4811040"/>
            <a:chOff x="462960" y="1599840"/>
            <a:chExt cx="7766640" cy="4811040"/>
          </a:xfrm>
        </p:grpSpPr>
        <p:sp>
          <p:nvSpPr>
            <p:cNvPr id="2421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495680" y="17524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495680" y="4038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38080" y="4038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38080" y="17524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66880" y="31240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001000" y="4343400"/>
              <a:ext cx="76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8077320" y="5334120"/>
              <a:ext cx="759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8153280" y="5638680"/>
              <a:ext cx="763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09480" y="3124080"/>
              <a:ext cx="0" cy="9144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5B1-AEB0-437F-94B9-7A839A9A33D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Alignment – Use n-bes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ll translation candidates with scores close to the best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"/>
          <p:cNvSpPr/>
          <p:nvPr/>
        </p:nvSpPr>
        <p:spPr>
          <a:xfrm>
            <a:off x="7696080" y="2743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7696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3" name=""/>
          <p:cNvGrpSpPr/>
          <p:nvPr/>
        </p:nvGrpSpPr>
        <p:grpSpPr>
          <a:xfrm>
            <a:off x="457200" y="1599840"/>
            <a:ext cx="7848720" cy="4811040"/>
            <a:chOff x="457200" y="1599840"/>
            <a:chExt cx="7848720" cy="4811040"/>
          </a:xfrm>
        </p:grpSpPr>
        <p:sp>
          <p:nvSpPr>
            <p:cNvPr id="2564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495680" y="1752480"/>
              <a:ext cx="27432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495680" y="4038480"/>
              <a:ext cx="27432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38080" y="4038480"/>
              <a:ext cx="1828800" cy="18288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838080" y="1752480"/>
              <a:ext cx="1828800" cy="13716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666880" y="3124080"/>
              <a:ext cx="1828800" cy="9144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467480" y="5562720"/>
              <a:ext cx="763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543800" y="5334120"/>
              <a:ext cx="763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620120" y="4800600"/>
              <a:ext cx="7596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696080" y="4952880"/>
              <a:ext cx="763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772400" y="3505320"/>
              <a:ext cx="76320" cy="2361960"/>
            </a:xfrm>
            <a:prstGeom prst="rect">
              <a:avLst/>
            </a:prstGeom>
            <a:solidFill>
              <a:srgbClr val="ff99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848720" y="4572000"/>
              <a:ext cx="759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924680" y="2743200"/>
              <a:ext cx="76320" cy="3124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01000" y="4343400"/>
              <a:ext cx="76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77320" y="5334120"/>
              <a:ext cx="759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153280" y="5638680"/>
              <a:ext cx="763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305920" y="27432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74752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92232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125600" y="5867280"/>
              <a:ext cx="390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1600" spc="-1" strike="noStrike" baseline="-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698920" y="3156120"/>
              <a:ext cx="1765080" cy="1307880"/>
            </a:xfrm>
            <a:prstGeom prst="rect">
              <a:avLst/>
            </a:prstGeom>
            <a:noFill/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666880" y="3124080"/>
              <a:ext cx="1828800" cy="91440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09480" y="3124080"/>
              <a:ext cx="0" cy="9144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57200" y="3124080"/>
              <a:ext cx="0" cy="137160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E7F-565A-40C1-85D3-84BDA6EFA5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oking from Both Sid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culate both                      an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olate the probabilities from both direction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 the target phrase boundary 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 which 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olation factor c can be tuned on development test se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8" name=""/>
              <p:cNvSpPr txBox="1"/>
              <p:nvPr/>
            </p:nvSpPr>
            <p:spPr>
              <a:xfrm>
                <a:off x="2782800" y="1066680"/>
                <a:ext cx="13795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9" name=""/>
              <p:cNvSpPr txBox="1"/>
              <p:nvPr/>
            </p:nvSpPr>
            <p:spPr>
              <a:xfrm>
                <a:off x="5203800" y="1066680"/>
                <a:ext cx="13748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0" name=""/>
              <p:cNvSpPr txBox="1"/>
              <p:nvPr/>
            </p:nvSpPr>
            <p:spPr>
              <a:xfrm>
                <a:off x="1000080" y="2590920"/>
                <a:ext cx="7097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F81-D368-4C37-BDA7-9A6F48A022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peed-U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estimate of expected target phrase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maximum lexical probability for each source phrase w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ke average posi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 only boundaries around that expected pos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rict target phrase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.g. only 1.5 times longer than source phr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3" name=""/>
              <p:cNvSpPr txBox="1"/>
              <p:nvPr/>
            </p:nvSpPr>
            <p:spPr>
              <a:xfrm>
                <a:off x="1981080" y="2228760"/>
                <a:ext cx="4343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DC3-8ED5-418A-BA88-72C35109060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itional Phrase Pair Featur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ngth balance fea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|len(f) - len(e)| as fea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fertility-based length mod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frequency word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over-generate and under-generate punctuations and high frequency words (the, a, is, and, …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counts, how often words are seen in target phr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use word pairs as binary features (seen – not se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 match, i.e. each SrcPOS – TgtPOS pair is a binary fea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ntactic features: chunk boundaries, sub-tree alignment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ature weights trained on dev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ACB-8F78-48ED-A23C-194B729F601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st-In-Time Phrase Pair Extra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test sentence: find occurrences of all substrings (n-grams) in the bilingual corp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uffix array to index source part of corp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ace efficient (for each word – one poin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arch requires binary sear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find n-grams up to any n (restricted within sentence boundari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act phrase-translation pai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phrase alignment based on word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use Viterbi alignment (could be pre-calculat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use new phrase alignment approac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ed approach: high frequency phrases aligned offline, low frequency phrases aligned on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ffix array toolkit by Joy Ying Zha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projectile.sv.cmu.edu/research/public/tools/salm/salm.ht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037-8096-4380-8C59-076DCA15202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dexing a Corpus using a Suffix Arr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19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410600" cy="499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453-8298-452A-81A8-4CDD5515D05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ow to get Phrase Transl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Typically: Train word alignment model and extract phrase-to-phrase translations from Viterbi pa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BM model 4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MM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ilingual Brack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Genuine phrase translation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ntegrated segmentation and alignment (IS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hase Pair Extraction via full Sentence Al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Not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Often better results when training target to source for extraction of phrase translations due to asymmetry of alignment mod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hrases are not fully integrated into the alignment model, they are extracted only after training is completed – how to assign probabiliti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C2C-1E6B-473D-AEDA-EE413F3ED6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dexing a Corpus using a Suffix Arr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6840" y="4654440"/>
            <a:ext cx="817884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lignment the sentence numbers are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 &lt;sos&gt; markers into the corp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 sentence numbers into the corp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2" name=""/>
          <p:cNvSpPr/>
          <p:nvPr/>
        </p:nvSpPr>
        <p:spPr>
          <a:xfrm>
            <a:off x="1049400" y="167652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2049480" y="167652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4059360" y="167652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5062680" y="167652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6068880" y="1676520"/>
            <a:ext cx="10051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7072200" y="1676520"/>
            <a:ext cx="10051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3051000" y="1676520"/>
            <a:ext cx="10051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2324160" y="3219480"/>
            <a:ext cx="2705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270504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308628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346716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384804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422928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610160" y="3219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2514600" y="2057400"/>
            <a:ext cx="1981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 flipV="1">
            <a:off x="2895480" y="2057400"/>
            <a:ext cx="4648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 flipH="1" flipV="1">
            <a:off x="1523520" y="2057400"/>
            <a:ext cx="1752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 flipH="1" flipV="1">
            <a:off x="2590560" y="20574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 flipV="1">
            <a:off x="4038480" y="2057400"/>
            <a:ext cx="1524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H="1" flipV="1">
            <a:off x="3505320" y="2057400"/>
            <a:ext cx="9144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4800600" y="2057400"/>
            <a:ext cx="17524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4343760" y="39006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 rot="16200000">
            <a:off x="4495680" y="342864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B84-2CE1-459E-86A3-D3D1589726A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arching a String using a Suffix Arr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arch “the economy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step: search for range of “the” =&gt; [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step: search for range of “the economy” within [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 =&gt; [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7" name=""/>
          <p:cNvSpPr/>
          <p:nvPr/>
        </p:nvSpPr>
        <p:spPr>
          <a:xfrm>
            <a:off x="973080" y="3017880"/>
            <a:ext cx="10051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1973160" y="3017880"/>
            <a:ext cx="10051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3983040" y="301788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4986360" y="3017880"/>
            <a:ext cx="1004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5992920" y="3017880"/>
            <a:ext cx="1004760" cy="3650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6996240" y="3017880"/>
            <a:ext cx="1004760" cy="3650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2975040" y="3017880"/>
            <a:ext cx="1004760" cy="3650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2247840" y="4560840"/>
            <a:ext cx="2705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262908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300996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339084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77208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415296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4533840" y="4560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 flipV="1">
            <a:off x="2438280" y="3398760"/>
            <a:ext cx="1981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 flipV="1">
            <a:off x="2819520" y="3398760"/>
            <a:ext cx="4647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 flipH="1" flipV="1">
            <a:off x="1447920" y="339876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 flipH="1" flipV="1">
            <a:off x="2514240" y="339876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flipV="1">
            <a:off x="3962520" y="339876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 flipH="1" flipV="1">
            <a:off x="3429000" y="3398760"/>
            <a:ext cx="9144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 flipV="1">
            <a:off x="4724280" y="3398760"/>
            <a:ext cx="175284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4294800" y="518148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 rot="16200000">
            <a:off x="4419720" y="477000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 rot="16200000">
            <a:off x="4647960" y="57146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4036320" y="5943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conomy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D27-76FA-44BB-87AC-AA4FFF3DC2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ting all Sub-Strings of a Sente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testing sentenc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e want to locate all the substrings of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corp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ïve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umerate all substrings in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search their occurre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te a phrase o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ords in a corpus of N words requires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(n·logN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has 1 phrase of m-words, 2 with (m-1) words, and …, m single word “phrases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is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(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og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Smarter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phrase exists in the corpus only when all its sub-phrases ex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earch table bottom-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1488960" y="3470400"/>
                <a:ext cx="4572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1AD-D169-4958-A6B9-3F105E35BF1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ting all Sub-Strings of a Sente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ing sentence: “growth is the essence of the economy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543800" cy="311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804-8261-46DF-ADC6-FE28AF031D6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ime Complex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ing the training corp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(Nlog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e for corpu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ting all the sub-strings of a testing sentence of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m·log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pare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N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naïve algorith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80" name=""/>
          <p:cNvGraphicFramePr/>
          <p:nvPr/>
        </p:nvGraphicFramePr>
        <p:xfrm>
          <a:off x="1752480" y="1905120"/>
          <a:ext cx="303876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303876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2" name=""/>
          <p:cNvGraphicFramePr/>
          <p:nvPr/>
        </p:nvGraphicFramePr>
        <p:xfrm>
          <a:off x="1800360" y="3962520"/>
          <a:ext cx="4876560" cy="21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0360" y="3962520"/>
                    <a:ext cx="487656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C9D-4987-4D5F-851A-22D74B75071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Contiguous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r Zug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omm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eute mit 10 Minuten Verspaetung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day the trai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ll arr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10 minutes l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 ne veux plus jou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do not want to play anym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erre ne mange pa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erre does not e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within bounds of longer contiguous phrases, but does not general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completely out of bou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6" name=""/>
          <p:cNvSpPr/>
          <p:nvPr/>
        </p:nvSpPr>
        <p:spPr>
          <a:xfrm>
            <a:off x="2057400" y="3733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 flipH="1">
            <a:off x="2666880" y="3733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2133720" y="3733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 flipH="1" flipV="1">
            <a:off x="2590920" y="37335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135252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 flipV="1">
            <a:off x="1600200" y="243792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 flipH="1" flipV="1">
            <a:off x="2133360" y="24379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676520" y="24382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 flipH="1">
            <a:off x="2819520" y="24382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 flipH="1" flipV="1">
            <a:off x="3124080" y="243792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 flipH="1" flipV="1">
            <a:off x="2666520" y="243792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 flipV="1">
            <a:off x="1981080" y="243792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16002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135-EEC3-4634-914E-E7600A91FF5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word alignment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e problems as with contiguous phrases due to 1:n restri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phrase alignment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 phrase extraction does not consider disjoint phr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ically, there will be conflicting alignment points which prevent the extra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n if no conflicting alignment points, the extracted phrase pair would still be wro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two fragments of a non-contiguous phrase can be extracted as two separate phrases pai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decoding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-contiguous on source side -&gt; generate translation for each fra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-contiguous on target side -&gt; generate on part of the trans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8EB-2D14-42AB-B539-D29EBA981E8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ome Work on Non-Contiguous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ard et al.  Translating with non-contiguous phrases, 200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cedda et al.  An elastic-phrase model for statistical machine transl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lley and Manning.  Accurate non-hierarchical phrase-based transl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 hierarchical models (e.g. Hiero) extract non-contiguous phr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 X pas :: not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 ne veux plus X :: I do not want X anym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BFB-514C-46EB-863F-B8C032DCBF2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nding Non-Contiguous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Galley and Manning, 20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a sentence is segmented into (possibly non-continuous) phr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ch phrase is characterized by a coverage set (i.e. set of position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a sentence pair has same number of phrases on source and targe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-&gt; s = (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…,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:: t = (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…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pair of coverage sets (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is consistent with word alignment A if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:  no restriction in the number of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non-contiguous phrase pairs:  exponential in max phrase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uffix array to find non-contiguous phrases (Lopez, 20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3048120" y="3733920"/>
                <a:ext cx="28191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i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↔</m:t>
                    </m:r>
                    <m:r>
                      <m:t xml:space="preserve">j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515-F805-4591-A371-C51C6F1BEE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nefits from Non-Contiguous Phra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nslation quality goes up:  Galley and Manning repor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roved BLEU and TER sc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d to Moses and Joshu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ross multiple Ch-En test s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esting: leng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matching phras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re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" descr=""/>
          <p:cNvPicPr/>
          <p:nvPr/>
        </p:nvPicPr>
        <p:blipFill>
          <a:blip r:embed="rId1"/>
          <a:stretch/>
        </p:blipFill>
        <p:spPr>
          <a:xfrm>
            <a:off x="3933720" y="2784600"/>
            <a:ext cx="4676760" cy="35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737-118A-47B7-9800-F98A2AEE4DE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 Pairs from Viterbi Pa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788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in your favorite word alignment (IBMn, HMM, …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culate Viterbi path (i.e. path with highest probability or best scor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tails …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F7A-8ACB-4974-B5FD-D856866DF4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rase alignment based on underlying word al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phrase alignment approa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m Viterbi path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hrase alignment as optimizing sentence split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ing from both side to cope with asymmetry of word alignment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rase translation table is huge:  Restrict phrase to short and/or high frequency phr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 phrase al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suffix array to index all phrases in corp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ficient way to find all phrase in a sente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ual alignment takes 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contiguous phr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ficient search with suffix arr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ificant improvement in translation qua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er matching phras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D8D-1907-4B6F-82AE-EADCAF1F0D7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ord Alignment Matrix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ment probabilities according to lex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62960" y="1599840"/>
            <a:ext cx="6928560" cy="4777560"/>
            <a:chOff x="462960" y="1599840"/>
            <a:chExt cx="6928560" cy="4777560"/>
          </a:xfrm>
        </p:grpSpPr>
        <p:sp>
          <p:nvSpPr>
            <p:cNvPr id="116" name=""/>
            <p:cNvSpPr/>
            <p:nvPr/>
          </p:nvSpPr>
          <p:spPr>
            <a:xfrm flipV="1">
              <a:off x="838080" y="1599840"/>
              <a:ext cx="180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5867280"/>
              <a:ext cx="6553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8080" y="54100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49528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44956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40384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35812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31240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26668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2096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1752480"/>
              <a:ext cx="65534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52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7524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2096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6668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1240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5812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0384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4956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9528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4100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8672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3244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7816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238880" y="1599840"/>
              <a:ext cx="180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648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BC8-D680-47A8-9865-8E2CF30C09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iterbi Pa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098720"/>
            <a:ext cx="817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Viterbi path (i.e. path with highest probabili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62960" y="1599840"/>
            <a:ext cx="6928560" cy="4777560"/>
            <a:chOff x="462960" y="1599840"/>
            <a:chExt cx="6928560" cy="4777560"/>
          </a:xfrm>
        </p:grpSpPr>
        <p:sp>
          <p:nvSpPr>
            <p:cNvPr id="238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0648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0C3-1F35-4189-82E1-86BFDC0D9B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rases from Viterbi Pa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4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19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off source phrase – target phrase pa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62960" y="1599840"/>
            <a:ext cx="6928560" cy="4777560"/>
            <a:chOff x="462960" y="1599840"/>
            <a:chExt cx="6928560" cy="4777560"/>
          </a:xfrm>
        </p:grpSpPr>
        <p:sp>
          <p:nvSpPr>
            <p:cNvPr id="360" name=""/>
            <p:cNvSpPr/>
            <p:nvPr/>
          </p:nvSpPr>
          <p:spPr>
            <a:xfrm flipV="1">
              <a:off x="838080" y="15998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8080" y="58672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90720" y="5532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7920" y="51055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080" y="5410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8080" y="4952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4495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4038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8080" y="35812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8080" y="31240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26668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8080" y="22096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8080" y="1752480"/>
              <a:ext cx="6553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295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2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209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666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124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581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038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495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952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4100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8672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3244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7816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238880" y="1599840"/>
              <a:ext cx="0" cy="426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32080" y="4618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89280" y="321624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464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03680" y="374976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60880" y="32464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18080" y="41608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0552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324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89680" y="27892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233208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04080" y="1905120"/>
              <a:ext cx="182520" cy="18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33560" y="41911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90760" y="28195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0512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6232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236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62360" y="4267080"/>
              <a:ext cx="109440" cy="10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76720" y="32767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76760" y="2362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339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91160" y="19479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483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05560" y="5148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62760" y="464832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19960" y="37767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77160" y="28623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34320" y="5605560"/>
              <a:ext cx="109440" cy="109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9072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63760" y="42069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20960" y="23623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19520" y="2835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19520" y="37497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92560" y="4664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497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64160" y="55785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21360" y="32767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78560" y="190512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35760" y="37497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92960" y="51213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50160" y="2378160"/>
              <a:ext cx="136440" cy="136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66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666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66680" y="28321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368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5238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238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23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810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10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810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38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38280" y="2908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38280" y="38228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95480" y="466092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526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98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09880" y="4267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098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98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670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670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670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67080" y="51944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6092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24280" y="3352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24280" y="2895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24280" y="2438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94440" y="24512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9444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95880" y="24512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89720" y="1981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66040" y="3365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530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23240" y="42670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47242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89720" y="5651640"/>
              <a:ext cx="6336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32520" y="56386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95880" y="51814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81480" y="56386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51640" y="4724280"/>
              <a:ext cx="6336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38680" y="38098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4280040"/>
              <a:ext cx="63720" cy="63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95480" y="1981080"/>
              <a:ext cx="63720" cy="63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06480" y="58672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360" y="586728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5120" y="54100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2960" y="1752480"/>
              <a:ext cx="37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0920" y="3048120"/>
              <a:ext cx="1981080" cy="10666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62520" y="2590920"/>
              <a:ext cx="1981080" cy="19810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19320" y="4419720"/>
              <a:ext cx="1523880" cy="10666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an Vogel - Machine Trans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155-5CB9-4B05-8E36-DC352B3EDC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1:16:56Z</dcterms:created>
  <dc:creator>vogel</dc:creator>
  <dc:description/>
  <dc:language>en-US</dc:language>
  <cp:lastModifiedBy>vogel</cp:lastModifiedBy>
  <dcterms:modified xsi:type="dcterms:W3CDTF">2011-02-07T20:16:15Z</dcterms:modified>
  <cp:revision>46</cp:revision>
  <dc:subject/>
  <dc:title>Slide 1</dc:title>
</cp:coreProperties>
</file>