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777-4BFB-40EC-812F-360B8D4B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71C-DD27-4843-AF18-E2F42421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11E1-7CC4-4E02-BB96-5C3860C97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898-F317-40FF-9C20-D3446498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D330-E767-46BF-BF48-070A8507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41C8-7C9C-4B0D-B90C-267BA1C03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271-142C-4666-B163-0D05768E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D72-7933-4D2B-82C3-C8943C41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159-75BE-4DF3-A54C-D9EA61E6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64BC-9BD9-43D0-B4A0-EFD4540E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D027-9443-4810-A279-4668C9B8C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E1F-97A6-48F0-8A9C-03310557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22B-7468-460C-9C1B-CD0385F9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9F84-F322-4D84-9CD6-445D7B5A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EAE-1E56-4186-8346-C5C99C72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29A-F0CF-495D-866D-11823C692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44A-5FDD-4B55-845B-3CECCEF4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E0C-F038-469A-9712-E0C05BCF5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6DF5-D362-47F6-B912-E0DA8AA1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B08-E12B-4229-B29B-5C7A507E0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B274-EAD5-4CC9-A20B-009FCC9A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95A-21CB-4317-83EF-6B0FE253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2D7-E9FA-4211-B139-9C7B363E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142-C7C8-4C9F-86A8-28CE8DF9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100-E5C5-4548-835F-DA549B6A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5ED-F909-4E95-BF6F-9948A16E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9EA-0BE3-492A-B48B-958B87245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C6D-9E5A-4E31-8FC2-9382A879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EE0-E431-4DD2-9EAC-80FF236C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E69-8864-494E-9867-C19B31C06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66E-0D85-438E-BEEE-EE2B527C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AE7-C149-4205-917E-26D83186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458-9B2B-468B-8ECF-0F6B58F7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DBFE-DC47-4EF3-9028-A3673B68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1474-3488-464F-BF4E-B9970CD8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380-D55B-4405-AEDC-32DCB86A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2277-DF53-49AD-9D23-982D2A5D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1398-8D5B-4D05-ADD0-5B98936C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4A8A-9EBF-40FC-ADBB-0B553B24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9E8F-D685-4DAC-931A-75DAA24EF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395B-E72E-443F-AE42-A64B8CE1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F84-DBB2-4F64-AFDB-16E2F3BB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713-561C-4597-AA4F-D0B43D0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D7D-375B-4782-B069-B85DDE3A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041-4489-4283-BAC6-9855C91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726-057C-4D6D-A02A-D317DD15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2FC4-CD4A-4753-8B6B-5BAB6F23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B47-93DA-4F5C-8E6B-40FE598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BBAD-2106-4C65-ABCF-ED9AFE4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F93A-0C69-41F9-A76A-A2345D5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D255-D005-4C38-9189-A3CF0537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9C91-624E-4ECC-9751-A8891917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4C2-F44B-4627-9174-51796C9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26CB-00F6-4F3F-A7A6-8114D9A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D23-C4D0-4FD8-85A0-B826D28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508-2D49-43BC-AFC3-82F8285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73C-5994-4245-B932-5B243E1D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BC5B-92E1-4AD5-8268-DF760431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369-21E9-456B-BFF3-ECF6F79A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EDF-FBDF-4001-A18F-813B523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9EC-AA9D-4DE3-BE25-DB773A2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DCF-38EB-4BEE-B879-86241A20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85E-DF13-4FBB-A3FB-891097B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5CB-137E-4D4F-A396-444C29F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2FD-CF6B-4885-B7D0-5C04C34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b919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550"/>
              </a:spcBef>
              <a:buClr>
                <a:srgbClr val="b919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2600" y="6292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92800"/>
            <a:ext cx="109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F00-6591-42FF-9682-A38EDD25B1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432480"/>
            <a:ext cx="1828800" cy="338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65240" y="6437160"/>
            <a:ext cx="685800" cy="360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76320">
            <a:solidFill>
              <a:srgbClr val="b91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971800" y="6229080"/>
            <a:ext cx="3403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7B9-6B9C-4D85-B29D-0D1368EE9F3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320" y="6400800"/>
            <a:ext cx="1828800" cy="33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981080" y="638172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133720"/>
            <a:ext cx="8382240" cy="0"/>
          </a:xfrm>
          <a:prstGeom prst="line">
            <a:avLst/>
          </a:prstGeom>
          <a:ln w="76320">
            <a:solidFill>
              <a:srgbClr val="b91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b91928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201"/>
              </a:spcBef>
              <a:buClr>
                <a:srgbClr val="b91928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chine Translation</a:t>
            </a:r>
            <a:br>
              <a:rPr sz="20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2895120"/>
            <a:ext cx="6400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tephan Vog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pring Semester 2011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D2A-0FDB-4A32-8ADC-76A260F5C8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traction of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source phrase length 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start position j1 = 1 … J – 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end position j2 = j1 + l – 1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_i = min{ a(j) : j = j1 … j2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x_i = max{ a(j) : j = j1 … j2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Phrase =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j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…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rgetPhrase =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in_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…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ax_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ore SourcePhrase ‘#’ Target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ining in both directions and combine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culate probabili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uning: take only n-best translations for each sourc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BA5-A23E-4E62-BCA8-730F4F76E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aling with Asymmet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d alignment models are asymmetric; Viterbi path h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source words – one target word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no one source word – multiple target words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 alignment model also in reverse direction, i.e. target -&gt; sour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both Viterbi path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: extract phrases from both directions and merge t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’ Viterbi paths and extract phrase pairs according to resulting pat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9FF-2C24-408D-B921-AE1CCFC84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bine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62960" y="1599840"/>
            <a:ext cx="8694720" cy="4777560"/>
            <a:chOff x="462960" y="1599840"/>
            <a:chExt cx="8694720" cy="4777560"/>
          </a:xfrm>
        </p:grpSpPr>
        <p:sp>
          <p:nvSpPr>
            <p:cNvPr id="48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19520" y="4191120"/>
              <a:ext cx="182520" cy="1857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0920" y="3048120"/>
              <a:ext cx="2438280" cy="152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6920" y="2133720"/>
              <a:ext cx="19810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19320" y="4419720"/>
              <a:ext cx="15238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3200" y="3200400"/>
              <a:ext cx="1219320" cy="7621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2120" y="4876920"/>
              <a:ext cx="10666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13560" y="281952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13560" y="3246480"/>
              <a:ext cx="182520" cy="1825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3560" y="37036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33960" y="2631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-&gt;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49800" y="30481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-&gt;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47640" y="35053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367-32E8-4681-9088-96CA5DDA7E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bine Viterbi Path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sections: high precision, but low re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on: lower precision, but higher re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ined: start from intersection and fill gaps according to points in un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heuristics have been u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e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lity of phrase translation pairs depends 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lity of word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lity of combination of Viterbi 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1C7-12E7-440D-85CA-5994F42A5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-Dia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-Diag-Fi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C55-4649-418F-9983-4D8BE20A5D6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stablish word alignments based on the two GIZA++ alignments, a number of heuristics may be applie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heuristic: grow-diag-fi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s with the intersection of the two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hen adds additional alignment poin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possible alignment method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 (only add block-neighboring point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-diag (without final step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371-3C91-4F53-A8E2-E7EC0BDBDD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W-DIAG-FINAL(e2f,f2e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ighboring = ((-1,0),(0,-1),(1,0),(0,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-1,-1),(-1,1),(1,-1),(1,1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gnment = intersect(e2f,f2e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W-DIAG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6553080" y="3809880"/>
          <a:ext cx="1702080" cy="1714680"/>
        </p:xfrm>
        <a:graphic>
          <a:graphicData uri="http://schemas.openxmlformats.org/drawingml/2006/table">
            <a:tbl>
              <a:tblPr/>
              <a:tblGrid>
                <a:gridCol w="567000"/>
                <a:gridCol w="568080"/>
                <a:gridCol w="567000"/>
              </a:tblGrid>
              <a:tr h="57168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457200" y="3886200"/>
            <a:ext cx="5562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neighbor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rizontal and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‘diag’ then also the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clear if sequence in neighborhood makes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158-2608-4924-9DC8-5D67ED583F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OW-DIAG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te intersection and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_points = intersection        // start with interse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e until no new points ad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current_points p         // expand existing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neighboring_points p’  // here ‘diag’ comes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p’ in union                 // select from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or col un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’ to current_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51D-AC3C-4195-BB2E-D1492D87B9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: Adding Fi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al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points in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l empty         // row or col or both are f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oint to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al-And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points in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l empty         // row and col are both f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oint to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 adds disconnected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‘And’ makes it more restric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can still remain gaps, resulting from originally non-aligned and NULL aligned po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BC0-75C9-4DFE-AA03-C90B6762BB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ding-Off Phrase Pai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act phrase pairs consistent with the word alignment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ds in phrase pair are only aligned to each other, and not to words outs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A) = { (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+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}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all (i',j') in A : j&lt;=j' &lt;= j+m &lt;-&gt; i &lt;= i' &lt;= i+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ly:  set of phrase pair such that for all points in alignment, if j’ is within a source phrase then i’ is within the corresponding target phr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 gaps allow to extract additional phrase pai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919-7AA4-41A4-BD7B-925E12ABB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Phrase Align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Pairs from Viterbi Align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Pair Extraction as Sentence Split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Phrase Pai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274-9A3E-4D8F-B231-92435D3A2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334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frequency – both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features (lexical weigh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889280" y="4191120"/>
                <a:ext cx="46958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|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|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71800" y="1525680"/>
                <a:ext cx="251460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|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f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|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e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889280" y="5102280"/>
                <a:ext cx="4763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|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|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C80-9FD1-4758-BC9D-F84ED291B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vergen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ct all n:m blocks (phrase-pairs ) which have at least one link inside and no conflicting link (i.e. in same rows and columns) outs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extract many blocks when alignment has g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not all possible blocks sh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301040" y="1066680"/>
            <a:ext cx="5937480" cy="3813480"/>
            <a:chOff x="1301040" y="1066680"/>
            <a:chExt cx="5937480" cy="3813480"/>
          </a:xfrm>
        </p:grpSpPr>
        <p:sp>
          <p:nvSpPr>
            <p:cNvPr id="643" name=""/>
            <p:cNvSpPr/>
            <p:nvPr/>
          </p:nvSpPr>
          <p:spPr>
            <a:xfrm flipV="1">
              <a:off x="1621440" y="1066680"/>
              <a:ext cx="0" cy="33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21440" y="4370040"/>
              <a:ext cx="56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52480" y="411084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4160" y="378036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36200" y="3403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21440" y="4016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21440" y="3662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1440" y="330804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21440" y="2954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21440" y="2600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21440" y="224640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21440" y="1892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21440" y="1538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21440" y="118440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01348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051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79720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1892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58092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729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3646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75668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1483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54040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9324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632412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7161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1078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1960" y="3403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69760" y="2341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7940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4516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3720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29240" y="163296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20920" y="13024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89200" y="3072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80880" y="2010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20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3813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56640" y="416736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11960" y="2364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0360" y="1656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2400" y="2043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24080" y="1335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1612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07800" y="3813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9840" y="3426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9188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83560" y="2043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6840" y="416736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52480" y="1656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57840" y="308484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49880" y="1656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9920" y="202284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25280" y="3438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7320" y="3792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01040" y="4146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3080" y="2364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4760" y="1302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76800" y="2730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68480" y="3792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60520" y="166896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1764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176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17640" y="2423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17640" y="20203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2048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32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09320" y="2787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0932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0136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01360" y="3131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0136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0136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9304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93040" y="2079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93040" y="2787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85080" y="343620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8508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7676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7676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6880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68800" y="3131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6880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6880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6084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608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60840" y="3485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60840" y="3849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98160" y="348516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2520" y="2423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52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5252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55720" y="172548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5572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28280" y="172548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6596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31120" y="243324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9960" y="3141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3160" y="313128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12000" y="3485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65960" y="420300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73920" y="419328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828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4456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47400" y="348516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362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4560" y="3141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508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80480" y="437004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83840" y="437004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02840" y="4016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01040" y="118440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64640" y="2187360"/>
              <a:ext cx="848880" cy="1179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83560" y="1479600"/>
              <a:ext cx="169776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48320" y="3249360"/>
              <a:ext cx="130608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97200" y="2954160"/>
              <a:ext cx="1175400" cy="707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56280" y="3603240"/>
              <a:ext cx="91404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05160" y="3308040"/>
              <a:ext cx="783720" cy="35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59960" y="404928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42280" y="369684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51080" y="2246400"/>
              <a:ext cx="1997280" cy="1086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03160" y="227124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38120" y="2246400"/>
              <a:ext cx="718200" cy="707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48360" y="1892160"/>
              <a:ext cx="1175400" cy="35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57200" y="121392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65160" y="157536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74840" y="2600280"/>
              <a:ext cx="1697760" cy="1094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40360" y="2954160"/>
              <a:ext cx="2024280" cy="766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38F-1341-43E6-9F1B-FCCF847635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d Phrase Pairs from Perfect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 for phrase pairs extracted from different word alig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WA-0.1  high precision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wa-0.9 high recall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g-*: human WA, P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and without gaps in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: IBM4 symmetriz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dom: random targ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generation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ppy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029120" y="1600200"/>
            <a:ext cx="5038560" cy="46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62F-7D1E-463B-B9CF-60549AB88D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aling with Memory Limi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translation tables are memory kill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phrases quickly exceeds number of words in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required is multiple of memory for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have corpora of 200 million words -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1 billion phrase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 phr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take short ones (default: 7 wor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take frequent 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ion mod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only phrases required for test sentences (i.e. extract from large phrase translation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ct and store only required phrase pairs (i.e. part of training cycle at evaluation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10A-1487-47F3-B6CB-75DC814610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(Source)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9246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corpus: 40k sentences with 400k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467000" y="1635120"/>
          <a:ext cx="5619600" cy="2590920"/>
        </p:xfrm>
        <a:graphic>
          <a:graphicData uri="http://schemas.openxmlformats.org/drawingml/2006/table">
            <a:tbl>
              <a:tblPr/>
              <a:tblGrid>
                <a:gridCol w="668160"/>
                <a:gridCol w="1238400"/>
                <a:gridCol w="1238040"/>
                <a:gridCol w="1236960"/>
                <a:gridCol w="1238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q &g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,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7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,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5,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457200" y="480060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hrases quickly exceeds number of words i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s are for source phrases only; each phrase typically has multiple translations (factor 5 –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B0F-F7F4-46A7-9F89-95A1915C89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alyzing Phrase Table: Sp-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of src-tgt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beha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too many unbalanced phrase pai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85800" y="2806560"/>
          <a:ext cx="7797960" cy="2679840"/>
        </p:xfrm>
        <a:graphic>
          <a:graphicData uri="http://schemas.openxmlformats.org/drawingml/2006/table">
            <a:tbl>
              <a:tblPr/>
              <a:tblGrid>
                <a:gridCol w="641520"/>
                <a:gridCol w="1022040"/>
                <a:gridCol w="1022400"/>
                <a:gridCol w="1022400"/>
                <a:gridCol w="1022400"/>
                <a:gridCol w="1022400"/>
                <a:gridCol w="1022400"/>
                <a:gridCol w="1022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,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,4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,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,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,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82D-C4D5-45C4-A0D8-52FFC1C9E4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hings Go Wro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nese-English phrase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of src-tgt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her flat distribution – rather str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304920" y="2895480"/>
          <a:ext cx="8610480" cy="2857680"/>
        </p:xfrm>
        <a:graphic>
          <a:graphicData uri="http://schemas.openxmlformats.org/drawingml/2006/table">
            <a:tbl>
              <a:tblPr/>
              <a:tblGrid>
                <a:gridCol w="630000"/>
                <a:gridCol w="1140120"/>
                <a:gridCol w="1139760"/>
                <a:gridCol w="1139760"/>
                <a:gridCol w="1141200"/>
                <a:gridCol w="1140120"/>
                <a:gridCol w="1139760"/>
                <a:gridCol w="113976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42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59,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82,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702,9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909,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88,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59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8,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43,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325,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44,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2,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0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,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,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,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,6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C46-5FB4-471C-8059-B246AA3B408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hings Go Wro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quency of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: some high frequency words end up with large number of translations (very nois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prune phrase table before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ed in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523880" y="3352680"/>
          <a:ext cx="6096240" cy="2679840"/>
        </p:xfrm>
        <a:graphic>
          <a:graphicData uri="http://schemas.openxmlformats.org/drawingml/2006/table">
            <a:tbl>
              <a:tblPr/>
              <a:tblGrid>
                <a:gridCol w="470880"/>
                <a:gridCol w="1406160"/>
                <a:gridCol w="1406880"/>
                <a:gridCol w="1406160"/>
                <a:gridCol w="140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s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pa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pairs/#s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544,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5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75,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433,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,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30,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99D-93DE-4DC8-8A69-E7AA97FF0F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Viterbi 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der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phrases up to any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not store all phrase pairs -&gt; search them on the f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quality translation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with word-based 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3DE-1D31-46DA-98B4-D144EF106F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translation for one sourc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62960" y="1599840"/>
            <a:ext cx="6928560" cy="4811040"/>
            <a:chOff x="462960" y="1599840"/>
            <a:chExt cx="6928560" cy="4811040"/>
          </a:xfrm>
        </p:grpSpPr>
        <p:sp>
          <p:nvSpPr>
            <p:cNvPr id="795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6880" y="1752480"/>
              <a:ext cx="1828800" cy="41148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2BB-317E-454F-9F20-AB7EAE7B0E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lignment 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178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hinese word aligned to multi-word English phr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lexicon individual entries with ‘the’, ‘development’, ‘of’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to generate from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 translation ‘development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if insertions of ‘the’ and ‘of’ improves LM prob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ier to generate if we have phrase pairs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736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1DE-AFB5-4832-B44D-35354FD05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178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e would like to fi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462960" y="1599840"/>
            <a:ext cx="6928560" cy="4811040"/>
            <a:chOff x="462960" y="1599840"/>
            <a:chExt cx="6928560" cy="4811040"/>
          </a:xfrm>
        </p:grpSpPr>
        <p:sp>
          <p:nvSpPr>
            <p:cNvPr id="91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8080" y="3124080"/>
              <a:ext cx="6400800" cy="9144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66880" y="1752480"/>
              <a:ext cx="1828800" cy="41148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8000" y="3581280"/>
              <a:ext cx="42444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8000" y="3048120"/>
              <a:ext cx="42444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40644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F5B-94B7-4DCC-BB49-94B023973F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38862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modified IBM1 word alignment: don’t sum over words in ‘forbidden’ (grey) are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arget phrase boundaries which maximize sentence alignment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ify boundaries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ate sentence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b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"/>
          <p:cNvSpPr/>
          <p:nvPr/>
        </p:nvSpPr>
        <p:spPr>
          <a:xfrm>
            <a:off x="4724280" y="1600200"/>
            <a:ext cx="4114800" cy="44197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852520" y="6060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300440" y="6060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11440" y="43848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335120" y="3013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724280" y="3276720"/>
            <a:ext cx="121932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943600" y="1600200"/>
            <a:ext cx="1523880" cy="167652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67480" y="3276720"/>
            <a:ext cx="137160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943600" y="4648320"/>
            <a:ext cx="152388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4197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8FF-3D18-4BFF-866F-A7E25E44EA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Extraction via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modified IBM1 word alignment: don’t sum over words in ‘forbidden’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+ 1 is length of target phras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are normalized over columns, i.e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arget boundaries to maximize sentence alignment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argma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{ P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|t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981080" y="2435400"/>
                <a:ext cx="4724640" cy="24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∉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×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×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∉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952880" y="1752480"/>
                <a:ext cx="1219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A82-10E9-4DFF-966D-56F165D18F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62960" y="1599840"/>
            <a:ext cx="7080840" cy="4811040"/>
            <a:chOff x="462960" y="1599840"/>
            <a:chExt cx="7080840" cy="4811040"/>
          </a:xfrm>
        </p:grpSpPr>
        <p:sp>
          <p:nvSpPr>
            <p:cNvPr id="1066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5680" y="17524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8080" y="17524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66880" y="4038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935-F61B-4E0C-8279-C61CDB8BC3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462960" y="1599840"/>
            <a:ext cx="7157160" cy="4811040"/>
            <a:chOff x="462960" y="1599840"/>
            <a:chExt cx="7157160" cy="4811040"/>
          </a:xfrm>
        </p:grpSpPr>
        <p:sp>
          <p:nvSpPr>
            <p:cNvPr id="1197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95680" y="1752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8080" y="1752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66880" y="35812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E33-868A-4725-9AB3-A1CE1A57B7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462960" y="1599840"/>
            <a:ext cx="7233120" cy="4811040"/>
            <a:chOff x="462960" y="1599840"/>
            <a:chExt cx="7233120" cy="4811040"/>
          </a:xfrm>
        </p:grpSpPr>
        <p:sp>
          <p:nvSpPr>
            <p:cNvPr id="132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66880" y="31240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1A1-4B9C-4632-9158-E976650C7E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62960" y="1599840"/>
            <a:ext cx="7309440" cy="4811040"/>
            <a:chOff x="462960" y="1599840"/>
            <a:chExt cx="7309440" cy="4811040"/>
          </a:xfrm>
        </p:grpSpPr>
        <p:sp>
          <p:nvSpPr>
            <p:cNvPr id="1462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95680" y="1752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38080" y="1752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666880" y="35812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EE2-DD65-429F-A428-BBD2A96234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462960" y="1599840"/>
            <a:ext cx="7385760" cy="4811040"/>
            <a:chOff x="462960" y="1599840"/>
            <a:chExt cx="7385760" cy="4811040"/>
          </a:xfrm>
        </p:grpSpPr>
        <p:sp>
          <p:nvSpPr>
            <p:cNvPr id="1596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66880" y="31240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61-2178-485D-8CE0-39333D1159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62960" y="1599840"/>
            <a:ext cx="7461720" cy="4811040"/>
            <a:chOff x="462960" y="1599840"/>
            <a:chExt cx="7461720" cy="4811040"/>
          </a:xfrm>
        </p:grpSpPr>
        <p:sp>
          <p:nvSpPr>
            <p:cNvPr id="173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66880" y="26668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E97-2C4B-4900-A4CB-C758AA5CAB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62960" y="1599840"/>
            <a:ext cx="7538040" cy="4811040"/>
            <a:chOff x="462960" y="1599840"/>
            <a:chExt cx="7538040" cy="4811040"/>
          </a:xfrm>
        </p:grpSpPr>
        <p:sp>
          <p:nvSpPr>
            <p:cNvPr id="1867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1A8-6488-433F-A97C-6F6E2EF157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Phrase to Phrase Transl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ptures n x m align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s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 re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nsates segmentation err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491000"/>
            <a:ext cx="3581280" cy="3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41640"/>
            <a:ext cx="4267080" cy="73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3094200"/>
            <a:ext cx="3733560" cy="41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981080" y="4475160"/>
            <a:ext cx="2362320" cy="70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343400" y="1295280"/>
            <a:ext cx="4343400" cy="10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209-9D79-459C-9E59-623BD1C72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62960" y="1599840"/>
            <a:ext cx="7614360" cy="4811040"/>
            <a:chOff x="462960" y="1599840"/>
            <a:chExt cx="7614360" cy="4811040"/>
          </a:xfrm>
        </p:grpSpPr>
        <p:sp>
          <p:nvSpPr>
            <p:cNvPr id="2004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666880" y="26668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3BD-F4BB-473A-86B2-8DA075BB1D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462960" y="1599840"/>
            <a:ext cx="7690320" cy="4811040"/>
            <a:chOff x="462960" y="1599840"/>
            <a:chExt cx="7690320" cy="4811040"/>
          </a:xfrm>
        </p:grpSpPr>
        <p:sp>
          <p:nvSpPr>
            <p:cNvPr id="2142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95680" y="35812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38080" y="35812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666880" y="2666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8F8-0AD3-44A8-8F7C-245A443BD4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462960" y="1599840"/>
            <a:ext cx="7766640" cy="4811040"/>
            <a:chOff x="462960" y="1599840"/>
            <a:chExt cx="7766640" cy="4811040"/>
          </a:xfrm>
        </p:grpSpPr>
        <p:sp>
          <p:nvSpPr>
            <p:cNvPr id="228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95680" y="1752480"/>
              <a:ext cx="274320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95680" y="35812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8080" y="35812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8080" y="1752480"/>
              <a:ext cx="182880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6880" y="2209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DDA-FC5F-4BF7-BCE8-CE9EDD4430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– Best Resul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target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0" name=""/>
          <p:cNvGrpSpPr/>
          <p:nvPr/>
        </p:nvGrpSpPr>
        <p:grpSpPr>
          <a:xfrm>
            <a:off x="462960" y="1599840"/>
            <a:ext cx="7766640" cy="4811040"/>
            <a:chOff x="462960" y="1599840"/>
            <a:chExt cx="7766640" cy="4811040"/>
          </a:xfrm>
        </p:grpSpPr>
        <p:sp>
          <p:nvSpPr>
            <p:cNvPr id="242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09480" y="3124080"/>
              <a:ext cx="0" cy="914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632-B640-4622-99EB-0FE520E908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– Use n-be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ll translation candidates with scores close to the best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696080" y="2743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7696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3" name=""/>
          <p:cNvGrpSpPr/>
          <p:nvPr/>
        </p:nvGrpSpPr>
        <p:grpSpPr>
          <a:xfrm>
            <a:off x="457200" y="1599840"/>
            <a:ext cx="7848720" cy="4811040"/>
            <a:chOff x="457200" y="1599840"/>
            <a:chExt cx="7848720" cy="4811040"/>
          </a:xfrm>
        </p:grpSpPr>
        <p:sp>
          <p:nvSpPr>
            <p:cNvPr id="2564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99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305920" y="2743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698920" y="3156120"/>
              <a:ext cx="1765080" cy="130788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09480" y="3124080"/>
              <a:ext cx="0" cy="914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7200" y="3124080"/>
              <a:ext cx="0" cy="137160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7B7-C6B7-4D34-AC4A-D4C68B52A8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oking from Both Sid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both                      an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olate the probabilities from both direction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the target phrase boundary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 which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olation factor c can be tuned on development test s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8" name=""/>
              <p:cNvSpPr txBox="1"/>
              <p:nvPr/>
            </p:nvSpPr>
            <p:spPr>
              <a:xfrm>
                <a:off x="2782800" y="1066680"/>
                <a:ext cx="13795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9" name=""/>
              <p:cNvSpPr txBox="1"/>
              <p:nvPr/>
            </p:nvSpPr>
            <p:spPr>
              <a:xfrm>
                <a:off x="5203800" y="1066680"/>
                <a:ext cx="13748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0" name=""/>
              <p:cNvSpPr txBox="1"/>
              <p:nvPr/>
            </p:nvSpPr>
            <p:spPr>
              <a:xfrm>
                <a:off x="1000080" y="2590920"/>
                <a:ext cx="7097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E21-740D-40F0-B552-4CDE7BBCB3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ed-U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estimate of expected target phrase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maximum lexical probability for each source phrase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ke average posi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only boundaries around that expected 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arget phras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g. only 1.5 times longer than source phr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3" name=""/>
              <p:cNvSpPr txBox="1"/>
              <p:nvPr/>
            </p:nvSpPr>
            <p:spPr>
              <a:xfrm>
                <a:off x="1981080" y="2228760"/>
                <a:ext cx="4343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E4F-FEC0-4B46-BA2C-2BF161FDE4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itional Phrase Pair Featu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ngth balance fe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|len(f) - len(e)| as fe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fertility-based length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frequency word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over-generate and under-generate punctuations and high frequency words (the, a, is, and, …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counts, how often words are seen in target phr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use word pairs as binary features (seen – not se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 match, i.e. each SrcPOS – TgtPOS pair is a binary fe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tactic features: chunk boundaries, sub-tree alignment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weights trained on dev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BCF-F91B-47FC-AF5E-37AD847094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st-In-Time Phrase Pair Extra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est sentence: find occurrences of all substrings (n-grams) in the bilingual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uffix array to index source part of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ce efficient (for each word – one poin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requires binary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find n-grams up to any n (restricted within sentence boundar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act phrase-translation pai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phrase alignment based on word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use Viterbi alignment (could be pre-calcula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use new phrase alignment approa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approach: high frequency phrases aligned offline, low frequency phrases aligned on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ffix array toolkit by Joy Ying Zh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projectile.sv.cmu.edu/research/public/tools/salm/salm.ht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FE8-546B-4908-B77B-C08F1DB36B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exing a Corpus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1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10600" cy="49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03F-DF33-420E-B96A-E33C1B81422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ow to get Phrase Transl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Typically: Train word alignment model and extract phrase-to-phrase translations from Viterbi pa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BM model 4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MM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ilingual Brac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Genuine phrase translation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tegrated segmentation and alignment (I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hase Pair Extraction via full Sentence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ften better results when training target to source for extraction of phrase translations due to asymmetry of alignment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hrases are not fully integrated into the alignment model, they are extracted only after training is completed – how to assign probabiliti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BA8-FB13-40E0-9CFB-8FDE85CF6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exing a Corpus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6840" y="4654440"/>
            <a:ext cx="817884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ignment the sentence numbers are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 &lt;sos&gt; markers into the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 sentence numbers into the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104940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04948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05936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06268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06888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707220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05100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2324160" y="3219480"/>
            <a:ext cx="2705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270504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08628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46716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4804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422928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61016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2514600" y="2057400"/>
            <a:ext cx="1981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flipV="1">
            <a:off x="2895480" y="2057400"/>
            <a:ext cx="4648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H="1" flipV="1">
            <a:off x="1523520" y="2057400"/>
            <a:ext cx="1752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 flipV="1">
            <a:off x="2590560" y="20574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4038480" y="205740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H="1" flipV="1">
            <a:off x="3505320" y="205740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4800600" y="2057400"/>
            <a:ext cx="17524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4343760" y="39006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rot="16200000">
            <a:off x="4495680" y="342864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1B9-B86C-4336-BD73-87B0260991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arching a String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 “the economy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step: search for range of “the” =&gt;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tep: search for range of “the economy” within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 =&gt;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7" name=""/>
          <p:cNvSpPr/>
          <p:nvPr/>
        </p:nvSpPr>
        <p:spPr>
          <a:xfrm>
            <a:off x="973080" y="301788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973160" y="301788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983040" y="301788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986360" y="301788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99292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699624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297504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247840" y="4560840"/>
            <a:ext cx="2705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62908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00996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39084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77208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415296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53384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2438280" y="339876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2819520" y="3398760"/>
            <a:ext cx="4647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447920" y="339876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 flipV="1">
            <a:off x="2514240" y="339876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3962520" y="339876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H="1" flipV="1">
            <a:off x="3429000" y="339876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4724280" y="3398760"/>
            <a:ext cx="175284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294800" y="518148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rot="16200000">
            <a:off x="4419720" y="47700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rot="16200000">
            <a:off x="4647960" y="57146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4036320" y="5943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conom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4AF-65A8-4210-BB45-117EEB0B49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ting all Sub-Strings of a Sent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testing sentenc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e want to locate all the substrings of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ïve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erate all substrings in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earch their occurre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te a phrase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ords in a corpus of N words require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(n·logN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as 1 phrase of m-words, 2 with (m-1) words, and …, m single word “phrase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i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(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og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marter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phrase exists in the corpus only when all its sub-phrases ex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earch table bottom-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1488960" y="3470400"/>
                <a:ext cx="4572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92F-AA23-4C2B-9067-C1CF1391773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ting all Sub-Strings of a Sent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ing sentence: “growth is the essence of the economy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31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381-ABC1-417A-BF8C-229A39E4CCF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ime Complex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ing the training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(Nlog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 for corpu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ting all the sub-strings of a testing sentence of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m·log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are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N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naïve algorith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0" name=""/>
          <p:cNvGraphicFramePr/>
          <p:nvPr/>
        </p:nvGraphicFramePr>
        <p:xfrm>
          <a:off x="1752480" y="1905120"/>
          <a:ext cx="303876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30387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2" name=""/>
          <p:cNvGraphicFramePr/>
          <p:nvPr/>
        </p:nvGraphicFramePr>
        <p:xfrm>
          <a:off x="1800360" y="3962520"/>
          <a:ext cx="4876560" cy="21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360" y="3962520"/>
                    <a:ext cx="487656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DE2-E309-472A-96A9-75CD87E9520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 Zu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om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eute mit 10 Minuten Verspaetu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day the trai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ll arr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0 minutes l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 ne veux plus jou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do not want to play anym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erre ne mange pa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erre does not e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within bounds of longer contiguous phrases, but does not general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completely out of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"/>
          <p:cNvSpPr/>
          <p:nvPr/>
        </p:nvSpPr>
        <p:spPr>
          <a:xfrm>
            <a:off x="2057400" y="3733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H="1">
            <a:off x="2666880" y="3733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21337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H="1" flipV="1">
            <a:off x="2590920" y="37335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35252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1600200" y="243792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H="1" flipV="1">
            <a:off x="2133360" y="24379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676520" y="2438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2819520" y="24382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 flipH="1" flipV="1">
            <a:off x="3124080" y="24379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H="1" flipV="1">
            <a:off x="2666520" y="243792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1981080" y="2437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6002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A6A-E9B9-4515-ACD3-A3C02441749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word alignment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problems as with contiguous phrases due to 1:n restr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phrase alignment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phrase extraction does not consider disjoint phr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ically, there will be conflicting alignment points which prevent the ext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 if no conflicting alignment points, the extracted phrase pair would still be wr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wo fragments of a non-contiguous phrase can be extracted as two separate phrases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decoding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contiguous on source side -&gt; generate translation for each fra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contiguous on target side -&gt; generate on part of the 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8EB-5ACC-42AE-A7A0-E85B09A103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ome Work on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ard et al.  Translating with non-contiguous phrases, 20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cedda et al.  An elastic-phrase model for statistical machine trans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lley and Manning.  Accurate non-hierarchical phrase-based trans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 hierarchical models (e.g. Hiero) extract non-contiguous phr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 X pas :: not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 ne veux plus X :: I do not want X anym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912-AE38-4D41-889A-D2834037AF4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nding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alley and Manning, 20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a sentence is segmented into (possibly non-continuous)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phrase is characterized by a coverage set (i.e. set of posi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a sentence pair has same number of phrases on source and targe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-&gt; s = 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:: t = 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air of coverage sets 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is consistent with word alignment A i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:  no restriction in the number of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non-contiguous phrase pairs:  exponential in max phras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uffix array to find non-contiguous phrases (Lopez, 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3048120" y="3733920"/>
                <a:ext cx="2819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↔</m:t>
                    </m:r>
                    <m:r>
                      <m:t xml:space="preserve">j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CCF-120D-4360-B8BA-F9B679DE3FC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nefits from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lation quality goes up:  Galley and Manning repor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d BLEU and TER sc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d to Moses and Josh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ross multiple Ch-En test 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esting: leng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matching phras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"/>
          <a:stretch/>
        </p:blipFill>
        <p:spPr>
          <a:xfrm>
            <a:off x="3933720" y="2784600"/>
            <a:ext cx="4676760" cy="35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EE8-6CF6-4B45-AB8C-2D10CB42F5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Pairs from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 your favorite word alignment (IBMn, HMM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Viterbi path (i.e. path with highest probability or best scor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tails …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B4F-9DF8-4A9D-A7B3-A641512ED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rase alignment based on underlying word al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phrase alignment approa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m Viterbi path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rase alignment as optimizing sentence spl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rom both side to cope with asymmetry of word alignment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rase translation table is huge:  Restrict phrase to short and/or high frequency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phrase al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suffix array to index all phrases in corp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ficient way to find all phrase in a sente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ual alignment takes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contiguous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ficient search with suffix arr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ificant improvement in translation qua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er matching phra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32C-B625-435E-9ABF-1C96006FB41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ord Alignment Matrix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ment probabilities according to lex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116" name=""/>
            <p:cNvSpPr/>
            <p:nvPr/>
          </p:nvSpPr>
          <p:spPr>
            <a:xfrm flipV="1">
              <a:off x="838080" y="1599840"/>
              <a:ext cx="180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5867280"/>
              <a:ext cx="6553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54100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49528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44956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0384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35812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31240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26668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2096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17524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5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752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209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66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1240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581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8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495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952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4100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867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24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81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238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FE2-0B33-4D66-9E8C-C01728925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098720"/>
            <a:ext cx="817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Viterbi path (i.e. path with highest probabi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238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7B-7E8A-4479-A8F7-18A73F8837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s from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off source phrase – target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360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0920" y="3048120"/>
              <a:ext cx="19810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520" y="2590920"/>
              <a:ext cx="1981080" cy="19810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4419720"/>
              <a:ext cx="15238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378-EC30-4566-BCBC-3368ED0A4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1:16:56Z</dcterms:created>
  <dc:creator>vogel</dc:creator>
  <dc:description/>
  <dc:language>en-US</dc:language>
  <cp:lastModifiedBy>vogel</cp:lastModifiedBy>
  <dcterms:modified xsi:type="dcterms:W3CDTF">2011-02-07T20:16:15Z</dcterms:modified>
  <cp:revision>46</cp:revision>
  <dc:subject/>
  <dc:title>Slide 1</dc:title>
</cp:coreProperties>
</file>