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45A-D0F2-49E4-BE56-1AB8780D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7AC-B03F-43CF-8F0F-40356E57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1F6-BDEA-408A-862D-FCB7082E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D50-DDAA-4FEC-BE4F-D7056ED8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7C9C-B361-400A-B049-FE963DEE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6BB-113F-4A9E-8678-39ED52E3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206-1381-4994-AEF7-8DE2E8CB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CEC-5DB4-48AF-9746-457F2087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A6E-28F6-44F1-8DD6-1D615BE2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973-678F-4DB8-9CF3-AD2667D0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FD5-B07F-42D6-9C65-75D183D9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BC0A-33C5-40DE-BB36-2ADE96BF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E032-F8F3-49E4-9528-E696A90FF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3352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752480"/>
            <a:ext cx="76176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297180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1752480"/>
            <a:ext cx="76212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43800" y="53352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3886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514600"/>
            <a:ext cx="114300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20574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2514600"/>
            <a:ext cx="121932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23880" y="22856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78132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78132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781320" y="22860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57600" y="48002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724280" y="4800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73560" y="187812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as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2560" y="19051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timber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6080" y="419112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white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04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04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572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572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572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86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88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58440" y="652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91840" y="1774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7280" y="3127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4240" y="64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8520" y="1762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920" y="3103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3720" y="521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62040" y="5181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26800" y="1338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1360" y="2014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2800" y="2525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46160" y="1317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2240" y="1992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9360" y="253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6400" y="4800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25440" y="482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53680" y="412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0" y="25812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5720" y="1763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85640" y="1774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6200" y="4081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9960" y="25686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16200" y="5418000"/>
            <a:ext cx="21693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r OS: NetBSD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st OS: DecUnix 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on Prefix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2.1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57720" y="40176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Monotype Corsiva"/>
              </a:rPr>
              <a:t>Darwin IP Testb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22:55:55Z</dcterms:created>
  <dc:creator>Prashant Chandra</dc:creator>
  <dc:description/>
  <dc:language>en-US</dc:language>
  <cp:lastModifiedBy>Prashant Chandra</cp:lastModifiedBy>
  <cp:lastPrinted>1998-01-05T23:40:07Z</cp:lastPrinted>
  <dcterms:modified xsi:type="dcterms:W3CDTF">1998-01-05T23:40:14Z</dcterms:modified>
  <cp:revision>4</cp:revision>
  <dc:subject/>
  <dc:title>No Slide Title</dc:title>
</cp:coreProperties>
</file>