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1D69-2E12-40ED-8653-55C66041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AD7D-5E0D-4845-B65B-E981CE75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DDE-2CD5-4A62-9B28-E2AA4400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5040-7FE9-4DE6-86FD-B8881A03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E32-DC3D-4F2A-B524-9C7FA91D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BEC7-20AF-4CC5-A5A2-9FA4D036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64D4-6632-4D69-95A0-C98EEED2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059-FC23-4FAB-8B36-EB7CDA2A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4FA-3F36-4F51-BC87-EA6755BF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AB96-CC57-48C9-AC66-EFF3DA0D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607-2300-40ED-8BED-4B4F1490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06A8-B910-448F-BB49-608A40A2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C7D9-AF64-44C9-9501-E4F075C19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53352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752480"/>
            <a:ext cx="761760" cy="60984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2971800"/>
            <a:ext cx="7621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864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54864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43800" y="1752480"/>
            <a:ext cx="762120" cy="60984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43800" y="533520"/>
            <a:ext cx="7621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1600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600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3886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2514600"/>
            <a:ext cx="114300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205740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029200" y="2514600"/>
            <a:ext cx="121932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8380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523880" y="2285640"/>
            <a:ext cx="76212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78132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781320" y="8380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6781320" y="22860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657600" y="480024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724280" y="48002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73560" y="187812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as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22560" y="190512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timber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06080" y="419112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white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040" y="685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040" y="1905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040" y="31240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5720" y="685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95720" y="1905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95720" y="31240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8640" y="56386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8840" y="56386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58440" y="652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91840" y="1774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47280" y="3127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24240" y="641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68520" y="1762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01920" y="3103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3720" y="5213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62040" y="5181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8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26800" y="1338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1360" y="2014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72800" y="2525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3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46160" y="1317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62240" y="1992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5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89360" y="2536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6400" y="4800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25440" y="482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8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53680" y="4127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56800" y="25812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6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75720" y="176364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85640" y="1774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66200" y="40813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19960" y="25686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16200" y="5418000"/>
            <a:ext cx="21693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uter OS: NetBSD 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st OS: DecUnix 4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on Prefix: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2.1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57720" y="401760"/>
            <a:ext cx="43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Monotype Corsiva"/>
              </a:rPr>
              <a:t>Darwin IP Testb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5T22:55:55Z</dcterms:created>
  <dc:creator>Prashant Chandra</dc:creator>
  <dc:description/>
  <dc:language>en-US</dc:language>
  <cp:lastModifiedBy>Prashant Chandra</cp:lastModifiedBy>
  <cp:lastPrinted>1998-01-05T23:40:07Z</cp:lastPrinted>
  <dcterms:modified xsi:type="dcterms:W3CDTF">1998-01-05T23:40:14Z</dcterms:modified>
  <cp:revision>4</cp:revision>
  <dc:subject/>
  <dc:title>No Slide Title</dc:title>
</cp:coreProperties>
</file>