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6DF-A2B2-4FE4-A1FE-3F97334A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193-6E5C-4795-962F-55A4CA01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0041-E8CC-48A9-B0B4-3AA38728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065-0C65-4E86-830A-0438EEF8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5D5-DC9E-4875-8E6F-326AFF89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22D7-AD73-4CBC-9069-ACC4EF7F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429-021E-422A-8AF6-9C8C3F43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847-0F57-4EF5-927A-D385FA78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418-7AEE-48A3-8F33-617516EE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5EE-4534-416E-9CBC-FD59AD9D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726-3F35-45FD-9627-4EDD8E23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8CF4-6967-46FE-BCA1-5F49B94D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4926-54CA-488F-B6C6-2C33F1ACA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53352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752480"/>
            <a:ext cx="76176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297180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43800" y="1752480"/>
            <a:ext cx="76212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43800" y="53352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3886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514600"/>
            <a:ext cx="114300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20574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2514600"/>
            <a:ext cx="121932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523880" y="228564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78132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78132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6781320" y="22860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657600" y="480024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724280" y="4800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73560" y="187812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as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22560" y="190512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timber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6080" y="419112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white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04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04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04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572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9572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572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86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88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58440" y="652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91840" y="1774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47280" y="3127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4240" y="64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68520" y="1762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01920" y="3103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3720" y="5213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62040" y="5181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26800" y="1338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1360" y="2014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72800" y="2525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46160" y="1317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62240" y="1992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89360" y="2536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6400" y="4800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25440" y="482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53680" y="4127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56800" y="25812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75720" y="17636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85640" y="1774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6200" y="40813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19960" y="25686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16200" y="5418000"/>
            <a:ext cx="21693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ter OS: NetBSD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st OS: DecUnix 4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on Prefix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2.1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57720" y="401760"/>
            <a:ext cx="43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Monotype Corsiva"/>
              </a:rPr>
              <a:t>Darwin IP Testb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5T22:55:55Z</dcterms:created>
  <dc:creator>Prashant Chandra</dc:creator>
  <dc:description/>
  <dc:language>en-US</dc:language>
  <cp:lastModifiedBy>Prashant Chandra</cp:lastModifiedBy>
  <cp:lastPrinted>1998-01-05T23:40:07Z</cp:lastPrinted>
  <dcterms:modified xsi:type="dcterms:W3CDTF">1998-01-05T23:40:14Z</dcterms:modified>
  <cp:revision>4</cp:revision>
  <dc:subject/>
  <dc:title>No Slide Title</dc:title>
</cp:coreProperties>
</file>