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22860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276200"/>
            <a:ext cx="9132840" cy="152640"/>
            <a:chOff x="0" y="1276200"/>
            <a:chExt cx="9132840" cy="152640"/>
          </a:xfrm>
        </p:grpSpPr>
        <p:sp>
          <p:nvSpPr>
            <p:cNvPr id="1" name=""/>
            <p:cNvSpPr/>
            <p:nvPr/>
          </p:nvSpPr>
          <p:spPr>
            <a:xfrm>
              <a:off x="0" y="1276200"/>
              <a:ext cx="9132840" cy="74880"/>
            </a:xfrm>
            <a:prstGeom prst="rect">
              <a:avLst/>
            </a:prstGeom>
            <a:gradFill rotWithShape="0">
              <a:gsLst>
                <a:gs pos="0">
                  <a:srgbClr val="19327c"/>
                </a:gs>
                <a:gs pos="50000">
                  <a:srgbClr val="3365fb"/>
                </a:gs>
                <a:gs pos="100000">
                  <a:srgbClr val="1932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39068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af001b"/>
                </a:gs>
                <a:gs pos="50000">
                  <a:srgbClr val="fc0128"/>
                </a:gs>
                <a:gs pos="100000">
                  <a:srgbClr val="af001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Click to edit the title text format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97120" y="6529320"/>
            <a:ext cx="1031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97  Hui Zha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836480" y="6388200"/>
            <a:ext cx="12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818B-4956-42C4-A7C3-70BDD97D441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20220000">
            <a:off x="310680" y="310680"/>
            <a:ext cx="749520" cy="6732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8040" y="263520"/>
            <a:ext cx="970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Times New Roman"/>
              </a:rPr>
              <a:t>Carneg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Times New Roman"/>
              </a:rPr>
              <a:t>Mel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Resilient Multicast for Continuous Media Applications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distributed reliability model with receiver defining the  tradeoff between reliability and real-time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application: remote l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rder program needs 100% reli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e participants need interac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ive participants needs reli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ilient vs. reli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ll receivers need 100% reli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kets must arrive in time to be played b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is continuous, large volu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mif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very must be f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ocol overhead should be sma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STORM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ure-Oriented Resilient Multica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ers form application-level recovery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ed acyclic grap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r has multiple par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f-organizing, built and maintained distrib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ent quality considered and dynamically evalu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hieve faster recove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 overhe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aptiv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sive to dynamic membership and network lo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htweig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shared distributed st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Performance Evaluation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4571640"/>
            <a:ext cx="71625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iments over 10 sites on MBO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d version of vat, with STORM and SR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 implemented in Intel Proshar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xx-recv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3352680" cy="2590920"/>
          </a:xfrm>
          <a:prstGeom prst="rect">
            <a:avLst/>
          </a:prstGeom>
          <a:ln w="0">
            <a:noFill/>
          </a:ln>
        </p:spPr>
      </p:pic>
      <p:pic>
        <p:nvPicPr>
          <p:cNvPr id="52" name="rexx-send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32004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Integrated Resource Management Framework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plication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oS guarante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reservation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ceful adap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needs to shed load fairly among competing appl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erse resource typ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-share resources: CPU,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, space-share resources: memory, di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ed resource management frame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rtional share abstraction of diverse resour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mless integration of reservation and fair share resource allocation sty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Proportional Share &amp; Reservation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716256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client/process characterized b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7c80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h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amount by which client is charg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ccff"/>
                </a:solidFill>
                <a:latin typeface="Arial"/>
              </a:rPr>
              <a:t>f</a:t>
            </a:r>
            <a:r>
              <a:rPr b="1" i="1" lang="en-US" sz="18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r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source it is entitled 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 rot="10800000">
                <a:off x="3352680" y="3123720"/>
                <a:ext cx="1378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990720" y="39625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x </a:t>
            </a:r>
            <a:r>
              <a:rPr b="1" i="1" lang="en-US" sz="2000" spc="-1" strike="noStrike">
                <a:solidFill>
                  <a:srgbClr val="ff7c80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proportional share al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x</a:t>
            </a:r>
            <a:r>
              <a:rPr b="1" i="1" lang="en-US" sz="20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3ccff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re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statu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and network scheduler implemented in NetBSD, FreeBS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Example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0" name=""/>
          <p:cNvSpPr/>
          <p:nvPr/>
        </p:nvSpPr>
        <p:spPr>
          <a:xfrm>
            <a:off x="5908680" y="4172040"/>
            <a:ext cx="755640" cy="501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950160" y="4484520"/>
            <a:ext cx="480960" cy="37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881760" y="454824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881760" y="467352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881760" y="479916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7431120" y="454824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7431120" y="467352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431120" y="479916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6890760" y="44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907960" y="4172040"/>
            <a:ext cx="755640" cy="87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908320" y="429732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908320" y="442260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908320" y="454824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908320" y="467352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908320" y="4799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908320" y="492444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702400" y="3921120"/>
            <a:ext cx="1993680" cy="2131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95920" y="6053040"/>
            <a:ext cx="0" cy="312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14680" y="6365880"/>
            <a:ext cx="5636880" cy="619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14680" y="6365880"/>
            <a:ext cx="5636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77880" y="4484520"/>
            <a:ext cx="204840" cy="376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33520" y="4548240"/>
            <a:ext cx="755640" cy="376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82720" y="5111640"/>
            <a:ext cx="69840" cy="2509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61320" y="4503600"/>
            <a:ext cx="253800" cy="3556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64320" y="6051600"/>
            <a:ext cx="69840" cy="3142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6800" y="6066000"/>
            <a:ext cx="68040" cy="312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33520" y="4172040"/>
            <a:ext cx="755640" cy="376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52560" y="4505400"/>
            <a:ext cx="206280" cy="3556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66720" y="4484520"/>
            <a:ext cx="481320" cy="37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48040" y="4548240"/>
            <a:ext cx="69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8040" y="4673520"/>
            <a:ext cx="69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48040" y="4799160"/>
            <a:ext cx="69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98680" y="4548240"/>
            <a:ext cx="68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98680" y="4673520"/>
            <a:ext cx="68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98680" y="4799160"/>
            <a:ext cx="68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54840" y="452772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33520" y="4172040"/>
            <a:ext cx="755640" cy="87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33520" y="4297320"/>
            <a:ext cx="75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33520" y="4422600"/>
            <a:ext cx="75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33520" y="4548240"/>
            <a:ext cx="75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33520" y="4673520"/>
            <a:ext cx="75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33520" y="4799160"/>
            <a:ext cx="75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33520" y="4924440"/>
            <a:ext cx="75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01760" y="3921120"/>
            <a:ext cx="1994040" cy="213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577880" y="5424480"/>
            <a:ext cx="480960" cy="376200"/>
            <a:chOff x="1577880" y="5424480"/>
            <a:chExt cx="480960" cy="376200"/>
          </a:xfrm>
        </p:grpSpPr>
        <p:sp>
          <p:nvSpPr>
            <p:cNvPr id="105" name=""/>
            <p:cNvSpPr/>
            <p:nvPr/>
          </p:nvSpPr>
          <p:spPr>
            <a:xfrm>
              <a:off x="1577880" y="5424480"/>
              <a:ext cx="480960" cy="141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77880" y="5659560"/>
              <a:ext cx="480960" cy="141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77880" y="551844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58840" y="551844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714680" y="6553080"/>
            <a:ext cx="5636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3520" y="6051600"/>
            <a:ext cx="1800" cy="314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734160" y="6051600"/>
            <a:ext cx="1440" cy="314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86080" y="5361120"/>
            <a:ext cx="676080" cy="53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14680" y="5049720"/>
            <a:ext cx="274320" cy="312840"/>
          </a:xfrm>
          <a:prstGeom prst="upArrow">
            <a:avLst>
              <a:gd name="adj1" fmla="val 50000"/>
              <a:gd name="adj2" fmla="val 285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28320" y="53006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78080" y="502920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40280" y="50277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8240" y="360828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hin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37960" y="363060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h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65480" y="6062760"/>
            <a:ext cx="68040" cy="312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14680" y="6427800"/>
            <a:ext cx="5636880" cy="63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27120" y="45180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00200" y="1674720"/>
            <a:ext cx="1371600" cy="1230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715000" y="1674720"/>
            <a:ext cx="1371600" cy="1230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145200" y="1789200"/>
            <a:ext cx="493560" cy="380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676520" y="3198960"/>
            <a:ext cx="5181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28940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28940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2284560"/>
            <a:ext cx="4114800" cy="901440"/>
          </a:xfrm>
          <a:custGeom>
            <a:avLst/>
            <a:gdLst/>
            <a:ahLst/>
            <a:rect l="l" t="t" r="r" b="b"/>
            <a:pathLst>
              <a:path w="2592" h="568">
                <a:moveTo>
                  <a:pt x="48" y="144"/>
                </a:moveTo>
                <a:cubicBezTo>
                  <a:pt x="40" y="280"/>
                  <a:pt x="32" y="416"/>
                  <a:pt x="48" y="480"/>
                </a:cubicBezTo>
                <a:cubicBezTo>
                  <a:pt x="64" y="544"/>
                  <a:pt x="96" y="520"/>
                  <a:pt x="144" y="528"/>
                </a:cubicBezTo>
                <a:cubicBezTo>
                  <a:pt x="192" y="536"/>
                  <a:pt x="0" y="528"/>
                  <a:pt x="336" y="528"/>
                </a:cubicBezTo>
                <a:cubicBezTo>
                  <a:pt x="672" y="528"/>
                  <a:pt x="1808" y="528"/>
                  <a:pt x="2160" y="528"/>
                </a:cubicBezTo>
                <a:cubicBezTo>
                  <a:pt x="2512" y="528"/>
                  <a:pt x="2384" y="536"/>
                  <a:pt x="2448" y="528"/>
                </a:cubicBezTo>
                <a:cubicBezTo>
                  <a:pt x="2512" y="520"/>
                  <a:pt x="2520" y="568"/>
                  <a:pt x="2544" y="480"/>
                </a:cubicBezTo>
                <a:cubicBezTo>
                  <a:pt x="2568" y="392"/>
                  <a:pt x="2580" y="196"/>
                  <a:pt x="2592" y="0"/>
                </a:cubicBezTo>
              </a:path>
            </a:pathLst>
          </a:custGeom>
          <a:noFill/>
          <a:ln w="2556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15160" y="601992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20760" y="2284560"/>
            <a:ext cx="4737240" cy="1066680"/>
          </a:xfrm>
          <a:custGeom>
            <a:avLst/>
            <a:gdLst/>
            <a:ahLst/>
            <a:rect l="l" t="t" r="r" b="b"/>
            <a:pathLst>
              <a:path w="1928" h="680">
                <a:moveTo>
                  <a:pt x="1928" y="624"/>
                </a:moveTo>
                <a:cubicBezTo>
                  <a:pt x="1604" y="624"/>
                  <a:pt x="1280" y="624"/>
                  <a:pt x="1016" y="624"/>
                </a:cubicBezTo>
                <a:cubicBezTo>
                  <a:pt x="752" y="624"/>
                  <a:pt x="504" y="632"/>
                  <a:pt x="344" y="624"/>
                </a:cubicBezTo>
                <a:cubicBezTo>
                  <a:pt x="184" y="616"/>
                  <a:pt x="112" y="680"/>
                  <a:pt x="56" y="576"/>
                </a:cubicBezTo>
                <a:cubicBezTo>
                  <a:pt x="0" y="472"/>
                  <a:pt x="4" y="236"/>
                  <a:pt x="8" y="0"/>
                </a:cubicBezTo>
              </a:path>
            </a:pathLst>
          </a:custGeom>
          <a:noFill/>
          <a:ln w="255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133720" y="1762200"/>
            <a:ext cx="203040" cy="380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02560" y="2716200"/>
            <a:ext cx="1314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ffff"/>
                </a:solidFill>
                <a:uFillTx/>
                <a:latin typeface="Times New Roman"/>
              </a:rPr>
              <a:t>Infor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53560" y="327672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7c80"/>
                </a:solidFill>
                <a:latin typeface="Arial"/>
              </a:rPr>
              <a:t>Netsca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6800" y="6064200"/>
            <a:ext cx="0" cy="312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16T02:24:37Z</dcterms:created>
  <dc:creator>hzhang</dc:creator>
  <dc:description/>
  <dc:language>en-US</dc:language>
  <cp:lastModifiedBy>hzhang</cp:lastModifiedBy>
  <cp:lastPrinted>1997-10-18T03:16:14Z</cp:lastPrinted>
  <dcterms:modified xsi:type="dcterms:W3CDTF">1997-10-27T16:01:30Z</dcterms:modified>
  <cp:revision>5</cp:revision>
  <dc:subject/>
  <dc:title>Resilient Multicast for Continuous Media Applications</dc:title>
</cp:coreProperties>
</file>