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6318-4E75-4C90-8684-1D0CD56C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950F-8E76-4B0F-B0CC-66FA4F67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C6AF-BE07-4BE5-942F-FFE2226C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EAD0-36ED-4E71-BF68-EFBC25A5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1448-91CC-4BAF-97C3-71C897EF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A701-2665-4E76-8AFA-399D76AF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0A35-9677-4477-BDFF-E88E582D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6ADC-DE8A-4EC2-9B44-CE38FC9C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F36F-2325-4E3F-81FD-CA250D4E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508C-ED3A-4297-ABB7-27A404C0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10E2-6C77-4A4C-BC7B-723D465B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E1A9-D315-4CBA-9C8D-A853922F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3505-8366-4C52-95E6-453759D0D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53352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752480"/>
            <a:ext cx="761760" cy="60984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9718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2971800"/>
            <a:ext cx="76212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864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54864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43800" y="1752480"/>
            <a:ext cx="762120" cy="60984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43800" y="533520"/>
            <a:ext cx="76212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1600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600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3886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2514600"/>
            <a:ext cx="114300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2057400"/>
            <a:ext cx="2362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029200" y="2514600"/>
            <a:ext cx="121932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8380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057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523880" y="2285640"/>
            <a:ext cx="76212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781320" y="2057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781320" y="8380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6781320" y="228600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657600" y="480024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724280" y="48002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73560" y="187812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as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22560" y="190512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timber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06080" y="419112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white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040" y="6858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040" y="19051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040" y="31240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5720" y="6858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95720" y="19051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95720" y="31240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8640" y="56386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8840" y="56386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58440" y="652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91840" y="1774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47280" y="3127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24240" y="641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4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68520" y="1762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5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01920" y="3103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3720" y="5213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62040" y="51814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8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26800" y="1338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1360" y="2014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2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72800" y="2525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3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46160" y="1317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62240" y="1992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5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89360" y="2536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6400" y="4800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25440" y="482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8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53680" y="4127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6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56800" y="25812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6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75720" y="176364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85640" y="17748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66200" y="40813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4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19960" y="25686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16200" y="5418000"/>
            <a:ext cx="21693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uter OS: NetBSD 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st OS: DecUnix 4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on Prefix: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92.1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57720" y="401760"/>
            <a:ext cx="43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Monotype Corsiva"/>
              </a:rPr>
              <a:t>Darwin IP Testb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5T22:55:55Z</dcterms:created>
  <dc:creator>Prashant Chandra</dc:creator>
  <dc:description/>
  <dc:language>en-US</dc:language>
  <cp:lastModifiedBy>Prashant Chandra</cp:lastModifiedBy>
  <cp:lastPrinted>1998-01-05T23:40:07Z</cp:lastPrinted>
  <dcterms:modified xsi:type="dcterms:W3CDTF">1998-01-05T23:40:14Z</dcterms:modified>
  <cp:revision>4</cp:revision>
  <dc:subject/>
  <dc:title>No Slide Title</dc:title>
</cp:coreProperties>
</file>