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7EF-B153-466C-A576-044960EF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1186-39C7-49F8-BBD7-E0142609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DA5-51CC-44D1-BAE8-3FA8D3EF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3FD-7A99-4D3A-85DA-520D82F4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626-5693-4D96-8936-94A669F3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983-20AB-4CA6-9C12-492E8626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252-D442-4F89-AB36-DC7F89CB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D4C-2438-460F-8424-FB4919AF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85A-9880-4EBE-8888-B7D2121E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503-54E6-4D6A-923F-F7ADBC07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37B-54B5-40C3-B564-CF183430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B22-5310-4504-8930-248E47AA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D5CB-B0EF-4785-9DA9-F14EA7891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53352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752480"/>
            <a:ext cx="76176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297180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1752480"/>
            <a:ext cx="76212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43800" y="53352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3886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514600"/>
            <a:ext cx="114300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20574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2514600"/>
            <a:ext cx="121932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523880" y="228564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78132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78132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781320" y="22860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657600" y="48002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724280" y="4800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73560" y="187812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as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22560" y="19051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timber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6080" y="419112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white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04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04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572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9572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572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86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88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58440" y="652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91840" y="1774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47280" y="3127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4240" y="64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68520" y="1762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01920" y="3103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3720" y="5213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62040" y="5181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26800" y="1338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1360" y="2014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72800" y="2525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46160" y="1317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2240" y="1992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89360" y="2536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6400" y="4800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25440" y="482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53680" y="4127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6800" y="25812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5720" y="17636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85640" y="1774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6200" y="40813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9960" y="25686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16200" y="5418000"/>
            <a:ext cx="21693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ter OS: NetBSD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st OS: DecUnix 4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on Prefix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2.1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57720" y="40176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Monotype Corsiva"/>
              </a:rPr>
              <a:t>Darwin IP Testb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22:55:55Z</dcterms:created>
  <dc:creator>Prashant Chandra</dc:creator>
  <dc:description/>
  <dc:language>en-US</dc:language>
  <cp:lastModifiedBy>Prashant Chandra</cp:lastModifiedBy>
  <cp:lastPrinted>1998-01-05T23:40:07Z</cp:lastPrinted>
  <dcterms:modified xsi:type="dcterms:W3CDTF">1998-01-05T23:40:14Z</dcterms:modified>
  <cp:revision>4</cp:revision>
  <dc:subject/>
  <dc:title>No Slide Title</dc:title>
</cp:coreProperties>
</file>