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9E4-70DF-44F5-9ABA-030A4B3B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57D-FE69-466F-A062-E2C44FB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EA2-1317-4D9D-AD03-CFB83D0C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75A-77EF-4575-B897-7EC5E5D8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684-FE7F-4872-A923-E85FEEE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CB8-890A-4F9B-818D-012E5A96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FFD-016B-44B8-8506-13B30635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EFE-60C6-45CD-A875-76645953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863-62FA-4096-A1D9-453DBA9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CD4-B0F5-41AC-8427-14B851F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60F-280B-404F-8F62-A15DFC16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088-1FD6-4660-A2E6-1DEDCB1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1385-27A1-4772-8095-C884DF19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52480"/>
            <a:ext cx="76176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297180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5486400"/>
            <a:ext cx="7617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1752480"/>
            <a:ext cx="762120" cy="6098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533520"/>
            <a:ext cx="7621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600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886200"/>
            <a:ext cx="10666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51460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0574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251460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285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8132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781320" y="8380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81320" y="22860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57600" y="4800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724280" y="4800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560" y="1878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as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2560" y="1905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imber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6080" y="419112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white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04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04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5720" y="685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5720" y="1905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5720" y="3124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86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56386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8440" y="65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1840" y="1774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3127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4240" y="64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8520" y="176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920" y="3103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3720" y="521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62040" y="5181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6800" y="1338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1360" y="2014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2800" y="2525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46160" y="131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2240" y="1992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9360" y="253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400" y="480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5440" y="482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3680" y="412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0" y="25812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6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5720" y="176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85640" y="1774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6200" y="4081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960" y="2568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7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6200" y="5418000"/>
            <a:ext cx="2169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 OS: NetBSD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st OS: DecUnix 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on Prefix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57720" y="40176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Monotype Corsiva"/>
              </a:rPr>
              <a:t>Darwin IP Test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22:55:55Z</dcterms:created>
  <dc:creator>Prashant Chandra</dc:creator>
  <dc:description/>
  <dc:language>en-US</dc:language>
  <cp:lastModifiedBy>Prashant Chandra</cp:lastModifiedBy>
  <cp:lastPrinted>1998-01-05T23:40:07Z</cp:lastPrinted>
  <dcterms:modified xsi:type="dcterms:W3CDTF">1998-01-05T23:40:14Z</dcterms:modified>
  <cp:revision>4</cp:revision>
  <dc:subject/>
  <dc:title>No Slide Title</dc:title>
</cp:coreProperties>
</file>