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9EB-1FC1-4FA7-BE21-34BF665F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6C0-225E-4E65-A482-47A0E863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929-93CF-42B1-B78B-7477657B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9B3-32D7-49F4-8F25-41B2B819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614-CE5A-42EA-AE8D-2E29F21F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8B9-73C1-4104-A960-D04D345E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1FC-2D45-4B1B-AAE3-98276F43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0D0-3611-49A1-9CE6-AC2C5F68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F8A-8A55-4C97-98D9-B85F5592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D1E-8617-4D00-992C-60F111C7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048-4DF0-4586-8C06-CAAE14E0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91F-9DCC-43D2-9DDC-FB18A55F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3529-1A88-4107-98C8-2FDED47CF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752480"/>
            <a:ext cx="76176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297180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1752480"/>
            <a:ext cx="76212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53352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886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51460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0574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2514600"/>
            <a:ext cx="1219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22856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8132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78132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781320" y="22860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57600" y="48002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724280" y="4800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73560" y="18781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as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2560" y="1905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imber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6080" y="419112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white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04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04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572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572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572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86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88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58440" y="652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91840" y="1774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280" y="3127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4240" y="64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8520" y="176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920" y="3103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3720" y="521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62040" y="5181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6800" y="1338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1360" y="2014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2800" y="2525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46160" y="1317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2240" y="1992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9360" y="253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400" y="4800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25440" y="482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3680" y="412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0" y="25812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5720" y="1763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85640" y="1774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6200" y="4081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960" y="25686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16200" y="5418000"/>
            <a:ext cx="2169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 OS: NetBSD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st OS: DecUnix 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on Prefix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57720" y="40176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Monotype Corsiva"/>
              </a:rPr>
              <a:t>Darwin IP Test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22:55:55Z</dcterms:created>
  <dc:creator>Prashant Chandra</dc:creator>
  <dc:description/>
  <dc:language>en-US</dc:language>
  <cp:lastModifiedBy>Prashant Chandra</cp:lastModifiedBy>
  <cp:lastPrinted>1998-01-05T23:40:07Z</cp:lastPrinted>
  <dcterms:modified xsi:type="dcterms:W3CDTF">1998-01-05T23:40:14Z</dcterms:modified>
  <cp:revision>4</cp:revision>
  <dc:subject/>
  <dc:title>No Slide Title</dc:title>
</cp:coreProperties>
</file>