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6200"/>
            <a:ext cx="9132840" cy="152640"/>
            <a:chOff x="0" y="12762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1276200"/>
              <a:ext cx="9132840" cy="7488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06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7120" y="6529320"/>
            <a:ext cx="1031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  Hui Zha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6480" y="6388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72A3-D6DC-4729-9D1B-3C1BF50983D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20220000">
            <a:off x="310680" y="310680"/>
            <a:ext cx="749520" cy="673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8040" y="263520"/>
            <a:ext cx="97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rne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esilient Multicast for Continuous Media Application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istributed reliability model with receiver defining the  tradeoff between reliability and real-tim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pplication: remote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er program needs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participants need inter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participants needs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t vs.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receivers need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must arrive in time to be played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continuous, large volu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must be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overhead should be sm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STORM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-Oriented Resili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form application-level recove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cyclic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has multiple par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organizing, built and maintained distrib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 quality considered and dynamically evalu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faste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to dynamic membership and network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hared distributed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erformance Evalu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45716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 over 10 sites on MB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version of vat, with STORM and SR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implemented in Intel Prosh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xx-recv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xx-send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Integrated Resource Management Framework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pl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reservat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eful adap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needs to shed load fairly among competing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e resource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hare resources: CPU,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space-share resources: memory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source management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share abstraction of diverse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mless integration of reservation and fair share resource allocatio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roportional Share &amp; Reserv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lient/process characterized b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mount by which client is charg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source it is entitled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 rot="10800000">
                <a:off x="3352680" y="3123720"/>
                <a:ext cx="137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90720" y="3962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 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proportional shar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ccff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and network scheduler implemented in NetBSD, 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Example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5908680" y="4172040"/>
            <a:ext cx="755640" cy="501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50160" y="4484520"/>
            <a:ext cx="48096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8176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8176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8176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3112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112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43112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907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0796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908320" y="42973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8320" y="44226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908320" y="4548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08320" y="4673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08320" y="4799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08320" y="49244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02400" y="3921120"/>
            <a:ext cx="1993680" cy="21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5920" y="605304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4680" y="6365880"/>
            <a:ext cx="5636880" cy="61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4680" y="6365880"/>
            <a:ext cx="563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4484520"/>
            <a:ext cx="204840" cy="376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3520" y="4548240"/>
            <a:ext cx="7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2720" y="5111640"/>
            <a:ext cx="69840" cy="250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61320" y="4503600"/>
            <a:ext cx="25380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6051600"/>
            <a:ext cx="69840" cy="314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6800" y="6066000"/>
            <a:ext cx="68040" cy="31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3520" y="4172040"/>
            <a:ext cx="755640" cy="3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560" y="4505400"/>
            <a:ext cx="20628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6720" y="4484520"/>
            <a:ext cx="48132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040" y="454824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8040" y="4673520"/>
            <a:ext cx="6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8040" y="479916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8680" y="45482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8680" y="467352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8680" y="47991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4840" y="45277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352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33520" y="42973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3520" y="442260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3520" y="45482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520" y="46735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3520" y="479916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520" y="49244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921120"/>
            <a:ext cx="1994040" cy="213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77880" y="5424480"/>
            <a:ext cx="480960" cy="376200"/>
            <a:chOff x="1577880" y="5424480"/>
            <a:chExt cx="480960" cy="376200"/>
          </a:xfrm>
        </p:grpSpPr>
        <p:sp>
          <p:nvSpPr>
            <p:cNvPr id="105" name=""/>
            <p:cNvSpPr/>
            <p:nvPr/>
          </p:nvSpPr>
          <p:spPr>
            <a:xfrm>
              <a:off x="1577880" y="542448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7880" y="565956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788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6553080"/>
            <a:ext cx="56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3520" y="6051600"/>
            <a:ext cx="180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34160" y="6051600"/>
            <a:ext cx="144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86080" y="5361120"/>
            <a:ext cx="6760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4680" y="5049720"/>
            <a:ext cx="274320" cy="312840"/>
          </a:xfrm>
          <a:prstGeom prst="upArrow">
            <a:avLst>
              <a:gd name="adj1" fmla="val 50000"/>
              <a:gd name="adj2" fmla="val 285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8320" y="53006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080" y="50292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0277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8240" y="36082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7960" y="36306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5480" y="6062760"/>
            <a:ext cx="68040" cy="31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4680" y="6427800"/>
            <a:ext cx="563688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7120" y="4518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45200" y="1789200"/>
            <a:ext cx="493560" cy="38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6520" y="319896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4560"/>
            <a:ext cx="4114800" cy="901440"/>
          </a:xfrm>
          <a:custGeom>
            <a:avLst/>
            <a:gdLst/>
            <a:ahLst/>
            <a:rect l="l" t="t" r="r" b="b"/>
            <a:pathLst>
              <a:path w="2592" h="568">
                <a:moveTo>
                  <a:pt x="48" y="144"/>
                </a:moveTo>
                <a:cubicBezTo>
                  <a:pt x="40" y="280"/>
                  <a:pt x="32" y="416"/>
                  <a:pt x="48" y="480"/>
                </a:cubicBezTo>
                <a:cubicBezTo>
                  <a:pt x="64" y="544"/>
                  <a:pt x="96" y="520"/>
                  <a:pt x="144" y="528"/>
                </a:cubicBezTo>
                <a:cubicBezTo>
                  <a:pt x="192" y="536"/>
                  <a:pt x="0" y="528"/>
                  <a:pt x="336" y="528"/>
                </a:cubicBezTo>
                <a:cubicBezTo>
                  <a:pt x="672" y="528"/>
                  <a:pt x="1808" y="528"/>
                  <a:pt x="2160" y="528"/>
                </a:cubicBezTo>
                <a:cubicBezTo>
                  <a:pt x="2512" y="528"/>
                  <a:pt x="2384" y="536"/>
                  <a:pt x="2448" y="528"/>
                </a:cubicBezTo>
                <a:cubicBezTo>
                  <a:pt x="2512" y="520"/>
                  <a:pt x="2520" y="568"/>
                  <a:pt x="2544" y="480"/>
                </a:cubicBezTo>
                <a:cubicBezTo>
                  <a:pt x="2568" y="392"/>
                  <a:pt x="2580" y="196"/>
                  <a:pt x="2592" y="0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6019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0760" y="2284560"/>
            <a:ext cx="4737240" cy="1066680"/>
          </a:xfrm>
          <a:custGeom>
            <a:avLst/>
            <a:gdLst/>
            <a:ahLst/>
            <a:rect l="l" t="t" r="r" b="b"/>
            <a:pathLst>
              <a:path w="1928" h="680">
                <a:moveTo>
                  <a:pt x="1928" y="624"/>
                </a:moveTo>
                <a:cubicBezTo>
                  <a:pt x="1604" y="624"/>
                  <a:pt x="1280" y="624"/>
                  <a:pt x="1016" y="624"/>
                </a:cubicBezTo>
                <a:cubicBezTo>
                  <a:pt x="752" y="624"/>
                  <a:pt x="504" y="632"/>
                  <a:pt x="344" y="624"/>
                </a:cubicBezTo>
                <a:cubicBezTo>
                  <a:pt x="184" y="616"/>
                  <a:pt x="112" y="680"/>
                  <a:pt x="56" y="576"/>
                </a:cubicBezTo>
                <a:cubicBezTo>
                  <a:pt x="0" y="472"/>
                  <a:pt x="4" y="236"/>
                  <a:pt x="8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1762200"/>
            <a:ext cx="20304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2560" y="2716200"/>
            <a:ext cx="131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Times New Roman"/>
              </a:rPr>
              <a:t>Infor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3560" y="3276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c8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6800" y="606420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02:24:37Z</dcterms:created>
  <dc:creator>hzhang</dc:creator>
  <dc:description/>
  <dc:language>en-US</dc:language>
  <cp:lastModifiedBy>hzhang</cp:lastModifiedBy>
  <cp:lastPrinted>1997-10-18T03:16:14Z</cp:lastPrinted>
  <dcterms:modified xsi:type="dcterms:W3CDTF">1997-10-27T16:01:30Z</dcterms:modified>
  <cp:revision>5</cp:revision>
  <dc:subject/>
  <dc:title>Resilient Multicast for Continuous Media Applications</dc:title>
</cp:coreProperties>
</file>