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778-712A-4220-98B9-492516BE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2BB-D2E9-4AD9-8CF7-59A23494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1152-2F66-4A70-8A0F-87EEFBF5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486-B37A-4695-8B8A-7BC6E883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230-0A99-4065-9DF5-CF2D0214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58FF-07B0-4B02-898A-9B65CAE6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53B4-115A-4144-9FA0-400A9648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482-3807-45CE-906E-D5415225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B81-7526-4A7B-A813-B33608D0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40F5-7F20-4FEB-9DC3-B6AA2F49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3AB6-EA67-423C-AD90-194D3311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3D6-C520-4792-A4C4-E898E102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37C3-7B82-4253-B6E1-D2E2CA8E5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9720" y="506520"/>
            <a:ext cx="28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asurement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54560" y="210816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16320" y="2641680"/>
            <a:ext cx="1800" cy="38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16320" y="1725480"/>
            <a:ext cx="1800" cy="38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54560" y="1190520"/>
            <a:ext cx="1523880" cy="5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54560" y="3024360"/>
            <a:ext cx="1523880" cy="5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54560" y="4772160"/>
            <a:ext cx="15238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9720" y="2925720"/>
            <a:ext cx="23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asurement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26080" y="351936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diction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16320" y="530712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9720" y="3063960"/>
            <a:ext cx="206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8981600">
            <a:off x="7790760" y="1663920"/>
            <a:ext cx="79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8981600">
            <a:off x="7786800" y="2959560"/>
            <a:ext cx="74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8981600">
            <a:off x="7786800" y="2426040"/>
            <a:ext cx="74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7693920" y="22122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8981600">
            <a:off x="6752520" y="1511640"/>
            <a:ext cx="117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1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8981600">
            <a:off x="6810480" y="288360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8981600">
            <a:off x="6810480" y="235008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6703200" y="22122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8981600">
            <a:off x="5838120" y="1511640"/>
            <a:ext cx="117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2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8981600">
            <a:off x="5896080" y="288360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8981600">
            <a:off x="5896080" y="235008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5788800" y="22122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26080" y="17658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26080" y="2527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26080" y="30610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9720" y="712800"/>
            <a:ext cx="239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78280" y="343080"/>
            <a:ext cx="2357280" cy="5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6240" y="5686560"/>
            <a:ext cx="20462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1" idx="3"/>
            <a:endCxn id="47" idx="1"/>
          </p:cNvCxnSpPr>
          <p:nvPr/>
        </p:nvCxnSpPr>
        <p:spPr>
          <a:xfrm>
            <a:off x="2432160" y="3318840"/>
            <a:ext cx="1022760" cy="1720080"/>
          </a:xfrm>
          <a:prstGeom prst="bentConnector3">
            <a:avLst>
              <a:gd name="adj1" fmla="val 4978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1" idx="3"/>
            <a:endCxn id="46" idx="1"/>
          </p:cNvCxnSpPr>
          <p:nvPr/>
        </p:nvCxnSpPr>
        <p:spPr>
          <a:xfrm flipV="1">
            <a:off x="2432160" y="3291840"/>
            <a:ext cx="1022760" cy="27360"/>
          </a:xfrm>
          <a:prstGeom prst="bentConnector3">
            <a:avLst>
              <a:gd name="adj1" fmla="val 4978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/>
          <p:nvPr/>
        </p:nvCxnSpPr>
        <p:spPr>
          <a:xfrm>
            <a:off x="4978440" y="3292560"/>
            <a:ext cx="2160" cy="1746720"/>
          </a:xfrm>
          <a:prstGeom prst="bentConnector3">
            <a:avLst>
              <a:gd name="adj1" fmla="val 357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3046320" y="3941640"/>
            <a:ext cx="234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16320" y="3559320"/>
            <a:ext cx="1800" cy="382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79880" y="3292560"/>
            <a:ext cx="79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73280" y="874800"/>
            <a:ext cx="11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40040" y="8730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5240" y="8762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80120" y="4854600"/>
            <a:ext cx="51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92760" y="465768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time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80120" y="520380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92760" y="500688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80120" y="555300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92760" y="535608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87880" y="4657680"/>
            <a:ext cx="2254320" cy="10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132440" y="2440080"/>
            <a:ext cx="75960" cy="55080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0800000">
            <a:off x="4037040" y="2433600"/>
            <a:ext cx="76320" cy="55080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78320" y="2379600"/>
            <a:ext cx="74520" cy="63972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4307040" y="2373120"/>
            <a:ext cx="55440" cy="63972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180040" y="2317320"/>
            <a:ext cx="0" cy="15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065560" y="2422440"/>
            <a:ext cx="0" cy="144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87600" y="5419800"/>
            <a:ext cx="1428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7600" y="4094280"/>
            <a:ext cx="142884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4094280"/>
            <a:ext cx="142884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87600" y="2989440"/>
            <a:ext cx="1428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2" idx="0"/>
            <a:endCxn id="93" idx="2"/>
          </p:cNvCxnSpPr>
          <p:nvPr/>
        </p:nvCxnSpPr>
        <p:spPr>
          <a:xfrm flipV="1">
            <a:off x="4101840" y="4938480"/>
            <a:ext cx="1080" cy="4816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2" idx="0"/>
            <a:endCxn id="94" idx="2"/>
          </p:cNvCxnSpPr>
          <p:nvPr/>
        </p:nvCxnSpPr>
        <p:spPr>
          <a:xfrm flipH="1" flipV="1" rot="5400000">
            <a:off x="5565240" y="3474720"/>
            <a:ext cx="481680" cy="3408840"/>
          </a:xfrm>
          <a:prstGeom prst="bentConnector3">
            <a:avLst>
              <a:gd name="adj1" fmla="val 3627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3" idx="0"/>
            <a:endCxn id="95" idx="2"/>
          </p:cNvCxnSpPr>
          <p:nvPr/>
        </p:nvCxnSpPr>
        <p:spPr>
          <a:xfrm flipV="1">
            <a:off x="4101840" y="3522240"/>
            <a:ext cx="1080" cy="5724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3" idx="0"/>
            <a:endCxn id="94" idx="0"/>
          </p:cNvCxnSpPr>
          <p:nvPr/>
        </p:nvCxnSpPr>
        <p:spPr>
          <a:xfrm flipH="1" rot="16200000">
            <a:off x="5805360" y="2390760"/>
            <a:ext cx="2160" cy="34088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159520" y="5203800"/>
            <a:ext cx="23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asurement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91160" y="353232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diction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83200" y="4089240"/>
            <a:ext cx="16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fit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81400" y="1806480"/>
            <a:ext cx="1955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41480" y="2555640"/>
            <a:ext cx="171720" cy="451080"/>
            <a:chOff x="3741480" y="2555640"/>
            <a:chExt cx="171720" cy="451080"/>
          </a:xfrm>
        </p:grpSpPr>
        <p:sp>
          <p:nvSpPr>
            <p:cNvPr id="105" name=""/>
            <p:cNvSpPr/>
            <p:nvPr/>
          </p:nvSpPr>
          <p:spPr>
            <a:xfrm>
              <a:off x="3836880" y="2560680"/>
              <a:ext cx="76320" cy="4460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0800000">
              <a:off x="3741480" y="2555640"/>
              <a:ext cx="75960" cy="4460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174840" y="1906560"/>
            <a:ext cx="1955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68640" y="2016000"/>
            <a:ext cx="1955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956120" y="2523960"/>
            <a:ext cx="0" cy="133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22560" y="4439880"/>
            <a:ext cx="1972080" cy="163800"/>
            <a:chOff x="4822560" y="4439880"/>
            <a:chExt cx="1972080" cy="163800"/>
          </a:xfrm>
        </p:grpSpPr>
        <p:sp>
          <p:nvSpPr>
            <p:cNvPr id="111" name=""/>
            <p:cNvSpPr/>
            <p:nvPr/>
          </p:nvSpPr>
          <p:spPr>
            <a:xfrm rot="16200000">
              <a:off x="5782320" y="3500640"/>
              <a:ext cx="73080" cy="195120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5761440" y="3591720"/>
              <a:ext cx="73080" cy="19508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871560" y="4218120"/>
            <a:ext cx="19558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5400000">
            <a:off x="3081240" y="4137480"/>
            <a:ext cx="49320" cy="59364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rot="16200000">
            <a:off x="3074760" y="4199760"/>
            <a:ext cx="49320" cy="59364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739600" y="3442680"/>
            <a:ext cx="828720" cy="1026720"/>
            <a:chOff x="2739600" y="3442680"/>
            <a:chExt cx="828720" cy="1026720"/>
          </a:xfrm>
        </p:grpSpPr>
        <p:sp>
          <p:nvSpPr>
            <p:cNvPr id="117" name=""/>
            <p:cNvSpPr/>
            <p:nvPr/>
          </p:nvSpPr>
          <p:spPr>
            <a:xfrm flipH="1" rot="2278200">
              <a:off x="3096360" y="3336120"/>
              <a:ext cx="60840" cy="118260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rot="13078800">
              <a:off x="3149640" y="3393720"/>
              <a:ext cx="60840" cy="11818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785680" y="4487760"/>
            <a:ext cx="830880" cy="1016280"/>
            <a:chOff x="2785680" y="4487760"/>
            <a:chExt cx="830880" cy="1016280"/>
          </a:xfrm>
        </p:grpSpPr>
        <p:sp>
          <p:nvSpPr>
            <p:cNvPr id="120" name=""/>
            <p:cNvSpPr/>
            <p:nvPr/>
          </p:nvSpPr>
          <p:spPr>
            <a:xfrm flipH="1" rot="8572200">
              <a:off x="3204000" y="4386240"/>
              <a:ext cx="61200" cy="118296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rot="19372200">
              <a:off x="3135960" y="4422960"/>
              <a:ext cx="61200" cy="11822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57880" y="1987560"/>
            <a:ext cx="1915920" cy="714240"/>
            <a:chOff x="6257880" y="1987560"/>
            <a:chExt cx="1915920" cy="714240"/>
          </a:xfrm>
        </p:grpSpPr>
        <p:sp>
          <p:nvSpPr>
            <p:cNvPr id="123" name=""/>
            <p:cNvSpPr/>
            <p:nvPr/>
          </p:nvSpPr>
          <p:spPr>
            <a:xfrm>
              <a:off x="6908760" y="199692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/R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6257880" y="1987560"/>
              <a:ext cx="1915920" cy="714240"/>
              <a:chOff x="6257880" y="1987560"/>
              <a:chExt cx="1915920" cy="7142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357960" y="2121840"/>
                <a:ext cx="536400" cy="128160"/>
                <a:chOff x="6357960" y="2121840"/>
                <a:chExt cx="536400" cy="128160"/>
              </a:xfrm>
            </p:grpSpPr>
            <p:sp>
              <p:nvSpPr>
                <p:cNvPr id="126" name=""/>
                <p:cNvSpPr/>
                <p:nvPr/>
              </p:nvSpPr>
              <p:spPr>
                <a:xfrm flipH="1" rot="5400000">
                  <a:off x="6600600" y="1884600"/>
                  <a:ext cx="56520" cy="530640"/>
                </a:xfrm>
                <a:custGeom>
                  <a:avLst/>
                  <a:gdLst/>
                  <a:ahLst/>
                  <a:rect l="l" t="t" r="r" b="b"/>
                  <a:pathLst>
                    <a:path w="187" h="386">
                      <a:moveTo>
                        <a:pt x="0" y="0"/>
                      </a:moveTo>
                      <a:cubicBezTo>
                        <a:pt x="91" y="66"/>
                        <a:pt x="183" y="132"/>
                        <a:pt x="185" y="196"/>
                      </a:cubicBezTo>
                      <a:cubicBezTo>
                        <a:pt x="187" y="260"/>
                        <a:pt x="99" y="323"/>
                        <a:pt x="11" y="38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 rot="16200000">
                  <a:off x="6594840" y="1956240"/>
                  <a:ext cx="56520" cy="530640"/>
                </a:xfrm>
                <a:custGeom>
                  <a:avLst/>
                  <a:gdLst/>
                  <a:ahLst/>
                  <a:rect l="l" t="t" r="r" b="b"/>
                  <a:pathLst>
                    <a:path w="187" h="386">
                      <a:moveTo>
                        <a:pt x="0" y="0"/>
                      </a:moveTo>
                      <a:cubicBezTo>
                        <a:pt x="91" y="66"/>
                        <a:pt x="183" y="132"/>
                        <a:pt x="185" y="196"/>
                      </a:cubicBezTo>
                      <a:cubicBezTo>
                        <a:pt x="187" y="260"/>
                        <a:pt x="99" y="323"/>
                        <a:pt x="11" y="386"/>
                      </a:cubicBez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6396120" y="2525400"/>
                <a:ext cx="5126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08760" y="2328480"/>
                <a:ext cx="116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rea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257880" y="1987560"/>
                <a:ext cx="1915920" cy="714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16240" y="1095480"/>
            <a:ext cx="2662200" cy="3633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89200" y="1812960"/>
            <a:ext cx="1049400" cy="65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89200" y="2260440"/>
            <a:ext cx="1058760" cy="328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689200" y="2680920"/>
            <a:ext cx="10684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89200" y="2781000"/>
            <a:ext cx="1060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689200" y="2898720"/>
            <a:ext cx="106200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4064760" y="2496240"/>
            <a:ext cx="2047680" cy="433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312880" y="1812960"/>
            <a:ext cx="1049400" cy="658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313240" y="2260440"/>
            <a:ext cx="1059120" cy="328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313240" y="2680920"/>
            <a:ext cx="1068480" cy="4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313240" y="2781000"/>
            <a:ext cx="106056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313240" y="2898720"/>
            <a:ext cx="1062000" cy="641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99040" y="2522520"/>
            <a:ext cx="20476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24000" y="1800360"/>
            <a:ext cx="160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s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diffe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436640" y="4514760"/>
            <a:ext cx="171720" cy="451080"/>
            <a:chOff x="4436640" y="4514760"/>
            <a:chExt cx="171720" cy="451080"/>
          </a:xfrm>
        </p:grpSpPr>
        <p:sp>
          <p:nvSpPr>
            <p:cNvPr id="146" name=""/>
            <p:cNvSpPr/>
            <p:nvPr/>
          </p:nvSpPr>
          <p:spPr>
            <a:xfrm flipV="1">
              <a:off x="4532040" y="4514400"/>
              <a:ext cx="76320" cy="4460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 rot="10800000">
              <a:off x="4436640" y="4519440"/>
              <a:ext cx="75960" cy="4460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183360" y="1812960"/>
            <a:ext cx="160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tar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diffe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2921040" y="2525400"/>
            <a:ext cx="2047680" cy="374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30480" y="4896000"/>
            <a:ext cx="28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/Response on different trans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8600" y="4122720"/>
            <a:ext cx="1566720" cy="39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17960" y="10954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3668760" y="2533680"/>
            <a:ext cx="20476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57680" y="3730680"/>
            <a:ext cx="154764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029280" y="4014720"/>
            <a:ext cx="1915920" cy="714600"/>
            <a:chOff x="6029280" y="4014720"/>
            <a:chExt cx="1915920" cy="714600"/>
          </a:xfrm>
        </p:grpSpPr>
        <p:sp>
          <p:nvSpPr>
            <p:cNvPr id="156" name=""/>
            <p:cNvSpPr/>
            <p:nvPr/>
          </p:nvSpPr>
          <p:spPr>
            <a:xfrm>
              <a:off x="6680160" y="402444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/R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6029280" y="4014720"/>
              <a:ext cx="1915920" cy="714600"/>
              <a:chOff x="6029280" y="4014720"/>
              <a:chExt cx="1915920" cy="7146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6129360" y="4149720"/>
                <a:ext cx="536400" cy="128160"/>
                <a:chOff x="6129360" y="4149720"/>
                <a:chExt cx="536400" cy="128160"/>
              </a:xfrm>
            </p:grpSpPr>
            <p:sp>
              <p:nvSpPr>
                <p:cNvPr id="159" name=""/>
                <p:cNvSpPr/>
                <p:nvPr/>
              </p:nvSpPr>
              <p:spPr>
                <a:xfrm flipH="1" rot="5400000">
                  <a:off x="6372000" y="3912840"/>
                  <a:ext cx="56880" cy="530640"/>
                </a:xfrm>
                <a:custGeom>
                  <a:avLst/>
                  <a:gdLst/>
                  <a:ahLst/>
                  <a:rect l="l" t="t" r="r" b="b"/>
                  <a:pathLst>
                    <a:path w="187" h="386">
                      <a:moveTo>
                        <a:pt x="0" y="0"/>
                      </a:moveTo>
                      <a:cubicBezTo>
                        <a:pt x="91" y="66"/>
                        <a:pt x="183" y="132"/>
                        <a:pt x="185" y="196"/>
                      </a:cubicBezTo>
                      <a:cubicBezTo>
                        <a:pt x="187" y="260"/>
                        <a:pt x="99" y="323"/>
                        <a:pt x="11" y="38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 rot="16200000">
                  <a:off x="6366240" y="3984120"/>
                  <a:ext cx="56880" cy="530640"/>
                </a:xfrm>
                <a:custGeom>
                  <a:avLst/>
                  <a:gdLst/>
                  <a:ahLst/>
                  <a:rect l="l" t="t" r="r" b="b"/>
                  <a:pathLst>
                    <a:path w="187" h="386">
                      <a:moveTo>
                        <a:pt x="0" y="0"/>
                      </a:moveTo>
                      <a:cubicBezTo>
                        <a:pt x="91" y="66"/>
                        <a:pt x="183" y="132"/>
                        <a:pt x="185" y="196"/>
                      </a:cubicBezTo>
                      <a:cubicBezTo>
                        <a:pt x="187" y="260"/>
                        <a:pt x="99" y="323"/>
                        <a:pt x="11" y="386"/>
                      </a:cubicBez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6167520" y="4552920"/>
                <a:ext cx="5126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80160" y="4356000"/>
                <a:ext cx="116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rea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29280" y="4014720"/>
                <a:ext cx="1915920" cy="71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54200" y="942840"/>
            <a:ext cx="4488120" cy="5181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67000" y="3573360"/>
            <a:ext cx="3775320" cy="2551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1355760"/>
            <a:ext cx="763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09680" y="1812960"/>
            <a:ext cx="763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2270160"/>
            <a:ext cx="763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2727360"/>
            <a:ext cx="763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1600" y="117072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P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6440" y="16279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3400" y="208512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55120" y="25423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720" y="299952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d Callb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18080" y="1127160"/>
            <a:ext cx="1881000" cy="15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45680" y="1184400"/>
            <a:ext cx="124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9520" y="5427720"/>
            <a:ext cx="2709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79840" y="5423760"/>
            <a:ext cx="29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onnection Hand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5400" y="445716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Req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87720" y="4916520"/>
            <a:ext cx="76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5400" y="503676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Req/R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Req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87720" y="5526000"/>
            <a:ext cx="76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86280" y="1127160"/>
            <a:ext cx="1067040" cy="22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5473080" y="1784880"/>
            <a:ext cx="168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wa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86280" y="3457440"/>
            <a:ext cx="1067040" cy="119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5796720" y="38534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30800" y="3927600"/>
            <a:ext cx="56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3320" y="13557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3320" y="18129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3320" y="22701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3320" y="27273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61640" y="117072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P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61280" y="16408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61640" y="208512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62000" y="2556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62720" y="29995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b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877680" y="3232440"/>
            <a:ext cx="4657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nd Demulti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40160" y="1992240"/>
            <a:ext cx="27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99080" y="1995480"/>
            <a:ext cx="18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78400" y="4921200"/>
            <a:ext cx="327492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51400" y="496620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22520" y="5567400"/>
            <a:ext cx="3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7105680" y="2881440"/>
            <a:ext cx="93600" cy="62064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6160" y="362520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and 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3096360" y="1729080"/>
            <a:ext cx="154116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3206520" y="17190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erial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260320" y="1133640"/>
            <a:ext cx="384840" cy="1540800"/>
            <a:chOff x="5260320" y="1133640"/>
            <a:chExt cx="384840" cy="1540800"/>
          </a:xfrm>
        </p:grpSpPr>
        <p:sp>
          <p:nvSpPr>
            <p:cNvPr id="208" name=""/>
            <p:cNvSpPr/>
            <p:nvPr/>
          </p:nvSpPr>
          <p:spPr>
            <a:xfrm rot="16200000">
              <a:off x="4700160" y="1729440"/>
              <a:ext cx="15408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4936320" y="1653480"/>
              <a:ext cx="101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ial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038480" y="2292480"/>
            <a:ext cx="1265400" cy="379080"/>
            <a:chOff x="4038480" y="2292480"/>
            <a:chExt cx="1265400" cy="379080"/>
          </a:xfrm>
        </p:grpSpPr>
        <p:sp>
          <p:nvSpPr>
            <p:cNvPr id="211" name=""/>
            <p:cNvSpPr/>
            <p:nvPr/>
          </p:nvSpPr>
          <p:spPr>
            <a:xfrm>
              <a:off x="4038480" y="2372760"/>
              <a:ext cx="1265400" cy="29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63400" y="229248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849920" y="2657520"/>
            <a:ext cx="0" cy="22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5360" y="3100320"/>
            <a:ext cx="1881360" cy="15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33440" y="3135240"/>
            <a:ext cx="13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57440" y="3965400"/>
            <a:ext cx="27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3114000" y="3702960"/>
            <a:ext cx="154152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3224160" y="369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erial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277600" y="3106440"/>
            <a:ext cx="384840" cy="1541160"/>
            <a:chOff x="5277600" y="3106440"/>
            <a:chExt cx="384840" cy="1541160"/>
          </a:xfrm>
        </p:grpSpPr>
        <p:sp>
          <p:nvSpPr>
            <p:cNvPr id="220" name=""/>
            <p:cNvSpPr/>
            <p:nvPr/>
          </p:nvSpPr>
          <p:spPr>
            <a:xfrm rot="16200000">
              <a:off x="4717080" y="3702240"/>
              <a:ext cx="154116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6200000">
              <a:off x="4953600" y="3627000"/>
              <a:ext cx="101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ial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054320" y="4260600"/>
            <a:ext cx="1265400" cy="382320"/>
            <a:chOff x="4054320" y="4260600"/>
            <a:chExt cx="1265400" cy="382320"/>
          </a:xfrm>
        </p:grpSpPr>
        <p:sp>
          <p:nvSpPr>
            <p:cNvPr id="223" name=""/>
            <p:cNvSpPr/>
            <p:nvPr/>
          </p:nvSpPr>
          <p:spPr>
            <a:xfrm>
              <a:off x="4054320" y="4343760"/>
              <a:ext cx="1265400" cy="29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74920" y="426060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362000" y="381636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and 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4648320"/>
            <a:ext cx="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12880" y="632088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Setup and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188440" y="3136680"/>
            <a:ext cx="784800" cy="163440"/>
            <a:chOff x="2188440" y="3136680"/>
            <a:chExt cx="784800" cy="163440"/>
          </a:xfrm>
        </p:grpSpPr>
        <p:sp>
          <p:nvSpPr>
            <p:cNvPr id="229" name=""/>
            <p:cNvSpPr/>
            <p:nvPr/>
          </p:nvSpPr>
          <p:spPr>
            <a:xfrm rot="5400000">
              <a:off x="2540520" y="2875320"/>
              <a:ext cx="72720" cy="7768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2548440" y="2784240"/>
              <a:ext cx="72360" cy="7768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 flipH="1" rot="5400000">
            <a:off x="2525040" y="3539880"/>
            <a:ext cx="72720" cy="77796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rot="5400000">
            <a:off x="7120080" y="2792880"/>
            <a:ext cx="74520" cy="60948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26320" y="508644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/R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175520" y="5211720"/>
            <a:ext cx="536400" cy="128160"/>
            <a:chOff x="7175520" y="5211720"/>
            <a:chExt cx="536400" cy="128160"/>
          </a:xfrm>
        </p:grpSpPr>
        <p:sp>
          <p:nvSpPr>
            <p:cNvPr id="235" name=""/>
            <p:cNvSpPr/>
            <p:nvPr/>
          </p:nvSpPr>
          <p:spPr>
            <a:xfrm flipH="1" rot="5400000">
              <a:off x="7418160" y="4974840"/>
              <a:ext cx="56880" cy="5306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rot="16200000">
              <a:off x="7412400" y="5046120"/>
              <a:ext cx="56880" cy="5306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7213680" y="5614920"/>
            <a:ext cx="512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26320" y="5418000"/>
            <a:ext cx="11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75440" y="5076720"/>
            <a:ext cx="1916280" cy="124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13680" y="5916600"/>
            <a:ext cx="49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11920" y="5680080"/>
            <a:ext cx="11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849560" y="5784840"/>
            <a:ext cx="178200" cy="620640"/>
            <a:chOff x="4849560" y="5784840"/>
            <a:chExt cx="178200" cy="620640"/>
          </a:xfrm>
        </p:grpSpPr>
        <p:sp>
          <p:nvSpPr>
            <p:cNvPr id="243" name=""/>
            <p:cNvSpPr/>
            <p:nvPr/>
          </p:nvSpPr>
          <p:spPr>
            <a:xfrm flipH="1" rot="10800000">
              <a:off x="4934160" y="5784840"/>
              <a:ext cx="93600" cy="6206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849200" y="5785200"/>
              <a:ext cx="74520" cy="6094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62320" y="228600"/>
            <a:ext cx="1828800" cy="4952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441972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6019920"/>
            <a:ext cx="5029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Device (eg, Coll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8981600">
            <a:off x="919440" y="47743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8981600">
            <a:off x="933840" y="4926240"/>
            <a:ext cx="55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8981600">
            <a:off x="933840" y="5154840"/>
            <a:ext cx="55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4724280"/>
            <a:ext cx="4953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8981600">
            <a:off x="6355800" y="2716560"/>
            <a:ext cx="79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8981600">
            <a:off x="6351480" y="4011840"/>
            <a:ext cx="74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18981600">
            <a:off x="6351480" y="3478680"/>
            <a:ext cx="74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258960" y="3264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8981600">
            <a:off x="5317560" y="2564280"/>
            <a:ext cx="117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1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8981600">
            <a:off x="5375160" y="393624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8981600">
            <a:off x="5375160" y="340272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6200000">
            <a:off x="5268240" y="3264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8981600">
            <a:off x="4403160" y="2564280"/>
            <a:ext cx="117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2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8981600">
            <a:off x="4460760" y="393624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8981600">
            <a:off x="4460760" y="340272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4353840" y="3264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1120" y="28184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91120" y="35802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91120" y="4113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828440" y="54100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8981600">
            <a:off x="6482160" y="48506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8981600">
            <a:off x="5505840" y="4773960"/>
            <a:ext cx="55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8981600">
            <a:off x="4515120" y="4773960"/>
            <a:ext cx="55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4875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320040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76720" y="38098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259092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14600" y="1981080"/>
            <a:ext cx="15238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14600" y="441972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14600" y="91440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4724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848520" y="5550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8800" y="11430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15200" y="2666880"/>
            <a:ext cx="1523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9608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4648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8305920" y="38862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15238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077320" y="152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31920" y="159876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0120" y="91440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190760" y="1219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31720" y="8370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gger R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01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58200" y="4495680"/>
            <a:ext cx="2286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62720" y="5715000"/>
            <a:ext cx="3429000" cy="914400"/>
          </a:xfrm>
          <a:prstGeom prst="wedgeRoundRectCallout">
            <a:avLst>
              <a:gd name="adj1" fmla="val 37638"/>
              <a:gd name="adj2" fmla="val -6006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41920" y="5789880"/>
            <a:ext cx="32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put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Prediction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38480" y="4724280"/>
            <a:ext cx="4953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742200" y="457200"/>
            <a:ext cx="160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87680" y="2408400"/>
            <a:ext cx="2109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2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69320" y="3384720"/>
            <a:ext cx="214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74960" y="1433520"/>
            <a:ext cx="1535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23840" y="4359240"/>
            <a:ext cx="1637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9160" y="304920"/>
            <a:ext cx="2399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erver_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73880" y="5334120"/>
            <a:ext cx="1570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62400" y="914400"/>
            <a:ext cx="1465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61320" y="3429000"/>
            <a:ext cx="2856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buffer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61680" y="4800600"/>
            <a:ext cx="1500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60960" y="5334120"/>
            <a:ext cx="2280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buffer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33720" y="5334120"/>
            <a:ext cx="99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61680" y="2819520"/>
            <a:ext cx="207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29160" y="912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29160" y="1887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29160" y="28623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29160" y="38386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29160" y="481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29160" y="1143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62040" y="1447920"/>
            <a:ext cx="2245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buffer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5333760" y="1676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2916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638320" y="35053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50292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333760" y="5562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03" idx="3"/>
            <a:endCxn id="301" idx="3"/>
          </p:cNvCxnSpPr>
          <p:nvPr/>
        </p:nvCxnSpPr>
        <p:spPr>
          <a:xfrm flipV="1">
            <a:off x="5368680" y="3617280"/>
            <a:ext cx="254520" cy="975240"/>
          </a:xfrm>
          <a:prstGeom prst="bentConnector3">
            <a:avLst>
              <a:gd name="adj1" fmla="val 189943"/>
            </a:avLst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 flipH="1">
            <a:off x="2362320" y="40384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62320" y="4038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819520" y="51055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1952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10" idx="2"/>
            <a:endCxn id="303" idx="1"/>
          </p:cNvCxnSpPr>
          <p:nvPr/>
        </p:nvCxnSpPr>
        <p:spPr>
          <a:xfrm flipH="1" flipV="1" rot="5400000">
            <a:off x="2568240" y="4652640"/>
            <a:ext cx="1208880" cy="1087920"/>
          </a:xfrm>
          <a:prstGeom prst="bentConnector4">
            <a:avLst>
              <a:gd name="adj1" fmla="val -18915"/>
              <a:gd name="adj2" fmla="val 72823"/>
            </a:avLst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188160" y="6076800"/>
            <a:ext cx="160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35080" y="4900680"/>
            <a:ext cx="2109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2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16720" y="3726000"/>
            <a:ext cx="214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71240" y="2581200"/>
            <a:ext cx="1637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1480" y="2583000"/>
            <a:ext cx="2399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erver_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97160" y="1374840"/>
            <a:ext cx="1584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80400" y="192240"/>
            <a:ext cx="1500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21400" y="258768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549160" y="2770200"/>
            <a:ext cx="614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0" idx="0"/>
            <a:endCxn id="331" idx="2"/>
          </p:cNvCxnSpPr>
          <p:nvPr/>
        </p:nvCxnSpPr>
        <p:spPr>
          <a:xfrm flipH="1" flipV="1" rot="5400000">
            <a:off x="3635280" y="5720760"/>
            <a:ext cx="710280" cy="2160"/>
          </a:xfrm>
          <a:prstGeom prst="bentConnector3">
            <a:avLst>
              <a:gd name="adj1" fmla="val 4984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1" idx="0"/>
            <a:endCxn id="332" idx="2"/>
          </p:cNvCxnSpPr>
          <p:nvPr/>
        </p:nvCxnSpPr>
        <p:spPr>
          <a:xfrm flipV="1">
            <a:off x="3990600" y="4191840"/>
            <a:ext cx="1080" cy="7088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32" idx="0"/>
            <a:endCxn id="333" idx="2"/>
          </p:cNvCxnSpPr>
          <p:nvPr/>
        </p:nvCxnSpPr>
        <p:spPr>
          <a:xfrm flipV="1">
            <a:off x="3990600" y="3047400"/>
            <a:ext cx="1080" cy="6786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3" idx="0"/>
            <a:endCxn id="335" idx="2"/>
          </p:cNvCxnSpPr>
          <p:nvPr/>
        </p:nvCxnSpPr>
        <p:spPr>
          <a:xfrm flipV="1" rot="16200000">
            <a:off x="3619800" y="2209680"/>
            <a:ext cx="74052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35" idx="0"/>
            <a:endCxn id="336" idx="2"/>
          </p:cNvCxnSpPr>
          <p:nvPr/>
        </p:nvCxnSpPr>
        <p:spPr>
          <a:xfrm flipV="1" rot="16200000">
            <a:off x="3251520" y="636480"/>
            <a:ext cx="716760" cy="759600"/>
          </a:xfrm>
          <a:prstGeom prst="bentConnector3">
            <a:avLst>
              <a:gd name="adj1" fmla="val 4984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32" idx="0"/>
            <a:endCxn id="337" idx="2"/>
          </p:cNvCxnSpPr>
          <p:nvPr/>
        </p:nvCxnSpPr>
        <p:spPr>
          <a:xfrm flipH="1" flipV="1" rot="5400000">
            <a:off x="5167440" y="1876680"/>
            <a:ext cx="672480" cy="3026520"/>
          </a:xfrm>
          <a:prstGeom prst="bentConnector3">
            <a:avLst>
              <a:gd name="adj1" fmla="val 4986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3" idx="0"/>
            <a:endCxn id="337" idx="0"/>
          </p:cNvCxnSpPr>
          <p:nvPr/>
        </p:nvCxnSpPr>
        <p:spPr>
          <a:xfrm flipH="1" rot="16200000">
            <a:off x="5500440" y="1071360"/>
            <a:ext cx="7200" cy="3026520"/>
          </a:xfrm>
          <a:prstGeom prst="bentConnector3">
            <a:avLst>
              <a:gd name="adj1" fmla="val -584736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6" name=""/>
          <p:cNvGrpSpPr/>
          <p:nvPr/>
        </p:nvGrpSpPr>
        <p:grpSpPr>
          <a:xfrm>
            <a:off x="4798800" y="2646360"/>
            <a:ext cx="1704960" cy="277200"/>
            <a:chOff x="4798800" y="2646360"/>
            <a:chExt cx="1704960" cy="277200"/>
          </a:xfrm>
        </p:grpSpPr>
        <p:sp>
          <p:nvSpPr>
            <p:cNvPr id="347" name=""/>
            <p:cNvSpPr/>
            <p:nvPr/>
          </p:nvSpPr>
          <p:spPr>
            <a:xfrm rot="16200000">
              <a:off x="5598360" y="1864800"/>
              <a:ext cx="123840" cy="168696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5400000">
              <a:off x="5580000" y="2018160"/>
              <a:ext cx="123840" cy="168660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230280" y="3041280"/>
            <a:ext cx="231480" cy="676800"/>
            <a:chOff x="3230280" y="3041280"/>
            <a:chExt cx="231480" cy="676800"/>
          </a:xfrm>
        </p:grpSpPr>
        <p:sp>
          <p:nvSpPr>
            <p:cNvPr id="350" name=""/>
            <p:cNvSpPr/>
            <p:nvPr/>
          </p:nvSpPr>
          <p:spPr>
            <a:xfrm rot="10800000">
              <a:off x="3230280" y="3041280"/>
              <a:ext cx="103320" cy="66960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58440" y="3048840"/>
              <a:ext cx="103320" cy="6692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549520" y="2871720"/>
            <a:ext cx="630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521080" y="6132240"/>
            <a:ext cx="676080" cy="231480"/>
            <a:chOff x="2521080" y="6132240"/>
            <a:chExt cx="676080" cy="231480"/>
          </a:xfrm>
        </p:grpSpPr>
        <p:sp>
          <p:nvSpPr>
            <p:cNvPr id="354" name=""/>
            <p:cNvSpPr/>
            <p:nvPr/>
          </p:nvSpPr>
          <p:spPr>
            <a:xfrm flipV="1" rot="16200000">
              <a:off x="2804040" y="5848920"/>
              <a:ext cx="103320" cy="6692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5400000">
              <a:off x="2810880" y="5977080"/>
              <a:ext cx="103320" cy="6688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111320" y="599760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nge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60240" y="31971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t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57280" y="22795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fi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363560" y="658800"/>
            <a:ext cx="231480" cy="715680"/>
            <a:chOff x="4363560" y="658800"/>
            <a:chExt cx="231480" cy="715680"/>
          </a:xfrm>
        </p:grpSpPr>
        <p:sp>
          <p:nvSpPr>
            <p:cNvPr id="360" name=""/>
            <p:cNvSpPr/>
            <p:nvPr/>
          </p:nvSpPr>
          <p:spPr>
            <a:xfrm rot="10800000">
              <a:off x="4363560" y="658800"/>
              <a:ext cx="103320" cy="7084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91720" y="666000"/>
              <a:ext cx="103320" cy="7084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197240" y="192240"/>
            <a:ext cx="2280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buffer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02120" y="5530680"/>
            <a:ext cx="1465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30" idx="0"/>
            <a:endCxn id="363" idx="1"/>
          </p:cNvCxnSpPr>
          <p:nvPr/>
        </p:nvCxnSpPr>
        <p:spPr>
          <a:xfrm flipH="1" flipV="1" rot="5400000">
            <a:off x="4734360" y="5018400"/>
            <a:ext cx="313200" cy="18039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3489120" y="554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89120" y="4319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5600" y="199224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+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29680" y="9097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+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30680" y="326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03520" y="3197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17160" y="18414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+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41440" y="27702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2, 5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41800" y="5764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01040" y="3726000"/>
            <a:ext cx="2856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buffer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070600" y="3846240"/>
            <a:ext cx="676080" cy="231480"/>
            <a:chOff x="5070600" y="3846240"/>
            <a:chExt cx="676080" cy="231480"/>
          </a:xfrm>
        </p:grpSpPr>
        <p:sp>
          <p:nvSpPr>
            <p:cNvPr id="376" name=""/>
            <p:cNvSpPr/>
            <p:nvPr/>
          </p:nvSpPr>
          <p:spPr>
            <a:xfrm flipH="1" flipV="1" rot="5400000">
              <a:off x="5360040" y="3562920"/>
              <a:ext cx="103320" cy="6692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 rot="16200000">
              <a:off x="5353200" y="3691080"/>
              <a:ext cx="103320" cy="6688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597560" y="66672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, 12+w(56+16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18320" y="338940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, 12+28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18680" y="6232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2, 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71760" y="41925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t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29840" y="438480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, 12+28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95200" y="4776840"/>
            <a:ext cx="1915920" cy="714240"/>
            <a:chOff x="295200" y="4776840"/>
            <a:chExt cx="1915920" cy="714240"/>
          </a:xfrm>
        </p:grpSpPr>
        <p:sp>
          <p:nvSpPr>
            <p:cNvPr id="384" name=""/>
            <p:cNvSpPr/>
            <p:nvPr/>
          </p:nvSpPr>
          <p:spPr>
            <a:xfrm>
              <a:off x="946080" y="478620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/R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295200" y="4776840"/>
              <a:ext cx="1915920" cy="714240"/>
              <a:chOff x="295200" y="4776840"/>
              <a:chExt cx="1915920" cy="71424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395280" y="4911120"/>
                <a:ext cx="536400" cy="128160"/>
                <a:chOff x="395280" y="4911120"/>
                <a:chExt cx="536400" cy="128160"/>
              </a:xfrm>
            </p:grpSpPr>
            <p:sp>
              <p:nvSpPr>
                <p:cNvPr id="387" name=""/>
                <p:cNvSpPr/>
                <p:nvPr/>
              </p:nvSpPr>
              <p:spPr>
                <a:xfrm flipH="1" rot="5400000">
                  <a:off x="637920" y="4673880"/>
                  <a:ext cx="56520" cy="530640"/>
                </a:xfrm>
                <a:custGeom>
                  <a:avLst/>
                  <a:gdLst/>
                  <a:ahLst/>
                  <a:rect l="l" t="t" r="r" b="b"/>
                  <a:pathLst>
                    <a:path w="187" h="386">
                      <a:moveTo>
                        <a:pt x="0" y="0"/>
                      </a:moveTo>
                      <a:cubicBezTo>
                        <a:pt x="91" y="66"/>
                        <a:pt x="183" y="132"/>
                        <a:pt x="185" y="196"/>
                      </a:cubicBezTo>
                      <a:cubicBezTo>
                        <a:pt x="187" y="260"/>
                        <a:pt x="99" y="323"/>
                        <a:pt x="11" y="38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rot="16200000">
                  <a:off x="632160" y="4745520"/>
                  <a:ext cx="56520" cy="530640"/>
                </a:xfrm>
                <a:custGeom>
                  <a:avLst/>
                  <a:gdLst/>
                  <a:ahLst/>
                  <a:rect l="l" t="t" r="r" b="b"/>
                  <a:pathLst>
                    <a:path w="187" h="386">
                      <a:moveTo>
                        <a:pt x="0" y="0"/>
                      </a:moveTo>
                      <a:cubicBezTo>
                        <a:pt x="91" y="66"/>
                        <a:pt x="183" y="132"/>
                        <a:pt x="185" y="196"/>
                      </a:cubicBezTo>
                      <a:cubicBezTo>
                        <a:pt x="187" y="260"/>
                        <a:pt x="99" y="323"/>
                        <a:pt x="11" y="386"/>
                      </a:cubicBez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433440" y="5314680"/>
                <a:ext cx="5126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946080" y="5117760"/>
                <a:ext cx="116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rea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95200" y="4776840"/>
                <a:ext cx="1915920" cy="714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5T21:12:11Z</dcterms:created>
  <dc:creator>Peter A. Dinda</dc:creator>
  <dc:description/>
  <dc:language>en-US</dc:language>
  <cp:lastModifiedBy>Peter A. Dinda</cp:lastModifiedBy>
  <dcterms:modified xsi:type="dcterms:W3CDTF">1999-06-06T20:58:23Z</dcterms:modified>
  <cp:revision>13</cp:revision>
  <dc:subject/>
  <dc:title>No Slide Title</dc:title>
</cp:coreProperties>
</file>