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846-BA44-4C4A-A0FF-3138D22A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0E7-DE02-4265-B0A8-62E11EB3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028-206D-4488-9072-E8EB3B69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28B-2381-44CC-AD64-82D26513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358-3064-424F-885B-88BA97B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CD3-E213-4427-9A89-8F4973FE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7E9-0EA1-48C6-A382-E50D03D2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D89-6AF6-4FF8-9A8E-ACD66C2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5FD-39AC-40ED-A6F7-7B1E1E8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F76-5F3A-48AC-93C2-F34C6B7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5E9-9230-40F8-901D-2AB6E00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676-172D-49F4-8AD9-CF97636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576-B1E8-4E75-A7BF-A42135F7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9720" y="50652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54560" y="210816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6320" y="26416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16320" y="172548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54560" y="119052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4560" y="3024360"/>
            <a:ext cx="15238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54560" y="4772160"/>
            <a:ext cx="1523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720" y="2925720"/>
            <a:ext cx="23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26080" y="35193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6320" y="530712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" y="3063960"/>
            <a:ext cx="20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8981600">
            <a:off x="7790760" y="166392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81600">
            <a:off x="7786800" y="295956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8981600">
            <a:off x="7786800" y="24260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769392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981600">
            <a:off x="67525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8981600">
            <a:off x="68104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8981600">
            <a:off x="68104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7032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981600">
            <a:off x="5838120" y="151164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81600">
            <a:off x="5896080" y="28836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8981600">
            <a:off x="5896080" y="235008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788800" y="2212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26080" y="1765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2527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6080" y="30610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712800"/>
            <a:ext cx="23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8280" y="343080"/>
            <a:ext cx="23572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6240" y="5686560"/>
            <a:ext cx="2046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1" idx="3"/>
            <a:endCxn id="47" idx="1"/>
          </p:cNvCxnSpPr>
          <p:nvPr/>
        </p:nvCxnSpPr>
        <p:spPr>
          <a:xfrm>
            <a:off x="2432160" y="3318840"/>
            <a:ext cx="1022760" cy="172008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1" idx="3"/>
            <a:endCxn id="46" idx="1"/>
          </p:cNvCxnSpPr>
          <p:nvPr/>
        </p:nvCxnSpPr>
        <p:spPr>
          <a:xfrm flipV="1">
            <a:off x="2432160" y="3291840"/>
            <a:ext cx="1022760" cy="27360"/>
          </a:xfrm>
          <a:prstGeom prst="bentConnector3">
            <a:avLst>
              <a:gd name="adj1" fmla="val 49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4978440" y="3292560"/>
            <a:ext cx="2160" cy="1746720"/>
          </a:xfrm>
          <a:prstGeom prst="bentConnector3">
            <a:avLst>
              <a:gd name="adj1" fmla="val 357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046320" y="3941640"/>
            <a:ext cx="234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6320" y="3559320"/>
            <a:ext cx="1800" cy="382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79880" y="3292560"/>
            <a:ext cx="79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73280" y="87480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0040" y="8730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5240" y="8762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80120" y="4854600"/>
            <a:ext cx="5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92760" y="46576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im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80120" y="52038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5006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80120" y="55530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2760" y="53560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7880" y="4657680"/>
            <a:ext cx="2254320" cy="10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32440" y="2440080"/>
            <a:ext cx="7596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4037040" y="2433600"/>
            <a:ext cx="76320" cy="55080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78320" y="2379600"/>
            <a:ext cx="7452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4307040" y="2373120"/>
            <a:ext cx="55440" cy="63972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0040" y="2317320"/>
            <a:ext cx="0" cy="15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65560" y="2422440"/>
            <a:ext cx="0" cy="14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7600" y="541980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4094280"/>
            <a:ext cx="14288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87600" y="2989440"/>
            <a:ext cx="1428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0"/>
            <a:endCxn id="93" idx="2"/>
          </p:cNvCxnSpPr>
          <p:nvPr/>
        </p:nvCxnSpPr>
        <p:spPr>
          <a:xfrm flipV="1">
            <a:off x="4101840" y="4938480"/>
            <a:ext cx="1080" cy="4816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0"/>
            <a:endCxn id="94" idx="2"/>
          </p:cNvCxnSpPr>
          <p:nvPr/>
        </p:nvCxnSpPr>
        <p:spPr>
          <a:xfrm flipH="1" flipV="1" rot="5400000">
            <a:off x="5565240" y="3474720"/>
            <a:ext cx="481680" cy="3408840"/>
          </a:xfrm>
          <a:prstGeom prst="bentConnector3">
            <a:avLst>
              <a:gd name="adj1" fmla="val 3627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0"/>
            <a:endCxn id="95" idx="2"/>
          </p:cNvCxnSpPr>
          <p:nvPr/>
        </p:nvCxnSpPr>
        <p:spPr>
          <a:xfrm flipV="1">
            <a:off x="4101840" y="3522240"/>
            <a:ext cx="1080" cy="572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0"/>
            <a:endCxn id="94" idx="0"/>
          </p:cNvCxnSpPr>
          <p:nvPr/>
        </p:nvCxnSpPr>
        <p:spPr>
          <a:xfrm flipH="1" rot="16200000">
            <a:off x="5805360" y="2390760"/>
            <a:ext cx="2160" cy="34088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159520" y="52038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1160" y="35323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83200" y="408924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1400" y="1806480"/>
            <a:ext cx="1955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41480" y="2555640"/>
            <a:ext cx="171720" cy="451080"/>
            <a:chOff x="3741480" y="2555640"/>
            <a:chExt cx="171720" cy="451080"/>
          </a:xfrm>
        </p:grpSpPr>
        <p:sp>
          <p:nvSpPr>
            <p:cNvPr id="105" name=""/>
            <p:cNvSpPr/>
            <p:nvPr/>
          </p:nvSpPr>
          <p:spPr>
            <a:xfrm>
              <a:off x="3836880" y="256068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3741480" y="25556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174840" y="190656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8640" y="2016000"/>
            <a:ext cx="1955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6120" y="2523960"/>
            <a:ext cx="0" cy="133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22560" y="4439880"/>
            <a:ext cx="1972080" cy="163800"/>
            <a:chOff x="4822560" y="4439880"/>
            <a:chExt cx="1972080" cy="163800"/>
          </a:xfrm>
        </p:grpSpPr>
        <p:sp>
          <p:nvSpPr>
            <p:cNvPr id="111" name=""/>
            <p:cNvSpPr/>
            <p:nvPr/>
          </p:nvSpPr>
          <p:spPr>
            <a:xfrm rot="16200000">
              <a:off x="5782320" y="3500640"/>
              <a:ext cx="73080" cy="19512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761440" y="3591720"/>
              <a:ext cx="73080" cy="19508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871560" y="4218120"/>
            <a:ext cx="1955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5400000">
            <a:off x="3081240" y="413748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3074760" y="4199760"/>
            <a:ext cx="49320" cy="593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739600" y="3442680"/>
            <a:ext cx="828720" cy="1026720"/>
            <a:chOff x="2739600" y="3442680"/>
            <a:chExt cx="828720" cy="1026720"/>
          </a:xfrm>
        </p:grpSpPr>
        <p:sp>
          <p:nvSpPr>
            <p:cNvPr id="117" name=""/>
            <p:cNvSpPr/>
            <p:nvPr/>
          </p:nvSpPr>
          <p:spPr>
            <a:xfrm flipH="1" rot="2278200">
              <a:off x="3096360" y="3336120"/>
              <a:ext cx="60840" cy="1182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3078800">
              <a:off x="3149640" y="3393720"/>
              <a:ext cx="60840" cy="1181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85680" y="4487760"/>
            <a:ext cx="830880" cy="1016280"/>
            <a:chOff x="2785680" y="4487760"/>
            <a:chExt cx="830880" cy="1016280"/>
          </a:xfrm>
        </p:grpSpPr>
        <p:sp>
          <p:nvSpPr>
            <p:cNvPr id="120" name=""/>
            <p:cNvSpPr/>
            <p:nvPr/>
          </p:nvSpPr>
          <p:spPr>
            <a:xfrm flipH="1" rot="8572200">
              <a:off x="3204000" y="4386240"/>
              <a:ext cx="61200" cy="1182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9372200">
              <a:off x="3135960" y="4422960"/>
              <a:ext cx="61200" cy="1182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57880" y="1987560"/>
            <a:ext cx="1915920" cy="714240"/>
            <a:chOff x="6257880" y="1987560"/>
            <a:chExt cx="1915920" cy="714240"/>
          </a:xfrm>
        </p:grpSpPr>
        <p:sp>
          <p:nvSpPr>
            <p:cNvPr id="123" name=""/>
            <p:cNvSpPr/>
            <p:nvPr/>
          </p:nvSpPr>
          <p:spPr>
            <a:xfrm>
              <a:off x="6908760" y="19969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257880" y="1987560"/>
              <a:ext cx="1915920" cy="714240"/>
              <a:chOff x="6257880" y="1987560"/>
              <a:chExt cx="1915920" cy="7142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357960" y="2121840"/>
                <a:ext cx="536400" cy="128160"/>
                <a:chOff x="6357960" y="2121840"/>
                <a:chExt cx="536400" cy="128160"/>
              </a:xfrm>
            </p:grpSpPr>
            <p:sp>
              <p:nvSpPr>
                <p:cNvPr id="126" name=""/>
                <p:cNvSpPr/>
                <p:nvPr/>
              </p:nvSpPr>
              <p:spPr>
                <a:xfrm flipH="1" rot="5400000">
                  <a:off x="6600600" y="188460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rot="16200000">
                  <a:off x="6594840" y="195624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396120" y="252540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08760" y="232848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57880" y="198756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16240" y="1095480"/>
            <a:ext cx="2662200" cy="363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8920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2260440"/>
            <a:ext cx="105876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8920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8920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8920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64760" y="2496240"/>
            <a:ext cx="204768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12880" y="1812960"/>
            <a:ext cx="1049400" cy="658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13240" y="2260440"/>
            <a:ext cx="105912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313240" y="2680920"/>
            <a:ext cx="1068480" cy="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313240" y="2781000"/>
            <a:ext cx="10605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313240" y="2898720"/>
            <a:ext cx="1062000" cy="641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99040" y="2522520"/>
            <a:ext cx="20476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18003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36640" y="4514760"/>
            <a:ext cx="171720" cy="451080"/>
            <a:chOff x="4436640" y="4514760"/>
            <a:chExt cx="171720" cy="451080"/>
          </a:xfrm>
        </p:grpSpPr>
        <p:sp>
          <p:nvSpPr>
            <p:cNvPr id="146" name=""/>
            <p:cNvSpPr/>
            <p:nvPr/>
          </p:nvSpPr>
          <p:spPr>
            <a:xfrm flipV="1">
              <a:off x="4532040" y="4514400"/>
              <a:ext cx="7632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0800000">
              <a:off x="4436640" y="4519440"/>
              <a:ext cx="75960" cy="4460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83360" y="1812960"/>
            <a:ext cx="16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ffe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921040" y="2525400"/>
            <a:ext cx="2047680" cy="374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0480" y="4896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/Response on different tran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8600" y="4122720"/>
            <a:ext cx="1566720" cy="39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7960" y="1095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668760" y="2533680"/>
            <a:ext cx="20476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57680" y="3730680"/>
            <a:ext cx="1547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29280" y="4014720"/>
            <a:ext cx="1915920" cy="714600"/>
            <a:chOff x="6029280" y="4014720"/>
            <a:chExt cx="1915920" cy="714600"/>
          </a:xfrm>
        </p:grpSpPr>
        <p:sp>
          <p:nvSpPr>
            <p:cNvPr id="156" name=""/>
            <p:cNvSpPr/>
            <p:nvPr/>
          </p:nvSpPr>
          <p:spPr>
            <a:xfrm>
              <a:off x="6680160" y="402444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029280" y="4014720"/>
              <a:ext cx="1915920" cy="714600"/>
              <a:chOff x="6029280" y="4014720"/>
              <a:chExt cx="1915920" cy="714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129360" y="4149720"/>
                <a:ext cx="536400" cy="128160"/>
                <a:chOff x="6129360" y="4149720"/>
                <a:chExt cx="536400" cy="12816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rot="5400000">
                  <a:off x="6372000" y="391284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6200000">
                  <a:off x="6366240" y="3984120"/>
                  <a:ext cx="5688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167520" y="4552920"/>
                <a:ext cx="512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80160" y="435600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29280" y="4014720"/>
                <a:ext cx="1915920" cy="71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54200" y="942840"/>
            <a:ext cx="4488120" cy="5181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7000" y="3573360"/>
            <a:ext cx="3775320" cy="255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13557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18129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2701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72736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160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6440" y="1627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40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55120" y="2542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720" y="29995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8080" y="1127160"/>
            <a:ext cx="188100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45680" y="1184400"/>
            <a:ext cx="12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5427720"/>
            <a:ext cx="2709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840" y="542376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nnection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5400" y="4457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7720" y="491652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400" y="5036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87720" y="55260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86280" y="1127160"/>
            <a:ext cx="106704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5473080" y="1784880"/>
            <a:ext cx="16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w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86280" y="3457440"/>
            <a:ext cx="1067040" cy="119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796720" y="38534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392760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3320" y="13557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3320" y="18129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3320" y="22701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3320" y="2727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1640" y="117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1280" y="1640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61640" y="2085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62000" y="2556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62720" y="2999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77680" y="3232440"/>
            <a:ext cx="4657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nd Demulti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19922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99080" y="1995480"/>
            <a:ext cx="18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78400" y="4921200"/>
            <a:ext cx="327492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1400" y="49662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2520" y="556740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7105680" y="2881440"/>
            <a:ext cx="93600" cy="62064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6160" y="36252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096360" y="1729080"/>
            <a:ext cx="15411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206520" y="171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260320" y="1133640"/>
            <a:ext cx="384840" cy="1540800"/>
            <a:chOff x="5260320" y="1133640"/>
            <a:chExt cx="384840" cy="1540800"/>
          </a:xfrm>
        </p:grpSpPr>
        <p:sp>
          <p:nvSpPr>
            <p:cNvPr id="208" name=""/>
            <p:cNvSpPr/>
            <p:nvPr/>
          </p:nvSpPr>
          <p:spPr>
            <a:xfrm rot="16200000">
              <a:off x="4700160" y="1729440"/>
              <a:ext cx="1540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936320" y="165348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38480" y="2292480"/>
            <a:ext cx="1265400" cy="379080"/>
            <a:chOff x="4038480" y="2292480"/>
            <a:chExt cx="1265400" cy="379080"/>
          </a:xfrm>
        </p:grpSpPr>
        <p:sp>
          <p:nvSpPr>
            <p:cNvPr id="211" name=""/>
            <p:cNvSpPr/>
            <p:nvPr/>
          </p:nvSpPr>
          <p:spPr>
            <a:xfrm>
              <a:off x="4038480" y="2372760"/>
              <a:ext cx="1265400" cy="29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3400" y="2292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49920" y="2657520"/>
            <a:ext cx="0" cy="22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5360" y="3100320"/>
            <a:ext cx="1881360" cy="15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3440" y="3135240"/>
            <a:ext cx="13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57440" y="396540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114000" y="3702960"/>
            <a:ext cx="15415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224160" y="36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77600" y="3106440"/>
            <a:ext cx="384840" cy="1541160"/>
            <a:chOff x="5277600" y="3106440"/>
            <a:chExt cx="384840" cy="1541160"/>
          </a:xfrm>
        </p:grpSpPr>
        <p:sp>
          <p:nvSpPr>
            <p:cNvPr id="220" name=""/>
            <p:cNvSpPr/>
            <p:nvPr/>
          </p:nvSpPr>
          <p:spPr>
            <a:xfrm rot="16200000">
              <a:off x="4717080" y="3702240"/>
              <a:ext cx="154116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4953600" y="362700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al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054320" y="4260600"/>
            <a:ext cx="1265400" cy="382320"/>
            <a:chOff x="4054320" y="4260600"/>
            <a:chExt cx="1265400" cy="382320"/>
          </a:xfrm>
        </p:grpSpPr>
        <p:sp>
          <p:nvSpPr>
            <p:cNvPr id="223" name=""/>
            <p:cNvSpPr/>
            <p:nvPr/>
          </p:nvSpPr>
          <p:spPr>
            <a:xfrm>
              <a:off x="4054320" y="4343760"/>
              <a:ext cx="1265400" cy="29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4920" y="4260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62000" y="3816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2880" y="63208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tup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88440" y="3136680"/>
            <a:ext cx="784800" cy="163440"/>
            <a:chOff x="2188440" y="3136680"/>
            <a:chExt cx="784800" cy="163440"/>
          </a:xfrm>
        </p:grpSpPr>
        <p:sp>
          <p:nvSpPr>
            <p:cNvPr id="229" name=""/>
            <p:cNvSpPr/>
            <p:nvPr/>
          </p:nvSpPr>
          <p:spPr>
            <a:xfrm rot="5400000">
              <a:off x="2540520" y="2875320"/>
              <a:ext cx="7272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2548440" y="2784240"/>
              <a:ext cx="72360" cy="776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 rot="5400000">
            <a:off x="2525040" y="3539880"/>
            <a:ext cx="72720" cy="77796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5400000">
            <a:off x="7120080" y="2792880"/>
            <a:ext cx="74520" cy="609480"/>
          </a:xfrm>
          <a:custGeom>
            <a:avLst/>
            <a:gdLst/>
            <a:ahLst/>
            <a:rect l="l" t="t" r="r" b="b"/>
            <a:pathLst>
              <a:path w="187" h="386">
                <a:moveTo>
                  <a:pt x="0" y="0"/>
                </a:moveTo>
                <a:cubicBezTo>
                  <a:pt x="91" y="66"/>
                  <a:pt x="183" y="132"/>
                  <a:pt x="185" y="196"/>
                </a:cubicBezTo>
                <a:cubicBezTo>
                  <a:pt x="187" y="260"/>
                  <a:pt x="99" y="323"/>
                  <a:pt x="11" y="38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26320" y="50864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/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75520" y="5211720"/>
            <a:ext cx="536400" cy="128160"/>
            <a:chOff x="7175520" y="5211720"/>
            <a:chExt cx="536400" cy="128160"/>
          </a:xfrm>
        </p:grpSpPr>
        <p:sp>
          <p:nvSpPr>
            <p:cNvPr id="235" name=""/>
            <p:cNvSpPr/>
            <p:nvPr/>
          </p:nvSpPr>
          <p:spPr>
            <a:xfrm flipH="1" rot="5400000">
              <a:off x="7418160" y="497484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16200000">
              <a:off x="7412400" y="5046120"/>
              <a:ext cx="56880" cy="53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13680" y="5614920"/>
            <a:ext cx="512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26320" y="541800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75440" y="5076720"/>
            <a:ext cx="1916280" cy="124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13680" y="591660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1920" y="568008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49560" y="5784840"/>
            <a:ext cx="178200" cy="620640"/>
            <a:chOff x="4849560" y="5784840"/>
            <a:chExt cx="178200" cy="620640"/>
          </a:xfrm>
        </p:grpSpPr>
        <p:sp>
          <p:nvSpPr>
            <p:cNvPr id="243" name=""/>
            <p:cNvSpPr/>
            <p:nvPr/>
          </p:nvSpPr>
          <p:spPr>
            <a:xfrm flipH="1" rot="10800000">
              <a:off x="4934160" y="5784840"/>
              <a:ext cx="93600" cy="6206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49200" y="5785200"/>
              <a:ext cx="74520" cy="609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62320" y="228600"/>
            <a:ext cx="1828800" cy="4952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6019920"/>
            <a:ext cx="5029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evice (eg, Coll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8981600">
            <a:off x="919440" y="47743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8981600">
            <a:off x="933840" y="49262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8981600">
            <a:off x="933840" y="51548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8981600">
            <a:off x="6355800" y="27165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8981600">
            <a:off x="6351480" y="40118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8981600">
            <a:off x="6351480" y="347868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25896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81600">
            <a:off x="53175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981600">
            <a:off x="53751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981600">
            <a:off x="53751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52682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981600">
            <a:off x="44031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8981600">
            <a:off x="44607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8981600">
            <a:off x="44607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43538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2818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3580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11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28440" y="54100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8981600">
            <a:off x="6482160" y="48506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81600">
            <a:off x="550584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81600">
            <a:off x="451512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4875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8098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5909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19810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914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848520" y="5550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143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26668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05920" y="3886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15238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1920" y="15987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0120" y="9144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19076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31720" y="83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 R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820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5715000"/>
            <a:ext cx="3429000" cy="914400"/>
          </a:xfrm>
          <a:prstGeom prst="wedgeRoundRectCallout">
            <a:avLst>
              <a:gd name="adj1" fmla="val 37638"/>
              <a:gd name="adj2" fmla="val -60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4192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42200" y="4572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87680" y="240840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9320" y="338472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4960" y="1433520"/>
            <a:ext cx="153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23840" y="435924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9160" y="30492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3880" y="5334120"/>
            <a:ext cx="1570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2400" y="91440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61320" y="3429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61680" y="480060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60960" y="533412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5334120"/>
            <a:ext cx="99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61680" y="2819520"/>
            <a:ext cx="20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29160" y="912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29160" y="1887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29160" y="2862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29160" y="38386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29160" y="481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9160" y="1143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2040" y="1447920"/>
            <a:ext cx="224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333760" y="1676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2916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638320" y="3505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33760" y="5562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3" idx="3"/>
            <a:endCxn id="301" idx="3"/>
          </p:cNvCxnSpPr>
          <p:nvPr/>
        </p:nvCxnSpPr>
        <p:spPr>
          <a:xfrm flipV="1">
            <a:off x="5368680" y="3617280"/>
            <a:ext cx="254520" cy="975240"/>
          </a:xfrm>
          <a:prstGeom prst="bentConnector3">
            <a:avLst>
              <a:gd name="adj1" fmla="val 18994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236232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038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19520" y="5105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0" idx="2"/>
            <a:endCxn id="303" idx="1"/>
          </p:cNvCxnSpPr>
          <p:nvPr/>
        </p:nvCxnSpPr>
        <p:spPr>
          <a:xfrm flipH="1" flipV="1" rot="5400000">
            <a:off x="2568240" y="4652640"/>
            <a:ext cx="1208880" cy="1087920"/>
          </a:xfrm>
          <a:prstGeom prst="bentConnector4">
            <a:avLst>
              <a:gd name="adj1" fmla="val -18915"/>
              <a:gd name="adj2" fmla="val 72823"/>
            </a:avLst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188160" y="6076800"/>
            <a:ext cx="160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35080" y="490068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2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6720" y="3726000"/>
            <a:ext cx="214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71240" y="258120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1480" y="2583000"/>
            <a:ext cx="2399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erver_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7160" y="1374840"/>
            <a:ext cx="15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0400" y="192240"/>
            <a:ext cx="150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1400" y="258768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49160" y="277020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0" idx="0"/>
            <a:endCxn id="331" idx="2"/>
          </p:cNvCxnSpPr>
          <p:nvPr/>
        </p:nvCxnSpPr>
        <p:spPr>
          <a:xfrm flipH="1" flipV="1" rot="5400000">
            <a:off x="3635280" y="5720760"/>
            <a:ext cx="710280" cy="2160"/>
          </a:xfrm>
          <a:prstGeom prst="bentConnector3">
            <a:avLst>
              <a:gd name="adj1" fmla="val 498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1" idx="0"/>
            <a:endCxn id="332" idx="2"/>
          </p:cNvCxnSpPr>
          <p:nvPr/>
        </p:nvCxnSpPr>
        <p:spPr>
          <a:xfrm flipV="1">
            <a:off x="3990600" y="4191840"/>
            <a:ext cx="1080" cy="708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0"/>
            <a:endCxn id="333" idx="2"/>
          </p:cNvCxnSpPr>
          <p:nvPr/>
        </p:nvCxnSpPr>
        <p:spPr>
          <a:xfrm flipV="1">
            <a:off x="3990600" y="3047400"/>
            <a:ext cx="1080" cy="6786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0"/>
            <a:endCxn id="335" idx="2"/>
          </p:cNvCxnSpPr>
          <p:nvPr/>
        </p:nvCxnSpPr>
        <p:spPr>
          <a:xfrm flipV="1" rot="16200000">
            <a:off x="3619800" y="2209680"/>
            <a:ext cx="74052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5" idx="0"/>
            <a:endCxn id="336" idx="2"/>
          </p:cNvCxnSpPr>
          <p:nvPr/>
        </p:nvCxnSpPr>
        <p:spPr>
          <a:xfrm flipV="1" rot="16200000">
            <a:off x="3251520" y="636480"/>
            <a:ext cx="716760" cy="759600"/>
          </a:xfrm>
          <a:prstGeom prst="bentConnector3">
            <a:avLst>
              <a:gd name="adj1" fmla="val 498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2" idx="0"/>
            <a:endCxn id="337" idx="2"/>
          </p:cNvCxnSpPr>
          <p:nvPr/>
        </p:nvCxnSpPr>
        <p:spPr>
          <a:xfrm flipH="1" flipV="1" rot="5400000">
            <a:off x="5167440" y="1876680"/>
            <a:ext cx="672480" cy="3026520"/>
          </a:xfrm>
          <a:prstGeom prst="bentConnector3">
            <a:avLst>
              <a:gd name="adj1" fmla="val 498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3" idx="0"/>
            <a:endCxn id="337" idx="0"/>
          </p:cNvCxnSpPr>
          <p:nvPr/>
        </p:nvCxnSpPr>
        <p:spPr>
          <a:xfrm flipH="1" rot="16200000">
            <a:off x="5500440" y="1071360"/>
            <a:ext cx="7200" cy="3026520"/>
          </a:xfrm>
          <a:prstGeom prst="bentConnector3">
            <a:avLst>
              <a:gd name="adj1" fmla="val -58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4798800" y="2646360"/>
            <a:ext cx="1704960" cy="277200"/>
            <a:chOff x="4798800" y="2646360"/>
            <a:chExt cx="1704960" cy="277200"/>
          </a:xfrm>
        </p:grpSpPr>
        <p:sp>
          <p:nvSpPr>
            <p:cNvPr id="347" name=""/>
            <p:cNvSpPr/>
            <p:nvPr/>
          </p:nvSpPr>
          <p:spPr>
            <a:xfrm rot="16200000">
              <a:off x="5598360" y="1864800"/>
              <a:ext cx="123840" cy="168696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5580000" y="2018160"/>
              <a:ext cx="123840" cy="1686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230280" y="3041280"/>
            <a:ext cx="231480" cy="676800"/>
            <a:chOff x="3230280" y="3041280"/>
            <a:chExt cx="231480" cy="676800"/>
          </a:xfrm>
        </p:grpSpPr>
        <p:sp>
          <p:nvSpPr>
            <p:cNvPr id="350" name=""/>
            <p:cNvSpPr/>
            <p:nvPr/>
          </p:nvSpPr>
          <p:spPr>
            <a:xfrm rot="10800000">
              <a:off x="3230280" y="3041280"/>
              <a:ext cx="103320" cy="66960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8440" y="304884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49520" y="2871720"/>
            <a:ext cx="63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521080" y="6132240"/>
            <a:ext cx="676080" cy="231480"/>
            <a:chOff x="2521080" y="6132240"/>
            <a:chExt cx="676080" cy="231480"/>
          </a:xfrm>
        </p:grpSpPr>
        <p:sp>
          <p:nvSpPr>
            <p:cNvPr id="354" name=""/>
            <p:cNvSpPr/>
            <p:nvPr/>
          </p:nvSpPr>
          <p:spPr>
            <a:xfrm flipV="1" rot="16200000">
              <a:off x="2804040" y="5848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5400000">
              <a:off x="2810880" y="5977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111320" y="5997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g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0240" y="31971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7280" y="2279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i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363560" y="658800"/>
            <a:ext cx="231480" cy="715680"/>
            <a:chOff x="4363560" y="658800"/>
            <a:chExt cx="231480" cy="715680"/>
          </a:xfrm>
        </p:grpSpPr>
        <p:sp>
          <p:nvSpPr>
            <p:cNvPr id="360" name=""/>
            <p:cNvSpPr/>
            <p:nvPr/>
          </p:nvSpPr>
          <p:spPr>
            <a:xfrm rot="10800000">
              <a:off x="4363560" y="6588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1720" y="666000"/>
              <a:ext cx="103320" cy="7084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197240" y="192240"/>
            <a:ext cx="228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02120" y="5530680"/>
            <a:ext cx="146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0" idx="0"/>
            <a:endCxn id="363" idx="1"/>
          </p:cNvCxnSpPr>
          <p:nvPr/>
        </p:nvCxnSpPr>
        <p:spPr>
          <a:xfrm flipH="1" flipV="1" rot="5400000">
            <a:off x="4734360" y="5018400"/>
            <a:ext cx="313200" cy="18039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3489120" y="554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89120" y="4319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5600" y="19922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29680" y="909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30680" y="326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352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17160" y="18414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+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41440" y="27702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2, 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576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01040" y="3726000"/>
            <a:ext cx="285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buffer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70600" y="3846240"/>
            <a:ext cx="676080" cy="231480"/>
            <a:chOff x="5070600" y="3846240"/>
            <a:chExt cx="676080" cy="231480"/>
          </a:xfrm>
        </p:grpSpPr>
        <p:sp>
          <p:nvSpPr>
            <p:cNvPr id="376" name=""/>
            <p:cNvSpPr/>
            <p:nvPr/>
          </p:nvSpPr>
          <p:spPr>
            <a:xfrm flipH="1" flipV="1" rot="5400000">
              <a:off x="5360040" y="3562920"/>
              <a:ext cx="103320" cy="66924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 rot="16200000">
              <a:off x="5353200" y="3691080"/>
              <a:ext cx="103320" cy="668880"/>
            </a:xfrm>
            <a:custGeom>
              <a:avLst/>
              <a:gdLst/>
              <a:ahLst/>
              <a:rect l="l" t="t" r="r" b="b"/>
              <a:pathLst>
                <a:path w="187" h="386">
                  <a:moveTo>
                    <a:pt x="0" y="0"/>
                  </a:moveTo>
                  <a:cubicBezTo>
                    <a:pt x="91" y="66"/>
                    <a:pt x="183" y="132"/>
                    <a:pt x="185" y="196"/>
                  </a:cubicBezTo>
                  <a:cubicBezTo>
                    <a:pt x="187" y="260"/>
                    <a:pt x="99" y="323"/>
                    <a:pt x="11" y="38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97560" y="6667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w(56+16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18320" y="33894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18680" y="6232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,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71760" y="41925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29840" y="43848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2+28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95200" y="4776840"/>
            <a:ext cx="1915920" cy="714240"/>
            <a:chOff x="295200" y="4776840"/>
            <a:chExt cx="1915920" cy="714240"/>
          </a:xfrm>
        </p:grpSpPr>
        <p:sp>
          <p:nvSpPr>
            <p:cNvPr id="384" name=""/>
            <p:cNvSpPr/>
            <p:nvPr/>
          </p:nvSpPr>
          <p:spPr>
            <a:xfrm>
              <a:off x="946080" y="478620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/R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95200" y="4776840"/>
              <a:ext cx="1915920" cy="714240"/>
              <a:chOff x="295200" y="4776840"/>
              <a:chExt cx="1915920" cy="7142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95280" y="4911120"/>
                <a:ext cx="536400" cy="128160"/>
                <a:chOff x="395280" y="4911120"/>
                <a:chExt cx="536400" cy="1281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 rot="5400000">
                  <a:off x="637920" y="467388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6200000">
                  <a:off x="632160" y="4745520"/>
                  <a:ext cx="56520" cy="530640"/>
                </a:xfrm>
                <a:custGeom>
                  <a:avLst/>
                  <a:gdLst/>
                  <a:ahLst/>
                  <a:rect l="l" t="t" r="r" b="b"/>
                  <a:pathLst>
                    <a:path w="187" h="386">
                      <a:moveTo>
                        <a:pt x="0" y="0"/>
                      </a:moveTo>
                      <a:cubicBezTo>
                        <a:pt x="91" y="66"/>
                        <a:pt x="183" y="132"/>
                        <a:pt x="185" y="196"/>
                      </a:cubicBezTo>
                      <a:cubicBezTo>
                        <a:pt x="187" y="260"/>
                        <a:pt x="99" y="323"/>
                        <a:pt x="11" y="386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33440" y="5314680"/>
                <a:ext cx="51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46080" y="511776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e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5200" y="4776840"/>
                <a:ext cx="1915920" cy="714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21:12:11Z</dcterms:created>
  <dc:creator>Peter A. Dinda</dc:creator>
  <dc:description/>
  <dc:language>en-US</dc:language>
  <cp:lastModifiedBy>Peter A. Dinda</cp:lastModifiedBy>
  <dcterms:modified xsi:type="dcterms:W3CDTF">1999-06-06T20:58:23Z</dcterms:modified>
  <cp:revision>13</cp:revision>
  <dc:subject/>
  <dc:title>No Slide Title</dc:title>
</cp:coreProperties>
</file>