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A7C39D-F620-4DC6-931B-32F98295B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43800" y="152280"/>
            <a:ext cx="1143000" cy="5486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152280"/>
            <a:ext cx="1143000" cy="5486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152280"/>
            <a:ext cx="1371600" cy="5486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52280"/>
            <a:ext cx="2133720" cy="5486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9600" y="1824120"/>
            <a:ext cx="771480" cy="771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838080"/>
            <a:ext cx="129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(load(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2819520"/>
            <a:ext cx="1616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BW(t),latency(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1828800"/>
            <a:ext cx="14684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ation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nominal(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85880" y="833400"/>
            <a:ext cx="771480" cy="771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15000" y="1752480"/>
            <a:ext cx="63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85880" y="3043080"/>
            <a:ext cx="771480" cy="771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3040" y="3352680"/>
            <a:ext cx="1217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20760" y="1143000"/>
            <a:ext cx="1370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1297080"/>
            <a:ext cx="1446120" cy="684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7840" y="2209680"/>
            <a:ext cx="1217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830240" y="1373040"/>
            <a:ext cx="836640" cy="912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0240" y="2287440"/>
            <a:ext cx="836640" cy="836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354480" y="2363760"/>
            <a:ext cx="1446120" cy="988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0680" y="1824120"/>
            <a:ext cx="771480" cy="771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657600" y="990720"/>
            <a:ext cx="968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33920" y="2819520"/>
            <a:ext cx="1036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m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mm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86600" y="2592360"/>
            <a:ext cx="0" cy="1065240"/>
          </a:xfrm>
          <a:prstGeom prst="line">
            <a:avLst/>
          </a:prstGeom>
          <a:ln w="2556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705720" y="3733920"/>
            <a:ext cx="82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69280" y="2209680"/>
            <a:ext cx="1141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20120" y="1676520"/>
            <a:ext cx="925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24280" y="1600200"/>
            <a:ext cx="76212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705720" y="1600200"/>
            <a:ext cx="7048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66880" y="609480"/>
            <a:ext cx="4888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666880" y="2666880"/>
            <a:ext cx="64152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41520" y="4419720"/>
            <a:ext cx="1797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g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,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52680" y="4419720"/>
            <a:ext cx="1428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g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562720" y="4648320"/>
            <a:ext cx="11365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ge 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543800" y="4648320"/>
            <a:ext cx="11365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g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28800" y="2271600"/>
            <a:ext cx="409680" cy="4096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973240" y="1601640"/>
            <a:ext cx="227160" cy="8366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19320" y="1266840"/>
            <a:ext cx="438120" cy="43812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4600" y="2271600"/>
            <a:ext cx="409680" cy="409680"/>
          </a:xfrm>
          <a:prstGeom prst="ellipse">
            <a:avLst/>
          </a:prstGeom>
          <a:noFill/>
          <a:ln w="25560">
            <a:solidFill>
              <a:srgbClr val="000000"/>
            </a:solidFill>
            <a:custDash>
              <a:ds d="49296" sp="49296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28800" y="3262320"/>
            <a:ext cx="409680" cy="409680"/>
          </a:xfrm>
          <a:prstGeom prst="ellipse">
            <a:avLst/>
          </a:prstGeom>
          <a:noFill/>
          <a:ln w="25560">
            <a:solidFill>
              <a:srgbClr val="000000"/>
            </a:solidFill>
            <a:custDash>
              <a:ds d="49296" sp="49296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8160" y="1601640"/>
            <a:ext cx="303120" cy="836640"/>
          </a:xfrm>
          <a:prstGeom prst="line">
            <a:avLst/>
          </a:prstGeom>
          <a:ln w="25560">
            <a:solidFill>
              <a:srgbClr val="000000"/>
            </a:solidFill>
            <a:custDash>
              <a:ds d="49296" sp="49296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592360"/>
            <a:ext cx="0" cy="760320"/>
          </a:xfrm>
          <a:prstGeom prst="line">
            <a:avLst/>
          </a:prstGeom>
          <a:ln w="25560">
            <a:solidFill>
              <a:srgbClr val="000000"/>
            </a:solidFill>
            <a:custDash>
              <a:ds d="49296" sp="49296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8120" y="121932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743200" y="22096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19520" y="320040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05320" y="228600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52480" y="1219320"/>
            <a:ext cx="1766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057400" y="2209680"/>
            <a:ext cx="1766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?,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A. Dinda</dc:creator>
  <dc:description/>
  <dc:language>en-US</dc:language>
  <cp:lastModifiedBy>Peter A. Dinda</cp:lastModifiedBy>
  <cp:revision>0</cp:revision>
  <dc:subject/>
  <dc:title>No Slide Title</dc:title>
</cp:coreProperties>
</file>