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67EB-C4D6-4372-87C7-88E4D2412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F1D6-D79C-4D87-B349-E39CE82C2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35CB-7291-40CA-A9D3-D9BE7EEA0E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5406A-8431-47F9-A557-9EF8F55C4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6A36-5126-4D0B-8FE3-4D0A2C5AD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B941-5CB1-4E4A-B3F1-47BDFA7BE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6A9E1-23AA-4FF2-8B66-CF3962181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F879-836D-4762-83CE-938CED4FE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C3DC-4B40-4898-8B9B-1B9B92438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17A09-4224-42D1-85A5-826287074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5410A-1CE5-46ED-821F-D1DDCC732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3EA8E-2DDC-4401-9C31-56D7485B8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116E-B6E0-42AE-9965-AF89482A577C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oncurrency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AB70A-7CB6-4B27-A61F-A91ED5312D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0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5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0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4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7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EFAC-4FA6-40A3-A87F-DB65EB0C7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E386-2D00-43EF-B286-A70B46C77A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5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DF49-50CE-4015-87C2-EDB5FE955E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BF95-1D87-46F8-91AD-91566B5059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401A-2B4A-4AD7-98C2-CA54506AE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328-D05F-4F41-B769-726DEAA120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CBEC-92B7-4F4C-BAD4-FC186FEF6C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glob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 static local variables are sha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about this in this Thu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2619-5F23-47D9-B8E5-BE374C4FE8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34800" y="1450080"/>
            <a:ext cx="3228480" cy="243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7FCC-EB7B-4135-8EDC-87138466F1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80D7-02B1-4FE3-B938-4CE498E02A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5FBC-5443-45D1-A6DA-363ECA4ED9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59AF-0969-4E86-B82E-25115A962C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D344-C0D1-44EC-935F-BEAAB48886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352E-5F5A-4281-A708-62A087FE98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2136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43080" y="2709720"/>
            <a:ext cx="767232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mon synchronization pattern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ducer waits for slot, inserts item in buffer, and “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signals”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consum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umer waits for item, removes it from buffer, and “signals” produce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gnals” in this context has nothing to do with Unix signa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ED7E-4D51-4146-8B6A-013959EEE9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1-Buffer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2160" y="1394640"/>
            <a:ext cx="350712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uf; /*shared va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43400" y="1382040"/>
            <a:ext cx="464508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produc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_consumer, NUL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0064-51FC-4EC4-A327-FB3E6CE795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ducer-Consum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56960" y="16984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38560" y="171684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5480" y="117144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7576-A702-4C1C-AE47-A8D5736333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7F14-E749-45E5-9ED9-537774EB6A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989BE-74C4-44BA-8E4E-9FBC3E8D0B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3856-AF7B-40C8-A330-925A0E6721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5BFA-E04C-4B9B-8299-72EDBD74CC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EE2E-1FCE-46DB-A1AF-A60A3E28E4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scheduler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8CB09-54C6-454D-B007-729034A21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265C-11C8-411A-8AE5-51988A6CC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DEB4-1EC0-4B2C-B5BB-CE412C673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7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879720" y="4904280"/>
            <a:ext cx="205596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2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8A1F-00CF-4AC5-B527-B5D7AAA9B6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97B8-F48C-40FE-ABE4-B9D89AD6CB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585D-90B6-4ECF-969F-03B5C2E130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2-02T06:59:28Z</dcterms:modified>
  <cp:revision>687</cp:revision>
  <dc:subject/>
  <dc:title>PowerPoint Presentation</dc:title>
</cp:coreProperties>
</file>