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9424988" cy="6923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6E737-9182-4B9F-8EB7-7ED4EB67F6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2F639-83DC-4EFE-A878-D4DDCB66F5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D6410-5A37-4627-9E56-EDB85A6AC7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8BAD0-AA3E-4A8F-B8F2-50668F082F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5A4DB-74C5-4287-917D-3E4757BE12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59E00-945E-4E65-98BC-B67AFBEC6B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1009E-7229-499E-AA3D-B149CC50A8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79BFF-5C34-4E41-AA78-BC6DBEEB35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BCB19-B377-43A9-BA90-FBA0E92EA2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AC5FC-8C22-4575-8397-94981F579B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6B89F-1E23-44AB-9908-6DA8A448B9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B9AEF-6889-48D2-A519-0C3657F337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B6DC-FCAC-4412-9423-A3B43B7617EF}" type="slidenum"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15213 Reci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0080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Anubhav Gup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oncurrency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120" y="3733920"/>
            <a:ext cx="6248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ynchronization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read-safety of Library Function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514600" y="1828800"/>
            <a:ext cx="4267080" cy="977760"/>
            <a:chOff x="2514600" y="1828800"/>
            <a:chExt cx="4267080" cy="977760"/>
          </a:xfrm>
        </p:grpSpPr>
        <p:sp>
          <p:nvSpPr>
            <p:cNvPr id="85" name=""/>
            <p:cNvSpPr/>
            <p:nvPr/>
          </p:nvSpPr>
          <p:spPr>
            <a:xfrm>
              <a:off x="2819520" y="18288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Anubhav Gupt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14600" y="228600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Dec. 2, 20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514600" y="3200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e Pthreads "hello, world" Program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83520" y="1121400"/>
            <a:ext cx="5667120" cy="4961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 hello.c - Pthreads "hello, world" progr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thread(void *varg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, NULL, thread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join(tid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thread(void *vargp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Hello, world!\n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99840" y="1819440"/>
            <a:ext cx="1890720" cy="5806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read attribu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usually NU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98760" y="2809800"/>
            <a:ext cx="1946880" cy="5806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read arg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void *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96600" y="4321440"/>
            <a:ext cx="1340640" cy="5806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turn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void **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162320" y="2187720"/>
            <a:ext cx="2819520" cy="1447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914800" y="3102120"/>
            <a:ext cx="106668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3857760" y="4092480"/>
            <a:ext cx="312408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987960" y="5161680"/>
            <a:ext cx="1567440" cy="82404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Upper case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thread_xxx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hecks erro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26DF7-A9E1-41FA-B995-19E5600B59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Execution of Threaded“hello, world”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129120" y="1266120"/>
            <a:ext cx="1476000" cy="3975840"/>
            <a:chOff x="3129120" y="1266120"/>
            <a:chExt cx="1476000" cy="3975840"/>
          </a:xfrm>
        </p:grpSpPr>
        <p:sp>
          <p:nvSpPr>
            <p:cNvPr id="180" name=""/>
            <p:cNvSpPr/>
            <p:nvPr/>
          </p:nvSpPr>
          <p:spPr>
            <a:xfrm>
              <a:off x="3129120" y="1266120"/>
              <a:ext cx="1476000" cy="368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in th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48040" y="1828800"/>
              <a:ext cx="19080" cy="341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1420920" y="3149280"/>
            <a:ext cx="239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threa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s for peer  thread to termin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91720" y="4800240"/>
            <a:ext cx="201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xit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mina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thread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 peer th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470600" y="1981080"/>
            <a:ext cx="6397920" cy="1098720"/>
            <a:chOff x="1470600" y="1981080"/>
            <a:chExt cx="6397920" cy="1098720"/>
          </a:xfrm>
        </p:grpSpPr>
        <p:sp>
          <p:nvSpPr>
            <p:cNvPr id="185" name=""/>
            <p:cNvSpPr/>
            <p:nvPr/>
          </p:nvSpPr>
          <p:spPr>
            <a:xfrm>
              <a:off x="6444360" y="2421720"/>
              <a:ext cx="1424160" cy="368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er th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38680" y="2200320"/>
              <a:ext cx="3257280" cy="8794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70600" y="1981080"/>
              <a:ext cx="229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ll </a:t>
              </a:r>
              <a:r>
                <a:rPr b="0" lang="en-US" sz="1800" spc="-1" strike="noStrike">
                  <a:solidFill>
                    <a:srgbClr val="003399"/>
                  </a:solidFill>
                  <a:latin typeface="Arial"/>
                </a:rPr>
                <a:t>Pthread_create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750680" y="2743200"/>
            <a:ext cx="20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Pthread_jo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257480" y="3689280"/>
            <a:ext cx="5838480" cy="870120"/>
            <a:chOff x="1257480" y="3689280"/>
            <a:chExt cx="5838480" cy="870120"/>
          </a:xfrm>
        </p:grpSpPr>
        <p:sp>
          <p:nvSpPr>
            <p:cNvPr id="190" name=""/>
            <p:cNvSpPr/>
            <p:nvPr/>
          </p:nvSpPr>
          <p:spPr>
            <a:xfrm flipH="1">
              <a:off x="3886200" y="3689280"/>
              <a:ext cx="3209760" cy="7048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57480" y="41911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Arial"/>
                </a:rPr>
                <a:t>Pthread_join(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retur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7152480" y="30186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170120" y="3369600"/>
            <a:ext cx="1826640" cy="902160"/>
            <a:chOff x="7170120" y="3369600"/>
            <a:chExt cx="1826640" cy="902160"/>
          </a:xfrm>
        </p:grpSpPr>
        <p:sp>
          <p:nvSpPr>
            <p:cNvPr id="194" name=""/>
            <p:cNvSpPr/>
            <p:nvPr/>
          </p:nvSpPr>
          <p:spPr>
            <a:xfrm>
              <a:off x="7170120" y="3369600"/>
              <a:ext cx="182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urier New"/>
                </a:rPr>
                <a:t>return NULL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75160" y="3629160"/>
              <a:ext cx="142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peer th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rminat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101960" y="2286000"/>
            <a:ext cx="5994000" cy="1403280"/>
            <a:chOff x="1101960" y="2286000"/>
            <a:chExt cx="5994000" cy="1403280"/>
          </a:xfrm>
        </p:grpSpPr>
        <p:sp>
          <p:nvSpPr>
            <p:cNvPr id="197" name=""/>
            <p:cNvSpPr/>
            <p:nvPr/>
          </p:nvSpPr>
          <p:spPr>
            <a:xfrm>
              <a:off x="7095960" y="3079800"/>
              <a:ext cx="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01960" y="2286000"/>
              <a:ext cx="26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Arial"/>
                </a:rPr>
                <a:t>Pthread_create(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retur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A51BE-C750-4623-AD88-CC33241DCC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read-Based Concurrent Echo Serv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3680" y="1123920"/>
            <a:ext cx="8105400" cy="4961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int argc, char **arg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listenfd, *connfdp, port, clientle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argc != 2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printf(stderr, "usage: %s &lt;port&gt;\n", argv[0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= atoi(argv[1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 = open_listenfd(por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len = sizeof(clientadd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p = Malloc(sizeof(i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connfdp = Accept(listenfd,(SA *)&amp;clientaddr,&amp;clientl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, NULL, thread, connfd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71600" y="4848120"/>
            <a:ext cx="7601040" cy="762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32708-AE6C-47DA-B28C-50C7D1B236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080" y="334800"/>
            <a:ext cx="853452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read-Based Concurrent Server (cont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42360" y="1181160"/>
            <a:ext cx="6886440" cy="3014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 thread rout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thread(void *varg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onnfd = *((int *)varg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detach(pthread_self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ee(varg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cho_r(connfd); /* thread-safe version of echo(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connf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448080" y="1876320"/>
            <a:ext cx="3305160" cy="642600"/>
            <a:chOff x="3448080" y="1876320"/>
            <a:chExt cx="3305160" cy="642600"/>
          </a:xfrm>
        </p:grpSpPr>
        <p:sp>
          <p:nvSpPr>
            <p:cNvPr id="205" name=""/>
            <p:cNvSpPr/>
            <p:nvPr/>
          </p:nvSpPr>
          <p:spPr>
            <a:xfrm flipH="1">
              <a:off x="3448080" y="2228760"/>
              <a:ext cx="2819520" cy="2574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315120" y="187632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3399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60855-74D2-409C-86C8-7872BEB345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834876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Issue 1: Detached Thread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04400" y="1049400"/>
            <a:ext cx="813924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lnSpc>
                <a:spcPct val="85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t any point in time, a thread is eith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joinable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detached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Joinable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thread can be reaped and killed by other threads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7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must be reaped (with 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pthread_join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) to free memory resources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Detached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read cannot be reaped or killed by other threads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7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esources are automatically reaped on termination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Default state is joinable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7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use 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pthread_detach(pthread_self())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to make detached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D6348-634E-4576-850E-1156DBDD66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834876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Issue 2: Avoid Unintended Shari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28800" y="2344680"/>
            <a:ext cx="785016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For example, what happens if we pass the address of connfd to the thread routine as in the following code?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28880" y="1295280"/>
            <a:ext cx="7164360" cy="824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p = Malloc(sizeof(i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connfdp = Accept(listenfd,(SA *)&amp;clientaddr,&amp;clientl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, NULL, thread, connfdp);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3362400"/>
            <a:ext cx="7164360" cy="580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 = Accept(listenfd,(SA *)&amp;clientaddr,&amp;clientl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, NULL, thread, (void *)&amp;connfd);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EDEEF-52C9-4DFE-B7D3-9015C9FDC9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834876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Issue 3: Thread-saf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04400" y="1049400"/>
            <a:ext cx="799308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asy to share data structures between thread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But we need to do this correctly!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ecall the shell lab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Job data structur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hared between main process and signal handler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Need ways to synchronize multiple control of flow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E5CC1-C3F7-45B1-9642-DD3A59AC09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reads Memory Model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71440" y="113328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Conceptual model: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Each thread runs in the context of a process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Each thread has its own separate thread context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hread ID, stack, stack pointer, program counter, condition codes, and general purpose registers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ll threads share the remaining process context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ode, data, heap, and shared library segments of the process virtual address space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Open files and installed handler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ADCA6-044B-4228-A69A-575EF08C37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aveats of Conceptual Model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71440" y="113328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ll global variables are shared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ll static local variables are shared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 practice, any thread can read and write the stack of any other thread.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o one can use a global pointer to point to a stack variable. Then all threads can access the stack variable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But this is not a good programming practice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More about this in this Thu’s lectur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0A09A-A5AD-466E-9F6A-9527C9BDC1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haring With POSIX Semaphor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52640" y="1157400"/>
            <a:ext cx="4573440" cy="46987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define NITERS 100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int cnt; /* count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_t sem;        /* semaphor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1, tid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create 2 threads and wai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34800" y="1450080"/>
            <a:ext cx="3228480" cy="24339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count(void *ar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i&lt;NITERS;i++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nt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6D78E-69FC-4204-B58F-EB144A34D6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Important Dat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ab 7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Proxy: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due on Thursday, Dec 5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nal Exam: Tuesday, Dec 17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48592-AC9C-4F97-B03E-FE0EAF52E8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ynchroniza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f multiple threads want to access a shared global data structure, we need to synchronize their accesses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ays to do synchronization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maphor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Mutex and condition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8F4C7-B0DD-4742-911F-ED87F72561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447480"/>
            <a:ext cx="7759800" cy="5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ynchronizing With Semaphor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42640" y="12189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lnSpc>
                <a:spcPct val="85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Classic solution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: Dijkstra's P and V operations on 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semaphores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emaphore: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non-negative integer synchronization variable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lnSpc>
                <a:spcPct val="97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(s): [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while (s == 0) wait(); s--;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utch for "Proberen" (test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lnSpc>
                <a:spcPct val="97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V(s): [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s++;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utch for "Verhogen" (increment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OS guarantees that operations between brackets [ ] are executed indivisibly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lnSpc>
                <a:spcPct val="97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Only one P or V operation at a time can modify s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lnSpc>
                <a:spcPct val="97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When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loop in P terminates, only that P can decrements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maphore invariant: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(s &gt;= 0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882BE-008F-4E16-A397-001BB14C4C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OSIX Semaphores (in csapp.c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62080" y="1285200"/>
            <a:ext cx="7495920" cy="4624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initialize semaphore sem to valu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pshared=0 if thread, pshared=1 if proces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Sem_init(sem_t *sem, int pshared, unsigned int value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em_init(sem, pshared, value) &lt;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ix_error("Sem_init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P operation on semaphore sem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P(sem_t *sem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em_wait(sem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ix_error("P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V operation on semaphore sem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V(sem_t *sem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em_post(sem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ix_error("V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08609-C90F-4E32-AA8E-D3CA0F330A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haring With POSIX Semaphor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52640" y="1157400"/>
            <a:ext cx="4573440" cy="46987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define NITERS 100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int cnt; /* count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_t sem;        /* semaphor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1, tid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_init(&amp;sem, 0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create 2 threads and wai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34800" y="1206360"/>
            <a:ext cx="3228480" cy="29206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count(void *ar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i&lt;NITERS;i++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(&amp;se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nt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(&amp;se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75BBB-4D8E-4F1F-BB67-E287BCEB0A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21368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ignaling With Semaphor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43080" y="2709720"/>
            <a:ext cx="7672320" cy="22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Common synchronization pattern: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roducer waits for slot, inserts item in buffer, and “</a:t>
            </a: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signals”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consumer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onsumer waits for item, removes it from buffer, and “signals” producer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gnals” in this context has nothing to do with Unix signal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52680" y="1146240"/>
            <a:ext cx="1218960" cy="110808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86040" y="1419120"/>
            <a:ext cx="1219320" cy="533520"/>
          </a:xfrm>
          <a:prstGeom prst="rect">
            <a:avLst/>
          </a:prstGeom>
          <a:solidFill>
            <a:srgbClr val="66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771640" y="1647720"/>
            <a:ext cx="914400" cy="12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905360" y="1647720"/>
            <a:ext cx="914400" cy="12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19760" y="1149480"/>
            <a:ext cx="1219320" cy="110808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1D8FB-AB17-4AE3-AC70-B3B783847A9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371520"/>
            <a:ext cx="749304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roducer-Consumer (1-Buffer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22160" y="1394640"/>
            <a:ext cx="3507120" cy="38941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buf1.c - producer-consu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on 1-element buff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“csapp.h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define NITERS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producer(void *arg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consumer(void *arg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buf; /*shared va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_t full; /* sem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_t empt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share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43400" y="1382040"/>
            <a:ext cx="4645080" cy="4624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_produc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_consum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initialize the semaphore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_init(&amp;shared.empty, 0, 1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_init(&amp;shared.full,  0, 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create threads and wai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_producer, NUL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r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_consumer, NUL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umer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join(tid_producer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join(tid_consumer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B3576-1598-4132-8A88-7AA3860DFAF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roducer-Consumer (cont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56960" y="1698480"/>
            <a:ext cx="3594600" cy="41374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producer threa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producer(void *arg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, it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 i&lt;NITERS; i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produce item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tem =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produced %d\n"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te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write item to buf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(&amp;shared.empt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ared.buf = it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(&amp;shared.f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038560" y="1716840"/>
            <a:ext cx="3594600" cy="38941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consumer threa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consumer(void *arg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, it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 i&lt;NITERS; i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read item from buf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(&amp;shared.f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tem = shared.bu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(&amp;shared.empt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consume item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consumed %d\n"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te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185480" y="1171440"/>
            <a:ext cx="316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ly:  empty = 1, full = 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1CA70-BF3A-451B-BFE4-C4A36D42CCF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read-safety of Library Function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ll functions in the Standard C Library (at the back of your K&amp;R text) are thread-safe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Examples: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malloc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free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printf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scanf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Most Unix system calls are thread-safe, with a few exceptions: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05000" y="3344400"/>
            <a:ext cx="6750000" cy="246924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-unsafe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entrant 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c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ctime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time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hostbyadd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hostbyaddr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hostbyna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hostbyname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et_ntoa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n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cal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caltime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d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EF227-7ADB-407D-8FC4-FFFC2A9164F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0600" y="457200"/>
            <a:ext cx="7340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read-Unsafe Functions: Fix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26840" y="1076040"/>
            <a:ext cx="4260600" cy="29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eturn a ptr to a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static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variable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Fixes: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1. Rewrite code so caller passes pointer to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struct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ssue: Requires changes in caller and callee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73560" y="4114080"/>
            <a:ext cx="3716280" cy="4870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stp = Malloc(...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hostbyname_r(name, host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62680" y="1113120"/>
            <a:ext cx="3716280" cy="1703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gethostbyname(char na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struct hostent 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ontact DNS and fill in 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&amp;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24400" y="3784680"/>
            <a:ext cx="708120" cy="2952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CFF34-B554-49E1-89DD-CEAF67D6A1E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0600" y="457200"/>
            <a:ext cx="7340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read-Unsafe Functions: Fix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26840" y="1076400"/>
            <a:ext cx="426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eturn a ptr to a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static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variable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Fixes: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2.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Lock-and-copy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ssue: Requires only simple changes in calle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However, caller must free memory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62680" y="1198800"/>
            <a:ext cx="3716280" cy="1703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gethostbyname(char na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struct hostent 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ontact DNS and fill in 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&amp;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720320" y="3704040"/>
            <a:ext cx="4325760" cy="243396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gethostbyname_ts(char *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*q = Malloc(...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(&amp;mutex); /* lock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= gethostbyname(nam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q = *p;   /* copy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(&amp;mut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q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21160" y="4745160"/>
            <a:ext cx="1170000" cy="128520"/>
          </a:xfrm>
          <a:prstGeom prst="line">
            <a:avLst/>
          </a:prstGeom>
          <a:ln w="381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3F641-8080-4568-B63D-276308305B2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ncurrent Server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3152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terative servers can only serve one client at a tim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Concurrent servers are able to handle multiple requests in parall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equired by L7 Part II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752480" y="2925720"/>
            <a:ext cx="6117840" cy="2939760"/>
            <a:chOff x="1752480" y="2925720"/>
            <a:chExt cx="6117840" cy="2939760"/>
          </a:xfrm>
        </p:grpSpPr>
        <p:sp>
          <p:nvSpPr>
            <p:cNvPr id="93" name=""/>
            <p:cNvSpPr/>
            <p:nvPr/>
          </p:nvSpPr>
          <p:spPr>
            <a:xfrm>
              <a:off x="1752480" y="2967120"/>
              <a:ext cx="1401480" cy="85320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row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16000" y="2925720"/>
              <a:ext cx="1354320" cy="89460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761840" y="3964680"/>
              <a:ext cx="1401120" cy="85320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row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52480" y="4970520"/>
              <a:ext cx="1401480" cy="8535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row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516000" y="3923280"/>
              <a:ext cx="1354320" cy="89460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16000" y="4970520"/>
              <a:ext cx="1354320" cy="8949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41360" y="3406320"/>
              <a:ext cx="3374280" cy="786600"/>
            </a:xfrm>
            <a:custGeom>
              <a:avLst/>
              <a:gdLst/>
              <a:ahLst/>
              <a:rect l="l" t="t" r="r" b="b"/>
              <a:pathLst>
                <a:path w="2172" h="568">
                  <a:moveTo>
                    <a:pt x="0" y="24"/>
                  </a:moveTo>
                  <a:cubicBezTo>
                    <a:pt x="380" y="296"/>
                    <a:pt x="760" y="568"/>
                    <a:pt x="1122" y="564"/>
                  </a:cubicBezTo>
                  <a:cubicBezTo>
                    <a:pt x="1484" y="560"/>
                    <a:pt x="1828" y="280"/>
                    <a:pt x="21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3150720" y="4578480"/>
              <a:ext cx="3374280" cy="786960"/>
            </a:xfrm>
            <a:custGeom>
              <a:avLst/>
              <a:gdLst/>
              <a:ahLst/>
              <a:rect l="l" t="t" r="r" b="b"/>
              <a:pathLst>
                <a:path w="2172" h="568">
                  <a:moveTo>
                    <a:pt x="0" y="24"/>
                  </a:moveTo>
                  <a:cubicBezTo>
                    <a:pt x="380" y="296"/>
                    <a:pt x="760" y="568"/>
                    <a:pt x="1122" y="564"/>
                  </a:cubicBezTo>
                  <a:cubicBezTo>
                    <a:pt x="1484" y="560"/>
                    <a:pt x="1828" y="280"/>
                    <a:pt x="21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3160080" y="4395240"/>
              <a:ext cx="3346200" cy="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94360" y="3956040"/>
              <a:ext cx="1354680" cy="894960"/>
            </a:xfrm>
            <a:prstGeom prst="ellipse">
              <a:avLst/>
            </a:prstGeom>
            <a:solidFill>
              <a:srgbClr val="ff9900">
                <a:alpha val="8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x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1EE2D-E423-4364-9E02-F4B46C5534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reading is a clean and efficient way to implement concurrent serve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e need to synchronize multiple threads for concurrent accesses to shared variabl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maphore is one way to do thi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read-safety is the difficult part of thread programm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7C71B-F271-4162-914F-96F45195EBB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34440"/>
            <a:ext cx="861048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ree Ways for Creating Concurrent Server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0960" y="1116000"/>
            <a:ext cx="765468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1. Process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rk a child process for every incoming client connectio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fficult to share data among child processe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2. I/O multiplexing with Unix 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select(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Use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select()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o notice pending socket activity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anually interleave the processing of multiple open connection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re complex!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~ implementing your own app-specific scheduler!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3. Thread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reate a thread to handle every incoming client connectio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Our focus toda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763D5-6567-4A46-9EFD-7BFEF34C5A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raditional View of a Proces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639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rocess = process context + code, data, and stack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86240" y="3287880"/>
            <a:ext cx="2230560" cy="31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86240" y="3606840"/>
            <a:ext cx="2230560" cy="253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86240" y="3860640"/>
            <a:ext cx="2230560" cy="289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58720" y="4927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86240" y="414972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19120" y="2806200"/>
            <a:ext cx="2511000" cy="23770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pointer (S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counter (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13080" y="220896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, data, and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86240" y="447048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86240" y="4775040"/>
            <a:ext cx="2232000" cy="3207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86240" y="2973240"/>
            <a:ext cx="2230560" cy="3193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86240" y="2658960"/>
            <a:ext cx="2230560" cy="319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87040" y="28033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27680" y="298440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68320" y="444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15080" y="4622760"/>
            <a:ext cx="355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51760" y="369216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27680" y="386064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90200" y="2208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C0680-6534-45B5-A36C-FAAEABCED1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Alternate View of a Proces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1218960"/>
            <a:ext cx="7667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rocess = thread + code, data, and kernel contex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64400" y="2666880"/>
            <a:ext cx="2230200" cy="319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4400" y="2986200"/>
            <a:ext cx="2230200" cy="253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64400" y="3240000"/>
            <a:ext cx="2230200" cy="289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68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4400" y="352908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71720" y="3597120"/>
            <a:ext cx="2511000" cy="13417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pointer (S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counter (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33960" y="213300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de an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4400" y="3849840"/>
            <a:ext cx="2232000" cy="320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64400" y="4154400"/>
            <a:ext cx="2232000" cy="3207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19320" y="2971800"/>
            <a:ext cx="2230560" cy="3189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20120" y="30920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60400" y="327672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46120" y="3820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92880" y="4002120"/>
            <a:ext cx="355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560" y="307152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05480" y="324000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42840" y="213300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ad (main thre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44760" y="4797720"/>
            <a:ext cx="1948680" cy="112932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01760" y="2666880"/>
            <a:ext cx="3581280" cy="274320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1E815-EE77-4788-8E64-B97171B315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A Process With Multiple Thread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80880" y="1039680"/>
            <a:ext cx="76597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Multiple threads can be associated with a proces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ach thread has its own logical control flow (instruction flow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ach thread shares the same code, data, and kernel context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ach thread has its own thread ID (TID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78280" y="3090960"/>
            <a:ext cx="1974960" cy="288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78280" y="3379680"/>
            <a:ext cx="1974960" cy="2304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78280" y="3610080"/>
            <a:ext cx="1974960" cy="261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74520" y="4575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78280" y="3871800"/>
            <a:ext cx="1976400" cy="290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35920" y="262980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hared code an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78280" y="4162320"/>
            <a:ext cx="1976400" cy="290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78280" y="4437000"/>
            <a:ext cx="1976400" cy="2905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355760" y="2817000"/>
            <a:ext cx="2085840" cy="2718360"/>
            <a:chOff x="1355760" y="2817000"/>
            <a:chExt cx="2085840" cy="2718360"/>
          </a:xfrm>
        </p:grpSpPr>
        <p:sp>
          <p:nvSpPr>
            <p:cNvPr id="157" name=""/>
            <p:cNvSpPr/>
            <p:nvPr/>
          </p:nvSpPr>
          <p:spPr>
            <a:xfrm>
              <a:off x="1355760" y="4193640"/>
              <a:ext cx="2085840" cy="134172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read 1 context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 regis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dition cod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71680" y="3690720"/>
              <a:ext cx="1670040" cy="2890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ck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7760" y="2817000"/>
              <a:ext cx="162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Thread 1 </a:t>
              </a:r>
              <a:br>
                <a:rPr sz="1800"/>
              </a:b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main threa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3879720" y="4904280"/>
            <a:ext cx="2055960" cy="112932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465240" y="2817000"/>
            <a:ext cx="2085840" cy="2718360"/>
            <a:chOff x="6465240" y="2817000"/>
            <a:chExt cx="2085840" cy="2718360"/>
          </a:xfrm>
        </p:grpSpPr>
        <p:sp>
          <p:nvSpPr>
            <p:cNvPr id="162" name=""/>
            <p:cNvSpPr/>
            <p:nvPr/>
          </p:nvSpPr>
          <p:spPr>
            <a:xfrm>
              <a:off x="6465240" y="4193640"/>
              <a:ext cx="2085840" cy="134172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read 2 context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 regis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dition cod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539040" y="3690720"/>
              <a:ext cx="1670040" cy="2890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ck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53880" y="2817000"/>
              <a:ext cx="157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Thread 2 </a:t>
              </a:r>
              <a:br>
                <a:rPr sz="1800"/>
              </a:b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peer threa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9D83F-30DB-4004-B2D7-B636655B2A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reads vs. Process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66960" y="1096920"/>
            <a:ext cx="789768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How threads and processes are simila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ach has its own logical control flow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ach can run concurrently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ach is context switched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How threads and processes are different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hreads share code and data, processes do not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hreads are somewhat less expensive than processes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rocess control (creating and reaping) is twice as expensive as thread control.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inux/Pentium III numbers: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~20K cycles to create and reap a process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~10K cycles to create and reap a thread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1872B-79B4-4AEB-A471-389E232FA9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333360"/>
            <a:ext cx="79632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osix Threads (Pthreads) Interfac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63640" y="1028520"/>
            <a:ext cx="79596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81960" indent="-38196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tandard interface for ~60 function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36920" indent="-24336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reating and reaping threads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creat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joi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36920" indent="-24336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etermining your thread ID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self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36920" indent="-24336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erminating thread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cance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exit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xit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  [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terminates all threads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] ,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[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terminates current thread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36920" indent="-24336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ynchronizing access to shared variable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mutex_init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mutex_[un]lock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cond_init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cond_[timed]wait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79B4F-C80D-4C2D-A8B9-9BB79868AC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ubhav Gupta</cp:lastModifiedBy>
  <dcterms:modified xsi:type="dcterms:W3CDTF">2002-12-02T06:59:28Z</dcterms:modified>
  <cp:revision>687</cp:revision>
  <dc:subject/>
  <dc:title>PowerPoint Presentation</dc:title>
</cp:coreProperties>
</file>