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8578-3EDD-4F76-A4EB-8B3D1F39A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412A-8A68-4AC0-A2B9-E949C062E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DB0E-0624-435E-A553-757BBF98F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5A2B-A735-464C-AA1B-B7CEB7C31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9C5E-EE22-4055-B265-73DBED550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7D3C-4551-4D10-87E0-55F066CA9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B035-B352-4AE4-8171-6503630F3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06E6-E65D-4F57-A05C-B8C991A0E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3D04-2A39-4C55-B3B9-626D033F5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DBF2-2DD7-4F82-9397-96598DA9A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C20F-7243-4F09-BC7F-47E92F349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F328-FB55-47A8-8A05-C9D1E7860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4C65-B1C4-437C-8134-852AB37094CC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Anubhav Gup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oncurrency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ynchroniz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of Library Func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Anubhav Gup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Dec. 2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Pthreads "hello, world" Prog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83520" y="11214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99840" y="181944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98760" y="280980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6600" y="432144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62320" y="2187720"/>
            <a:ext cx="281952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914800" y="3102120"/>
            <a:ext cx="106668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857760" y="409248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87960" y="5161680"/>
            <a:ext cx="1567440" cy="824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pper cas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hread_xxx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ecks err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DD86-11CB-4A77-9F24-CA74249CC1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ecution of Threaded“hello, world”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29120" y="1266120"/>
            <a:ext cx="1476000" cy="3975840"/>
            <a:chOff x="3129120" y="1266120"/>
            <a:chExt cx="1476000" cy="3975840"/>
          </a:xfrm>
        </p:grpSpPr>
        <p:sp>
          <p:nvSpPr>
            <p:cNvPr id="180" name=""/>
            <p:cNvSpPr/>
            <p:nvPr/>
          </p:nvSpPr>
          <p:spPr>
            <a:xfrm>
              <a:off x="3129120" y="1266120"/>
              <a:ext cx="1476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n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48040" y="1828800"/>
              <a:ext cx="19080" cy="34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420920" y="314928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peer  thread to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1720" y="48002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70600" y="1981080"/>
            <a:ext cx="6397920" cy="1098720"/>
            <a:chOff x="1470600" y="1981080"/>
            <a:chExt cx="6397920" cy="1098720"/>
          </a:xfrm>
        </p:grpSpPr>
        <p:sp>
          <p:nvSpPr>
            <p:cNvPr id="185" name=""/>
            <p:cNvSpPr/>
            <p:nvPr/>
          </p:nvSpPr>
          <p:spPr>
            <a:xfrm>
              <a:off x="6444360" y="2421720"/>
              <a:ext cx="14241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38680" y="2200320"/>
              <a:ext cx="3257280" cy="87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70600" y="1981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50680" y="27432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thread_jo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57480" y="3689280"/>
            <a:ext cx="5838480" cy="870120"/>
            <a:chOff x="1257480" y="3689280"/>
            <a:chExt cx="5838480" cy="870120"/>
          </a:xfrm>
        </p:grpSpPr>
        <p:sp>
          <p:nvSpPr>
            <p:cNvPr id="190" name=""/>
            <p:cNvSpPr/>
            <p:nvPr/>
          </p:nvSpPr>
          <p:spPr>
            <a:xfrm flipH="1">
              <a:off x="3886200" y="3689280"/>
              <a:ext cx="3209760" cy="704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57480" y="41911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join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152480" y="3018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170120" y="3369600"/>
            <a:ext cx="1826640" cy="902160"/>
            <a:chOff x="7170120" y="3369600"/>
            <a:chExt cx="1826640" cy="902160"/>
          </a:xfrm>
        </p:grpSpPr>
        <p:sp>
          <p:nvSpPr>
            <p:cNvPr id="194" name=""/>
            <p:cNvSpPr/>
            <p:nvPr/>
          </p:nvSpPr>
          <p:spPr>
            <a:xfrm>
              <a:off x="7170120" y="3369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return NULL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75160" y="36291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01960" y="2286000"/>
            <a:ext cx="5994000" cy="1403280"/>
            <a:chOff x="1101960" y="2286000"/>
            <a:chExt cx="5994000" cy="1403280"/>
          </a:xfrm>
        </p:grpSpPr>
        <p:sp>
          <p:nvSpPr>
            <p:cNvPr id="197" name=""/>
            <p:cNvSpPr/>
            <p:nvPr/>
          </p:nvSpPr>
          <p:spPr>
            <a:xfrm>
              <a:off x="7095960" y="30798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01960" y="228600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CCE2-0BB7-48B0-AE07-1FF1BBAA75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read-Based Concurrent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3680" y="1123920"/>
            <a:ext cx="810540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4848120"/>
            <a:ext cx="760104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0D7A-14C9-4C9D-955F-1718CF19D3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Based Concurrent Server (con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42360" y="1181160"/>
            <a:ext cx="688644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_r(connfd); /* thread-safe version of echo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448080" y="1876320"/>
            <a:ext cx="3305160" cy="642600"/>
            <a:chOff x="3448080" y="1876320"/>
            <a:chExt cx="3305160" cy="642600"/>
          </a:xfrm>
        </p:grpSpPr>
        <p:sp>
          <p:nvSpPr>
            <p:cNvPr id="205" name=""/>
            <p:cNvSpPr/>
            <p:nvPr/>
          </p:nvSpPr>
          <p:spPr>
            <a:xfrm flipH="1">
              <a:off x="3448080" y="2228760"/>
              <a:ext cx="2819520" cy="257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15120" y="18763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99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B7D6-13BC-451B-91C1-ED571B95CC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1: Detached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813924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t any point in time, a thread is eit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hread can be reaped and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ust be reaped (with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) to free memory resourc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read cannot be reaped or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sources are automatically reaped on termination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fault state is join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detach(pthread_self()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o make detached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119D-0D00-44A9-AE72-6776800174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2: Avoid Unintended Shar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8800" y="2344680"/>
            <a:ext cx="7850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r example, what happens if we pass the address of connfd to the thread routine as in the following code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28880" y="1295280"/>
            <a:ext cx="716436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362400"/>
            <a:ext cx="71643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6F3C-D5C1-4E7E-9B6E-527CBE6082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3: Thread-saf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7993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asy to share data structures between threa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ut we need to do this correctly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call the shell lab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ob data struct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ared between main process and signal 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ed ways to synchronize multiple control of flow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8A5C-E501-447B-A248-B758A8095F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Memory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nceptual model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runs in the context of a proces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has its own separate thread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 ID, stack, stack pointer, program counter, condition codes, and general purpose register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threads share the remaining process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de, data, heap, and shared library segments of the process virtual address space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pen files and installed handler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1FDF-D61E-45BE-BEF4-7725767FA6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aveats of Conceptual Mode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l global variables are shared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l static local variables are shared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ractice, any thread can read and write the stack of any other thread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 one can use a global pointer to point to a stack variable. Then all threads can access the stack variabl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t this is not a good programming practic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re about this in this Thu’s lect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7B4E-ABA5-46F0-8C5C-A21B6BDE4C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aring With POSIX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2640" y="1157400"/>
            <a:ext cx="4573440" cy="469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4800" y="1450080"/>
            <a:ext cx="3228480" cy="243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2C31-2C5E-44D7-B78A-455EE808F6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985E-A2BD-4C3C-9F6D-871A7C471C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nchroniz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multiple threads want to access a shared global data structure, we need to synchronize their accesse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ays to do synchronization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tex and condi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DDC0-7CF7-43BF-956E-30BD19B27C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447480"/>
            <a:ext cx="7759800" cy="5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ynchronizing With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Classic solutio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 Dijkstra's P and V operations o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semaphor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maphore: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non-negative integer synchronization 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 (s == 0) wait(); s--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Proberen" (tes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V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++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Verhogen" (incremen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guarantees that operations between brackets [ ] are executed indivisib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nly one P or V operation at a time can modify 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hen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loop in P terminates, only that P can decrement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aphore invariant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s &gt;= 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80B7-3A4B-40F9-929D-5AAE628AF0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Semaphores (in csapp.c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62080" y="128520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B35E-7CBB-441B-8F01-D61FE23346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aring With POSIX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2640" y="1157400"/>
            <a:ext cx="4573440" cy="469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34800" y="1206360"/>
            <a:ext cx="322848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48B7-678B-4B53-88CD-49081059E2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ing With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43080" y="2709720"/>
            <a:ext cx="767232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mon synchronization pattern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ducer waits for slot, inserts item in buffer, and “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signals”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consumer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nsumer waits for item, removes it from buffer, and “signals” producer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gnals” in this context has nothing to do with Unix signa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52680" y="1146240"/>
            <a:ext cx="121896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86040" y="1419120"/>
            <a:ext cx="1219320" cy="53352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71640" y="1647720"/>
            <a:ext cx="91440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905360" y="1647720"/>
            <a:ext cx="91440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19760" y="1149480"/>
            <a:ext cx="121932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2A0A-2156-4A8F-87C6-8CD29245B6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371520"/>
            <a:ext cx="74930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ducer-Consumer (1-Buffer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2160" y="1394640"/>
            <a:ext cx="350712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uf; /*shared va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1382040"/>
            <a:ext cx="464508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producer,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consumer,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AF6E-D610-4614-A016-1CC199C8C9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ducer-Consumer (con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56960" y="1698480"/>
            <a:ext cx="359460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38560" y="1716840"/>
            <a:ext cx="359460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85480" y="117144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40FB-C6E3-4091-B367-D70994AB65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safety of Library Fun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functions in the Standard C Library (at the back of your K&amp;R text) are thread-saf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s: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ree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ntf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canf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ost Unix system calls are thread-safe, with a few exception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05000" y="334440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C185-94D4-49CE-8CDE-10FFF85B71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6840" y="1076040"/>
            <a:ext cx="426060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Rewrite code so caller passes pointer to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uc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changes in caller and calle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73560" y="41140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62680" y="111312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4400" y="3784680"/>
            <a:ext cx="708120" cy="295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7CAA-BDF6-4D06-8AA3-1A3537FFC4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6840" y="1076400"/>
            <a:ext cx="426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k-and-cop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only simple changes in call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ever, caller must free memor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62680" y="119880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0320" y="37040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21160" y="4745160"/>
            <a:ext cx="1170000" cy="1285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CB5A-D127-485F-9FAA-7B2CD705BD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urrent Serv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erative servers can only serve one client at a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ncurrent servers are able to handle multiple requests in parall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quired by L7 Part I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52480" y="2925720"/>
            <a:ext cx="6117840" cy="2939760"/>
            <a:chOff x="1752480" y="2925720"/>
            <a:chExt cx="6117840" cy="2939760"/>
          </a:xfrm>
        </p:grpSpPr>
        <p:sp>
          <p:nvSpPr>
            <p:cNvPr id="93" name=""/>
            <p:cNvSpPr/>
            <p:nvPr/>
          </p:nvSpPr>
          <p:spPr>
            <a:xfrm>
              <a:off x="1752480" y="2967120"/>
              <a:ext cx="140148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6000" y="292572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1840" y="3964680"/>
              <a:ext cx="140112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4970520"/>
              <a:ext cx="1401480" cy="8535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16000" y="392328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000" y="4970520"/>
              <a:ext cx="1354320" cy="8949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1360" y="3406320"/>
              <a:ext cx="3374280" cy="78660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150720" y="4578480"/>
              <a:ext cx="3374280" cy="78696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60080" y="4395240"/>
              <a:ext cx="3346200" cy="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4360" y="3956040"/>
              <a:ext cx="1354680" cy="894960"/>
            </a:xfrm>
            <a:prstGeom prst="ellipse">
              <a:avLst/>
            </a:prstGeom>
            <a:solidFill>
              <a:srgbClr val="ff99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BF4F-8E8B-43FB-86BA-16D01D0A3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reading is a clean and efficient way to implement concurrent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need to synchronize multiple threads for concurrent accesses to shared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 is one way to do th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is the difficult part of thread programm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81F6-0854-48DA-9137-99E4AE6FED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ree Ways for Creating Concurrent Serv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0960" y="1116000"/>
            <a:ext cx="76546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Proces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rk a child process for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fficult to share data among child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I/O multiplexing with Unix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select(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elect()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o notice pending socket activity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nually interleave the processing of multiple open conne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re complex!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~ implementing your own app-specific scheduler!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3. Thread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e a thread to handle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ur focus toda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44A8-0779-4895-94BF-0B406B98E2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raditional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63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process context + code, data, and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624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624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624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5872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624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1912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308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8624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8624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8704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27680" y="29844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6832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15080" y="46227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517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7680" y="386064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020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2D40-B521-417F-BF0F-C6D4599484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ternate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67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thread + code, data, and kernel contex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4400" y="26668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4400" y="29862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4400" y="32400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6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1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33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4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4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19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20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0400" y="3276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4612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92880" y="400212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5480" y="3240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284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44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1760" y="2666880"/>
            <a:ext cx="358128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5511-F88C-48EF-9A63-F51022F42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 Process With Multiple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80880" y="1039680"/>
            <a:ext cx="7659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ltiple threads can be associated with a proces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logical control flow (instruction flow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shares the same code, data, and kernel contex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thread ID (T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8280" y="3090960"/>
            <a:ext cx="1974960" cy="28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78280" y="3379680"/>
            <a:ext cx="197496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8280" y="3610080"/>
            <a:ext cx="197496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74520" y="457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78280" y="387180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35920" y="2629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8280" y="416232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8280" y="443700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55760" y="2817000"/>
            <a:ext cx="2085840" cy="2718360"/>
            <a:chOff x="1355760" y="2817000"/>
            <a:chExt cx="2085840" cy="2718360"/>
          </a:xfrm>
        </p:grpSpPr>
        <p:sp>
          <p:nvSpPr>
            <p:cNvPr id="157" name=""/>
            <p:cNvSpPr/>
            <p:nvPr/>
          </p:nvSpPr>
          <p:spPr>
            <a:xfrm>
              <a:off x="135576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168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7760" y="281700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879720" y="4904280"/>
            <a:ext cx="205596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465240" y="2817000"/>
            <a:ext cx="2085840" cy="2718360"/>
            <a:chOff x="6465240" y="2817000"/>
            <a:chExt cx="2085840" cy="2718360"/>
          </a:xfrm>
        </p:grpSpPr>
        <p:sp>
          <p:nvSpPr>
            <p:cNvPr id="162" name=""/>
            <p:cNvSpPr/>
            <p:nvPr/>
          </p:nvSpPr>
          <p:spPr>
            <a:xfrm>
              <a:off x="646524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3904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3880" y="281700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822B-940F-4C5F-8C66-577616C542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vs. Process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66960" y="1096920"/>
            <a:ext cx="789768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simila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has its own logical control flow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can run concurrently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is context switche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differ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share code and data, processes do not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are somewhat less expensive than processe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control (creating and reaping) is twice as expensive as thread control.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inux/Pentium III numbers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20K cycles to create and reap a proces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10K cycles to create and reap a threa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0F64-FBC6-4463-93A1-F20C6CF4C6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Threads (Pthreads)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63640" y="1028520"/>
            <a:ext cx="795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1960" indent="-38196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ndard interface for ~60 fun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ing and reaping thread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reat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termining your thread I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sel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erminating thread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anc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ex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 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all threads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 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current thread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ynchronizing access to shared variabl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[un]loc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[timed]wa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95C2-767B-405E-A7B2-BDC99E3DF1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ubhav Gupta</cp:lastModifiedBy>
  <dcterms:modified xsi:type="dcterms:W3CDTF">2002-12-02T06:59:28Z</dcterms:modified>
  <cp:revision>687</cp:revision>
  <dc:subject/>
  <dc:title>PowerPoint Presentation</dc:title>
</cp:coreProperties>
</file>