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4DC0-58C0-41DC-9FF5-BFEBB7977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ACA3-1F64-4909-8246-7EC887189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FEBE-2475-46C2-9687-2DB20DD5C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063F-A9BB-4415-A757-519AC1239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3402-8AF0-4787-9C6D-8919136B0E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6279-E1A9-4B09-9106-23614B329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9957-A3B7-4F6D-97AA-6C15A60F2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D2B6-3EF0-43E7-81D8-FA72DB069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8BF3-6E23-4682-9763-0CF4227AE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EB21-80C3-4260-94B6-D556D388A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0CD3-C36C-4CF1-B684-34E955282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B33F-3FA7-4478-A076-97FE2122D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1E0E-0390-43FB-AFB7-4AE6CB3E241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D0EF-94CD-4C00-8F59-C97EC95E8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1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6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1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5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8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4457-BD55-4636-86E4-379215435E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FE24-7A6F-4DA0-A02A-9612917ED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6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154B-C204-49D3-9E16-4296C8172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Why should we use detached threads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pthread_join blocks the calling threa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2FE3-91C3-4E0A-A56E-9D993386FC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8EF9-AEA7-4449-A0F4-CFCEA83531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F845-C500-4D2A-8A07-D127E6C32E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640A-AC8B-4C1B-AF8A-781F23326E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ared Variables in Conceptual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17612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lobal variables are sha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ack variables are priva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229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234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443F-7AA7-4600-884D-3A31743A7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details in this Thursday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3148-0C80-443A-9301-44A781E9A2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1239-AC53-4374-AD1B-9EAA1ECED4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C702-4A8B-485C-B9AC-581DFFB91B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0F4A-EA93-40F0-8F8D-470002559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4B40-6F45-4DEC-B6D3-BB9ED6B2EE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6B77-5B4F-412D-AAE2-C729A4E85D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9B13-1C32-4D7A-8C86-0BEC56D7B9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B85A-4625-4631-ADE0-C5EAF447C5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3CE7-E123-49E4-BEAA-A2EC407ED7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D6DC-179F-48F9-9FE7-BC3A06455E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AEFE-6EC3-425B-8526-62402F092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thread package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2219400"/>
            <a:ext cx="7600680" cy="1038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9F0-6977-439A-A6F8-11B97F80DD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535C-717F-43A9-A5EE-37F0AC5ED5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2E88-C44F-484D-BA34-5DCAA9B015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8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3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5EFC-A83A-49E3-84B3-C9364F199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(typically)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1EBE-87CA-4606-9CF9-5CA5E8D84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D2E7-668B-4C80-9DE0-D83D0F287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2-02T15:02:12Z</dcterms:modified>
  <cp:revision>678</cp:revision>
  <dc:subject/>
  <dc:title>PowerPoint Presentation</dc:title>
</cp:coreProperties>
</file>