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D15D-414A-4A74-AFF1-33C93294F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B46F-9BE7-4181-BCEA-3333FBC92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E9030-804B-40D8-BD52-8C73297F7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D7EFD-6E9B-4BD2-BA48-6FDB74F04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EF323-61BB-4AFF-813C-341287CD8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8787-4913-48C3-8708-4BB3E49D9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07B1-2B62-4177-9857-72A3EA132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8907-3A22-4112-9B02-501C14679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6441-2518-4E7A-9AE4-17DA816E1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BE83-C329-40B0-896C-15EFC67E5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5C66-0280-4901-BB20-D4D18ECC7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79A2-3C4F-4101-A929-7E41198BE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5C1-1169-4A8B-9509-C94764421744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ynchroniza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of Library Func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Dec. 2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Pthreads "hello, world" Program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83520" y="1121400"/>
            <a:ext cx="5667120" cy="4961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hello.c - Pthreads "hello, world" progr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join(tid, 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f("Hello, world!\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99840" y="1819440"/>
            <a:ext cx="189072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ttribu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usually 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98760" y="2809800"/>
            <a:ext cx="194688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read arg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96600" y="4321440"/>
            <a:ext cx="1340640" cy="5806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void **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162320" y="2187720"/>
            <a:ext cx="2819520" cy="1447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914800" y="3102120"/>
            <a:ext cx="106668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857760" y="4092480"/>
            <a:ext cx="31240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87960" y="5161680"/>
            <a:ext cx="1567440" cy="8240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Upper case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thread_xxx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ecks err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8EF3-4F4A-4121-BBE7-364C791F42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ecution of Threaded“hello, world”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9120" y="1266120"/>
            <a:ext cx="1476000" cy="3975840"/>
            <a:chOff x="3129120" y="1266120"/>
            <a:chExt cx="1476000" cy="3975840"/>
          </a:xfrm>
        </p:grpSpPr>
        <p:sp>
          <p:nvSpPr>
            <p:cNvPr id="181" name=""/>
            <p:cNvSpPr/>
            <p:nvPr/>
          </p:nvSpPr>
          <p:spPr>
            <a:xfrm>
              <a:off x="3129120" y="1266120"/>
              <a:ext cx="147600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in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48040" y="1828800"/>
              <a:ext cx="19080" cy="341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420920" y="3149280"/>
            <a:ext cx="23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s for peer  thread to termi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91720" y="48002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thread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peer th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470600" y="1981080"/>
            <a:ext cx="6397920" cy="1098720"/>
            <a:chOff x="1470600" y="1981080"/>
            <a:chExt cx="6397920" cy="1098720"/>
          </a:xfrm>
        </p:grpSpPr>
        <p:sp>
          <p:nvSpPr>
            <p:cNvPr id="186" name=""/>
            <p:cNvSpPr/>
            <p:nvPr/>
          </p:nvSpPr>
          <p:spPr>
            <a:xfrm>
              <a:off x="6444360" y="2421720"/>
              <a:ext cx="1424160" cy="368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38680" y="2200320"/>
              <a:ext cx="3257280" cy="8794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0600" y="198108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l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750680" y="274320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thread_join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57480" y="3689280"/>
            <a:ext cx="5838480" cy="870120"/>
            <a:chOff x="1257480" y="3689280"/>
            <a:chExt cx="5838480" cy="870120"/>
          </a:xfrm>
        </p:grpSpPr>
        <p:sp>
          <p:nvSpPr>
            <p:cNvPr id="191" name=""/>
            <p:cNvSpPr/>
            <p:nvPr/>
          </p:nvSpPr>
          <p:spPr>
            <a:xfrm flipH="1">
              <a:off x="3886200" y="3689280"/>
              <a:ext cx="3209760" cy="704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57480" y="41911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join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7152480" y="30186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170120" y="3369600"/>
            <a:ext cx="1826640" cy="902160"/>
            <a:chOff x="7170120" y="3369600"/>
            <a:chExt cx="1826640" cy="902160"/>
          </a:xfrm>
        </p:grpSpPr>
        <p:sp>
          <p:nvSpPr>
            <p:cNvPr id="195" name=""/>
            <p:cNvSpPr/>
            <p:nvPr/>
          </p:nvSpPr>
          <p:spPr>
            <a:xfrm>
              <a:off x="7170120" y="33696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return NULL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75160" y="36291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peer thr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mina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101960" y="2286000"/>
            <a:ext cx="5994000" cy="1403280"/>
            <a:chOff x="1101960" y="2286000"/>
            <a:chExt cx="5994000" cy="1403280"/>
          </a:xfrm>
        </p:grpSpPr>
        <p:sp>
          <p:nvSpPr>
            <p:cNvPr id="198" name=""/>
            <p:cNvSpPr/>
            <p:nvPr/>
          </p:nvSpPr>
          <p:spPr>
            <a:xfrm>
              <a:off x="7095960" y="30798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01960" y="2286000"/>
              <a:ext cx="26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Pthread_create()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retur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E884-FDEA-4F93-A915-CA74EA44A4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read-Based Concurrent Echo Serv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3680" y="1123920"/>
            <a:ext cx="8105400" cy="4961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 **arg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listenfd, *connfdp, port, clientl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sockaddr_in clientadd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argc != 2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printf(stderr, "usage: %s &lt;port&gt;\n", argv[0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rt = atoi(argv[1]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enfd = open_listenfd(por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entlen = sizeof(clientadd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848120"/>
            <a:ext cx="7601040" cy="762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19C6-33DD-4555-B99E-F4EDB611A4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5080" y="334800"/>
            <a:ext cx="85345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Based Concurrent Server (cont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42360" y="1181160"/>
            <a:ext cx="6886440" cy="3014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thread(void *varg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onnfd = *((int *)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detach(pthread_self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ee(varg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cho_r(connfd); /* thread-safe version of echo()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se(connf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448080" y="1876320"/>
            <a:ext cx="3305160" cy="642600"/>
            <a:chOff x="3448080" y="1876320"/>
            <a:chExt cx="3305160" cy="642600"/>
          </a:xfrm>
        </p:grpSpPr>
        <p:sp>
          <p:nvSpPr>
            <p:cNvPr id="206" name=""/>
            <p:cNvSpPr/>
            <p:nvPr/>
          </p:nvSpPr>
          <p:spPr>
            <a:xfrm flipH="1">
              <a:off x="3448080" y="2228760"/>
              <a:ext cx="2819520" cy="2574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15120" y="187632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99"/>
                  </a:solidFill>
                  <a:latin typeface="Times New Roman"/>
                </a:rPr>
                <a:t>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A92D-6DF9-48A6-9358-0D9419C7AF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1: Detached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813924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t any point in time, a thread is eith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or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Joinable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hread can be reaped and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st be reaped (with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) to free memory resourc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Detached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ad cannot be reaped or killed by other thread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sources are automatically reaped on termination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efault state is join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pthread_detach(pthread_self()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to make detached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7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7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Why should we use detached threads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pthread_join blocks the calling threa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3238-F5E7-474E-BCE0-094663D40D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2: Avoid Unintended Shar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28800" y="2344680"/>
            <a:ext cx="785016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r example, what happens if we pass the address of connfd to the thread routine as in the following code?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28880" y="1295280"/>
            <a:ext cx="716436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p = Malloc(sizeof(int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connfdp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connfdp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62400"/>
            <a:ext cx="716436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fd = Accept(listenfd,(SA *)&amp;clientaddr,&amp;clientle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create(&amp;tid, NULL, thread, (void *)&amp;connfd);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A1CE3-920D-42A6-865E-FE0A07E382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34800"/>
            <a:ext cx="83487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ssue 3: Thread-saf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4400" y="1049400"/>
            <a:ext cx="799308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sy to share data structures between thread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ut we need to do this correctly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call the shell la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Job data structu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hared between main process and signal 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ed ways to synchronize multiple control of flow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BD3B-F263-4E43-AAF5-B47A3CEA5D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Memory Mode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onceptual model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runs in the context of a proces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ach thread has its own separate thread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 ID, stack, stack pointer, program counter, condition codes, and general purpose register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threads share the remaining process context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de, data, heap, and shared library segments of the process virtual address space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pen files and installed handler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6044-7A2F-47CC-A1ED-FE953BE177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ared Variables in Conceptual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176120"/>
            <a:ext cx="73152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lobal variables are shar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ack variables are priva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229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879720" y="49420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234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B6BD4-C68C-47B6-B751-CE1D47CAB8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aveats of Conceptual Mode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1440" y="1133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 practice, any thread can read and write the stack of any other thread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 one can use a global pointer to point to a stack variable. Then all threads can access the stack variabl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this is not a good programming practice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ore details in this Thursday’s lectu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2B5D-85ED-4ED5-B56F-6E65FF0A13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7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oxy: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due on Thursday, Dec 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nal Exam: Tuesday, Dec 17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87BE-0D20-47EB-AC3C-7FBB97ABF2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nchroniza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f multiple threads want to access a shared global data structure, we need to synchronize their accesse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ays to do synchronization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tex and condition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C951-292C-40C0-A894-9FFD39EBEE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447480"/>
            <a:ext cx="7759800" cy="5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ynchronizing With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Classic solution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: Dijkstra's P and V operations on 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semaph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semaphore:</a:t>
            </a:r>
            <a:r>
              <a:rPr b="0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non-negative integer synchronization 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 (s == 0) wait(); s--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Proberen" (tes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(s): [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++;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utch for "Verhogen" (increment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guarantees that operations between brackets [ ] are executed indivisibl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P or V operation at a time can modify 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7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hen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loop in P terminates, only that P can decrement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maphore invariant: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s &gt;= 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5008-0087-4DFA-89A6-7275C5D872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Semaphores (in csapp.c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62080" y="1285200"/>
            <a:ext cx="7495920" cy="4624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initialize semaphore sem to valu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shared=0 if thread, pshared=1 if process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em_init(sem_t *sem, int pshared, unsigned int val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init(sem, pshared, value) &lt;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Sem_ini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P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P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wai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/* V operation on semaphore sem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V(sem_t *sem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sem_post(sem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ix_error("V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5506-21A7-4EB5-809E-B78460CC5B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haring With POSIX Semaphor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52640" y="1157400"/>
            <a:ext cx="4573440" cy="4698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"csapp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define NITERS 10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nsigned int cnt; /* counter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t sem;        /* semaphor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thread_t tid1, tid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m_init(&amp;sem, 0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create 2 threads and wait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4800" y="1206360"/>
            <a:ext cx="3228480" cy="2920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thread routine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*count(void *ar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i=0;i&lt;NITERS;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se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9B07-D28A-4301-AC4B-B4CFED52FE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safety of Library Function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ll functions in the Standard C Library (at the back of your K&amp;R text) are thread-saf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Examples: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malloc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re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rintf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canf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st Unix system calls are thread-safe, with a few exception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05000" y="3344400"/>
            <a:ext cx="6750000" cy="24692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-unsafe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entrant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addr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hostbyna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et_nto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caltime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_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47B0-A2B2-451C-BB69-A0E7594FE4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26840" y="1076040"/>
            <a:ext cx="4260600" cy="29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Rewrite code so caller passes pointer to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changes in caller and calle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73560" y="4114080"/>
            <a:ext cx="3716280" cy="4870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stp = Malloc(...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hostbyname_r(name, host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62680" y="111312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24400" y="3784680"/>
            <a:ext cx="708120" cy="2952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E1CF-2773-417F-A14B-2E3DA0DB9CA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0600" y="457200"/>
            <a:ext cx="73404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-Unsafe Functions: Fix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26840" y="1076400"/>
            <a:ext cx="4260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a ptr to a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variabl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ixes: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ock-and-cop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ssue: Requires only simple changes in call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ever, caller must free memory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62680" y="1198800"/>
            <a:ext cx="3716280" cy="17038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(char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 struct hostent 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tact DNS and fill in 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&amp;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0320" y="3704040"/>
            <a:ext cx="4325760" cy="243396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gethostbyname_ts(char *p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uct hostent *q = Malloc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(&amp;mutex); /* lock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= gethostbyname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q = *p;   /* copy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(&amp;mut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q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1160" y="4745160"/>
            <a:ext cx="1170000" cy="128520"/>
          </a:xfrm>
          <a:prstGeom prst="line">
            <a:avLst/>
          </a:prstGeom>
          <a:ln w="38160">
            <a:solidFill>
              <a:srgbClr val="ff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84815-F0B3-4499-BD76-C8564562E9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reading is a clean and efficient way to implement concurrent serv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ynchronize multiple threads for concurrent accesses to shared variab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maphore is one way to do thi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read-safety is the difficult part of thread programm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5DB7-3329-4374-94BC-A9356A56A8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ncurrent Server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erative servers can only serve one client at a tim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ncurrent servers are able to handle multiple requests in parall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quired by L7 Part II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52480" y="2925720"/>
            <a:ext cx="6117840" cy="2939760"/>
            <a:chOff x="1752480" y="2925720"/>
            <a:chExt cx="6117840" cy="2939760"/>
          </a:xfrm>
        </p:grpSpPr>
        <p:sp>
          <p:nvSpPr>
            <p:cNvPr id="93" name=""/>
            <p:cNvSpPr/>
            <p:nvPr/>
          </p:nvSpPr>
          <p:spPr>
            <a:xfrm>
              <a:off x="1752480" y="2967120"/>
              <a:ext cx="140148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16000" y="292572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61840" y="3964680"/>
              <a:ext cx="1401120" cy="8532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52480" y="4970520"/>
              <a:ext cx="1401480" cy="8535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16000" y="3923280"/>
              <a:ext cx="1354320" cy="89460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000" y="4970520"/>
              <a:ext cx="1354320" cy="8949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41360" y="3406320"/>
              <a:ext cx="3374280" cy="78660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150720" y="4578480"/>
              <a:ext cx="3374280" cy="786960"/>
            </a:xfrm>
            <a:custGeom>
              <a:avLst/>
              <a:gdLst/>
              <a:ahLst/>
              <a:rect l="l" t="t" r="r" b="b"/>
              <a:pathLst>
                <a:path w="2172" h="568">
                  <a:moveTo>
                    <a:pt x="0" y="24"/>
                  </a:moveTo>
                  <a:cubicBezTo>
                    <a:pt x="380" y="296"/>
                    <a:pt x="760" y="568"/>
                    <a:pt x="1122" y="564"/>
                  </a:cubicBezTo>
                  <a:cubicBezTo>
                    <a:pt x="1484" y="560"/>
                    <a:pt x="1828" y="280"/>
                    <a:pt x="2172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60080" y="4395240"/>
              <a:ext cx="3346200" cy="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94360" y="3956040"/>
              <a:ext cx="1354680" cy="894960"/>
            </a:xfrm>
            <a:prstGeom prst="ellipse">
              <a:avLst/>
            </a:prstGeom>
            <a:solidFill>
              <a:srgbClr val="ff9900">
                <a:alpha val="8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B179-291B-4DC1-8A12-2687F5659F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34440"/>
            <a:ext cx="861048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ree Ways for Creating Concurrent Server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0960" y="1116000"/>
            <a:ext cx="76546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.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k a child process for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ifficult to share data among child process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. Thread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e a thread to handle every incoming client conne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ur focus toda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. I/O multiplexing with Unix </a:t>
            </a:r>
            <a:r>
              <a:rPr b="0" lang="en-US" sz="2400" spc="-1" strike="noStrike">
                <a:solidFill>
                  <a:srgbClr val="003399"/>
                </a:solidFill>
                <a:latin typeface="Courier New"/>
              </a:rPr>
              <a:t>select(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select()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o notice pending socket activity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nually interleave the processing of multiple open conne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ore complex!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~ implementing your own app-specific thread package!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28880" y="2219400"/>
            <a:ext cx="7600680" cy="10382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CDCE-F907-48BA-805B-104678D88E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raditional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63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process context + code, data,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86240" y="3287880"/>
            <a:ext cx="2230560" cy="31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6240" y="3606840"/>
            <a:ext cx="223056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6240" y="3860640"/>
            <a:ext cx="223056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58720" y="4927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86240" y="414972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19120" y="2806200"/>
            <a:ext cx="2511000" cy="237708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3080" y="220896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, data, and s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86240" y="44704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86240" y="477504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86240" y="2973240"/>
            <a:ext cx="2230560" cy="3193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86240" y="2658960"/>
            <a:ext cx="223056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87040" y="28033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7680" y="29844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68320" y="444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15080" y="462276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51760" y="36921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27680" y="386064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0200" y="2208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con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8297-C545-42BE-BA51-9E06C62D27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ternate View of a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67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 = thread + code, data, and kernel contex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4400" y="2666880"/>
            <a:ext cx="2230200" cy="3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4400" y="2986200"/>
            <a:ext cx="2230200" cy="2538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4400" y="3240000"/>
            <a:ext cx="2230200" cy="289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6880" y="430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4400" y="3529080"/>
            <a:ext cx="2232000" cy="320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71720" y="3597120"/>
            <a:ext cx="2511000" cy="1341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d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regi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 pointer (S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counter (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33960" y="213300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4400" y="3849840"/>
            <a:ext cx="2232000" cy="320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4400" y="4154400"/>
            <a:ext cx="2232000" cy="3207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19320" y="2971800"/>
            <a:ext cx="2230560" cy="318960"/>
          </a:xfrm>
          <a:prstGeom prst="rect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20120" y="30920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0400" y="327672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46120" y="3820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92880" y="4002120"/>
            <a:ext cx="355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560" y="30715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5480" y="3240000"/>
            <a:ext cx="355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42840" y="21330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ad (main threa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44760" y="4797720"/>
            <a:ext cx="19486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1760" y="2666880"/>
            <a:ext cx="3581280" cy="27432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7C0A-8F82-4320-A08C-3A59ACCE0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 Process With Multiple Threa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1039680"/>
            <a:ext cx="7659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ultiple threads can be associated with a 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logical control flow (instruction flow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shares the same code, data, and kernel contex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thread has its own thread ID (TID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78280" y="3090960"/>
            <a:ext cx="1974960" cy="288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8280" y="3379680"/>
            <a:ext cx="1974960" cy="2304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78280" y="3610080"/>
            <a:ext cx="1974960" cy="261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-time h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4520" y="4575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78280" y="387180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/writ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35920" y="2629800"/>
            <a:ext cx="26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ared cod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78280" y="4162320"/>
            <a:ext cx="1976400" cy="290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-only code/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78280" y="4437000"/>
            <a:ext cx="1976400" cy="29052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355760" y="2817000"/>
            <a:ext cx="2085840" cy="2718360"/>
            <a:chOff x="1355760" y="2817000"/>
            <a:chExt cx="2085840" cy="2718360"/>
          </a:xfrm>
        </p:grpSpPr>
        <p:sp>
          <p:nvSpPr>
            <p:cNvPr id="158" name=""/>
            <p:cNvSpPr/>
            <p:nvPr/>
          </p:nvSpPr>
          <p:spPr>
            <a:xfrm>
              <a:off x="135576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1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7168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17760" y="2817000"/>
              <a:ext cx="162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1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main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879720" y="4942080"/>
            <a:ext cx="1928880" cy="1129320"/>
          </a:xfrm>
          <a:prstGeom prst="rect">
            <a:avLst/>
          </a:prstGeom>
          <a:solidFill>
            <a:srgbClr val="ff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contex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 stru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or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k poi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465240" y="2817000"/>
            <a:ext cx="2085840" cy="2718360"/>
            <a:chOff x="6465240" y="2817000"/>
            <a:chExt cx="2085840" cy="2718360"/>
          </a:xfrm>
        </p:grpSpPr>
        <p:sp>
          <p:nvSpPr>
            <p:cNvPr id="163" name=""/>
            <p:cNvSpPr/>
            <p:nvPr/>
          </p:nvSpPr>
          <p:spPr>
            <a:xfrm>
              <a:off x="6465240" y="4193640"/>
              <a:ext cx="2085840" cy="134172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read 2 contex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ndition c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39040" y="3690720"/>
              <a:ext cx="1670040" cy="289080"/>
            </a:xfrm>
            <a:prstGeom prst="rect">
              <a:avLst/>
            </a:pr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c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3880" y="281700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Thread 2 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(peer thread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1EF5-7563-402F-A20D-821AC0B559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reads vs. Processe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66960" y="1096920"/>
            <a:ext cx="789768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simila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has its own logical control flow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can run concurrently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ach is context switche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85920" indent="-38592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ow threads and processes are differ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share code and data, processes (typically) do not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4480" indent="-24588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ads are somewhat less expensive than processe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control (creating and reaping) is twice as expensive as thread control.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6240" indent="-23832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Linux/Pentium III numbers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20K cycles to create and reap a proces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~10K cycles to create and reap a thread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1CB7-3DAC-40B9-934D-EEB3BACF3E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79632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osix Threads (Pthreads) Interfac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63640" y="1028520"/>
            <a:ext cx="795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1960" indent="-38196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ndard interface for ~60 function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ating and reaping thread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reate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jo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termining your thread I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self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rminating thread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anc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ex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it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all threads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 ,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[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rminates current thread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]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6920" indent="-24336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ynchronizing access to shared variable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mutex_[un]lock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in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4720" indent="-2358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hread_cond_[timed]wai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326A-0F2C-42B1-BFE2-6655048B9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2-02T15:02:12Z</dcterms:modified>
  <cp:revision>678</cp:revision>
  <dc:subject/>
  <dc:title>PowerPoint Presentation</dc:title>
</cp:coreProperties>
</file>