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438C-AB7D-480B-B653-25BB9AC72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05A8-CB84-4741-8445-C1302B075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0485-E4D0-403B-8667-6C276F4C8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5F41-4F28-4A3E-8D5D-8343DA038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EAD6-468D-4C37-8C20-7600A5FD5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50BE-C410-4000-B284-5A4CAC28F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29F0-3D1F-4845-BF49-574689A33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DB75-91CC-46B9-B0EC-8F3940615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88A4-7480-4748-A0C5-BBC2BB80C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F8A2-36E7-4738-B5D2-664279417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9462-3016-4FD4-B7F7-4323F6476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9D68-2187-4FA8-9B4E-B3776F7CB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01FB-0515-4FC7-B38B-23AA816A8DD8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nchroniz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of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Dec. 2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Pthreads "hello, world" Prog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D7AA-5AFF-4DDE-9F41-1E1C9B0107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ecution of Threaded“hello, world”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9120" y="1266120"/>
            <a:ext cx="1476000" cy="3975840"/>
            <a:chOff x="3129120" y="1266120"/>
            <a:chExt cx="1476000" cy="3975840"/>
          </a:xfrm>
        </p:grpSpPr>
        <p:sp>
          <p:nvSpPr>
            <p:cNvPr id="181" name=""/>
            <p:cNvSpPr/>
            <p:nvPr/>
          </p:nvSpPr>
          <p:spPr>
            <a:xfrm>
              <a:off x="3129120" y="126612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8040" y="182880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420920" y="314928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1720" y="48002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70600" y="1981080"/>
            <a:ext cx="6397920" cy="1098720"/>
            <a:chOff x="1470600" y="1981080"/>
            <a:chExt cx="6397920" cy="1098720"/>
          </a:xfrm>
        </p:grpSpPr>
        <p:sp>
          <p:nvSpPr>
            <p:cNvPr id="186" name=""/>
            <p:cNvSpPr/>
            <p:nvPr/>
          </p:nvSpPr>
          <p:spPr>
            <a:xfrm>
              <a:off x="6444360" y="24217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38680" y="2200320"/>
              <a:ext cx="3257280" cy="87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0600" y="1981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750680" y="27432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57480" y="3689280"/>
            <a:ext cx="5838480" cy="870120"/>
            <a:chOff x="1257480" y="3689280"/>
            <a:chExt cx="5838480" cy="870120"/>
          </a:xfrm>
        </p:grpSpPr>
        <p:sp>
          <p:nvSpPr>
            <p:cNvPr id="191" name=""/>
            <p:cNvSpPr/>
            <p:nvPr/>
          </p:nvSpPr>
          <p:spPr>
            <a:xfrm flipH="1">
              <a:off x="3886200" y="368928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7480" y="41911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152480" y="3018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195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101960" y="2286000"/>
            <a:ext cx="5994000" cy="1403280"/>
            <a:chOff x="1101960" y="2286000"/>
            <a:chExt cx="5994000" cy="1403280"/>
          </a:xfrm>
        </p:grpSpPr>
        <p:sp>
          <p:nvSpPr>
            <p:cNvPr id="198" name=""/>
            <p:cNvSpPr/>
            <p:nvPr/>
          </p:nvSpPr>
          <p:spPr>
            <a:xfrm>
              <a:off x="7095960" y="30798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01960" y="228600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7956-CCBF-4253-8CDB-9C80A4D46D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read-Based Concurrent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3680" y="11239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8481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C380-D27A-46A7-B039-B8FDD801BE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Based Concurrent Serv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42360" y="1181160"/>
            <a:ext cx="688644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thread-safe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448080" y="1876320"/>
            <a:ext cx="3305160" cy="642600"/>
            <a:chOff x="3448080" y="1876320"/>
            <a:chExt cx="3305160" cy="642600"/>
          </a:xfrm>
        </p:grpSpPr>
        <p:sp>
          <p:nvSpPr>
            <p:cNvPr id="206" name=""/>
            <p:cNvSpPr/>
            <p:nvPr/>
          </p:nvSpPr>
          <p:spPr>
            <a:xfrm flipH="1">
              <a:off x="3448080" y="222876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15120" y="18763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270B-1C1C-4215-B64E-4EBDEDA50A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1: Detached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81392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t any point in time, a thread is eit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read can be reaped and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st be reaped (with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) to free memory resourc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ad cannot be reaped or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sources are automatically reaped on termination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fault state is join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detach(pthread_self()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o make detached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Why should we use detached threads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pthread_join blocks the calling threa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C99C-CB5B-47C9-B267-6B24DB1E73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2: Avoid Unintended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28800" y="234468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r example, what happens if we pass the address of connfd to the thread routine as in the following code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28880" y="1295280"/>
            <a:ext cx="716436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362400"/>
            <a:ext cx="71643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B41C-0D9B-4BF8-8712-9F13DF9ED5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3: Thread-saf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7993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sy to share data structures between threa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we need to do this correctly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call the shell la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ob data struct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ared between main process and signal 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ed ways to synchronize multiple control of flow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64EA-2B9D-40B4-8F53-9463AA06D8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Memory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nceptual model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runs in the context of a proces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has its own separate thread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 ID, stack, stack pointer, program counter, condition codes, and general purpose register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threads share the remaining process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de, data, heap, and shared library segments of the process virtual address spac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pen files and installed handler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7764-8DBB-4481-B460-25DA74C701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ared Variables in Conceptual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17612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lobal variables are shar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ack variables are priva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229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879720" y="49420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234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192B-FB89-4DE4-B0F2-FBE1FAC560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aveats of Conceptual Mode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ractice, any thread can read and write the stack of any other thread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 one can use a global pointer to point to a stack variable. Then all threads can access the stack variabl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this is not a good programming practic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re details in this Thursday’s lect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14DD-C686-42C7-AB53-652FD7EB53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D54F-8571-41C2-B385-A4088E27CA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nchroniz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multiple threads want to access a shared global data structure, we need to synchronize their accesse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ays to do synchronization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tex and condi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BB7F-2315-4C79-920D-77F98E0CAC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447480"/>
            <a:ext cx="7759800" cy="5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ynchroniz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Classic solutio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 Dijkstra's P and V operations o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semapho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maphore: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non-negative integer synchronization 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 (s == 0) wait(); s--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Proberen" (tes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V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++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Verhogen" (incremen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guarantees that operations between brackets [ ] are executed indivisib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P or V operation at a time can modify 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hen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loop in P terminates, only that P can decrement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phore invariant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s &gt;= 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1408-79AA-4C9F-8FE1-F387D87854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Semaphores (in csapp.c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62080" y="128520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C9A6-45F6-4AD3-904C-E440B0F7BF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4800" y="120636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A62B-FF5C-4514-A058-F205F51F53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safety of Library Fun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functions in the Standard C Library (at the back of your K&amp;R text) are thread-saf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s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re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canf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ost Unix system calls are thread-safe, with a few exception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5000" y="33444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F3AE-2F33-430C-8B09-B543BD660D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6840" y="1076040"/>
            <a:ext cx="426060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Rewrite code so caller passes pointer to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uc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changes in caller and calle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73560" y="41140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2680" y="111312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24400" y="3784680"/>
            <a:ext cx="708120" cy="295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D544-4E69-4F18-ACB6-99E93B036D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6840" y="1076400"/>
            <a:ext cx="426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k-and-cop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only simple changes in call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ever, caller must free memor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2680" y="119880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0320" y="37040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1160" y="4745160"/>
            <a:ext cx="1170000" cy="1285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2F9C-B002-4296-A474-8C1CC3EE1B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reading is a clean and efficient way to implement concurrent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ynchronize multiple threads for concurrent accesses to shared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 is one way to do th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is the difficult part of thread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B4ED-DC02-4874-A52B-3E04F7BF7F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urrent Serv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erative servers can only serve one client at a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ncurrent servers are able to handle multiple requests in parall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quired by L7 Part I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52480" y="2925720"/>
            <a:ext cx="6117840" cy="2939760"/>
            <a:chOff x="1752480" y="2925720"/>
            <a:chExt cx="6117840" cy="2939760"/>
          </a:xfrm>
        </p:grpSpPr>
        <p:sp>
          <p:nvSpPr>
            <p:cNvPr id="93" name=""/>
            <p:cNvSpPr/>
            <p:nvPr/>
          </p:nvSpPr>
          <p:spPr>
            <a:xfrm>
              <a:off x="1752480" y="296712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6000" y="292572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1840" y="396468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497052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16000" y="39232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000" y="497052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1360" y="340632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150720" y="457848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60080" y="439524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4360" y="395604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0425-57EB-48D8-BB67-73E74B81D8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ree Ways for Creating Concurrent Serv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0960" y="1116000"/>
            <a:ext cx="76546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rk a child process for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fficult to share data among child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Thread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e a thread to handle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ur focus toda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3. I/O multiplexing with Unix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elect()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o notice pending socket activity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nually interleave the processing of multiple open conne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re complex!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~ implementing your own app-specific thread package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8880" y="2219400"/>
            <a:ext cx="7600680" cy="10382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94C6-D92E-4C03-863D-AD5281F28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raditional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63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process context + code, data,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1912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E0DC-2CCF-438E-9023-D3DFFBCEB1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ternate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67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thread + code, data, and kernel contex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26668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4400" y="29862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4400" y="32400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6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4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1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33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4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4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19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20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040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612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92880" y="400212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5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4284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4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1760" y="266688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94E5-3BA9-4629-BC39-D56D23DF9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Process With Multiple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1039680"/>
            <a:ext cx="7659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ltiple threads can be associated with a 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shares the same code, data, and kernel contex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thread ID (T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158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79720" y="49420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163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9E49-ADF3-4C16-9A29-3D57D2DF87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vs. Process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6960" y="1096920"/>
            <a:ext cx="789768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simil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has its own logical control flow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can run concurrently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is context switche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differ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share code and data, processes (typically) do not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are somewhat less expensive than processe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control (creating and reaping) is twice as expensive as thread control.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inux/Pentium III numbers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20K cycles to create and reap a proces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10K cycles to create and reap a threa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5BC7-6101-44AD-A79C-DA94B8F7B9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Threads (Pthreads)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63640" y="1028520"/>
            <a:ext cx="795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1960" indent="-38196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ndard interface for ~60 fun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ing and reaping thread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reat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termining your thread I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sel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erminating thread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anc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ex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all threads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 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current thread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ynchronizing access to shared variab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[un]loc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[timed]wa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CA75-9ED1-4813-A235-7B01B5B22C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2-02T15:02:12Z</dcterms:modified>
  <cp:revision>678</cp:revision>
  <dc:subject/>
  <dc:title>PowerPoint Presentation</dc:title>
</cp:coreProperties>
</file>