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424988" cy="6923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1C1E9-3BDA-4FFB-AE2E-E246AF30D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05B39-D2D7-43FB-A8D7-713081431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E64C8-A721-4D8A-99E5-58C29B835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C2CCF-61E4-4B2C-BF3C-8584E64807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F2C97-C249-4777-883A-FBE5F06DB1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F32B5-45C6-4D2F-A41A-09F8CB11E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D2BFE-3587-4659-B013-DDBEF49244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EC6B5-134E-4E22-B8DC-CE12D27BC3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CD9D4-7380-44A1-807E-B721F225C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B20D-CBC5-4284-BCFD-C68125D48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939A2-EFF2-4A44-B46C-D7BE3BA6C0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4EC42-BF6E-4525-95C4-0D98A16DF2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D950-BB94-419F-83AE-C9975013F4CC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Anubhav Gup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D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480" y="3733920"/>
            <a:ext cx="5229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tending echo serve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HTTP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Broken pipe erro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eedback and evaluatio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Anubhav Gup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Nov. 25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Server: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open_listenfd</a:t>
            </a:r>
            <a:r>
              <a:rPr b="0" lang="en-US" sz="3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(cont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70560" y="1343160"/>
            <a:ext cx="7861680" cy="4474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Listenfd will be an endpoint for all requests to 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any IP address for this host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family = AF_INET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addr.s_addr = htonl(INADDR_ANY)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port = htons((unsigned short)port)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bind(listenfd,(SA *)&amp;serveraddr,sizeof(serveraddr))&lt;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Make it a listening socket ready to accep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ion request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listen(listenfd, LISTENQ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isten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1800360"/>
            <a:ext cx="7572600" cy="21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57320" y="4000680"/>
            <a:ext cx="7572240" cy="1161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FA55-B0BE-416C-90B8-349936F227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5469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Server: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echo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1809720"/>
            <a:ext cx="7277040" cy="3014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echo(int connfd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_t n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buf[MAXLINE]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initb(&amp;rio, connfd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(n = Rio_readlineb(&amp;rio, buf, MAXLINE)) != 0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 received %d bytes\n", 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writen(connfd, buf, 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9EB07-BEC2-45DA-8CFC-5EDE4664A8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xy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36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proxy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s an intermediary between a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lient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and a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origin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 server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o the client, the proxy acts like a server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o the server, the proxy acts like a client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114640" y="3726000"/>
            <a:ext cx="6080040" cy="1025280"/>
            <a:chOff x="2114640" y="3726000"/>
            <a:chExt cx="6080040" cy="1025280"/>
          </a:xfrm>
        </p:grpSpPr>
        <p:sp>
          <p:nvSpPr>
            <p:cNvPr id="187" name=""/>
            <p:cNvSpPr/>
            <p:nvPr/>
          </p:nvSpPr>
          <p:spPr>
            <a:xfrm>
              <a:off x="2114640" y="3773520"/>
              <a:ext cx="1431720" cy="97776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468240" y="3997440"/>
              <a:ext cx="3436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10480" y="3726000"/>
              <a:ext cx="1384200" cy="102528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3452400" y="4527720"/>
              <a:ext cx="3427560" cy="9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581360" y="3735360"/>
            <a:ext cx="1384560" cy="10256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030D-1DD3-4E6A-A75B-5D635BCE0723}" type="slidenum">
              <a:t>12</a:t>
            </a:fld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hanging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”echo”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procedur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9320" y="1133280"/>
            <a:ext cx="7248240" cy="4971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echo_forward(int connfd, char *server, int server_port)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  forwardfd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o_t rio_conn, rio_forward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size_t n;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 buf[MAXLINE];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connect to the server */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wardfd = Open_clientfd(server, server_port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o_readinitb(&amp;rio_forward, forwardfd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o_readinitb(&amp;rio_conn, connfd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(n = Rio_readlineb(&amp;rio_conn, buf, MAXLINE)) == 0)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o_writen(forwardfd, buf, n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(n = Rio_readlineb(&amp;rio_forward, buf, MAXLINE)) == 0)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o_writen(connfd, buf, n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ose(forwardfd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42960" y="2590920"/>
            <a:ext cx="6610320" cy="771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42960" y="3914640"/>
            <a:ext cx="6610320" cy="704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33600" y="4724280"/>
            <a:ext cx="6610320" cy="704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79F7B-C40B-49B4-BD00-B9BF69A0C3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hanging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mai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71080"/>
            <a:ext cx="7315200" cy="491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main(int argc, char **argv)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listenfd, connfd, port, clientlen, server_por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uct hostent *hp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 *haddrp, *server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rt = atoi(argv[1]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erver = argv[2]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erver_port = atoi(argv[3]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stenfd = Open_listenfd(port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ientlen = sizeof(clientaddr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nnfd = Accept(listenfd, (SA *)&amp;clientaddr, &amp;clientlen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echo_forward(connfd, server, server_port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C2AAD-00DD-4BCF-B9D0-8A910CEEFA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7 Prox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ifferent request and response (HTTP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ncurrenc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266920" y="2811600"/>
            <a:ext cx="6080040" cy="1025280"/>
            <a:chOff x="2266920" y="2811600"/>
            <a:chExt cx="6080040" cy="1025280"/>
          </a:xfrm>
        </p:grpSpPr>
        <p:sp>
          <p:nvSpPr>
            <p:cNvPr id="202" name=""/>
            <p:cNvSpPr/>
            <p:nvPr/>
          </p:nvSpPr>
          <p:spPr>
            <a:xfrm>
              <a:off x="2266920" y="2859120"/>
              <a:ext cx="1431720" cy="97776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3620520" y="3083040"/>
              <a:ext cx="3436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62760" y="2811600"/>
              <a:ext cx="1384200" cy="102528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604680" y="3613320"/>
              <a:ext cx="3427560" cy="9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734000" y="2820960"/>
            <a:ext cx="1384200" cy="10256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05080" y="4373640"/>
            <a:ext cx="1431720" cy="97776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658680" y="4597560"/>
            <a:ext cx="3436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0920" y="4325760"/>
            <a:ext cx="1384200" cy="1025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3642840" y="5127120"/>
            <a:ext cx="3427560" cy="9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72160" y="4335480"/>
            <a:ext cx="1384200" cy="1025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1E175-B04B-482E-92D3-67ABCA8031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TTP Request and Respons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et’s use telnet to examine a simple HTTP request and respons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ore details in Tuesday’s lectur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6F2A8-D843-4E71-A984-3E1BB5ADD2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TTP Request and Respons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[chensm@bass ~]$ telnet www.cmu.edu 80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Trying 128.2.11.43..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Connected to WEB3.andrew.cmu.edu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Escape character is '^]'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GET / HTTP/1.1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host: www.cmu.edu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HTTP/1.1 200 OK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Date: Sun, 24 Nov 2002 21:52:53 GMT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Server: Apache/1.3.26 (Unix) PHP/4.2.2 mod_pubcookie/a5/1.76-009 mod_ssl/2.8.10 OpenSSL/0.9.6d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Last-Modified: Thu, 21 Nov 2002 15:28:47 GMT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ETag: "d3226-38b1-3ddcfbaf"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Accept-Ranges: bytes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Content-Length: 14513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Content-Type: text/html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HTML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HEAD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TITLE&gt; Carnegie Mellon University &lt;/TITLE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/HEAD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. . . . . 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71440" y="2076480"/>
            <a:ext cx="7296120" cy="619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71440" y="2695680"/>
            <a:ext cx="7296120" cy="3429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2ACFC-961D-4F9D-90FC-DC1EF20F9E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0" dur="1" fill="hold"/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TTP Reques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GET / HTTP/1.1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host: www.cmu.edu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71440" y="2019240"/>
            <a:ext cx="7296120" cy="619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52720" y="1257480"/>
            <a:ext cx="52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quest line: &lt;method&gt; &lt;uri&gt; &lt;vers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33800" y="3095640"/>
            <a:ext cx="56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quest headers: &lt;header name&gt;: &lt;header dat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857320" y="1590840"/>
            <a:ext cx="12286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3133800" y="2409840"/>
            <a:ext cx="1542960" cy="70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1238040" y="2533320"/>
            <a:ext cx="1238040" cy="14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24200" y="3952800"/>
            <a:ext cx="56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\r\n’ to mark the end of the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FF94E-6C63-4F2B-9AE5-BD1071418D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TTP Respons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HTTP/1.1 200 OK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Date: Sun, 24 Nov 2002 21:52:53 GMT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Server: Apache/1.3.26 (Unix) PHP/4.2.2 mod_pubcookie/a5/1.76-009 mod_ssl/2.8.10 OpenSSL/0.9.6d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Last-Modified: Thu, 21 Nov 2002 15:28:47 GMT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ETag: "d3226-38b1-3ddcfbaf"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Accept-Ranges: bytes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Content-Length: 14513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Content-Type: text/html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HTML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HEAD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TITLE&gt; Carnegie Mellon University &lt;/TITLE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/HEAD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. . . . . 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71440" y="2695680"/>
            <a:ext cx="7296120" cy="3429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28880" y="1257480"/>
            <a:ext cx="67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ponse line: &lt;version&gt; &lt;status code&gt; &lt;status ms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914480" y="1590840"/>
            <a:ext cx="247680" cy="11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33800" y="2066760"/>
            <a:ext cx="56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ponse headers: &lt;header name&gt;: &lt;header dat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076280" y="2467080"/>
            <a:ext cx="63828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0" y="461952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\r\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1314000" y="4629240"/>
            <a:ext cx="262908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62560" y="458136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ponse  body: Web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09600" y="496260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73E40-599D-4274-BE45-85189A66C4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mportant Dat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ab 7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Proxy: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due on Thursday, Dec 5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nal Exam: Tuesday, Dec 17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EA9A4-5849-4976-80DB-FA01CA5B27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roken Pipe Erro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en reading or writing to a socke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f the socket has already been closed at the other en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.g. click “stop” on web browser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GPIPE signal and EPIPE errno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on’t want to terminate the web serve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FD7A1-02FB-4880-A880-2A4A920459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tai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ead from a broken pip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Kernel returns -1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rrno is set to EPIP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rite to a broken pip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r the first write, return -1 and set EPIP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r subsequent writes,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end SIGPIPE signal, which terminates proces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f the signal is blocked or handled, return -1 and set EPIPE.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ample of broken pipe with echo serve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12164-9BBE-42AB-ABCD-3837AE5773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ow to deal with broken pipe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lock SIGPIPE signa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gnore EPIPE error in Rio wrappers of csapp.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xample of how we handle broken pipe in echo server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 server main(), we block SIGPIPE signa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 csapp.c, we ignore EPIPE error in Rio wrappe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 echo(), deal with cases when return value is -1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66046-B84A-4AD3-8F7A-DE056E561D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eedback and Evalu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A9247-6525-453B-A657-2A7E756A83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tending Echo Serv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will recap the echo client and server  taught in the last lectur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n we will extend the echo server to build an echo prox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1EEB2-8B65-4C41-8D6A-7C65467E7D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37880" y="417600"/>
            <a:ext cx="71578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n Echo Client-Server Transac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14640" y="2220840"/>
            <a:ext cx="1431720" cy="978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468240" y="2406600"/>
            <a:ext cx="3436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10480" y="2173320"/>
            <a:ext cx="1384200" cy="10256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13600" y="2080800"/>
            <a:ext cx="28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. Client sends an inpu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452400" y="3022200"/>
            <a:ext cx="3427560" cy="9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72680" y="3177720"/>
            <a:ext cx="436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. Server sends the same text as it rece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00960" y="3232800"/>
            <a:ext cx="182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. Cl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splays the text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t rece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C6A14-3C57-4F29-B47C-EC5B2EBF2F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5310360" y="4835520"/>
            <a:ext cx="1347480" cy="1238400"/>
            <a:chOff x="5310360" y="4835520"/>
            <a:chExt cx="1347480" cy="1238400"/>
          </a:xfrm>
        </p:grpSpPr>
        <p:sp>
          <p:nvSpPr>
            <p:cNvPr id="101" name=""/>
            <p:cNvSpPr/>
            <p:nvPr/>
          </p:nvSpPr>
          <p:spPr>
            <a:xfrm>
              <a:off x="6019920" y="48355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310360" y="5119560"/>
              <a:ext cx="1347480" cy="954360"/>
              <a:chOff x="5310360" y="5119560"/>
              <a:chExt cx="1347480" cy="954360"/>
            </a:xfrm>
          </p:grpSpPr>
          <p:sp>
            <p:nvSpPr>
              <p:cNvPr id="103" name=""/>
              <p:cNvSpPr/>
              <p:nvPr/>
            </p:nvSpPr>
            <p:spPr>
              <a:xfrm>
                <a:off x="6019920" y="5454720"/>
                <a:ext cx="0" cy="27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10360" y="5119560"/>
                <a:ext cx="1347480" cy="3430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rio_readline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10360" y="5729400"/>
                <a:ext cx="1347480" cy="3445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lo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2685960" y="4835520"/>
            <a:ext cx="2624400" cy="628560"/>
            <a:chOff x="2685960" y="4835520"/>
            <a:chExt cx="2624400" cy="628560"/>
          </a:xfrm>
        </p:grpSpPr>
        <p:sp>
          <p:nvSpPr>
            <p:cNvPr id="107" name=""/>
            <p:cNvSpPr/>
            <p:nvPr/>
          </p:nvSpPr>
          <p:spPr>
            <a:xfrm>
              <a:off x="3395520" y="48355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32440" y="5302080"/>
              <a:ext cx="1177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85960" y="5121360"/>
              <a:ext cx="1419480" cy="3427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41680" y="49932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685960" y="3597120"/>
            <a:ext cx="3971880" cy="1257480"/>
            <a:chOff x="2685960" y="3597120"/>
            <a:chExt cx="3971880" cy="1257480"/>
          </a:xfrm>
        </p:grpSpPr>
        <p:sp>
          <p:nvSpPr>
            <p:cNvPr id="112" name=""/>
            <p:cNvSpPr/>
            <p:nvPr/>
          </p:nvSpPr>
          <p:spPr>
            <a:xfrm>
              <a:off x="3395520" y="35971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95520" y="42163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19920" y="35971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19920" y="42163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05440" y="4064040"/>
              <a:ext cx="12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105080" y="4683240"/>
              <a:ext cx="12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10360" y="3902040"/>
              <a:ext cx="1347480" cy="343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readlin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10360" y="4510080"/>
              <a:ext cx="1347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wri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85960" y="4510080"/>
              <a:ext cx="1419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readlin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85960" y="3902040"/>
              <a:ext cx="1419480" cy="343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wri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310360" y="2378160"/>
            <a:ext cx="1347480" cy="619200"/>
            <a:chOff x="5310360" y="2378160"/>
            <a:chExt cx="1347480" cy="619200"/>
          </a:xfrm>
        </p:grpSpPr>
        <p:sp>
          <p:nvSpPr>
            <p:cNvPr id="123" name=""/>
            <p:cNvSpPr/>
            <p:nvPr/>
          </p:nvSpPr>
          <p:spPr>
            <a:xfrm>
              <a:off x="6019920" y="2378160"/>
              <a:ext cx="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10360" y="2652840"/>
              <a:ext cx="1347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10360" y="1768320"/>
            <a:ext cx="1347480" cy="619200"/>
            <a:chOff x="5310360" y="1768320"/>
            <a:chExt cx="1347480" cy="619200"/>
          </a:xfrm>
        </p:grpSpPr>
        <p:sp>
          <p:nvSpPr>
            <p:cNvPr id="126" name=""/>
            <p:cNvSpPr/>
            <p:nvPr/>
          </p:nvSpPr>
          <p:spPr>
            <a:xfrm>
              <a:off x="6019920" y="1768320"/>
              <a:ext cx="0" cy="2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10360" y="2044800"/>
              <a:ext cx="1347480" cy="3427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bi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eview of the Sockets Interfac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17520" y="10220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7240" y="103644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85960" y="1434960"/>
            <a:ext cx="14194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10360" y="1434960"/>
            <a:ext cx="13474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310360" y="3006720"/>
            <a:ext cx="1347480" cy="630360"/>
            <a:chOff x="5310360" y="3006720"/>
            <a:chExt cx="1347480" cy="630360"/>
          </a:xfrm>
        </p:grpSpPr>
        <p:sp>
          <p:nvSpPr>
            <p:cNvPr id="134" name=""/>
            <p:cNvSpPr/>
            <p:nvPr/>
          </p:nvSpPr>
          <p:spPr>
            <a:xfrm>
              <a:off x="6019920" y="30067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10360" y="3292560"/>
              <a:ext cx="1347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ccep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85960" y="1776240"/>
            <a:ext cx="1419480" cy="1860840"/>
            <a:chOff x="2685960" y="1776240"/>
            <a:chExt cx="1419480" cy="1860840"/>
          </a:xfrm>
        </p:grpSpPr>
        <p:sp>
          <p:nvSpPr>
            <p:cNvPr id="137" name=""/>
            <p:cNvSpPr/>
            <p:nvPr/>
          </p:nvSpPr>
          <p:spPr>
            <a:xfrm>
              <a:off x="3395520" y="1776240"/>
              <a:ext cx="0" cy="151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85960" y="3292560"/>
              <a:ext cx="1419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onn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000680" y="2865600"/>
            <a:ext cx="1309680" cy="580680"/>
            <a:chOff x="4000680" y="2865600"/>
            <a:chExt cx="1309680" cy="580680"/>
          </a:xfrm>
        </p:grpSpPr>
        <p:sp>
          <p:nvSpPr>
            <p:cNvPr id="140" name=""/>
            <p:cNvSpPr/>
            <p:nvPr/>
          </p:nvSpPr>
          <p:spPr>
            <a:xfrm>
              <a:off x="4094280" y="3444840"/>
              <a:ext cx="1216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00680" y="2865600"/>
              <a:ext cx="129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657840" y="3444480"/>
            <a:ext cx="2320920" cy="2476800"/>
            <a:chOff x="6657840" y="3444480"/>
            <a:chExt cx="2320920" cy="2476800"/>
          </a:xfrm>
        </p:grpSpPr>
        <p:sp>
          <p:nvSpPr>
            <p:cNvPr id="143" name=""/>
            <p:cNvSpPr/>
            <p:nvPr/>
          </p:nvSpPr>
          <p:spPr>
            <a:xfrm>
              <a:off x="6657840" y="5921280"/>
              <a:ext cx="42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083360" y="3444480"/>
              <a:ext cx="0" cy="247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6657840" y="3444840"/>
              <a:ext cx="42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23320" y="4106160"/>
              <a:ext cx="1855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wait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quest fr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xt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799320" y="1450800"/>
            <a:ext cx="142920" cy="1581480"/>
          </a:xfrm>
          <a:custGeom>
            <a:avLst/>
            <a:gdLst>
              <a:gd name="textAreaLeft" fmla="*/ 0 w 142920"/>
              <a:gd name="textAreaRight" fmla="*/ 51480 w 142920"/>
              <a:gd name="textAreaTop" fmla="*/ 41040 h 1581480"/>
              <a:gd name="textAreaBottom" fmla="*/ 1540440 h 15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83920" y="20538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_listen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03360" y="1450800"/>
            <a:ext cx="141480" cy="2200320"/>
          </a:xfrm>
          <a:custGeom>
            <a:avLst/>
            <a:gdLst>
              <a:gd name="textAreaLeft" fmla="*/ 90360 w 141480"/>
              <a:gd name="textAreaRight" fmla="*/ 141840 w 141480"/>
              <a:gd name="textAreaTop" fmla="*/ 57240 h 2200320"/>
              <a:gd name="textAreaBottom" fmla="*/ 2143080 h 220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3160" y="23778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_client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60D68-33B8-473F-9C67-67EB5968260B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2920" y="733320"/>
            <a:ext cx="8658360" cy="59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Client Main Routin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68440" y="838080"/>
            <a:ext cx="6154920" cy="56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usage: ./echoclient host por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lientfd, por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host, buf[MAXLINE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 = argv[1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2]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 =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Open_clientf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host, por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initb(&amp;rio, clientfd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Fgets(buf, MAXLINE, stdin) != NULL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writen(clientfd, buf, strlen(buf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lineb(&amp;rio, buf, MAXLINE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puts(buf, stdou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lientfd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71760" y="2971800"/>
            <a:ext cx="5981400" cy="714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71760" y="3762360"/>
            <a:ext cx="5981400" cy="314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71760" y="4095720"/>
            <a:ext cx="5981400" cy="1666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2040" y="5762520"/>
            <a:ext cx="5981760" cy="295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AADE5-BE8C-4206-A994-4233DE05AF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2920" y="733320"/>
            <a:ext cx="8658360" cy="59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Client: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open_clientf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3560" y="857160"/>
            <a:ext cx="8178840" cy="56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open_clientfd(char *hostname, int por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lient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*h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serveradd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clientfd = socket(AF_INET, SOCK_STREAM, 0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/* check errno for cause of erro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Fill in the server's IP address and port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hp = gethostbyname(hostname)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2; /* check h_errno for cause of erro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family = AF_INE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copy((char *)hp-&gt;h_addr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har *)&amp;serveraddr.sin_addr.s_addr, hp-&gt;h_length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port = htons(por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Establish a connection with the serve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connect(clientfd, (SA *)&amp;serveraddr, sizeof(serveraddr))&lt;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client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76840" y="1162080"/>
            <a:ext cx="3276720" cy="8240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function opens a connection from the client to the server a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hostname: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05040" y="2257560"/>
            <a:ext cx="7476840" cy="714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5040" y="3048120"/>
            <a:ext cx="7476840" cy="2057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5286240"/>
            <a:ext cx="789624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B6416-D6C4-4AAE-8C4D-0A64093E67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2920" y="733320"/>
            <a:ext cx="8658360" cy="59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Server: Main Routin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5720" y="990720"/>
            <a:ext cx="834948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connfd, port, clientl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*h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haddr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1]); /* the server listens on a port pass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the command l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 = sizeof(clientaddr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 (SA *)&amp;clientaddr, 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p = Gethostbyaddr((const char *)&amp;clientaddr.sin_addr.s_add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of(clientaddr.sin_addr.s_addr), AF_IN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ddrp = inet_ntoa(clientaddr.sin_add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 connected to %s (%s)\n", hp-&gt;h_name, haddr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cho(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05040" y="2467080"/>
            <a:ext cx="8048520" cy="50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05040" y="2971800"/>
            <a:ext cx="8048520" cy="34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05040" y="3695760"/>
            <a:ext cx="8048520" cy="51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05040" y="4210200"/>
            <a:ext cx="8048520" cy="1000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05040" y="5210280"/>
            <a:ext cx="8048520" cy="247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5040" y="5457960"/>
            <a:ext cx="8048520" cy="247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C78F4-AE7B-4341-BC71-0FED2E24FE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Server: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open_listenf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9920" y="1231920"/>
            <a:ext cx="7861680" cy="374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open_listenfd(int port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optval=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serveradd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reate a socket descripto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listenfd = socket(AF_INET, SOCK_STREAM, 0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Eliminates "Address already in use" error from bind.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tsockopt(listenfd, SOL_SOCKET, SO_REUSEADDR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onst void *)&amp;optval , sizeof(int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 (more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95480" y="2476440"/>
            <a:ext cx="7572240" cy="771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95480" y="3362400"/>
            <a:ext cx="7572240" cy="1209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ADFA5-E6BA-466E-972F-C9A83C77E1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ubhav Gupta</cp:lastModifiedBy>
  <dcterms:modified xsi:type="dcterms:W3CDTF">2002-11-25T16:40:18Z</dcterms:modified>
  <cp:revision>612</cp:revision>
  <dc:subject/>
  <dc:title>PowerPoint Presentation</dc:title>
</cp:coreProperties>
</file>