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1D14-D554-4E20-A9B8-9743822AF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48D7-C474-4DD2-ADE3-B9DB4EC6D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9A76-3CB3-42E5-B79E-D0D79B44E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2912-70B5-4C06-AEF4-4EF4EC1CF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6804-620F-4A1F-8174-5923E8AEA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98CC3-ED1A-4F39-A592-E1118291C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BFBA-CDF7-4F36-B2C2-9421F67A5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4AA62-F183-4969-8D01-4512C3478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27F5-B534-4A04-84AA-44A8B7E40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E1C9-EFB9-4A1C-8216-CEAB01BD3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5E64-1ED7-4206-96AC-1508850E5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2D7D-3E89-40F9-BFFF-EDA868822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BC8B-136C-4726-BF29-DFF45DBF2D37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nubhav Gup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D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Anubhav Gup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25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r>
              <a:rPr b="0" lang="en-US" sz="3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0560" y="134316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800360"/>
            <a:ext cx="7572600" cy="21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7320" y="4000680"/>
            <a:ext cx="7572240" cy="116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6C54-1F8D-4655-9E33-CF0C9D39B4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ech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09720"/>
            <a:ext cx="727704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3BE7-6B15-45BD-9641-DE6AB34906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x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an intermediary between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serv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client, the proxy acts like a server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server, the proxy acts like a client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4640" y="3726000"/>
            <a:ext cx="6080040" cy="1025280"/>
            <a:chOff x="2114640" y="3726000"/>
            <a:chExt cx="6080040" cy="1025280"/>
          </a:xfrm>
        </p:grpSpPr>
        <p:sp>
          <p:nvSpPr>
            <p:cNvPr id="187" name=""/>
            <p:cNvSpPr/>
            <p:nvPr/>
          </p:nvSpPr>
          <p:spPr>
            <a:xfrm>
              <a:off x="2114640" y="37735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68240" y="39974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7260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452400" y="45277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81360" y="3735360"/>
            <a:ext cx="138456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71ED-0F83-4630-8739-988636C7786F}" type="slidenum">
              <a:t>12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”echo”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proced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133280"/>
            <a:ext cx="7248240" cy="497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2590920"/>
            <a:ext cx="661032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2960" y="391464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472428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C127-B70D-4AA8-87D9-0DA2AC61AF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71080"/>
            <a:ext cx="7315200" cy="491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539D-D3CD-4C49-97B8-822B123AB8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7 Prox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request and response (HTTP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6920" y="2811600"/>
            <a:ext cx="6080040" cy="1025280"/>
            <a:chOff x="2266920" y="2811600"/>
            <a:chExt cx="6080040" cy="1025280"/>
          </a:xfrm>
        </p:grpSpPr>
        <p:sp>
          <p:nvSpPr>
            <p:cNvPr id="202" name=""/>
            <p:cNvSpPr/>
            <p:nvPr/>
          </p:nvSpPr>
          <p:spPr>
            <a:xfrm>
              <a:off x="2266920" y="28591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620520" y="30830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2760" y="28116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04680" y="36133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34000" y="282096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4373640"/>
            <a:ext cx="1431720" cy="977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8680" y="459756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432576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42840" y="512712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2160" y="433548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F7B0-3768-473F-9132-B5B6775D2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telnet to examine a simple HTTP request and respon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ore details in Tuesday’s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1C76-1914-459E-B521-ADB1795276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[chensm@bass ~]$ telnet www.cmu.edu 80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rying 128.2.11.43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nected to WEB3.andrew.cmu.edu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scape character is '^]'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1440" y="207648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1F01-05C1-439E-B1AF-87900D06C1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1440" y="201924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2720" y="125748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309564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57320" y="1590840"/>
            <a:ext cx="1228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33800" y="2409840"/>
            <a:ext cx="1542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238040" y="2533320"/>
            <a:ext cx="1238040" cy="14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39528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5D61-8128-48E2-AA35-534E832182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12574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14480" y="1590840"/>
            <a:ext cx="24768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20667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76280" y="2467080"/>
            <a:ext cx="6382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0" y="46195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314000" y="4629240"/>
            <a:ext cx="26290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4581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9600" y="496260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C49F-9566-462B-B1AD-725F96EB9D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01CE-10C6-4D69-8622-99004A74F0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reading or writing to a socke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the socket has already been closed at the other e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click “stop” on web brows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PIPE signal and EPIPE errn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n’t want to terminate the web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87F0-653F-46B3-B9C8-1BABF389FA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d from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Kernel returns -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no is set to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to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the first write, return -1 and set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subsequent write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nd SIGPIPE signal, which terminates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the signal is blocked or handled, return -1 and set EPIPE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 of broken pipe with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2CA6-D290-44F8-8888-7CB14E933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deal with broken pip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 SIGPIP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gnore EPIPE error in Rio wrappers of csapp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ample of how we handle broken pipe in echo 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server main(), we block SIGPIPE sign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csapp.c, we ignore EPIPE error in Rio wrapp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cho(), deal with cases when return value is -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6F1E-19C6-4C00-88E6-7F9148744B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DAC3-FD91-4F37-A009-F354AEC4CC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will recap the echo client and server  taught in the last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n we will extend the echo server to build an echo prox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1486-241E-4344-9333-9C65D3A45F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7880" y="417600"/>
            <a:ext cx="7157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Echo Client-Server Trans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4640" y="2220840"/>
            <a:ext cx="143172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68240" y="240660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0480" y="217332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3600" y="20808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52400" y="302220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2680" y="3177720"/>
            <a:ext cx="43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960" y="32328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75079-8F1D-44F4-A347-EF8260EAD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1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07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2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23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26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view of the Sockets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34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37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0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43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F17B-3B3A-470C-8961-E3EC4F6F773D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68440" y="83808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1760" y="2971800"/>
            <a:ext cx="598140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3762360"/>
            <a:ext cx="598140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1760" y="4095720"/>
            <a:ext cx="5981400" cy="16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5762520"/>
            <a:ext cx="5981760" cy="29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DA4B-BC4C-405F-A5EC-5E6C78D3C0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client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560" y="85716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11620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5040" y="2257560"/>
            <a:ext cx="747684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5040" y="3048120"/>
            <a:ext cx="747684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28624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E3EE-21A3-4B01-96E0-558E5C1BF9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27AF1-5161-4646-841A-ED283119CF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992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247644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336240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444F-E36C-41CF-88FC-EA8114916F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ubhav Gupta</cp:lastModifiedBy>
  <dcterms:modified xsi:type="dcterms:W3CDTF">2002-11-25T16:40:18Z</dcterms:modified>
  <cp:revision>612</cp:revision>
  <dc:subject/>
  <dc:title>PowerPoint Presentation</dc:title>
</cp:coreProperties>
</file>