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3E01-28AD-42C2-9AFB-64482F4FC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5A46-5A1A-440B-8312-C264E40C3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1F6E-DA3A-4112-B87F-B275C92B8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B744-1649-4BDC-A4EF-7418E5343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8F50-666E-4E53-BA08-769929CF7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088A-D438-41EC-83E8-F4F5F3361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E81B-13BF-4470-AF2B-5028CECDF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A51D-2FDE-46A1-8034-9C67EEE5F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C299-A278-4AF9-9F09-56A3C5FB1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A2E7-706C-420B-8654-0F5BFE809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2D01-B583-4070-9399-976536B0D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887B-9F66-47AB-8061-84636649C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DB8A-CF20-4FDC-9B4A-F27A5F23509E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3733920"/>
            <a:ext cx="522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TT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eedback and evaluation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25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r>
              <a:rPr b="0" lang="en-US" sz="3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0560" y="1343160"/>
            <a:ext cx="78616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bind(listenfd,(SA *)&amp;serveraddr,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800360"/>
            <a:ext cx="7572600" cy="21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7320" y="4000680"/>
            <a:ext cx="7572240" cy="1161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25FA-FD3E-47E1-96A0-DA920967D2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ech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809720"/>
            <a:ext cx="727704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4446-432B-42FB-92DB-89A48686F6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x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an intermediary between 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i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server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client, the proxy acts like a server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server, the proxy acts like a client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14640" y="3726000"/>
            <a:ext cx="6080040" cy="1025280"/>
            <a:chOff x="2114640" y="3726000"/>
            <a:chExt cx="6080040" cy="1025280"/>
          </a:xfrm>
        </p:grpSpPr>
        <p:sp>
          <p:nvSpPr>
            <p:cNvPr id="187" name=""/>
            <p:cNvSpPr/>
            <p:nvPr/>
          </p:nvSpPr>
          <p:spPr>
            <a:xfrm>
              <a:off x="2114640" y="37735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468240" y="39974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10480" y="37260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452400" y="45277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81360" y="3735360"/>
            <a:ext cx="138456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FF3F-0616-44D3-9548-5926388073AD}" type="slidenum">
              <a:t>12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”echo”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proced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133280"/>
            <a:ext cx="7248240" cy="497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echo_forward(int connfd, char *server, int server_port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forwardf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t rio_conn, rio_forwar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n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buf[MAXLINE]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nnect to the server */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wardfd = Open_clientfd(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forward, 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conn, 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conn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forward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forward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conn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2960" y="2590920"/>
            <a:ext cx="661032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2960" y="391464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33600" y="472428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0FBE-3F22-44B5-870C-7E939D461B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mai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71080"/>
            <a:ext cx="7315200" cy="491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int argc, char **argv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listenfd, connfd, port, clientlen, server_por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*haddrp, *serve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 = argv[2]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_port = atoi(argv[3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_forward(connfd, 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9073-3A15-46B4-9277-0D056214A3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7 Prox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request and response (HTTP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6920" y="2811600"/>
            <a:ext cx="6080040" cy="1025280"/>
            <a:chOff x="2266920" y="2811600"/>
            <a:chExt cx="6080040" cy="1025280"/>
          </a:xfrm>
        </p:grpSpPr>
        <p:sp>
          <p:nvSpPr>
            <p:cNvPr id="202" name=""/>
            <p:cNvSpPr/>
            <p:nvPr/>
          </p:nvSpPr>
          <p:spPr>
            <a:xfrm>
              <a:off x="2266920" y="28591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620520" y="30830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62760" y="28116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604680" y="36133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734000" y="282096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4373640"/>
            <a:ext cx="1431720" cy="9777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58680" y="459756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0920" y="432576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642840" y="512712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72160" y="433548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2624-5BCB-4942-B188-9C06CA5C38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use telnet to examine a simple HTTP request and respon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ore details in Tuesday’s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2A82-FC3C-4602-B86B-84DB765FD7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[chensm@bass ~]$ telnet www.cmu.edu 80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rying 128.2.11.43..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nected to WEB3.andrew.cmu.edu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scape character is '^]'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71440" y="207648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3A84-A866-4696-A745-58C793A8A4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0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71440" y="201924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52720" y="125748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line: &lt;method&gt; &lt;uri&gt; &lt;vers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3800" y="309564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57320" y="1590840"/>
            <a:ext cx="1228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133800" y="2409840"/>
            <a:ext cx="154296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238040" y="2533320"/>
            <a:ext cx="1238040" cy="14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4200" y="395280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 to mark the end of th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AA27-F645-4D65-86D8-D5DB0868E2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8880" y="125748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line: &lt;version&gt; &lt;status code&gt; &lt;status ms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914480" y="1590840"/>
            <a:ext cx="247680" cy="11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3800" y="206676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76280" y="2467080"/>
            <a:ext cx="63828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0" y="461952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314000" y="4629240"/>
            <a:ext cx="262908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62560" y="45813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 body: Web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9600" y="496260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8E16-CADC-4A1C-941B-ABEF3749D3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51F6-900B-4118-A54E-45E8B31B37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en reading or writing to a socke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the socket has already been closed at the other en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click “stop” on web brows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PIPE signal and EPIPE errn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n’t want to terminate the web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FE50-201D-40C7-9513-865A9BB69F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ta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rite to a broken pip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the first write, return -1 and set EPI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subsequent writes,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nd SIGPIPE signal, which terminates proc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the signal is blocked or handled, return -1 and set EPIPE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ple of broken pipe with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A725-5D1F-4AFE-B5A0-BFFE917D06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 to deal with broken pipe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lock SIGPIPE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gnore EPIPE error in Rio wrappers of csapp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ample of how we handle broken pipe in echo serv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server main(), we block SIGPIPE sign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csapp.c, we ignore EPIPE error in Rio wrappe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echo(), deal with cases when return value is -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034E-805A-47B3-9B59-2827E385EF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eedback and Evalu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2695680"/>
            <a:ext cx="73152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17AA-C934-4BF4-80B6-88D69A1688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will recap the echo client and server  taught in the last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n we will extend the echo server to build an echo prox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43BC-3E05-4B9A-97EF-CA021C9378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7880" y="417600"/>
            <a:ext cx="7157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Echo Client-Server Transac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4640" y="2220840"/>
            <a:ext cx="1431720" cy="978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68240" y="240660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10480" y="217332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3600" y="2080800"/>
            <a:ext cx="28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Client sends an inpu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52400" y="302220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72680" y="3177720"/>
            <a:ext cx="43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Server sends the same text as 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0960" y="3232800"/>
            <a:ext cx="182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splays the tex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1F87-0E33-4F36-B32E-24A0229A4C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10360" y="4835520"/>
            <a:ext cx="1347480" cy="1238400"/>
            <a:chOff x="5310360" y="4835520"/>
            <a:chExt cx="1347480" cy="1238400"/>
          </a:xfrm>
        </p:grpSpPr>
        <p:sp>
          <p:nvSpPr>
            <p:cNvPr id="101" name=""/>
            <p:cNvSpPr/>
            <p:nvPr/>
          </p:nvSpPr>
          <p:spPr>
            <a:xfrm>
              <a:off x="60199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310360" y="5119560"/>
              <a:ext cx="1347480" cy="954360"/>
              <a:chOff x="5310360" y="5119560"/>
              <a:chExt cx="1347480" cy="954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019920" y="5454720"/>
                <a:ext cx="0" cy="27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10360" y="5119560"/>
                <a:ext cx="1347480" cy="343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rio_readline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10360" y="5729400"/>
                <a:ext cx="1347480" cy="344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85960" y="4835520"/>
            <a:ext cx="2624400" cy="628560"/>
            <a:chOff x="2685960" y="4835520"/>
            <a:chExt cx="2624400" cy="628560"/>
          </a:xfrm>
        </p:grpSpPr>
        <p:sp>
          <p:nvSpPr>
            <p:cNvPr id="107" name=""/>
            <p:cNvSpPr/>
            <p:nvPr/>
          </p:nvSpPr>
          <p:spPr>
            <a:xfrm>
              <a:off x="33955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32440" y="530208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5960" y="5121360"/>
              <a:ext cx="1419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41680" y="499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85960" y="3597120"/>
            <a:ext cx="3971880" cy="1257480"/>
            <a:chOff x="2685960" y="3597120"/>
            <a:chExt cx="3971880" cy="1257480"/>
          </a:xfrm>
        </p:grpSpPr>
        <p:sp>
          <p:nvSpPr>
            <p:cNvPr id="112" name=""/>
            <p:cNvSpPr/>
            <p:nvPr/>
          </p:nvSpPr>
          <p:spPr>
            <a:xfrm>
              <a:off x="33955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955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05440" y="40640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105080" y="46832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10360" y="3902040"/>
              <a:ext cx="1347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10360" y="451008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5960" y="451008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85960" y="3902040"/>
              <a:ext cx="1419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10360" y="2378160"/>
            <a:ext cx="1347480" cy="619200"/>
            <a:chOff x="5310360" y="2378160"/>
            <a:chExt cx="1347480" cy="619200"/>
          </a:xfrm>
        </p:grpSpPr>
        <p:sp>
          <p:nvSpPr>
            <p:cNvPr id="123" name=""/>
            <p:cNvSpPr/>
            <p:nvPr/>
          </p:nvSpPr>
          <p:spPr>
            <a:xfrm>
              <a:off x="6019920" y="23781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0360" y="265284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10360" y="1768320"/>
            <a:ext cx="1347480" cy="619200"/>
            <a:chOff x="5310360" y="1768320"/>
            <a:chExt cx="1347480" cy="619200"/>
          </a:xfrm>
        </p:grpSpPr>
        <p:sp>
          <p:nvSpPr>
            <p:cNvPr id="126" name=""/>
            <p:cNvSpPr/>
            <p:nvPr/>
          </p:nvSpPr>
          <p:spPr>
            <a:xfrm>
              <a:off x="6019920" y="17683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10360" y="2044800"/>
              <a:ext cx="1347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view of the Sockets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17520" y="1022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7240" y="1036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1434960"/>
            <a:ext cx="1419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10360" y="1434960"/>
            <a:ext cx="1347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10360" y="3006720"/>
            <a:ext cx="1347480" cy="630360"/>
            <a:chOff x="5310360" y="3006720"/>
            <a:chExt cx="1347480" cy="630360"/>
          </a:xfrm>
        </p:grpSpPr>
        <p:sp>
          <p:nvSpPr>
            <p:cNvPr id="134" name=""/>
            <p:cNvSpPr/>
            <p:nvPr/>
          </p:nvSpPr>
          <p:spPr>
            <a:xfrm>
              <a:off x="6019920" y="30067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0360" y="329256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85960" y="1776240"/>
            <a:ext cx="1419480" cy="1860840"/>
            <a:chOff x="2685960" y="1776240"/>
            <a:chExt cx="1419480" cy="1860840"/>
          </a:xfrm>
        </p:grpSpPr>
        <p:sp>
          <p:nvSpPr>
            <p:cNvPr id="137" name=""/>
            <p:cNvSpPr/>
            <p:nvPr/>
          </p:nvSpPr>
          <p:spPr>
            <a:xfrm>
              <a:off x="3395520" y="1776240"/>
              <a:ext cx="0" cy="151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85960" y="329256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00680" y="2865600"/>
            <a:ext cx="1309680" cy="580680"/>
            <a:chOff x="4000680" y="2865600"/>
            <a:chExt cx="1309680" cy="580680"/>
          </a:xfrm>
        </p:grpSpPr>
        <p:sp>
          <p:nvSpPr>
            <p:cNvPr id="140" name=""/>
            <p:cNvSpPr/>
            <p:nvPr/>
          </p:nvSpPr>
          <p:spPr>
            <a:xfrm>
              <a:off x="4094280" y="344484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00680" y="28656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57840" y="3444480"/>
            <a:ext cx="2320920" cy="2476800"/>
            <a:chOff x="6657840" y="3444480"/>
            <a:chExt cx="2320920" cy="2476800"/>
          </a:xfrm>
        </p:grpSpPr>
        <p:sp>
          <p:nvSpPr>
            <p:cNvPr id="143" name=""/>
            <p:cNvSpPr/>
            <p:nvPr/>
          </p:nvSpPr>
          <p:spPr>
            <a:xfrm>
              <a:off x="6657840" y="592128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083360" y="3444480"/>
              <a:ext cx="0" cy="24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657840" y="344484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3320" y="41061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799320" y="1450800"/>
            <a:ext cx="142920" cy="1581480"/>
          </a:xfrm>
          <a:custGeom>
            <a:avLst/>
            <a:gdLst>
              <a:gd name="textAreaLeft" fmla="*/ 0 w 142920"/>
              <a:gd name="textAreaRight" fmla="*/ 51480 w 142920"/>
              <a:gd name="textAreaTop" fmla="*/ 41040 h 1581480"/>
              <a:gd name="textAreaBottom" fmla="*/ 1540440 h 15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83920" y="2053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03360" y="1450800"/>
            <a:ext cx="141480" cy="2200320"/>
          </a:xfrm>
          <a:custGeom>
            <a:avLst/>
            <a:gdLst>
              <a:gd name="textAreaLeft" fmla="*/ 90360 w 141480"/>
              <a:gd name="textAreaRight" fmla="*/ 141840 w 141480"/>
              <a:gd name="textAreaTop" fmla="*/ 57240 h 2200320"/>
              <a:gd name="textAreaBottom" fmla="*/ 21430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3160" y="2377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467D-EF32-4F5D-859D-8F8213A8CC51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68440" y="83808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en_clientf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ost, 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1760" y="2971800"/>
            <a:ext cx="598140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760" y="3762360"/>
            <a:ext cx="5981400" cy="314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71760" y="4095720"/>
            <a:ext cx="5981400" cy="1666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2040" y="5762520"/>
            <a:ext cx="5981760" cy="29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8489-16DF-4DB7-974B-12FB32268E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client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560" y="857160"/>
            <a:ext cx="817884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ect(clientfd, (SA *)&amp;serveraddr, 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76840" y="11620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5040" y="2257560"/>
            <a:ext cx="747684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5040" y="3048120"/>
            <a:ext cx="747684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286240"/>
            <a:ext cx="789624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143F-E31F-4314-A43F-DA357D7171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5720" y="990720"/>
            <a:ext cx="83494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5040" y="2467080"/>
            <a:ext cx="804852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5040" y="2971800"/>
            <a:ext cx="8048520" cy="3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5040" y="3695760"/>
            <a:ext cx="8048520" cy="5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4210200"/>
            <a:ext cx="804852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5040" y="521028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5040" y="545796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C2F4-72AE-41DB-A08E-B616BB6942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992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95480" y="2476440"/>
            <a:ext cx="757224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5480" y="3362400"/>
            <a:ext cx="757224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C5EB-FD0C-4336-A266-25BE5D5967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25T17:13:35Z</dcterms:modified>
  <cp:revision>614</cp:revision>
  <dc:subject/>
  <dc:title>PowerPoint Presentation</dc:title>
</cp:coreProperties>
</file>