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9424988" cy="6923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5D2DC-D1DC-4837-83E5-D1141B1C1A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41686-9B0D-4492-A425-9E3163EB38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DA888-C100-4B2E-811A-5016134927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62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94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430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62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94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B0587-0B27-4070-BB10-2B758E1BB7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8ED43-A5BA-48CF-87F8-B23F9D839D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62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94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430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62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94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74EA2-D28B-42BA-BB97-C6D0B04C26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98678-3053-4026-ADC0-7F34F5969A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308B9-1863-45FD-840A-3940F143FC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D4FE7-B863-4ECD-8021-829EB5825D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48A5E-A643-4A46-A657-A1942032A5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1DD5D-A2DC-4C98-97DF-49FAD47210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82F91-09A5-4B75-AEDB-5423F46292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733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E1F02-6680-4C1D-9120-51D295719DCB}" type="slidenum"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1066680"/>
            <a:ext cx="777240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15213 Recitation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40080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Shimin Ch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172200"/>
            <a:ext cx="777240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99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15213 Recitation Section C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895480" y="3733920"/>
            <a:ext cx="5229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Extending echo server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HTTP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Broken pipe error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eedback and evaluation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2514600" y="1828800"/>
            <a:ext cx="4267080" cy="977760"/>
            <a:chOff x="2514600" y="1828800"/>
            <a:chExt cx="4267080" cy="977760"/>
          </a:xfrm>
        </p:grpSpPr>
        <p:sp>
          <p:nvSpPr>
            <p:cNvPr id="85" name=""/>
            <p:cNvSpPr/>
            <p:nvPr/>
          </p:nvSpPr>
          <p:spPr>
            <a:xfrm>
              <a:off x="2819520" y="1828800"/>
              <a:ext cx="36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Times New Roman"/>
                </a:rPr>
                <a:t>Shimin Ch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14600" y="2286000"/>
              <a:ext cx="426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Times New Roman"/>
                </a:rPr>
                <a:t>Nov. 25, 200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2514600" y="32004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cho Server: </a:t>
            </a: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open_listenfd</a:t>
            </a:r>
            <a:r>
              <a:rPr b="0" lang="en-US" sz="32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(cont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70560" y="1343160"/>
            <a:ext cx="7861680" cy="4474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Listenfd will be an endpoint for all requests to por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n any IP address for this host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zero((char *) &amp;serveraddr, sizeof(serveraddr)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addr.sin_family = AF_INET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addr.sin_addr.s_addr = htonl(INADDR_ANY)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addr.sin_port = htons((unsigned short)port)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bind(listenfd,(SA *)&amp;serveraddr,sizeof(serveraddr))&lt;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-1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Make it a listening socket ready to accep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nection requests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listen(listenfd, LISTENQ) &lt; 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-1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istenfd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1800360"/>
            <a:ext cx="7572600" cy="2104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57320" y="4000680"/>
            <a:ext cx="7572240" cy="1161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E05E0-AE37-47C2-A227-45EB7967C2B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417600"/>
            <a:ext cx="654696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cho Server: </a:t>
            </a: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echo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219320" y="1809720"/>
            <a:ext cx="7277040" cy="30142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echo(int connfd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ze_t n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buf[MAXLINE]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o_t rio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o_readinitb(&amp;rio, connfd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((n = Rio_readlineb(&amp;rio, buf, MAXLINE)) != 0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server received %d bytes\n", n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o_writen(connfd, buf, n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B0CD9-8A50-4EC7-B700-D57BD8FB9FE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Proxy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36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proxy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is an intermediary between a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client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and an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origin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 server.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o the client, the proxy acts like a server.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o the server, the proxy acts like a client.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2114640" y="3726000"/>
            <a:ext cx="6080040" cy="1025280"/>
            <a:chOff x="2114640" y="3726000"/>
            <a:chExt cx="6080040" cy="1025280"/>
          </a:xfrm>
        </p:grpSpPr>
        <p:sp>
          <p:nvSpPr>
            <p:cNvPr id="187" name=""/>
            <p:cNvSpPr/>
            <p:nvPr/>
          </p:nvSpPr>
          <p:spPr>
            <a:xfrm>
              <a:off x="2114640" y="3773520"/>
              <a:ext cx="1431720" cy="977760"/>
            </a:xfrm>
            <a:prstGeom prst="ellipse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ch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3468240" y="3997440"/>
              <a:ext cx="34369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810480" y="3726000"/>
              <a:ext cx="1384200" cy="1025280"/>
            </a:xfrm>
            <a:prstGeom prst="ellipse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ch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3452400" y="4527720"/>
              <a:ext cx="3427560" cy="93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4581360" y="3735360"/>
            <a:ext cx="1384560" cy="102564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x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3AB9F-0C60-40D3-828B-FBED078FC151}" type="slidenum">
              <a:t>12</a:t>
            </a:fld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hanging </a:t>
            </a: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”echo”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procedur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19320" y="1133280"/>
            <a:ext cx="7248240" cy="4971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id echo_forward(int connfd, char *server, int server_port) 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  forwardfd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io_t rio_conn, rio_forward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size_t n; 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ar buf[MAXLINE]; 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* connect to the server */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wardfd = Open_clientfd(server, server_port)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io_readinitb(&amp;rio_forward, forwardfd)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io_readinitb(&amp;rio_conn, connfd)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(1) {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(n = Rio_readlineb(&amp;rio_conn, buf, MAXLINE)) == 0)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io_writen(forwardfd, buf, n)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(n = Rio_readlineb(&amp;rio_forward, buf, MAXLINE)) == 0)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io_writen(connfd, buf, n)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ose(forwardfd)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42960" y="2590920"/>
            <a:ext cx="6610320" cy="771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42960" y="3914640"/>
            <a:ext cx="6610320" cy="704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33600" y="4724280"/>
            <a:ext cx="6610320" cy="704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55318-853D-42A2-A2FF-889193400EC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76" dur="1" fill="hold"/>
                                  <p:tgtEl>
                                    <p:spTgt spid="1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hanging </a:t>
            </a: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mai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71080"/>
            <a:ext cx="7315200" cy="4915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main(int argc, char **argv) 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listenfd, connfd, port, clientlen, server_port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ruct sockaddr_in clientaddr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ruct hostent *hp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ar *haddrp, *server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rt = atoi(argv[1])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server = argv[2]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server_port = atoi(argv[3])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istenfd = Open_listenfd(port)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(1) {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ientlen = sizeof(clientaddr)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nnfd = Accept(listenfd, (SA *)&amp;clientaddr, &amp;clientlen)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echo_forward(connfd, server, server_port)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ose(connfd)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841C5-4999-4306-BB19-72253F2D795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L7 Proxy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219320"/>
            <a:ext cx="73152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Different request and response (HTTP)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oncurrency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266920" y="2811600"/>
            <a:ext cx="6080040" cy="1025280"/>
            <a:chOff x="2266920" y="2811600"/>
            <a:chExt cx="6080040" cy="1025280"/>
          </a:xfrm>
        </p:grpSpPr>
        <p:sp>
          <p:nvSpPr>
            <p:cNvPr id="202" name=""/>
            <p:cNvSpPr/>
            <p:nvPr/>
          </p:nvSpPr>
          <p:spPr>
            <a:xfrm>
              <a:off x="2266920" y="2859120"/>
              <a:ext cx="1431720" cy="977760"/>
            </a:xfrm>
            <a:prstGeom prst="ellipse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ch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3620520" y="3083040"/>
              <a:ext cx="34369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962760" y="2811600"/>
              <a:ext cx="1384200" cy="1025280"/>
            </a:xfrm>
            <a:prstGeom prst="ellipse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ch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flipV="1">
              <a:off x="3604680" y="3613320"/>
              <a:ext cx="3427560" cy="93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4734000" y="2820960"/>
            <a:ext cx="1384200" cy="102564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x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05080" y="4373640"/>
            <a:ext cx="1431720" cy="97776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658680" y="4597560"/>
            <a:ext cx="3436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000920" y="4325760"/>
            <a:ext cx="1384200" cy="10256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3642840" y="5127120"/>
            <a:ext cx="3427560" cy="9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772160" y="4335480"/>
            <a:ext cx="1384200" cy="10256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x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D1926-AC0E-4E9F-A183-48C237AC9DB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HTTP Request and Respons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Let’s use telnet to examine a simple HTTP request and respons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More details in Tuesday’s lectur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E767F-D765-4998-8E11-447BDE6BFBF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HTTP Request and Respons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219320"/>
            <a:ext cx="7315200" cy="49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[chensm@bass ~]$ telnet www.cmu.edu 80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Trying 128.2.11.43...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Connected to WEB3.andrew.cmu.edu.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Escape character is '^]'.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GET / HTTP/1.1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host: www.cmu.edu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HTTP/1.1 200 OK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Date: Sun, 24 Nov 2002 21:52:53 GMT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Server: Apache/1.3.26 (Unix) PHP/4.2.2 mod_pubcookie/a5/1.76-009 mod_ssl/2.8.10 OpenSSL/0.9.6d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Last-Modified: Thu, 21 Nov 2002 15:28:47 GMT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ETag: "d3226-38b1-3ddcfbaf"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Accept-Ranges: bytes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Content-Length: 14513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Content-Type: text/html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&lt;HTML&gt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&lt;HEAD&gt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&lt;TITLE&gt; Carnegie Mellon University &lt;/TITLE&gt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&lt;/HEAD&gt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. . . . . .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71440" y="2076480"/>
            <a:ext cx="7296120" cy="619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171440" y="2695680"/>
            <a:ext cx="7296120" cy="3429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7340D-5CCD-46F9-A9EF-4811504EB62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90" dur="1" fill="hold"/>
                                  <p:tgtEl>
                                    <p:spTgt spid="2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HTTP Reques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43000" y="1219320"/>
            <a:ext cx="7315200" cy="49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GET / HTTP/1.1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host: www.cmu.edu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171440" y="2019240"/>
            <a:ext cx="7296120" cy="619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952720" y="1257480"/>
            <a:ext cx="52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quest line: &lt;method&gt; &lt;uri&gt; &lt;versio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33800" y="3095640"/>
            <a:ext cx="56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quest headers: &lt;header name&gt;: &lt;header data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2857320" y="1590840"/>
            <a:ext cx="12286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 flipV="1">
            <a:off x="3133800" y="2409840"/>
            <a:ext cx="1542960" cy="70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 flipV="1">
            <a:off x="1238040" y="2533320"/>
            <a:ext cx="1238040" cy="140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24200" y="3952800"/>
            <a:ext cx="56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\r\n’ to mark the end of the 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5740A-DAB9-4D40-A667-ACDB3D68FE5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HTTP Respons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1219320"/>
            <a:ext cx="7315200" cy="49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HTTP/1.1 200 OK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Date: Sun, 24 Nov 2002 21:52:53 GMT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Server: Apache/1.3.26 (Unix) PHP/4.2.2 mod_pubcookie/a5/1.76-009 mod_ssl/2.8.10 OpenSSL/0.9.6d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Last-Modified: Thu, 21 Nov 2002 15:28:47 GMT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ETag: "d3226-38b1-3ddcfbaf"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Accept-Ranges: bytes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Content-Length: 14513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Content-Type: text/html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&lt;HTML&gt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&lt;HEAD&gt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&lt;TITLE&gt; Carnegie Mellon University &lt;/TITLE&gt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&lt;/HEAD&gt;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. . . . . .</a:t>
            </a:r>
            <a:endParaRPr b="0" lang="en-US" sz="1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71440" y="2695680"/>
            <a:ext cx="7296120" cy="3429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28880" y="1257480"/>
            <a:ext cx="67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sponse line: &lt;version&gt; &lt;status code&gt; &lt;status msg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1914480" y="1590840"/>
            <a:ext cx="247680" cy="117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133800" y="2066760"/>
            <a:ext cx="56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sponse headers: &lt;header name&gt;: &lt;header data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4076280" y="2467080"/>
            <a:ext cx="63828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952800" y="4619520"/>
            <a:ext cx="89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\r\n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1314000" y="4629240"/>
            <a:ext cx="262908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62560" y="458136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sponse  body: Web 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09600" y="4962600"/>
            <a:ext cx="716292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833DE-42C3-4A5D-B60D-D2C7655C5AE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Important Date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Lab 7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Proxy: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due on Thursday, Dec 5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inal Exam: Tuesday, Dec 17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CE213-3C47-4A0E-B81B-DED6D0FF2A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Broken Pipe Erro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When reading or writing to a socke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If the socket has already been closed at the other end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e.g. click “stop” on web browser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IGPIPE signal and EPIPE errno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Don’t want to terminate the web server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10678-DA92-4848-A851-AE1CE5E6068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Detail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Write to a broken pip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For the first write, return -1 and set EPIP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For subsequent writes,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Send SIGPIPE signal, which terminates proces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If the signal is blocked or handled, return -1 and set EPIPE.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Example of broken pipe with echo server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02A40-E0F9-49E3-82B7-CCAAA0B7705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How to deal with broken pipe?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Block SIGPIPE signal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gnore EPIPE error in Rio wrappers of csapp.c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Example of how we handle broken pipe in echo server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In server main(), we block SIGPIPE signal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In csapp.c, we ignore EPIPE error in Rio wrapper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In echo(), deal with cases when return value is -1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20CA1-82EA-479C-AB46-4416AA7DAD7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eedback and Evaluatio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3000" y="2695680"/>
            <a:ext cx="7315200" cy="33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ank you!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E8F69-6899-43F1-A0C9-B32843B1AEE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xtending Echo Serve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We will recap the echo client and server  taught in the last lectur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en we will extend the echo server to build an echo proxy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31BCA-74A4-49DF-A8A2-0DA420A53EC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37880" y="417600"/>
            <a:ext cx="715788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n Echo Client-Server Transactio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14640" y="2220840"/>
            <a:ext cx="1431720" cy="9781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468240" y="2406600"/>
            <a:ext cx="3436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10480" y="2173320"/>
            <a:ext cx="1384200" cy="102564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13600" y="2080800"/>
            <a:ext cx="28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1. Client sends an input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3452400" y="3022200"/>
            <a:ext cx="3427560" cy="9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72680" y="3177720"/>
            <a:ext cx="436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2. Server sends the same text as it rece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00960" y="3232800"/>
            <a:ext cx="1823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3. Cl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splays the text 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t rece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16FA1-4762-41B5-B239-02162C2B8B0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5310360" y="4835520"/>
            <a:ext cx="1347480" cy="1238400"/>
            <a:chOff x="5310360" y="4835520"/>
            <a:chExt cx="1347480" cy="1238400"/>
          </a:xfrm>
        </p:grpSpPr>
        <p:sp>
          <p:nvSpPr>
            <p:cNvPr id="101" name=""/>
            <p:cNvSpPr/>
            <p:nvPr/>
          </p:nvSpPr>
          <p:spPr>
            <a:xfrm>
              <a:off x="6019920" y="4835520"/>
              <a:ext cx="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5310360" y="5119560"/>
              <a:ext cx="1347480" cy="954360"/>
              <a:chOff x="5310360" y="5119560"/>
              <a:chExt cx="1347480" cy="954360"/>
            </a:xfrm>
          </p:grpSpPr>
          <p:sp>
            <p:nvSpPr>
              <p:cNvPr id="103" name=""/>
              <p:cNvSpPr/>
              <p:nvPr/>
            </p:nvSpPr>
            <p:spPr>
              <a:xfrm>
                <a:off x="6019920" y="5454720"/>
                <a:ext cx="0" cy="27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310360" y="5119560"/>
                <a:ext cx="1347480" cy="34308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rio_readline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310360" y="5729400"/>
                <a:ext cx="1347480" cy="34452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clos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" name=""/>
          <p:cNvGrpSpPr/>
          <p:nvPr/>
        </p:nvGrpSpPr>
        <p:grpSpPr>
          <a:xfrm>
            <a:off x="2685960" y="4835520"/>
            <a:ext cx="2624400" cy="628560"/>
            <a:chOff x="2685960" y="4835520"/>
            <a:chExt cx="2624400" cy="628560"/>
          </a:xfrm>
        </p:grpSpPr>
        <p:sp>
          <p:nvSpPr>
            <p:cNvPr id="107" name=""/>
            <p:cNvSpPr/>
            <p:nvPr/>
          </p:nvSpPr>
          <p:spPr>
            <a:xfrm>
              <a:off x="3395520" y="4835520"/>
              <a:ext cx="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132440" y="5302080"/>
              <a:ext cx="11779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685960" y="5121360"/>
              <a:ext cx="1419480" cy="3427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clo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441680" y="49932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O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685960" y="3597120"/>
            <a:ext cx="3971880" cy="1257480"/>
            <a:chOff x="2685960" y="3597120"/>
            <a:chExt cx="3971880" cy="1257480"/>
          </a:xfrm>
        </p:grpSpPr>
        <p:sp>
          <p:nvSpPr>
            <p:cNvPr id="112" name=""/>
            <p:cNvSpPr/>
            <p:nvPr/>
          </p:nvSpPr>
          <p:spPr>
            <a:xfrm>
              <a:off x="3395520" y="3597120"/>
              <a:ext cx="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395520" y="4216320"/>
              <a:ext cx="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019920" y="3597120"/>
              <a:ext cx="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019920" y="4216320"/>
              <a:ext cx="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105440" y="4064040"/>
              <a:ext cx="12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4105080" y="4683240"/>
              <a:ext cx="12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310360" y="3902040"/>
              <a:ext cx="1347480" cy="3430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io_readline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310360" y="4510080"/>
              <a:ext cx="1347480" cy="3445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io_writ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685960" y="4510080"/>
              <a:ext cx="1419480" cy="3445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io_readline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685960" y="3902040"/>
              <a:ext cx="1419480" cy="3430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rio_writ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5310360" y="2378160"/>
            <a:ext cx="1347480" cy="619200"/>
            <a:chOff x="5310360" y="2378160"/>
            <a:chExt cx="1347480" cy="619200"/>
          </a:xfrm>
        </p:grpSpPr>
        <p:sp>
          <p:nvSpPr>
            <p:cNvPr id="123" name=""/>
            <p:cNvSpPr/>
            <p:nvPr/>
          </p:nvSpPr>
          <p:spPr>
            <a:xfrm>
              <a:off x="6019920" y="2378160"/>
              <a:ext cx="0" cy="27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310360" y="2652840"/>
              <a:ext cx="1347480" cy="3445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list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310360" y="1768320"/>
            <a:ext cx="1347480" cy="619200"/>
            <a:chOff x="5310360" y="1768320"/>
            <a:chExt cx="1347480" cy="619200"/>
          </a:xfrm>
        </p:grpSpPr>
        <p:sp>
          <p:nvSpPr>
            <p:cNvPr id="126" name=""/>
            <p:cNvSpPr/>
            <p:nvPr/>
          </p:nvSpPr>
          <p:spPr>
            <a:xfrm>
              <a:off x="6019920" y="1768320"/>
              <a:ext cx="0" cy="27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10360" y="2044800"/>
              <a:ext cx="1347480" cy="3427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bi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Review of the Sockets Interfac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17520" y="102204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7240" y="1036440"/>
            <a:ext cx="81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85960" y="1434960"/>
            <a:ext cx="1419480" cy="3445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10360" y="1434960"/>
            <a:ext cx="1347480" cy="3445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5310360" y="3006720"/>
            <a:ext cx="1347480" cy="630360"/>
            <a:chOff x="5310360" y="3006720"/>
            <a:chExt cx="1347480" cy="630360"/>
          </a:xfrm>
        </p:grpSpPr>
        <p:sp>
          <p:nvSpPr>
            <p:cNvPr id="134" name=""/>
            <p:cNvSpPr/>
            <p:nvPr/>
          </p:nvSpPr>
          <p:spPr>
            <a:xfrm>
              <a:off x="6019920" y="3006720"/>
              <a:ext cx="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10360" y="3292560"/>
              <a:ext cx="1347480" cy="3445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accep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2685960" y="1776240"/>
            <a:ext cx="1419480" cy="1860840"/>
            <a:chOff x="2685960" y="1776240"/>
            <a:chExt cx="1419480" cy="1860840"/>
          </a:xfrm>
        </p:grpSpPr>
        <p:sp>
          <p:nvSpPr>
            <p:cNvPr id="137" name=""/>
            <p:cNvSpPr/>
            <p:nvPr/>
          </p:nvSpPr>
          <p:spPr>
            <a:xfrm>
              <a:off x="3395520" y="1776240"/>
              <a:ext cx="0" cy="151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685960" y="3292560"/>
              <a:ext cx="1419480" cy="3445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conne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4000680" y="2865600"/>
            <a:ext cx="1309680" cy="580680"/>
            <a:chOff x="4000680" y="2865600"/>
            <a:chExt cx="1309680" cy="580680"/>
          </a:xfrm>
        </p:grpSpPr>
        <p:sp>
          <p:nvSpPr>
            <p:cNvPr id="140" name=""/>
            <p:cNvSpPr/>
            <p:nvPr/>
          </p:nvSpPr>
          <p:spPr>
            <a:xfrm>
              <a:off x="4094280" y="3444840"/>
              <a:ext cx="12160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00680" y="2865600"/>
              <a:ext cx="1293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nn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657840" y="3444480"/>
            <a:ext cx="2320920" cy="2476800"/>
            <a:chOff x="6657840" y="3444480"/>
            <a:chExt cx="2320920" cy="2476800"/>
          </a:xfrm>
        </p:grpSpPr>
        <p:sp>
          <p:nvSpPr>
            <p:cNvPr id="143" name=""/>
            <p:cNvSpPr/>
            <p:nvPr/>
          </p:nvSpPr>
          <p:spPr>
            <a:xfrm>
              <a:off x="6657840" y="5921280"/>
              <a:ext cx="42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7083360" y="3444480"/>
              <a:ext cx="0" cy="247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6657840" y="3444840"/>
              <a:ext cx="42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23320" y="4106160"/>
              <a:ext cx="1855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wait conn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quest fro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ext 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799320" y="1450800"/>
            <a:ext cx="142920" cy="1581480"/>
          </a:xfrm>
          <a:custGeom>
            <a:avLst/>
            <a:gdLst>
              <a:gd name="textAreaLeft" fmla="*/ 0 w 142920"/>
              <a:gd name="textAreaRight" fmla="*/ 51480 w 142920"/>
              <a:gd name="textAreaTop" fmla="*/ 41040 h 1581480"/>
              <a:gd name="textAreaBottom" fmla="*/ 1540440 h 158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83920" y="2053800"/>
            <a:ext cx="176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n_listen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403360" y="1450800"/>
            <a:ext cx="141480" cy="2200320"/>
          </a:xfrm>
          <a:custGeom>
            <a:avLst/>
            <a:gdLst>
              <a:gd name="textAreaLeft" fmla="*/ 90360 w 141480"/>
              <a:gd name="textAreaRight" fmla="*/ 141840 w 141480"/>
              <a:gd name="textAreaTop" fmla="*/ 57240 h 2200320"/>
              <a:gd name="textAreaBottom" fmla="*/ 2143080 h 2200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13160" y="2377800"/>
            <a:ext cx="176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n_client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E7DEF-4C45-4975-9C59-67F90393D811}" type="slidenum">
              <a:t>5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42920" y="733320"/>
            <a:ext cx="8658360" cy="597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cho Client Main Routin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68440" y="838080"/>
            <a:ext cx="6154920" cy="5691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"csapp.h"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usage: ./echoclient host por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in(int argc, char **arg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clientfd, por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*host, buf[MAXLINE]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o_t rio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ost = argv[1]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 = atoi(argv[2]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ientfd =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Open_clientf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host, por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o_readinitb(&amp;rio, clientfd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 (Fgets(buf, MAXLINE, stdin) != NULL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o_writen(clientfd, buf, strlen(buf)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io_readlineb(&amp;rio, buf, MAXLINE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puts(buf, stdout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ose(clientfd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0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71760" y="2971800"/>
            <a:ext cx="5981400" cy="7142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71760" y="3762360"/>
            <a:ext cx="5981400" cy="314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71760" y="4095720"/>
            <a:ext cx="5981400" cy="1666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62040" y="5762520"/>
            <a:ext cx="5981760" cy="2955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8959D-DD3B-439D-B099-323F85A4E07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42920" y="733320"/>
            <a:ext cx="8658360" cy="597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cho Client: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open_clientfd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3560" y="857160"/>
            <a:ext cx="8178840" cy="5691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open_clientfd(char *hostname, int port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clientfd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hostent *h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sockaddr_in serveradd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(clientfd = socket(AF_INET, SOCK_STREAM, 0)) &lt; 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-1; /* check errno for cause of error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Fill in the server's IP address and port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(hp = gethostbyname(hostname)) == NULL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-2; /* check h_errno for cause of error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zero((char *) &amp;serveraddr, sizeof(serveraddr)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addr.sin_family = AF_INE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copy((char *)hp-&gt;h_addr,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char *)&amp;serveraddr.sin_addr.s_addr, hp-&gt;h_length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addr.sin_port = htons(port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Establish a connection with the server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connect(clientfd, (SA *)&amp;serveraddr, sizeof(serveraddr))&lt;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-1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clientfd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676840" y="1162080"/>
            <a:ext cx="3276720" cy="8240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function opens a connection from the client to the server a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hostname: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05040" y="2257560"/>
            <a:ext cx="7476840" cy="7142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05040" y="3048120"/>
            <a:ext cx="7476840" cy="20574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400" y="5286240"/>
            <a:ext cx="7896240" cy="762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93E3A-73C8-4D62-8B84-723393A815C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42920" y="733320"/>
            <a:ext cx="8658360" cy="597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cho Server: Main Routin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75720" y="990720"/>
            <a:ext cx="8349480" cy="5204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in(int argc, char **argv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listenfd, connfd, port, clientle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sockaddr_in clientadd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hostent *h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*haddr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 = atoi(argv[1]); /* the server listens on a port pass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n the command lin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enfd = open_listenfd(port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 (1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ientlen = sizeof(clientaddr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nfd = Accept(listenfd, (SA *)&amp;clientaddr, &amp;clientle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p = Gethostbyaddr((const char *)&amp;clientaddr.sin_addr.s_addr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zeof(clientaddr.sin_addr.s_addr), AF_INE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addrp = inet_ntoa(clientaddr.sin_add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server connected to %s (%s)\n", hp-&gt;h_name, haddr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cho(connf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ose(connf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05040" y="2467080"/>
            <a:ext cx="8048520" cy="504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05040" y="2971800"/>
            <a:ext cx="8048520" cy="343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05040" y="3695760"/>
            <a:ext cx="8048520" cy="514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05040" y="4210200"/>
            <a:ext cx="8048520" cy="1000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05040" y="5210280"/>
            <a:ext cx="8048520" cy="2476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05040" y="5457960"/>
            <a:ext cx="8048520" cy="2476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2BCE2-CFDA-47FC-BF93-D0CB5DA3A49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cho Server: </a:t>
            </a: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open_listenfd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79920" y="1231920"/>
            <a:ext cx="7861680" cy="37443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open_listenfd(int port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listenfd, optval=1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sockaddr_in serveradd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Create a socket descriptor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(listenfd = socket(AF_INET, SOCK_STREAM, 0)) &lt; 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-1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Eliminates "Address already in use" error from bind.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setsockopt(listenfd, SOL_SOCKET, SO_REUSEADDR,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const void *)&amp;optval , sizeof(int)) &lt; 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-1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 (more)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095480" y="2476440"/>
            <a:ext cx="7572240" cy="771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95480" y="3362400"/>
            <a:ext cx="7572240" cy="1209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4BCC7-4D4C-4730-976D-F9B5E1DDA0E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himin</cp:lastModifiedBy>
  <dcterms:modified xsi:type="dcterms:W3CDTF">2002-11-25T17:13:35Z</dcterms:modified>
  <cp:revision>614</cp:revision>
  <dc:subject/>
  <dc:title>PowerPoint Presentation</dc:title>
</cp:coreProperties>
</file>