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424800" cy="69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8456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5336640" y="-360"/>
            <a:ext cx="408492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81160" y="519120"/>
            <a:ext cx="346104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2840" y="3287520"/>
            <a:ext cx="753768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6575040"/>
            <a:ext cx="408456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5336640" y="6575040"/>
            <a:ext cx="408492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46AE01-D8FF-4DE7-AE20-6DFAF09F1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982960" y="519120"/>
            <a:ext cx="3460680" cy="2595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41400" y="3287520"/>
            <a:ext cx="754056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diagram 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4F05-8C05-465C-ACAD-2342ECC9E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F4C9-7272-491C-9CC5-C5D776B34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EECC-F028-4C9A-9014-20A54A0ED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1467-5031-4E45-A0F8-F28D986AB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D09F-E0E2-4160-9334-5DD65DA6A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5E76-B217-47DB-999E-7B5AA5BEC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D386-8080-4017-AA03-ECF2AD728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3BE4-71AE-4A49-966C-4BD10DF12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A35D-5993-462F-9374-6E0F076A2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D693-DBD6-4182-BB30-27121AB17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247D-3812-40F5-ACD0-5D63E20E5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2820-CBB6-47AA-8C9D-354AE5376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EFD4-E3C8-48EC-B5C4-9DDFF0C8CE38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480" y="3733920"/>
            <a:ext cx="522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obust I/O packag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apter 11 practice problem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92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18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s from Chapter 11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1.1 ~ 11.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3CC5-CFA3-4008-964C-B27AFCC66C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1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4840" y="2449440"/>
            <a:ext cx="5529960" cy="3111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fd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baz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fd2 = %d\n", fd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57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is the output of the following program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81BD-AE52-4000-A720-03F3820773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1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di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(descriptor 0)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dou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(descriptor 1)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derr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(descriptor 2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lways return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lowest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opened descript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rst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returns 3.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clos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frees it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o second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lso returns 3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gram prints: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"fd2 = 3"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25C8-8B3D-4824-BFED-6F97BD6AE5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ile Shar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scriptor tab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process has its ow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hild inherits from paren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le Tab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t of all open fil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hared by all process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ference count of number of file descriptors pointing to each entr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e posi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-node tab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ntains information in the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tat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tructur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hared by all process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E605-1DA2-4864-B9F2-47B4452198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28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uppose that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consists of the 6 ASCII characters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 Then what is the output of the following program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9240" y="2409840"/>
            <a:ext cx="5941440" cy="366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6F90-D1B4-4C47-BFEF-746D81D206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descriptors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d1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d2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each have their own open file table entry, so each descriptor has its own file position for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 Thus, the read from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d2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reads the first byte of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, and the output i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= f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d no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c = 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s you might have thought initiall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7E5E-74D4-4C4E-8DBF-F32BAAC922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s before, suppose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consists of 6 ASCII characters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 Then what is the output of the following program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4480" y="2486160"/>
            <a:ext cx="5840280" cy="347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#inclu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ork() ==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Read(fd, &amp;c, 1); exit(0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66B2-9331-43CC-95FF-9EF983A498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ild inherit’s the parent’s descriptor table. So child and parent share an open file table entry (refcount = 2). Hence they share a file position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7A53-29CD-42CE-AE2F-2725AD0862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4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ow would you use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dup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o redirect standard input to descriptor 5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dup2(int oldfd, int newfd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pies descriptor table entry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oldf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o descriptor table entry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newf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AB70-E954-48D0-B228-CB16B3BE36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4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up2(5,0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up2(5,STDIN_FILENO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53EE-3255-4418-B826-46FC43FAA9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6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alloc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Nov 2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4848-4064-40B3-8819-C510AFAE7A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5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ssuming that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consists of 6 ASCII characters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“foobar”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 Then what is the output of the following program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4080" y="2581200"/>
            <a:ext cx="5301360" cy="347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#inclu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p2(fd2, f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848F-42C5-454A-B010-D4078D734A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5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are redirect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fd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o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fd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 (fd1 now points to the same open file table entry as fd2). So the second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Rea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uses the file position offset of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fd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3AC0-7C7F-4A6F-A7D1-EFE94C87BF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obust I/O: RI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csapp.c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csapp.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andles interrupted 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andles short coun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ood for network programm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wo parts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buffered I/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ffered I/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4801-B44D-4E4D-9F20-2836ECAAC9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o: Unbuffered Input/Outp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6040" y="1257480"/>
            <a:ext cx="7915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Unix I/O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o internal buffer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ful for reading/writin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nary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ta to/from network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reads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bytes from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d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nd put into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usrbuf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only returns short count on EOF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writes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bytes from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usrbuf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o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never returns short coun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A662-07B1-4B24-BE0B-1B19D1C723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O:  Buffered Inp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753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ernal buffe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#define RIO_BUFSIZE 819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ypedef struct 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rio_fd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rio_cn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r *rio_bufptr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r rio_buf[RIO_BUFSIZE]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 rio_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void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init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rio_t* rp, int fd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rio_t* rp,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void* usrbuf, size_t maxlen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rio_t* rp,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void* usrbuf, size_t n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6ED1-9355-435D-B98D-3BDFCA9CF3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o: Buffered Inp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247400"/>
            <a:ext cx="817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init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rio_t* rp, int fd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called only once per open descrip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associate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d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with a read buffer rio_t structure pointed to by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p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line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rio_t* rp, void* usrbuf,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maxlen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for reading text lin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ad a line (until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‘\n’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) o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maxlen-1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chars from file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p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to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erminate the text line with null (zero) charact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turns number of chars read</a:t>
            </a:r>
            <a:br>
              <a:rPr sz="1800"/>
            </a:b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n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rio_t* rp, void* usrbuf, size_t n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ads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bytes from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p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into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sult string is NOT null-terminated!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turns number of bytes rea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0E0B-AE70-4222-A43D-60EF9DF41E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7680" y="419040"/>
            <a:ext cx="8658360" cy="627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io_readlineb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0560" y="937440"/>
            <a:ext cx="6788160" cy="520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rio_readlineb(rio_t *rp,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usrbuf, size_t maxle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, r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, *bufp = usrbu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n = 1; n &lt; maxlen; n++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(rc = rio_read(rp, &amp;c, 1)) == 1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++ =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c == '\n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 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c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n ==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no data re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some data was re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rro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106D-E3DD-4376-A1CB-C29339F6F0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erleaving RIO Read Func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interleave calls o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 fd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between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uffered and unbuffered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func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ithin each set it is ok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89320" y="2946240"/>
            <a:ext cx="2161800" cy="132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ini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lin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94280" y="2973240"/>
            <a:ext cx="170460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wr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1360" y="248616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buff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1160" y="250524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ff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F764-31D6-475A-9689-CA38BB30CA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o Error Check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IO functions hand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hort coun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interrupted system call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ll functions have upper case equivalent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io_readn, Rio_writen, Rio_readlineb, Rio_readnb,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all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unix_error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if the function encounters an err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ut EPIPE errors!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or Lab 7, EPIPE should not terminate the proces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1115-151B-4DB3-B360-71D93F5465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1-18T16:48:13Z</dcterms:modified>
  <cp:revision>544</cp:revision>
  <dc:subject/>
  <dc:title>PowerPoint Presentation</dc:title>
</cp:coreProperties>
</file>