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424800" cy="69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8456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5336640" y="-360"/>
            <a:ext cx="408492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81160" y="519120"/>
            <a:ext cx="3461040" cy="25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2840" y="3287520"/>
            <a:ext cx="753768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6575040"/>
            <a:ext cx="408456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5336640" y="6575040"/>
            <a:ext cx="408492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A2FFDA-9B7A-4953-9F4A-CC6162234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982960" y="519120"/>
            <a:ext cx="3460680" cy="2595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41400" y="3287520"/>
            <a:ext cx="754056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diagram 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EE645-A150-4E5E-B748-E2753FF10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5106-EB7D-4A87-A3CE-E23B8F1B0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48BC-1731-4618-B71E-93C5469E6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46CE-3572-4FC0-816F-EE20DDE11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39DE-5D1E-46B2-989D-AFCD9B3E6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AD13-41C1-4E2A-9D32-15708B3DE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3ACA-EEB0-48BE-BD85-C44E0E49C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E3BB-27FF-4E42-A428-8C3903054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6EEC-2D3F-4AF7-AC72-32E67B12F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6E6D-3AC3-49C3-8A66-305BB977F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0897-2BEE-481A-81F7-4B1EE8918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FD1C-0E3F-4852-8869-51C524845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96D0-B842-4151-813E-A3868445FB94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480" y="3733920"/>
            <a:ext cx="522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obust I/O packag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apter 11 practice problem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92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Nov. 18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s from Chapter 11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11.1 ~ 11.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9B61-B4B9-4775-AB9C-A00A25E5DE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 11.1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4840" y="2449440"/>
            <a:ext cx="5529960" cy="3111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ose(fd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baz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fd2 = %d\n", fd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57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is the output of the following program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3129-7102-45F4-9B41-92F9236335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nswer to 11.1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stdi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(descriptor 0)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stdou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(descriptor 1)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stderr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(descriptor 2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lways returns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lowest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opened descript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rst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returns 3.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close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frees it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o second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lso returns 3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ogram prints: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"fd2 = 3"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2B7A-306D-47FD-9515-559D8D083A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ile Shar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escriptor tab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process has its ow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hild inherits from parent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le Tab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t of all open fil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hared by all process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ference count of number of file descriptors pointing to each entr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e posi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-node tab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ntains information in the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tat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structur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hared by all process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83F1-9431-4381-940B-6DB4D9B5A4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 11.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286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uppose that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consists of the 6 ASCII characters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"foobar"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 Then what is the output of the following program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79240" y="2409840"/>
            <a:ext cx="5941440" cy="366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102C-FF2B-4446-BA75-D66AA7F852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nswer to 11.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descriptors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d1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d2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each have their own open file table entry, so each descriptor has its own file position for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 Thus, the read from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d2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reads the first byte of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, and the output i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 = f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d no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c = 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s you might have thought initiall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01DB-57E5-4413-A4D4-922C9C74C3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 11.3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s before, suppose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consists of 6 ASCII characters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"foobar"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 Then what is the output of the following program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4480" y="2486160"/>
            <a:ext cx="5840280" cy="347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#inclu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ork() ==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Read(fd, &amp;c, 1); exit(0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, &amp;c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18EC-4B57-418E-9C4C-7DC967D9A3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nswer to 11.3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ild inherit’s the parent’s descriptor table. So child and parent share an open file table entry (refcount = 2). Hence they share a file position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4EDB-511D-4079-B02B-E95365CA5D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 11.4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ow would you use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dup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o redirect standard input to descriptor 5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dup2(int oldfd, int newfd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pies descriptor table entry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oldfd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to descriptor table entry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newf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EB8A-48C5-421E-BCCC-FFBBA1B692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nswer to 11.4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dup2(5,0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dup2(5,STDIN_FILENO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6084-076F-485A-BBAD-0E82CF618C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6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Malloc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Nov 2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7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Dec 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nal Exam: Tuesday, Dec 17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EABF-31F9-4124-A5C3-A97C5B682F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 11.5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ssuming that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consists of 6 ASCII characters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“foobar”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 Then what is the output of the following program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4080" y="2581200"/>
            <a:ext cx="5301360" cy="347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#inclu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up2(fd2, f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AB82-450B-40C1-8E08-FE920D182F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nswer to 11.5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are redirecting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fd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o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fd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 (fd1 now points to the same open file table entry as fd2). So the second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Rea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uses the file position offset of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fd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47B59-0E8C-4065-BBB3-1C8531A2ED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obust I/O: RI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csapp.c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csapp.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andles interrupted system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andles short coun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ood for network programm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wo parts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nbuffered I/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ffered I/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42D1-9251-446E-8DD7-0465559D21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io: Unbuffered Input/Outpu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6040" y="1257480"/>
            <a:ext cx="7915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Unix I/O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o internal buffer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ful for reading/writing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inary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ata to/from network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n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reads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bytes from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d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nd put into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usrbuf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only returns short count on EOF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writes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bytes from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usrbuf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o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never returns short coun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4EA2-8E2D-48EC-AF86-153E1F13DA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IO:  Buffered Inpu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753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ernal buffer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#define RIO_BUFSIZE 819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ypedef struct 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rio_fd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rio_cn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r *rio_bufptr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r rio_buf[RIO_BUFSIZE]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 rio_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void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initb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rio_t* rp, int fd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lineb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rio_t* rp, 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void* usrbuf, size_t maxlen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nb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rio_t* rp, 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void* usrbuf, size_t n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F83F-849F-4A07-8A23-1FC7882F6E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io: Buffered Inpu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247400"/>
            <a:ext cx="817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init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rio_t* rp, int fd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called only once per open descrip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associate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d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with a read buffer rio_t structure pointed to by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p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line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rio_t* rp, void* usrbuf,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_t maxlen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for reading text lin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ead a line (until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‘\n’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) o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maxlen-1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chars from file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p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to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srbuf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terminate the text line with null (zero) charact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eturns number of chars read</a:t>
            </a:r>
            <a:br>
              <a:rPr sz="1800"/>
            </a:b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n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rio_t* rp, void* usrbuf, size_t n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eads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bytes from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p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into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usrbuf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esult string is NOT null-terminated!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eturns number of bytes rea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C540-0AED-4A03-9406-F3F733E1CD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7680" y="419040"/>
            <a:ext cx="8658360" cy="627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io_readlineb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0560" y="937440"/>
            <a:ext cx="6788160" cy="520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rio_readlineb(rio_t *rp,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usrbuf, size_t maxle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, r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, *bufp = usrbu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n = 1; n &lt; maxlen; n++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(rc = rio_read(rp, &amp;c, 1)) == 1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++ =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c == '\n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 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c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n ==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no data rea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some data was rea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rro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F7CC-183D-4F6F-9730-8C1D3A9841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terleaving RIO Read Func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o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interleave calls o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 fd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between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uffered and unbuffered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func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ithin each set it is ok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y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89320" y="2946240"/>
            <a:ext cx="2161800" cy="132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ini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lin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n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94280" y="2973240"/>
            <a:ext cx="170460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wr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1360" y="248616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nbuff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1160" y="250524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ff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3CD3-5EB8-4347-8A15-ABF0BE505A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io Error Check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IO functions hand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hort count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interrupted system call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ll functions have upper case equivalent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io_readn, Rio_writen, Rio_readlineb, Rio_readnb,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all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unix_error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if the function encounters an err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ut EPIPE errors!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for Lab 7, EPIPE should not terminate the proces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90FB-6044-425E-8ED8-3E502473C8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1-18T16:48:13Z</dcterms:modified>
  <cp:revision>544</cp:revision>
  <dc:subject/>
  <dc:title>PowerPoint Presentation</dc:title>
</cp:coreProperties>
</file>