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903316-438A-4288-86C7-364AB5054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C823-3BF9-490E-9B3E-3F5985BF6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A5EA-EE04-4A2C-BE8A-9D1F21C46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2301-8ECA-4A67-BCFC-E7314EEFE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D8AB2-3D51-49E8-A318-A2C59A43C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28B5-1AF1-4244-B312-1645DC3A4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3E6E8-8576-4069-8973-B3DDF4E84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3D6C-690A-49FE-A46A-14405B005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B626-2E9A-4DDF-9E1D-149592EB5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0E2E0-A187-489E-AF05-1734CE2761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522A-EB6A-4149-B042-8EDC5CC6E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E1F5-2983-480C-8245-1978856E6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2599-F3F3-47CB-A842-09EBE8B46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2F1-3654-4C1B-B15A-1787D5DAE5E1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bust I/O packag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pter 11 practice problem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s from Chapter 1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1.1 ~ 11.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B845-5297-4626-996E-B9E1538CE8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84840" y="2449440"/>
            <a:ext cx="5529960" cy="3111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57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s the output of the following program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3158-3E52-43AC-806B-B92B6A20B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1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0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1)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(descriptor 2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ways returns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lowest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opened descrip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rst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returns 3.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los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frees it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o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lso returns 3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gram prints: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"fd2 = 3"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4670B-7028-43E8-8EDD-D92938D81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scriptor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process has its ow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ild inherits from pare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l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of all open fi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le posi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-node tab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tains information in the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ructur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hared by all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294C-2ADA-4F92-AE20-F9E2E64D75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28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ppose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the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79240" y="2409840"/>
            <a:ext cx="5941440" cy="3660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4E93-D61E-4267-AE3B-AF75EB64F9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descripto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each have their own open file table entry, so each descriptor has its own file position for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us, the read from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reads the first byte of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, and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 = 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you might have thought initial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1249-459C-468D-B8D7-665EFBFFB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 before, suppose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4480" y="2486160"/>
            <a:ext cx="584028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Fork() ==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Read(fd, &amp;c, 1); exit(0);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6BA6-4390-4B09-8946-7035766EC7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ild inherit’s the parent’s descriptor table. So child and parent share an open file table entry (refcount = 2). Hence they share a file position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ACD4-8628-48EC-BF17-6C54248DDF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58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ow would you use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redirect standard input to descriptor 5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dup2(int oldfd, int newfd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pies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to descriptor table entry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FE9E-2FC0-40F7-BFB5-BCF09A3773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4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7287-AB75-4EDD-AF6C-D15E69FEF2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Malloc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Nov 2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4B7F-AF20-467F-89A9-303B06F1C9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blem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ssuming that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consists of 6 ASCII characters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“foobar”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 Then what is the output of the following program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4080" y="2581200"/>
            <a:ext cx="5301360" cy="347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#includ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D321-F396-4C2B-82CD-44D61CC57B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nswer to 11.5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are redirect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 (fd1 now points to the same open file table entry as fd2). So the seco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uses the file position offset of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AD67-903C-4646-B950-C331ECCCBA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obust I/O: R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c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csapp.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interrupted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s short coun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ood for network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parts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 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44A2-0117-4EC4-95FB-44467A5514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Unbuffered Input/Out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76040" y="1257480"/>
            <a:ext cx="7915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 Unix I/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No internal buffering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Useful for reading/writ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nary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ata to/from network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and put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only returns short count on EOF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write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never returns short coun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C066-D918-4633-9580-8CE018E0A4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53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nal buffe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#define RIO_BUFSIZE 8192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ypedef struct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fd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io_cn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rio_bufpt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rio_buf[RIO_BUFSIZE]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rio_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maxle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rio_t* rp,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void* usrbuf, size_t n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2AD0-F7A5-4BC6-A189-71C26EF977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: Buffered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247400"/>
            <a:ext cx="817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called only once per open descripto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associate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with a read buffer rio_t structure pointed to by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maxlen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for reading text lines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 a line (unti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‘\n’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) o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axlen-1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chars from file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to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terminate the text line with null (zero) characte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chars read</a:t>
            </a:r>
            <a:br>
              <a:rPr sz="1800"/>
            </a:b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ads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bytes from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p</a:t>
            </a: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 into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sult string is NOT null-terminated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Returns number of bytes read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91721-FFB6-44B7-9407-0D38D8E8A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7680" y="419040"/>
            <a:ext cx="8658360" cy="627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60560" y="937440"/>
            <a:ext cx="6788160" cy="5208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, r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, *bufp = usrbu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for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 1; n &lt; maxlen; n++) 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c == '\n'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 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c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n == 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1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3B4A-4DEE-4516-AE24-7932C064BA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leaving RIO Read Func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D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interleave calls o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ame f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between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ffered and unbuffered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fun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ithin each set it is ok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89320" y="2946240"/>
            <a:ext cx="2161800" cy="1326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4280" y="2973240"/>
            <a:ext cx="170460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1360" y="248616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1160" y="250524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AD06-1722-4641-8FCC-B690CA61E6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o Error Che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RIO functions handl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hort coun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nterrupted system call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All functions have upper case equivalent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io_readn, Rio_writen, Rio_readlineb, Rio_readnb,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etc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all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unix_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if the function encounters an erro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But EPIPE errors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for Lab 7, EPIPE should not terminate the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3B57F-9A0D-4252-96F9-94E6535A3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8T16:48:13Z</dcterms:modified>
  <cp:revision>544</cp:revision>
  <dc:subject/>
  <dc:title>PowerPoint Presentation</dc:title>
</cp:coreProperties>
</file>