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3480" cy="360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F807DBA-351C-49CD-B3F7-1A578062FE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3480" cy="36018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diagram on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7303-2A72-4A15-BC72-6D2F8907A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75FE-AB0B-4F09-ABD8-5DCE136F4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25E3-9128-43C3-9A5C-FC596D2F4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589E-9E75-488C-836C-DC0C242C0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657C-C8B8-436B-8616-60E3E8ECE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2DF6-68E5-495F-A98A-D23A65A56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091E-8B38-4D52-97CE-516F2F8F1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ADC4-4B88-4AEB-A82F-64022EE3B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0024-479C-4DEA-B002-1946C2EDD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4FEB-F30A-4116-913E-8BEC7DF3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8004-EE22-4D7F-B86B-0809DD8C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42E3-F7E4-407D-8D9B-9F3609A0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76B34-7755-4B5D-B804-15D542EAD79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Recitation 11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I/O Problem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rew Faulr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5213 Section 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8 November 200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roblems from Chapter 11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1.1–11.5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out contains th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roblem 11.1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"/>
          <p:cNvSpPr/>
          <p:nvPr/>
        </p:nvSpPr>
        <p:spPr>
          <a:xfrm>
            <a:off x="451440" y="2820960"/>
            <a:ext cx="5529960" cy="3111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#includ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"csapp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ain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d1, fd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d1 = Open("foo.txt", O_RDONLY, 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ose(fd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d2 = Open("baz.txt", O_RDONLY, 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fd2 = %d\n", fd2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is the output of the following program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swer to 11.1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fault file descriptor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di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descriptor 0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dou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descriptor 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der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descriptor 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pe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lways return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lowest, unopene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escrip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rs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pe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returns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os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rees i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 seco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pe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lso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gram print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fd2 =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Kernel Structure for Open Fil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ptor t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e per proc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ildren inherit from par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le T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set of all open fi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hared by all proces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ference count of number of file descriptors pointing to each ent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-node t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ains information in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truc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hared by all proces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roblem 11.2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ose that the disk fi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obar.tx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onsists of the 6 ASCII character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"foobar"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Then what is the output of the following program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"/>
          <p:cNvSpPr/>
          <p:nvPr/>
        </p:nvSpPr>
        <p:spPr>
          <a:xfrm>
            <a:off x="450360" y="2819520"/>
            <a:ext cx="5941440" cy="3660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#includ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"csapp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ain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d1, fd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d1 = Open("foobar.txt", O_RDONLY, 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d2 = Open("foobar.txt", O_RDONLY, 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ad(fd1, &amp;c, 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ad(fd2, &amp;c, 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c = %c\n", c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swer to 11.2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wo descriptor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d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d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wo open file table entries, each with their own file posi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obar.tx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ea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d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lso reads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irs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y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obar.tx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, the output i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c = f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not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 = 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roblem 11.3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 before, suppose the disk fi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obar.tx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onsists of 6 ASCII character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"foobar"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Then what is the output of the following program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2971800"/>
            <a:ext cx="4554360" cy="350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Courier New"/>
              </a:rPr>
              <a:t>#includ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"csapp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main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f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d = Open("foobar.txt", O_RDONLY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(Fork() == 0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ad(fd, &amp;c, 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ait(NUL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ad(fd, &amp;c, 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("c = %c\n", 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swer to 11.3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ild inherits the parent’s descriptor tabl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ild and parent share an open file table entry (refcount == 2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nce they share a file position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output i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c = 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roblem 11.4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 would you us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dup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o redirect standard input to descriptor 5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t dup2(int oldfd, int newfd)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pies descriptor table entry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oldf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o descriptor table entry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ewf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swer to 11.4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dup2(5,0)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dup2(5,STDIN_FILENO)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ogistic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ulring@cs.cmu.ed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ffice hou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SH 250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tly moving to Tuesday 2–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’s lef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Lab 6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Malloc: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due on Thursday, 21 No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b 7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roxy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e on Thursday, 5 De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al Exam: 8:30am on Tuesday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7 Dec, in Porter Hall 10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roblem 11.5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uming that the disk fi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obar.tx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onsists of 6 ASCII character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"foobar"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Then what is the output of the following program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2971800"/>
            <a:ext cx="4661280" cy="307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Courier New"/>
              </a:rPr>
              <a:t>#includ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"csapp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main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fd1, fd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d1 = Open("foobar.txt", O_RDONLY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d2 = Open("foobar.txt", O_RDONLY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ad(fd2, &amp;c, 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up2(fd2, fd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ad(fd1, &amp;c, 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("c = %c\n", 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swer to 11.5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e are redirecting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d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d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So the secon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uses the file position offset o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d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c = 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oday’s Plan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bust I/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pter 11 Practic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hy Use Robust I/O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ndles interrupted system cal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al handl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ndles short cou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countering end-of-file (EOF) on reads (disk fil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ding text lines from a termin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ding and writing network sockets or Unix pi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ful in network progr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bject to short cou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nal buffering constrai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ng network delay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reli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io: Unbuffered Input/Outpu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nsfer data directly between memory and a f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application level buffe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ful for reading/writing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binar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data to/from network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Though text strings </a:t>
            </a:r>
            <a:r>
              <a:rPr b="1" lang="en-US" sz="1800" spc="-1" strike="noStrike">
                <a:solidFill>
                  <a:srgbClr val="0033cc"/>
                </a:solidFill>
                <a:latin typeface="Verdana"/>
              </a:rPr>
              <a:t>ar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binary data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size_t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rio_read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int fd, void* usrbuf, size_t 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ad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bytes from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in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rbuf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nly returns short on EOF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size_t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rio_write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int fd, void* usrbuf, size_t 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rite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bytes from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rbuf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to fi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ver returns short cou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Rio: Buffered Inpu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rio_readinit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rio_t* rp, int fd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alled only once per open file descript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ssociate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d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with a read buffe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size_t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rio_readline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rio_t* rp, void* usrbuf, size_t maxlen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r reading lines from a </a:t>
            </a:r>
            <a:r>
              <a:rPr b="0" lang="en-US" sz="1600" spc="-1" strike="noStrike">
                <a:solidFill>
                  <a:srgbClr val="0033cc"/>
                </a:solidFill>
                <a:latin typeface="Verdana"/>
              </a:rPr>
              <a:t>tex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file onl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ad a line (stop on ‘\n’) 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xlen-1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chars from fi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p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to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srbuf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erminate the text line with null (zero) charac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turns number of chars rea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size_t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rio_readn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rio_t* rp, void* usrbuf, size_t n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r both text and binary fil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ad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bytes from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p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into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srbuf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sult string is NOT null-terminated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turns number of chars rea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rio_readlineb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"/>
          <p:cNvSpPr/>
          <p:nvPr/>
        </p:nvSpPr>
        <p:spPr>
          <a:xfrm>
            <a:off x="453960" y="1599840"/>
            <a:ext cx="6794640" cy="456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size_t rio_readlineb(rio_t *rp, </a:t>
            </a:r>
            <a:r>
              <a:rPr b="1" lang="en-US" sz="14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usrbuf, size_t maxlen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n, r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c, *bufp = usrbuf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33cc"/>
                </a:solidFill>
                <a:latin typeface="Courier New"/>
              </a:rPr>
              <a:t>fo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(n = 1; n &lt; maxlen; n++) 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33cc"/>
                </a:solidFill>
                <a:latin typeface="Courier New"/>
              </a:rPr>
              <a:t>if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((rc = rio_read(rp, &amp;c, 1)) == 1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bufp++ = 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33cc"/>
                </a:solidFill>
                <a:latin typeface="Courier New"/>
              </a:rPr>
              <a:t>if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(c == '\n'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if (rc == 0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33cc"/>
                </a:solidFill>
                <a:latin typeface="Courier New"/>
              </a:rPr>
              <a:t>if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(n == 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0;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/* EOF, no data read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33cc"/>
                </a:solidFill>
                <a:latin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33cc"/>
                </a:solidFill>
                <a:latin typeface="Courier New"/>
              </a:rPr>
              <a:t>break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;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/* EOF, some data was read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1400" spc="-1" strike="noStrike">
                <a:solidFill>
                  <a:srgbClr val="0033cc"/>
                </a:solidFill>
                <a:latin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4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-1;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/* error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bufp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o not interleav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"/>
          <p:cNvSpPr/>
          <p:nvPr/>
        </p:nvSpPr>
        <p:spPr>
          <a:xfrm>
            <a:off x="1071000" y="4665600"/>
            <a:ext cx="2558160" cy="1572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io_readini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io_readlin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io_readn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15120" y="4648320"/>
            <a:ext cx="2009520" cy="825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io_read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io_wri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not interleave calls on the same file descriptor to these two sets of fun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Rio Error Checking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 functions have upper case equivalents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io_readn …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, which call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unix_erro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f the function encounters an err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hort reads are not err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so handles interrupted system cal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doe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gnore EPIPE errors, which are not fatal errors for Lab 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3T01:46:12Z</dcterms:created>
  <dc:creator>Andrew Robert Faulring</dc:creator>
  <dc:description/>
  <dc:language>en-US</dc:language>
  <cp:lastModifiedBy>Andrew Robert Faulring</cp:lastModifiedBy>
  <dcterms:modified xsi:type="dcterms:W3CDTF">2002-11-18T15:27:20Z</dcterms:modified>
  <cp:revision>805</cp:revision>
  <dc:subject/>
  <dc:title>Slide 1</dc:title>
</cp:coreProperties>
</file>