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lstStyle>
            <a:lvl1pPr indent="0" algn="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57120" y="718920"/>
            <a:ext cx="4803480" cy="360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30080" y="4560480"/>
            <a:ext cx="5855040" cy="43210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67612DB0-2CA2-482B-9758-312A6C85F5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3480" cy="36018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730080" y="4560480"/>
            <a:ext cx="5855040" cy="43210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aw diagram on bo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C9F8A-A657-44B2-8017-2BC21B7A7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5DECE-6245-48F1-8C08-A210F1280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CA4F2-939E-4709-A435-17FB07508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7F635-0BBB-4426-A6E4-8E4279867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FD582-5F46-4079-84C7-190428772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DE910-878C-4F60-A2A5-5A9C7EB87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13219-B8E6-428C-8752-338C2DC8F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BDE3C-4843-4056-82DA-5585BFF47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68079-AB38-4DDF-807B-44F4452A1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2432F-8163-426A-AD46-FF22844F2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4A3CC-E9DB-4DED-9ADD-E0C779BB6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0D1CF-E92B-4C7D-B66A-306277798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E8491-05A8-47ED-9EA0-4ABE1CD0AA90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Recitation 11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I/O Problem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drew Faulr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15213 Section 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18 November 2002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Problems from Chapter 11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11.1–11.5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andout contains the problem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Problem 11.1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"/>
          <p:cNvSpPr/>
          <p:nvPr/>
        </p:nvSpPr>
        <p:spPr>
          <a:xfrm>
            <a:off x="451440" y="2820960"/>
            <a:ext cx="5529960" cy="3111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#includ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"csapp.h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ain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d1, fd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d1 = Open("foo.txt", O_RDONLY, 0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lose(fd1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d2 = Open("baz.txt", O_RDONLY, 0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ntf("fd2 = %d\n", fd2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it(0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hat is the output of the following program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Answer to 11.1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fault file descriptor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di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(descriptor 0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dou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(descriptor 1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derr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(descriptor 2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ope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always returns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lowest, unopened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descript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rs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ope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returns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los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frees i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o seco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ope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also 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gram print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fd2 =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Kernel Structure for Open File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scriptor tab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ne per proces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hildren inherit from paren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le Tab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set of all open fil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hared by all process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ference count of number of file descriptors pointing to each entr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-node tab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tains information in th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a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structu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hared by all process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Problem 11.2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ppose that the disk fi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oobar.tx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consists of the 6 ASCII character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"foobar"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 Then what is the output of the following program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"/>
          <p:cNvSpPr/>
          <p:nvPr/>
        </p:nvSpPr>
        <p:spPr>
          <a:xfrm>
            <a:off x="450360" y="2819520"/>
            <a:ext cx="5941440" cy="3660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#includ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"csapp.h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ain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d1, fd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ha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d1 = Open("foobar.txt", O_RDONLY, 0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d2 = Open("foobar.txt", O_RDONLY, 0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ad(fd1, &amp;c, 1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ad(fd2, &amp;c, 1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ntf("c = %c\n", c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it(0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Answer to 11.2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wo descriptor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d1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d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wo open file table entries, each with their own file positions f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oobar.tx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read from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d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also reads the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firs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byte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oobar.tx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o, the output is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c = f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d not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 = 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Problem 11.3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s before, suppose the disk fi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oobar.tx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consists of 6 ASCII character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"foobar"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 Then what is the output of the following program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"/>
          <p:cNvSpPr/>
          <p:nvPr/>
        </p:nvSpPr>
        <p:spPr>
          <a:xfrm>
            <a:off x="457200" y="2971800"/>
            <a:ext cx="4554360" cy="3503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Courier New"/>
              </a:rPr>
              <a:t>#includ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"csapp.h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main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fd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33cc"/>
                </a:solidFill>
                <a:latin typeface="Courier New"/>
              </a:rPr>
              <a:t>char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c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d = Open("foobar.txt", O_RDONLY, 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(Fork() == 0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ad(fd, &amp;c, 1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xit(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ait(NULL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ad(fd, &amp;c, 1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intf("c = %c\n", c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xit(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Answer to 11.3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hild inherits the parent’s descriptor table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hild and parent share an open file table entry (refcount == 2)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ence they share a file position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output i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c = 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Problem 11.4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ow would you use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dup2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to redirect standard input to descriptor 5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int dup2(int oldfd, int newfd)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pies descriptor table entry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oldfd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to descriptor table entry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newf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Answer to 11.4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dup2(5,0)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dup2(5,STDIN_FILENO)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Logistic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aulring@cs.cmu.edu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ffice hou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SH 2504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ermanently moving to Tuesday 2–3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at’s lef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Lab 6 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</a:rPr>
              <a:t>Malloc: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 due on Thursday, 21 Nov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ab 7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Proxy: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due on Thursday, 5 Dec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nal Exam: 8:30am on Tuesday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7 Dec, in Porter Hall 100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Problem 11.5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ssuming that the disk fi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oobar.tx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consists of 6 ASCII character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"foobar"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 Then what is the output of the following program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"/>
          <p:cNvSpPr/>
          <p:nvPr/>
        </p:nvSpPr>
        <p:spPr>
          <a:xfrm>
            <a:off x="457200" y="2971800"/>
            <a:ext cx="4661280" cy="307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Courier New"/>
              </a:rPr>
              <a:t>#includ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"csapp.h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main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fd1, fd2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33cc"/>
                </a:solidFill>
                <a:latin typeface="Courier New"/>
              </a:rPr>
              <a:t>char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c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d1 = Open("foobar.txt", O_RDONLY, 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d2 = Open("foobar.txt", O_RDONLY, 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ad(fd2, &amp;c, 1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up2(fd2, fd1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ad(fd1, &amp;c, 1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intf("c = %c\n", c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xit(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Answer to 11.5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e are redirecting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fd1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t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fd2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. So the second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Read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uses the file position offset of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fd2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c = 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Today’s Plan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obust I/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hapter 11 Practice Problem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Why Use Robust I/O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andles interrupted system cal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al handle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andles short cou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ncountering end-of-file (EOF) on reads (disk file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ding text lines from a termina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ding and writing network sockets or Unix pi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eful in network progra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ubject to short coun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ternal buffering constrain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ng network delay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nreliab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Rio: Unbuffered Input/Outpu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ransfer data directly between memory and a fi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 application level buffer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seful for reading/writing </a:t>
            </a:r>
            <a:r>
              <a:rPr b="0" lang="en-US" sz="2000" spc="-1" strike="noStrike">
                <a:solidFill>
                  <a:srgbClr val="0033cc"/>
                </a:solidFill>
                <a:latin typeface="Verdana"/>
              </a:rPr>
              <a:t>binary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data to/from network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Though text strings </a:t>
            </a:r>
            <a:r>
              <a:rPr b="1" lang="en-US" sz="1800" spc="-1" strike="noStrike">
                <a:solidFill>
                  <a:srgbClr val="0033cc"/>
                </a:solidFill>
                <a:latin typeface="Verdana"/>
              </a:rPr>
              <a:t>are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binary data.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size_t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rio_read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int fd, void* usrbuf, size_t n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ad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bytes from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d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into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usrbuf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nly returns short on EOF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size_t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rio_write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int fd, void* usrbuf, size_t n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Write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bytes from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usrbuf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to fil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ever returns short coun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Rio: Buffered Inpu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rio_readinit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rio_t* rp, int fd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alled only once per open file descripto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ssociates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d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with a read buffer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p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size_t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rio_readline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rio_t* rp, void* usrbuf, size_t maxlen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or reading lines from a </a:t>
            </a:r>
            <a:r>
              <a:rPr b="0" lang="en-US" sz="1600" spc="-1" strike="noStrike">
                <a:solidFill>
                  <a:srgbClr val="0033cc"/>
                </a:solidFill>
                <a:latin typeface="Verdana"/>
              </a:rPr>
              <a:t>text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file only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Read a line (stop on ‘\n’) or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axlen-1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chars from fil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p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to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usrbuf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erminate the text line with null (zero) characte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Returns number of chars read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size_t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rio_readn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rio_t* rp, void* usrbuf, size_t n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or both text and binary fil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Reads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bytes from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p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into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usrbuf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Result string is NOT null-terminated!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Returns number of chars read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rio_readlineb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"/>
          <p:cNvSpPr/>
          <p:nvPr/>
        </p:nvSpPr>
        <p:spPr>
          <a:xfrm>
            <a:off x="453960" y="1599840"/>
            <a:ext cx="6794640" cy="456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size_t rio_readlineb(rio_t *rp, </a:t>
            </a:r>
            <a:r>
              <a:rPr b="1" lang="en-US" sz="14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usrbuf, size_t maxlen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n, rc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33cc"/>
                </a:solidFill>
                <a:latin typeface="Courier New"/>
              </a:rPr>
              <a:t>char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c, *bufp = usrbuf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33cc"/>
                </a:solidFill>
                <a:latin typeface="Courier New"/>
              </a:rPr>
              <a:t>for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(n = 1; n &lt; maxlen; n++) {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33cc"/>
                </a:solidFill>
                <a:latin typeface="Courier New"/>
              </a:rPr>
              <a:t>if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((rc = rio_read(rp, &amp;c, 1)) == 1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bufp++ = c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33cc"/>
                </a:solidFill>
                <a:latin typeface="Courier New"/>
              </a:rPr>
              <a:t>if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(c == '\n'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if (rc == 0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33cc"/>
                </a:solidFill>
                <a:latin typeface="Courier New"/>
              </a:rPr>
              <a:t>if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(n == 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0;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</a:rPr>
              <a:t>/* EOF, no data read *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33cc"/>
                </a:solidFill>
                <a:latin typeface="Courier New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33cc"/>
                </a:solidFill>
                <a:latin typeface="Courier New"/>
              </a:rPr>
              <a:t>break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; 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</a:rPr>
              <a:t>/* EOF, some data was read *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</a:t>
            </a:r>
            <a:r>
              <a:rPr b="1" lang="en-US" sz="1400" spc="-1" strike="noStrike">
                <a:solidFill>
                  <a:srgbClr val="0033cc"/>
                </a:solidFill>
                <a:latin typeface="Courier New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1" lang="en-US" sz="14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-1; 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</a:rPr>
              <a:t>/* error *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bufp = 0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n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Do not interleave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"/>
          <p:cNvSpPr/>
          <p:nvPr/>
        </p:nvSpPr>
        <p:spPr>
          <a:xfrm>
            <a:off x="1071000" y="4665600"/>
            <a:ext cx="2558160" cy="15721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io_readinit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io_readline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io_readn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415120" y="4648320"/>
            <a:ext cx="2009520" cy="8254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io_read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io_wri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o not interleave calls on the same file descriptor to these two sets of func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hy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Rio Error Checking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l functions have upper case equivalents (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Rio_readn …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), which call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unix_error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if the function encounters an erro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hort reads are not erro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lso handles interrupted system cal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ut does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gnore EPIPE errors, which are not fatal errors for Lab 7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3T01:46:12Z</dcterms:created>
  <dc:creator>Andrew Robert Faulring</dc:creator>
  <dc:description/>
  <dc:language>en-US</dc:language>
  <cp:lastModifiedBy>Andrew Robert Faulring</cp:lastModifiedBy>
  <dcterms:modified xsi:type="dcterms:W3CDTF">2002-11-18T15:27:20Z</dcterms:modified>
  <cp:revision>805</cp:revision>
  <dc:subject/>
  <dc:title>Slide 1</dc:title>
</cp:coreProperties>
</file>