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37B-774B-4141-9A87-928C8319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DB9-873B-48E5-91E4-BB9AA871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B83-73B4-44E6-AD60-1F1FC456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1E37-9FCA-4FF1-A336-F6C658F6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FFE8-915C-4CF3-AD2D-22F6E55C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DFB8-FD3C-4ED3-9B38-99E77692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0028-F50C-4744-8B6C-CACA184D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FFDD-7EB9-43B6-BD99-54A3721C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8B81-BAB7-47F7-9C12-A8B48488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7CEC-23CA-46E7-8F88-1E16D968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0CCF-E231-442E-87CE-5F460748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498B-3C3F-4A5B-AAC6-BDC4DBCF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F2F9-5695-410A-A1C3-0E23672B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A7E5-9A41-431D-A57B-9DC8DC21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D791-0E7D-49DE-97EF-ED33F91F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1A3A-B1C4-45DB-A00C-9D4F1003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A04B-E56C-49E3-B600-1EA1FA42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B66-9FE0-483B-9909-7A53FC2A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71B-A939-4512-B916-CA599A26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DD56-26F0-4130-8A5F-3D20B99F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1FCC-0269-4CA1-88E1-16BE7B55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C0A2-78DF-4D8D-947A-E98FDF93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D7EF-EF02-42D5-813E-C40017F0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95F-2007-40BF-9E25-C7375216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B02A-C268-4620-9968-112E36D9677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C14C-044B-4312-8EFC-C4F50548361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nubhav@cs.cm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ita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nubhav Gupt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anubhav@cs.cmu.edu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tion 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izing the he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nt mm_init(void) {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(heap_listp = mem_sbrk(4*WSIZE)) == NULL)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-1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, 0);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+WSIZE, PACK(OVERHEAD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+DSIZE, PACK(OVERHEAD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+WSIZE+DSIZE, PACK(0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eap_listp += DSIZE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extend_heap(CHUNKSIZE/WSIZE) == NULL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-1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0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nding the He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tatic void *extend_heap(size_t words) {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har *bp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ize_t size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ize = (words % 2) ? (words+1) * WSIZE : words * WSIZE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(int)(bp = mem_sbrk(size)) &lt; 0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NULL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DRP(bp), PACK(size, 0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FTRP(bp), PACK(size, 0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DRP(NEXT_BLKP(bp)), PACK(0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coalesce(bp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ales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tatic void *coalesce(void *bp) {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prev_alloc = GET_ALLOC(FTRP(PREV_BLKP(bp)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next_alloc = GET_ALLOC(HDRP(NEXT_BLKP(bp)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size = GET_SIZE(HDRP(bp));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prev_alloc &amp;&amp; next_alloc) { return bp;  }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if (prev_alloc &amp;&amp; !next_alloc) { ….. }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if (!prev_alloc &amp;&amp; next_alloc) {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 += GET_SIZE(HDRP(PREV_BLKP(bp)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UT(FTRP(bp), PACK(size, 0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UT(HDRP(PREV_BLKP(bp)), PACK(size, 0));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p = PREV_BLKP(bp); 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{ ……. 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bp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llo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04600" y="17557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void *mm_malloc(size_t size) {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asize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extendsize;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har *bp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size &lt;= 0) return NULL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size &lt;= DSIZE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size = DSIZE + OVERHEAD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size = DSIZE * ((size + (OVERHEAD) + (DSIZE-1)) / D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(bp = find_fit(asize)) != NULL) {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lace(bp, a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bp; 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xtendsize = MAX(asize,CHUNK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(bp = extend_heap(extendsize/WSIZE)) == NULL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NULL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lace(bp, a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bp; }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First 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tatic void *find_fit(size_t asize) {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void *bp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r (bp = heap_listp; GET_SIZE(HDRP(bp)) &gt; 0; bp = NEXT_BLKP(bp)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!GET_ALLOC(HDRP(bp)) &amp;&amp; (asize &lt;= GET_SIZE(HDRP(bp)))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bp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NULL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cing a block in a free chu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atic void place(void *bp, size_t asize) {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ze_t csize = GET_SIZE(HDRP(bp)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f ((csize - asize) &gt;= (DSIZE + OVERHEAD)) {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HDRP(bp), PACK(asize, 1)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FTRP(bp), PACK(asize, 1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p = NEXT_BLKP(bp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HDRP(bp), PACK(csize-asize, 0));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FTRP(bp), PACK(csize-asize, 0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lse {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HDRP(bp), PACK(csize, 1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FTRP(bp), PACK(csize, 1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oid mm_free(void *bp) {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ze_t size = GET_SIZE(HDRP(bp))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UT(HDRP(bp), PACK(size, 0)); PUT(FTRP(bp), PACK(size, 0))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alesce(bp)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debugging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 each allocated block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quest_id : malloc request counter (0..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itialize in mm_ini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crement in mallo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yload size : the memory requested by mallo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n be different from the allocated siz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here do we store th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 the allocated block head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ocated Block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38560" y="1905120"/>
            <a:ext cx="3162240" cy="41907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266688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533412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94360" y="20574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8880" y="548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5080" y="45720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yloa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4191120"/>
            <a:ext cx="990360" cy="0"/>
          </a:xfrm>
          <a:prstGeom prst="line">
            <a:avLst/>
          </a:prstGeom>
          <a:ln w="2556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3600" y="4343400"/>
            <a:ext cx="21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ointer retur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y malloc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Block Pointer (bp)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88400" y="2133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88400" y="5562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31200" y="449568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&gt;= what user ask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r in malloc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1905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2666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5334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6095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42900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419112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342900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4191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281952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4720" y="36576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42080" y="290844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quest_i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8920" y="35812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yload siz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way to implement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side mallo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llocate additional memory in mallo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VERHEAD = 16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UT(bp,request_counter)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UT(bp+4,size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turn bp+DSIZE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side Fre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p = bp – DSIZE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’s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Malloc Lab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nderstand mm-helper.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dding debugging info to mm-helper.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p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ut all sorts of sanity check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can the implicit list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ike the first fit function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int request_id and siz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icit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parate Free Lis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n find a free block quickl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hange Free Block Form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dd prev poi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dd next poi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here to store free list poin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Only one WOR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n store in unused PAD wor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me functions to ad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atic void insertfree_block(void * freeblkptr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atic void removefree_block(void * freeblkptr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mm-helper.c do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mplicit Free Lis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eader with each block – (size / allocated bit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o separate Free List – free blocks linked implicitly by size fields in 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rst Fi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arches free list from beginning and picks first block that fi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mmediate Boundary Tag Coalesc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oter (boundary tag), replica of 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ck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38560" y="1905120"/>
            <a:ext cx="3162240" cy="41907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533412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94360" y="20574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68880" y="548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5080" y="36576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yloa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2666880"/>
            <a:ext cx="990360" cy="0"/>
          </a:xfrm>
          <a:prstGeom prst="line">
            <a:avLst/>
          </a:prstGeom>
          <a:ln w="2556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9560" y="2743200"/>
            <a:ext cx="21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ointer retur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y malloc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Block Pointer (bp)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8400" y="2133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88400" y="5562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960" y="377028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&gt;= what user ask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r in malloc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1905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2666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5334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6095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der/Footer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2362320"/>
            <a:ext cx="7543800" cy="83808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ouble word align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ree lower-order bits of size always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ck size and allocated bits into a single integ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ze = 24 (0x18). Block is allocated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Header =     0 x18 | 0x1 = 0x19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2362320"/>
            <a:ext cx="0" cy="83808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8680" y="2514600"/>
            <a:ext cx="16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0     0    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1120" y="251460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z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8680" y="1828800"/>
            <a:ext cx="23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     2      1      0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40600" y="1905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p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666880"/>
            <a:ext cx="7621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2666880"/>
            <a:ext cx="7617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2666880"/>
            <a:ext cx="76212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2666880"/>
            <a:ext cx="556272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77320" y="2666880"/>
            <a:ext cx="7617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0|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2666880"/>
            <a:ext cx="762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2666880"/>
            <a:ext cx="7617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2666880"/>
            <a:ext cx="762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2666880"/>
            <a:ext cx="7617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5105520"/>
            <a:ext cx="0" cy="99036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7080" y="22860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6240" y="22860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ologu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51960" y="22860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pilogu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209680"/>
            <a:ext cx="54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94720" y="373392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llocated and Free Block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40960" y="537048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ouble Word Alignm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25320" y="232236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45200" y="2286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4360" y="2286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9800" y="2286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 Useful Mac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WSIZE 4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DSIZE 8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CHUNKSIZE (1&lt;&lt;12)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OVERHEAD 8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 Useful Mac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PACK(size, alloc) ((size) | (alloc)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GET(p) (*(size_t *)(p)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PUT(p, val) (*(size_t *)(p) = (val)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GET_SIZE(p) (GET(p) &amp; ~0x7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GET_ALLOC(p) (GET(p) &amp; 0x1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 Useful Mac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HDR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- WSIZE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FTR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+ GET_SIZE(HDRP(bp)) - DSIZE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NEXT_BLK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+ GET_SIZE(((char *)(bp) - WSIZE))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PREV_BLK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- GET_SIZE(((char *)(bp) - DSIZE))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21:56:28Z</dcterms:created>
  <dc:creator>Anubhav Gupta</dc:creator>
  <dc:description/>
  <dc:language>en-US</dc:language>
  <cp:lastModifiedBy>Anubhav Gupta</cp:lastModifiedBy>
  <dcterms:modified xsi:type="dcterms:W3CDTF">2002-11-11T01:57:27Z</dcterms:modified>
  <cp:revision>36</cp:revision>
  <dc:subject/>
  <dc:title>Recitation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