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8BE-559C-42E8-8ABD-64FD6068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A24-062B-4509-9673-7EB062C8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BB10-F38A-4BE4-899D-6D52556D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B38-0167-4A18-9574-06F12E95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7BF3-FFD5-44F1-BA46-AD42FE71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D290-517E-4B09-BE6B-8D769BBD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BB08-2ABF-4FEC-98AE-66062C5D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E7DA-A5AC-4C27-B1D6-F17D5B01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5DEB-CBBB-434A-848C-DA9668E6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C2AD-93BD-4282-8DEA-74E7938F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0775-87DC-4A14-8406-A7A0550D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48FD-1DA0-410A-8734-55FD5746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82A1-F6AE-4783-9265-6093E511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4D0C-08BE-40A6-90A6-B35AC17E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D69C-A61D-4DA2-A31D-67473F18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35D2-1997-40DA-9367-8D8382A1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AAC3-7FAC-489A-B956-2C3ECB2F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CBE-3653-4A52-AF6F-0962602A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C713-74CA-4C19-B1CB-67527024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CDB-6144-476C-8957-3F318BAF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7F4-E2B4-4F9E-A252-026FDCC1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0154-D7A8-4ED1-93B1-62290BFE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747-C587-4E3A-9690-6ABE99E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9FB-4488-49F5-ADA2-F15871F4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906F-C4AA-4E8D-A5A4-BC32513FED4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DF1B-D32A-4F34-A0A7-4555B946AC5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ubhav@cs.cm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ubhav Gup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anubhav@cs.cmu.edu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tion 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 mm_init(void) {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heap_listp = mem_sbrk(4*WSIZE)) == NULL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, 0);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D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+DSIZE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p_listp += D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extend_heap(CHUNKSIZE/WSIZE) == NULL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extend_heap(size_t words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_t siz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 = (words % 2) ? (words+1) * WSIZE : words * W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int)(bp = mem_sbrk(size)) &lt; 0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NEXT_BLKP(bp))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coalesce(bp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atic void *coalesce(void *bp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prev_alloc = GET_ALLOC(FT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next_alloc = GET_ALLOC(HDRP(NEXT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size = GET_SIZE(HDRP(bp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prev_alloc &amp;&amp; next_alloc) { return bp; 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prev_alloc &amp;&amp; !next_alloc) { …..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!prev_alloc &amp;&amp; next_alloc) {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 += GET_SIZE(HD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HDRP(PREV_BLKP(bp)), PACK(size, 0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p = PREV_BLKP(bp)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{ …….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04600" y="1755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oid *mm_malloc(size_t size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asize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extendsize;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0) 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DSIZ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+ OVERHEAD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* ((size + (OVERHEAD) + (DSIZE-1)) / D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find_fit(asize)) != NULL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tendsize = MAX(asize,CHUNK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extend_heap(extendsize/WSIZE)) == NULL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First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find_fit(size_t asize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oid *b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(bp = heap_listp; GET_SIZE(HDRP(bp)) &gt; 0; bp = NEXT_BLKP(bp)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!GET_ALLOC(HDRP(bp)) &amp;&amp; (asize &lt;= GET_SIZE(HDRP(bp))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ing a block in a free chu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place(void *bp, size_t asize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_t csize = GET_SIZE(HDRP(bp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f ((csize - asize) &gt;= (DSIZE + OVERHEAD)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asize, 1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a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p = NEXT_BLKP(bp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-asize, 0));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-asize, 0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se {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oid mm_free(void *bp) {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ze_t size = GET_SIZE(HDRP(bp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UT(HDRP(bp), PACK(size, 0)); PUT(FTRP(bp), PACK(size, 0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alesce(bp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debugg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each allocated bloc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_id : malloc request counter (0.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itialize in mm_in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rement in mallo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yload size : the memory requested by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different from the allocate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re do we store th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the allocated block hea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ed 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5080" y="45720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19112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3600" y="43434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1200" y="44956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42900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4191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42900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191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28195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720" y="3657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42080" y="29084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8920" y="3581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ay to implement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mallo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locate additional memory in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HEAD = 1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,request_counter)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+4,size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turn bp+DSIZ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Fr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p = bp – DSIZ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alloc La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stand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ding debugging info to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ut all sorts of sanity chec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can the implicit list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ke the first fit func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request_id and siz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parate Free Li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find a free block quickl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nge Free Block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prev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next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re to store free list poin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nly one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store in unused PAD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unctions to a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insert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remove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mm-helper.c d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icit Free Li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 with each block – (size / allocated b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rst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arches free list from beginning and picks first block that fi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mediate Boundary Tag Coalesc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 (boundary tag), replica of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36576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33720" y="266688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9560" y="27432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960" y="3770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/Footer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362320"/>
            <a:ext cx="7543800" cy="8380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ree lower-order bits of size always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ck size and allocated bits into a single inte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 = 24 (0x18). Block is allocat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ader =     0 x18 | 0x1 = 0x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2362320"/>
            <a:ext cx="0" cy="8380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28680" y="25146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     0   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1120" y="25146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8680" y="18288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     2      1      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40600" y="1905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666880"/>
            <a:ext cx="7621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666880"/>
            <a:ext cx="76212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105520"/>
            <a:ext cx="0" cy="99036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7080" y="2286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6240" y="2286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851960" y="2286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00400" y="22096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4720" y="37339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40960" y="5370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25320" y="2322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452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84360" y="2286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98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WSIZE 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DSIZE 8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CHUNKSIZE (1&lt;&lt;12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OVERHEAD 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ACK(size, alloc) ((size) | (alloc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(p) (*(size_t *)(p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UT(p, val) (*(size_t *)(p) = (val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SIZE(p) (GET(p) &amp; ~0x7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ALLOC(p) (GET(p) &amp; 0x1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W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HDRP(bp)) - D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((char *)(bp) - W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GET_SIZE(((char *)(bp) - D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1:56:28Z</dcterms:created>
  <dc:creator>Anubhav Gupta</dc:creator>
  <dc:description/>
  <dc:language>en-US</dc:language>
  <cp:lastModifiedBy>Anubhav Gupta</cp:lastModifiedBy>
  <dcterms:modified xsi:type="dcterms:W3CDTF">2002-11-11T01:57:27Z</dcterms:modified>
  <cp:revision>36</cp:revision>
  <dc:subject/>
  <dc:title>Recitation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