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894-EC18-44D4-BDBD-0DD1B95C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676-D59B-4CE7-8D91-9847CD8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08C-B2F2-4B50-BBCD-AE1A5BF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026-F643-4C12-A457-CEDBD550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63AD-6861-4F3E-B848-CCA07141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2EDB-BC96-4924-BA5D-B1209CD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22D-22EA-4B27-AD2C-29212733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315C-A76C-494C-976F-B7AF323A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AFCE-5A8A-4B38-BE5F-F42AA2C2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631-ABFF-49A4-8506-0F5CE662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CE8-77D7-4BB8-A10F-BF9ADFA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44B-E412-44AF-89CE-1382A13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4C7-28BA-4A3B-8C49-CE314C5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86EB-B224-49E2-BDFF-79C97B0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0F36-9D47-4DA0-B229-9D338D4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90C-D243-4FC5-A09F-BF680273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7444-BECA-4EFB-99FF-E977BCCB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6C8-8630-48E5-A29A-16DE92B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C14-A30B-4032-888C-490F7E03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3F2-635C-4BD7-95AB-B63F90B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CA8-2183-4306-951E-0E2DF7C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66D-7D92-45F9-9947-AB1F2E9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86-B892-4CFB-9F35-DF8B950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287-0AD9-47A2-B426-DA78C22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0230-D4E1-4F44-A02C-D87BBD05CA3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2DE-45CA-4E8D-BF33-598E89368C3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ubhav@cs.cm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ubhav Gup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ubhav@cs.cmu.ed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tion 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ubhav Gupta</cp:lastModifiedBy>
  <dcterms:modified xsi:type="dcterms:W3CDTF">2002-11-11T01:57:27Z</dcterms:modified>
  <cp:revision>36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