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424988" cy="6923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2E0B-B704-4E23-8EE4-E1D687F34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5F12C-B5E8-404E-8925-498017DA8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3B24-044F-4A66-93EF-1A70A191C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93E3D-EC5E-40C3-AB49-AD80E1D6C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4404-EA61-48AB-AF7D-876B7CAD1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8D89-CE21-44B3-B29E-385492F76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43C3-02FA-44DE-85D3-EE5E1D43E8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AB7F-E94A-4248-8E7B-B3AF9FEAF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0AE1-8742-4FA6-8AA1-97A77B100C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2705-6274-4CB4-B56B-F671017B0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81CE-83D5-4948-945C-DAEC30AEE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2A00-5623-4B7C-8B3B-4F7A49D03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C3B4-DA11-405B-ABD9-7F297BDEBD61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Understanding mm-helper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dding debugging info to</a:t>
            </a:r>
            <a:br>
              <a:rPr sz="2800"/>
            </a:b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mm-helper.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Nov. 11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tending the Hea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tatic void *extend_heap(size_t words) {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ize_t size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ize = (words % 2) ? (words+1)*WSIZE :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words*WSIZE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(int)(bp = mem_sbrk(size)) &lt; 0)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D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DRP(NEXT_BLKP(bp)), PACK(0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coalesce(bp)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1016E-970D-4FF8-B795-FCF6CFB1E9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llo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2720" y="1146240"/>
            <a:ext cx="7661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void *mm_malloc(size_t size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_t asize, extendsize;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0) 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DSIZE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+OVERHEAD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*((size+(OVERHEAD)+(DSIZE-1))/D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find_fit(asize)) != NULL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ize = MAX(asize,CHUNK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extend_heap(extendsize/WSIZE)) == NULL)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10160" y="3733920"/>
            <a:ext cx="89568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F333-BF34-442E-BFAA-F00BF159DB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inding First Fi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4320" y="1467000"/>
            <a:ext cx="71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atic void *find_fit(size_t asize) {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*bp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or (bp = heap_listp; GET_SIZE(HDRP(bp)) &gt; 0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p = NEXT_BLKP(bp)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!GET_ALLOC(HDRP(bp))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&amp;&amp; (asize &lt;= GET_SIZE(HDRP(bp)))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8787-763C-44F6-B571-536760943D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llo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42720" y="1146240"/>
            <a:ext cx="7661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void *mm_malloc(size_t size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_t asize, extendsize;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0) 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DSIZE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+OVERHEAD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*((size+(OVERHEAD)+(DSIZE-1))/D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find_fit(asize)) != NULL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ize = MAX(asize,CHUNK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extend_heap(extendsize/WSIZE)) == NULL)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43360" y="3981600"/>
            <a:ext cx="8953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4DAD-4553-4D52-B376-89C1350426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Placing a Block in a Free Block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atic void place(void *bp, size_t asize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csize = GET_SIZE(HDRP(bp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(csize - asize) &gt;= (DSIZE + OVERHEAD)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bp), PACK(asize, 1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asize, 1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p = NEXT_BLKP(bp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bp), PACK(csize-asize, 0));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csize-asize, 0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lse {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bp), PACK(csize, 1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csize, 1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69E2E-A2C7-4365-BA54-FE40DDC004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Mallo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42720" y="1146240"/>
            <a:ext cx="766116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void *mm_malloc(size_t size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ize_t asize, extendsize;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har *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0) 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size &lt;= DSIZE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+OVERHEAD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size = DSIZE*((size+(OVERHEAD)+(DSIZE-1))/D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find_fit(asize)) != NULL) {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ize = MAX(asize,CHUNK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f ((bp = extend_heap(extendsize/WSIZE)) == NULL)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NULL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lace(bp, asize)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21B40-3BD5-4F41-AF15-0FF8AFB145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re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void mm_free(void *bp) {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ize_t size = GET_SIZE(HDRP(bp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D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FTRP(bp), PACK(size, 0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alesce(bp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E591-DC82-46FD-BF59-414A026F10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alesce: Called b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m_fre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() &amp; extend_heap(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atic void *coalesce(void *bp) {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prev_alloc = GET_ALLOC(FTRP(PREV_BLKP(bp)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next_alloc = GET_ALLOC(HDRP(NEXT_BLKP(bp)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_t size = GET_SIZE(HDRP(bp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prev_alloc &amp;&amp; next_alloc) { return bp;  }         else if (prev_alloc &amp;&amp; !next_alloc) { ….. 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lse if (!prev_alloc &amp;&amp; next_alloc) 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ze += GET_SIZE(HDRP(PREV_BLKP(bp)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FTRP(bp), PACK(size, 0)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T(HDRP(PREV_BLKP(bp)), PACK(size, 0)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p = PREV_BLKP(bp)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else { ……. 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bp;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44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FFA1-6E11-4A99-907E-2F746C113A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dding Debugging Information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m_heapchec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splay “request_id” and “payload” of every active block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quest_id : malloc request counter (0.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m_init sets the counter to 0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m_malloc increments the count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yload size : the memory requested by mallo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an be different from the allocated size!!!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need to store the info somewhere ?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03947-480F-4021-8A51-9962872ED2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llocated Block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38560" y="1400040"/>
            <a:ext cx="316224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16216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48290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4360" y="15526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8880" y="4981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5080" y="406728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68604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93960" y="3838680"/>
            <a:ext cx="181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s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8400" y="16286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8400" y="505764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31200" y="399096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40004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216216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482904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559116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9242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68604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292428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368604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31444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4720" y="31528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2080" y="240336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_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8920" y="307656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C319-DDF8-4EB4-B036-5660010782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What does mm-helper.c do ?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mplicit Free Lis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eader with each block – (size / allocated bit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 separate Free List – free blocks linked implicitly by size fields in head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irst Fit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arches free list from beginning and picks first block that is large enough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Immediate Boundary Tag Coalescing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601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ooter (boundary tag), replica of head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9708-1713-4C34-A0F3-28ADBB79B0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ne Way to Implement Thi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ide mallo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llocate additional memory in malloc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UT(bp,request_counter);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UT(bp+4,size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return bp+DSIZE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Inside Fre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p = bp – DSIZE;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BC5B-2A27-4614-8E3E-1D59F380AD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apcheck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ut all sorts of sanity check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can the implicit list 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ike the first fit function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spcBef>
                <a:spcPts val="700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int request_id and siz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C572-74A8-47F4-82A8-6397DB4F24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Explicit List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parate Free Lis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n find a free block quickly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hange Free Block Forma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dd prev point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dd next pointer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here to store free list point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nly one WOR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n store in unused PAD word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ome functions to ad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tic void insertfree_block(void * freeblkptr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tatic void removefree_block(void * freeblkptr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397FA-7037-4206-830B-6987A14510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lock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1447920"/>
            <a:ext cx="316224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22096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4876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4360" y="16002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8880" y="50292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95080" y="32004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2096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9560" y="22860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8400" y="1676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5105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960" y="33130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144792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77120" y="220968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487692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638680"/>
            <a:ext cx="21333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F288-5FE3-40DE-AD57-C7D2577F01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ader/Footer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52160" y="3962520"/>
            <a:ext cx="72579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ouble word alignment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ree lower-order bits of size always 0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ack size and allocated bits into a single intege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ze = 24 (0x18). Block is allocated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eader =     0 x18 | 0x1 = 0x19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95280" y="1828800"/>
            <a:ext cx="7306560" cy="1371600"/>
            <a:chOff x="1295280" y="1828800"/>
            <a:chExt cx="7306560" cy="1371600"/>
          </a:xfrm>
        </p:grpSpPr>
        <p:sp>
          <p:nvSpPr>
            <p:cNvPr id="109" name=""/>
            <p:cNvSpPr/>
            <p:nvPr/>
          </p:nvSpPr>
          <p:spPr>
            <a:xfrm>
              <a:off x="1295280" y="2362320"/>
              <a:ext cx="709020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66480" y="23623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37400" y="2514600"/>
              <a:ext cx="166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0     0    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16480" y="2514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iz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29440" y="1828800"/>
              <a:ext cx="23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     2      1      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97440" y="19051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F5F9-A20D-4F8F-BACC-7A96E78E43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eap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257560"/>
            <a:ext cx="65376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73080" y="2257560"/>
            <a:ext cx="65592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29000" y="2257560"/>
            <a:ext cx="65376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82760" y="2257560"/>
            <a:ext cx="478008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62840" y="2257560"/>
            <a:ext cx="654120" cy="7617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19320" y="3019320"/>
            <a:ext cx="5062320" cy="2914920"/>
            <a:chOff x="1219320" y="3019320"/>
            <a:chExt cx="5062320" cy="2914920"/>
          </a:xfrm>
        </p:grpSpPr>
        <p:sp>
          <p:nvSpPr>
            <p:cNvPr id="122" name=""/>
            <p:cNvSpPr/>
            <p:nvPr/>
          </p:nvSpPr>
          <p:spPr>
            <a:xfrm>
              <a:off x="1523880" y="49435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40960" y="5208480"/>
              <a:ext cx="25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ord Alig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8 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30193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29000" y="30193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81640" y="305748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48200" y="3019320"/>
              <a:ext cx="0" cy="990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95320" y="1657440"/>
            <a:ext cx="11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bytes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08080" y="18763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0240" y="187632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72080" y="1800360"/>
            <a:ext cx="47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26360" y="332424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174840" y="2257560"/>
            <a:ext cx="2308680" cy="761760"/>
            <a:chOff x="3174840" y="2257560"/>
            <a:chExt cx="2308680" cy="761760"/>
          </a:xfrm>
        </p:grpSpPr>
        <p:sp>
          <p:nvSpPr>
            <p:cNvPr id="134" name=""/>
            <p:cNvSpPr/>
            <p:nvPr/>
          </p:nvSpPr>
          <p:spPr>
            <a:xfrm>
              <a:off x="3182760" y="2257560"/>
              <a:ext cx="87480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76760" y="2257560"/>
              <a:ext cx="798480" cy="76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4840" y="2446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42920" y="243828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418000" y="2257560"/>
            <a:ext cx="2576880" cy="761760"/>
            <a:chOff x="5418000" y="2257560"/>
            <a:chExt cx="2576880" cy="761760"/>
          </a:xfrm>
        </p:grpSpPr>
        <p:sp>
          <p:nvSpPr>
            <p:cNvPr id="139" name=""/>
            <p:cNvSpPr/>
            <p:nvPr/>
          </p:nvSpPr>
          <p:spPr>
            <a:xfrm>
              <a:off x="5475240" y="2257560"/>
              <a:ext cx="797040" cy="76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218360" y="2257560"/>
              <a:ext cx="749160" cy="761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8000" y="24480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54280" y="245736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o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81320" y="2257560"/>
            <a:ext cx="228600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57960" y="2257560"/>
            <a:ext cx="2504880" cy="7617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34040" y="3038400"/>
            <a:ext cx="79992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6448320" y="3029040"/>
            <a:ext cx="3524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12F4-D7EF-4E8A-8656-557E446DF5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ery Useful Macr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WSIZE 4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DSIZE 8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CHUNKSIZE (1&lt;&lt;12)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#define OVERHEAD 8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DE0E-8862-4529-AC06-61601B098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ery Useful Macr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PACK(size, alloc) ((size) | (alloc)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GET(p) (*(size_t *)(p)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PUT(p, val) (*(size_t *)(p) = (val)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GET_SIZE(p) (GET(p) &amp; ~0x7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GET_ALLOC(p) (GET(p) &amp; 0x1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5C0A-E693-41B5-A69A-DDC32AC0F1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Very Useful Macro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HDR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- WSIZE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FTR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+ GET_SIZE(HDRP(bp)) - DSIZE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NEXT_BLK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+ GET_SIZE(((char *)(bp) - WSIZE))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#define PREV_BLKP(bp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((char *)(bp) - GET_SIZE(((char *)(bp) - DSIZE)))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760F-976B-43E7-B3E6-39CEBFA6CE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Initializing the Heap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2640" y="1218960"/>
            <a:ext cx="7629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mm_init(void) {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(heap_listp = mem_sbrk(4*WSIZE)) == NULL)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, 0); 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+WSIZE, PACK(OVERHEAD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+DSIZE, PACK(OVERHEAD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T(heap_listp+WSIZE+DSIZE, PACK(0, 1))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heap_listp += DSIZE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extend_heap(CHUNKSIZE/WSIZE) == NULL)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-1;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E7E4-1265-4CD1-A641-297858358D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11-11T16:20:58Z</dcterms:modified>
  <cp:revision>506</cp:revision>
  <dc:subject/>
  <dc:title>PowerPoint Presentation</dc:title>
</cp:coreProperties>
</file>