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847E-5948-4297-8CCA-3F3FBC7A4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98D0-BB2E-4C89-9EF2-BCF9435F0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39C0-43FB-443D-B251-9AF861B32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10C0A-1124-4AD3-953A-2C50C1665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38C3-E714-41D4-8789-36730EE54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784B-3BB1-48CD-B4F7-F1D0DD274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D94B-21E1-46B4-B439-2A91B107A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3C15-87AB-47B2-B6A4-F8A53C60C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5187-A5EF-4044-944E-EAB48A0F8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71EE-874C-4E78-A08F-0AC6C3B56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A1BC-5FD6-4024-9644-145382018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9443-5C81-4A93-9656-06B18BF38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755-FAE9-4CBE-BCCC-402FC89D018F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derstanding mm-helper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ing debugging info 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mm-helper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11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tending the Hea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ic void *extend_heap(size_t words) {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_t size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 = (words % 2) ? (words+1)*WSIZE 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words*WSIZE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(int)(bp = mem_sbrk(size)) &lt; 0)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NEXT_BLKP(bp)), PACK(0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coalesce(bp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61DE-DB00-41B3-873E-F5C52BB3E9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0160" y="3733920"/>
            <a:ext cx="895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09E7-5643-4996-BA1E-E2AF1F8BFE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nding First Fi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4320" y="1467000"/>
            <a:ext cx="71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*find_fit(size_t asize)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*bp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bp = heap_listp; GET_SIZE(HDRP(bp)) &gt; 0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NEXT_BLKP(bp)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!GET_ALLOC(HDRP(bp)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&amp;&amp; (asize &lt;= GET_SIZE(HDRP(bp)))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D2CD-E4F8-4347-BC64-50C26EF6D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43360" y="3981600"/>
            <a:ext cx="8953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6828-21B4-44A9-BB18-E934DEECB1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lacing a Block in a Free Block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place(void *bp, size_t asize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csize = GET_SIZE(HDRP(bp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(csize - asize) &gt;= (DSIZE + OVERHEAD)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asize, 1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a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NEXT_BLKP(bp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csize-asize, 0));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csize-asize, 0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c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c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2412-482D-4BCA-B805-8CD704E60B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8CD0-D8CD-4E7F-A1DF-E0E86DBCA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re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void mm_free(void *bp) {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_t size = GET_SIZE(HDRP(bp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alesce(bp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DEF8-079E-497A-AC04-BBE21AF74A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alesce: Called b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m_fre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) &amp; extend_heap(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*coalesce(void *bp)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prev_alloc = GET_ALLOC(FTRP(PREV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next_alloc = GET_ALLOC(HDRP(NEXT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size = GET_SIZE(HDRP(bp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prev_alloc &amp;&amp; next_alloc) { return bp;  }         else if (prev_alloc &amp;&amp; !next_alloc) { ….. 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if (!prev_alloc &amp;&amp; next_alloc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 += GET_SIZE(HDRP(PREV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PREV_BLKP(bp)), PACK(size, 0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PREV_BLKP(bp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{ ……. 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1336-1F61-4A0A-874C-6658822FD6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dding Debugging Inform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m_heapchec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play “request_id” and “payload” of every active bloc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quest_id : malloc request counter (0.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m_init sets the counter to 0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m_malloc increments the count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yload size : the memory requested by mallo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n be different from the allocated size!!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tore the info somewhere 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6A36-5F36-4E81-929C-92DC4FCBD0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located Block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38560" y="1400040"/>
            <a:ext cx="316224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1621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829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4360" y="15526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8880" y="4981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4067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68604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3960" y="383868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8400" y="1628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8400" y="5057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31200" y="399096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400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216216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29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59116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9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686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29242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86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3144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720" y="315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2080" y="240336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8920" y="30765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5D3A-022C-4C56-9692-9D4B37B26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does mm-helper.c do 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plicit Free Li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eader with each block – (size / allocated bit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rst Fi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arches free list from beginning and picks first block that is large enoug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mediate Boundary Tag Coalesc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oter (boundary tag), replica of head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0DAC-1589-479D-AFA7-18BCB3FDB6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ne Way to Implement Th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ide mallo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ocate additional memory in mallo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T(bp,request_counter);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T(bp+4,size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bp+DSIZE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ide Fre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p = bp – DSIZE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5189-BF02-4822-B1A4-D7F4D98264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pcheck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t all sorts of sanity check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 the implicit list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ike the first fit function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 request_id and siz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258E-D70B-4AF5-8BE8-CA89CC18E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plicit Lis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parate Free Lis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n find a free block quickl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hange Free Block Forma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dd prev poin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dd next poin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ere to store free list point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WOR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n store in unused PAD wor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ome functions to ad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tic void insertfree_block(void * freeblkptr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tic void removefree_block(void * freeblkptr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711E-AAAF-49C0-AC7F-44778EA87C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1447920"/>
            <a:ext cx="316224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209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876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4360" y="16002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8880" y="50292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5080" y="32004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209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9560" y="22860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8400" y="1676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5105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960" y="33130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144792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87692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6386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4A6C-59BB-43D3-906A-3BB7BC27B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der/Footer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2160" y="3962520"/>
            <a:ext cx="725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ouble word align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e lower-order bits of size always 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ack size and allocated bits into a single integ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ze = 24 (0x18). Block is allocated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eader =     0 x18 | 0x1 = 0x1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1828800"/>
            <a:ext cx="7306560" cy="1371600"/>
            <a:chOff x="1295280" y="1828800"/>
            <a:chExt cx="7306560" cy="1371600"/>
          </a:xfrm>
        </p:grpSpPr>
        <p:sp>
          <p:nvSpPr>
            <p:cNvPr id="109" name=""/>
            <p:cNvSpPr/>
            <p:nvPr/>
          </p:nvSpPr>
          <p:spPr>
            <a:xfrm>
              <a:off x="1295280" y="2362320"/>
              <a:ext cx="70902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66480" y="2362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37400" y="251460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     0   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6480" y="2514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9440" y="1828800"/>
              <a:ext cx="23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   2      1      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7440" y="1905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1168-EB41-4DB9-A607-DD2FB4F36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p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257560"/>
            <a:ext cx="653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73080" y="2257560"/>
            <a:ext cx="6559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9000" y="2257560"/>
            <a:ext cx="65376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82760" y="2257560"/>
            <a:ext cx="47800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2840" y="2257560"/>
            <a:ext cx="6541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3019320"/>
            <a:ext cx="5062320" cy="2914920"/>
            <a:chOff x="1219320" y="3019320"/>
            <a:chExt cx="5062320" cy="2914920"/>
          </a:xfrm>
        </p:grpSpPr>
        <p:sp>
          <p:nvSpPr>
            <p:cNvPr id="122" name=""/>
            <p:cNvSpPr/>
            <p:nvPr/>
          </p:nvSpPr>
          <p:spPr>
            <a:xfrm>
              <a:off x="1523880" y="49435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40960" y="5208480"/>
              <a:ext cx="25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ord Al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8 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2900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81640" y="305748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820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95320" y="16574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8080" y="1876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0240" y="18763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1800360"/>
            <a:ext cx="4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6360" y="33242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174840" y="2257560"/>
            <a:ext cx="2308680" cy="761760"/>
            <a:chOff x="3174840" y="2257560"/>
            <a:chExt cx="2308680" cy="761760"/>
          </a:xfrm>
        </p:grpSpPr>
        <p:sp>
          <p:nvSpPr>
            <p:cNvPr id="134" name=""/>
            <p:cNvSpPr/>
            <p:nvPr/>
          </p:nvSpPr>
          <p:spPr>
            <a:xfrm>
              <a:off x="3182760" y="2257560"/>
              <a:ext cx="87480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76760" y="2257560"/>
              <a:ext cx="798480" cy="76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4840" y="2446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42920" y="243828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418000" y="2257560"/>
            <a:ext cx="2576880" cy="761760"/>
            <a:chOff x="5418000" y="2257560"/>
            <a:chExt cx="2576880" cy="761760"/>
          </a:xfrm>
        </p:grpSpPr>
        <p:sp>
          <p:nvSpPr>
            <p:cNvPr id="139" name=""/>
            <p:cNvSpPr/>
            <p:nvPr/>
          </p:nvSpPr>
          <p:spPr>
            <a:xfrm>
              <a:off x="5475240" y="2257560"/>
              <a:ext cx="79704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18360" y="2257560"/>
              <a:ext cx="749160" cy="76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8000" y="24480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54280" y="245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81320" y="2257560"/>
            <a:ext cx="228600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57960" y="2257560"/>
            <a:ext cx="250488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34040" y="3038400"/>
            <a:ext cx="79992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48320" y="3029040"/>
            <a:ext cx="3524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DD0F-7D7C-4E38-8B4E-849D1E13B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WSIZE 4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DSIZE 8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CHUNKSIZE (1&lt;&lt;12)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OVERHEAD 8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FE9B-0459-45D0-BD5E-C4BD5F471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ACK(size, alloc) ((size) | (alloc)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(p) (*(size_t *)(p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UT(p, val) (*(size_t *)(p) = (val)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_SIZE(p) (GET(p) &amp; ~0x7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_ALLOC(p) (GET(p) &amp; 0x1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A92B-5EA7-4FE4-99F9-E6D2D83E3C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HDR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- WSIZE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FTR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+ GET_SIZE(HDRP(bp)) - DSIZE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NEXT_BLK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+ GET_SIZE(((char *)(bp) - WSIZE)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REV_BLK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- GET_SIZE(((char *)(bp) - DSIZE)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CE8F-BD00-44D3-A865-F519CD559D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nitializing the Hea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mm_init(void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(heap_listp = mem_sbrk(4*WSIZE)) == NULL)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, 0);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WSIZE, PACK(OVERHEAD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DSIZE, PACK(OVERHEAD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WSIZE+DSIZE, PACK(0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heap_listp += DSIZE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xtend_heap(CHUNKSIZE/WSIZE) == NULL)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713F-CD01-41CF-9F75-BE0CDAC51F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11T16:20:58Z</dcterms:modified>
  <cp:revision>506</cp:revision>
  <dc:subject/>
  <dc:title>PowerPoint Presentation</dc:title>
</cp:coreProperties>
</file>