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22B7-C3A1-4F35-AFE7-923D7EF1F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9166-80A3-4220-AA47-6EAD8FD43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918D-F3E1-46D5-82F1-3FBF1E821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BBC8E-75E9-436A-B3A3-8DFD2C848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7C49-78F2-4A3B-A029-5F8E05693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E429-C48A-4075-A690-EF4B4F739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42FBA-9BCE-4E09-85A6-8DD16B55A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BC52-965F-486F-9FDC-48B9F6760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842A-2308-4FBC-A977-71F408DF3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EC82B-6E2C-4182-A894-CDBA524DA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0EF2C-50F7-4CE6-8DAF-CA1085E4F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13F7-1788-4FFF-AF22-6EAF602B9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E426-8BBA-4438-8A5B-EA9BF4BBD194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nderstanding mm-helper.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dding debugging info to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mm-helper.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Nov. 11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xtending the Hea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tatic void *extend_heap(size_t words) {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r *bp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ize_t size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ize = (words % 2) ? (words+1)*WSIZE 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words*WSIZE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(int)(bp = mem_sbrk(size)) &lt; 0)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NULL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HDRP(bp), PACK(size, 0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FTRP(bp), PACK(size, 0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HDRP(NEXT_BLKP(bp)), PACK(0, 1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coalesce(bp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58971-DB87-421B-854D-6A532B94FD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Malloc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42720" y="1146240"/>
            <a:ext cx="76611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void *mm_malloc(size_t size) {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ze_t asize, extendsize;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har *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size &lt;= 0) return NULL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size &lt;= DSIZE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size = DSIZE+OVERHEAD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lse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size = DSIZE*((size+(OVERHEAD)+(DSIZE-1))/D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(bp = find_fit(asize)) != NULL) {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lace(bp, a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ize = MAX(asize,CHUNK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(bp = extend_heap(extendsize/WSIZE)) == NULL)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NULL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lace(bp, a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10160" y="3733920"/>
            <a:ext cx="8956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81389-F008-439C-8638-C51372A809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inding First Fi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4320" y="1467000"/>
            <a:ext cx="716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atic void *find_fit(size_t asize) {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void *bp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or (bp = heap_listp; GET_SIZE(HDRP(bp)) &gt; 0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p = NEXT_BLKP(bp))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!GET_ALLOC(HDRP(bp))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&amp;&amp; (asize &lt;= GET_SIZE(HDRP(bp)))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13E0-FDDE-4C11-95FF-0E79B3E606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Malloc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42720" y="1146240"/>
            <a:ext cx="76611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void *mm_malloc(size_t size) {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ze_t asize, extendsize;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har *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size &lt;= 0) return NULL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size &lt;= DSIZE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size = DSIZE+OVERHEAD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lse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size = DSIZE*((size+(OVERHEAD)+(DSIZE-1))/D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(bp = find_fit(asize)) != NULL) {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lace(bp, a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ize = MAX(asize,CHUNK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(bp = extend_heap(extendsize/WSIZE)) == NULL)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NULL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lace(bp, a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43360" y="3981600"/>
            <a:ext cx="8953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B740-B876-4AF4-90DE-E4E501FB4B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lacing a Block in a Free Block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atic void place(void *bp, size_t asize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ze_t csize = GET_SIZE(HDRP(bp)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(csize - asize) &gt;= (DSIZE + OVERHEAD)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HDRP(bp), PACK(asize, 1)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FTRP(bp), PACK(asize, 1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p = NEXT_BLKP(bp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HDRP(bp), PACK(csize-asize, 0));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FTRP(bp), PACK(csize-asize, 0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lse {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HDRP(bp), PACK(csize, 1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FTRP(bp), PACK(csize, 1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E095-71B6-498C-9DA1-B1E45D3957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Malloc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42720" y="1146240"/>
            <a:ext cx="76611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void *mm_malloc(size_t size) {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ze_t asize, extendsize;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har *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size &lt;= 0) return NULL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size &lt;= DSIZE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size = DSIZE+OVERHEAD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lse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size = DSIZE*((size+(OVERHEAD)+(DSIZE-1))/D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(bp = find_fit(asize)) != NULL) {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lace(bp, a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ize = MAX(asize,CHUNK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(bp = extend_heap(extendsize/WSIZE)) == NULL)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NULL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lace(bp, a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68D3C-9839-45AC-9B22-C9C3CFD6C7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re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void mm_free(void *bp) {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ize_t size = GET_SIZE(HDRP(bp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HDRP(bp), PACK(size, 0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FTRP(bp), PACK(size, 0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oalesce(bp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03F2-B010-4240-9E64-522EFA96CC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alesce: Called b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m_fre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() &amp; extend_heap(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atic void *coalesce(void *bp) {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ze_t prev_alloc = GET_ALLOC(FTRP(PREV_BLKP(bp)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ze_t next_alloc = GET_ALLOC(HDRP(NEXT_BLKP(bp)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ze_t size = GET_SIZE(HDRP(bp)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prev_alloc &amp;&amp; next_alloc) { return bp;  }         else if (prev_alloc &amp;&amp; !next_alloc) { ….. 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lse if (!prev_alloc &amp;&amp; next_alloc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ze += GET_SIZE(HDRP(PREV_BLKP(bp)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FTRP(bp), PACK(size, 0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HDRP(PREV_BLKP(bp)), PACK(size, 0)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p = PREV_BLKP(bp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lse { ……. 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A99E-5FD4-4B1E-9097-64F950FA69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dding Debugging Informatio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m_heapcheck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isplay “request_id” and “payload” of every active block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quest_id : malloc request counter (0.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m_init sets the counter to 0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m_malloc increments the count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yload size : the memory requested by mallo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an be different from the allocated size!!!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need to store the info somewhere 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B92C-3E80-430B-A362-A44B83DE74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llocated Block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38560" y="1400040"/>
            <a:ext cx="316224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21621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48290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94360" y="155268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8880" y="49816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5080" y="406728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68604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3960" y="3838680"/>
            <a:ext cx="181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 retur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8400" y="162864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8400" y="505764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31200" y="399096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= what user as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n mal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40004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216216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482904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559116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924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36860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292428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368604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31444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4720" y="31528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2080" y="240336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8920" y="307656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load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A090-61A2-4F56-B86C-ECE7011BD4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What does mm-helper.c do ?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mplicit Free Lis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eader with each block – (size / allocated bit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o separate Free List – free blocks linked implicitly by size fields in head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irst Fi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arches free list from beginning and picks first block that is large enoug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mmediate Boundary Tag Coalesc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ooter (boundary tag), replica of head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2B9F-61C8-4D35-B0EB-F7B0CF0AD9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ne Way to Implement Thi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side malloc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llocate additional memory in mallo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UT(bp,request_counter);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UT(bp+4,size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turn bp+DSIZE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side Fre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p = bp – DSIZE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B1803-4C9B-46AD-97AA-1E40AF7D2D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eapcheck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ut all sorts of sanity check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can the implicit list 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ike the first fit function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int request_id and siz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8B72-B5C6-4930-92C3-E295F0D9B1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xplicit List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parate Free Lis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n find a free block quickl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hange Free Block Forma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dd prev point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dd next point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here to store free list point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nly one WOR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n store in unused PAD wor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ome functions to ad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tatic void insertfree_block(void * freeblkptr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tatic void removefree_block(void * freeblkptr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E38A-883C-4A61-853C-EC79B0EFDA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Block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38560" y="1447920"/>
            <a:ext cx="316224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22096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4876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4360" y="16002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8880" y="50292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5080" y="32004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22096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9560" y="2286000"/>
            <a:ext cx="21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 retur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mallo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lock Pointer (bp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8400" y="16765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51055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960" y="331308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= what user as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n mal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144792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20968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487692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563868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4183-C800-49E4-9621-C556E76A67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eader/Footer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2160" y="3962520"/>
            <a:ext cx="72579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ouble word alignmen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ree lower-order bits of size always 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ack size and allocated bits into a single integ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ze = 24 (0x18). Block is allocated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Header =     0 x18 | 0x1 = 0x1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95280" y="1828800"/>
            <a:ext cx="7306560" cy="1371600"/>
            <a:chOff x="1295280" y="1828800"/>
            <a:chExt cx="7306560" cy="1371600"/>
          </a:xfrm>
        </p:grpSpPr>
        <p:sp>
          <p:nvSpPr>
            <p:cNvPr id="109" name=""/>
            <p:cNvSpPr/>
            <p:nvPr/>
          </p:nvSpPr>
          <p:spPr>
            <a:xfrm>
              <a:off x="1295280" y="2362320"/>
              <a:ext cx="709020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66480" y="23623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37400" y="2514600"/>
              <a:ext cx="16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     0    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16480" y="2514600"/>
              <a:ext cx="90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iz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29440" y="1828800"/>
              <a:ext cx="23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     2      1      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97440" y="1905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F93E-BBCB-44AB-BC8C-ECA92E2B56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eap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2257560"/>
            <a:ext cx="65376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73080" y="2257560"/>
            <a:ext cx="655920" cy="7617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9000" y="2257560"/>
            <a:ext cx="653760" cy="7617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82760" y="2257560"/>
            <a:ext cx="4780080" cy="7617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62840" y="2257560"/>
            <a:ext cx="654120" cy="7617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|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219320" y="3019320"/>
            <a:ext cx="5062320" cy="2914920"/>
            <a:chOff x="1219320" y="3019320"/>
            <a:chExt cx="5062320" cy="2914920"/>
          </a:xfrm>
        </p:grpSpPr>
        <p:sp>
          <p:nvSpPr>
            <p:cNvPr id="122" name=""/>
            <p:cNvSpPr/>
            <p:nvPr/>
          </p:nvSpPr>
          <p:spPr>
            <a:xfrm>
              <a:off x="1523880" y="4943520"/>
              <a:ext cx="0" cy="990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40960" y="5208480"/>
              <a:ext cx="258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uble Word Alig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8 by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3019320"/>
              <a:ext cx="0" cy="990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29000" y="3019320"/>
              <a:ext cx="0" cy="990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81640" y="3057480"/>
              <a:ext cx="0" cy="990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48200" y="3019320"/>
              <a:ext cx="0" cy="990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895320" y="1657440"/>
            <a:ext cx="11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bytes 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08080" y="18763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l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70240" y="187632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l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72080" y="1800360"/>
            <a:ext cx="473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26360" y="332424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d and Free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174840" y="2257560"/>
            <a:ext cx="2308680" cy="761760"/>
            <a:chOff x="3174840" y="2257560"/>
            <a:chExt cx="2308680" cy="761760"/>
          </a:xfrm>
        </p:grpSpPr>
        <p:sp>
          <p:nvSpPr>
            <p:cNvPr id="134" name=""/>
            <p:cNvSpPr/>
            <p:nvPr/>
          </p:nvSpPr>
          <p:spPr>
            <a:xfrm>
              <a:off x="3182760" y="2257560"/>
              <a:ext cx="87480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76760" y="2257560"/>
              <a:ext cx="798480" cy="761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74840" y="2446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42920" y="243828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o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418000" y="2257560"/>
            <a:ext cx="2576880" cy="761760"/>
            <a:chOff x="5418000" y="2257560"/>
            <a:chExt cx="2576880" cy="761760"/>
          </a:xfrm>
        </p:grpSpPr>
        <p:sp>
          <p:nvSpPr>
            <p:cNvPr id="139" name=""/>
            <p:cNvSpPr/>
            <p:nvPr/>
          </p:nvSpPr>
          <p:spPr>
            <a:xfrm>
              <a:off x="5475240" y="2257560"/>
              <a:ext cx="79704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18360" y="2257560"/>
              <a:ext cx="749160" cy="761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18000" y="24480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54280" y="24573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o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181320" y="2257560"/>
            <a:ext cx="2286000" cy="76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57960" y="2257560"/>
            <a:ext cx="2504880" cy="76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34040" y="3038400"/>
            <a:ext cx="79992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448320" y="3029040"/>
            <a:ext cx="35244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B815-2F7A-4F78-B35E-88A0990593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Very Useful Macro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#define WSIZE 4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#define DSIZE 8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#define CHUNKSIZE (1&lt;&lt;12)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#define OVERHEAD 8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6907-D1AE-4CE7-8385-02C6C3C0E1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Very Useful Macro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PACK(size, alloc) ((size) | (alloc)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GET(p) (*(size_t *)(p)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PUT(p, val) (*(size_t *)(p) = (val)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GET_SIZE(p) (GET(p) &amp; ~0x7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GET_ALLOC(p) (GET(p) &amp; 0x1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ECCF-1F5C-4121-ABF6-85EBF6FC92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Very Useful Macro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HDRP(bp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((char *)(bp) - WSIZE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FTRP(bp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((char *)(bp) + GET_SIZE(HDRP(bp)) - DSIZE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NEXT_BLKP(bp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((char *)(bp) + GET_SIZE(((char *)(bp) - WSIZE))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PREV_BLKP(bp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((char *)(bp) - GET_SIZE(((char *)(bp) - DSIZE))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6D43-EAF3-4424-A519-71D502D050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nitializing the Hea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629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mm_init(void) {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(heap_listp = mem_sbrk(4*WSIZE)) == NULL)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-1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heap_listp, 0);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heap_listp+WSIZE, PACK(OVERHEAD, 1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heap_listp+DSIZE, PACK(OVERHEAD, 1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heap_listp+WSIZE+DSIZE, PACK(0, 1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heap_listp += DSIZE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xtend_heap(CHUNKSIZE/WSIZE) == NULL)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-1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56879-0C11-413C-8833-89ABC0575E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1-11T16:20:58Z</dcterms:modified>
  <cp:revision>506</cp:revision>
  <dc:subject/>
  <dc:title>PowerPoint Presentation</dc:title>
</cp:coreProperties>
</file>