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9EF-0284-464D-A082-83DC99F9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229-A79C-4B1B-A34A-EE945CBF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03C-AFC5-4196-B83E-50B87897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71F5-1264-48BE-9636-4AE61723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F0EF-AB4A-49C7-9DBF-BE8D849F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48FE-6906-409E-93CC-ED06369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F96B-6EF2-4968-8242-3E10D491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A783-2197-42E8-9A4D-BA8840A8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5D6-77BE-4919-86F8-B4893F1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7910-7BA1-4A23-B710-D3080F6E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B060-F80C-45C1-BB21-56CA855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CF7-A05A-4BD0-896B-D0F12480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BD80-A5CC-4C38-A4C9-BF22EAD8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74D5-47C5-4B27-A0C2-FBBA25F7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B9BD-78B3-44C5-BC8F-E8EBB3E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8828-3569-49C9-AC84-B8B1E153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C340-FFDC-4AA1-B63F-E0C92C60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1F7-4471-4B89-B3D4-AA568A16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B43-678A-440C-8CB8-87B0B252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33D-969A-45DF-B039-AF45BD9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F18-D0ED-4319-906C-58287C3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543-2D6C-4831-A8A1-5770596D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755-FCAB-41A1-B94D-363D4E9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31C-8F33-44A3-A39B-458AE617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6FA9-EB77-4D4B-94D6-F75AFB0FF34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0113-0E4B-4971-8E9D-D28F8944DD7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10: Malloc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drew Faul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5213 Section 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1 November 200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W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HDRP(bp)) - D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((char *)(bp) - W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GET_SIZE(((char *)(bp) - D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t mm_init(void) {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heap_listp = mem_sbrk(4*WSIZE)) == NULL)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, 0);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D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+DSIZE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p_listp += D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extend_heap(CHUNKSIZE/WSIZE) == NULL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d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extend_heap(size_t words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_t siz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 = (words % 2) ? (words+1) * WSIZE : words * W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int)(bp = mem_sbrk(size)) &lt; 0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NEXT_BLKP(bp))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coalesce(bp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atic void *coalesce(void *bp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prev_alloc = GET_ALLOC(FT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next_alloc = GET_ALLOC(HDRP(NEXT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size = GET_SIZE(HDRP(bp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prev_alloc &amp;&amp; next_alloc) { return bp; 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prev_alloc &amp;&amp; !next_alloc) { …..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!prev_alloc &amp;&amp; next_alloc) {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 += GET_SIZE(HD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HDRP(PREV_BLKP(bp)), PACK(size, 0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p = PREV_BLKP(bp)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{ …….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4600" y="1755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oid *mm_malloc(size_t size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asize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extendsize;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0) 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DSIZ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+ OVERHEAD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* ((size + (OVERHEAD) + (DSIZE-1)) / D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find_fit(asize)) != NULL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tendsize = MAX(asize,CHUNK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extend_heap(extendsize/WSIZE)) == NULL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First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find_fit(size_t asize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oid *b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(bp = heap_listp; GET_SIZE(HDRP(bp)) &gt; 0; bp = NEXT_BLKP(bp)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!GET_ALLOC(HDRP(bp)) &amp;&amp; (asize &lt;= GET_SIZE(HDRP(bp))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ing a block in a free chu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place(void *bp, size_t asize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_t csize = GET_SIZE(HDRP(bp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f ((csize - asize) &gt;= (DSIZE + OVERHEAD)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asize, 1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a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p = NEXT_BLKP(bp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-asize, 0));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-asize, 0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se {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oid mm_free(void *bp) {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ze_t size = GET_SIZE(HDRP(bp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UT(HDRP(bp), PACK(size, 0)); PUT(FTRP(bp), PACK(size, 0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alesce(bp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debugg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each allocated bloc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_id : malloc request counter (0.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itialize in mm_in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rement in mallo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yload size : the memory requested by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n be different from the allocate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re do we store th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the allocated block hea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cated 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5080" y="45720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19112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3600" y="43434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1200" y="44956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42900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4191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42900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4191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28195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720" y="3657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42080" y="29084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8920" y="3581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aulring@cs.cmu.ed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ffice hou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SH 25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uesday 2–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am 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uesday, 12 November, 6:00-7:20p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herty Hall 23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b 6 (Malloc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ue next Tuesday, 19 Novemb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ay to implement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mallo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llocate additional memory in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HEAD = 1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,request_counter)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+4,size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turn bp+DSIZE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Fr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p = bp – DSIZ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ut all sorts of sanity check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can the implicit list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ke the first fit func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nt request_id and siz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parate Free Li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find a free block quickl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ange Free Block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prev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next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here to store free list poin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nly one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store in unused PAD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unctions to a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insert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remove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Malloc La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derstand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ding debugging info to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mm-helper.c d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licit Free Li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 with each block – (size / allocated bi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rst 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arches free list from beginning and picks first block that fi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mediate Boundary Tag Coalesc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 (boundary tag), replica of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5080" y="36576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266688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9560" y="27432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960" y="3770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/Footer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362320"/>
            <a:ext cx="7543800" cy="8380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ree lower-order bits of size always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ck size and allocated bits into a single inte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 = 24 (0x18). Block is allocat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ader =     0 x18 | 0x1 = 0x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2362320"/>
            <a:ext cx="0" cy="8380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8680" y="251460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     0    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1120" y="25146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8680" y="182880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     2      1      0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0600" y="1905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666880"/>
            <a:ext cx="7621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666880"/>
            <a:ext cx="76212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105520"/>
            <a:ext cx="0" cy="99036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7080" y="2286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6240" y="2286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51960" y="2286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2096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4720" y="37339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40960" y="537048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25320" y="2322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52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4360" y="2286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98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WSIZE 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DSIZE 8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CHUNKSIZE (1&lt;&lt;12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OVERHEAD 8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ACK(size, alloc) ((size) | (alloc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(p) (*(size_t *)(p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UT(p, val) (*(size_t *)(p) = (val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SIZE(p) (GET(p) &amp; ~0x7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ALLOC(p) (GET(p) &amp; 0x1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1:56:28Z</dcterms:created>
  <dc:creator>Anubhav Gupta</dc:creator>
  <dc:description/>
  <dc:language>en-US</dc:language>
  <cp:lastModifiedBy>Andrew Robert Faulring</cp:lastModifiedBy>
  <dcterms:modified xsi:type="dcterms:W3CDTF">2002-11-11T15:15:06Z</dcterms:modified>
  <cp:revision>41</cp:revision>
  <dc:subject/>
  <dc:title>Recitation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