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08B-EF2B-47E5-A27F-68D3FB62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799-14AF-40D5-BFDA-A272664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02A-CFB8-4368-9952-07FE8CEB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7279-5014-44A1-9BAC-8F99143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81CA-A457-4B8C-9B89-A3842DFA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75B9-96D8-4C09-B237-1A821187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F93F-D805-410E-B28B-A14DB7A2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8F78-BA14-41B4-9C62-79B5127D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3C74-03EB-409F-9098-91D04E6A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0F2-E3FE-40B1-A3F2-26ED388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C81C-6398-4030-AF53-2502BAD9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DFC-13BA-45E5-A078-49EFAC14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52E2-E07F-4521-9ADE-D201E93F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51B-C87D-414D-A58F-6A3F44D2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3C9E-A0E2-447D-B979-503968CC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7134-000C-4B73-9C8C-923E9F32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6E75-2B61-4D44-B974-262A1A14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BC0-5674-4917-95FD-82BC25A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5E2-FB5C-4C62-A948-E32902E9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A9DE-9EB9-4332-9B07-9CA90CF3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43BB-C2D5-46B5-8B37-9FB29B66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8347-B965-4A90-8FEC-3242F69C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54B-7FA9-47FA-BF63-C792AC2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299-4603-48A2-897C-57CBE0B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1C24-50A6-4285-AD50-5841855637C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8F3-E259-4CB0-A14B-D0AFE6DA18B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itation 10: Malloc 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drew Faul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5213 Section 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11 November 2002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HD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W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FTR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HDRP(bp)) - DSIZE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NEXT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+ GET_SIZE(((char *)(bp) - W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REV_BLKP(bp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(char *)(bp) - GET_SIZE(((char *)(bp) - DSIZE)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liz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t mm_init(void) {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heap_listp = mem_sbrk(4*WSIZE)) == NULL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, 0);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DSIZE, PACK(OVERHEAD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eap_listp+WSIZE+DSIZE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p_listp += D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extend_heap(CHUNKSIZE/WSIZE) == NULL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-1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0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ding the He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extend_heap(size_t words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_t size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ze = (words % 2) ? (words+1) * WSIZE : words * WSIZE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(int)(bp = mem_sbrk(size)) &lt; 0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T(HDRP(NEXT_BLKP(bp)), PACK(0, 1))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coalesce(bp)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ales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atic void *coalesce(void *bp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prev_alloc = GET_ALLOC(FT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next_alloc = GET_ALLOC(HDRP(NEXT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size = GET_SIZE(HDRP(bp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prev_alloc &amp;&amp; next_alloc) { return bp; 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prev_alloc &amp;&amp; !next_alloc) { …..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if (!prev_alloc &amp;&amp; next_alloc) {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 += GET_SIZE(HDRP(PREV_BLKP(bp)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FTRP(bp), PACK(size, 0)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UT(HDRP(PREV_BLKP(bp)), PACK(size, 0)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p = PREV_BLKP(bp)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{ …….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l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4600" y="17557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void *mm_malloc(size_t size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asize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ze_t extendsize;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har *bp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0) 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size &lt;= DSIZE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+ OVERHEAD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lse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ize = DSIZE * ((size + (OVERHEAD) + (DSIZE-1)) / D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find_fit(asize)) != NULL) {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tendsize = MAX(asize,CHUNK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f ((bp = extend_heap(extendsize/WSIZE)) == NULL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NULL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lace(bp, asize)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eturn bp; }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First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tatic void *find_fit(size_t asize) {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void *bp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(bp = heap_listp; GET_SIZE(HDRP(bp)) &gt; 0; bp = NEXT_BLKP(bp))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f (!GET_ALLOC(HDRP(bp)) &amp;&amp; (asize &lt;= GET_SIZE(HDRP(bp))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bp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eturn NULL;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ing a block in a free chu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place(void *bp, size_t asize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_t csize = GET_SIZE(HDRP(bp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f ((csize - asize) &gt;= (DSIZE + OVERHEAD)) {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asize, 1))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a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bp = NEXT_BLKP(bp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-asize, 0));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-asize, 0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lse {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HD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PUT(FTRP(bp), PACK(csize, 1)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void mm_free(void *bp) {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ize_t size = GET_SIZE(HDRP(bp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UT(HDRP(bp), PACK(size, 0)); PUT(FTRP(bp), PACK(size, 0)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alesce(bp)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debugging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each allocated bloc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quest_id : malloc request counter (0..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itialize in mm_in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crement in mallo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yload size : the memory requested by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an be different from the allocate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here do we store th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n the allocated block heade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ocated 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95080" y="45720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19112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93600" y="43434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1200" y="44956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342900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4191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342900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4191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2819520"/>
            <a:ext cx="92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4720" y="36576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42080" y="290844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quest_i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8920" y="35812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 siz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aulring@cs.cmu.ed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ffice ho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SH 250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 2–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am 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uesday, 12 November, 6:00-7:20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herty Hall 23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ab 6 (Malloc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ue next Tuesday, 19 Novemb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way to implement th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malloc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llocate additional memory in mallo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OVERHEAD = 16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,request_counter)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UT(bp+4,size)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eturn bp+DSIZE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side Fre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p = bp – DSIZE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ut all sorts of sanity check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can the implicit list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ike the first fit func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int request_id and siz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licit L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parate Free Lis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find a free block quickl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hange Free Block Forma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prev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dd next poi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re to store free list poin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nly one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store in unused PAD wor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ome functions to ad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insert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tatic void removefree_block(void * freeblkptr)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day’s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alloc Lab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nderstand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dding debugging info to mm-helper.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mm-helper.c d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plicit Free Li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 with each block – (size / allocated bit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 separate Free List – free blocks linked implicitly by size fields in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rst Fi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arches free list from beginning and picks first block that fi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mmediate Boundary Tag Coalesc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 (boundary tag), replica of 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ock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38560" y="1905120"/>
            <a:ext cx="3162240" cy="419076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266688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5334120"/>
            <a:ext cx="3200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4360" y="205740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88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5080" y="365760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yloa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2666880"/>
            <a:ext cx="990360" cy="0"/>
          </a:xfrm>
          <a:prstGeom prst="line">
            <a:avLst/>
          </a:prstGeom>
          <a:ln w="25560">
            <a:solidFill>
              <a:srgbClr val="292929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9560" y="2743200"/>
            <a:ext cx="21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ointer retu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y malloc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(Block Pointer (bp)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8400" y="2133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8840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2 bit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960" y="377028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&gt;= what user ask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r in mallo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905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2666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533412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095880"/>
            <a:ext cx="2133360" cy="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der/Footer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2362320"/>
            <a:ext cx="7543800" cy="83808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ree lower-order bits of size always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ack size and allocated bits into a single intege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ze = 24 (0x18). Block is allocated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Header =     0 x18 | 0x1 = 0x19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2362320"/>
            <a:ext cx="0" cy="8380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8680" y="2514600"/>
            <a:ext cx="166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     0    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1120" y="2514600"/>
            <a:ext cx="90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8680" y="1828800"/>
            <a:ext cx="23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     2      1      0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0600" y="1905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ap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666880"/>
            <a:ext cx="7621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666880"/>
            <a:ext cx="76212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8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556272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2666880"/>
            <a:ext cx="7617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0|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2666880"/>
            <a:ext cx="762120" cy="762120"/>
          </a:xfrm>
          <a:prstGeom prst="rect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2666880"/>
            <a:ext cx="761760" cy="762120"/>
          </a:xfrm>
          <a:prstGeom prst="rect">
            <a:avLst/>
          </a:prstGeom>
          <a:solidFill>
            <a:srgbClr val="ffcc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3429000"/>
            <a:ext cx="0" cy="99072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5105520"/>
            <a:ext cx="0" cy="990360"/>
          </a:xfrm>
          <a:prstGeom prst="line">
            <a:avLst/>
          </a:prstGeom>
          <a:ln cap="rnd" w="1908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7080" y="22860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6240" y="228600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51960" y="22860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pilogu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2209680"/>
            <a:ext cx="54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94720" y="373392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llocated and Free Block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40960" y="537048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uble Word Alignme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25320" y="2322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452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84360" y="228600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9800" y="2286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oo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WSIZE 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DSIZE 8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CHUNKSIZE (1&lt;&lt;12)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#define OVERHEAD 8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y Useful Mac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ACK(size, alloc) ((size) | (alloc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(p) (*(size_t *)(p)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PUT(p, val) (*(size_t *)(p) = (val)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SIZE(p) (GET(p) &amp; ~0x7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#define GET_ALLOC(p) (GET(p) &amp; 0x1)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21:56:28Z</dcterms:created>
  <dc:creator>Anubhav Gupta</dc:creator>
  <dc:description/>
  <dc:language>en-US</dc:language>
  <cp:lastModifiedBy>Andrew Robert Faulring</cp:lastModifiedBy>
  <dcterms:modified xsi:type="dcterms:W3CDTF">2002-11-11T15:15:06Z</dcterms:modified>
  <cp:revision>41</cp:revision>
  <dc:subject/>
  <dc:title>Recitation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