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6DC-4D89-43DE-9546-6A82C56D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0C2-23D7-4321-938A-0568D411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5D6-3D1A-4D0E-BE5B-74814176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013-5A17-4FE1-B2BE-E5069963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AA74-2C76-4735-A42D-0D4854FD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8120-13DF-4C3F-B323-4BD1DAD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82DB-D6AE-4E8A-8B09-D8DC6580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4492-0CBB-4070-8331-5E423240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7DBF-3A2A-48A1-B98E-EBA9DC2F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766-8C29-4A1E-8C73-742BBBE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BCC-18E1-459A-A7C3-1A6C2D3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B6C-487B-45F3-86E7-D82D5F2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DCA-1C0D-420A-BE6F-8DFDFE1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03E-9E95-4162-8E71-EA75410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C3FD-475F-4BF1-82BF-A96491E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545-07EA-4CD2-8E16-1361A95B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D239-22CC-4E11-BAE1-38046F3E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66B-F650-40CD-A74B-CD7569D3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A2D-50D8-48F9-BD95-03D2415D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F09-EC53-4386-BDAF-CDAE037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EC3-3E0F-4C35-B2E0-8D347A1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3DF-8C46-4CDA-8A89-A05E028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EAD-5A59-4CE7-81C5-052AC8F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4A7-86E3-42F7-B449-F4C38BC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4700-20A7-43E9-BE93-55B39811D87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9E32-B84D-432E-8C97-9DA13303325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: Malloc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drew Faul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5213 Section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1 November 200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aulring@cs.cmu.ed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ffice ho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SH 25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 2–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 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, 12 November, 6:00-7:20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herty Hall 23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b 6 (Mallo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e next Tuesday, 19 Novemb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drew Robert Faulring</cp:lastModifiedBy>
  <dcterms:modified xsi:type="dcterms:W3CDTF">2002-11-11T15:15:06Z</dcterms:modified>
  <cp:revision>41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